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wmf" ContentType="image/x-wmf"/>
  <Override PartName="/ppt/media/image14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7.png" ContentType="image/png"/>
  <Override PartName="/ppt/media/image26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94E-0A1A-47E7-B16C-BD1B94DD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0D9-BE30-4FFF-BBC8-FE3F54F9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4B6-8411-417B-BA33-AB5A9485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CF8-B6F4-446A-8C9B-5394E70F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05EC-B504-449B-B739-F7525219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EDD7-A670-48AE-9E98-71A00B02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5A5C-13C7-484A-B7B1-69833A77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4223-69C4-4840-AD07-08D7F02A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2E71-F02F-4311-A75B-93670139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DF7D-CB82-4980-A11C-7E730866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2937-D632-4F81-9F81-7EF40FE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17D-211E-482F-AD80-35DA8B62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B138-2F57-4F13-8D3C-A1B56D4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8C08-180C-48BF-B196-D73082E8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A52E-DB2B-4998-9DB1-13333B9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7C77-859C-403A-BDB0-1DE4CD2C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D0FD-94C5-4892-A49C-E3255838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5A06-0075-40BF-AA85-0C248CC9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464E-2DD3-487C-95CA-51B212A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C991-4C78-40CB-AB4A-C30AABF0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1999-81F2-41B6-ACB5-19AE0C48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A6CF-2E28-433F-B6C0-0135090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2FF-95AE-4F46-8B0A-0F4461EA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CDB6-2EFD-47DF-9AE4-6F0D67B4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686B-6A96-41CA-B714-F93EBAD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5FA8-6BC7-4714-81DC-B7C6C9F2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7E8E-2EC8-4560-B818-825EC2C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849A-F1CB-4613-8E22-3827CA4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7D8B-6DE6-4115-8066-D1B90A61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B1260-7199-42BA-B544-AA6A460E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1D73-1566-46AD-ABD3-2AAD0B12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E2C5-B493-4CF0-B1CD-09CFF21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9CD8-297E-4A01-B23D-3E7C7571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67B-931E-45EA-8141-397916D9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AFE7-2872-45DA-8C2B-D46EDF21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08BBE-864F-41C8-89DF-A40E1BF0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CD24-E4FB-48C8-AB5B-D48E157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3E53-9DFD-44F7-9945-6EF378AC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7C8F-56ED-4593-A287-CD65268C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682D2-2AE5-473E-8166-72AC14D1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15C6-2B36-4F78-95F8-89BB0F8B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9EFA-BFA8-4BE0-81DA-E4234C4E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B610-64FA-4668-9ED5-33EA8AD1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9BA88-FFD6-4F6F-A21C-4EE02D07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45F-0FD4-4A4C-81BA-275D6521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85C9-C293-4BE9-8616-3E71FEC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BB06-9038-4F26-BC8C-22F84E80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CD01-9478-41E0-9E96-534BFDDB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549F6-0A9A-4259-A661-A3034CFF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6222-6FF4-473E-BA73-789D153F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97BB6-BF9E-43EB-9E30-DAD049BB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F6D5-5CA2-48DA-9448-00F3340D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D7F73-D90C-45F3-8D4E-FF988593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1C509-46F5-4C23-B18D-D5EEDF85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D508E-4714-428B-84F5-1EF726A9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900-2C81-4331-85FC-D4BB3CA9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F13C8-8D41-4294-B2BB-FE593575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E74-BEF3-42F7-95DD-7A9587D7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731-0265-4AE7-A167-FF7BBE84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303-3B21-40D3-B9BB-7349A68D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6799-448B-493E-B947-1FEA0D039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42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0681-E37D-47D7-8049-7F9CD67B8E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EAD9-3C4F-410D-9E3C-C6BFB46AA5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0553-70E2-403E-823A-BF264D065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200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0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235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41BB-B732-4AEF-BF58-290CF04265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文本框 1"/>
          <p:cNvSpPr/>
          <p:nvPr/>
        </p:nvSpPr>
        <p:spPr>
          <a:xfrm>
            <a:off x="1646280" y="9255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机械及其转化课件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-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小球的动能＿＿＿＿，重力势能＿＿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＿＿＿＿＿转化为＿＿＿＿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-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小球的动能＿＿＿＿，重力势能＿＿＿，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＿＿＿＿＿转化为＿＿＿＿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851280" y="1557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7308720" y="3284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851280" y="3284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7380360" y="155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835280" y="2133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重力势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5003640" y="38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重力势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574416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2359800" y="38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006560" y="544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动能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重力势能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可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相互转化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492120" y="47005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实验表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1006560" y="65232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单摆实验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2"/>
          <p:cNvSpPr/>
          <p:nvPr/>
        </p:nvSpPr>
        <p:spPr>
          <a:xfrm>
            <a:off x="2160720" y="1008000"/>
            <a:ext cx="6875280" cy="3861000"/>
          </a:xfrm>
          <a:prstGeom prst="cloudCallout">
            <a:avLst>
              <a:gd name="adj1" fmla="val -49606"/>
              <a:gd name="adj2" fmla="val 51111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76360" y="1844640"/>
            <a:ext cx="5182920" cy="20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动能与重力势能能够相互转化，那么，弹性势能与动能能否相互转化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1979640" cy="2467080"/>
          </a:xfrm>
          <a:prstGeom prst="rect">
            <a:avLst/>
          </a:prstGeom>
          <a:ln w="0">
            <a:noFill/>
          </a:ln>
        </p:spPr>
      </p:pic>
      <p:sp>
        <p:nvSpPr>
          <p:cNvPr id="384" name="WordArt 5"/>
          <p:cNvSpPr txBox="1"/>
          <p:nvPr/>
        </p:nvSpPr>
        <p:spPr>
          <a:xfrm>
            <a:off x="179280" y="333360"/>
            <a:ext cx="345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黑体"/>
              </a:rPr>
              <a:t>大胆猜想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黑体"/>
              <a:ea typeface="黑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029"/>
          <p:cNvSpPr/>
          <p:nvPr/>
        </p:nvSpPr>
        <p:spPr>
          <a:xfrm>
            <a:off x="826920" y="692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动能和弹性势能的转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86" name="Group 1033"/>
          <p:cNvGrpSpPr/>
          <p:nvPr/>
        </p:nvGrpSpPr>
        <p:grpSpPr>
          <a:xfrm>
            <a:off x="1798560" y="2133720"/>
            <a:ext cx="4464000" cy="3025800"/>
            <a:chOff x="1798560" y="2133720"/>
            <a:chExt cx="4464000" cy="3025800"/>
          </a:xfrm>
        </p:grpSpPr>
        <p:grpSp>
          <p:nvGrpSpPr>
            <p:cNvPr id="387" name=""/>
            <p:cNvGrpSpPr/>
            <p:nvPr/>
          </p:nvGrpSpPr>
          <p:grpSpPr>
            <a:xfrm>
              <a:off x="3886200" y="5157720"/>
              <a:ext cx="2376360" cy="360"/>
              <a:chOff x="3886200" y="5157720"/>
              <a:chExt cx="2376360" cy="360"/>
            </a:xfrm>
          </p:grpSpPr>
          <p:sp>
            <p:nvSpPr>
              <p:cNvPr id="388" name="Line 1034"/>
              <p:cNvSpPr/>
              <p:nvPr/>
            </p:nvSpPr>
            <p:spPr>
              <a:xfrm>
                <a:off x="3886200" y="5157720"/>
                <a:ext cx="2376360" cy="0"/>
              </a:xfrm>
              <a:prstGeom prst="line">
                <a:avLst/>
              </a:prstGeom>
              <a:ln w="57240">
                <a:solidFill>
                  <a:srgbClr val="7f5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3886200" y="5157720"/>
                <a:ext cx="23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35"/>
            <p:cNvGrpSpPr/>
            <p:nvPr/>
          </p:nvGrpSpPr>
          <p:grpSpPr>
            <a:xfrm>
              <a:off x="1798560" y="2133720"/>
              <a:ext cx="4432320" cy="3025800"/>
              <a:chOff x="1798560" y="2133720"/>
              <a:chExt cx="4432320" cy="3025800"/>
            </a:xfrm>
          </p:grpSpPr>
          <p:pic>
            <p:nvPicPr>
              <p:cNvPr id="391" name="Picture 1036" descr="181235397065687"/>
              <p:cNvPicPr/>
              <p:nvPr/>
            </p:nvPicPr>
            <p:blipFill>
              <a:blip r:embed="rId1">
                <a:grayscl/>
                <a:lum bright="100000"/>
              </a:blip>
              <a:stretch/>
            </p:blipFill>
            <p:spPr>
              <a:xfrm>
                <a:off x="2230200" y="2133720"/>
                <a:ext cx="576360" cy="544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2" name=""/>
              <p:cNvGrpSpPr/>
              <p:nvPr/>
            </p:nvGrpSpPr>
            <p:grpSpPr>
              <a:xfrm>
                <a:off x="2158920" y="2494080"/>
                <a:ext cx="1662120" cy="1079640"/>
                <a:chOff x="2158920" y="2494080"/>
                <a:chExt cx="1662120" cy="1079640"/>
              </a:xfrm>
            </p:grpSpPr>
            <p:sp>
              <p:nvSpPr>
                <p:cNvPr id="393" name="Line 1037"/>
                <p:cNvSpPr/>
                <p:nvPr/>
              </p:nvSpPr>
              <p:spPr>
                <a:xfrm>
                  <a:off x="2158920" y="2494080"/>
                  <a:ext cx="1662120" cy="1079640"/>
                </a:xfrm>
                <a:prstGeom prst="line">
                  <a:avLst/>
                </a:prstGeom>
                <a:ln w="57240">
                  <a:solidFill>
                    <a:srgbClr val="7f50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 txBox="1"/>
                <p:nvPr/>
              </p:nvSpPr>
              <p:spPr>
                <a:xfrm>
                  <a:off x="2158920" y="2494080"/>
                  <a:ext cx="1662120" cy="107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3814560" y="3573720"/>
                <a:ext cx="2416320" cy="360"/>
                <a:chOff x="3814560" y="3573720"/>
                <a:chExt cx="2416320" cy="360"/>
              </a:xfrm>
            </p:grpSpPr>
            <p:sp>
              <p:nvSpPr>
                <p:cNvPr id="396" name="Line 1038"/>
                <p:cNvSpPr/>
                <p:nvPr/>
              </p:nvSpPr>
              <p:spPr>
                <a:xfrm>
                  <a:off x="3814560" y="3573720"/>
                  <a:ext cx="2416320" cy="0"/>
                </a:xfrm>
                <a:prstGeom prst="line">
                  <a:avLst/>
                </a:prstGeom>
                <a:ln w="57240">
                  <a:solidFill>
                    <a:srgbClr val="7f50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>
                  <a:off x="3814560" y="3573720"/>
                  <a:ext cx="2416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301840" y="4078440"/>
                <a:ext cx="1627200" cy="1077840"/>
                <a:chOff x="2301840" y="4078440"/>
                <a:chExt cx="1627200" cy="1077840"/>
              </a:xfrm>
            </p:grpSpPr>
            <p:sp>
              <p:nvSpPr>
                <p:cNvPr id="399" name="Line 1039"/>
                <p:cNvSpPr/>
                <p:nvPr/>
              </p:nvSpPr>
              <p:spPr>
                <a:xfrm>
                  <a:off x="2301840" y="4078440"/>
                  <a:ext cx="1627200" cy="1077840"/>
                </a:xfrm>
                <a:prstGeom prst="line">
                  <a:avLst/>
                </a:prstGeom>
                <a:ln w="57240">
                  <a:solidFill>
                    <a:srgbClr val="7f50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 txBox="1"/>
                <p:nvPr/>
              </p:nvSpPr>
              <p:spPr>
                <a:xfrm>
                  <a:off x="2301840" y="4078440"/>
                  <a:ext cx="1627200" cy="107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1" name="Picture 1040" descr="181235397065687"/>
              <p:cNvPicPr/>
              <p:nvPr/>
            </p:nvPicPr>
            <p:blipFill>
              <a:blip r:embed="rId2">
                <a:lum bright="100000"/>
              </a:blip>
              <a:stretch/>
            </p:blipFill>
            <p:spPr>
              <a:xfrm>
                <a:off x="2733480" y="4006800"/>
                <a:ext cx="576360" cy="547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2" name=""/>
              <p:cNvGrpSpPr/>
              <p:nvPr/>
            </p:nvGrpSpPr>
            <p:grpSpPr>
              <a:xfrm>
                <a:off x="2301840" y="2565360"/>
                <a:ext cx="360" cy="1008360"/>
                <a:chOff x="2301840" y="2565360"/>
                <a:chExt cx="360" cy="1008360"/>
              </a:xfrm>
            </p:grpSpPr>
            <p:sp>
              <p:nvSpPr>
                <p:cNvPr id="403" name="Line 1041"/>
                <p:cNvSpPr/>
                <p:nvPr/>
              </p:nvSpPr>
              <p:spPr>
                <a:xfrm>
                  <a:off x="2301840" y="2565360"/>
                  <a:ext cx="0" cy="10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 txBox="1"/>
                <p:nvPr/>
              </p:nvSpPr>
              <p:spPr>
                <a:xfrm>
                  <a:off x="2301840" y="2565360"/>
                  <a:ext cx="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014200" y="5157720"/>
                <a:ext cx="2556000" cy="360"/>
                <a:chOff x="2014200" y="5157720"/>
                <a:chExt cx="2556000" cy="360"/>
              </a:xfrm>
            </p:grpSpPr>
            <p:sp>
              <p:nvSpPr>
                <p:cNvPr id="406" name="Line 1042"/>
                <p:cNvSpPr/>
                <p:nvPr/>
              </p:nvSpPr>
              <p:spPr>
                <a:xfrm flipH="1">
                  <a:off x="2014200" y="5157720"/>
                  <a:ext cx="2555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 txBox="1"/>
                <p:nvPr/>
              </p:nvSpPr>
              <p:spPr>
                <a:xfrm>
                  <a:off x="2014560" y="5157720"/>
                  <a:ext cx="255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806560" y="4438800"/>
                <a:ext cx="360" cy="720720"/>
                <a:chOff x="2806560" y="4438800"/>
                <a:chExt cx="360" cy="720720"/>
              </a:xfrm>
            </p:grpSpPr>
            <p:sp>
              <p:nvSpPr>
                <p:cNvPr id="409" name="Line 1043"/>
                <p:cNvSpPr/>
                <p:nvPr/>
              </p:nvSpPr>
              <p:spPr>
                <a:xfrm>
                  <a:off x="2806560" y="4438800"/>
                  <a:ext cx="0" cy="72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 txBox="1"/>
                <p:nvPr/>
              </p:nvSpPr>
              <p:spPr>
                <a:xfrm>
                  <a:off x="2806560" y="4438800"/>
                  <a:ext cx="36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Text Box 1044"/>
              <p:cNvSpPr/>
              <p:nvPr/>
            </p:nvSpPr>
            <p:spPr>
              <a:xfrm>
                <a:off x="1798560" y="2710080"/>
                <a:ext cx="6490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2" name="Text Box 1045"/>
              <p:cNvSpPr/>
              <p:nvPr/>
            </p:nvSpPr>
            <p:spPr>
              <a:xfrm>
                <a:off x="2230200" y="4510080"/>
                <a:ext cx="6494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3" name="Rectangle 1046"/>
              <p:cNvSpPr/>
              <p:nvPr/>
            </p:nvSpPr>
            <p:spPr>
              <a:xfrm rot="5400000">
                <a:off x="4747320" y="3066480"/>
                <a:ext cx="50328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14" name="Rectangle 1047"/>
              <p:cNvSpPr/>
              <p:nvPr/>
            </p:nvSpPr>
            <p:spPr>
              <a:xfrm rot="5400000">
                <a:off x="4738680" y="4629240"/>
                <a:ext cx="50472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2014560" y="3573720"/>
                <a:ext cx="2087280" cy="360"/>
                <a:chOff x="2014560" y="3573720"/>
                <a:chExt cx="2087280" cy="360"/>
              </a:xfrm>
            </p:grpSpPr>
            <p:sp>
              <p:nvSpPr>
                <p:cNvPr id="416" name="Line 1048"/>
                <p:cNvSpPr/>
                <p:nvPr/>
              </p:nvSpPr>
              <p:spPr>
                <a:xfrm flipH="1">
                  <a:off x="2014560" y="3573720"/>
                  <a:ext cx="2087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 txBox="1"/>
                <p:nvPr/>
              </p:nvSpPr>
              <p:spPr>
                <a:xfrm>
                  <a:off x="2014560" y="3573720"/>
                  <a:ext cx="20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8" name="Oval 1049"/>
          <p:cNvSpPr/>
          <p:nvPr/>
        </p:nvSpPr>
        <p:spPr>
          <a:xfrm>
            <a:off x="2158920" y="1989000"/>
            <a:ext cx="647640" cy="649440"/>
          </a:xfrm>
          <a:prstGeom prst="ellipse">
            <a:avLst/>
          </a:prstGeom>
          <a:gradFill rotWithShape="0">
            <a:gsLst>
              <a:gs pos="0">
                <a:srgbClr val="007572"/>
              </a:gs>
              <a:gs pos="100000">
                <a:srgbClr val="00363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662200" y="4294080"/>
            <a:ext cx="504720" cy="358920"/>
            <a:chOff x="2662200" y="4294080"/>
            <a:chExt cx="504720" cy="358920"/>
          </a:xfrm>
        </p:grpSpPr>
        <p:sp>
          <p:nvSpPr>
            <p:cNvPr id="420" name="Line 1050"/>
            <p:cNvSpPr/>
            <p:nvPr/>
          </p:nvSpPr>
          <p:spPr>
            <a:xfrm>
              <a:off x="2662200" y="4294080"/>
              <a:ext cx="504720" cy="358920"/>
            </a:xfrm>
            <a:prstGeom prst="line">
              <a:avLst/>
            </a:prstGeom>
            <a:ln cap="sq"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662200" y="4294080"/>
              <a:ext cx="50472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759280" y="2781360"/>
            <a:ext cx="360" cy="792000"/>
            <a:chOff x="5759280" y="2781360"/>
            <a:chExt cx="360" cy="792000"/>
          </a:xfrm>
        </p:grpSpPr>
        <p:sp>
          <p:nvSpPr>
            <p:cNvPr id="423" name="Line 1051"/>
            <p:cNvSpPr/>
            <p:nvPr/>
          </p:nvSpPr>
          <p:spPr>
            <a:xfrm>
              <a:off x="5759280" y="2781360"/>
              <a:ext cx="0" cy="792000"/>
            </a:xfrm>
            <a:prstGeom prst="line">
              <a:avLst/>
            </a:prstGeom>
            <a:ln cap="sq"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5759280" y="278136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25" name="Oval 1053"/>
          <p:cNvSpPr/>
          <p:nvPr/>
        </p:nvSpPr>
        <p:spPr>
          <a:xfrm>
            <a:off x="5759280" y="2852640"/>
            <a:ext cx="719280" cy="1295640"/>
          </a:xfrm>
          <a:prstGeom prst="ellipse">
            <a:avLst/>
          </a:prstGeom>
          <a:noFill/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Oval 1068"/>
          <p:cNvSpPr/>
          <p:nvPr/>
        </p:nvSpPr>
        <p:spPr>
          <a:xfrm>
            <a:off x="5759280" y="2852640"/>
            <a:ext cx="719280" cy="1295640"/>
          </a:xfrm>
          <a:prstGeom prst="ellipse">
            <a:avLst/>
          </a:prstGeom>
          <a:noFill/>
          <a:ln w="38160">
            <a:solidFill>
              <a:srgbClr val="00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Rectangle 1062"/>
          <p:cNvSpPr/>
          <p:nvPr/>
        </p:nvSpPr>
        <p:spPr>
          <a:xfrm>
            <a:off x="5686560" y="3645000"/>
            <a:ext cx="100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Rectangle 1063"/>
          <p:cNvSpPr/>
          <p:nvPr/>
        </p:nvSpPr>
        <p:spPr>
          <a:xfrm>
            <a:off x="6118200" y="2565360"/>
            <a:ext cx="86508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759280" y="2781360"/>
            <a:ext cx="360" cy="792000"/>
            <a:chOff x="5759280" y="2781360"/>
            <a:chExt cx="360" cy="792000"/>
          </a:xfrm>
        </p:grpSpPr>
        <p:sp>
          <p:nvSpPr>
            <p:cNvPr id="430" name="Line 1064"/>
            <p:cNvSpPr/>
            <p:nvPr/>
          </p:nvSpPr>
          <p:spPr>
            <a:xfrm>
              <a:off x="5759280" y="2781360"/>
              <a:ext cx="0" cy="792000"/>
            </a:xfrm>
            <a:prstGeom prst="line">
              <a:avLst/>
            </a:prstGeom>
            <a:ln cap="sq"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5759280" y="278136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32" name="Rectangle 1065"/>
          <p:cNvSpPr/>
          <p:nvPr/>
        </p:nvSpPr>
        <p:spPr>
          <a:xfrm>
            <a:off x="1332000" y="3789360"/>
            <a:ext cx="583236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Text Box 1067"/>
          <p:cNvSpPr/>
          <p:nvPr/>
        </p:nvSpPr>
        <p:spPr>
          <a:xfrm>
            <a:off x="1584720" y="3774960"/>
            <a:ext cx="62668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—B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转化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—A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转化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Text Box 1069"/>
          <p:cNvSpPr/>
          <p:nvPr/>
        </p:nvSpPr>
        <p:spPr>
          <a:xfrm>
            <a:off x="5545440" y="22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Text Box 1070"/>
          <p:cNvSpPr/>
          <p:nvPr/>
        </p:nvSpPr>
        <p:spPr>
          <a:xfrm>
            <a:off x="6193080" y="24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Text Box 1071"/>
          <p:cNvSpPr/>
          <p:nvPr/>
        </p:nvSpPr>
        <p:spPr>
          <a:xfrm>
            <a:off x="342144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Text Box 1072"/>
          <p:cNvSpPr/>
          <p:nvPr/>
        </p:nvSpPr>
        <p:spPr>
          <a:xfrm>
            <a:off x="6010920" y="39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弹性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Text Box 1073"/>
          <p:cNvSpPr/>
          <p:nvPr/>
        </p:nvSpPr>
        <p:spPr>
          <a:xfrm>
            <a:off x="3418560" y="465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弹性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Text Box 1074"/>
          <p:cNvSpPr/>
          <p:nvPr/>
        </p:nvSpPr>
        <p:spPr>
          <a:xfrm>
            <a:off x="6445800" y="465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Text Box 1080"/>
          <p:cNvSpPr/>
          <p:nvPr/>
        </p:nvSpPr>
        <p:spPr>
          <a:xfrm>
            <a:off x="1187280" y="5805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动能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弹性势能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可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相互转化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Text Box 1081"/>
          <p:cNvSpPr/>
          <p:nvPr/>
        </p:nvSpPr>
        <p:spPr>
          <a:xfrm>
            <a:off x="782640" y="522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实验表明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文本框 8200"/>
          <p:cNvSpPr/>
          <p:nvPr/>
        </p:nvSpPr>
        <p:spPr>
          <a:xfrm>
            <a:off x="1109520" y="15238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88889E-006 -2.96296E-006 C 0.00746 0.00417 0.00833 0.01528 0.01562 0.01898 C 0.02048 0.02732 0.02777 0.02871 0.03437 0.03264 C 0.03593 0.03334 0.03715 0.03519 0.03871 0.03611 C 0.03958 0.03704 0.04079 0.0375 0.04166 0.03797 C 0.04843 0.04885 0.05694 0.05949 0.06579 0.06551 C 0.06788 0.06713 0.06996 0.06713 0.07204 0.06898 C 0.07673 0.07292 0.08055 0.07755 0.08576 0.07917 C 0.0868 0.08056 0.08784 0.08172 0.08889 0.08264 C 0.08993 0.08357 0.09097 0.0838 0.09201 0.08449 C 0.09809 0.09005 0.10225 0.09723 0.10885 0.10023 C 0.11823 0.11019 0.10625 0.09792 0.11493 0.10533 C 0.11875 0.1081 0.11961 0.11204 0.12343 0.11389 C 0.12552 0.11621 0.1276 0.11852 0.12968 0.12084 C 0.13142 0.12269 0.13593 0.12431 0.13593 0.12454 C 0.14878 0.13843 0.15902 0.13773 0.17465 0.1419 C 0.26666 0.13912 0.21579 0.13982 0.32673 0.13982 E">
                                      <p:cBhvr>
                                        <p:cTn id="209" dur="3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32674 0.13982 C 0.30816 0.1375 0.28958 0.13935 0.27101 0.14121 C 0.2158 0.14051 0.19444 0.14352 0.15278 0.13519 C 0.15052 0.13403 0.14792 0.1338 0.14601 0.13218 C 0.14201 0.12871 0.13872 0.12361 0.13472 0.12014 C 0.13142 0.11713 0.12674 0.11551 0.12326 0.1125 C 0.11823 0.10833 0.11424 0.10301 0.10851 0.10023 C 0.10052 0.09028 0.1099 0.10046 0.10052 0.09421 C 0.09427 0.09005 0.08906 0.08195 0.08247 0.07917 C 0.07951 0.07361 0.07691 0.07222 0.07222 0.07014 C 0.06823 0.06482 0.06285 0.06181 0.05747 0.05949 C 0.05191 0.05255 0.05851 0.05996 0.05174 0.05486 C 0.04722 0.05139 0.04392 0.04653 0.03924 0.04421 C 0.03247 0.03125 0.04167 0.04722 0.03351 0.0382 C 0.02656 0.03056 0.03611 0.03542 0.02778 0.03218 C 0.02431 0.02732 0.02135 0.02384 0.01649 0.02153 C 0.01424 0.01852 0.01198 0.01551 0.00972 0.0125 C 0.00851 0.01088 0.00625 0.00787 0.00625 0.00787 C 0.0059 0.00648 0.00556 0.00486 0.00503 0.00347 C 0.00451 0.00232 0.00278 0.00023 0.00278 0.00023 E">
                                      <p:cBhvr>
                                        <p:cTn id="219" dur="3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2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620640"/>
            <a:ext cx="78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分析皮球在下落过程中，物体动能、势能的转化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4138920" y="1165320"/>
            <a:ext cx="1266480" cy="1230480"/>
            <a:chOff x="4138920" y="1165320"/>
            <a:chExt cx="1266480" cy="1230480"/>
          </a:xfrm>
        </p:grpSpPr>
        <p:sp>
          <p:nvSpPr>
            <p:cNvPr id="445" name="Oval 4"/>
            <p:cNvSpPr/>
            <p:nvPr/>
          </p:nvSpPr>
          <p:spPr>
            <a:xfrm rot="21262800">
              <a:off x="4190760" y="1219320"/>
              <a:ext cx="1162080" cy="112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 rot="21262800">
              <a:off x="4395240" y="1320480"/>
              <a:ext cx="152280" cy="91512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 rot="21262800">
              <a:off x="4960800" y="1244880"/>
              <a:ext cx="124200" cy="96948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 rot="21262800">
              <a:off x="4189320" y="1677600"/>
              <a:ext cx="1162080" cy="1695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 rot="21262800">
              <a:off x="4719600" y="1221840"/>
              <a:ext cx="52200" cy="112104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0" name="Group 9"/>
          <p:cNvGrpSpPr/>
          <p:nvPr/>
        </p:nvGrpSpPr>
        <p:grpSpPr>
          <a:xfrm>
            <a:off x="4138920" y="1164960"/>
            <a:ext cx="1269360" cy="1232640"/>
            <a:chOff x="4138920" y="1164960"/>
            <a:chExt cx="1269360" cy="1232640"/>
          </a:xfrm>
        </p:grpSpPr>
        <p:sp>
          <p:nvSpPr>
            <p:cNvPr id="451" name="Oval 10"/>
            <p:cNvSpPr/>
            <p:nvPr/>
          </p:nvSpPr>
          <p:spPr>
            <a:xfrm rot="21262800">
              <a:off x="4191120" y="1219320"/>
              <a:ext cx="1164960" cy="11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 rot="21262800">
              <a:off x="4395960" y="1320840"/>
              <a:ext cx="153000" cy="91656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 rot="21262800">
              <a:off x="4962240" y="1244520"/>
              <a:ext cx="124560" cy="9709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 rot="21262800">
              <a:off x="4189320" y="1678680"/>
              <a:ext cx="1164960" cy="16992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 rot="21262800">
              <a:off x="4721040" y="1221840"/>
              <a:ext cx="52560" cy="112284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56" name="AutoShape 15"/>
          <p:cNvSpPr/>
          <p:nvPr/>
        </p:nvSpPr>
        <p:spPr>
          <a:xfrm>
            <a:off x="3962520" y="2286000"/>
            <a:ext cx="690480" cy="1676520"/>
          </a:xfrm>
          <a:prstGeom prst="downArrow">
            <a:avLst>
              <a:gd name="adj1" fmla="val 50000"/>
              <a:gd name="adj2" fmla="val 60679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高度减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AutoShape 16"/>
          <p:cNvSpPr/>
          <p:nvPr/>
        </p:nvSpPr>
        <p:spPr>
          <a:xfrm>
            <a:off x="4800600" y="2286000"/>
            <a:ext cx="909720" cy="2133720"/>
          </a:xfrm>
          <a:prstGeom prst="downArrow">
            <a:avLst>
              <a:gd name="adj1" fmla="val 50000"/>
              <a:gd name="adj2" fmla="val 58615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速度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Rectangle 17"/>
          <p:cNvSpPr/>
          <p:nvPr/>
        </p:nvSpPr>
        <p:spPr>
          <a:xfrm>
            <a:off x="457200" y="2971800"/>
            <a:ext cx="2743200" cy="581400"/>
          </a:xfrm>
          <a:prstGeom prst="rect">
            <a:avLst/>
          </a:prstGeom>
          <a:solidFill>
            <a:srgbClr val="00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重力势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Rectangle 18"/>
          <p:cNvSpPr/>
          <p:nvPr/>
        </p:nvSpPr>
        <p:spPr>
          <a:xfrm>
            <a:off x="6400800" y="2971800"/>
            <a:ext cx="21337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能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AutoShape 19"/>
          <p:cNvSpPr/>
          <p:nvPr/>
        </p:nvSpPr>
        <p:spPr>
          <a:xfrm>
            <a:off x="3255840" y="313380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AutoShape 20"/>
          <p:cNvSpPr/>
          <p:nvPr/>
        </p:nvSpPr>
        <p:spPr>
          <a:xfrm rot="10800000">
            <a:off x="5714640" y="312372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443320" y="3657600"/>
            <a:ext cx="360" cy="2355840"/>
            <a:chOff x="2443320" y="3657600"/>
            <a:chExt cx="360" cy="2355840"/>
          </a:xfrm>
        </p:grpSpPr>
        <p:sp>
          <p:nvSpPr>
            <p:cNvPr id="463" name="Line 21"/>
            <p:cNvSpPr/>
            <p:nvPr/>
          </p:nvSpPr>
          <p:spPr>
            <a:xfrm>
              <a:off x="2443320" y="3657600"/>
              <a:ext cx="0" cy="23558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2443320" y="3657600"/>
              <a:ext cx="360" cy="23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443320" y="5906880"/>
            <a:ext cx="4876560" cy="106200"/>
            <a:chOff x="2443320" y="5906880"/>
            <a:chExt cx="4876560" cy="106200"/>
          </a:xfrm>
        </p:grpSpPr>
        <p:sp>
          <p:nvSpPr>
            <p:cNvPr id="466" name="Line 22"/>
            <p:cNvSpPr/>
            <p:nvPr/>
          </p:nvSpPr>
          <p:spPr>
            <a:xfrm flipV="1">
              <a:off x="2443320" y="5906880"/>
              <a:ext cx="4876560" cy="1062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 rot="10800000">
              <a:off x="2443320" y="5906880"/>
              <a:ext cx="487656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319520" y="3657240"/>
            <a:ext cx="360" cy="2249640"/>
            <a:chOff x="7319520" y="3657240"/>
            <a:chExt cx="360" cy="2249640"/>
          </a:xfrm>
        </p:grpSpPr>
        <p:sp>
          <p:nvSpPr>
            <p:cNvPr id="469" name="Line 23"/>
            <p:cNvSpPr/>
            <p:nvPr/>
          </p:nvSpPr>
          <p:spPr>
            <a:xfrm flipV="1">
              <a:off x="7319880" y="3657240"/>
              <a:ext cx="0" cy="22496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 rot="10800000">
              <a:off x="7319520" y="3657240"/>
              <a:ext cx="360" cy="224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71" name="Text Box 24"/>
          <p:cNvSpPr/>
          <p:nvPr/>
        </p:nvSpPr>
        <p:spPr>
          <a:xfrm>
            <a:off x="4119480" y="5708520"/>
            <a:ext cx="146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转  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1601280" y="148428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（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）皮球下落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2819520" y="5410080"/>
            <a:ext cx="3809880" cy="360"/>
          </a:xfrm>
          <a:prstGeom prst="lin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"/>
                            </p:stCondLst>
                            <p:childTnLst>
                              <p:par>
                                <p:cTn id="28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-0.0052 0.4178 E">
                                      <p:cBhvr>
                                        <p:cTn id="290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2"/>
          <p:cNvSpPr/>
          <p:nvPr/>
        </p:nvSpPr>
        <p:spPr>
          <a:xfrm>
            <a:off x="2819520" y="5410080"/>
            <a:ext cx="3352680" cy="360"/>
          </a:xfrm>
          <a:prstGeom prst="lin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618720" y="3766320"/>
            <a:ext cx="1731960" cy="1731960"/>
            <a:chOff x="3618720" y="3766320"/>
            <a:chExt cx="1731960" cy="1731960"/>
          </a:xfrm>
        </p:grpSpPr>
        <p:sp>
          <p:nvSpPr>
            <p:cNvPr id="476" name="Oval 4"/>
            <p:cNvSpPr/>
            <p:nvPr/>
          </p:nvSpPr>
          <p:spPr>
            <a:xfrm rot="21262800">
              <a:off x="3692160" y="3839760"/>
              <a:ext cx="1584360" cy="158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 rot="21262800">
              <a:off x="3971160" y="3981600"/>
              <a:ext cx="208080" cy="129240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Freeform 6"/>
            <p:cNvSpPr/>
            <p:nvPr/>
          </p:nvSpPr>
          <p:spPr>
            <a:xfrm rot="21262800">
              <a:off x="4741560" y="3877200"/>
              <a:ext cx="169560" cy="13687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Freeform 7"/>
            <p:cNvSpPr/>
            <p:nvPr/>
          </p:nvSpPr>
          <p:spPr>
            <a:xfrm rot="21262800">
              <a:off x="3690000" y="4487400"/>
              <a:ext cx="1584360" cy="2397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Freeform 8"/>
            <p:cNvSpPr/>
            <p:nvPr/>
          </p:nvSpPr>
          <p:spPr>
            <a:xfrm rot="21262800">
              <a:off x="4413240" y="3843360"/>
              <a:ext cx="71640" cy="158292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1" name="Group 9"/>
          <p:cNvGrpSpPr/>
          <p:nvPr/>
        </p:nvGrpSpPr>
        <p:grpSpPr>
          <a:xfrm>
            <a:off x="3577320" y="3933360"/>
            <a:ext cx="1806480" cy="1543320"/>
            <a:chOff x="3577320" y="3933360"/>
            <a:chExt cx="1806480" cy="1543320"/>
          </a:xfrm>
        </p:grpSpPr>
        <p:sp>
          <p:nvSpPr>
            <p:cNvPr id="482" name="Oval 10"/>
            <p:cNvSpPr/>
            <p:nvPr/>
          </p:nvSpPr>
          <p:spPr>
            <a:xfrm rot="21391800">
              <a:off x="3619080" y="3984120"/>
              <a:ext cx="1722240" cy="144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21391800">
              <a:off x="3923280" y="4103640"/>
              <a:ext cx="226080" cy="117576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21391800">
              <a:off x="4762800" y="4026240"/>
              <a:ext cx="184320" cy="124524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 rot="21391800">
              <a:off x="3617640" y="4573080"/>
              <a:ext cx="1722240" cy="21780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 rot="21391800">
              <a:off x="4402440" y="3986640"/>
              <a:ext cx="77760" cy="144000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7" name="Group 15"/>
          <p:cNvGrpSpPr/>
          <p:nvPr/>
        </p:nvGrpSpPr>
        <p:grpSpPr>
          <a:xfrm>
            <a:off x="3525120" y="4164840"/>
            <a:ext cx="1901520" cy="1295280"/>
            <a:chOff x="3525120" y="4164840"/>
            <a:chExt cx="1901520" cy="1295280"/>
          </a:xfrm>
        </p:grpSpPr>
        <p:sp>
          <p:nvSpPr>
            <p:cNvPr id="488" name="Oval 16"/>
            <p:cNvSpPr/>
            <p:nvPr/>
          </p:nvSpPr>
          <p:spPr>
            <a:xfrm rot="21466200">
              <a:off x="3548160" y="4200480"/>
              <a:ext cx="1855440" cy="122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 rot="21466200">
              <a:off x="3876120" y="4296960"/>
              <a:ext cx="243720" cy="99828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 rot="21466200">
              <a:off x="4781160" y="4239360"/>
              <a:ext cx="198360" cy="10573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 rot="21466200">
              <a:off x="3547440" y="4700520"/>
              <a:ext cx="1855440" cy="18504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 rot="21466200">
              <a:off x="4392000" y="4201920"/>
              <a:ext cx="83880" cy="122292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3" name="Group 21"/>
          <p:cNvGrpSpPr/>
          <p:nvPr/>
        </p:nvGrpSpPr>
        <p:grpSpPr>
          <a:xfrm>
            <a:off x="3398400" y="4280400"/>
            <a:ext cx="2196000" cy="1207440"/>
            <a:chOff x="3398400" y="4280400"/>
            <a:chExt cx="2196000" cy="1207440"/>
          </a:xfrm>
        </p:grpSpPr>
        <p:sp>
          <p:nvSpPr>
            <p:cNvPr id="494" name="Oval 22"/>
            <p:cNvSpPr/>
            <p:nvPr/>
          </p:nvSpPr>
          <p:spPr>
            <a:xfrm rot="21393600">
              <a:off x="3428640" y="4343400"/>
              <a:ext cx="2134800" cy="10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Freeform 23"/>
            <p:cNvSpPr/>
            <p:nvPr/>
          </p:nvSpPr>
          <p:spPr>
            <a:xfrm rot="21393600">
              <a:off x="3806640" y="4445280"/>
              <a:ext cx="280080" cy="88164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Freeform 24"/>
            <p:cNvSpPr/>
            <p:nvPr/>
          </p:nvSpPr>
          <p:spPr>
            <a:xfrm rot="21393600">
              <a:off x="4847400" y="4363920"/>
              <a:ext cx="228240" cy="93384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Freeform 25"/>
            <p:cNvSpPr/>
            <p:nvPr/>
          </p:nvSpPr>
          <p:spPr>
            <a:xfrm rot="21393600">
              <a:off x="3427920" y="4784760"/>
              <a:ext cx="2134800" cy="16344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Freeform 26"/>
            <p:cNvSpPr/>
            <p:nvPr/>
          </p:nvSpPr>
          <p:spPr>
            <a:xfrm rot="21393600">
              <a:off x="4399560" y="4346280"/>
              <a:ext cx="96480" cy="108000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99" name="Text Box 27"/>
          <p:cNvSpPr/>
          <p:nvPr/>
        </p:nvSpPr>
        <p:spPr>
          <a:xfrm>
            <a:off x="762120" y="9907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（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）皮球接触地面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开始发生弹性形变，弹性势能逐渐增大。向下的速度变小，动能减小。这时是动能转化为弹性势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685800" y="3581280"/>
            <a:ext cx="23623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019920" y="3505320"/>
            <a:ext cx="2895480" cy="581400"/>
          </a:xfrm>
          <a:prstGeom prst="rect">
            <a:avLst/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弹性势能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228760" y="4191120"/>
            <a:ext cx="360" cy="1676160"/>
            <a:chOff x="2228760" y="4191120"/>
            <a:chExt cx="360" cy="1676160"/>
          </a:xfrm>
        </p:grpSpPr>
        <p:sp>
          <p:nvSpPr>
            <p:cNvPr id="503" name="Line 30"/>
            <p:cNvSpPr/>
            <p:nvPr/>
          </p:nvSpPr>
          <p:spPr>
            <a:xfrm>
              <a:off x="2228760" y="4191120"/>
              <a:ext cx="0" cy="16761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2228760" y="419112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228400" y="5790960"/>
            <a:ext cx="4877280" cy="75960"/>
            <a:chOff x="2228400" y="5790960"/>
            <a:chExt cx="4877280" cy="75960"/>
          </a:xfrm>
        </p:grpSpPr>
        <p:sp>
          <p:nvSpPr>
            <p:cNvPr id="506" name="Line 31"/>
            <p:cNvSpPr/>
            <p:nvPr/>
          </p:nvSpPr>
          <p:spPr>
            <a:xfrm flipV="1">
              <a:off x="2228760" y="5790960"/>
              <a:ext cx="4876920" cy="759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 rot="10800000">
              <a:off x="2228400" y="5790960"/>
              <a:ext cx="487692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105320" y="4190760"/>
            <a:ext cx="360" cy="1600200"/>
            <a:chOff x="7105320" y="4190760"/>
            <a:chExt cx="360" cy="1600200"/>
          </a:xfrm>
        </p:grpSpPr>
        <p:sp>
          <p:nvSpPr>
            <p:cNvPr id="509" name="Line 32"/>
            <p:cNvSpPr/>
            <p:nvPr/>
          </p:nvSpPr>
          <p:spPr>
            <a:xfrm flipV="1">
              <a:off x="7105680" y="4190760"/>
              <a:ext cx="0" cy="16002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 rot="10800000">
              <a:off x="7105320" y="419076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11" name="Text Box 33"/>
          <p:cNvSpPr/>
          <p:nvPr/>
        </p:nvSpPr>
        <p:spPr>
          <a:xfrm>
            <a:off x="3886200" y="5486400"/>
            <a:ext cx="146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转  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AutoShape 34"/>
          <p:cNvSpPr/>
          <p:nvPr/>
        </p:nvSpPr>
        <p:spPr>
          <a:xfrm>
            <a:off x="3657600" y="3733920"/>
            <a:ext cx="838080" cy="1676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速度减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AutoShape 35"/>
          <p:cNvSpPr/>
          <p:nvPr/>
        </p:nvSpPr>
        <p:spPr>
          <a:xfrm>
            <a:off x="3124080" y="373392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AutoShape 36"/>
          <p:cNvSpPr/>
          <p:nvPr/>
        </p:nvSpPr>
        <p:spPr>
          <a:xfrm>
            <a:off x="4419720" y="3352680"/>
            <a:ext cx="838080" cy="2057040"/>
          </a:xfrm>
          <a:prstGeom prst="upArrow">
            <a:avLst>
              <a:gd name="adj1" fmla="val 50000"/>
              <a:gd name="adj2" fmla="val 61339"/>
            </a:avLst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形变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AutoShape 37"/>
          <p:cNvSpPr/>
          <p:nvPr/>
        </p:nvSpPr>
        <p:spPr>
          <a:xfrm rot="10800000">
            <a:off x="5410080" y="365724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3695040" y="3614040"/>
            <a:ext cx="1731960" cy="1731960"/>
            <a:chOff x="3695040" y="3614040"/>
            <a:chExt cx="1731960" cy="1731960"/>
          </a:xfrm>
        </p:grpSpPr>
        <p:sp>
          <p:nvSpPr>
            <p:cNvPr id="517" name="Oval 3"/>
            <p:cNvSpPr/>
            <p:nvPr/>
          </p:nvSpPr>
          <p:spPr>
            <a:xfrm rot="21262800">
              <a:off x="3768480" y="3687480"/>
              <a:ext cx="1584360" cy="158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Freeform 4"/>
            <p:cNvSpPr/>
            <p:nvPr/>
          </p:nvSpPr>
          <p:spPr>
            <a:xfrm rot="21262800">
              <a:off x="4047480" y="3829320"/>
              <a:ext cx="208080" cy="129240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Freeform 5"/>
            <p:cNvSpPr/>
            <p:nvPr/>
          </p:nvSpPr>
          <p:spPr>
            <a:xfrm rot="21262800">
              <a:off x="4817880" y="3724920"/>
              <a:ext cx="169560" cy="13687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Freeform 6"/>
            <p:cNvSpPr/>
            <p:nvPr/>
          </p:nvSpPr>
          <p:spPr>
            <a:xfrm rot="21262800">
              <a:off x="3766320" y="4335120"/>
              <a:ext cx="1584360" cy="2397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Freeform 7"/>
            <p:cNvSpPr/>
            <p:nvPr/>
          </p:nvSpPr>
          <p:spPr>
            <a:xfrm rot="21262800">
              <a:off x="4489560" y="3691080"/>
              <a:ext cx="71640" cy="158292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2" name="Group 8"/>
          <p:cNvGrpSpPr/>
          <p:nvPr/>
        </p:nvGrpSpPr>
        <p:grpSpPr>
          <a:xfrm>
            <a:off x="3653640" y="3781440"/>
            <a:ext cx="1806120" cy="1542960"/>
            <a:chOff x="3653640" y="3781440"/>
            <a:chExt cx="1806120" cy="1542960"/>
          </a:xfrm>
        </p:grpSpPr>
        <p:sp>
          <p:nvSpPr>
            <p:cNvPr id="523" name="Oval 9"/>
            <p:cNvSpPr/>
            <p:nvPr/>
          </p:nvSpPr>
          <p:spPr>
            <a:xfrm rot="21391800">
              <a:off x="3695400" y="3831840"/>
              <a:ext cx="1721880" cy="1441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Freeform 10"/>
            <p:cNvSpPr/>
            <p:nvPr/>
          </p:nvSpPr>
          <p:spPr>
            <a:xfrm rot="21391800">
              <a:off x="3999240" y="3951360"/>
              <a:ext cx="226080" cy="117576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Freeform 11"/>
            <p:cNvSpPr/>
            <p:nvPr/>
          </p:nvSpPr>
          <p:spPr>
            <a:xfrm rot="21391800">
              <a:off x="4838760" y="3873960"/>
              <a:ext cx="183960" cy="124524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Freeform 12"/>
            <p:cNvSpPr/>
            <p:nvPr/>
          </p:nvSpPr>
          <p:spPr>
            <a:xfrm rot="21391800">
              <a:off x="3693960" y="4420800"/>
              <a:ext cx="1721880" cy="21780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Freeform 13"/>
            <p:cNvSpPr/>
            <p:nvPr/>
          </p:nvSpPr>
          <p:spPr>
            <a:xfrm rot="21391800">
              <a:off x="4478760" y="3834360"/>
              <a:ext cx="77760" cy="144000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8" name="Group 14"/>
          <p:cNvGrpSpPr/>
          <p:nvPr/>
        </p:nvGrpSpPr>
        <p:grpSpPr>
          <a:xfrm>
            <a:off x="3601080" y="4012560"/>
            <a:ext cx="1901520" cy="1295280"/>
            <a:chOff x="3601080" y="4012560"/>
            <a:chExt cx="1901520" cy="1295280"/>
          </a:xfrm>
        </p:grpSpPr>
        <p:sp>
          <p:nvSpPr>
            <p:cNvPr id="529" name="Oval 15"/>
            <p:cNvSpPr/>
            <p:nvPr/>
          </p:nvSpPr>
          <p:spPr>
            <a:xfrm rot="21466200">
              <a:off x="3624120" y="4048200"/>
              <a:ext cx="1855440" cy="122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0" name="Freeform 16"/>
            <p:cNvSpPr/>
            <p:nvPr/>
          </p:nvSpPr>
          <p:spPr>
            <a:xfrm rot="21466200">
              <a:off x="3952080" y="4144680"/>
              <a:ext cx="243720" cy="99828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1" name="Freeform 17"/>
            <p:cNvSpPr/>
            <p:nvPr/>
          </p:nvSpPr>
          <p:spPr>
            <a:xfrm rot="21466200">
              <a:off x="4857120" y="4087080"/>
              <a:ext cx="198360" cy="105732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2" name="Freeform 18"/>
            <p:cNvSpPr/>
            <p:nvPr/>
          </p:nvSpPr>
          <p:spPr>
            <a:xfrm rot="21466200">
              <a:off x="3623400" y="4548240"/>
              <a:ext cx="1855440" cy="18504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 rot="21466200">
              <a:off x="4467960" y="4049640"/>
              <a:ext cx="83880" cy="122292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4" name="Group 20"/>
          <p:cNvGrpSpPr/>
          <p:nvPr/>
        </p:nvGrpSpPr>
        <p:grpSpPr>
          <a:xfrm>
            <a:off x="3474720" y="4128120"/>
            <a:ext cx="2196000" cy="1207440"/>
            <a:chOff x="3474720" y="4128120"/>
            <a:chExt cx="2196000" cy="1207440"/>
          </a:xfrm>
        </p:grpSpPr>
        <p:sp>
          <p:nvSpPr>
            <p:cNvPr id="535" name="Oval 21"/>
            <p:cNvSpPr/>
            <p:nvPr/>
          </p:nvSpPr>
          <p:spPr>
            <a:xfrm rot="21393600">
              <a:off x="3504960" y="4191120"/>
              <a:ext cx="2134800" cy="10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Freeform 22"/>
            <p:cNvSpPr/>
            <p:nvPr/>
          </p:nvSpPr>
          <p:spPr>
            <a:xfrm rot="21393600">
              <a:off x="3882960" y="4293000"/>
              <a:ext cx="280080" cy="88164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Freeform 23"/>
            <p:cNvSpPr/>
            <p:nvPr/>
          </p:nvSpPr>
          <p:spPr>
            <a:xfrm rot="21393600">
              <a:off x="4923720" y="4211640"/>
              <a:ext cx="228240" cy="93384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Freeform 24"/>
            <p:cNvSpPr/>
            <p:nvPr/>
          </p:nvSpPr>
          <p:spPr>
            <a:xfrm rot="21393600">
              <a:off x="3504240" y="4632480"/>
              <a:ext cx="2134800" cy="16344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Freeform 25"/>
            <p:cNvSpPr/>
            <p:nvPr/>
          </p:nvSpPr>
          <p:spPr>
            <a:xfrm rot="21393600">
              <a:off x="4475880" y="4194000"/>
              <a:ext cx="96480" cy="108000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40" name="Text Box 26"/>
          <p:cNvSpPr/>
          <p:nvPr/>
        </p:nvSpPr>
        <p:spPr>
          <a:xfrm>
            <a:off x="1143000" y="914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（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）皮球在恢复原状的过程中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弹性形变程度变小，向上的速度变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Line 27"/>
          <p:cNvSpPr/>
          <p:nvPr/>
        </p:nvSpPr>
        <p:spPr>
          <a:xfrm>
            <a:off x="2819520" y="5410080"/>
            <a:ext cx="3352680" cy="360"/>
          </a:xfrm>
          <a:prstGeom prst="lin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Rectangle 28"/>
          <p:cNvSpPr/>
          <p:nvPr/>
        </p:nvSpPr>
        <p:spPr>
          <a:xfrm>
            <a:off x="6172200" y="3505320"/>
            <a:ext cx="23623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能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Rectangle 29"/>
          <p:cNvSpPr/>
          <p:nvPr/>
        </p:nvSpPr>
        <p:spPr>
          <a:xfrm>
            <a:off x="228600" y="3505320"/>
            <a:ext cx="2895480" cy="581400"/>
          </a:xfrm>
          <a:prstGeom prst="rect">
            <a:avLst/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弹性势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228760" y="4191120"/>
            <a:ext cx="360" cy="1676160"/>
            <a:chOff x="2228760" y="4191120"/>
            <a:chExt cx="360" cy="1676160"/>
          </a:xfrm>
        </p:grpSpPr>
        <p:sp>
          <p:nvSpPr>
            <p:cNvPr id="545" name="Line 30"/>
            <p:cNvSpPr/>
            <p:nvPr/>
          </p:nvSpPr>
          <p:spPr>
            <a:xfrm>
              <a:off x="2228760" y="4191120"/>
              <a:ext cx="0" cy="16761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2228760" y="419112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228400" y="5790960"/>
            <a:ext cx="4877280" cy="75960"/>
            <a:chOff x="2228400" y="5790960"/>
            <a:chExt cx="4877280" cy="75960"/>
          </a:xfrm>
        </p:grpSpPr>
        <p:sp>
          <p:nvSpPr>
            <p:cNvPr id="548" name="Line 31"/>
            <p:cNvSpPr/>
            <p:nvPr/>
          </p:nvSpPr>
          <p:spPr>
            <a:xfrm flipV="1">
              <a:off x="2228760" y="5790960"/>
              <a:ext cx="4876920" cy="759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 rot="10800000">
              <a:off x="2228400" y="5790960"/>
              <a:ext cx="487692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7105320" y="4190760"/>
            <a:ext cx="360" cy="1600200"/>
            <a:chOff x="7105320" y="4190760"/>
            <a:chExt cx="360" cy="1600200"/>
          </a:xfrm>
        </p:grpSpPr>
        <p:sp>
          <p:nvSpPr>
            <p:cNvPr id="551" name="Line 32"/>
            <p:cNvSpPr/>
            <p:nvPr/>
          </p:nvSpPr>
          <p:spPr>
            <a:xfrm flipV="1">
              <a:off x="7105680" y="4190760"/>
              <a:ext cx="0" cy="16002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 rot="10800000">
              <a:off x="7105320" y="419076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53" name="Text Box 33"/>
          <p:cNvSpPr/>
          <p:nvPr/>
        </p:nvSpPr>
        <p:spPr>
          <a:xfrm>
            <a:off x="3886200" y="5486400"/>
            <a:ext cx="146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转  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4" name="AutoShape 34"/>
          <p:cNvSpPr/>
          <p:nvPr/>
        </p:nvSpPr>
        <p:spPr>
          <a:xfrm>
            <a:off x="3657600" y="3733920"/>
            <a:ext cx="838080" cy="1779120"/>
          </a:xfrm>
          <a:prstGeom prst="downArrow">
            <a:avLst>
              <a:gd name="adj1" fmla="val 50000"/>
              <a:gd name="adj2" fmla="val 53052"/>
            </a:avLst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形变减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5" name="AutoShape 35"/>
          <p:cNvSpPr/>
          <p:nvPr/>
        </p:nvSpPr>
        <p:spPr>
          <a:xfrm>
            <a:off x="3124080" y="3733920"/>
            <a:ext cx="609840" cy="30456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AutoShape 36"/>
          <p:cNvSpPr/>
          <p:nvPr/>
        </p:nvSpPr>
        <p:spPr>
          <a:xfrm>
            <a:off x="4419720" y="3352680"/>
            <a:ext cx="838080" cy="2044800"/>
          </a:xfrm>
          <a:prstGeom prst="upArrow">
            <a:avLst>
              <a:gd name="adj1" fmla="val 50000"/>
              <a:gd name="adj2" fmla="val 60974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速度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AutoShape 37"/>
          <p:cNvSpPr/>
          <p:nvPr/>
        </p:nvSpPr>
        <p:spPr>
          <a:xfrm rot="10800000">
            <a:off x="5486040" y="36572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4249080" y="782640"/>
            <a:ext cx="1340640" cy="1319400"/>
            <a:chOff x="4249080" y="782640"/>
            <a:chExt cx="1340640" cy="1319400"/>
          </a:xfrm>
        </p:grpSpPr>
        <p:sp>
          <p:nvSpPr>
            <p:cNvPr id="559" name="Oval 3"/>
            <p:cNvSpPr/>
            <p:nvPr/>
          </p:nvSpPr>
          <p:spPr>
            <a:xfrm rot="21262800">
              <a:off x="4304880" y="839520"/>
              <a:ext cx="1228680" cy="12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0" name="Freeform 4"/>
            <p:cNvSpPr/>
            <p:nvPr/>
          </p:nvSpPr>
          <p:spPr>
            <a:xfrm rot="21262800">
              <a:off x="4520880" y="947880"/>
              <a:ext cx="161280" cy="98280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 rot="21262800">
              <a:off x="5118480" y="867600"/>
              <a:ext cx="131400" cy="104076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 rot="21262800">
              <a:off x="4303080" y="1332360"/>
              <a:ext cx="1228680" cy="1821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 rot="21262800">
              <a:off x="4863960" y="842400"/>
              <a:ext cx="55440" cy="120384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4" name="Text Box 8"/>
          <p:cNvSpPr/>
          <p:nvPr/>
        </p:nvSpPr>
        <p:spPr>
          <a:xfrm>
            <a:off x="4643280" y="692280"/>
            <a:ext cx="295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65" name="Group 9"/>
          <p:cNvGrpSpPr/>
          <p:nvPr/>
        </p:nvGrpSpPr>
        <p:grpSpPr>
          <a:xfrm>
            <a:off x="4287240" y="780480"/>
            <a:ext cx="1345320" cy="1320120"/>
            <a:chOff x="4287240" y="780480"/>
            <a:chExt cx="1345320" cy="1320120"/>
          </a:xfrm>
        </p:grpSpPr>
        <p:sp>
          <p:nvSpPr>
            <p:cNvPr id="566" name="Oval 10"/>
            <p:cNvSpPr/>
            <p:nvPr/>
          </p:nvSpPr>
          <p:spPr>
            <a:xfrm rot="21262800">
              <a:off x="4343040" y="838080"/>
              <a:ext cx="1233360" cy="12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 rot="21262800">
              <a:off x="4560120" y="946080"/>
              <a:ext cx="161640" cy="982800"/>
            </a:xfrm>
            <a:custGeom>
              <a:avLst/>
              <a:gdLst/>
              <a:ahLst/>
              <a:rect l="l" t="t" r="r" b="b"/>
              <a:pathLst>
                <a:path w="131" h="814">
                  <a:moveTo>
                    <a:pt x="73" y="0"/>
                  </a:moveTo>
                  <a:cubicBezTo>
                    <a:pt x="79" y="72"/>
                    <a:pt x="131" y="294"/>
                    <a:pt x="119" y="430"/>
                  </a:cubicBezTo>
                  <a:cubicBezTo>
                    <a:pt x="107" y="566"/>
                    <a:pt x="25" y="734"/>
                    <a:pt x="0" y="814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 rot="21262800">
              <a:off x="5159880" y="865800"/>
              <a:ext cx="131760" cy="1040760"/>
            </a:xfrm>
            <a:custGeom>
              <a:avLst/>
              <a:gdLst/>
              <a:ahLst/>
              <a:rect l="l" t="t" r="r" b="b"/>
              <a:pathLst>
                <a:path w="107" h="862">
                  <a:moveTo>
                    <a:pt x="62" y="0"/>
                  </a:moveTo>
                  <a:cubicBezTo>
                    <a:pt x="53" y="75"/>
                    <a:pt x="0" y="305"/>
                    <a:pt x="7" y="449"/>
                  </a:cubicBezTo>
                  <a:cubicBezTo>
                    <a:pt x="14" y="593"/>
                    <a:pt x="86" y="776"/>
                    <a:pt x="107" y="86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 rot="21262800">
              <a:off x="4341240" y="1330560"/>
              <a:ext cx="1233360" cy="182160"/>
            </a:xfrm>
            <a:custGeom>
              <a:avLst/>
              <a:gdLst/>
              <a:ahLst/>
              <a:rect l="l" t="t" r="r" b="b"/>
              <a:pathLst>
                <a:path w="998" h="151">
                  <a:moveTo>
                    <a:pt x="0" y="0"/>
                  </a:moveTo>
                  <a:cubicBezTo>
                    <a:pt x="121" y="60"/>
                    <a:pt x="242" y="121"/>
                    <a:pt x="408" y="136"/>
                  </a:cubicBezTo>
                  <a:cubicBezTo>
                    <a:pt x="574" y="151"/>
                    <a:pt x="786" y="121"/>
                    <a:pt x="998" y="91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 rot="21262800">
              <a:off x="4904280" y="840600"/>
              <a:ext cx="55440" cy="1203840"/>
            </a:xfrm>
            <a:custGeom>
              <a:avLst/>
              <a:gdLst/>
              <a:ahLst/>
              <a:rect l="l" t="t" r="r" b="b"/>
              <a:pathLst>
                <a:path w="45" h="997">
                  <a:moveTo>
                    <a:pt x="45" y="0"/>
                  </a:moveTo>
                  <a:cubicBezTo>
                    <a:pt x="45" y="0"/>
                    <a:pt x="22" y="498"/>
                    <a:pt x="0" y="997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71" name="Text Box 15"/>
          <p:cNvSpPr/>
          <p:nvPr/>
        </p:nvSpPr>
        <p:spPr>
          <a:xfrm>
            <a:off x="1143000" y="106668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（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）皮球上升时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AutoShape 16"/>
          <p:cNvSpPr/>
          <p:nvPr/>
        </p:nvSpPr>
        <p:spPr>
          <a:xfrm>
            <a:off x="4648320" y="2057400"/>
            <a:ext cx="1017360" cy="1851120"/>
          </a:xfrm>
          <a:prstGeom prst="upArrow">
            <a:avLst>
              <a:gd name="adj1" fmla="val 50000"/>
              <a:gd name="adj2" fmla="val 4547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高度增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AutoShape 17"/>
          <p:cNvSpPr/>
          <p:nvPr/>
        </p:nvSpPr>
        <p:spPr>
          <a:xfrm>
            <a:off x="3886200" y="2133720"/>
            <a:ext cx="852480" cy="1469880"/>
          </a:xfrm>
          <a:prstGeom prst="upArrow">
            <a:avLst>
              <a:gd name="adj1" fmla="val 50000"/>
              <a:gd name="adj2" fmla="val 43090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速度减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Line 18"/>
          <p:cNvSpPr/>
          <p:nvPr/>
        </p:nvSpPr>
        <p:spPr>
          <a:xfrm>
            <a:off x="2819520" y="5410080"/>
            <a:ext cx="3352680" cy="360"/>
          </a:xfrm>
          <a:prstGeom prst="lin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6172200" y="2971800"/>
            <a:ext cx="2743200" cy="581400"/>
          </a:xfrm>
          <a:prstGeom prst="rect">
            <a:avLst/>
          </a:prstGeom>
          <a:solidFill>
            <a:srgbClr val="00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重力势能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1066680" y="3048120"/>
            <a:ext cx="21337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AutoShape 21"/>
          <p:cNvSpPr/>
          <p:nvPr/>
        </p:nvSpPr>
        <p:spPr>
          <a:xfrm rot="10800000">
            <a:off x="5486040" y="32000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AutoShape 22"/>
          <p:cNvSpPr/>
          <p:nvPr/>
        </p:nvSpPr>
        <p:spPr>
          <a:xfrm>
            <a:off x="3352680" y="320040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443320" y="3657600"/>
            <a:ext cx="360" cy="2355840"/>
            <a:chOff x="2443320" y="3657600"/>
            <a:chExt cx="360" cy="2355840"/>
          </a:xfrm>
        </p:grpSpPr>
        <p:sp>
          <p:nvSpPr>
            <p:cNvPr id="580" name="Line 23"/>
            <p:cNvSpPr/>
            <p:nvPr/>
          </p:nvSpPr>
          <p:spPr>
            <a:xfrm>
              <a:off x="2443320" y="3657600"/>
              <a:ext cx="0" cy="23558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2443320" y="3657600"/>
              <a:ext cx="360" cy="23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443320" y="5906880"/>
            <a:ext cx="4876560" cy="106200"/>
            <a:chOff x="2443320" y="5906880"/>
            <a:chExt cx="4876560" cy="106200"/>
          </a:xfrm>
        </p:grpSpPr>
        <p:sp>
          <p:nvSpPr>
            <p:cNvPr id="583" name="Line 24"/>
            <p:cNvSpPr/>
            <p:nvPr/>
          </p:nvSpPr>
          <p:spPr>
            <a:xfrm flipV="1">
              <a:off x="2443320" y="5906880"/>
              <a:ext cx="4876560" cy="1062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 rot="10800000">
              <a:off x="2443320" y="5906880"/>
              <a:ext cx="4876560" cy="10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308360" y="3645000"/>
            <a:ext cx="360" cy="2249280"/>
            <a:chOff x="7308360" y="3645000"/>
            <a:chExt cx="360" cy="2249280"/>
          </a:xfrm>
        </p:grpSpPr>
        <p:sp>
          <p:nvSpPr>
            <p:cNvPr id="586" name="Line 25"/>
            <p:cNvSpPr/>
            <p:nvPr/>
          </p:nvSpPr>
          <p:spPr>
            <a:xfrm flipV="1">
              <a:off x="7308720" y="3645000"/>
              <a:ext cx="0" cy="224928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 rot="10800000">
              <a:off x="7308360" y="3645000"/>
              <a:ext cx="360" cy="22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88" name="Text Box 26"/>
          <p:cNvSpPr/>
          <p:nvPr/>
        </p:nvSpPr>
        <p:spPr>
          <a:xfrm>
            <a:off x="4119480" y="5708520"/>
            <a:ext cx="146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转  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"/>
                            </p:stCondLst>
                            <p:childTnLst>
                              <p:par>
                                <p:cTn id="5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19653E-006 L -0.00469 0.47815 E">
                                      <p:cBhvr>
                                        <p:cTn id="519" dur="5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5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603360" y="274788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幼圆"/>
              </a:rPr>
              <a:t>分析整个过程，皮球能量的转化是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5219640" y="3062160"/>
            <a:ext cx="1873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     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4952880" y="990720"/>
            <a:ext cx="2362320" cy="581400"/>
          </a:xfrm>
          <a:prstGeom prst="rect">
            <a:avLst/>
          </a:prstGeom>
          <a:solidFill>
            <a:srgbClr val="00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重力势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5029200" y="5181480"/>
            <a:ext cx="2362320" cy="581400"/>
          </a:xfrm>
          <a:prstGeom prst="rect">
            <a:avLst/>
          </a:prstGeom>
          <a:solidFill>
            <a:srgbClr val="cc99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弹性势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3" name="Picture 8" descr="ni_png_0724"/>
          <p:cNvPicPr/>
          <p:nvPr/>
        </p:nvPicPr>
        <p:blipFill>
          <a:blip r:embed="rId1"/>
          <a:stretch/>
        </p:blipFill>
        <p:spPr>
          <a:xfrm>
            <a:off x="609480" y="48434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ng-0276"/>
          <p:cNvPicPr/>
          <p:nvPr/>
        </p:nvPicPr>
        <p:blipFill>
          <a:blip r:embed="rId2"/>
          <a:stretch/>
        </p:blipFill>
        <p:spPr>
          <a:xfrm>
            <a:off x="609480" y="692280"/>
            <a:ext cx="1909800" cy="190980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5651640" y="1916280"/>
            <a:ext cx="360" cy="990360"/>
            <a:chOff x="5651640" y="1916280"/>
            <a:chExt cx="360" cy="990360"/>
          </a:xfrm>
        </p:grpSpPr>
        <p:sp>
          <p:nvSpPr>
            <p:cNvPr id="596" name="Line 12"/>
            <p:cNvSpPr/>
            <p:nvPr/>
          </p:nvSpPr>
          <p:spPr>
            <a:xfrm>
              <a:off x="5651640" y="1916280"/>
              <a:ext cx="0" cy="99036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5651640" y="191628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651640" y="3933720"/>
            <a:ext cx="360" cy="963720"/>
            <a:chOff x="5651640" y="3933720"/>
            <a:chExt cx="360" cy="963720"/>
          </a:xfrm>
        </p:grpSpPr>
        <p:sp>
          <p:nvSpPr>
            <p:cNvPr id="599" name="Line 13"/>
            <p:cNvSpPr/>
            <p:nvPr/>
          </p:nvSpPr>
          <p:spPr>
            <a:xfrm>
              <a:off x="5651640" y="3933720"/>
              <a:ext cx="0" cy="96372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5651640" y="3933720"/>
              <a:ext cx="360" cy="96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659280" y="3933720"/>
            <a:ext cx="360" cy="935280"/>
            <a:chOff x="6659280" y="3933720"/>
            <a:chExt cx="360" cy="935280"/>
          </a:xfrm>
        </p:grpSpPr>
        <p:sp>
          <p:nvSpPr>
            <p:cNvPr id="602" name="Line 14"/>
            <p:cNvSpPr/>
            <p:nvPr/>
          </p:nvSpPr>
          <p:spPr>
            <a:xfrm flipV="1">
              <a:off x="6659640" y="3933720"/>
              <a:ext cx="0" cy="93528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 rot="10800000">
              <a:off x="6659280" y="3933720"/>
              <a:ext cx="360" cy="9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659280" y="1916280"/>
            <a:ext cx="360" cy="1008000"/>
            <a:chOff x="6659280" y="1916280"/>
            <a:chExt cx="360" cy="1008000"/>
          </a:xfrm>
        </p:grpSpPr>
        <p:sp>
          <p:nvSpPr>
            <p:cNvPr id="605" name="Line 15"/>
            <p:cNvSpPr/>
            <p:nvPr/>
          </p:nvSpPr>
          <p:spPr>
            <a:xfrm flipV="1">
              <a:off x="6659640" y="1916280"/>
              <a:ext cx="0" cy="10080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 rot="10800000">
              <a:off x="6659280" y="191628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over dir="r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5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Snap2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608" name="WordArt 3"/>
          <p:cNvSpPr txBox="1"/>
          <p:nvPr/>
        </p:nvSpPr>
        <p:spPr>
          <a:xfrm>
            <a:off x="1908000" y="0"/>
            <a:ext cx="2916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科学世界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219640" y="333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造地球卫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3"/>
          <p:cNvSpPr/>
          <p:nvPr/>
        </p:nvSpPr>
        <p:spPr>
          <a:xfrm>
            <a:off x="395280" y="3429000"/>
            <a:ext cx="770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卫星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近地点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速度最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动能最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势能最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远地点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速度最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_____,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动能最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势能最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4211640" y="537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Text Box 20"/>
          <p:cNvSpPr/>
          <p:nvPr/>
        </p:nvSpPr>
        <p:spPr>
          <a:xfrm>
            <a:off x="5506920" y="4797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 Box 21"/>
          <p:cNvSpPr/>
          <p:nvPr/>
        </p:nvSpPr>
        <p:spPr>
          <a:xfrm>
            <a:off x="1258920" y="537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Text Box 53"/>
          <p:cNvSpPr/>
          <p:nvPr/>
        </p:nvSpPr>
        <p:spPr>
          <a:xfrm>
            <a:off x="1187280" y="393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Text Box 73"/>
          <p:cNvSpPr/>
          <p:nvPr/>
        </p:nvSpPr>
        <p:spPr>
          <a:xfrm>
            <a:off x="558000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Text Box 74"/>
          <p:cNvSpPr/>
          <p:nvPr/>
        </p:nvSpPr>
        <p:spPr>
          <a:xfrm>
            <a:off x="3924360" y="40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Rectangle 77"/>
          <p:cNvSpPr/>
          <p:nvPr/>
        </p:nvSpPr>
        <p:spPr>
          <a:xfrm>
            <a:off x="64440" y="9079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cc"/>
                </a:solidFill>
                <a:latin typeface="Arial"/>
              </a:rPr>
              <a:t>｛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Text Box 78"/>
          <p:cNvSpPr/>
          <p:nvPr/>
        </p:nvSpPr>
        <p:spPr>
          <a:xfrm>
            <a:off x="1771920" y="981000"/>
            <a:ext cx="57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点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点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转化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点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点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转化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Text Box 79"/>
          <p:cNvSpPr/>
          <p:nvPr/>
        </p:nvSpPr>
        <p:spPr>
          <a:xfrm>
            <a:off x="4643280" y="83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Text Box 80"/>
          <p:cNvSpPr/>
          <p:nvPr/>
        </p:nvSpPr>
        <p:spPr>
          <a:xfrm>
            <a:off x="7199280" y="1916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Text Box 81"/>
          <p:cNvSpPr/>
          <p:nvPr/>
        </p:nvSpPr>
        <p:spPr>
          <a:xfrm>
            <a:off x="7308720" y="907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Text Box 82"/>
          <p:cNvSpPr/>
          <p:nvPr/>
        </p:nvSpPr>
        <p:spPr>
          <a:xfrm>
            <a:off x="4643280" y="1773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"/>
          <p:cNvSpPr/>
          <p:nvPr/>
        </p:nvSpPr>
        <p:spPr>
          <a:xfrm>
            <a:off x="1355760" y="5788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2135160" y="-27000"/>
            <a:ext cx="3960720" cy="936360"/>
            <a:chOff x="2135160" y="-27000"/>
            <a:chExt cx="3960720" cy="936360"/>
          </a:xfrm>
        </p:grpSpPr>
        <p:sp>
          <p:nvSpPr>
            <p:cNvPr id="284" name="AutoShape 4"/>
            <p:cNvSpPr/>
            <p:nvPr/>
          </p:nvSpPr>
          <p:spPr>
            <a:xfrm>
              <a:off x="2206800" y="4428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2135160" y="-2700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cc00ff"/>
                  </a:solidFill>
                  <a:latin typeface="黑体"/>
                  <a:ea typeface="黑体"/>
                </a:rPr>
                <a:t>复习提问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6" name="AutoShape 6"/>
          <p:cNvSpPr/>
          <p:nvPr/>
        </p:nvSpPr>
        <p:spPr>
          <a:xfrm>
            <a:off x="900000" y="1341360"/>
            <a:ext cx="7272360" cy="29512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250920" y="3429000"/>
            <a:ext cx="576000" cy="107964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503520" y="1700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、动能的定义？影响因素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064040" y="306864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、重力势能的定义？影响因素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4064040" y="443700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、弹性势能的定义？影响因素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1" name="Picture 11" descr="png-0399"/>
          <p:cNvPicPr/>
          <p:nvPr/>
        </p:nvPicPr>
        <p:blipFill>
          <a:blip r:embed="rId2"/>
          <a:stretch/>
        </p:blipFill>
        <p:spPr>
          <a:xfrm rot="20366400">
            <a:off x="7524360" y="404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4"/>
          <p:cNvSpPr/>
          <p:nvPr/>
        </p:nvSpPr>
        <p:spPr>
          <a:xfrm>
            <a:off x="971640" y="1773360"/>
            <a:ext cx="748980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33cc"/>
                </a:solidFill>
                <a:latin typeface="Arial"/>
              </a:rPr>
              <a:t>　　     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生活中还有很多关于动能和势能相互转化的现象，请同学们举出几个实例，并运用所学知识分析过程中能量的转化情况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WordArt 5"/>
          <p:cNvSpPr txBox="1"/>
          <p:nvPr/>
        </p:nvSpPr>
        <p:spPr>
          <a:xfrm>
            <a:off x="1116000" y="549360"/>
            <a:ext cx="203832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？</a:t>
            </a:r>
            <a:endParaRPr b="0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弹性势能转化为动能.mpg" descr=""/>
          <p:cNvPicPr/>
          <p:nvPr/>
        </p:nvPicPr>
        <p:blipFill>
          <a:blip r:embed="rId1"/>
          <a:stretch/>
        </p:blipFill>
        <p:spPr>
          <a:xfrm>
            <a:off x="1366920" y="0"/>
            <a:ext cx="7777080" cy="67834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56160" y="1241280"/>
            <a:ext cx="115524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重力势能转化为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2305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过山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28" name="Picture 4" descr="080662a3-4ff3-4a04-92ce-7ed21e324c3a"/>
          <p:cNvPicPr/>
          <p:nvPr/>
        </p:nvPicPr>
        <p:blipFill>
          <a:blip r:embed="rId1"/>
          <a:stretch/>
        </p:blipFill>
        <p:spPr>
          <a:xfrm>
            <a:off x="3733920" y="609480"/>
            <a:ext cx="4991040" cy="274320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5"/>
          <p:cNvSpPr/>
          <p:nvPr/>
        </p:nvSpPr>
        <p:spPr>
          <a:xfrm>
            <a:off x="4978800" y="5029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动能和重力势能之间的转化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30" name="Picture 6" descr="12-图片-68过山车2"/>
          <p:cNvPicPr/>
          <p:nvPr/>
        </p:nvPicPr>
        <p:blipFill>
          <a:blip r:embed="rId2"/>
          <a:stretch/>
        </p:blipFill>
        <p:spPr>
          <a:xfrm>
            <a:off x="0" y="3429000"/>
            <a:ext cx="4140360" cy="29574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12-图片-03"/>
          <p:cNvPicPr/>
          <p:nvPr/>
        </p:nvPicPr>
        <p:blipFill>
          <a:blip r:embed="rId1"/>
          <a:stretch/>
        </p:blipFill>
        <p:spPr>
          <a:xfrm>
            <a:off x="900000" y="1628640"/>
            <a:ext cx="7315200" cy="413244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3"/>
          <p:cNvSpPr/>
          <p:nvPr/>
        </p:nvSpPr>
        <p:spPr>
          <a:xfrm>
            <a:off x="1066680" y="990720"/>
            <a:ext cx="7467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脚踩滑板从高处滑下，为什么会越来越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3627360" y="5805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重力势能转化为动能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492360" y="189000"/>
            <a:ext cx="2484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射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35" name="Picture 3" descr="08071608044872304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40309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4"/>
          <p:cNvSpPr/>
          <p:nvPr/>
        </p:nvSpPr>
        <p:spPr>
          <a:xfrm>
            <a:off x="3451680" y="5300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弹性势能转化为动能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文本框 8200"/>
          <p:cNvSpPr/>
          <p:nvPr/>
        </p:nvSpPr>
        <p:spPr>
          <a:xfrm>
            <a:off x="2665440" y="731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4"/>
          <p:cNvSpPr/>
          <p:nvPr/>
        </p:nvSpPr>
        <p:spPr>
          <a:xfrm>
            <a:off x="1626480" y="5805360"/>
            <a:ext cx="60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动能       弹性势能      动能     重力势能       动能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7640" y="-360"/>
            <a:ext cx="25923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仿宋_GB2312"/>
              </a:rPr>
              <a:t>撑杆跳高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40" name="Picture 3" descr="图片1"/>
          <p:cNvPicPr/>
          <p:nvPr/>
        </p:nvPicPr>
        <p:blipFill>
          <a:blip r:embed="rId1"/>
          <a:stretch/>
        </p:blipFill>
        <p:spPr>
          <a:xfrm>
            <a:off x="826920" y="981000"/>
            <a:ext cx="3206880" cy="464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12-图片-11"/>
          <p:cNvPicPr/>
          <p:nvPr/>
        </p:nvPicPr>
        <p:blipFill>
          <a:blip r:embed="rId2"/>
          <a:stretch/>
        </p:blipFill>
        <p:spPr>
          <a:xfrm>
            <a:off x="4284720" y="907920"/>
            <a:ext cx="4244760" cy="4681800"/>
          </a:xfrm>
          <a:prstGeom prst="rect">
            <a:avLst/>
          </a:prstGeom>
          <a:ln w="0">
            <a:noFill/>
          </a:ln>
        </p:spPr>
      </p:pic>
      <p:grpSp>
        <p:nvGrpSpPr>
          <p:cNvPr id="642" name=""/>
          <p:cNvGrpSpPr/>
          <p:nvPr/>
        </p:nvGrpSpPr>
        <p:grpSpPr>
          <a:xfrm>
            <a:off x="1835280" y="6093000"/>
            <a:ext cx="358560" cy="360"/>
            <a:chOff x="1835280" y="6093000"/>
            <a:chExt cx="358560" cy="360"/>
          </a:xfrm>
        </p:grpSpPr>
        <p:sp>
          <p:nvSpPr>
            <p:cNvPr id="643" name="Line 7"/>
            <p:cNvSpPr/>
            <p:nvPr/>
          </p:nvSpPr>
          <p:spPr>
            <a:xfrm>
              <a:off x="1835280" y="6093000"/>
              <a:ext cx="35856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1835280" y="6093000"/>
              <a:ext cx="358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020000" y="6093000"/>
            <a:ext cx="358560" cy="360"/>
            <a:chOff x="7020000" y="6093000"/>
            <a:chExt cx="358560" cy="360"/>
          </a:xfrm>
        </p:grpSpPr>
        <p:sp>
          <p:nvSpPr>
            <p:cNvPr id="646" name="Line 9"/>
            <p:cNvSpPr/>
            <p:nvPr/>
          </p:nvSpPr>
          <p:spPr>
            <a:xfrm>
              <a:off x="7020000" y="6093000"/>
              <a:ext cx="35856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7020000" y="6093000"/>
              <a:ext cx="358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5076720" y="6093000"/>
            <a:ext cx="358920" cy="360"/>
            <a:chOff x="5076720" y="6093000"/>
            <a:chExt cx="358920" cy="360"/>
          </a:xfrm>
        </p:grpSpPr>
        <p:sp>
          <p:nvSpPr>
            <p:cNvPr id="649" name="Line 10"/>
            <p:cNvSpPr/>
            <p:nvPr/>
          </p:nvSpPr>
          <p:spPr>
            <a:xfrm>
              <a:off x="5076720" y="6093000"/>
              <a:ext cx="35892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5076720" y="6093000"/>
              <a:ext cx="3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851280" y="6093000"/>
            <a:ext cx="358920" cy="360"/>
            <a:chOff x="3851280" y="6093000"/>
            <a:chExt cx="358920" cy="360"/>
          </a:xfrm>
        </p:grpSpPr>
        <p:sp>
          <p:nvSpPr>
            <p:cNvPr id="652" name="Line 11"/>
            <p:cNvSpPr/>
            <p:nvPr/>
          </p:nvSpPr>
          <p:spPr>
            <a:xfrm>
              <a:off x="3851280" y="6093000"/>
              <a:ext cx="35892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3851280" y="6093000"/>
              <a:ext cx="3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over dir="ru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弹簧2"/>
          <p:cNvPicPr/>
          <p:nvPr/>
        </p:nvPicPr>
        <p:blipFill>
          <a:blip r:embed="rId1"/>
          <a:stretch/>
        </p:blipFill>
        <p:spPr>
          <a:xfrm>
            <a:off x="1908000" y="1484280"/>
            <a:ext cx="5256360" cy="38228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3564000" y="47628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蹦床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2038680" y="5661000"/>
            <a:ext cx="55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（重力势能</a:t>
            </a:r>
            <a:r>
              <a:rPr b="1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动能</a:t>
            </a:r>
            <a:r>
              <a:rPr b="1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弹性势能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动能</a:t>
            </a:r>
            <a:r>
              <a:rPr b="1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重力势能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755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骑自行车上坡前为什么紧蹬几下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75564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答：因为紧蹬几下，增大速度，增大动能，以便更多动能转化为重力势能，防止车倒退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生活中的物理，你留意过吗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29920" y="113796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生活中的物理，你留意过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50920" y="1989000"/>
            <a:ext cx="864216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　 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弹簧门在推开以后能自己关闭，这是因为门被推开后，弹簧被卷紧变形，具有了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_______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能，放手后转化为门的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_____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能，使门自动关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2050920" y="3716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弹性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971640" y="4508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4"/>
          <p:cNvSpPr/>
          <p:nvPr/>
        </p:nvSpPr>
        <p:spPr>
          <a:xfrm>
            <a:off x="3083400" y="476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四、水能和风能的利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128840" y="1197000"/>
            <a:ext cx="14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下列关于水能和风能的说法中，正确的是（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流动的河水只有动能，没有重力势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风只具有动能，不具有重力势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利用水能和风能都可以做连续性的工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水能和风能都不会污染环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501480" y="357336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建造水电站时修拦河坝，其目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使水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能储存起来，打开水闸，河水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能转化成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能冲击水轮机发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468360" y="508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风能利用起来比较简便，而且不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但是风能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“稳定”或“不稳定”）也不便于贮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8103240" y="119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683352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提高水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2235600" y="40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力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300680" y="443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力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4563360" y="44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6833520" y="50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污染环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2453040" y="551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稳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教学目标"/>
          <p:cNvPicPr/>
          <p:nvPr/>
        </p:nvPicPr>
        <p:blipFill>
          <a:blip r:embed="rId2"/>
          <a:stretch/>
        </p:blipFill>
        <p:spPr>
          <a:xfrm>
            <a:off x="1763640" y="54936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3"/>
          <p:cNvGrpSpPr/>
          <p:nvPr/>
        </p:nvGrpSpPr>
        <p:grpSpPr>
          <a:xfrm>
            <a:off x="2971800" y="685800"/>
            <a:ext cx="3960720" cy="936360"/>
            <a:chOff x="2971800" y="685800"/>
            <a:chExt cx="3960720" cy="936360"/>
          </a:xfrm>
        </p:grpSpPr>
        <p:sp>
          <p:nvSpPr>
            <p:cNvPr id="295" name="AutoShape 4"/>
            <p:cNvSpPr/>
            <p:nvPr/>
          </p:nvSpPr>
          <p:spPr>
            <a:xfrm>
              <a:off x="3043440" y="757080"/>
              <a:ext cx="38890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Text Box 5"/>
            <p:cNvSpPr/>
            <p:nvPr/>
          </p:nvSpPr>
          <p:spPr>
            <a:xfrm>
              <a:off x="2971800" y="68580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学习目标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97" name="Text Box 6"/>
          <p:cNvSpPr/>
          <p:nvPr/>
        </p:nvSpPr>
        <p:spPr>
          <a:xfrm>
            <a:off x="539640" y="1822320"/>
            <a:ext cx="8064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、能用实例说明动能和势能之间可以相互转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、能解释有关动能、重力势能、弹性势能之间相互转化的简单现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、初步理解机械能守恒的含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、了解水能和风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54064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</a:rPr>
              <a:t>巩固练习：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50560" y="1341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跳伞运动员在空中匀速下落时，重力势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动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机械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小明从光滑的滑梯上下滑过程中，下列说法正确的是（不计空气阻力）（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重力势能减小，动能增加，机械能不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重力势能增加，动能减小，机械能不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重力势能增加，动能不变，机械能增加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重力势能减小，动能不变，机械能减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111600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3276720" y="1844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5940360" y="1844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601200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3"/>
          <p:cNvSpPr/>
          <p:nvPr/>
        </p:nvSpPr>
        <p:spPr>
          <a:xfrm>
            <a:off x="255600" y="1432080"/>
            <a:ext cx="8888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在水平街道上匀速行驶的洒水车，一边行驶一边向道路上洒水。下列关于其机械能变化的说法中正确的是（    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动能不变，机械能减小         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动能减小，机械能减小     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动能不变，机械能不变              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D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动能减小，机械能增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788508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"/>
          <p:cNvPicPr/>
          <p:nvPr/>
        </p:nvPicPr>
        <p:blipFill>
          <a:blip r:embed="rId1"/>
          <a:srcRect l="0" t="4914" r="0" b="18203"/>
          <a:stretch/>
        </p:blipFill>
        <p:spPr>
          <a:xfrm>
            <a:off x="5456160" y="3213000"/>
            <a:ext cx="3687840" cy="2292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"/>
          <p:cNvSpPr/>
          <p:nvPr/>
        </p:nvSpPr>
        <p:spPr>
          <a:xfrm>
            <a:off x="250920" y="981000"/>
            <a:ext cx="85755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小红按照图示情景作了一个有趣的实验。铁锁由接触鼻子的位置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开始，沿弧线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b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向另一侧的最高点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运动的过程中，关于它的动能大小，下列说法中正确的是  （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铁锁在位置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有最大的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铁锁在位置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有最大的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铁锁在位置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有最大的动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．铁锁在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、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</a:t>
            </a:r>
            <a:r>
              <a:rPr b="1" i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、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三处的动能相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442764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0" y="0"/>
            <a:ext cx="914400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5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如图所示，用手捻动滚摆使摆线缠在轴上，滚摆升到最高点，放开手可以看到滚摆下降，越转越快，到达底端后，滚摆又向上运动，对于滚摆的运动，下列说法正确的是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(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A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在滚摆下降的过程中，它的动能减小，重力势能增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B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在滚摆上升的过程中，                                       它的的重力势能减小，动能增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C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在滚摆下降的过程中，                                       它的动能增加，重力势能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D.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在滚摆上升的过程中，                                       它的重力势能增加，动能增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87" name="Picture 6" descr="10-5"/>
          <p:cNvPicPr/>
          <p:nvPr/>
        </p:nvPicPr>
        <p:blipFill>
          <a:blip r:embed="rId1"/>
          <a:stretch/>
        </p:blipFill>
        <p:spPr>
          <a:xfrm>
            <a:off x="6773760" y="2736720"/>
            <a:ext cx="2370240" cy="412128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4"/>
          <p:cNvSpPr/>
          <p:nvPr/>
        </p:nvSpPr>
        <p:spPr>
          <a:xfrm>
            <a:off x="4350960" y="17002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49A0-1930-4146-A73D-020887BE9918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5"/>
          <p:cNvSpPr/>
          <p:nvPr/>
        </p:nvSpPr>
        <p:spPr>
          <a:xfrm>
            <a:off x="179280" y="378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机械能守恒：如果只有动能和势能相互转化，机械能的总和不变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179280" y="1197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动能与势能统称为机械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Text Box 16"/>
          <p:cNvSpPr/>
          <p:nvPr/>
        </p:nvSpPr>
        <p:spPr>
          <a:xfrm>
            <a:off x="7812000" y="1341360"/>
            <a:ext cx="13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动能和势能可以相互转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Text Box 17"/>
          <p:cNvSpPr/>
          <p:nvPr/>
        </p:nvSpPr>
        <p:spPr>
          <a:xfrm>
            <a:off x="179280" y="2057400"/>
            <a:ext cx="705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动能和重力势能可以相互转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动能和弹性势能可以相互转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AutoShape 18"/>
          <p:cNvSpPr/>
          <p:nvPr/>
        </p:nvSpPr>
        <p:spPr>
          <a:xfrm>
            <a:off x="7199280" y="2130480"/>
            <a:ext cx="433440" cy="1439640"/>
          </a:xfrm>
          <a:custGeom>
            <a:avLst/>
            <a:gdLst>
              <a:gd name="textAreaLeft" fmla="*/ 0 w 433440"/>
              <a:gd name="textAreaRight" fmla="*/ 156600 w 4334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98" name="Group 19"/>
          <p:cNvGrpSpPr/>
          <p:nvPr/>
        </p:nvGrpSpPr>
        <p:grpSpPr>
          <a:xfrm>
            <a:off x="3276720" y="189000"/>
            <a:ext cx="2663640" cy="936000"/>
            <a:chOff x="3276720" y="189000"/>
            <a:chExt cx="2663640" cy="936000"/>
          </a:xfrm>
        </p:grpSpPr>
        <p:sp>
          <p:nvSpPr>
            <p:cNvPr id="699" name="AutoShape 20"/>
            <p:cNvSpPr/>
            <p:nvPr/>
          </p:nvSpPr>
          <p:spPr>
            <a:xfrm>
              <a:off x="3276720" y="259920"/>
              <a:ext cx="266364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0" name="Text Box 21"/>
            <p:cNvSpPr/>
            <p:nvPr/>
          </p:nvSpPr>
          <p:spPr>
            <a:xfrm>
              <a:off x="3421080" y="189000"/>
              <a:ext cx="230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小 结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01" name="Text Box 22"/>
          <p:cNvSpPr/>
          <p:nvPr/>
        </p:nvSpPr>
        <p:spPr>
          <a:xfrm>
            <a:off x="250920" y="51577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水能和风能的利用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1885680" y="134136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一、机械能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332000" y="249228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Comic Sans MS"/>
              </a:rPr>
              <a:t>动能、重力势能和弹性势能统称为机械能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5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1"/>
          <p:cNvSpPr/>
          <p:nvPr/>
        </p:nvSpPr>
        <p:spPr>
          <a:xfrm>
            <a:off x="3737520" y="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二、机械能转化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08000" y="162864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什么溜溜球在松手后能够不停的上下运动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0" y="2421000"/>
            <a:ext cx="5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实验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滚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5" name="ShockwaveFlash1" descr=""/>
          <p:cNvPicPr/>
          <p:nvPr/>
        </p:nvPicPr>
        <p:blipFill>
          <a:blip r:embed="rId2"/>
          <a:stretch/>
        </p:blipFill>
        <p:spPr>
          <a:xfrm>
            <a:off x="755640" y="2320920"/>
            <a:ext cx="79200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250920" y="260280"/>
            <a:ext cx="7162560" cy="900000"/>
            <a:chOff x="250920" y="260280"/>
            <a:chExt cx="7162560" cy="900000"/>
          </a:xfrm>
        </p:grpSpPr>
        <p:sp>
          <p:nvSpPr>
            <p:cNvPr id="307" name="Rectangle 3"/>
            <p:cNvSpPr/>
            <p:nvPr/>
          </p:nvSpPr>
          <p:spPr>
            <a:xfrm>
              <a:off x="250920" y="260280"/>
              <a:ext cx="716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zh-CN" sz="4800" spc="-1" strike="noStrike">
                  <a:solidFill>
                    <a:srgbClr val="0033cc"/>
                  </a:solidFill>
                  <a:latin typeface="Times New Roman"/>
                </a:rPr>
                <a:t>滚摆实验：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4822560" y="793440"/>
              <a:ext cx="38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09" name="Text Box 5"/>
          <p:cNvSpPr/>
          <p:nvPr/>
        </p:nvSpPr>
        <p:spPr>
          <a:xfrm>
            <a:off x="611280" y="1052640"/>
            <a:ext cx="7416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上升：速度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动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高度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重力势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能转化为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下降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速度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动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高度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重力势能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_______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能转化为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64000" y="105264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3348000" y="17733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867280" y="105264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588000" y="17733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2987640" y="2492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6084720" y="465300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5724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重力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2556000" y="4653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重力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3492360" y="327024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3492360" y="393372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5796000" y="321300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6516720" y="393372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484360" y="5445000"/>
            <a:ext cx="58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动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重力势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可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互转化，忽略阻力时，机械能守恒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1002240" y="5229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实验表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1763640" y="6444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机械能守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324000" y="3213000"/>
            <a:ext cx="84960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说明：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机械能守恒是有条件的，只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力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弹力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做功时，机械能是守恒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在动能和势能相互转化中，若受摩擦等阻力，则机械能的总和减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“在光滑面上”、“不计空气阻力”等文字，表示没有摩擦等阻力，此时机械能总和可看作是不变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684360" y="141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如果只有动能和势能相互转化，尽管动能和势能大小会变化，但机械能的总和不变，或者说机械能是守恒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2466000" y="47556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66"/>
                </a:solidFill>
                <a:latin typeface="Arial"/>
              </a:rPr>
              <a:t>想想做做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8" name="Picture 3" descr="tp4"/>
          <p:cNvPicPr/>
          <p:nvPr/>
        </p:nvPicPr>
        <p:blipFill>
          <a:blip r:embed="rId1"/>
          <a:stretch/>
        </p:blipFill>
        <p:spPr>
          <a:xfrm>
            <a:off x="6012000" y="1197000"/>
            <a:ext cx="2987640" cy="424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201600" y="14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1832760" y="4723560"/>
            <a:ext cx="23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假设没有阻力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怎么样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1" name="Picture 7" descr="png-0007"/>
          <p:cNvPicPr/>
          <p:nvPr/>
        </p:nvPicPr>
        <p:blipFill>
          <a:blip r:embed="rId2"/>
          <a:stretch/>
        </p:blipFill>
        <p:spPr>
          <a:xfrm>
            <a:off x="971640" y="40464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482760" y="1400040"/>
            <a:ext cx="5472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用绳子把一个铁锁悬挂起来。把铁锁拿近自己的鼻子，稳定后松手，头不要动。铁锁向前摆去又摆回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铁锁摆回时会碰到你的鼻子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3203640" y="3282480"/>
            <a:ext cx="23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50560" y="501300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500" spc="-1" strike="noStrike">
                <a:solidFill>
                  <a:srgbClr val="ff0000"/>
                </a:solidFill>
                <a:latin typeface="宋体"/>
              </a:rPr>
              <a:t>分析</a:t>
            </a:r>
            <a:r>
              <a:rPr b="1" i="1" lang="en-US" sz="35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i="1" lang="zh-CN" sz="35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i="1" lang="en-US" sz="35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i="1" lang="zh-CN" sz="35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i="1" lang="en-US" sz="35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zh-CN" sz="3500" spc="-1" strike="noStrike">
                <a:solidFill>
                  <a:srgbClr val="ff0000"/>
                </a:solidFill>
                <a:latin typeface="宋体"/>
              </a:rPr>
              <a:t>三点间的能量转化过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356000" y="331920"/>
            <a:ext cx="3382920" cy="1440"/>
            <a:chOff x="4356000" y="331920"/>
            <a:chExt cx="3382920" cy="1440"/>
          </a:xfrm>
        </p:grpSpPr>
        <p:sp>
          <p:nvSpPr>
            <p:cNvPr id="336" name="Line 4"/>
            <p:cNvSpPr/>
            <p:nvPr/>
          </p:nvSpPr>
          <p:spPr>
            <a:xfrm>
              <a:off x="4356000" y="331920"/>
              <a:ext cx="3382920" cy="1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4356000" y="331920"/>
              <a:ext cx="33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499920" y="331920"/>
            <a:ext cx="2521440" cy="2952720"/>
            <a:chOff x="3499920" y="331920"/>
            <a:chExt cx="2521440" cy="2952720"/>
          </a:xfrm>
        </p:grpSpPr>
        <p:sp>
          <p:nvSpPr>
            <p:cNvPr id="339" name="Line 5"/>
            <p:cNvSpPr/>
            <p:nvPr/>
          </p:nvSpPr>
          <p:spPr>
            <a:xfrm flipH="1">
              <a:off x="3499920" y="331920"/>
              <a:ext cx="2521080" cy="295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3500280" y="331920"/>
              <a:ext cx="252108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21360" y="331920"/>
            <a:ext cx="1440" cy="3960720"/>
            <a:chOff x="6021360" y="331920"/>
            <a:chExt cx="1440" cy="3960720"/>
          </a:xfrm>
        </p:grpSpPr>
        <p:sp>
          <p:nvSpPr>
            <p:cNvPr id="342" name="Line 6"/>
            <p:cNvSpPr/>
            <p:nvPr/>
          </p:nvSpPr>
          <p:spPr>
            <a:xfrm flipH="1">
              <a:off x="6021360" y="331920"/>
              <a:ext cx="1440" cy="3960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6021360" y="331920"/>
              <a:ext cx="1440" cy="39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2800" y="331920"/>
            <a:ext cx="2374920" cy="2952720"/>
            <a:chOff x="6022800" y="331920"/>
            <a:chExt cx="2374920" cy="2952720"/>
          </a:xfrm>
        </p:grpSpPr>
        <p:sp>
          <p:nvSpPr>
            <p:cNvPr id="345" name="Line 7"/>
            <p:cNvSpPr/>
            <p:nvPr/>
          </p:nvSpPr>
          <p:spPr>
            <a:xfrm>
              <a:off x="6022800" y="331920"/>
              <a:ext cx="2374920" cy="295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6022800" y="331920"/>
              <a:ext cx="237492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47" name="Oval 8"/>
          <p:cNvSpPr/>
          <p:nvPr/>
        </p:nvSpPr>
        <p:spPr>
          <a:xfrm>
            <a:off x="5724360" y="4292640"/>
            <a:ext cx="648000" cy="6490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Oval 9"/>
          <p:cNvSpPr/>
          <p:nvPr/>
        </p:nvSpPr>
        <p:spPr>
          <a:xfrm>
            <a:off x="8317080" y="3213000"/>
            <a:ext cx="647640" cy="64944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2773080" y="393372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5214960" y="4508640"/>
            <a:ext cx="43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7886160" y="350028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Oval 13"/>
          <p:cNvSpPr/>
          <p:nvPr/>
        </p:nvSpPr>
        <p:spPr>
          <a:xfrm>
            <a:off x="2925720" y="3213000"/>
            <a:ext cx="647640" cy="64944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Oval 14"/>
          <p:cNvSpPr/>
          <p:nvPr/>
        </p:nvSpPr>
        <p:spPr>
          <a:xfrm>
            <a:off x="2916360" y="3213000"/>
            <a:ext cx="647640" cy="649440"/>
          </a:xfrm>
          <a:prstGeom prst="ellipse">
            <a:avLst/>
          </a:prstGeom>
          <a:gradFill rotWithShape="0">
            <a:gsLst>
              <a:gs pos="0">
                <a:srgbClr val="330066"/>
              </a:gs>
              <a:gs pos="100000">
                <a:srgbClr val="18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916360" y="4941720"/>
            <a:ext cx="6227640" cy="360"/>
            <a:chOff x="2916360" y="4941720"/>
            <a:chExt cx="6227640" cy="360"/>
          </a:xfrm>
        </p:grpSpPr>
        <p:sp>
          <p:nvSpPr>
            <p:cNvPr id="355" name="Line 16"/>
            <p:cNvSpPr/>
            <p:nvPr/>
          </p:nvSpPr>
          <p:spPr>
            <a:xfrm>
              <a:off x="2916360" y="4941720"/>
              <a:ext cx="622764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2916360" y="4941720"/>
              <a:ext cx="62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388360" y="3860640"/>
            <a:ext cx="755640" cy="360"/>
            <a:chOff x="8388360" y="3860640"/>
            <a:chExt cx="755640" cy="360"/>
          </a:xfrm>
        </p:grpSpPr>
        <p:sp>
          <p:nvSpPr>
            <p:cNvPr id="358" name="Line 17"/>
            <p:cNvSpPr/>
            <p:nvPr/>
          </p:nvSpPr>
          <p:spPr>
            <a:xfrm>
              <a:off x="8388360" y="3860640"/>
              <a:ext cx="75564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388360" y="3860640"/>
              <a:ext cx="7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60" name="Rectangle 18"/>
          <p:cNvSpPr/>
          <p:nvPr/>
        </p:nvSpPr>
        <p:spPr>
          <a:xfrm>
            <a:off x="8534880" y="4076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  <a:ea typeface="仿宋_GB2312"/>
              </a:rPr>
              <a:t>h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748720" y="3860640"/>
            <a:ext cx="360" cy="289080"/>
            <a:chOff x="8748720" y="3860640"/>
            <a:chExt cx="360" cy="289080"/>
          </a:xfrm>
        </p:grpSpPr>
        <p:sp>
          <p:nvSpPr>
            <p:cNvPr id="362" name="Line 19"/>
            <p:cNvSpPr/>
            <p:nvPr/>
          </p:nvSpPr>
          <p:spPr>
            <a:xfrm>
              <a:off x="8748720" y="3860640"/>
              <a:ext cx="0" cy="289080"/>
            </a:xfrm>
            <a:prstGeom prst="line">
              <a:avLst/>
            </a:prstGeom>
            <a:ln cap="sq" w="5724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8748720" y="3860640"/>
              <a:ext cx="36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8748360" y="4653000"/>
            <a:ext cx="360" cy="288720"/>
            <a:chOff x="8748360" y="4653000"/>
            <a:chExt cx="360" cy="288720"/>
          </a:xfrm>
        </p:grpSpPr>
        <p:sp>
          <p:nvSpPr>
            <p:cNvPr id="365" name="Line 20"/>
            <p:cNvSpPr/>
            <p:nvPr/>
          </p:nvSpPr>
          <p:spPr>
            <a:xfrm flipV="1">
              <a:off x="8748720" y="4653000"/>
              <a:ext cx="0" cy="288720"/>
            </a:xfrm>
            <a:prstGeom prst="line">
              <a:avLst/>
            </a:prstGeom>
            <a:ln cap="sq" w="5724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 rot="10800000">
              <a:off x="8748360" y="4653000"/>
              <a:ext cx="36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67" name="Text Box 21"/>
          <p:cNvSpPr/>
          <p:nvPr/>
        </p:nvSpPr>
        <p:spPr>
          <a:xfrm>
            <a:off x="0" y="260280"/>
            <a:ext cx="81374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0" lang="zh-CN" sz="2600" spc="-1" strike="noStrike">
                <a:solidFill>
                  <a:srgbClr val="3333ff"/>
                </a:solidFill>
                <a:latin typeface="Arial"/>
                <a:ea typeface="宋体"/>
              </a:rPr>
              <a:t>动能与重力势能的相互转化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539640" y="1557360"/>
            <a:ext cx="43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Arial"/>
                <a:ea typeface="宋体"/>
              </a:rPr>
              <a:t>实验</a:t>
            </a:r>
            <a:r>
              <a:rPr b="1" lang="en-US" sz="2800" spc="-1" strike="noStrike">
                <a:solidFill>
                  <a:srgbClr val="6699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669999"/>
                </a:solidFill>
                <a:latin typeface="Arial"/>
                <a:ea typeface="宋体"/>
              </a:rPr>
              <a:t>单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autoRev="1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13873E-006 L 0.15869 0.11514 C 0.19167 0.14127 0.24167 0.15745 0.29376 0.15745 C 0.35313 0.15745 0.40035 0.14127 0.43386 0.11514 L 0.59445 2.13873E-006 E">
                                      <p:cBhvr>
                                        <p:cTn id="123" dur="5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2:23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38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