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32A-864C-48E8-8D31-DC6C759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D7E-B759-47D2-9B51-AA92D49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09A-8508-4A76-8B61-25E21371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0BA-4E54-454F-B738-3141B7F9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CAE1-C679-43D8-AF5C-8B01E520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797-9014-48A0-A73A-E713BE7C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553-05EC-4B54-8E84-A514898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048-1C99-4E5A-A9BC-610B74F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4DB3-E3D4-4217-8769-1321870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8C3-F28B-4C97-8414-8FF58A1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7DE-BDD0-484C-94CB-8A74A15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4FA-9991-49B1-BF09-1C3E080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D2C-3847-4513-9D08-3F5AE76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15DD-813E-4F32-BD02-4EEB934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1E5-6B42-4927-9F70-5EAD263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DC4-DBFE-4F21-92C6-1ABCFA9C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0BF1-DED4-4E16-BCCD-15B06A12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EF93-B8B1-468C-BDEA-B92BC0FF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094F-8110-4107-B175-6CCD9B47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0582-96AD-49B0-A877-AA5165B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A425-151F-41AD-9F90-BE5AECB8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D7A1-F2E6-4073-AA59-02EF6694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208-7F2C-4DAE-9B24-56CA0CD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0AEF-2131-47BC-9000-A81C7BD9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8CF9-10F7-4770-AF22-03C9D57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D4B3-030F-4E69-AE1D-C63F0A7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6F1F-AF87-4F5B-A8D7-1AF68A8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55AB-4E62-411B-BEA9-38BDEC6C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0785-31FB-41D8-81B3-4BA3687D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3CE4-9C2C-42D0-9EF3-DC288C8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C5273-79F4-4136-90A7-D8BBEABA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474A4-A448-42C1-B33F-A5FA1CF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3D3D9-3630-4102-B7B7-466EFE4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948-16B6-4BCE-8C72-EB20477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3C314-BC15-416E-A81D-F7D0C83A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82C24-CE20-475B-A2BD-A921171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EF1A6-0156-4C9E-99DB-B1A2F0C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FE13B-400C-4138-B000-C3E96697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15DB1-EDBF-4CC1-9351-784593D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4E75D-45B6-4DB3-AF50-028AE18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4E8B2-6414-4F03-99AA-BD82904E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5506D-2983-43F9-A2B5-AAAB4534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12BC7-B285-43BE-B9BC-22EBC10E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FCD9-91A1-4D5A-A419-E694D8C6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E4A-6A57-4817-A5B0-F011EB6D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49E4-1E10-4B14-A294-BF08A9B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19BD-6768-4EEC-8F0A-92C3C21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7438-39F1-45AE-82E8-9753BB7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604B-D2FB-4829-A0AF-A9A107B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1666-86DF-4987-8851-BBA123F1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DF91-AE4F-40AE-8301-D030DE8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B15D-7A71-4120-8B87-0809AED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1929-C789-4408-9E70-9125DF4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694F-8E13-43B0-BB87-794B513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26E5-6BEB-4F38-8BD7-F7246873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ABC-C9DA-494C-9A85-AB38B69D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8183-BF68-48B8-9C3B-183A7911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1BD-5E7F-4B3B-A15D-987FFF9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625-1590-493C-BC83-85E35F2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246-0BB5-4849-8A3D-8208DD3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563C-0061-4471-8F7B-6A1781FFD70E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9AD-F409-4A16-A734-FB76BB704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4B5-0D30-46F1-ACAD-9B948277E28A}" type="slidenum">
              <a:rPr b="0" lang="en-US" sz="1200" spc="-1" strike="noStrike">
                <a:solidFill>
                  <a:srgbClr val="94c600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F3D-06D0-4685-8E6C-A59B44DEF08D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DC3-BEBB-499E-AD19-C1B255B269A7}" type="slidenum">
              <a:rPr b="0" lang="en-US" sz="1200" spc="-1" strike="noStrike">
                <a:solidFill>
                  <a:srgbClr val="fefefe"/>
                </a:solidFill>
                <a:latin typeface="Arial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标题 1"/>
          <p:cNvSpPr/>
          <p:nvPr/>
        </p:nvSpPr>
        <p:spPr>
          <a:xfrm>
            <a:off x="1208160" y="2209680"/>
            <a:ext cx="693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宋体"/>
                <a:ea typeface="宋体"/>
              </a:rPr>
              <a:t>茎越长越高课件</a:t>
            </a:r>
            <a:r>
              <a:rPr b="1" lang="en-US" sz="4000" spc="-1" strike="noStrike">
                <a:solidFill>
                  <a:srgbClr val="4a6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4a6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D:\桌面\葡萄茎.jpg"/>
          <p:cNvPicPr/>
          <p:nvPr/>
        </p:nvPicPr>
        <p:blipFill>
          <a:blip r:embed="rId1"/>
          <a:stretch/>
        </p:blipFill>
        <p:spPr>
          <a:xfrm>
            <a:off x="533520" y="533520"/>
            <a:ext cx="8107200" cy="5400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20" name="Picture 2" descr="D:\桌面\葡萄.jpg"/>
          <p:cNvPicPr/>
          <p:nvPr/>
        </p:nvPicPr>
        <p:blipFill>
          <a:blip r:embed="rId2"/>
          <a:stretch/>
        </p:blipFill>
        <p:spPr>
          <a:xfrm>
            <a:off x="1143000" y="54288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581280" y="585936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攀缘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6EAB-FBF4-42E8-9FE3-708CB3EF7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28" name="Picture 2" descr="D:\桌面\牵牛花.jpg"/>
          <p:cNvPicPr/>
          <p:nvPr/>
        </p:nvPicPr>
        <p:blipFill>
          <a:blip r:embed="rId1"/>
          <a:stretch/>
        </p:blipFill>
        <p:spPr>
          <a:xfrm>
            <a:off x="541440" y="609480"/>
            <a:ext cx="8039160" cy="540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桌面\牵牛花缠绕茎.jpg"/>
          <p:cNvPicPr/>
          <p:nvPr/>
        </p:nvPicPr>
        <p:blipFill>
          <a:blip r:embed="rId2"/>
          <a:stretch/>
        </p:blipFill>
        <p:spPr>
          <a:xfrm>
            <a:off x="917640" y="619200"/>
            <a:ext cx="7284960" cy="5400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172200" y="18288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缠绕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回顾：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4160"/>
            <a:ext cx="67770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3d2d"/>
                </a:solidFill>
                <a:latin typeface="Candara"/>
                <a:ea typeface="华文楷体"/>
              </a:rPr>
              <a:t>根的作用：</a:t>
            </a: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sp>
        <p:nvSpPr>
          <p:cNvPr id="380" name="内容占位符 2"/>
          <p:cNvSpPr/>
          <p:nvPr/>
        </p:nvSpPr>
        <p:spPr>
          <a:xfrm>
            <a:off x="1071720" y="4000680"/>
            <a:ext cx="6777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3d2d"/>
                </a:solidFill>
                <a:latin typeface="Candara"/>
                <a:ea typeface="华文楷体"/>
              </a:rPr>
              <a:t>叶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1295280" y="2932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 吸收土壤中的水、矿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 固定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1295280" y="4648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光合作用制造氧气和养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85" name="Picture 2" descr="D:\桌面\u=3556793900,2617165325&amp;fm=21&amp;gp=0.jpg"/>
          <p:cNvPicPr/>
          <p:nvPr/>
        </p:nvPicPr>
        <p:blipFill>
          <a:blip r:embed="rId1"/>
          <a:stretch/>
        </p:blipFill>
        <p:spPr>
          <a:xfrm>
            <a:off x="2209680" y="1676520"/>
            <a:ext cx="4140360" cy="4070160"/>
          </a:xfrm>
          <a:prstGeom prst="rect">
            <a:avLst/>
          </a:prstGeom>
          <a:ln w="0">
            <a:noFill/>
          </a:ln>
        </p:spPr>
      </p:pic>
      <p:sp>
        <p:nvSpPr>
          <p:cNvPr id="386" name="文本框 8199"/>
          <p:cNvSpPr/>
          <p:nvPr/>
        </p:nvSpPr>
        <p:spPr>
          <a:xfrm>
            <a:off x="1560600" y="1027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89" name="Picture 2" descr="D:\桌面\9345d688d43f87948229da3fd11b0ef41ad53ac8.jpg"/>
          <p:cNvPicPr/>
          <p:nvPr/>
        </p:nvPicPr>
        <p:blipFill>
          <a:blip r:embed="rId1"/>
          <a:stretch/>
        </p:blipFill>
        <p:spPr>
          <a:xfrm>
            <a:off x="1295280" y="1049400"/>
            <a:ext cx="6705720" cy="4356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D:\桌面\7acb0a46f21fbe09f089510568600c338644adc8.jpg"/>
          <p:cNvPicPr/>
          <p:nvPr/>
        </p:nvPicPr>
        <p:blipFill>
          <a:blip r:embed="rId2"/>
          <a:stretch/>
        </p:blipFill>
        <p:spPr>
          <a:xfrm>
            <a:off x="1295280" y="1123920"/>
            <a:ext cx="3397320" cy="418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D:\桌面\t01bfc316fe2efc25a5.jpg"/>
          <p:cNvPicPr/>
          <p:nvPr/>
        </p:nvPicPr>
        <p:blipFill>
          <a:blip r:embed="rId3"/>
          <a:stretch/>
        </p:blipFill>
        <p:spPr>
          <a:xfrm>
            <a:off x="4645080" y="1141560"/>
            <a:ext cx="33559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茎的作用：</a:t>
            </a:r>
            <a:endParaRPr b="0" lang="en-US" sz="4000" spc="-1" strike="noStrike">
              <a:solidFill>
                <a:srgbClr val="94c600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9120" y="2324160"/>
            <a:ext cx="764388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向上运输水和矿物质，向下运输养料。 </a:t>
            </a:r>
            <a:endParaRPr b="0" lang="en-US" sz="3200" spc="-1" strike="noStrike">
              <a:solidFill>
                <a:srgbClr val="3e3d2d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396" name="Picture 2" descr="D:\桌面\2376-11041Z2012446.jpg"/>
          <p:cNvPicPr/>
          <p:nvPr/>
        </p:nvPicPr>
        <p:blipFill>
          <a:blip r:embed="rId1"/>
          <a:stretch/>
        </p:blipFill>
        <p:spPr>
          <a:xfrm>
            <a:off x="1905120" y="6094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3"/>
          <p:cNvSpPr/>
          <p:nvPr/>
        </p:nvSpPr>
        <p:spPr>
          <a:xfrm>
            <a:off x="1023840" y="5616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为什么大树能够直立在地上、而不会倒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标题 1"/>
          <p:cNvSpPr/>
          <p:nvPr/>
        </p:nvSpPr>
        <p:spPr>
          <a:xfrm>
            <a:off x="1042920" y="102708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6300"/>
                </a:solidFill>
                <a:latin typeface="Candara"/>
                <a:ea typeface="华文新魏"/>
              </a:rPr>
              <a:t>茎的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内容占位符 2"/>
          <p:cNvSpPr/>
          <p:nvPr/>
        </p:nvSpPr>
        <p:spPr>
          <a:xfrm>
            <a:off x="609480" y="2324160"/>
            <a:ext cx="7643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向上运输水和矿物质，向下运输养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内容占位符 2"/>
          <p:cNvSpPr/>
          <p:nvPr/>
        </p:nvSpPr>
        <p:spPr>
          <a:xfrm>
            <a:off x="585720" y="3009960"/>
            <a:ext cx="7643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3e3d2d"/>
                </a:solidFill>
                <a:latin typeface="Candara"/>
                <a:ea typeface="华文楷体"/>
              </a:rPr>
              <a:t>、支撑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209600" y="4267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所有的茎都像大树这样直立着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04" name="Picture 2" descr="D:\桌面\凤仙花.jpg"/>
          <p:cNvPicPr/>
          <p:nvPr/>
        </p:nvPicPr>
        <p:blipFill>
          <a:blip r:embed="rId1"/>
          <a:stretch/>
        </p:blipFill>
        <p:spPr>
          <a:xfrm>
            <a:off x="1828800" y="228600"/>
            <a:ext cx="4638600" cy="61912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4952880" y="22860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凤仙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6934320" y="20574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直立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8199"/>
          <p:cNvSpPr/>
          <p:nvPr/>
        </p:nvSpPr>
        <p:spPr>
          <a:xfrm>
            <a:off x="1879560" y="54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94c600"/>
              </a:solidFill>
              <a:latin typeface="Candara"/>
              <a:ea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andara"/>
            </a:endParaRPr>
          </a:p>
        </p:txBody>
      </p:sp>
      <p:pic>
        <p:nvPicPr>
          <p:cNvPr id="410" name="Picture 2" descr="D:\桌面\红薯.jpg"/>
          <p:cNvPicPr/>
          <p:nvPr/>
        </p:nvPicPr>
        <p:blipFill>
          <a:blip r:embed="rId1"/>
          <a:stretch/>
        </p:blipFill>
        <p:spPr>
          <a:xfrm>
            <a:off x="304920" y="609480"/>
            <a:ext cx="6750000" cy="5400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D:\桌面\红薯茎.jpg"/>
          <p:cNvPicPr/>
          <p:nvPr/>
        </p:nvPicPr>
        <p:blipFill>
          <a:blip r:embed="rId2"/>
          <a:stretch/>
        </p:blipFill>
        <p:spPr>
          <a:xfrm>
            <a:off x="2666880" y="457200"/>
            <a:ext cx="6162840" cy="44197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3679920" y="5181480"/>
            <a:ext cx="31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红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6553080" y="58593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a6300"/>
                </a:solidFill>
                <a:latin typeface="Arial"/>
                <a:ea typeface="华文楷体"/>
              </a:rPr>
              <a:t>匍匐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6"/>
          <p:cNvGrpSpPr/>
          <p:nvPr/>
        </p:nvGrpSpPr>
        <p:grpSpPr>
          <a:xfrm>
            <a:off x="469800" y="1246320"/>
            <a:ext cx="8217000" cy="4620960"/>
            <a:chOff x="469800" y="1246320"/>
            <a:chExt cx="8217000" cy="4620960"/>
          </a:xfrm>
        </p:grpSpPr>
        <p:pic>
          <p:nvPicPr>
            <p:cNvPr id="415" name="Picture 4" descr="D:\桌面\南瓜.jpg"/>
            <p:cNvPicPr/>
            <p:nvPr/>
          </p:nvPicPr>
          <p:blipFill>
            <a:blip r:embed="rId3"/>
            <a:stretch/>
          </p:blipFill>
          <p:spPr>
            <a:xfrm>
              <a:off x="469800" y="1246320"/>
              <a:ext cx="821700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Box 5"/>
            <p:cNvSpPr/>
            <p:nvPr/>
          </p:nvSpPr>
          <p:spPr>
            <a:xfrm>
              <a:off x="6553080" y="2057760"/>
              <a:ext cx="1719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南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0:2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