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863-6E7A-4592-B1B0-2510D54B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9B8-DB71-43A2-A266-FEF0880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AC6-B078-45B9-9DF5-17CC2C84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8FA-2048-4E1F-91D0-D2C9FEF0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855-6DD6-4DA1-B081-D4FA7942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335-E424-43B9-82C6-5CB102D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6DE5-7B0F-40B4-AF13-7539443A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0EE-762C-4446-B9F9-6AD4931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DA4C-A8BF-414B-B79F-9B30D285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9D7-7C80-4555-9091-CEFCAE3C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BCF6-D49F-4E08-B236-D4786BF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175-B3FD-4654-8A6D-93C6B6A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EBB0-038E-4F71-9781-FABC6577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BED9-D4A4-4A81-B5D3-DC4A7CA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D4A5-4559-43D7-BC25-79631BE5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12B1-AA8D-4E07-AE4F-26A894F5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C66C-0251-4790-B8E3-5A4A836B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0407-0553-4BF0-9677-44FC8F9D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90CB-F83A-4EE1-B678-E454C35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3EDF-EB36-4DD7-B541-CA82BE58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B252-38BD-4D98-BA1A-851992F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7703-0C97-4477-89CB-5F1D34BE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D0E-5466-4048-BE1A-FE515FED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72FB-8D60-48A0-9DD3-3994B52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A2A4-A80D-47E3-9FB6-61BB6F1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F724-0BAD-4D21-B89F-829142F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0181-F91B-45BF-B648-9FBDAD5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68B3-2034-435C-9BD5-6A205D5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F721-03C5-4DE5-BC60-D2A61A55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C23F-F4C2-4301-95CC-A711122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641-5CB1-4C33-892D-38E8AFC5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050-2233-4900-A873-C6D43FE4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C35-F429-4A74-BC64-A8F4458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642-95B5-451E-A839-61130A1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662-BB53-4536-93C1-39E0032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827-519A-4741-8A52-E7241AAF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27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90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401B-DD00-4B4C-BA29-DF733B7C344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AFEF-CE84-44C9-9D8C-E9BFECEE0B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111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14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121" name="Freeform 8"/>
            <p:cNvSpPr/>
            <p:nvPr/>
          </p:nvSpPr>
          <p:spPr>
            <a:xfrm rot="10800000">
              <a:off x="8081640" y="1780200"/>
              <a:ext cx="723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2" name="Freeform 9"/>
            <p:cNvSpPr/>
            <p:nvPr/>
          </p:nvSpPr>
          <p:spPr>
            <a:xfrm rot="10800000">
              <a:off x="7346880" y="1778040"/>
              <a:ext cx="8568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" name="Freeform 10"/>
            <p:cNvSpPr/>
            <p:nvPr/>
          </p:nvSpPr>
          <p:spPr>
            <a:xfrm rot="10800000">
              <a:off x="8116200" y="1780200"/>
              <a:ext cx="27756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" name="Freeform 11"/>
            <p:cNvSpPr/>
            <p:nvPr/>
          </p:nvSpPr>
          <p:spPr>
            <a:xfrm rot="10800000">
              <a:off x="6168240" y="1780200"/>
              <a:ext cx="2721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" name="Freeform 12"/>
            <p:cNvSpPr/>
            <p:nvPr/>
          </p:nvSpPr>
          <p:spPr>
            <a:xfrm rot="10800000">
              <a:off x="6579360" y="1780200"/>
              <a:ext cx="16740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rot="10800000">
              <a:off x="696024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 rot="10800000">
              <a:off x="779436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8" name="Freeform 15"/>
            <p:cNvSpPr/>
            <p:nvPr/>
          </p:nvSpPr>
          <p:spPr>
            <a:xfrm rot="10800000">
              <a:off x="6790680" y="1778040"/>
              <a:ext cx="17712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 rot="10800000">
              <a:off x="8529120" y="1778400"/>
              <a:ext cx="24336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 rot="10800000">
              <a:off x="6682320" y="1778400"/>
              <a:ext cx="129240" cy="4712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1" name="Freeform 18"/>
            <p:cNvSpPr/>
            <p:nvPr/>
          </p:nvSpPr>
          <p:spPr>
            <a:xfrm rot="10800000">
              <a:off x="835956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 rot="10800000">
              <a:off x="7634520" y="1778040"/>
              <a:ext cx="190080" cy="41832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 rot="10800000">
              <a:off x="6004800" y="1778040"/>
              <a:ext cx="190080" cy="41832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 rot="10800000">
              <a:off x="7095600" y="1779840"/>
              <a:ext cx="33300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 rot="10800000">
              <a:off x="7457400" y="1778040"/>
              <a:ext cx="18468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 rot="10800000">
              <a:off x="64159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37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39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140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43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5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7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51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E2CA-5884-4CB4-BC07-7629F1DC19A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../AppData/Local/Microsoft/Windows/Temporary%2520Internet%2520Files/&#26700;&#38754;/&#26118;&#34411;&#30340;&#19981;&#23436;&#20840;&#21464;&#24577;&#21457;&#32946;.M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../AppData/Local/Microsoft/Windows/Temporary%2520Internet%2520Files/&#26700;&#38754;/&#26118;&#34411;&#30340;&#23436;&#20840;&#21464;&#24577;&#21457;&#32946;.M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7160" y="1989000"/>
            <a:ext cx="8521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  <a:ea typeface="宋体"/>
              </a:rPr>
              <a:t>昆虫的生殖和发育课件</a:t>
            </a:r>
            <a:r>
              <a:rPr b="1" lang="en-US" sz="4000" spc="-1" strike="noStrike">
                <a:solidFill>
                  <a:srgbClr val="3333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225440" y="985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  <a:ea typeface="Arial"/>
              </a:rPr>
              <a:t>第一章  生物的生殖和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6" name="文本框 6155"/>
          <p:cNvSpPr/>
          <p:nvPr/>
        </p:nvSpPr>
        <p:spPr>
          <a:xfrm>
            <a:off x="69840" y="6226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e89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dde89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237600"/>
            <a:ext cx="84960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家蚕的幼虫、成虫和蛹的形态结构和生活习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484280"/>
          <a:ext cx="8229600" cy="4684680"/>
        </p:xfrm>
        <a:graphic>
          <a:graphicData uri="http://schemas.openxmlformats.org/drawingml/2006/table">
            <a:tbl>
              <a:tblPr/>
              <a:tblGrid>
                <a:gridCol w="2459160"/>
                <a:gridCol w="3095640"/>
                <a:gridCol w="2674800"/>
              </a:tblGrid>
              <a:tr h="785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e15d7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形态特点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e15d7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生活习性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e15d7c">
                        <a:alpha val="50000"/>
                      </a:srgbClr>
                    </a:solidFill>
                  </a:tcPr>
                </a:tc>
              </a:tr>
              <a:tr h="121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幼虫期</a:t>
                      </a:r>
                      <a:endParaRPr b="0" lang="en-US" sz="3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  <a:tr h="1452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蛹</a:t>
                      </a:r>
                      <a:endParaRPr b="0" lang="en-US" sz="3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  <a:tr h="1227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成虫期</a:t>
                      </a:r>
                      <a:endParaRPr b="0" lang="en-US" sz="3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5" name="Text Box 37"/>
          <p:cNvSpPr/>
          <p:nvPr/>
        </p:nvSpPr>
        <p:spPr>
          <a:xfrm>
            <a:off x="411948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2987640" y="242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身体柔软有体节，胸腹部有八对足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7" name="Text Box 43"/>
          <p:cNvSpPr/>
          <p:nvPr/>
        </p:nvSpPr>
        <p:spPr>
          <a:xfrm>
            <a:off x="6227640" y="2313000"/>
            <a:ext cx="24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桑叶为食，有蜕皮，化蛹前吐丝结茧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2987640" y="3979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体表光滑，椭圆柱状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6156360" y="38307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不食不动，破茧而出，羽化成蛾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0" name="Text Box 46"/>
          <p:cNvSpPr/>
          <p:nvPr/>
        </p:nvSpPr>
        <p:spPr>
          <a:xfrm>
            <a:off x="2916360" y="5157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有三对足两对翅，体被白色鳞毛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6227640" y="5013360"/>
            <a:ext cx="23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不食，几乎不能飞，交配后雄蛾死亡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正在产卵的蚕"/>
          <p:cNvPicPr/>
          <p:nvPr/>
        </p:nvPicPr>
        <p:blipFill>
          <a:blip r:embed="rId1"/>
          <a:stretch/>
        </p:blipFill>
        <p:spPr>
          <a:xfrm>
            <a:off x="179280" y="1773360"/>
            <a:ext cx="1944720" cy="1846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蚕的125龄幼虫"/>
          <p:cNvPicPr/>
          <p:nvPr/>
        </p:nvPicPr>
        <p:blipFill>
          <a:blip r:embed="rId2"/>
          <a:stretch/>
        </p:blipFill>
        <p:spPr>
          <a:xfrm>
            <a:off x="2266920" y="1773360"/>
            <a:ext cx="1728720" cy="1825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蚕蛹"/>
          <p:cNvPicPr/>
          <p:nvPr/>
        </p:nvPicPr>
        <p:blipFill>
          <a:blip r:embed="rId3"/>
          <a:stretch/>
        </p:blipFill>
        <p:spPr>
          <a:xfrm>
            <a:off x="4211640" y="1773360"/>
            <a:ext cx="2448000" cy="178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P9-4"/>
          <p:cNvPicPr/>
          <p:nvPr/>
        </p:nvPicPr>
        <p:blipFill>
          <a:blip r:embed="rId4"/>
          <a:stretch/>
        </p:blipFill>
        <p:spPr>
          <a:xfrm>
            <a:off x="6804000" y="1773360"/>
            <a:ext cx="2160720" cy="1728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2"/>
          <p:cNvSpPr/>
          <p:nvPr/>
        </p:nvSpPr>
        <p:spPr>
          <a:xfrm>
            <a:off x="5508720" y="414972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364000" y="4076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受精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4070160"/>
            <a:ext cx="860400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想一想，家蚕的一生要经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和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个时期。这种发育方式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236000" y="40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幼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1116000" y="465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蛹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3564000" y="465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2771640" y="51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完全变态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完全变态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70028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昆虫的发育经过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卵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幼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蛹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四个时期，这样的发育过程称为完全变态。如：蜜蜂、蚂蚁、蚊、蝇、金龟子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438200"/>
            <a:ext cx="84358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菜青虫可以危害卷心菜，其危害蔬菜时所处的时期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幼虫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蛹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利用蜕皮激素（使昆虫加快蜕皮速度的化学物质）能减少菜粉蝶对蔬菜的危害其原理是                        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幼虫期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蛹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成虫期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破坏它的取食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27052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54980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1970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家蚕是通过哪种方式繁殖后代的？这种生殖方式的特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通过卵生生殖，特点是由两性生殖细胞结合形成受精卵，由受精卵发育成新个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春蚕到死丝方尽，蜡炬成灰泪始干”从家蚕的发育过程来分析，这句诗有什么不准确的地方？你能通过改其中两个字使之既有科学性，又不失艺术性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春蚕作茧后并没有死，而是变成不食不动的蛹，蛹经过一段时间的发育将羽化成为蛾。因此，此句诗可改为“春蚕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蛹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丝方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5280" y="206028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蝗虫、蟋蟀、螳螂的发育过程与家蚕一样吗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蝗虫的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sw8akbp77"/>
          <p:cNvPicPr/>
          <p:nvPr/>
        </p:nvPicPr>
        <p:blipFill>
          <a:blip r:embed="rId1"/>
          <a:stretch/>
        </p:blipFill>
        <p:spPr>
          <a:xfrm>
            <a:off x="287280" y="1535040"/>
            <a:ext cx="8461440" cy="42703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6"/>
          <p:cNvSpPr/>
          <p:nvPr/>
        </p:nvSpPr>
        <p:spPr>
          <a:xfrm>
            <a:off x="7813800" y="483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6661080" y="4797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5076720" y="48322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349800" y="486900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042920" y="486900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804000" y="33926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孵化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蝗虫的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蝗虫"/>
          <p:cNvPicPr/>
          <p:nvPr/>
        </p:nvPicPr>
        <p:blipFill>
          <a:blip r:embed="rId1"/>
          <a:stretch/>
        </p:blipFill>
        <p:spPr>
          <a:xfrm>
            <a:off x="2905200" y="4346640"/>
            <a:ext cx="310680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2" name="Picture 5" descr="蝗虫"/>
          <p:cNvPicPr/>
          <p:nvPr/>
        </p:nvPicPr>
        <p:blipFill>
          <a:blip r:embed="rId2"/>
          <a:stretch/>
        </p:blipFill>
        <p:spPr>
          <a:xfrm>
            <a:off x="5592600" y="1216080"/>
            <a:ext cx="3189600" cy="229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3" name="Picture 6" descr="蝗虫1"/>
          <p:cNvPicPr/>
          <p:nvPr/>
        </p:nvPicPr>
        <p:blipFill>
          <a:blip r:embed="rId3"/>
          <a:stretch/>
        </p:blipFill>
        <p:spPr>
          <a:xfrm>
            <a:off x="304920" y="1295280"/>
            <a:ext cx="2898720" cy="213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4" name="Text Box 7"/>
          <p:cNvSpPr/>
          <p:nvPr/>
        </p:nvSpPr>
        <p:spPr>
          <a:xfrm>
            <a:off x="457200" y="335772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成虫产卵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934320" y="342900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成虫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038480" y="371628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虫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514600" y="3789360"/>
            <a:ext cx="1523880" cy="304920"/>
            <a:chOff x="2514600" y="3789360"/>
            <a:chExt cx="1523880" cy="304920"/>
          </a:xfrm>
        </p:grpSpPr>
        <p:sp>
          <p:nvSpPr>
            <p:cNvPr id="308" name="Line 10"/>
            <p:cNvSpPr/>
            <p:nvPr/>
          </p:nvSpPr>
          <p:spPr>
            <a:xfrm>
              <a:off x="2514600" y="3789360"/>
              <a:ext cx="1523880" cy="304920"/>
            </a:xfrm>
            <a:prstGeom prst="line">
              <a:avLst/>
            </a:prstGeom>
            <a:ln cap="sq"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514600" y="3789360"/>
              <a:ext cx="1523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05520" y="3789000"/>
            <a:ext cx="1752480" cy="304920"/>
            <a:chOff x="5105520" y="3789000"/>
            <a:chExt cx="1752480" cy="304920"/>
          </a:xfrm>
        </p:grpSpPr>
        <p:sp>
          <p:nvSpPr>
            <p:cNvPr id="311" name="Line 11"/>
            <p:cNvSpPr/>
            <p:nvPr/>
          </p:nvSpPr>
          <p:spPr>
            <a:xfrm flipV="1">
              <a:off x="5105520" y="3789000"/>
              <a:ext cx="1752480" cy="304920"/>
            </a:xfrm>
            <a:prstGeom prst="line">
              <a:avLst/>
            </a:prstGeom>
            <a:ln cap="sq"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 rot="10800000">
              <a:off x="5105520" y="3789000"/>
              <a:ext cx="1752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13" name="Text Box 12"/>
          <p:cNvSpPr/>
          <p:nvPr/>
        </p:nvSpPr>
        <p:spPr>
          <a:xfrm>
            <a:off x="468360" y="4149720"/>
            <a:ext cx="20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6516720" y="4292640"/>
            <a:ext cx="23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5" name="文本框 8198"/>
          <p:cNvSpPr/>
          <p:nvPr/>
        </p:nvSpPr>
        <p:spPr>
          <a:xfrm>
            <a:off x="4533840" y="423720"/>
            <a:ext cx="3768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、比较蝗虫幼虫和成虫的差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、蝗虫的生长发育经过了哪几个时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、从生殖和发育过程来看，消灭蝗虫这样的害虫的最佳时期是 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。蝗虫对农作物危害最大的时期是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348000" y="5157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三龄前的跳蝻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780000" y="5661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68360" y="206064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611280" y="19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蝗虫的幼虫体形小，没有翅或翅发育不完整，踊跃但不能飞翔；成虫体形大，翅发达能飞翔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611280" y="39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受精卵，若虫，成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不完全变态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昆虫的发育过程要经过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卵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若虫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三个时期，像这样的发育过程，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不完全变态发育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。如：蟋蟀、椿象、蜻蜓、豆娘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69231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毛毛虫与蝴蝶是同一种生物吗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371600" y="4789440"/>
            <a:ext cx="6324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95280" y="530064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宋体"/>
                <a:ea typeface="宋体"/>
              </a:rPr>
              <a:t>小时候</a:t>
            </a:r>
            <a:endParaRPr b="0" lang="en-US" sz="4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651640" y="530064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宋体"/>
                <a:ea typeface="宋体"/>
              </a:rPr>
              <a:t>长大后</a:t>
            </a:r>
            <a:endParaRPr b="0" lang="en-US" sz="4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95280" y="112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毛毛虫是怎样变成美丽的蝴蝶的？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02" name="Picture 10" descr="虫1"/>
          <p:cNvPicPr/>
          <p:nvPr/>
        </p:nvPicPr>
        <p:blipFill>
          <a:blip r:embed="rId1"/>
          <a:stretch/>
        </p:blipFill>
        <p:spPr>
          <a:xfrm>
            <a:off x="395280" y="2077920"/>
            <a:ext cx="3816360" cy="286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3" name="Picture 11" descr="butterfly"/>
          <p:cNvPicPr/>
          <p:nvPr/>
        </p:nvPicPr>
        <p:blipFill>
          <a:blip r:embed="rId2"/>
          <a:stretch/>
        </p:blipFill>
        <p:spPr>
          <a:xfrm>
            <a:off x="5003640" y="2060640"/>
            <a:ext cx="3672000" cy="288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528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判断某一昆虫的发育是完全变态还是不完全变态时，主要比较昆虫的哪两个发育时期有无差异 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卵和幼虫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蛹和幼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幼虫和成虫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卵和成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对蝗虫和家蚕来说，下列哪一项叙述不正确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都是昆虫，都不蜕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都要经过受精卵、幼虫、成虫阶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成虫都是雌雄异体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生殖和发育都需要一定的温度和湿度，在冬天均不能繁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236000" y="162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7667640" y="33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昆虫与人类的关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有害的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危害植物：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）植食性昆虫占昆虫总数的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48.2%.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农业害虫每年毁坏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0%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农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)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传播植物病毒，引起植物病害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3)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许多植物因其为害而失去经济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危害人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人的传染病有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/3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是由昆虫传播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昆虫与人类的关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有利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提供工业原料：如，蚕丝，蜂蜜，蜂王浆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 药用，食用和饲用昆虫：可入药昆虫有上百种。如，蝉蜕，虫草，蚂蚁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 文化昆虫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美化或丰富人们生活的昆虫，包括工艺观赏昆虫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争斗昆虫和节日昆虫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传粉增产：显花植物中有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85%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是虫媒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许多昆虫，如，蝶，蛾，金龟子等都有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课堂小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-220320" y="2997360"/>
            <a:ext cx="11552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变态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826920" y="2549520"/>
            <a:ext cx="609840" cy="22860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619280" y="22604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完全变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546200" y="4565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不完全变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38" name="Picture 8" descr="P9-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8920" y="4349880"/>
            <a:ext cx="4267080" cy="1006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“毛毛虫”与蝴蝶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1973160"/>
            <a:ext cx="4038480" cy="1500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1"/>
          <p:cNvSpPr/>
          <p:nvPr/>
        </p:nvSpPr>
        <p:spPr>
          <a:xfrm>
            <a:off x="1676520" y="5516640"/>
            <a:ext cx="7467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发育经过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卵、若虫、成虫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三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676520" y="3573360"/>
            <a:ext cx="7467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发育经过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卵、幼虫、蛹、成虫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四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280" y="237600"/>
            <a:ext cx="675504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比较完全变态发育与不完全变态发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0920" y="1628280"/>
            <a:ext cx="7056720" cy="71640"/>
            <a:chOff x="610920" y="1628280"/>
            <a:chExt cx="7056720" cy="71640"/>
          </a:xfrm>
        </p:grpSpPr>
        <p:sp>
          <p:nvSpPr>
            <p:cNvPr id="344" name="Line 27"/>
            <p:cNvSpPr/>
            <p:nvPr/>
          </p:nvSpPr>
          <p:spPr>
            <a:xfrm flipV="1">
              <a:off x="611280" y="1628280"/>
              <a:ext cx="7056360" cy="71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10800000">
              <a:off x="610920" y="1627920"/>
              <a:ext cx="7056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aphicFrame>
        <p:nvGraphicFramePr>
          <p:cNvPr id="346" name=""/>
          <p:cNvGraphicFramePr/>
          <p:nvPr/>
        </p:nvGraphicFramePr>
        <p:xfrm>
          <a:off x="468360" y="1413000"/>
          <a:ext cx="7913520" cy="4782960"/>
        </p:xfrm>
        <a:graphic>
          <a:graphicData uri="http://schemas.openxmlformats.org/drawingml/2006/table">
            <a:tbl>
              <a:tblPr/>
              <a:tblGrid>
                <a:gridCol w="2224080"/>
                <a:gridCol w="2449440"/>
                <a:gridCol w="3240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不同点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</a:tr>
              <a:tr h="1943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完全变态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  <a:tr h="211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不完全变态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7" name="Text Box 152"/>
          <p:cNvSpPr/>
          <p:nvPr/>
        </p:nvSpPr>
        <p:spPr>
          <a:xfrm>
            <a:off x="284328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卵生生殖，变态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8" name="Text Box 153"/>
          <p:cNvSpPr/>
          <p:nvPr/>
        </p:nvSpPr>
        <p:spPr>
          <a:xfrm>
            <a:off x="5292720" y="2349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育经过卵、幼虫、蛹和成虫四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154"/>
          <p:cNvSpPr/>
          <p:nvPr/>
        </p:nvSpPr>
        <p:spPr>
          <a:xfrm>
            <a:off x="2843280" y="44496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卵生生殖，变态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Text Box 155"/>
          <p:cNvSpPr/>
          <p:nvPr/>
        </p:nvSpPr>
        <p:spPr>
          <a:xfrm>
            <a:off x="5148360" y="43228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育经过卵、若虫、成虫三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练一练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哪种昆虫的发育方式与其他三者不同？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螳螂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斑碟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家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中药蝉蜕是蝉在发育中蜕下的（     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皮肤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外骨骼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甲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25892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020000" y="36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有一个成语叫做“金蝉脱壳”，你能说出脱壳后的蝉属于哪一个阶段吗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蛹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幼虫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蝉蜕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702000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125360"/>
            <a:ext cx="6048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读图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出有关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育方式称为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Pict0001"/>
          <p:cNvPicPr/>
          <p:nvPr/>
        </p:nvPicPr>
        <p:blipFill>
          <a:blip r:embed="rId1"/>
          <a:stretch/>
        </p:blipFill>
        <p:spPr>
          <a:xfrm>
            <a:off x="4200480" y="3519360"/>
            <a:ext cx="4943520" cy="307836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684360" y="5805360"/>
            <a:ext cx="2808000" cy="360"/>
            <a:chOff x="684360" y="5805360"/>
            <a:chExt cx="2808000" cy="360"/>
          </a:xfrm>
        </p:grpSpPr>
        <p:sp>
          <p:nvSpPr>
            <p:cNvPr id="362" name="Line 16"/>
            <p:cNvSpPr/>
            <p:nvPr/>
          </p:nvSpPr>
          <p:spPr>
            <a:xfrm>
              <a:off x="684360" y="5805360"/>
              <a:ext cx="2808000" cy="0"/>
            </a:xfrm>
            <a:prstGeom prst="line">
              <a:avLst/>
            </a:prstGeom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684360" y="5805360"/>
              <a:ext cx="28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195640" y="4437000"/>
            <a:ext cx="1584360" cy="360"/>
            <a:chOff x="2195640" y="4437000"/>
            <a:chExt cx="1584360" cy="360"/>
          </a:xfrm>
        </p:grpSpPr>
        <p:sp>
          <p:nvSpPr>
            <p:cNvPr id="365" name="Line 17"/>
            <p:cNvSpPr/>
            <p:nvPr/>
          </p:nvSpPr>
          <p:spPr>
            <a:xfrm>
              <a:off x="2195640" y="4437000"/>
              <a:ext cx="1584360" cy="0"/>
            </a:xfrm>
            <a:prstGeom prst="line">
              <a:avLst/>
            </a:prstGeom>
            <a:ln w="93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2195640" y="443700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67" name="Text Box 18"/>
          <p:cNvSpPr/>
          <p:nvPr/>
        </p:nvSpPr>
        <p:spPr>
          <a:xfrm>
            <a:off x="900000" y="227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受精卵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3708360" y="227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幼虫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118908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蛹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363528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116000" y="530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完全变态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技能训练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68360" y="1341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昆虫的发育过程都要经过几次蜕皮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68360" y="2781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低洼多水的地方蚊子特别多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68360" y="386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大旱之年易闹蝗灾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68360" y="494172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赤眼蜂是如何被利用于防治农林害虫的呢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37840"/>
            <a:ext cx="8686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昆虫的发育过程都要经过几次蜕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539640" y="24210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昆虫的外壳（外骨骼）是坚硬的，不能随其的生长而扩大。当昆虫生长到一定阶段时，昆虫的外骨骼限制了其生长，所以将原有的外骨骼脱去，这就是蜕皮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蝴蝶的变态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fl000001"/>
          <p:cNvPicPr/>
          <p:nvPr/>
        </p:nvPicPr>
        <p:blipFill>
          <a:blip r:embed="rId1"/>
          <a:stretch/>
        </p:blipFill>
        <p:spPr>
          <a:xfrm>
            <a:off x="3276720" y="1560600"/>
            <a:ext cx="2879640" cy="21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Picture 5" descr="虫1"/>
          <p:cNvPicPr/>
          <p:nvPr/>
        </p:nvPicPr>
        <p:blipFill>
          <a:blip r:embed="rId2"/>
          <a:stretch/>
        </p:blipFill>
        <p:spPr>
          <a:xfrm>
            <a:off x="216000" y="2771640"/>
            <a:ext cx="2987640" cy="22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7" name="Picture 6" descr="蛹"/>
          <p:cNvPicPr/>
          <p:nvPr/>
        </p:nvPicPr>
        <p:blipFill>
          <a:blip r:embed="rId3"/>
          <a:stretch/>
        </p:blipFill>
        <p:spPr>
          <a:xfrm>
            <a:off x="3203640" y="4068720"/>
            <a:ext cx="2950920" cy="2239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butterfly"/>
          <p:cNvPicPr/>
          <p:nvPr/>
        </p:nvPicPr>
        <p:blipFill>
          <a:blip r:embed="rId4"/>
          <a:stretch/>
        </p:blipFill>
        <p:spPr>
          <a:xfrm>
            <a:off x="6192720" y="2473200"/>
            <a:ext cx="2772000" cy="217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Text Box 8"/>
          <p:cNvSpPr/>
          <p:nvPr/>
        </p:nvSpPr>
        <p:spPr>
          <a:xfrm>
            <a:off x="421164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受精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900000" y="50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幼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72000" y="62229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蛹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236000" y="47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437840"/>
            <a:ext cx="821844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为什么低洼多水的地方蚊子特别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11280" y="227664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蚊子的一生同水有着密切的关系。蚊子就是在水里出生的，产卵要产在水里，卵变成幼虫后就生活在水里，幼虫变成蛹，漂浮在水面上，破裂后变成蚊子。所以在低洼的水面上，有正在产卵的蚊子，有刚刚孵化出来的蚊子，看起来就很热闹了。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文本框 8198"/>
          <p:cNvSpPr/>
          <p:nvPr/>
        </p:nvSpPr>
        <p:spPr>
          <a:xfrm>
            <a:off x="5016600" y="399960"/>
            <a:ext cx="378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96640"/>
            <a:ext cx="80755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为什么大旱之年易闹蝗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84360" y="1844640"/>
            <a:ext cx="7632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人们很早就注意到严重的蝗灾往往和严重旱灾相伴而生。我国古书上就有“旱极而蝗”的记载。近几年来非洲几次大蝗灾也都与当地的严重干旱相联系。造成这一现象的主要原因是，蝗虫是一种喜欢温暖干燥的昆虫，干旱的环境对它们繁殖、生长发育和存活有许多益处。因为蝗虫将卵产在土壤中，土壤比较坚实，含水量在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10%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20%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时最适合它们产卵。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干旱使蝗虫大量繁殖，迅速生长，酿成灾害的缘由有两方面。一方面，在干旱年份，由于水位下降，土壤变得比较坚实，含水量降低，且地面植被稀疏，蝗虫产卵数大为增加，多的时候可达每平方米土中产卵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4 00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5 00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个卵块，每个卵块中有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5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8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粒卵，即每平方米有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万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4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万粒卵。同时，在干旱年份，河、湖水面缩小，低洼地裸露，也为蝗虫提供了更多适合产卵的场所。另一方面，干旱环境生长的植物含水量较低，蝗虫以此为食，生长的较快，而且生殖力较高。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5280" y="1628280"/>
            <a:ext cx="8748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赤眼蜂是如何被利用于防治农林害虫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468360" y="263700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赤眼蜂将卵产在玉米螟、棉铃虫、松毛虫等害虫的卵内，赤眼蜂的卵将以这些虫卵中的营养物质为营养，进行生长发育，使害虫的卵涌发育，达到杀灭害虫的目的。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F195-CCC5-48A3-A91D-2358250A650B}" type="slidenum">
              <a:rPr b="0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变态发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18446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昆虫从幼虫到成虫的发育过程中，幼虫的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形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生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习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等发生一系列显著变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8198"/>
          <p:cNvSpPr/>
          <p:nvPr/>
        </p:nvSpPr>
        <p:spPr>
          <a:xfrm>
            <a:off x="3309840" y="4111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836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9" name="Picture 6" descr="P9-1"/>
          <p:cNvPicPr/>
          <p:nvPr/>
        </p:nvPicPr>
        <p:blipFill>
          <a:blip r:embed="rId1"/>
          <a:stretch/>
        </p:blipFill>
        <p:spPr>
          <a:xfrm>
            <a:off x="395280" y="1341360"/>
            <a:ext cx="2533680" cy="4032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P9-2"/>
          <p:cNvPicPr/>
          <p:nvPr/>
        </p:nvPicPr>
        <p:blipFill>
          <a:blip r:embed="rId2"/>
          <a:stretch/>
        </p:blipFill>
        <p:spPr>
          <a:xfrm>
            <a:off x="3492360" y="1773360"/>
            <a:ext cx="5400720" cy="22129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324000" y="5734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蚕吐丝作茧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708360" y="4508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蚕的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龄幼虫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雌雄蚕蛾交尾"/>
          <p:cNvPicPr/>
          <p:nvPr/>
        </p:nvPicPr>
        <p:blipFill>
          <a:blip r:embed="rId1"/>
          <a:stretch/>
        </p:blipFill>
        <p:spPr>
          <a:xfrm>
            <a:off x="474840" y="1420920"/>
            <a:ext cx="4025880" cy="3601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正在羽化的蚕蛾"/>
          <p:cNvPicPr/>
          <p:nvPr/>
        </p:nvPicPr>
        <p:blipFill>
          <a:blip r:embed="rId2"/>
          <a:stretch/>
        </p:blipFill>
        <p:spPr>
          <a:xfrm>
            <a:off x="4789440" y="1413000"/>
            <a:ext cx="3886200" cy="36576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68360" y="5516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雌雄蚕蛾交尾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713120" y="5543640"/>
            <a:ext cx="4322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正在羽化的蚕蛾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8920" y="5229360"/>
            <a:ext cx="4537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、正在产卵的蚕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正在产卵的蚕蛾(A2B1C1)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蚕 蛹"/>
          <p:cNvPicPr/>
          <p:nvPr/>
        </p:nvPicPr>
        <p:blipFill>
          <a:blip r:embed="rId2"/>
          <a:stretch/>
        </p:blipFill>
        <p:spPr>
          <a:xfrm>
            <a:off x="4572000" y="137160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003640" y="522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、蚕 蛹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中各个阶段的形态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356000" y="3860280"/>
            <a:ext cx="4464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按家蚕的生殖发育过程进行排序，并填写在括号中（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009"/>
          <p:cNvPicPr/>
          <p:nvPr/>
        </p:nvPicPr>
        <p:blipFill>
          <a:blip r:embed="rId1"/>
          <a:stretch/>
        </p:blipFill>
        <p:spPr>
          <a:xfrm>
            <a:off x="179280" y="1214280"/>
            <a:ext cx="472464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9"/>
          <p:cNvPicPr/>
          <p:nvPr/>
        </p:nvPicPr>
        <p:blipFill>
          <a:blip r:embed="rId2"/>
          <a:stretch/>
        </p:blipFill>
        <p:spPr>
          <a:xfrm>
            <a:off x="4724280" y="1389240"/>
            <a:ext cx="358164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009"/>
          <p:cNvPicPr/>
          <p:nvPr/>
        </p:nvPicPr>
        <p:blipFill>
          <a:blip r:embed="rId3"/>
          <a:stretch/>
        </p:blipFill>
        <p:spPr>
          <a:xfrm>
            <a:off x="0" y="3573360"/>
            <a:ext cx="4267080" cy="1697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5219640" y="551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72580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30216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80544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236000" y="53006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66908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正在产卵的蚕"/>
          <p:cNvPicPr/>
          <p:nvPr/>
        </p:nvPicPr>
        <p:blipFill>
          <a:blip r:embed="rId1"/>
          <a:stretch/>
        </p:blipFill>
        <p:spPr>
          <a:xfrm>
            <a:off x="250920" y="1197000"/>
            <a:ext cx="2195280" cy="16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蚕的125龄幼虫"/>
          <p:cNvPicPr/>
          <p:nvPr/>
        </p:nvPicPr>
        <p:blipFill>
          <a:blip r:embed="rId2"/>
          <a:stretch/>
        </p:blipFill>
        <p:spPr>
          <a:xfrm>
            <a:off x="4500720" y="1341360"/>
            <a:ext cx="3816360" cy="15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蚕吐丝作茧"/>
          <p:cNvPicPr/>
          <p:nvPr/>
        </p:nvPicPr>
        <p:blipFill>
          <a:blip r:embed="rId3"/>
          <a:stretch/>
        </p:blipFill>
        <p:spPr>
          <a:xfrm>
            <a:off x="6804000" y="3645000"/>
            <a:ext cx="1765440" cy="280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蚕蛹"/>
          <p:cNvPicPr/>
          <p:nvPr/>
        </p:nvPicPr>
        <p:blipFill>
          <a:blip r:embed="rId4"/>
          <a:stretch/>
        </p:blipFill>
        <p:spPr>
          <a:xfrm>
            <a:off x="3995640" y="4941720"/>
            <a:ext cx="1943280" cy="141948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8"/>
          <p:cNvSpPr/>
          <p:nvPr/>
        </p:nvSpPr>
        <p:spPr>
          <a:xfrm>
            <a:off x="3203640" y="1700280"/>
            <a:ext cx="936720" cy="576360"/>
          </a:xfrm>
          <a:prstGeom prst="rightArrow">
            <a:avLst>
              <a:gd name="adj1" fmla="val 50000"/>
              <a:gd name="adj2" fmla="val 40631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7596360" y="2924280"/>
            <a:ext cx="6490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6012000" y="5229360"/>
            <a:ext cx="718920" cy="576000"/>
          </a:xfrm>
          <a:prstGeom prst="leftArrow">
            <a:avLst>
              <a:gd name="adj1" fmla="val 50000"/>
              <a:gd name="adj2" fmla="val 31197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08000" y="2852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⑤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正在产卵的蚕蛾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5003640" y="299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②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幼虫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8536320" y="3789360"/>
            <a:ext cx="485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①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蚕吐丝作茧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72000" y="6308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⑥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蚕蛹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5" name="Picture 15" descr="正在羽化的蚕"/>
          <p:cNvPicPr/>
          <p:nvPr/>
        </p:nvPicPr>
        <p:blipFill>
          <a:blip r:embed="rId5"/>
          <a:stretch/>
        </p:blipFill>
        <p:spPr>
          <a:xfrm>
            <a:off x="395280" y="4076640"/>
            <a:ext cx="1687680" cy="19447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16"/>
          <p:cNvSpPr/>
          <p:nvPr/>
        </p:nvSpPr>
        <p:spPr>
          <a:xfrm>
            <a:off x="2700360" y="5445000"/>
            <a:ext cx="934920" cy="576360"/>
          </a:xfrm>
          <a:prstGeom prst="leftArrow">
            <a:avLst>
              <a:gd name="adj1" fmla="val 50000"/>
              <a:gd name="adj2" fmla="val 40553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7" name="AutoShape 17"/>
          <p:cNvSpPr/>
          <p:nvPr/>
        </p:nvSpPr>
        <p:spPr>
          <a:xfrm>
            <a:off x="1332000" y="3213000"/>
            <a:ext cx="6476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8" name="Picture 18" descr="雌雄蚕蛾交尾"/>
          <p:cNvPicPr/>
          <p:nvPr/>
        </p:nvPicPr>
        <p:blipFill>
          <a:blip r:embed="rId6"/>
          <a:stretch/>
        </p:blipFill>
        <p:spPr>
          <a:xfrm>
            <a:off x="2411280" y="2852640"/>
            <a:ext cx="1943280" cy="1737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3"/>
          <p:cNvSpPr/>
          <p:nvPr/>
        </p:nvSpPr>
        <p:spPr>
          <a:xfrm>
            <a:off x="2411280" y="4581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③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雌雄蚕蛾交尾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250920" y="609300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179280" y="609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④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正在羽化的蚕蛾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0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