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967-27C7-4E4E-95CB-AC38D9ED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A6D-6462-4972-9DDE-CED18385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D156C-522F-4950-AE00-4262D79C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2287A-CA28-4F56-8A7B-3D4315FA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F0B94-7F77-4C29-80FB-24470794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16DE8-A389-4571-94C2-F49657BE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69A8E-C30E-4857-9C9C-2A23F0A3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DDEB8-4E01-4AE4-A7B6-66011623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FD1DC-834E-4350-84CF-B561E1C2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22B75-AADC-4203-8E57-C0B1EEAC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29E05-0153-4EA9-8D14-57EBD2CB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D1CCC-7079-41B3-9842-B63D5F45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A78-8CCD-45F8-BEBE-2277D474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D5C24-078F-4A46-B624-678A8EFA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FBD17-ABC6-4BF7-B4C3-9E597F8E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29C23-B6DE-4F86-9081-5FFB64E8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69FB0-036F-4F00-873E-7E80205B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3B0F6-2998-4776-B432-0814AF22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94B84-8D34-4733-BE51-89F41450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24A42-D676-43E0-B053-770CB6E7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C1C53-1457-4261-B6F0-4EE65B5A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C147D-C7C5-47A0-BBF8-0B096E26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1245F-DC10-40A2-A505-9A6F9551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2709-1B80-442E-8C5E-DE3ECC6F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9DE87-B73D-4518-ABA5-0BB89F1D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8D757-1520-4F64-BA74-6E09AA4B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6832D-FAEA-4BF2-9735-55C9C584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2378C-61C4-4214-A77A-C8AE6BBB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567F5-CA0A-4F72-9ED0-0E358A46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074DD-0A4C-483F-A9B9-F6EF9805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7E4CC-E5B5-42F2-9DFE-7505CAD1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5F7FF-8F0E-43A7-A94A-9CE5B490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49145-2D1F-42E4-94BA-D05B5CF6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BD002-9360-4ED2-9A84-E82BA018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9B14-1865-4B36-A7E3-7CB2CB9A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B253C-13F8-412C-AB64-560814A1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346E4-18EA-4862-B51E-83019FFF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8A04D-CE26-4C0E-A259-70B3C7A1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6503F-2C7C-46F7-9A73-14F5AF42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DD3B0-7A35-490B-8569-FB81FCB1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D50EF-34E4-4F7B-9F9A-598E09AE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EC26B-04AB-4800-92E4-0A0F99F5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01CB0-A5BD-4A96-93FF-BA823227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FACA5-E2DC-4766-9C31-0FD018CA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721AE-EE5C-4A4D-B544-FF676135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ACB2-CEF0-4AF5-BC3E-475F3392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EBCF9-2164-427F-89B5-7EB5A984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DECD9-2A21-4CC0-A0FD-ED9A155F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D7927-490A-4EF6-88EC-76F71CEB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BE98F-E537-44EB-91EF-B65DC4F4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3812F-C8F4-47AB-86C6-4DE574CB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08CDC-F86B-4356-8555-97FBD57A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0E664-FD4F-472D-B2A7-62B6F8F8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EFFA9-1F52-4DB0-B7AB-2CF682CD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D9A8E4-9866-43FD-9709-894389F5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5B82C4-8AD4-43C9-A262-265F0A3C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215B-765D-49D0-B3AD-8003CF1B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EEFBC-DC2C-49EB-9592-EB71EA07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CEBC7-5DE2-43DC-BCCB-55482BF0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9F92B7-FD39-4C38-AF6C-823C0C2F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6CF3C-D2B3-43EE-B0BA-F3AD6B1F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5E6E34-CB38-4400-B1BD-CF97A491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6B754-93D5-4016-9475-5FC62F4A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11BFA-040E-4132-A157-EFF74C67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E05A5-60AF-4D2B-9224-3DE6C5F6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5D8D1E-8B32-41F4-AAFA-0E8B77C1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912EFF-F30D-48CF-AEE5-CEA584CB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599F-E72C-4F51-80D7-D8665EC5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017EEB-B658-4B5A-AF62-92759029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DA97D5-C924-4F29-95CC-6BD1B24B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16D696-FF39-45FE-810B-921DA2D1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C7396B-9CAF-412C-A41B-22FC3713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3D162-48F0-412A-BDED-0D0CC548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A9CA9-E774-4286-A363-3657154D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D87811-D1B1-4E5D-AD97-86A32BCC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37336D-748E-4C9D-BCCA-83CFC38A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8987B8-B20C-4CC7-8335-1BD6CEDD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374A30-CE79-4A0D-879C-78446DDE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D2B3-9FFE-481D-9D59-D1CBDED9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3C7B3F-E44D-4991-B068-F4CC2175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468FBD-06EF-4ED0-B457-6E0D4909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FCC55D-715C-424D-81E0-66692E3C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3AB9FE-8279-4768-9B85-06BE22C7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8EA5E0-3934-4361-BFA4-BF53A7C3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95C909-0FEF-42DE-9A27-639C6438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B6739-B8B0-4646-B807-2532B580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EF2A8-DC1F-4FA3-902D-C114559D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2ADFEE-AE86-4F35-81A7-F4CF6080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1C6CB1-9372-4732-B627-BFDF8E2D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68B1-040A-4E87-801F-9B6E6D17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54D614-B159-4497-A97A-364C2DE0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CCF0C-70F9-430F-9159-B5BDE051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5D762C-74D6-485F-A3ED-9405769E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D36428-EA5A-49E2-9470-C5672136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067DE6-38E4-46EF-A0D9-D0EE38F0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A9201B-B260-419C-BD13-545FC386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84CAA4-5CF5-4336-9572-8863B6B6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A649C4-1167-4F5D-8555-A7FB5078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1E7984-A5F5-4D65-BA53-C8A68A43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540779-B71E-4BE4-84EA-D08E1A95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D3C9-078A-4218-BE8D-9B7810B7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40B782-0ADA-4F40-B7CA-52B268C9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A3F042-95F7-4FCA-AE34-90AAEA3D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A2D0B2-0B52-4A83-B4F0-C7A1F54E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28705C-1FF1-4DD6-9296-047F26EE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2C6427-2B02-409B-BE10-9B925637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7981D1-FCDA-4B98-B652-51E7B2F5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25F88F-1FA9-4300-94E2-D9F08155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3F6539-78DA-48FB-872D-00D94067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F59652-139C-4045-8DEA-F54075DB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43309-0252-474F-B549-21B4B1E2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0EA-89E0-40CC-A4CA-F539C4A0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184F-3B1B-4460-9386-C0559634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ECEC27-FBD3-44EA-84D9-6B459BCE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46BBFC-E62D-4E9F-92E1-1579B6C6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A829D5-8B9A-4FA1-A44A-ADEFD0FC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07AED4-C77E-4C71-895F-5D197103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563F19-7D02-476A-8597-DC159AAF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74B2C1-F93F-4BD6-80F2-FB09AE27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E03457-CA57-4B3E-95DD-ABC6D3D8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5CDE75-70B9-4E8D-B5C6-AB95E027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AFF3D4-4E2D-45A3-B901-90D87C86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E5A5BA-5F6E-485A-B4DB-326F0344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0D22-81B4-4CE3-BD95-382D57F3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A2B063-5773-4FD2-B74F-B9271C61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BFEE4B-F114-4400-9EEC-2363AE8B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CA11F8-C621-4AD5-9C19-CCE02B83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9B8440-32D4-4835-906E-DC87B9C0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451663-CF41-450C-B618-D7234956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9C179E-6E9B-4CBD-B922-48C95BED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042971-5387-48E3-AB2B-2B61CA43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EFBBB7-C0C6-47C4-B797-87C02915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CF2676-B0F0-43E2-B289-11E67377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FD0096-62A4-4AD1-8A66-9F2EA344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3C12-1905-47DC-A691-6AD912FF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7E2498-AE3F-4CFB-8F3B-57FC10DE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7FF89B-D8C0-4562-B4B2-CE7A8F18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37042D-7EA4-418E-9596-54C3FA51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3E5D7D-DD95-4A10-9E65-00B40975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0735E6-89DE-4528-A88D-4CE05F8F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D63E0B-E6E2-41A0-B40A-979D16F5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68A882-C529-4096-A4E6-2F37A899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F61505-01F0-4B54-900E-ECE21BA6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8E3D4C-F9FA-4F19-9DB5-9DDE4BA6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CAC742-A7CE-4BA4-90F5-7570F097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C674-A3BE-4875-B631-E45339B4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3F0207-F35D-492A-99AF-BEAFEF15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954D02-87CD-4EE1-A64F-270674C6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91BAC9-C7AD-4D0D-9297-E267E367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F42339-C504-43E9-8411-FF7941C0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EC8ADD-006A-43CD-920D-666A726B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1915E3-D03E-4C55-B3E8-786DA530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8F3C04-60C8-42AA-888E-D36CD2B4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3EA144-CDC0-478E-A84C-8356A9EF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520F6F-4151-4BD4-B804-57FDAF90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8E2EA7-16B8-4CB0-B3C4-17BFC1D3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A7AF-5E3D-49A1-A327-E02DDE3A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18B3D7-ED3B-4C1E-A8AC-5FD274D6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4CCF40-97D6-4DDA-BD53-AF59BA65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5E0DC9-4000-4FAB-84E0-B7377322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EAB560-B864-40DE-9392-7C96A335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C69B4C-16E0-41B5-BFF0-529A0351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5073A1-9481-4F0F-9697-7F7916D0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78BCDD-05A2-4BDB-95C9-5B0E263F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13E8F3-0956-4D87-BD0F-BF567E28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D7FF2E-D0B2-4741-8BEE-E7142789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F09ECF-A6D7-436D-951B-FCBC535D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94BD5-F046-4D4D-A02B-A745174F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A92851-E241-4942-B4E3-5788ABD3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CBB0BF-1184-4D72-9D08-438D5B1D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3A24E7-F7E9-4AFB-B943-CDA454BF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AFFFA3-93DE-4DCD-A452-7399AE90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F924DE-D817-4136-8C36-1D25A2C9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D52099-EFC8-45BE-82D4-DEDEC027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1DEED9-C3AF-4327-AFA9-6D53BFDF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AC4883-7BFA-40DA-8FE2-FF8E0857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EBB6AC-71EC-4431-A3FA-C6D2DE56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E293BE-F1D7-4914-AAB5-1BD1B472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87D01-B2EB-475B-AE5A-FD2D13EE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02EAC2-37A8-40DB-A8CC-99358D94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C3F503-7B5A-4AE0-A27D-923E3B26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21F2CF-B02B-4BA6-9423-0AD061C0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9D9D44-1C63-4E2A-83FA-47BCDFCB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C53AB7-8145-4706-A2C7-83080F82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D830B9-0901-499B-88A5-A82E482D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B9FCE4-BE41-4A60-8600-3088E854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6AFE4E-2F7B-4DA6-8FA3-D75DF4AC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76F38D-83BF-4E74-B408-C13BCC8D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FDE433-DFDD-42BF-A3F3-F3EDC01E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90670-8923-4233-83EF-0DD8D9EB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70F9BC-FC7C-4C4E-B519-7897AD36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5727F3-6841-40DF-83DD-184404E2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8A6E55-4A03-4F1A-9E17-C0E2194D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43FC86-A75A-4C04-AF0B-C0E5B364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469243-78E2-4B48-8CC1-A688B194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E0C7B2-E727-4D6D-8AB8-0EA8B0A4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A2471C-AEF6-4410-946C-C2EFFD7E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C5FE6B-6138-4CAD-93F2-94B0A3F5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FB772F-683C-4F0C-B2DF-658FAAD2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3C972D-6BF9-4F9E-948A-D107744F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49283-56C8-4AD5-BFD5-3D680603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98C5E6-7FD8-4CA7-A841-40A21361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E3E3BF-4A1D-46EC-BBCF-E8BFCEEF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933960-941D-4921-B152-3F1A5586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98108D-22CC-4EBE-A493-42209E50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B0E3F6-5485-4F2D-9152-82410B4A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33EB24-FBDE-4DB6-851F-65B53F08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BD94B2-1C70-404C-A533-4CD67D30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89FB29-F99D-4A6F-BAB1-30B4FF63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9FCF2B-F2B1-4D15-8173-17C455B4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DB2A65-91BC-47E7-A0C2-8A1D9BA0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51E9D-8A49-4B2E-9C46-3B131405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96BD09-0F6A-4D69-BDF7-9EACC62D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85D8F6-59B2-4D2E-A399-309F75B9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BB9CA6-2479-4A6E-B65C-29E20F1C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78A17E-987A-414E-A949-035A4DCE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CAE5F0-87CC-433B-A2A9-431C51F5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8C8D51-C551-4ECE-B10C-50205C8B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0C366A-621C-491C-B1E7-8213B05B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2EDF5B-5BDD-4D26-943A-3B6B0876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EA594D-E445-4840-A4B1-643FC2A2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1D3353-3B92-4AEC-B33F-F929E02C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478-ACCF-48EE-B0F4-99AF51CD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9E790-FFB5-4A89-851C-A256C7FD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47BA38-E221-49B5-BE75-698C37C5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E92CD-79E3-49B0-8355-C4257A6F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A6649-261E-4227-A8A6-7B01E932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D3966-B381-48C3-AB59-4E98B489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B591-3463-4890-96BB-F4D94196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8D222-1D2D-4E98-99E5-8667B127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C6B89-9F17-46FA-8145-5AD71082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CF017-9627-435C-95C7-B558533A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5B927-F1AC-43FD-AC9A-4356CC73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4FF96-86DE-4D0F-BED1-AFF8DE60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0ED-E4F0-4FA3-BC32-01CC7B62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0E42F-CE75-4A6A-B11F-8C01974F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A8CC9-1F86-4D45-A32B-614BAFDE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87E87-2D24-4D61-8351-FEDCED1D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5142A-CC68-4B44-8623-B490E141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DDF50-204D-4830-A187-0FBD0A31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E2E15-D415-4BBC-A390-3E8C63F8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8BF42-6340-4972-9BF7-1A3426BA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31882-BE33-4FE0-82C8-4D6DCB2A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D60AE-ABCB-4872-9D42-EE828299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E0D82-05B3-4D56-9A55-130E56EE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418A-7C1D-4C29-90D3-5E9D344E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311AE-2ECA-4CF0-B200-169B3F89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7550A-4536-42F9-9D64-5B0E3197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05E3C-4E25-43A5-844A-A88751F6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71C22-600F-4565-8AB8-AA308685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86A3C-8BA2-4CE6-BC53-7EC9DA3F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F0AB3-E2B0-424B-8ED1-AE63FC05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9E1A8-8F9B-41F2-B224-DC610907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DD8CF-30DB-43B5-8CBA-601FC43F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89599-8FFA-4D1F-A243-8CB72E91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ADAFB-18E3-4D11-BD9E-14C5A3A9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C8D2-05A3-4BF9-B329-2DE6FC3F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179E8-AF9C-4871-9DE3-47C7BB54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251A8-05B1-44FA-A17F-E503EF43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270ED-0BED-4D84-BAE8-A820AB68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59ACF-E5FF-4521-A673-73526C69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12FB4-F8B8-4E5D-9C3A-F835059B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8D737-ED5C-4515-AB2B-0CA47EF6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99968-2D5B-4602-A117-5591FDA2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E8406-4547-4F9D-91F9-EF334A12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3D888-E058-46D8-8CD9-BE961EA0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FE506-AAA1-4067-B030-FC827D3A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E92-557D-45E0-891A-26377E59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99EA9-C52E-4E49-A0BF-222BDDD6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CC4DF-C602-47A3-8775-3364E88D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C9F99-667C-42D5-B49C-BD77BD56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6164D-5B57-41B4-B03A-259918DD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58BED-D053-4D51-90C5-23175C3C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53638-9CCD-4BCE-A670-F6AC4EA1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22885-6026-47EC-A634-1F293DCE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D94F1-BD8F-4BC8-BB50-45E5A6C6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48A0A-AC12-4F6B-807B-DBEAC09A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EF210-429B-46B5-8C57-E0CA8059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234-9F30-4420-9313-31CF45C6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94ECA-A506-4D30-942E-03975E61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3A0F6-6007-4410-ABA2-4A592547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3DB6C-7428-4107-887F-CD3AB1FB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D6D21-36BA-4708-BE96-A3D035D0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ED79D-E39B-4628-AA6E-51EAC1C8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3123E-DF23-4873-B0C5-86DBD6B8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7E618-023C-4E61-A887-52227E7D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4CC39-2172-4A96-8353-29AE98C7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F45B0-1AE6-4C7F-B254-714F17D7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7C270-C399-488C-8E43-EA8126AB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AED-BD83-4B22-B452-02C69486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2844F-AEAD-47C7-B28B-5C3D0295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A224F-06AF-4044-A2D4-989B8FD9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D6254-C303-4688-99CD-1109C5C5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06F8C-FDFE-4DAA-84D0-EED496A9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912B9-5045-400C-911D-51C10263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73666-2965-4A9E-B427-6302B140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833BA-D0ED-4A43-A115-FF055F73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AED85-6696-4553-9258-7E6C2C9D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68CB9-E9BF-4868-B99E-9D1FF312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1097D-1672-4FD5-8984-2AA0CAF2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1E4D-D137-4D5D-822F-7B1CB6C5C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7A44-BB79-45DD-8279-E2E021AB4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0C2D-705F-46D3-A4D9-2AFC80608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52A2-ACBD-4D66-ADA7-0BF44B63E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75F4-BB1A-4A68-BFB5-EB083A8BA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A120-E9AB-4E54-9858-93EEAEDE4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3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3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0" y="4363920"/>
              <a:ext cx="9140760" cy="360"/>
              <a:chOff x="0" y="4363920"/>
              <a:chExt cx="9140760" cy="360"/>
            </a:xfrm>
          </p:grpSpPr>
          <p:sp>
            <p:nvSpPr>
              <p:cNvPr id="658" name="Line 28"/>
              <p:cNvSpPr/>
              <p:nvPr/>
            </p:nvSpPr>
            <p:spPr>
              <a:xfrm>
                <a:off x="0" y="43639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 txBox="1"/>
              <p:nvPr/>
            </p:nvSpPr>
            <p:spPr>
              <a:xfrm>
                <a:off x="0" y="436392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3740040"/>
              <a:ext cx="9140760" cy="360"/>
              <a:chOff x="0" y="3740040"/>
              <a:chExt cx="9140760" cy="360"/>
            </a:xfrm>
          </p:grpSpPr>
          <p:sp>
            <p:nvSpPr>
              <p:cNvPr id="661" name="Line 29"/>
              <p:cNvSpPr/>
              <p:nvPr/>
            </p:nvSpPr>
            <p:spPr>
              <a:xfrm>
                <a:off x="0" y="37400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 txBox="1"/>
              <p:nvPr/>
            </p:nvSpPr>
            <p:spPr>
              <a:xfrm>
                <a:off x="0" y="374004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4987800"/>
              <a:ext cx="9140760" cy="360"/>
              <a:chOff x="0" y="4987800"/>
              <a:chExt cx="9140760" cy="360"/>
            </a:xfrm>
          </p:grpSpPr>
          <p:sp>
            <p:nvSpPr>
              <p:cNvPr id="664" name="Line 30"/>
              <p:cNvSpPr/>
              <p:nvPr/>
            </p:nvSpPr>
            <p:spPr>
              <a:xfrm>
                <a:off x="0" y="498780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 txBox="1"/>
              <p:nvPr/>
            </p:nvSpPr>
            <p:spPr>
              <a:xfrm>
                <a:off x="0" y="498780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31"/>
            <p:cNvGrpSpPr/>
            <p:nvPr/>
          </p:nvGrpSpPr>
          <p:grpSpPr>
            <a:xfrm>
              <a:off x="0" y="622440"/>
              <a:ext cx="9140760" cy="2494080"/>
              <a:chOff x="0" y="622440"/>
              <a:chExt cx="9140760" cy="249408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0" y="1244520"/>
                <a:ext cx="9140760" cy="360"/>
                <a:chOff x="0" y="1244520"/>
                <a:chExt cx="9140760" cy="360"/>
              </a:xfrm>
            </p:grpSpPr>
            <p:sp>
              <p:nvSpPr>
                <p:cNvPr id="668" name="Line 32"/>
                <p:cNvSpPr/>
                <p:nvPr/>
              </p:nvSpPr>
              <p:spPr>
                <a:xfrm>
                  <a:off x="0" y="124452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 txBox="1"/>
                <p:nvPr/>
              </p:nvSpPr>
              <p:spPr>
                <a:xfrm>
                  <a:off x="0" y="124452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0" y="3116160"/>
                <a:ext cx="9140760" cy="360"/>
                <a:chOff x="0" y="3116160"/>
                <a:chExt cx="9140760" cy="360"/>
              </a:xfrm>
            </p:grpSpPr>
            <p:sp>
              <p:nvSpPr>
                <p:cNvPr id="671" name="Line 33"/>
                <p:cNvSpPr/>
                <p:nvPr/>
              </p:nvSpPr>
              <p:spPr>
                <a:xfrm>
                  <a:off x="0" y="311616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 txBox="1"/>
                <p:nvPr/>
              </p:nvSpPr>
              <p:spPr>
                <a:xfrm>
                  <a:off x="0" y="311616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0" y="2492280"/>
                <a:ext cx="9140760" cy="360"/>
                <a:chOff x="0" y="2492280"/>
                <a:chExt cx="9140760" cy="360"/>
              </a:xfrm>
            </p:grpSpPr>
            <p:sp>
              <p:nvSpPr>
                <p:cNvPr id="674" name="Line 34"/>
                <p:cNvSpPr/>
                <p:nvPr/>
              </p:nvSpPr>
              <p:spPr>
                <a:xfrm>
                  <a:off x="0" y="249228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 txBox="1"/>
                <p:nvPr/>
              </p:nvSpPr>
              <p:spPr>
                <a:xfrm>
                  <a:off x="0" y="249228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0" y="1868400"/>
                <a:ext cx="9140760" cy="360"/>
                <a:chOff x="0" y="1868400"/>
                <a:chExt cx="9140760" cy="360"/>
              </a:xfrm>
            </p:grpSpPr>
            <p:sp>
              <p:nvSpPr>
                <p:cNvPr id="677" name="Line 35"/>
                <p:cNvSpPr/>
                <p:nvPr/>
              </p:nvSpPr>
              <p:spPr>
                <a:xfrm>
                  <a:off x="0" y="186840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 txBox="1"/>
                <p:nvPr/>
              </p:nvSpPr>
              <p:spPr>
                <a:xfrm>
                  <a:off x="0" y="186840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0" y="622440"/>
                <a:ext cx="9140760" cy="360"/>
                <a:chOff x="0" y="622440"/>
                <a:chExt cx="9140760" cy="360"/>
              </a:xfrm>
            </p:grpSpPr>
            <p:sp>
              <p:nvSpPr>
                <p:cNvPr id="680" name="Line 36"/>
                <p:cNvSpPr/>
                <p:nvPr/>
              </p:nvSpPr>
              <p:spPr>
                <a:xfrm>
                  <a:off x="0" y="62244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 txBox="1"/>
                <p:nvPr/>
              </p:nvSpPr>
              <p:spPr>
                <a:xfrm>
                  <a:off x="0" y="62244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2" name=""/>
            <p:cNvGrpSpPr/>
            <p:nvPr/>
          </p:nvGrpSpPr>
          <p:grpSpPr>
            <a:xfrm>
              <a:off x="0" y="6235560"/>
              <a:ext cx="9140760" cy="360"/>
              <a:chOff x="0" y="6235560"/>
              <a:chExt cx="9140760" cy="360"/>
            </a:xfrm>
          </p:grpSpPr>
          <p:sp>
            <p:nvSpPr>
              <p:cNvPr id="683" name="Line 37"/>
              <p:cNvSpPr/>
              <p:nvPr/>
            </p:nvSpPr>
            <p:spPr>
              <a:xfrm>
                <a:off x="0" y="623556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 txBox="1"/>
              <p:nvPr/>
            </p:nvSpPr>
            <p:spPr>
              <a:xfrm>
                <a:off x="0" y="623556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0" y="5611680"/>
              <a:ext cx="9140760" cy="360"/>
              <a:chOff x="0" y="5611680"/>
              <a:chExt cx="9140760" cy="360"/>
            </a:xfrm>
          </p:grpSpPr>
          <p:sp>
            <p:nvSpPr>
              <p:cNvPr id="686" name="Line 38"/>
              <p:cNvSpPr/>
              <p:nvPr/>
            </p:nvSpPr>
            <p:spPr>
              <a:xfrm>
                <a:off x="0" y="561168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 txBox="1"/>
              <p:nvPr/>
            </p:nvSpPr>
            <p:spPr>
              <a:xfrm>
                <a:off x="0" y="561168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0AC0-C0B4-41DF-AF88-F9C4B5626BE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DBD9-CA7A-4BC0-BB8A-CBA0275E6DC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1281-19C8-4E48-B7E2-8E187CE9D82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5FAE-B815-499B-8A74-D298D3F4042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7214-451C-4F59-8431-13F545C1494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440" y="4363920"/>
              <a:ext cx="9141120" cy="360"/>
              <a:chOff x="1440" y="4363920"/>
              <a:chExt cx="9141120" cy="360"/>
            </a:xfrm>
          </p:grpSpPr>
          <p:sp>
            <p:nvSpPr>
              <p:cNvPr id="68" name="Line 28"/>
              <p:cNvSpPr/>
              <p:nvPr/>
            </p:nvSpPr>
            <p:spPr>
              <a:xfrm>
                <a:off x="1440" y="43639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 txBox="1"/>
              <p:nvPr/>
            </p:nvSpPr>
            <p:spPr>
              <a:xfrm>
                <a:off x="1440" y="436392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440" y="3740040"/>
              <a:ext cx="9141120" cy="360"/>
              <a:chOff x="1440" y="3740040"/>
              <a:chExt cx="9141120" cy="360"/>
            </a:xfrm>
          </p:grpSpPr>
          <p:sp>
            <p:nvSpPr>
              <p:cNvPr id="71" name="Line 29"/>
              <p:cNvSpPr/>
              <p:nvPr/>
            </p:nvSpPr>
            <p:spPr>
              <a:xfrm>
                <a:off x="1440" y="37400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>
                <a:off x="1440" y="374004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440" y="4987800"/>
              <a:ext cx="9141120" cy="360"/>
              <a:chOff x="1440" y="4987800"/>
              <a:chExt cx="9141120" cy="360"/>
            </a:xfrm>
          </p:grpSpPr>
          <p:sp>
            <p:nvSpPr>
              <p:cNvPr id="74" name="Line 30"/>
              <p:cNvSpPr/>
              <p:nvPr/>
            </p:nvSpPr>
            <p:spPr>
              <a:xfrm>
                <a:off x="1440" y="498780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>
                <a:off x="1440" y="498780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31"/>
            <p:cNvGrpSpPr/>
            <p:nvPr/>
          </p:nvGrpSpPr>
          <p:grpSpPr>
            <a:xfrm>
              <a:off x="1440" y="622440"/>
              <a:ext cx="9141120" cy="2494080"/>
              <a:chOff x="1440" y="622440"/>
              <a:chExt cx="9141120" cy="249408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1440" y="1244520"/>
                <a:ext cx="9141120" cy="360"/>
                <a:chOff x="1440" y="1244520"/>
                <a:chExt cx="9141120" cy="360"/>
              </a:xfrm>
            </p:grpSpPr>
            <p:sp>
              <p:nvSpPr>
                <p:cNvPr id="78" name="Line 32"/>
                <p:cNvSpPr/>
                <p:nvPr/>
              </p:nvSpPr>
              <p:spPr>
                <a:xfrm>
                  <a:off x="1440" y="124452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 txBox="1"/>
                <p:nvPr/>
              </p:nvSpPr>
              <p:spPr>
                <a:xfrm>
                  <a:off x="1440" y="124452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440" y="3116160"/>
                <a:ext cx="9141120" cy="360"/>
                <a:chOff x="1440" y="3116160"/>
                <a:chExt cx="9141120" cy="360"/>
              </a:xfrm>
            </p:grpSpPr>
            <p:sp>
              <p:nvSpPr>
                <p:cNvPr id="81" name="Line 33"/>
                <p:cNvSpPr/>
                <p:nvPr/>
              </p:nvSpPr>
              <p:spPr>
                <a:xfrm>
                  <a:off x="1440" y="311616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 txBox="1"/>
                <p:nvPr/>
              </p:nvSpPr>
              <p:spPr>
                <a:xfrm>
                  <a:off x="1440" y="311616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1440" y="2492280"/>
                <a:ext cx="9141120" cy="360"/>
                <a:chOff x="1440" y="2492280"/>
                <a:chExt cx="9141120" cy="360"/>
              </a:xfrm>
            </p:grpSpPr>
            <p:sp>
              <p:nvSpPr>
                <p:cNvPr id="84" name="Line 34"/>
                <p:cNvSpPr/>
                <p:nvPr/>
              </p:nvSpPr>
              <p:spPr>
                <a:xfrm>
                  <a:off x="1440" y="249228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 txBox="1"/>
                <p:nvPr/>
              </p:nvSpPr>
              <p:spPr>
                <a:xfrm>
                  <a:off x="1440" y="249228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1440" y="1868400"/>
                <a:ext cx="9141120" cy="360"/>
                <a:chOff x="1440" y="1868400"/>
                <a:chExt cx="9141120" cy="360"/>
              </a:xfrm>
            </p:grpSpPr>
            <p:sp>
              <p:nvSpPr>
                <p:cNvPr id="87" name="Line 35"/>
                <p:cNvSpPr/>
                <p:nvPr/>
              </p:nvSpPr>
              <p:spPr>
                <a:xfrm>
                  <a:off x="1440" y="186840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 txBox="1"/>
                <p:nvPr/>
              </p:nvSpPr>
              <p:spPr>
                <a:xfrm>
                  <a:off x="1440" y="186840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440" y="622440"/>
                <a:ext cx="9141120" cy="360"/>
                <a:chOff x="1440" y="622440"/>
                <a:chExt cx="9141120" cy="360"/>
              </a:xfrm>
            </p:grpSpPr>
            <p:sp>
              <p:nvSpPr>
                <p:cNvPr id="90" name="Line 36"/>
                <p:cNvSpPr/>
                <p:nvPr/>
              </p:nvSpPr>
              <p:spPr>
                <a:xfrm>
                  <a:off x="1440" y="62244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 txBox="1"/>
                <p:nvPr/>
              </p:nvSpPr>
              <p:spPr>
                <a:xfrm>
                  <a:off x="1440" y="62244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"/>
            <p:cNvGrpSpPr/>
            <p:nvPr/>
          </p:nvGrpSpPr>
          <p:grpSpPr>
            <a:xfrm>
              <a:off x="1440" y="6235560"/>
              <a:ext cx="9141120" cy="360"/>
              <a:chOff x="1440" y="6235560"/>
              <a:chExt cx="9141120" cy="360"/>
            </a:xfrm>
          </p:grpSpPr>
          <p:sp>
            <p:nvSpPr>
              <p:cNvPr id="93" name="Line 37"/>
              <p:cNvSpPr/>
              <p:nvPr/>
            </p:nvSpPr>
            <p:spPr>
              <a:xfrm>
                <a:off x="1440" y="623556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1440" y="623556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1440" y="5611680"/>
              <a:ext cx="9141120" cy="360"/>
              <a:chOff x="1440" y="5611680"/>
              <a:chExt cx="9141120" cy="360"/>
            </a:xfrm>
          </p:grpSpPr>
          <p:sp>
            <p:nvSpPr>
              <p:cNvPr id="96" name="Line 38"/>
              <p:cNvSpPr/>
              <p:nvPr/>
            </p:nvSpPr>
            <p:spPr>
              <a:xfrm>
                <a:off x="1440" y="561168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>
                <a:off x="1440" y="561168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A7EA-00E0-47C5-9D21-1E539E791DF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9C16-1353-42D9-945B-D23C33E8D11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A7CE-6421-4795-9D47-C6C6A3C8FFE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8E49-993E-4110-A80A-B92A5A39E2E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7CA2-5535-4E17-8BB8-FA16FD07FB0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38B7-94C5-4E67-932E-B1677365884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20AD-F518-4EF4-9FA5-297ED140220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830E-DB60-4E42-BB87-F362001222E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70F8-D5D4-4580-BFE8-D159CE561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797F-C736-450F-A358-998C2A627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42A4-AA25-4413-A744-AB7CEAE42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D98E-325A-4A5B-BC35-D18F7CF1A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31DC-259A-4AE4-994E-B92A497FB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0133-99FC-4091-8889-30F75B4CF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Picture 4" descr="pic_12069"/>
          <p:cNvPicPr/>
          <p:nvPr/>
        </p:nvPicPr>
        <p:blipFill>
          <a:blip r:embed="rId1"/>
          <a:srcRect l="6458" t="0" r="9167" b="4995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1140" name="Text Box 7"/>
          <p:cNvSpPr/>
          <p:nvPr/>
        </p:nvSpPr>
        <p:spPr>
          <a:xfrm>
            <a:off x="7399800" y="3933720"/>
            <a:ext cx="127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 嗣 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1" name="口技.mp3" descr=""/>
          <p:cNvPicPr/>
          <p:nvPr/>
        </p:nvPicPr>
        <p:blipFill>
          <a:blip r:embed="rId2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114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文本框 1" descr=""/>
          <p:cNvPicPr/>
          <p:nvPr/>
        </p:nvPicPr>
        <p:blipFill>
          <a:blip r:embed="rId3"/>
          <a:stretch/>
        </p:blipFill>
        <p:spPr>
          <a:xfrm>
            <a:off x="755640" y="1123920"/>
            <a:ext cx="71010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9239" fill="hold"/>
                                        <p:tgtEl>
                                          <p:spTgt spid="1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2"/>
          <p:cNvSpPr/>
          <p:nvPr/>
        </p:nvSpPr>
        <p:spPr>
          <a:xfrm>
            <a:off x="1042920" y="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结合课后练习一，填充下列表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7" name=""/>
          <p:cNvGraphicFramePr/>
          <p:nvPr/>
        </p:nvGraphicFramePr>
        <p:xfrm>
          <a:off x="0" y="549360"/>
          <a:ext cx="8964720" cy="6003720"/>
        </p:xfrm>
        <a:graphic>
          <a:graphicData uri="http://schemas.openxmlformats.org/drawingml/2006/table">
            <a:tbl>
              <a:tblPr/>
              <a:tblGrid>
                <a:gridCol w="900000"/>
                <a:gridCol w="2951280"/>
                <a:gridCol w="1657440"/>
                <a:gridCol w="1471680"/>
                <a:gridCol w="1984320"/>
              </a:tblGrid>
              <a:tr h="653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  <a:ea typeface="宋体"/>
                        </a:rPr>
                        <a:t>场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  <a:ea typeface="宋体"/>
                        </a:rPr>
                        <a:t>声音种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  <a:ea typeface="宋体"/>
                        </a:rPr>
                        <a:t>声音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cc33"/>
                          </a:solidFill>
                          <a:latin typeface="Verdana"/>
                          <a:ea typeface="宋体"/>
                        </a:rPr>
                        <a:t>作者评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  <a:ea typeface="宋体"/>
                        </a:rPr>
                        <a:t>听众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2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8" name="Text Box 35"/>
          <p:cNvSpPr/>
          <p:nvPr/>
        </p:nvSpPr>
        <p:spPr>
          <a:xfrm>
            <a:off x="-243000" y="119700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  <a:ea typeface="宋体"/>
              </a:rPr>
              <a:t>梦中惊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36"/>
          <p:cNvSpPr/>
          <p:nvPr/>
        </p:nvSpPr>
        <p:spPr>
          <a:xfrm>
            <a:off x="-243000" y="2924280"/>
            <a:ext cx="1033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Garamond"/>
                <a:ea typeface="宋体"/>
              </a:rPr>
              <a:t>渐入梦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37"/>
          <p:cNvSpPr/>
          <p:nvPr/>
        </p:nvSpPr>
        <p:spPr>
          <a:xfrm>
            <a:off x="-171720" y="4797360"/>
            <a:ext cx="1033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  <a:ea typeface="宋体"/>
              </a:rPr>
              <a:t>火起群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38"/>
          <p:cNvSpPr/>
          <p:nvPr/>
        </p:nvSpPr>
        <p:spPr>
          <a:xfrm>
            <a:off x="971640" y="1125360"/>
            <a:ext cx="28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犬吠      欠伸     呓语    大啼      妇呜  絮絮  夫叱    （</a:t>
            </a:r>
            <a:r>
              <a:rPr b="1" lang="zh-CN" sz="2800" spc="-1" strike="noStrike">
                <a:solidFill>
                  <a:srgbClr val="cc0066"/>
                </a:solidFill>
                <a:latin typeface="Garamond"/>
                <a:ea typeface="宋体"/>
              </a:rPr>
              <a:t>一时齐发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39"/>
          <p:cNvSpPr/>
          <p:nvPr/>
        </p:nvSpPr>
        <p:spPr>
          <a:xfrm>
            <a:off x="971640" y="2924280"/>
            <a:ext cx="28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齁声  妇拍儿渐止 鼠作作索索       盆器倾侧  </a:t>
            </a:r>
            <a:r>
              <a:rPr b="1" lang="zh-CN" sz="2800" spc="-1" strike="noStrike">
                <a:solidFill>
                  <a:srgbClr val="ffffcc"/>
                </a:solidFill>
                <a:latin typeface="Garamond"/>
                <a:ea typeface="宋体"/>
              </a:rPr>
              <a:t>咳嗽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 （</a:t>
            </a:r>
            <a:r>
              <a:rPr b="1" lang="zh-CN" sz="2800" spc="-1" strike="noStrike">
                <a:solidFill>
                  <a:srgbClr val="33cc33"/>
                </a:solidFill>
                <a:latin typeface="Garamond"/>
                <a:ea typeface="宋体"/>
              </a:rPr>
              <a:t>以响衬静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40"/>
          <p:cNvSpPr/>
          <p:nvPr/>
        </p:nvSpPr>
        <p:spPr>
          <a:xfrm>
            <a:off x="826920" y="465300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大呼  齐哭  百千大呼  齐哭  犬吠  力拉崩倒  火爆声  风声  求救声  抢夺声            泼水声     （</a:t>
            </a:r>
            <a:r>
              <a:rPr b="1" lang="zh-CN" sz="2400" spc="-1" strike="noStrike">
                <a:solidFill>
                  <a:srgbClr val="cc0066"/>
                </a:solidFill>
                <a:latin typeface="Garamond"/>
                <a:ea typeface="宋体"/>
              </a:rPr>
              <a:t>无所不有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41"/>
          <p:cNvSpPr/>
          <p:nvPr/>
        </p:nvSpPr>
        <p:spPr>
          <a:xfrm>
            <a:off x="3851280" y="126828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由远及近由外到内由小到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42"/>
          <p:cNvSpPr/>
          <p:nvPr/>
        </p:nvSpPr>
        <p:spPr>
          <a:xfrm>
            <a:off x="5867280" y="1484280"/>
            <a:ext cx="10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众妙毕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43"/>
          <p:cNvSpPr/>
          <p:nvPr/>
        </p:nvSpPr>
        <p:spPr>
          <a:xfrm>
            <a:off x="7020000" y="1268280"/>
            <a:ext cx="18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伸颈  侧目  微笑  默叹  以为妙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44"/>
          <p:cNvSpPr/>
          <p:nvPr/>
        </p:nvSpPr>
        <p:spPr>
          <a:xfrm>
            <a:off x="3851280" y="3429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逐步变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45"/>
          <p:cNvSpPr/>
          <p:nvPr/>
        </p:nvSpPr>
        <p:spPr>
          <a:xfrm>
            <a:off x="3851280" y="4797360"/>
            <a:ext cx="16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突然变大  由少而多  由少而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46"/>
          <p:cNvSpPr/>
          <p:nvPr/>
        </p:nvSpPr>
        <p:spPr>
          <a:xfrm>
            <a:off x="7164360" y="321300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意少舒  稍稍正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47"/>
          <p:cNvSpPr/>
          <p:nvPr/>
        </p:nvSpPr>
        <p:spPr>
          <a:xfrm>
            <a:off x="5508720" y="465300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不能指其一端  不能名其一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48"/>
          <p:cNvSpPr/>
          <p:nvPr/>
        </p:nvSpPr>
        <p:spPr>
          <a:xfrm>
            <a:off x="7020000" y="4724280"/>
            <a:ext cx="187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变色离席  奋袖出臂  两股战战  几欲先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AutoShape 49"/>
          <p:cNvSpPr/>
          <p:nvPr/>
        </p:nvSpPr>
        <p:spPr>
          <a:xfrm>
            <a:off x="7667640" y="189000"/>
            <a:ext cx="504720" cy="404640"/>
          </a:xfrm>
          <a:custGeom>
            <a:avLst/>
            <a:gdLst>
              <a:gd name="textAreaLeft" fmla="*/ 67320 w 504720"/>
              <a:gd name="textAreaRight" fmla="*/ 437400 w 504720"/>
              <a:gd name="textAreaTop" fmla="*/ 70560 h 404640"/>
              <a:gd name="textAreaBottom" fmla="*/ 2934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175"/>
                <a:lnTo>
                  <a:pt x="7198" y="21168"/>
                </a:lnTo>
                <a:lnTo>
                  <a:pt x="0" y="17280"/>
                </a:lnTo>
                <a:lnTo>
                  <a:pt x="7198" y="12528"/>
                </a:lnTo>
                <a:lnTo>
                  <a:pt x="7198" y="14688"/>
                </a:lnTo>
                <a:arcTo wR="21600" hR="7560" stAng="2683175" swAng="-2325740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2"/>
          <p:cNvSpPr/>
          <p:nvPr/>
        </p:nvSpPr>
        <p:spPr>
          <a:xfrm>
            <a:off x="2484360" y="0"/>
            <a:ext cx="338472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aramond"/>
                <a:ea typeface="华文彩云"/>
              </a:rPr>
              <a:t>课后练习二</a:t>
            </a:r>
            <a:r>
              <a:rPr b="1" lang="zh-CN" sz="4000" spc="-1" strike="noStrike">
                <a:solidFill>
                  <a:srgbClr val="000000"/>
                </a:solidFill>
                <a:latin typeface="Garamond"/>
                <a:ea typeface="华文彩云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3"/>
          <p:cNvSpPr/>
          <p:nvPr/>
        </p:nvSpPr>
        <p:spPr>
          <a:xfrm>
            <a:off x="179280" y="765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、对听众反应的描述的作用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4"/>
          <p:cNvSpPr/>
          <p:nvPr/>
        </p:nvSpPr>
        <p:spPr>
          <a:xfrm>
            <a:off x="4026240" y="1484280"/>
            <a:ext cx="3546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从侧面突出表演的效果，烘托出技艺的高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5"/>
          <p:cNvSpPr/>
          <p:nvPr/>
        </p:nvSpPr>
        <p:spPr>
          <a:xfrm>
            <a:off x="179280" y="2060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、文中前后两次清楚地交代了极简单的道具，这对文章的结构和表现口技表演者的技艺有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6"/>
          <p:cNvSpPr/>
          <p:nvPr/>
        </p:nvSpPr>
        <p:spPr>
          <a:xfrm>
            <a:off x="179280" y="3573360"/>
            <a:ext cx="24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  <a:ea typeface="宋体"/>
              </a:rPr>
              <a:t>结构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表现效果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7"/>
          <p:cNvSpPr/>
          <p:nvPr/>
        </p:nvSpPr>
        <p:spPr>
          <a:xfrm>
            <a:off x="1979640" y="3573360"/>
            <a:ext cx="5183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  <a:ea typeface="宋体"/>
              </a:rPr>
              <a:t>首尾呼应，使文章浑然一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 Box 8"/>
          <p:cNvSpPr/>
          <p:nvPr/>
        </p:nvSpPr>
        <p:spPr>
          <a:xfrm>
            <a:off x="2268360" y="4221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  <a:ea typeface="宋体"/>
              </a:rPr>
              <a:t>开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为后文表演复杂的声响做烘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9"/>
          <p:cNvSpPr/>
          <p:nvPr/>
        </p:nvSpPr>
        <p:spPr>
          <a:xfrm>
            <a:off x="2050920" y="530064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  <a:ea typeface="宋体"/>
              </a:rPr>
              <a:t>结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证明、强调刚才的一切声响都是从一张嘴中发出的，从而更突出表演技艺的高超，也有烘托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10"/>
          <p:cNvSpPr/>
          <p:nvPr/>
        </p:nvSpPr>
        <p:spPr>
          <a:xfrm>
            <a:off x="8099280" y="2421000"/>
            <a:ext cx="576360" cy="308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数字用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AutoShape 11"/>
          <p:cNvSpPr/>
          <p:nvPr/>
        </p:nvSpPr>
        <p:spPr>
          <a:xfrm>
            <a:off x="7667640" y="189000"/>
            <a:ext cx="504720" cy="404640"/>
          </a:xfrm>
          <a:custGeom>
            <a:avLst/>
            <a:gdLst>
              <a:gd name="textAreaLeft" fmla="*/ 67320 w 504720"/>
              <a:gd name="textAreaRight" fmla="*/ 437400 w 504720"/>
              <a:gd name="textAreaTop" fmla="*/ 70560 h 404640"/>
              <a:gd name="textAreaBottom" fmla="*/ 2934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175"/>
                <a:lnTo>
                  <a:pt x="7198" y="21168"/>
                </a:lnTo>
                <a:lnTo>
                  <a:pt x="0" y="17280"/>
                </a:lnTo>
                <a:lnTo>
                  <a:pt x="7198" y="12528"/>
                </a:lnTo>
                <a:lnTo>
                  <a:pt x="7198" y="14688"/>
                </a:lnTo>
                <a:arcTo wR="21600" hR="7560" stAng="2683175" swAng="-2325740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文本框 8200"/>
          <p:cNvSpPr/>
          <p:nvPr/>
        </p:nvSpPr>
        <p:spPr>
          <a:xfrm>
            <a:off x="1908000" y="2997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Verdana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2"/>
          <p:cNvSpPr/>
          <p:nvPr/>
        </p:nvSpPr>
        <p:spPr>
          <a:xfrm>
            <a:off x="1600200" y="2714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Oval 3"/>
          <p:cNvSpPr/>
          <p:nvPr/>
        </p:nvSpPr>
        <p:spPr>
          <a:xfrm>
            <a:off x="1619280" y="1557360"/>
            <a:ext cx="6408720" cy="13669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最精彩的口技表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4283640" y="3092040"/>
            <a:ext cx="10947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99"/>
                </a:solidFill>
                <a:latin typeface="Tahoma"/>
                <a:ea typeface="宋体"/>
              </a:rPr>
              <a:t>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5"/>
          <p:cNvSpPr/>
          <p:nvPr/>
        </p:nvSpPr>
        <p:spPr>
          <a:xfrm>
            <a:off x="-36360" y="4005360"/>
            <a:ext cx="2520720" cy="71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最少的道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 Box 6"/>
          <p:cNvSpPr/>
          <p:nvPr/>
        </p:nvSpPr>
        <p:spPr>
          <a:xfrm>
            <a:off x="2638800" y="4043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Rectangle 7"/>
          <p:cNvSpPr/>
          <p:nvPr/>
        </p:nvSpPr>
        <p:spPr>
          <a:xfrm>
            <a:off x="3203640" y="4005360"/>
            <a:ext cx="2663640" cy="71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最复杂的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8"/>
          <p:cNvSpPr/>
          <p:nvPr/>
        </p:nvSpPr>
        <p:spPr>
          <a:xfrm>
            <a:off x="6443640" y="4005360"/>
            <a:ext cx="2700360" cy="71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最热烈的观众反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9"/>
          <p:cNvSpPr/>
          <p:nvPr/>
        </p:nvSpPr>
        <p:spPr>
          <a:xfrm>
            <a:off x="5878800" y="407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F31C-5C62-4880-A101-D522876D53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2"/>
          <p:cNvSpPr/>
          <p:nvPr/>
        </p:nvSpPr>
        <p:spPr>
          <a:xfrm>
            <a:off x="684360" y="251280"/>
            <a:ext cx="777528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  <a:ea typeface="华文新魏"/>
              </a:rPr>
              <a:t>表时间性的词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掌握它们的不同用法（ 练习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、同时 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、突然发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、两事相继发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、在特定的某个时间内发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、在很短时间内发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 Box 3"/>
          <p:cNvSpPr/>
          <p:nvPr/>
        </p:nvSpPr>
        <p:spPr>
          <a:xfrm>
            <a:off x="3708360" y="1773360"/>
            <a:ext cx="89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一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4"/>
          <p:cNvSpPr/>
          <p:nvPr/>
        </p:nvSpPr>
        <p:spPr>
          <a:xfrm>
            <a:off x="3924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忽，忽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5"/>
          <p:cNvSpPr/>
          <p:nvPr/>
        </p:nvSpPr>
        <p:spPr>
          <a:xfrm>
            <a:off x="4395240" y="3706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既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6"/>
          <p:cNvSpPr/>
          <p:nvPr/>
        </p:nvSpPr>
        <p:spPr>
          <a:xfrm>
            <a:off x="641124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是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7"/>
          <p:cNvSpPr/>
          <p:nvPr/>
        </p:nvSpPr>
        <p:spPr>
          <a:xfrm>
            <a:off x="5364000" y="5661000"/>
            <a:ext cx="304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少顷、俄而、未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2"/>
          <p:cNvSpPr/>
          <p:nvPr/>
        </p:nvSpPr>
        <p:spPr>
          <a:xfrm>
            <a:off x="324000" y="484920"/>
            <a:ext cx="84247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标上注音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少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顷（           ）           犬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吠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（         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呓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语（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      ）            夫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叱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大儿声（  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夫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齁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声起（         ）     意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少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舒 （      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中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间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（         ）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曳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（       ）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许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许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（      ）声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几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欲先走（   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3"/>
          <p:cNvSpPr/>
          <p:nvPr/>
        </p:nvSpPr>
        <p:spPr>
          <a:xfrm>
            <a:off x="1904760" y="1481040"/>
            <a:ext cx="11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sh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5899680" y="1484280"/>
            <a:ext cx="73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f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è</a:t>
            </a: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5"/>
          <p:cNvSpPr/>
          <p:nvPr/>
        </p:nvSpPr>
        <p:spPr>
          <a:xfrm>
            <a:off x="2186640" y="2421000"/>
            <a:ext cx="5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y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6"/>
          <p:cNvSpPr/>
          <p:nvPr/>
        </p:nvSpPr>
        <p:spPr>
          <a:xfrm>
            <a:off x="7134480" y="248904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ch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7"/>
          <p:cNvSpPr/>
          <p:nvPr/>
        </p:nvSpPr>
        <p:spPr>
          <a:xfrm>
            <a:off x="2703600" y="342900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hō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8"/>
          <p:cNvSpPr/>
          <p:nvPr/>
        </p:nvSpPr>
        <p:spPr>
          <a:xfrm>
            <a:off x="6176520" y="3429000"/>
            <a:ext cx="11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sh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9"/>
          <p:cNvSpPr/>
          <p:nvPr/>
        </p:nvSpPr>
        <p:spPr>
          <a:xfrm>
            <a:off x="5383080" y="4362480"/>
            <a:ext cx="6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y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10"/>
          <p:cNvSpPr/>
          <p:nvPr/>
        </p:nvSpPr>
        <p:spPr>
          <a:xfrm>
            <a:off x="1852920" y="537048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h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11"/>
          <p:cNvSpPr/>
          <p:nvPr/>
        </p:nvSpPr>
        <p:spPr>
          <a:xfrm>
            <a:off x="1916280" y="4365720"/>
            <a:ext cx="98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ji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à</a:t>
            </a: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12"/>
          <p:cNvSpPr/>
          <p:nvPr/>
        </p:nvSpPr>
        <p:spPr>
          <a:xfrm>
            <a:off x="6892560" y="5370480"/>
            <a:ext cx="4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j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2"/>
          <p:cNvSpPr/>
          <p:nvPr/>
        </p:nvSpPr>
        <p:spPr>
          <a:xfrm>
            <a:off x="273600" y="1770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3"/>
          <p:cNvSpPr/>
          <p:nvPr/>
        </p:nvSpPr>
        <p:spPr>
          <a:xfrm>
            <a:off x="826920" y="1785960"/>
            <a:ext cx="498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宋体"/>
              </a:rPr>
              <a:t>同</a:t>
            </a:r>
            <a:r>
              <a:rPr b="1" lang="zh-CN" sz="3200" spc="-1" strike="noStrike">
                <a:solidFill>
                  <a:srgbClr val="ffffcc"/>
                </a:solidFill>
                <a:latin typeface="Verdana"/>
                <a:ea typeface="宋体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宋体"/>
              </a:rPr>
              <a:t>座</a:t>
            </a:r>
            <a:r>
              <a:rPr b="1" lang="zh-CN" sz="3200" spc="-1" strike="noStrike">
                <a:solidFill>
                  <a:srgbClr val="ffffcc"/>
                </a:solidFill>
                <a:latin typeface="Verdana"/>
                <a:ea typeface="宋体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宋体"/>
              </a:rPr>
              <a:t>，座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4"/>
          <p:cNvSpPr/>
          <p:nvPr/>
        </p:nvSpPr>
        <p:spPr>
          <a:xfrm>
            <a:off x="386280" y="771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通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5"/>
          <p:cNvSpPr/>
          <p:nvPr/>
        </p:nvSpPr>
        <p:spPr>
          <a:xfrm>
            <a:off x="478440" y="2473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6"/>
          <p:cNvSpPr/>
          <p:nvPr/>
        </p:nvSpPr>
        <p:spPr>
          <a:xfrm>
            <a:off x="447120" y="325116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宾客大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7"/>
          <p:cNvSpPr/>
          <p:nvPr/>
        </p:nvSpPr>
        <p:spPr>
          <a:xfrm>
            <a:off x="5262840" y="3278160"/>
            <a:ext cx="11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宋体"/>
              </a:rPr>
              <a:t>会</a:t>
            </a:r>
            <a:r>
              <a:rPr b="1" lang="zh-CN" sz="2400" spc="-1" strike="noStrike">
                <a:solidFill>
                  <a:srgbClr val="ffffcc"/>
                </a:solidFill>
                <a:latin typeface="Tahoma"/>
                <a:ea typeface="宋体"/>
              </a:rPr>
              <a:t>：古，适逢，正赶上； 今，合拢，聚在一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8"/>
          <p:cNvSpPr/>
          <p:nvPr/>
        </p:nvSpPr>
        <p:spPr>
          <a:xfrm>
            <a:off x="421920" y="3827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微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闻有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9"/>
          <p:cNvSpPr/>
          <p:nvPr/>
        </p:nvSpPr>
        <p:spPr>
          <a:xfrm>
            <a:off x="4077720" y="385920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微：</a:t>
            </a:r>
            <a:r>
              <a:rPr b="1" lang="zh-CN" sz="2400" spc="-1" strike="noStrike">
                <a:solidFill>
                  <a:srgbClr val="ffffcc"/>
                </a:solidFill>
                <a:latin typeface="Tahoma"/>
                <a:ea typeface="宋体"/>
              </a:rPr>
              <a:t>古，隐隐约约；        今，小，细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10"/>
          <p:cNvSpPr/>
          <p:nvPr/>
        </p:nvSpPr>
        <p:spPr>
          <a:xfrm>
            <a:off x="437760" y="4332240"/>
            <a:ext cx="11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中间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力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11"/>
          <p:cNvSpPr/>
          <p:nvPr/>
        </p:nvSpPr>
        <p:spPr>
          <a:xfrm>
            <a:off x="3959280" y="4362480"/>
            <a:ext cx="22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中间：</a:t>
            </a:r>
            <a:r>
              <a:rPr b="1" lang="zh-CN" sz="2400" spc="-1" strike="noStrike">
                <a:solidFill>
                  <a:srgbClr val="ffffcc"/>
                </a:solidFill>
                <a:latin typeface="Tahoma"/>
                <a:ea typeface="宋体"/>
              </a:rPr>
              <a:t>古，中间夹杂；     今，里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12"/>
          <p:cNvSpPr/>
          <p:nvPr/>
        </p:nvSpPr>
        <p:spPr>
          <a:xfrm>
            <a:off x="438120" y="4835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两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股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战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13"/>
          <p:cNvSpPr/>
          <p:nvPr/>
        </p:nvSpPr>
        <p:spPr>
          <a:xfrm>
            <a:off x="4806360" y="482904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股：</a:t>
            </a:r>
            <a:r>
              <a:rPr b="1" lang="zh-CN" sz="2400" spc="-1" strike="noStrike">
                <a:solidFill>
                  <a:srgbClr val="ffffcc"/>
                </a:solidFill>
                <a:latin typeface="Tahoma"/>
                <a:ea typeface="宋体"/>
              </a:rPr>
              <a:t>古，大腿             今，量词或一种组织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14"/>
          <p:cNvSpPr/>
          <p:nvPr/>
        </p:nvSpPr>
        <p:spPr>
          <a:xfrm>
            <a:off x="438120" y="5370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几欲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15"/>
          <p:cNvSpPr/>
          <p:nvPr/>
        </p:nvSpPr>
        <p:spPr>
          <a:xfrm>
            <a:off x="3558960" y="5430960"/>
            <a:ext cx="32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走：</a:t>
            </a:r>
            <a:r>
              <a:rPr b="1" lang="zh-CN" sz="2400" spc="-1" strike="noStrike">
                <a:solidFill>
                  <a:srgbClr val="ffffcc"/>
                </a:solidFill>
                <a:latin typeface="Tahoma"/>
                <a:ea typeface="宋体"/>
              </a:rPr>
              <a:t>古，跑；                    今，行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16"/>
          <p:cNvSpPr/>
          <p:nvPr/>
        </p:nvSpPr>
        <p:spPr>
          <a:xfrm>
            <a:off x="0" y="6021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宾客意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17"/>
          <p:cNvSpPr/>
          <p:nvPr/>
        </p:nvSpPr>
        <p:spPr>
          <a:xfrm>
            <a:off x="2627280" y="6093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ahoma"/>
                <a:ea typeface="宋体"/>
              </a:rPr>
              <a:t>舒：古，放松。        今，舒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2"/>
          <p:cNvSpPr/>
          <p:nvPr/>
        </p:nvSpPr>
        <p:spPr>
          <a:xfrm>
            <a:off x="478440" y="771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3"/>
          <p:cNvSpPr/>
          <p:nvPr/>
        </p:nvSpPr>
        <p:spPr>
          <a:xfrm>
            <a:off x="539640" y="15890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妇抚儿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4"/>
          <p:cNvSpPr/>
          <p:nvPr/>
        </p:nvSpPr>
        <p:spPr>
          <a:xfrm>
            <a:off x="4119840" y="1628640"/>
            <a:ext cx="25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乳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名词作动词，喂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5"/>
          <p:cNvSpPr/>
          <p:nvPr/>
        </p:nvSpPr>
        <p:spPr>
          <a:xfrm>
            <a:off x="4195080" y="234936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善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形容词作动词，擅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6"/>
          <p:cNvSpPr/>
          <p:nvPr/>
        </p:nvSpPr>
        <p:spPr>
          <a:xfrm>
            <a:off x="973440" y="2295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京中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善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口技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7"/>
          <p:cNvSpPr/>
          <p:nvPr/>
        </p:nvSpPr>
        <p:spPr>
          <a:xfrm>
            <a:off x="4069080" y="2997360"/>
            <a:ext cx="23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名词作动词，说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8"/>
          <p:cNvSpPr/>
          <p:nvPr/>
        </p:nvSpPr>
        <p:spPr>
          <a:xfrm>
            <a:off x="1222560" y="2997360"/>
            <a:ext cx="11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不能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名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其一处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9"/>
          <p:cNvSpPr/>
          <p:nvPr/>
        </p:nvSpPr>
        <p:spPr>
          <a:xfrm>
            <a:off x="4069080" y="3730680"/>
            <a:ext cx="23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指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名词作动词，指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0"/>
          <p:cNvSpPr/>
          <p:nvPr/>
        </p:nvSpPr>
        <p:spPr>
          <a:xfrm>
            <a:off x="1044000" y="3664080"/>
            <a:ext cx="11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不能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指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其一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11"/>
          <p:cNvSpPr/>
          <p:nvPr/>
        </p:nvSpPr>
        <p:spPr>
          <a:xfrm>
            <a:off x="900000" y="4292640"/>
            <a:ext cx="7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抚尺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12"/>
          <p:cNvSpPr/>
          <p:nvPr/>
        </p:nvSpPr>
        <p:spPr>
          <a:xfrm>
            <a:off x="5386320" y="4349880"/>
            <a:ext cx="7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下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位名词作动词，落、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5"/>
          <p:cNvSpPr/>
          <p:nvPr/>
        </p:nvSpPr>
        <p:spPr>
          <a:xfrm>
            <a:off x="829440" y="5157720"/>
            <a:ext cx="12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会宾客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16"/>
          <p:cNvSpPr/>
          <p:nvPr/>
        </p:nvSpPr>
        <p:spPr>
          <a:xfrm>
            <a:off x="4182480" y="508464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宴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名词作动词，举行宴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2"/>
          <p:cNvSpPr/>
          <p:nvPr/>
        </p:nvSpPr>
        <p:spPr>
          <a:xfrm>
            <a:off x="798480" y="771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3"/>
          <p:cNvSpPr/>
          <p:nvPr/>
        </p:nvSpPr>
        <p:spPr>
          <a:xfrm>
            <a:off x="576360" y="1773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妇抚儿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乳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（动词，喂奶）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儿含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乳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啼  （名词，乳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4"/>
          <p:cNvSpPr/>
          <p:nvPr/>
        </p:nvSpPr>
        <p:spPr>
          <a:xfrm>
            <a:off x="611280" y="1916280"/>
            <a:ext cx="73080" cy="57600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5"/>
          <p:cNvSpPr/>
          <p:nvPr/>
        </p:nvSpPr>
        <p:spPr>
          <a:xfrm>
            <a:off x="5076720" y="198900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6"/>
          <p:cNvSpPr/>
          <p:nvPr/>
        </p:nvSpPr>
        <p:spPr>
          <a:xfrm>
            <a:off x="539640" y="278136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7"/>
          <p:cNvSpPr/>
          <p:nvPr/>
        </p:nvSpPr>
        <p:spPr>
          <a:xfrm>
            <a:off x="539640" y="3645000"/>
            <a:ext cx="73080" cy="57600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8"/>
          <p:cNvSpPr/>
          <p:nvPr/>
        </p:nvSpPr>
        <p:spPr>
          <a:xfrm>
            <a:off x="539640" y="465300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AutoShape 9"/>
          <p:cNvSpPr/>
          <p:nvPr/>
        </p:nvSpPr>
        <p:spPr>
          <a:xfrm>
            <a:off x="539640" y="551664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10"/>
          <p:cNvSpPr/>
          <p:nvPr/>
        </p:nvSpPr>
        <p:spPr>
          <a:xfrm>
            <a:off x="34920" y="191628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1"/>
          <p:cNvSpPr/>
          <p:nvPr/>
        </p:nvSpPr>
        <p:spPr>
          <a:xfrm>
            <a:off x="5076720" y="18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手有百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指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名词，手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不能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指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其一端（动词，指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12"/>
          <p:cNvSpPr/>
          <p:nvPr/>
        </p:nvSpPr>
        <p:spPr>
          <a:xfrm>
            <a:off x="4427640" y="1989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13"/>
          <p:cNvSpPr/>
          <p:nvPr/>
        </p:nvSpPr>
        <p:spPr>
          <a:xfrm>
            <a:off x="1251720" y="2637000"/>
            <a:ext cx="27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众宾团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坐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（坐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满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坐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宾客   （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，座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14"/>
          <p:cNvSpPr/>
          <p:nvPr/>
        </p:nvSpPr>
        <p:spPr>
          <a:xfrm>
            <a:off x="72720" y="2765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15"/>
          <p:cNvSpPr/>
          <p:nvPr/>
        </p:nvSpPr>
        <p:spPr>
          <a:xfrm>
            <a:off x="1064160" y="3500280"/>
            <a:ext cx="21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以为妙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（极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群响 毕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（消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16"/>
          <p:cNvSpPr/>
          <p:nvPr/>
        </p:nvSpPr>
        <p:spPr>
          <a:xfrm>
            <a:off x="36360" y="3630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17"/>
          <p:cNvSpPr/>
          <p:nvPr/>
        </p:nvSpPr>
        <p:spPr>
          <a:xfrm>
            <a:off x="1340280" y="4478400"/>
            <a:ext cx="332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于厅事之东北角     （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妇拍而呜之            （他，指小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18"/>
          <p:cNvSpPr/>
          <p:nvPr/>
        </p:nvSpPr>
        <p:spPr>
          <a:xfrm>
            <a:off x="37080" y="4653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19"/>
          <p:cNvSpPr/>
          <p:nvPr/>
        </p:nvSpPr>
        <p:spPr>
          <a:xfrm>
            <a:off x="36360" y="5502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20"/>
          <p:cNvSpPr/>
          <p:nvPr/>
        </p:nvSpPr>
        <p:spPr>
          <a:xfrm>
            <a:off x="1281600" y="5415120"/>
            <a:ext cx="21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其夫呓语      （她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不能指其一端    （其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2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3"/>
          <p:cNvSpPr/>
          <p:nvPr/>
        </p:nvSpPr>
        <p:spPr>
          <a:xfrm>
            <a:off x="108000" y="411480"/>
            <a:ext cx="80787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宾客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意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力拉崩倒之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人有百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能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一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袖出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两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战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欲先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4"/>
          <p:cNvSpPr/>
          <p:nvPr/>
        </p:nvSpPr>
        <p:spPr>
          <a:xfrm>
            <a:off x="5201640" y="404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心情；稍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5"/>
          <p:cNvSpPr/>
          <p:nvPr/>
        </p:nvSpPr>
        <p:spPr>
          <a:xfrm>
            <a:off x="5077800" y="1403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夹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6"/>
          <p:cNvSpPr/>
          <p:nvPr/>
        </p:nvSpPr>
        <p:spPr>
          <a:xfrm>
            <a:off x="5077800" y="24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即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7"/>
          <p:cNvSpPr/>
          <p:nvPr/>
        </p:nvSpPr>
        <p:spPr>
          <a:xfrm>
            <a:off x="5004720" y="32130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说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 Box 8"/>
          <p:cNvSpPr/>
          <p:nvPr/>
        </p:nvSpPr>
        <p:spPr>
          <a:xfrm>
            <a:off x="5004720" y="42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卷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9"/>
          <p:cNvSpPr/>
          <p:nvPr/>
        </p:nvSpPr>
        <p:spPr>
          <a:xfrm>
            <a:off x="5004720" y="5286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大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10"/>
          <p:cNvSpPr/>
          <p:nvPr/>
        </p:nvSpPr>
        <p:spPr>
          <a:xfrm>
            <a:off x="5563800" y="63388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几乎、差点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2"/>
          <p:cNvSpPr/>
          <p:nvPr/>
        </p:nvSpPr>
        <p:spPr>
          <a:xfrm>
            <a:off x="611280" y="765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  <a:ea typeface="华文彩云"/>
              </a:rPr>
              <a:t>课文第一句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彩云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  <a:ea typeface="华文彩云"/>
              </a:rPr>
              <a:t>京中有善口技者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彩云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  <a:ea typeface="华文彩云"/>
              </a:rPr>
              <a:t>在全文起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3"/>
          <p:cNvSpPr/>
          <p:nvPr/>
        </p:nvSpPr>
        <p:spPr>
          <a:xfrm>
            <a:off x="900000" y="3068640"/>
            <a:ext cx="740412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幼圆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  <a:ea typeface="幼圆"/>
              </a:rPr>
              <a:t>善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幼圆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  <a:ea typeface="幼圆"/>
              </a:rPr>
              <a:t>字统领全篇，全文的内容情节都是围绕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幼圆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  <a:ea typeface="幼圆"/>
              </a:rPr>
              <a:t>善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幼圆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  <a:ea typeface="幼圆"/>
              </a:rPr>
              <a:t>来展开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0" name="Picture 4" descr="j0281904"/>
          <p:cNvPicPr/>
          <p:nvPr/>
        </p:nvPicPr>
        <p:blipFill>
          <a:blip r:embed="rId1"/>
          <a:stretch/>
        </p:blipFill>
        <p:spPr>
          <a:xfrm>
            <a:off x="5219640" y="4508640"/>
            <a:ext cx="3625920" cy="2076480"/>
          </a:xfrm>
          <a:prstGeom prst="rect">
            <a:avLst/>
          </a:prstGeom>
          <a:ln w="0">
            <a:noFill/>
          </a:ln>
        </p:spPr>
      </p:pic>
      <p:sp>
        <p:nvSpPr>
          <p:cNvPr id="1221" name="文本框 8200"/>
          <p:cNvSpPr/>
          <p:nvPr/>
        </p:nvSpPr>
        <p:spPr>
          <a:xfrm>
            <a:off x="1260360" y="2421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Verdana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3" name="Group 2"/>
          <p:cNvGrpSpPr/>
          <p:nvPr/>
        </p:nvGrpSpPr>
        <p:grpSpPr>
          <a:xfrm>
            <a:off x="179280" y="981000"/>
            <a:ext cx="1439640" cy="5040360"/>
            <a:chOff x="179280" y="981000"/>
            <a:chExt cx="1439640" cy="5040360"/>
          </a:xfrm>
        </p:grpSpPr>
        <p:sp>
          <p:nvSpPr>
            <p:cNvPr id="1224" name="Oval 3"/>
            <p:cNvSpPr/>
            <p:nvPr/>
          </p:nvSpPr>
          <p:spPr>
            <a:xfrm>
              <a:off x="179280" y="981000"/>
              <a:ext cx="1439640" cy="5040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Text Box 4"/>
            <p:cNvSpPr/>
            <p:nvPr/>
          </p:nvSpPr>
          <p:spPr>
            <a:xfrm>
              <a:off x="399240" y="1485720"/>
              <a:ext cx="10854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怎样写出</a:t>
              </a:r>
              <a:r>
                <a:rPr b="1" lang="zh-CN" sz="4000" spc="-1" strike="noStrike">
                  <a:solidFill>
                    <a:srgbClr val="cc0066"/>
                  </a:solidFill>
                  <a:latin typeface="Garamond"/>
                  <a:ea typeface="宋体"/>
                </a:rPr>
                <a:t>善</a:t>
              </a:r>
              <a:r>
                <a:rPr b="1" lang="zh-CN" sz="40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AutoShape 5"/>
          <p:cNvSpPr/>
          <p:nvPr/>
        </p:nvSpPr>
        <p:spPr>
          <a:xfrm>
            <a:off x="1692360" y="1557360"/>
            <a:ext cx="360360" cy="3887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7640"/>
              <a:gd name="textAreaBottom" fmla="*/ 378648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 Box 6"/>
          <p:cNvSpPr/>
          <p:nvPr/>
        </p:nvSpPr>
        <p:spPr>
          <a:xfrm>
            <a:off x="2195640" y="1052640"/>
            <a:ext cx="22320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  <a:ea typeface="宋体"/>
              </a:rPr>
              <a:t>正面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7"/>
          <p:cNvSpPr/>
          <p:nvPr/>
        </p:nvSpPr>
        <p:spPr>
          <a:xfrm>
            <a:off x="2268360" y="4941720"/>
            <a:ext cx="216072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  <a:ea typeface="宋体"/>
              </a:rPr>
              <a:t>侧面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8"/>
          <p:cNvSpPr/>
          <p:nvPr/>
        </p:nvSpPr>
        <p:spPr>
          <a:xfrm>
            <a:off x="5223240" y="1052640"/>
            <a:ext cx="2130120" cy="576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华文彩云"/>
              </a:rPr>
              <a:t>景场个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AutoShape 9"/>
          <p:cNvSpPr/>
          <p:nvPr/>
        </p:nvSpPr>
        <p:spPr>
          <a:xfrm>
            <a:off x="4572000" y="4076640"/>
            <a:ext cx="216000" cy="201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200 h 2016360"/>
              <a:gd name="textAreaBottom" fmla="*/ 196416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"/>
          <p:cNvSpPr/>
          <p:nvPr/>
        </p:nvSpPr>
        <p:spPr>
          <a:xfrm>
            <a:off x="4859280" y="36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、在表演过程中观众的神情举止的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AutoShape 11"/>
          <p:cNvSpPr/>
          <p:nvPr/>
        </p:nvSpPr>
        <p:spPr>
          <a:xfrm>
            <a:off x="8172360" y="907920"/>
            <a:ext cx="719280" cy="792360"/>
          </a:xfrm>
          <a:prstGeom prst="smileyFace">
            <a:avLst>
              <a:gd name="adj" fmla="val 4653"/>
            </a:avLst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2"/>
          <p:cNvSpPr/>
          <p:nvPr/>
        </p:nvSpPr>
        <p:spPr>
          <a:xfrm>
            <a:off x="5003640" y="5445000"/>
            <a:ext cx="33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、开头和结尾部分对表演道具的交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13"/>
          <p:cNvSpPr/>
          <p:nvPr/>
        </p:nvSpPr>
        <p:spPr>
          <a:xfrm>
            <a:off x="2916360" y="566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烘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AutoShape 14"/>
          <p:cNvSpPr/>
          <p:nvPr/>
        </p:nvSpPr>
        <p:spPr>
          <a:xfrm>
            <a:off x="8459640" y="5445000"/>
            <a:ext cx="684360" cy="792360"/>
          </a:xfrm>
          <a:custGeom>
            <a:avLst/>
            <a:gdLst/>
            <a:ahLst/>
            <a:rect l="l" t="t" r="r" b="b"/>
            <a:pathLst>
              <a:path w="684212" h="792162">
                <a:moveTo>
                  <a:pt x="0" y="302578"/>
                </a:moveTo>
                <a:lnTo>
                  <a:pt x="261347" y="302580"/>
                </a:lnTo>
                <a:lnTo>
                  <a:pt x="342106" y="0"/>
                </a:lnTo>
                <a:lnTo>
                  <a:pt x="422865" y="302580"/>
                </a:lnTo>
                <a:lnTo>
                  <a:pt x="684211" y="302578"/>
                </a:lnTo>
                <a:lnTo>
                  <a:pt x="472776" y="489581"/>
                </a:lnTo>
                <a:lnTo>
                  <a:pt x="553539" y="792160"/>
                </a:lnTo>
                <a:lnTo>
                  <a:pt x="342106" y="605154"/>
                </a:lnTo>
                <a:lnTo>
                  <a:pt x="130673" y="792160"/>
                </a:lnTo>
                <a:lnTo>
                  <a:pt x="211435" y="489581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AutoShape 15"/>
          <p:cNvSpPr/>
          <p:nvPr/>
        </p:nvSpPr>
        <p:spPr>
          <a:xfrm>
            <a:off x="8244000" y="3716280"/>
            <a:ext cx="900000" cy="865080"/>
          </a:xfrm>
          <a:prstGeom prst="su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1042920" y="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结合课后练习一，填充下列表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0" y="549360"/>
          <a:ext cx="8964720" cy="6003720"/>
        </p:xfrm>
        <a:graphic>
          <a:graphicData uri="http://schemas.openxmlformats.org/drawingml/2006/table">
            <a:tbl>
              <a:tblPr/>
              <a:tblGrid>
                <a:gridCol w="900000"/>
                <a:gridCol w="2951280"/>
                <a:gridCol w="1657440"/>
                <a:gridCol w="1471680"/>
                <a:gridCol w="1984320"/>
              </a:tblGrid>
              <a:tr h="653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  <a:ea typeface="宋体"/>
                        </a:rPr>
                        <a:t>场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  <a:ea typeface="宋体"/>
                        </a:rPr>
                        <a:t>声音种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  <a:ea typeface="宋体"/>
                        </a:rPr>
                        <a:t>声音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cc33"/>
                          </a:solidFill>
                          <a:latin typeface="Verdana"/>
                          <a:ea typeface="宋体"/>
                        </a:rPr>
                        <a:t>作者评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  <a:ea typeface="宋体"/>
                        </a:rPr>
                        <a:t>听众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2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0" name="Text Box 35"/>
          <p:cNvSpPr/>
          <p:nvPr/>
        </p:nvSpPr>
        <p:spPr>
          <a:xfrm>
            <a:off x="-243000" y="119700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  <a:ea typeface="宋体"/>
              </a:rPr>
              <a:t>梦中惊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36"/>
          <p:cNvSpPr/>
          <p:nvPr/>
        </p:nvSpPr>
        <p:spPr>
          <a:xfrm>
            <a:off x="-243000" y="2924280"/>
            <a:ext cx="1033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Garamond"/>
                <a:ea typeface="宋体"/>
              </a:rPr>
              <a:t>渐入梦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37"/>
          <p:cNvSpPr/>
          <p:nvPr/>
        </p:nvSpPr>
        <p:spPr>
          <a:xfrm>
            <a:off x="-171720" y="4797360"/>
            <a:ext cx="1033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  <a:ea typeface="宋体"/>
              </a:rPr>
              <a:t>火起群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38"/>
          <p:cNvSpPr/>
          <p:nvPr/>
        </p:nvSpPr>
        <p:spPr>
          <a:xfrm>
            <a:off x="971640" y="1125360"/>
            <a:ext cx="28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犬吠      欠伸     呓语    大啼      妇呜  絮絮  夫叱    （</a:t>
            </a:r>
            <a:r>
              <a:rPr b="1" lang="zh-CN" sz="2800" spc="-1" strike="noStrike">
                <a:solidFill>
                  <a:srgbClr val="cc0066"/>
                </a:solidFill>
                <a:latin typeface="Garamond"/>
                <a:ea typeface="宋体"/>
              </a:rPr>
              <a:t>一时齐发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39"/>
          <p:cNvSpPr/>
          <p:nvPr/>
        </p:nvSpPr>
        <p:spPr>
          <a:xfrm>
            <a:off x="971640" y="2924280"/>
            <a:ext cx="28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齁声  妇拍儿渐止 鼠作作索索       盆器倾侧  </a:t>
            </a:r>
            <a:r>
              <a:rPr b="1" lang="zh-CN" sz="2800" spc="-1" strike="noStrike">
                <a:solidFill>
                  <a:srgbClr val="ffffcc"/>
                </a:solidFill>
                <a:latin typeface="Garamond"/>
                <a:ea typeface="宋体"/>
              </a:rPr>
              <a:t>咳嗽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 （</a:t>
            </a:r>
            <a:r>
              <a:rPr b="1" lang="zh-CN" sz="2800" spc="-1" strike="noStrike">
                <a:solidFill>
                  <a:srgbClr val="33cc33"/>
                </a:solidFill>
                <a:latin typeface="Garamond"/>
                <a:ea typeface="宋体"/>
              </a:rPr>
              <a:t>以响衬静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40"/>
          <p:cNvSpPr/>
          <p:nvPr/>
        </p:nvSpPr>
        <p:spPr>
          <a:xfrm>
            <a:off x="826920" y="465300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大呼  齐哭  百千大呼  齐哭  犬吠  力拉崩倒  火爆声  风声  求救声  抢夺声            泼水声     （</a:t>
            </a:r>
            <a:r>
              <a:rPr b="1" lang="zh-CN" sz="2400" spc="-1" strike="noStrike">
                <a:solidFill>
                  <a:srgbClr val="cc0066"/>
                </a:solidFill>
                <a:latin typeface="Garamond"/>
                <a:ea typeface="宋体"/>
              </a:rPr>
              <a:t>无所不有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41"/>
          <p:cNvSpPr/>
          <p:nvPr/>
        </p:nvSpPr>
        <p:spPr>
          <a:xfrm>
            <a:off x="3851280" y="126828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由远及近由外到内由小到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42"/>
          <p:cNvSpPr/>
          <p:nvPr/>
        </p:nvSpPr>
        <p:spPr>
          <a:xfrm>
            <a:off x="5867280" y="1484280"/>
            <a:ext cx="10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众妙毕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43"/>
          <p:cNvSpPr/>
          <p:nvPr/>
        </p:nvSpPr>
        <p:spPr>
          <a:xfrm>
            <a:off x="7020000" y="1268280"/>
            <a:ext cx="18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伸颈  侧目  微笑  默叹  以为妙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44"/>
          <p:cNvSpPr/>
          <p:nvPr/>
        </p:nvSpPr>
        <p:spPr>
          <a:xfrm>
            <a:off x="3851280" y="3429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逐步变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45"/>
          <p:cNvSpPr/>
          <p:nvPr/>
        </p:nvSpPr>
        <p:spPr>
          <a:xfrm>
            <a:off x="3851280" y="4797360"/>
            <a:ext cx="16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突然变大  由少而多  由少而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 Box 46"/>
          <p:cNvSpPr/>
          <p:nvPr/>
        </p:nvSpPr>
        <p:spPr>
          <a:xfrm>
            <a:off x="7164360" y="321300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意少舒  稍稍正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47"/>
          <p:cNvSpPr/>
          <p:nvPr/>
        </p:nvSpPr>
        <p:spPr>
          <a:xfrm>
            <a:off x="5508720" y="465300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不能指其一端  不能名其一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48"/>
          <p:cNvSpPr/>
          <p:nvPr/>
        </p:nvSpPr>
        <p:spPr>
          <a:xfrm>
            <a:off x="7020000" y="4724280"/>
            <a:ext cx="187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变色离席  奋袖出臂  两股战战  几欲先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AutoShape 49"/>
          <p:cNvSpPr/>
          <p:nvPr/>
        </p:nvSpPr>
        <p:spPr>
          <a:xfrm>
            <a:off x="7667640" y="189000"/>
            <a:ext cx="504720" cy="404640"/>
          </a:xfrm>
          <a:custGeom>
            <a:avLst/>
            <a:gdLst>
              <a:gd name="textAreaLeft" fmla="*/ 67320 w 504720"/>
              <a:gd name="textAreaRight" fmla="*/ 437400 w 504720"/>
              <a:gd name="textAreaTop" fmla="*/ 70560 h 404640"/>
              <a:gd name="textAreaBottom" fmla="*/ 2934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175"/>
                <a:lnTo>
                  <a:pt x="7198" y="21168"/>
                </a:lnTo>
                <a:lnTo>
                  <a:pt x="0" y="17280"/>
                </a:lnTo>
                <a:lnTo>
                  <a:pt x="7198" y="12528"/>
                </a:lnTo>
                <a:lnTo>
                  <a:pt x="7198" y="14688"/>
                </a:lnTo>
                <a:arcTo wR="21600" hR="7560" stAng="2683175" swAng="-2325740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5:19:3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34Z</dcterms:modified>
  <cp:revision>4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