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png" ContentType="image/png"/>
  <Override PartName="/ppt/media/image44.jpeg" ContentType="image/jpeg"/>
  <Override PartName="/ppt/media/image43.jpeg" ContentType="image/jpeg"/>
  <Override PartName="/ppt/media/image35.png" ContentType="image/png"/>
  <Override PartName="/ppt/media/image32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34.png" ContentType="image/png"/>
  <Override PartName="/ppt/media/image12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7.jpeg" ContentType="image/jpeg"/>
  <Override PartName="/ppt/media/image2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86A0-55BB-4CAA-8A13-0FF5C04D8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FF50-0DA8-47CF-8A5A-F9B0A766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2F84-ECC2-40B5-887A-492C304B2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356C-5EFD-4EDF-B30F-E45A4457E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9DEB-4651-4CEB-8999-14992EFCD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D819D-7B81-4BF7-8650-BD5BDBD6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ED80-EAA5-4F17-8C7C-676863B9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9ACB-1413-4032-8EF4-FE7AE7CCE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AB62-91FF-4558-81EA-E5B6F833B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2409C-1A12-468C-A4BA-896232C65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8712-C1B6-4F5D-BFE0-8329305EC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64ED-C6F2-4B81-BE1E-9A7AB03D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8EA4-72F2-4E49-991C-8358ED61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E610D-F8C6-4F3E-97EE-C60B6184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AFAB3-8A0B-487F-8342-1C7DBA61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6099-5899-47CC-868D-C049A61E4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23479-2856-41C2-B3A2-A324BE7B6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D3A49-8E71-4596-BCEF-2DBF1E21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C4DE1-5076-4E2E-9743-52FBCD4B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7CE50-AE8D-419F-B099-6AD470067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3779A-A743-4D75-87AB-BA5DCDA5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2C55CE-749A-49B7-856D-E61B46987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1A14-3FE2-460C-9CC4-A44FB505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BDB15-B635-4122-A2AD-DE7D58FBE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34D42-9BB0-415E-BB63-02DDE85F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08B70-5757-4147-B241-6F2493BC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A77C1F-1EE6-4187-9454-5C8977C4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005B7-C75E-4648-B506-0C1D74CF6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45F6B-60D0-4131-9335-335180ED0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473D1-242D-493F-9E04-C4235B892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125E-D77E-4A5C-AD75-3B2E6DA2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80D1-3BCE-46E0-9EDA-EEDB345FF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2492-CAEA-4EB3-A8E9-1B31F82E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7A4C-7471-4116-8532-0A10B8EE2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088C-9F46-49B4-B47A-485949CAE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D686-68B3-46D9-81E8-A43CFC7B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40B20-09BF-4F26-BBA9-F7D6DFCE892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816F0-320E-4847-8DCA-EC7CAE0B942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C2C9-6A25-4BB3-8DD0-241E149DBC0B}" type="slidenum">
              <a:rPr b="0" lang="zh-CN" sz="1400" spc="-1" strike="noStrike">
                <a:solidFill>
                  <a:srgbClr val="0000cc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1ppt.com/hangye/" TargetMode="Externa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2843280" y="907920"/>
            <a:ext cx="251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一课</a:t>
            </a:r>
            <a:endParaRPr b="1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826920" y="2876400"/>
            <a:ext cx="725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科技带给我们什么课件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下载</a:t>
            </a:r>
            <a:endParaRPr b="1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cc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cc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8"/>
          <p:cNvSpPr/>
          <p:nvPr/>
        </p:nvSpPr>
        <p:spPr>
          <a:xfrm>
            <a:off x="1547640" y="256536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4500720" y="1773360"/>
            <a:ext cx="4321080" cy="28461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"/>
          <p:cNvPicPr/>
          <p:nvPr/>
        </p:nvPicPr>
        <p:blipFill>
          <a:blip r:embed="rId2"/>
          <a:stretch/>
        </p:blipFill>
        <p:spPr>
          <a:xfrm>
            <a:off x="0" y="1341360"/>
            <a:ext cx="4356000" cy="34750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6"/>
          <p:cNvSpPr/>
          <p:nvPr/>
        </p:nvSpPr>
        <p:spPr>
          <a:xfrm>
            <a:off x="968040" y="5157720"/>
            <a:ext cx="20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机器生产</a:t>
            </a:r>
            <a:endParaRPr b="1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5935320" y="5084640"/>
            <a:ext cx="20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手工劳动</a:t>
            </a:r>
            <a:endParaRPr b="1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276360" y="5589360"/>
            <a:ext cx="2448000" cy="360"/>
            <a:chOff x="3276360" y="5589360"/>
            <a:chExt cx="2448000" cy="360"/>
          </a:xfrm>
        </p:grpSpPr>
        <p:sp>
          <p:nvSpPr>
            <p:cNvPr id="180" name="Line 11"/>
            <p:cNvSpPr/>
            <p:nvPr/>
          </p:nvSpPr>
          <p:spPr>
            <a:xfrm>
              <a:off x="3276720" y="5589720"/>
              <a:ext cx="24476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 rot="10800000">
              <a:off x="3276360" y="5589360"/>
              <a:ext cx="2447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cc"/>
                </a:solidFill>
                <a:latin typeface="Times New Roman"/>
              </a:endParaRPr>
            </a:p>
          </p:txBody>
        </p:sp>
      </p:grpSp>
      <p:sp>
        <p:nvSpPr>
          <p:cNvPr id="182" name="Text Box 12"/>
          <p:cNvSpPr/>
          <p:nvPr/>
        </p:nvSpPr>
        <p:spPr>
          <a:xfrm>
            <a:off x="3995640" y="486900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取代</a:t>
            </a:r>
            <a:endParaRPr b="1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030"/>
          <p:cNvSpPr/>
          <p:nvPr/>
        </p:nvSpPr>
        <p:spPr>
          <a:xfrm>
            <a:off x="1841040" y="3068640"/>
            <a:ext cx="775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电话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84" name="Text Box 1033"/>
          <p:cNvSpPr/>
          <p:nvPr/>
        </p:nvSpPr>
        <p:spPr>
          <a:xfrm>
            <a:off x="1258920" y="1773360"/>
            <a:ext cx="6264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85" name="Picture 1034" descr="电话"/>
          <p:cNvPicPr/>
          <p:nvPr/>
        </p:nvPicPr>
        <p:blipFill>
          <a:blip r:embed="rId1"/>
          <a:stretch/>
        </p:blipFill>
        <p:spPr>
          <a:xfrm>
            <a:off x="-93600" y="-458640"/>
            <a:ext cx="4233960" cy="540036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26"/>
          <p:cNvSpPr/>
          <p:nvPr/>
        </p:nvSpPr>
        <p:spPr>
          <a:xfrm>
            <a:off x="5824440" y="2589120"/>
            <a:ext cx="1378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电视机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87" name="Picture 27" descr="电视"/>
          <p:cNvPicPr/>
          <p:nvPr/>
        </p:nvPicPr>
        <p:blipFill>
          <a:blip r:embed="rId2"/>
          <a:stretch/>
        </p:blipFill>
        <p:spPr>
          <a:xfrm>
            <a:off x="3924360" y="189000"/>
            <a:ext cx="2305080" cy="30319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4"/>
          <p:cNvSpPr/>
          <p:nvPr/>
        </p:nvSpPr>
        <p:spPr>
          <a:xfrm>
            <a:off x="1974960" y="5981760"/>
            <a:ext cx="1733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洗衣机 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89" name="Picture 6" descr="洗衣机"/>
          <p:cNvPicPr/>
          <p:nvPr/>
        </p:nvPicPr>
        <p:blipFill>
          <a:blip r:embed="rId3"/>
          <a:stretch/>
        </p:blipFill>
        <p:spPr>
          <a:xfrm>
            <a:off x="1541520" y="3557520"/>
            <a:ext cx="2305080" cy="23050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4"/>
          <p:cNvSpPr/>
          <p:nvPr/>
        </p:nvSpPr>
        <p:spPr>
          <a:xfrm>
            <a:off x="4716360" y="6161040"/>
            <a:ext cx="3024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全数字胃肠</a:t>
            </a:r>
            <a:r>
              <a:rPr b="1" lang="en-US" sz="2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X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光机 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91" name="Picture 6" descr="全数字胃肠X光机"/>
          <p:cNvPicPr/>
          <p:nvPr/>
        </p:nvPicPr>
        <p:blipFill>
          <a:blip r:embed="rId4"/>
          <a:stretch/>
        </p:blipFill>
        <p:spPr>
          <a:xfrm>
            <a:off x="4422600" y="3394080"/>
            <a:ext cx="3462480" cy="2766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500"/>
                            </p:stCondLst>
                            <p:childTnLst>
                              <p:par>
                                <p:cTn id="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2000"/>
                            </p:stCondLst>
                            <p:childTnLst>
                              <p:par>
                                <p:cTn id="63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500"/>
                            </p:stCondLst>
                            <p:childTnLst>
                              <p:par>
                                <p:cTn id="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116000" y="148392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一、科技给我们生活带来的变化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</a:rPr>
              <a:t>讨论：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假如我们的生活没有电灯、电话、电视、汽车、轮船、飞机等，我们的生活会是什么样？我们的社会是什么样？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电灯、电话、电视、汽车、火车、轮船、飞机 照相机、医疗设备、农田灌溉等科学产品或成果给我们的生活带来了什么样的变化？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3" name="文本框 8199"/>
          <p:cNvSpPr/>
          <p:nvPr/>
        </p:nvSpPr>
        <p:spPr>
          <a:xfrm>
            <a:off x="1327320" y="8398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 Box 9"/>
          <p:cNvSpPr/>
          <p:nvPr/>
        </p:nvSpPr>
        <p:spPr>
          <a:xfrm>
            <a:off x="1187280" y="1844640"/>
            <a:ext cx="6985080" cy="32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提问：通过刚才的学习，大家有什么体会？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结果：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这些现在看来普通不过的东西，都是百年来人们不断努力研究的成果，它们提高了人们的生活质量，让生活发生了巨大的变化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        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科学技术 与生产、生活密切相关，给我们带来了很多好处，造福人类、推动社会进步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5" name="Text Box 10"/>
          <p:cNvSpPr/>
          <p:nvPr/>
        </p:nvSpPr>
        <p:spPr>
          <a:xfrm>
            <a:off x="1042920" y="90792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一、科技给我们生活带来的变化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3"/>
          <p:cNvSpPr/>
          <p:nvPr/>
        </p:nvSpPr>
        <p:spPr>
          <a:xfrm>
            <a:off x="1692360" y="2852640"/>
            <a:ext cx="554508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　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科学技术的发展，给我们的生活带来了日新月异的变化。但是，人们在享受科学技术成果的同时，发现它们也会给我们的生活带来许多新问题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1258920" y="1773360"/>
            <a:ext cx="40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二、科技是把双刃剑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3"/>
          <p:cNvSpPr/>
          <p:nvPr/>
        </p:nvSpPr>
        <p:spPr>
          <a:xfrm>
            <a:off x="1187280" y="1268280"/>
            <a:ext cx="691200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讨论：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电脑给我们的生活带来哪些方便？它又给我们带来哪些危害？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农药给农业生产带来什么好处？它又给人带来哪些危害？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克隆、转基因给人们带来哪些惊喜？如果滥用这一技术，会造成什么后果？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　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4" descr="kl"/>
          <p:cNvPicPr/>
          <p:nvPr/>
        </p:nvPicPr>
        <p:blipFill>
          <a:blip r:embed="rId1"/>
          <a:stretch/>
        </p:blipFill>
        <p:spPr>
          <a:xfrm>
            <a:off x="755640" y="2133720"/>
            <a:ext cx="3390840" cy="34290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kli"/>
          <p:cNvPicPr/>
          <p:nvPr/>
        </p:nvPicPr>
        <p:blipFill>
          <a:blip r:embed="rId2"/>
          <a:stretch/>
        </p:blipFill>
        <p:spPr>
          <a:xfrm>
            <a:off x="4427640" y="2133720"/>
            <a:ext cx="4427280" cy="33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H:\六年级品社\r科技带给我们什么\d45eba01db4a48d4964282b39d5ed43a.jpg"/>
          <p:cNvPicPr/>
          <p:nvPr/>
        </p:nvPicPr>
        <p:blipFill>
          <a:blip r:embed="rId1"/>
          <a:stretch/>
        </p:blipFill>
        <p:spPr>
          <a:xfrm>
            <a:off x="250920" y="549360"/>
            <a:ext cx="5133960" cy="345744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3" descr="H:\六年级品社\r科技带给我们什么\33_130409130944_2.jpg"/>
          <p:cNvPicPr/>
          <p:nvPr/>
        </p:nvPicPr>
        <p:blipFill>
          <a:blip r:embed="rId2"/>
          <a:stretch/>
        </p:blipFill>
        <p:spPr>
          <a:xfrm>
            <a:off x="4932360" y="2852640"/>
            <a:ext cx="3552840" cy="33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矩形 1"/>
          <p:cNvSpPr/>
          <p:nvPr/>
        </p:nvSpPr>
        <p:spPr>
          <a:xfrm>
            <a:off x="3682800" y="162864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行楷"/>
                <a:ea typeface="华文行楷"/>
              </a:rPr>
              <a:t>全球变暖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4" name="标题 1"/>
          <p:cNvSpPr/>
          <p:nvPr/>
        </p:nvSpPr>
        <p:spPr>
          <a:xfrm>
            <a:off x="755640" y="2421000"/>
            <a:ext cx="723744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华文行楷"/>
                <a:ea typeface="华文行楷"/>
              </a:rPr>
              <a:t>臭氧层受损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5" name="矩形 3"/>
          <p:cNvSpPr/>
          <p:nvPr/>
        </p:nvSpPr>
        <p:spPr>
          <a:xfrm>
            <a:off x="3804480" y="31338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华文行楷"/>
                <a:ea typeface="华文行楷"/>
              </a:rPr>
              <a:t>核威胁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3"/>
          <p:cNvSpPr/>
          <p:nvPr/>
        </p:nvSpPr>
        <p:spPr>
          <a:xfrm>
            <a:off x="1116000" y="2708280"/>
            <a:ext cx="691200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　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你们还记得在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003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年我国流行非典型肺炎吗？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　　在农村出现了这样一种现象，他们受巫婆神汉唆使，求神拜佛、烧香磕头去请求神灵的保佑。还有地方谣传“每天晚上烧三柱香、磕三个响头、放三个炮”就可以驱除“非典”。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1258920" y="17733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三、崇尚科学，反对迷信和邪教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1"/>
          <p:cNvSpPr/>
          <p:nvPr/>
        </p:nvSpPr>
        <p:spPr>
          <a:xfrm>
            <a:off x="1042920" y="120168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一、科技给我们生活带来的变化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7" name="Text Box 22"/>
          <p:cNvSpPr/>
          <p:nvPr/>
        </p:nvSpPr>
        <p:spPr>
          <a:xfrm>
            <a:off x="1403280" y="2276640"/>
            <a:ext cx="626436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　　</a:t>
            </a:r>
            <a:r>
              <a:rPr b="1" lang="zh-CN" sz="2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科技推动着社会的进步和发展，不断地改变着我们的生活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　　科学技术深刻地影响着我们生活的方方面面。可以说我们每时每刻都在享用着科学技术给我们带来的好处和方便。我们就从生活中的科技成果说起吧。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3"/>
          <p:cNvSpPr/>
          <p:nvPr/>
        </p:nvSpPr>
        <p:spPr>
          <a:xfrm>
            <a:off x="1258920" y="2565360"/>
            <a:ext cx="6408720" cy="16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、你认为他们这样做能战胜病魔吗？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　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、为什么有人会谣言惑众，而一些人会相信？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　　</a:t>
            </a:r>
            <a:r>
              <a:rPr b="1" lang="en-US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3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、这样做的后果是什么？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1258920" y="1413000"/>
            <a:ext cx="1008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讨论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迷信害人的小故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6360" y="1557000"/>
            <a:ext cx="87854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                          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一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ts val="3798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ff00"/>
                </a:solidFill>
                <a:latin typeface="隶书"/>
                <a:ea typeface="隶书"/>
              </a:rPr>
              <a:t>河南省沈丘县纸店镇的张霞非常迷信，她属兔，丈夫属蛇，张霞听算命先生说，他们夫妇相克，需要重新拜堂才能过得好。丈夫认为这很荒谬，可经不起张霞闹腾，不得已便在岳母的主持下，又一次勉强放了花炮、拜了堂。但张霞一直对丈夫在拜堂期间表现得不够积极而耿耿于怀，有一次，张霞生病后，认为是吴杰二次拜堂时心不诚，才克得她得了病。于是经常和丈夫闹，以此作为惩罚 。丈夫被逼无奈提出离婚，她便用硫酸为丈夫毁了容。 她也因此受到应有的惩罚。</a:t>
            </a:r>
            <a:r>
              <a:rPr b="1" lang="en-US" sz="2400" spc="-1" strike="noStrike">
                <a:solidFill>
                  <a:srgbClr val="ffff00"/>
                </a:solidFill>
                <a:latin typeface="隶书"/>
                <a:ea typeface="隶书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50920" y="764640"/>
            <a:ext cx="85406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798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0" lang="zh-CN" sz="1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                </a:t>
            </a:r>
            <a:r>
              <a:rPr b="1" lang="zh-CN" sz="16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      </a:t>
            </a:r>
            <a:r>
              <a:rPr b="1" lang="zh-CN" sz="18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  </a:t>
            </a:r>
            <a:r>
              <a:rPr b="1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（二）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ts val="43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ts val="43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甘肃省灵台县西屯乡仇斌选患痢疾开始拉肚子，但其母</a:t>
            </a:r>
            <a:r>
              <a:rPr b="0" lang="zh-CN" sz="3200" spc="-1" strike="noStrike" u="sng">
                <a:solidFill>
                  <a:srgbClr val="dc3400"/>
                </a:solidFill>
                <a:uFillTx/>
                <a:latin typeface="楷体_GB2312"/>
                <a:ea typeface="楷体_GB2312"/>
                <a:hlinkClick r:id="rId1"/>
              </a:rPr>
              <a:t>姚秀娥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没有采取任何治疗措施，而是按照异端邪教的荒诞理论进行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恒切祷告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，以祈求神灵来给孩子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传福音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”“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治病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。由于这样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禁食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祷告，耽误了治疗时间，仇斌选终因急性坏死性出血性肠炎、菌血症死亡。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ts val="4399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367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0000"/>
                </a:solidFill>
                <a:latin typeface="Times New Roman"/>
                <a:ea typeface="隶书"/>
              </a:rPr>
              <a:t>议一议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834920" y="1701360"/>
            <a:ext cx="5492520" cy="38862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1500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隶书"/>
              </a:rPr>
              <a:t>面对这些封建迷信你怎样看待？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10920" y="549360"/>
            <a:ext cx="259236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我知道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23640" y="1773360"/>
            <a:ext cx="8280360" cy="23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" spc="-1" strike="noStrike">
                <a:solidFill>
                  <a:srgbClr val="0000cc"/>
                </a:solidFill>
                <a:latin typeface="仿宋_GB2312"/>
                <a:ea typeface="仿宋_GB2312"/>
              </a:rPr>
              <a:t>  </a:t>
            </a:r>
            <a:r>
              <a:rPr b="1" lang="zh-CN" sz="2400" spc="-1" strike="noStrike">
                <a:solidFill>
                  <a:srgbClr val="cc0000"/>
                </a:solidFill>
                <a:latin typeface="隶书"/>
                <a:ea typeface="隶书"/>
              </a:rPr>
              <a:t>现象一：</a:t>
            </a:r>
            <a:r>
              <a:rPr b="1" lang="zh-CN" sz="24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夏天的晚上，人们有时会看到坟地里有蓝绿色的火焰，若隐若现，飘忽不定，更奇怪的是：它会跟着人走，你停它也停下，你跑它也跟着你跑。迷信者就说这是“鬼”在夜间出门照路的“鬼火”，你知道这是怎么回事吗？</a:t>
            </a: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ts val="3399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7" name="Text Box 4"/>
          <p:cNvSpPr/>
          <p:nvPr/>
        </p:nvSpPr>
        <p:spPr>
          <a:xfrm>
            <a:off x="755640" y="4005360"/>
            <a:ext cx="749160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因为人骨中含有大量的磷质，死后会溢出，遇空气会自燃，而且磷较轻，人跑时会带动空气，造成磷火跟随气流，所以称为“鬼火” </a:t>
            </a: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900000" y="5013360"/>
            <a:ext cx="7267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9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1344600" y="1494000"/>
            <a:ext cx="6035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1" name="Text Box 3"/>
          <p:cNvSpPr/>
          <p:nvPr/>
        </p:nvSpPr>
        <p:spPr>
          <a:xfrm>
            <a:off x="755640" y="1341360"/>
            <a:ext cx="766908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隶书"/>
                <a:ea typeface="隶书"/>
              </a:rPr>
              <a:t>现象二：</a:t>
            </a: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在扫墓烧纸钱时有时也会刮起一阵旋风 ，迷信的人说是“鬼”来抢钱了，你知道是怎么回事吗？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826920" y="3286080"/>
            <a:ext cx="770436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其实，这是空气流动的现象。由于火堆上方的空气急剧升温，气流上升很快，四周的冷空气补充也快 ，因此，产生了旋风。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  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3"/>
          <p:cNvSpPr/>
          <p:nvPr/>
        </p:nvSpPr>
        <p:spPr>
          <a:xfrm>
            <a:off x="1619280" y="2205000"/>
            <a:ext cx="64087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　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查资料，了解“法轮功”制造出一件件触目惊心、残害生命的滔天罪行，对人类欠下了一笔笔血债。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1258920" y="141300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三、崇尚科学，反对迷信和邪教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25" name="Picture 9" descr="非法集会"/>
          <p:cNvPicPr/>
          <p:nvPr/>
        </p:nvPicPr>
        <p:blipFill>
          <a:blip r:embed="rId1"/>
          <a:stretch/>
        </p:blipFill>
        <p:spPr>
          <a:xfrm>
            <a:off x="2908440" y="3987720"/>
            <a:ext cx="3679560" cy="2536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04560" y="1980720"/>
            <a:ext cx="4190760" cy="18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72000" y="259920"/>
            <a:ext cx="4191120" cy="582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这个青春靓丽的女孩名叫陈果，曾经是音乐学院大二的学生，由于受其练邪教法轮功母亲的影响</a:t>
            </a:r>
            <a:r>
              <a:rPr b="0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,</a:t>
            </a:r>
            <a:r>
              <a:rPr b="0" lang="zh-CN" sz="3600" spc="-1" strike="noStrike">
                <a:solidFill>
                  <a:srgbClr val="0000cc"/>
                </a:solidFill>
                <a:latin typeface="隶书"/>
                <a:ea typeface="隶书"/>
              </a:rPr>
              <a:t>跟随妈妈到天安门广场自焚。虽然抢救及时保住了性命，但她俏丽的容颜却一去不返了。留下的是这样一张惨不忍睹的脸 。 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                      </a:t>
            </a:r>
            <a:r>
              <a:rPr b="0" lang="zh-CN" sz="2800" spc="-1" strike="noStrike">
                <a:solidFill>
                  <a:srgbClr val="0000cc"/>
                </a:solidFill>
                <a:latin typeface="Times New Roman"/>
              </a:rPr>
              <a:t>          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28" name="Picture 4" descr="自焚前的陈果是中央音乐学院学生，青春靓丽。 （图片来源：凯风网）"/>
          <p:cNvPicPr/>
          <p:nvPr/>
        </p:nvPicPr>
        <p:blipFill>
          <a:blip r:embed="rId1"/>
          <a:stretch/>
        </p:blipFill>
        <p:spPr>
          <a:xfrm>
            <a:off x="34920" y="1440"/>
            <a:ext cx="4537080" cy="3140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u=1834964760,4271461681&amp;fm=15&amp;gp=0"/>
          <p:cNvPicPr/>
          <p:nvPr/>
        </p:nvPicPr>
        <p:blipFill>
          <a:blip r:embed="rId2"/>
          <a:stretch/>
        </p:blipFill>
        <p:spPr>
          <a:xfrm>
            <a:off x="0" y="3139920"/>
            <a:ext cx="4535640" cy="371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852360" y="43920"/>
            <a:ext cx="5256360" cy="640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ts val="3098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0" lang="zh-CN" sz="1800" spc="-1" strike="noStrike">
                <a:solidFill>
                  <a:srgbClr val="0000cc"/>
                </a:solidFill>
                <a:latin typeface="隶书"/>
                <a:ea typeface="隶书"/>
              </a:rPr>
              <a:t>  </a:t>
            </a:r>
            <a:r>
              <a:rPr b="1" lang="zh-CN" sz="20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2001</a:t>
            </a:r>
            <a:r>
              <a:rPr b="1" lang="zh-CN" sz="20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年</a:t>
            </a:r>
            <a:r>
              <a:rPr b="1" lang="zh-CN" sz="20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11</a:t>
            </a:r>
            <a:r>
              <a:rPr b="1" lang="zh-CN" sz="20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月</a:t>
            </a:r>
            <a:r>
              <a:rPr b="1" lang="zh-CN" sz="20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25</a:t>
            </a:r>
            <a:r>
              <a:rPr b="1" lang="zh-CN" sz="2000" spc="-1" strike="noStrike">
                <a:solidFill>
                  <a:srgbClr val="ffff00"/>
                </a:solidFill>
                <a:latin typeface="仿宋_GB2312"/>
                <a:ea typeface="仿宋_GB2312"/>
              </a:rPr>
              <a:t>日，北京西城区德胜门西大街一幢居民楼里，发生了一起罕见的惨案。一名受“法轮功”邪教毒害的痴迷者，亲手杀害了深爱着他的父亲和妻子，将母亲砍成重伤。使这个原本幸福的五口之家，转瞬间家破人亡。而中毒太深的杀人凶手傅怡彬却说：“我想人太执著。当离开肉身的时候简直是不得了，有什么关系，我实际上是救你的性，而且是永远还你一个真命嘛！从我这里修出来以后，就是你的真命。你怕什么？”他还说：“他杀害自己的亲人是“为了修‘元婴’，是在救他们……我把他们杀了以后，他们３个人的‘元神’、‘本体’直接入我的小腹，然后形成太阳地球、月亮这种宇宙结构，在我的小腹、丹田处不停地转……”</a:t>
            </a:r>
            <a:endParaRPr b="0" lang="en-US" sz="20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31" name="Picture 3" descr="u=189557758,536703837&amp;fm=0&amp;gp=0"/>
          <p:cNvPicPr/>
          <p:nvPr/>
        </p:nvPicPr>
        <p:blipFill>
          <a:blip r:embed="rId1"/>
          <a:stretch/>
        </p:blipFill>
        <p:spPr>
          <a:xfrm>
            <a:off x="-33480" y="44280"/>
            <a:ext cx="4245120" cy="3888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4" descr="u=610480803,2580926832&amp;fm=0&amp;gp=0"/>
          <p:cNvPicPr/>
          <p:nvPr/>
        </p:nvPicPr>
        <p:blipFill>
          <a:blip r:embed="rId2"/>
          <a:stretch/>
        </p:blipFill>
        <p:spPr>
          <a:xfrm>
            <a:off x="-33480" y="3935520"/>
            <a:ext cx="4245120" cy="29350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5"/>
          <p:cNvSpPr/>
          <p:nvPr/>
        </p:nvSpPr>
        <p:spPr>
          <a:xfrm>
            <a:off x="-4749120" y="3137400"/>
            <a:ext cx="119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……”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5"/>
          <p:cNvSpPr/>
          <p:nvPr/>
        </p:nvSpPr>
        <p:spPr>
          <a:xfrm>
            <a:off x="1258920" y="17733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三、崇尚科学，反对迷信和邪教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235" name="Picture 6" descr="自焚前的刘思颖"/>
          <p:cNvPicPr/>
          <p:nvPr/>
        </p:nvPicPr>
        <p:blipFill>
          <a:blip r:embed="rId1"/>
          <a:stretch/>
        </p:blipFill>
        <p:spPr>
          <a:xfrm>
            <a:off x="1684440" y="2565360"/>
            <a:ext cx="2160360" cy="33829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自焚后的刘思颖"/>
          <p:cNvPicPr/>
          <p:nvPr/>
        </p:nvPicPr>
        <p:blipFill>
          <a:blip r:embed="rId2"/>
          <a:stretch/>
        </p:blipFill>
        <p:spPr>
          <a:xfrm>
            <a:off x="4140360" y="2854440"/>
            <a:ext cx="4032000" cy="29509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8"/>
          <p:cNvSpPr/>
          <p:nvPr/>
        </p:nvSpPr>
        <p:spPr>
          <a:xfrm>
            <a:off x="4788000" y="5877000"/>
            <a:ext cx="259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自焚后的刘思颖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1547640" y="5950080"/>
            <a:ext cx="2735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自焚前的刘思颖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H:\六年级品社\r科技带给我们什么\1240111548.jpg"/>
          <p:cNvPicPr/>
          <p:nvPr/>
        </p:nvPicPr>
        <p:blipFill>
          <a:blip r:embed="rId1"/>
          <a:stretch/>
        </p:blipFill>
        <p:spPr>
          <a:xfrm>
            <a:off x="4427640" y="687240"/>
            <a:ext cx="3565440" cy="22003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H:\六年级品社\r科技带给我们什么\132753_171.jpg"/>
          <p:cNvPicPr/>
          <p:nvPr/>
        </p:nvPicPr>
        <p:blipFill>
          <a:blip r:embed="rId2"/>
          <a:stretch/>
        </p:blipFill>
        <p:spPr>
          <a:xfrm>
            <a:off x="395280" y="404640"/>
            <a:ext cx="3456000" cy="2765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H:\六年级品社\r科技带给我们什么\20091231131955778.jpg"/>
          <p:cNvPicPr/>
          <p:nvPr/>
        </p:nvPicPr>
        <p:blipFill>
          <a:blip r:embed="rId3"/>
          <a:stretch/>
        </p:blipFill>
        <p:spPr>
          <a:xfrm>
            <a:off x="395280" y="3357720"/>
            <a:ext cx="3672000" cy="24476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H:\六年级品社\r科技带给我们什么\20096181037380.jpg"/>
          <p:cNvPicPr/>
          <p:nvPr/>
        </p:nvPicPr>
        <p:blipFill>
          <a:blip r:embed="rId4"/>
          <a:stretch/>
        </p:blipFill>
        <p:spPr>
          <a:xfrm>
            <a:off x="4037040" y="3068640"/>
            <a:ext cx="2173320" cy="3335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H:\六年级品社\r科技带给我们什么\2007511102835449.jpg"/>
          <p:cNvPicPr/>
          <p:nvPr/>
        </p:nvPicPr>
        <p:blipFill>
          <a:blip r:embed="rId5"/>
          <a:stretch/>
        </p:blipFill>
        <p:spPr>
          <a:xfrm>
            <a:off x="6210360" y="3170160"/>
            <a:ext cx="2805120" cy="324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 Box 3"/>
          <p:cNvSpPr/>
          <p:nvPr/>
        </p:nvSpPr>
        <p:spPr>
          <a:xfrm>
            <a:off x="1258920" y="177336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三、崇尚科学，反对迷信和邪教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0" name="Text Box 7"/>
          <p:cNvSpPr/>
          <p:nvPr/>
        </p:nvSpPr>
        <p:spPr>
          <a:xfrm>
            <a:off x="1187280" y="2708280"/>
            <a:ext cx="6840720" cy="10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　　</a:t>
            </a:r>
            <a:r>
              <a:rPr b="1" lang="zh-CN" sz="2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科学的进步，推动了人类社会的发展。但是现代社会中仍然存在着一些迷信和伪科学现象。这就使人们认识到，对大千世界的万事万物，我们应当学会用科学知识武装自己的头脑，用科学的眼光去判断、分析和认识，这样才不会因愚昧无知，走入精神误区。</a:t>
            </a:r>
            <a:r>
              <a:rPr b="1" lang="zh-CN" sz="2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E7E07-2296-4100-AB07-ECC4B80C96E7}" type="slidenum">
              <a:rPr b="0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2195280" y="909720"/>
            <a:ext cx="5329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Times New Roman"/>
                <a:ea typeface="隶书"/>
              </a:rPr>
              <a:t>同学们，要记住，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Times New Roman"/>
                <a:ea typeface="隶书"/>
              </a:rPr>
              <a:t>人世间，鬼神无。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Times New Roman"/>
                <a:ea typeface="隶书"/>
              </a:rPr>
              <a:t>信邪教，更可恶，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Times New Roman"/>
                <a:ea typeface="隶书"/>
              </a:rPr>
              <a:t>害自己，害亲属。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Times New Roman"/>
                <a:ea typeface="隶书"/>
              </a:rPr>
              <a:t>破迷信，反邪教，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000"/>
                </a:solidFill>
                <a:latin typeface="Times New Roman"/>
                <a:ea typeface="隶书"/>
              </a:rPr>
              <a:t>用科学，最有效。 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0" descr="4816881276449601035"/>
          <p:cNvPicPr/>
          <p:nvPr/>
        </p:nvPicPr>
        <p:blipFill>
          <a:blip r:embed="rId1"/>
          <a:stretch/>
        </p:blipFill>
        <p:spPr>
          <a:xfrm>
            <a:off x="1143000" y="1103400"/>
            <a:ext cx="2519280" cy="17715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未知"/>
          <p:cNvSpPr/>
          <p:nvPr/>
        </p:nvSpPr>
        <p:spPr>
          <a:xfrm>
            <a:off x="3735360" y="1319040"/>
            <a:ext cx="144000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6778" y="1290"/>
                </a:lnTo>
                <a:lnTo>
                  <a:pt x="13605" y="7171"/>
                </a:lnTo>
                <a:lnTo>
                  <a:pt x="13451" y="9583"/>
                </a:lnTo>
                <a:lnTo>
                  <a:pt x="17876" y="13074"/>
                </a:lnTo>
                <a:lnTo>
                  <a:pt x="21600" y="21600"/>
                </a:lnTo>
              </a:path>
            </a:pathLst>
          </a:custGeom>
          <a:noFill/>
          <a:ln w="38160">
            <a:solidFill>
              <a:srgbClr val="ff99cc"/>
            </a:solidFill>
            <a:prstDash val="dashDot"/>
            <a:round/>
            <a:tailEnd len="med" type="triangle" w="med"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35" name="Picture 15" descr="2007061809001763946200"/>
          <p:cNvPicPr/>
          <p:nvPr/>
        </p:nvPicPr>
        <p:blipFill>
          <a:blip r:embed="rId2"/>
          <a:stretch/>
        </p:blipFill>
        <p:spPr>
          <a:xfrm>
            <a:off x="5607000" y="1103400"/>
            <a:ext cx="2519280" cy="1716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9" descr="20090410142325"/>
          <p:cNvPicPr/>
          <p:nvPr/>
        </p:nvPicPr>
        <p:blipFill>
          <a:blip r:embed="rId3"/>
          <a:stretch/>
        </p:blipFill>
        <p:spPr>
          <a:xfrm>
            <a:off x="5535720" y="4495680"/>
            <a:ext cx="2189160" cy="1692360"/>
          </a:xfrm>
          <a:prstGeom prst="rect">
            <a:avLst/>
          </a:prstGeom>
          <a:ln w="0">
            <a:noFill/>
          </a:ln>
        </p:spPr>
      </p:pic>
      <p:sp>
        <p:nvSpPr>
          <p:cNvPr id="137" name="未知"/>
          <p:cNvSpPr/>
          <p:nvPr/>
        </p:nvSpPr>
        <p:spPr>
          <a:xfrm rot="10980000">
            <a:off x="3742920" y="4668480"/>
            <a:ext cx="144000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6778" y="1290"/>
                </a:lnTo>
                <a:lnTo>
                  <a:pt x="13605" y="7171"/>
                </a:lnTo>
                <a:lnTo>
                  <a:pt x="13451" y="9583"/>
                </a:lnTo>
                <a:lnTo>
                  <a:pt x="17876" y="13074"/>
                </a:lnTo>
                <a:lnTo>
                  <a:pt x="21600" y="21600"/>
                </a:lnTo>
              </a:path>
            </a:pathLst>
          </a:custGeom>
          <a:noFill/>
          <a:ln w="38160">
            <a:solidFill>
              <a:srgbClr val="ff99cc"/>
            </a:solidFill>
            <a:prstDash val="dashDot"/>
            <a:round/>
            <a:tailEnd len="med" type="triangle" w="med"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38" name="Picture 24" descr="01300000190639121840520871943"/>
          <p:cNvPicPr/>
          <p:nvPr/>
        </p:nvPicPr>
        <p:blipFill>
          <a:blip r:embed="rId4"/>
          <a:stretch/>
        </p:blipFill>
        <p:spPr>
          <a:xfrm>
            <a:off x="782640" y="4272120"/>
            <a:ext cx="2259000" cy="169200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29"/>
          <p:cNvSpPr/>
          <p:nvPr/>
        </p:nvSpPr>
        <p:spPr>
          <a:xfrm>
            <a:off x="5123160" y="1103400"/>
            <a:ext cx="115524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幼圆"/>
              </a:rPr>
              <a:t>人造皮革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0" name="Text Box 30"/>
          <p:cNvSpPr/>
          <p:nvPr/>
        </p:nvSpPr>
        <p:spPr>
          <a:xfrm>
            <a:off x="2513520" y="3408480"/>
            <a:ext cx="11552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幼圆"/>
              </a:rPr>
              <a:t>合成纤维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1" name="Text Box 31"/>
          <p:cNvSpPr/>
          <p:nvPr/>
        </p:nvSpPr>
        <p:spPr>
          <a:xfrm>
            <a:off x="4956480" y="4159080"/>
            <a:ext cx="1155240" cy="11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幼圆"/>
              </a:rPr>
              <a:t>丝 棉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2" name="未知"/>
          <p:cNvSpPr/>
          <p:nvPr/>
        </p:nvSpPr>
        <p:spPr>
          <a:xfrm>
            <a:off x="3807000" y="1174680"/>
            <a:ext cx="143964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6778" y="1290"/>
                </a:lnTo>
                <a:lnTo>
                  <a:pt x="13605" y="7171"/>
                </a:lnTo>
                <a:lnTo>
                  <a:pt x="13451" y="9583"/>
                </a:lnTo>
                <a:lnTo>
                  <a:pt x="17876" y="13074"/>
                </a:lnTo>
                <a:lnTo>
                  <a:pt x="21600" y="21600"/>
                </a:lnTo>
              </a:path>
            </a:pathLst>
          </a:custGeom>
          <a:noFill/>
          <a:ln w="38160">
            <a:solidFill>
              <a:srgbClr val="ff99cc"/>
            </a:solidFill>
            <a:prstDash val="dashDot"/>
            <a:round/>
            <a:tailEnd len="med" type="triangle" w="med"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3" name="未知"/>
          <p:cNvSpPr/>
          <p:nvPr/>
        </p:nvSpPr>
        <p:spPr>
          <a:xfrm rot="10980000">
            <a:off x="3600000" y="4955760"/>
            <a:ext cx="1440000" cy="360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6778" y="1290"/>
                </a:lnTo>
                <a:lnTo>
                  <a:pt x="13605" y="7171"/>
                </a:lnTo>
                <a:lnTo>
                  <a:pt x="13451" y="9583"/>
                </a:lnTo>
                <a:lnTo>
                  <a:pt x="17876" y="13074"/>
                </a:lnTo>
                <a:lnTo>
                  <a:pt x="21600" y="21600"/>
                </a:lnTo>
              </a:path>
            </a:pathLst>
          </a:custGeom>
          <a:noFill/>
          <a:ln w="38160">
            <a:solidFill>
              <a:srgbClr val="ff99cc"/>
            </a:solidFill>
            <a:prstDash val="dashDot"/>
            <a:round/>
            <a:tailEnd len="med" type="triangle" w="med"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44" name="WordArt 34"/>
          <p:cNvSpPr txBox="1"/>
          <p:nvPr/>
        </p:nvSpPr>
        <p:spPr>
          <a:xfrm>
            <a:off x="4311720" y="2038320"/>
            <a:ext cx="5587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宋体"/>
              </a:rPr>
              <a:t>演</a:t>
            </a:r>
            <a:endParaRPr b="1" lang="en-US" sz="4400" spc="-1" strike="noStrike">
              <a:ln w="0">
                <a:noFill/>
              </a:ln>
              <a:blipFill rotWithShape="0">
                <a:blip r:embed="rId6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45" name="WordArt 35"/>
          <p:cNvSpPr txBox="1"/>
          <p:nvPr/>
        </p:nvSpPr>
        <p:spPr>
          <a:xfrm>
            <a:off x="4311720" y="4054320"/>
            <a:ext cx="55872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0">
                  <a:noFill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宋体"/>
              </a:rPr>
              <a:t>变</a:t>
            </a:r>
            <a:endParaRPr b="1" lang="en-US" sz="4400" spc="-1" strike="noStrike">
              <a:ln w="0">
                <a:noFill/>
              </a:ln>
              <a:blipFill rotWithShape="0">
                <a:blip r:embed="rId8"/>
                <a:srcRect/>
                <a:tile tx="0" ty="0" sx="100000" sy="100000" algn="ctr"/>
              </a:blipFill>
              <a:latin typeface="宋体"/>
              <a:ea typeface="宋体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2437200" y="1082520"/>
            <a:ext cx="115524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幼圆"/>
              </a:rPr>
              <a:t>兽皮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H:\六年级品社\r科技带给我们什么\1189866_00_main.jpg"/>
          <p:cNvPicPr/>
          <p:nvPr/>
        </p:nvPicPr>
        <p:blipFill>
          <a:blip r:embed="rId1"/>
          <a:stretch/>
        </p:blipFill>
        <p:spPr>
          <a:xfrm>
            <a:off x="919080" y="336384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H:\六年级品社\r科技带给我们什么\132066902263859400.jpg"/>
          <p:cNvPicPr/>
          <p:nvPr/>
        </p:nvPicPr>
        <p:blipFill>
          <a:blip r:embed="rId2"/>
          <a:stretch/>
        </p:blipFill>
        <p:spPr>
          <a:xfrm>
            <a:off x="4344840" y="692280"/>
            <a:ext cx="4191120" cy="26668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H:\六年级品社\r科技带给我们什么\134563950.jpg"/>
          <p:cNvPicPr/>
          <p:nvPr/>
        </p:nvPicPr>
        <p:blipFill>
          <a:blip r:embed="rId3"/>
          <a:stretch/>
        </p:blipFill>
        <p:spPr>
          <a:xfrm>
            <a:off x="611280" y="333360"/>
            <a:ext cx="3816360" cy="2862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H:\六年级品社\r科技带给我们什么\b2b_20110221041824176332.jpg"/>
          <p:cNvPicPr/>
          <p:nvPr/>
        </p:nvPicPr>
        <p:blipFill>
          <a:blip r:embed="rId4"/>
          <a:stretch/>
        </p:blipFill>
        <p:spPr>
          <a:xfrm>
            <a:off x="5076720" y="3516480"/>
            <a:ext cx="3048120" cy="304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11"/>
          <p:cNvSpPr/>
          <p:nvPr/>
        </p:nvSpPr>
        <p:spPr>
          <a:xfrm>
            <a:off x="1533600" y="448308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7300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007300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www.1ppt.com/sucai/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7300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007300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www.1ppt.com/tubiao/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7300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007300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www.1ppt.com/powerpoint/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7300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007300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www.1ppt.com/fanwen/       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7300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007300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www.1ppt.com/jiaoan/         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007300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007300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www.1ppt.com/kejian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7300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007300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www.1ppt.com/kejian/shuxue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7300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007300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www.1ppt.com/kejian/meishu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7300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007300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www.1ppt.com/kejian/wuli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7300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007300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www.1ppt.com/kejian/shengwu/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7300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007300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007300"/>
                </a:solidFill>
                <a:latin typeface="Calibri"/>
                <a:ea typeface="宋体"/>
              </a:rPr>
              <a:t>www.1ppt.com/kejian/lishi/        </a:t>
            </a:r>
            <a:endParaRPr b="1" lang="en-US" sz="1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52" name="Picture 10" descr="xin_57302062510543432140430"/>
          <p:cNvPicPr/>
          <p:nvPr/>
        </p:nvPicPr>
        <p:blipFill>
          <a:blip r:embed="rId1"/>
          <a:stretch/>
        </p:blipFill>
        <p:spPr>
          <a:xfrm>
            <a:off x="900000" y="598320"/>
            <a:ext cx="1890720" cy="15703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71836"/>
          <p:cNvPicPr/>
          <p:nvPr/>
        </p:nvPicPr>
        <p:blipFill>
          <a:blip r:embed="rId2"/>
          <a:stretch/>
        </p:blipFill>
        <p:spPr>
          <a:xfrm>
            <a:off x="2771640" y="598320"/>
            <a:ext cx="2162160" cy="15843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3"/>
          <p:cNvSpPr/>
          <p:nvPr/>
        </p:nvSpPr>
        <p:spPr>
          <a:xfrm>
            <a:off x="835200" y="2282760"/>
            <a:ext cx="41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ff"/>
                </a:solidFill>
                <a:latin typeface="Times New Roman"/>
                <a:ea typeface="幼圆"/>
              </a:rPr>
              <a:t>各式各样的方便食品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55" name="Picture 14" descr="MY_682_20080803013307_1"/>
          <p:cNvPicPr/>
          <p:nvPr/>
        </p:nvPicPr>
        <p:blipFill>
          <a:blip r:embed="rId3"/>
          <a:stretch/>
        </p:blipFill>
        <p:spPr>
          <a:xfrm>
            <a:off x="6445080" y="2687760"/>
            <a:ext cx="1920960" cy="1439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212_5594"/>
          <p:cNvPicPr/>
          <p:nvPr/>
        </p:nvPicPr>
        <p:blipFill>
          <a:blip r:embed="rId4"/>
          <a:stretch/>
        </p:blipFill>
        <p:spPr>
          <a:xfrm>
            <a:off x="4572000" y="2687760"/>
            <a:ext cx="1920960" cy="1439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16"/>
          <p:cNvSpPr/>
          <p:nvPr/>
        </p:nvSpPr>
        <p:spPr>
          <a:xfrm>
            <a:off x="2268360" y="311940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ff"/>
                </a:solidFill>
                <a:latin typeface="Times New Roman"/>
                <a:ea typeface="幼圆"/>
              </a:rPr>
              <a:t>食物已不分季节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58" name="Picture 18" descr="U124P4T8D1658783F107DT20090422163716"/>
          <p:cNvPicPr/>
          <p:nvPr/>
        </p:nvPicPr>
        <p:blipFill>
          <a:blip r:embed="rId5"/>
          <a:stretch/>
        </p:blipFill>
        <p:spPr>
          <a:xfrm>
            <a:off x="900000" y="4270320"/>
            <a:ext cx="1828800" cy="1592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9" descr="200812210714258"/>
          <p:cNvPicPr/>
          <p:nvPr/>
        </p:nvPicPr>
        <p:blipFill>
          <a:blip r:embed="rId6"/>
          <a:stretch/>
        </p:blipFill>
        <p:spPr>
          <a:xfrm>
            <a:off x="2700360" y="4272120"/>
            <a:ext cx="1728720" cy="158400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20"/>
          <p:cNvSpPr/>
          <p:nvPr/>
        </p:nvSpPr>
        <p:spPr>
          <a:xfrm>
            <a:off x="4638600" y="4721400"/>
            <a:ext cx="35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ff"/>
                </a:solidFill>
                <a:latin typeface="Times New Roman"/>
                <a:ea typeface="幼圆"/>
              </a:rPr>
              <a:t>食物已不分地域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041"/>
          <p:cNvSpPr/>
          <p:nvPr/>
        </p:nvSpPr>
        <p:spPr>
          <a:xfrm>
            <a:off x="5796000" y="5877000"/>
            <a:ext cx="13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收割机 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1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62" name="Picture 1048" descr="收割机"/>
          <p:cNvPicPr/>
          <p:nvPr/>
        </p:nvPicPr>
        <p:blipFill>
          <a:blip r:embed="rId1"/>
          <a:stretch/>
        </p:blipFill>
        <p:spPr>
          <a:xfrm>
            <a:off x="4711680" y="3568680"/>
            <a:ext cx="3294000" cy="24526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插秧机"/>
          <p:cNvPicPr/>
          <p:nvPr/>
        </p:nvPicPr>
        <p:blipFill>
          <a:blip r:embed="rId2"/>
          <a:stretch/>
        </p:blipFill>
        <p:spPr>
          <a:xfrm>
            <a:off x="5033880" y="662040"/>
            <a:ext cx="3211560" cy="221436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9"/>
          <p:cNvSpPr/>
          <p:nvPr/>
        </p:nvSpPr>
        <p:spPr>
          <a:xfrm>
            <a:off x="8244000" y="1584360"/>
            <a:ext cx="7048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插秧机 </a:t>
            </a:r>
            <a:endParaRPr b="1" lang="en-US" sz="2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65" name="Picture 3" descr="H:\六年级品社\r科技带给我们什么\1080_20121123211137361354_1.jpg"/>
          <p:cNvPicPr/>
          <p:nvPr/>
        </p:nvPicPr>
        <p:blipFill>
          <a:blip r:embed="rId3"/>
          <a:stretch/>
        </p:blipFill>
        <p:spPr>
          <a:xfrm>
            <a:off x="684360" y="585720"/>
            <a:ext cx="4027320" cy="2819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H:\六年级品社\r科技带给我们什么\2381_110914113330_1.jpg"/>
          <p:cNvPicPr/>
          <p:nvPr/>
        </p:nvPicPr>
        <p:blipFill>
          <a:blip r:embed="rId4"/>
          <a:stretch/>
        </p:blipFill>
        <p:spPr>
          <a:xfrm>
            <a:off x="684360" y="3586320"/>
            <a:ext cx="4071960" cy="248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0" descr="pic_20071016220140_119b32c3-79ad-4d8f-b426-0f00805c08c6"/>
          <p:cNvPicPr/>
          <p:nvPr/>
        </p:nvPicPr>
        <p:blipFill>
          <a:blip r:embed="rId1"/>
          <a:stretch/>
        </p:blipFill>
        <p:spPr>
          <a:xfrm>
            <a:off x="250920" y="1158840"/>
            <a:ext cx="4076640" cy="3059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12718457584bced37e6b854"/>
          <p:cNvPicPr/>
          <p:nvPr/>
        </p:nvPicPr>
        <p:blipFill>
          <a:blip r:embed="rId2"/>
          <a:stretch/>
        </p:blipFill>
        <p:spPr>
          <a:xfrm>
            <a:off x="4500720" y="2087640"/>
            <a:ext cx="3917880" cy="293832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8"/>
          <p:cNvSpPr/>
          <p:nvPr/>
        </p:nvSpPr>
        <p:spPr>
          <a:xfrm>
            <a:off x="3059280" y="5373720"/>
            <a:ext cx="22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幼圆"/>
              </a:rPr>
              <a:t>楼层从低到高</a:t>
            </a:r>
            <a:endParaRPr b="1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4" descr="第一次工业革命的火车"/>
          <p:cNvPicPr/>
          <p:nvPr/>
        </p:nvPicPr>
        <p:blipFill>
          <a:blip r:embed="rId1"/>
          <a:srcRect l="0" t="0" r="-68" b="-26"/>
          <a:stretch/>
        </p:blipFill>
        <p:spPr>
          <a:xfrm>
            <a:off x="826920" y="836640"/>
            <a:ext cx="3168720" cy="27367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日本新干线"/>
          <p:cNvPicPr/>
          <p:nvPr/>
        </p:nvPicPr>
        <p:blipFill>
          <a:blip r:embed="rId2"/>
          <a:srcRect l="0" t="0" r="-55" b="0"/>
          <a:stretch/>
        </p:blipFill>
        <p:spPr>
          <a:xfrm>
            <a:off x="4500720" y="765000"/>
            <a:ext cx="3671640" cy="2808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"/>
          <p:cNvPicPr/>
          <p:nvPr/>
        </p:nvPicPr>
        <p:blipFill>
          <a:blip r:embed="rId3"/>
          <a:stretch/>
        </p:blipFill>
        <p:spPr>
          <a:xfrm>
            <a:off x="826920" y="3860640"/>
            <a:ext cx="3095640" cy="22482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"/>
          <p:cNvPicPr/>
          <p:nvPr/>
        </p:nvPicPr>
        <p:blipFill>
          <a:blip r:embed="rId4"/>
          <a:stretch/>
        </p:blipFill>
        <p:spPr>
          <a:xfrm>
            <a:off x="4572000" y="3645000"/>
            <a:ext cx="3486240" cy="275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05:48:04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9:06Z</dcterms:modified>
  <cp:revision>12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