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type.wav" ContentType="audio/x-wav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B2E-8979-4C7E-B546-372D25D3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CA2-2EC8-4E80-8A7F-0629297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A33-B55A-48B0-8F1D-23DF176C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682-9F5E-4E91-8F9E-96D186CA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D276-7BCC-410E-9136-084D259F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C9A1-5C77-4F36-906C-E69AA577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546A-D0B7-42A9-8BF3-3FA15605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5D2-EAA4-4596-931F-1BC75858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2E56-BA55-4903-98D3-4EDB1F0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1B03-216D-4547-92CC-6ECAEE3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124B-74BE-4377-A81A-9D42D30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8EE-7DCD-4DC1-B207-8ABE2DB2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2FEB-5173-446F-9F5B-31A4F0F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1EE-BCB6-4E62-9DD0-1E50E48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83A2-7A40-462D-9586-03B0A58A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563-FE8B-4DD2-9700-91AA5069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5DC4-7BFD-46DB-B017-2D81A510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591-9A61-4579-BE98-405319D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C2F-8E51-4049-9933-6E25B5A6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6E7-CFB7-4BAD-BD75-D404FE7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4D-51E6-49D8-B193-20FCA098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E40-E5FB-492B-AA30-43B4597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33F-A633-46DB-B8E5-E67FB95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014-8B27-4475-B5C3-D960A9D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D73C-21EC-45CA-A628-E62AD91D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8A1D-F27F-44A1-9DBD-CAA64EFDD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11280" y="1773360"/>
            <a:ext cx="799308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跨越百年的美丽小学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16000" y="836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教版六年级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1476360" y="278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居里夫人1"/>
          <p:cNvPicPr/>
          <p:nvPr/>
        </p:nvPicPr>
        <p:blipFill>
          <a:blip r:embed="rId2"/>
          <a:stretch/>
        </p:blipFill>
        <p:spPr>
          <a:xfrm>
            <a:off x="636480" y="223848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居里夫人3"/>
          <p:cNvPicPr/>
          <p:nvPr/>
        </p:nvPicPr>
        <p:blipFill>
          <a:blip r:embed="rId3"/>
          <a:stretch/>
        </p:blipFill>
        <p:spPr>
          <a:xfrm>
            <a:off x="3246480" y="333360"/>
            <a:ext cx="2663640" cy="377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居里夫人4"/>
          <p:cNvPicPr/>
          <p:nvPr/>
        </p:nvPicPr>
        <p:blipFill>
          <a:blip r:embed="rId4"/>
          <a:stretch/>
        </p:blipFill>
        <p:spPr>
          <a:xfrm>
            <a:off x="5908680" y="2162160"/>
            <a:ext cx="2565360" cy="358128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857680" y="5948280"/>
            <a:ext cx="39589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3964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居里夫人生平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16765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居里夫人即玛丽居里（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Marie Curie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），是一位原籍为波兰的法国科学家。她与她的丈夫皮埃尔居里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Pierre Curie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都是放射性的早期研究者，他们发现了放射性元素钋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Po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和镭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Ra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并因此与法国物理学家亨利贝克勒尔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Henry Becquerel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分享了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03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诺贝尔物理学奖。之后，居里夫人继续研究了镭在化学和医学上的应用，并且因分离出纯的金属镭而又获得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11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诺贝尔化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199"/>
          <p:cNvSpPr/>
          <p:nvPr/>
        </p:nvSpPr>
        <p:spPr>
          <a:xfrm>
            <a:off x="234000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11280" y="19890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认为居里夫人的“美丽”表现在哪些方面？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（找出文章当中的句子，并用自己的话概括）</a:t>
            </a:r>
            <a:r>
              <a:rPr b="0" lang="zh-CN" sz="36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755640" y="22050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的报告使全场震惊，物理学进入了一个新的时代，而她那美丽、庄重的形象也就从此定格在历史上，定格在每个人的心中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990720" y="1828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点美丽的淡蓝色的荧光，融入了一个女子美丽的生命和不屈的信念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653-89E9-4DD3-A9D2-0461C52713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5320" y="1496880"/>
            <a:ext cx="7921800" cy="294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人说，居里夫人以自己的美貌和青春乃至生命为代价，追求她的事业，固然令人敬佩，但她不懂得享受人生，品味生活，这样做并不值得；也有人说，居里夫人放弃申请镭的专利，把那么多的奖金捐赠出去，这种做法并不明智，因为如果她能有这些本属于她的财产，既能改善贫困的生活，又能添置实验设备等等，说不定能为科学做出更大的贡献呢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认为呢？四人为一小组讨论</a:t>
            </a:r>
            <a:r>
              <a:rPr b="1" lang="en-US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后发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1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