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43A-3E2D-474D-A391-B3B069AC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A665-C0EA-48F8-AA69-496E35D8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4A4-CEE3-4624-BA16-4225597B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986-3991-4818-A92A-54206162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9550-2853-4679-ADF7-C92F538C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ED63-A4B0-44D6-9A89-FAAA1525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8520-1098-449E-ABDA-74A57D05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D896-9346-4842-9016-EC034386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271D-035B-485F-8878-86FDBFF6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2A3D-DBA7-4D69-9B8D-3E49B235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7646-0770-4D0E-A5DF-052E9767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9E42-EA4A-4023-8E1C-3D0AE7EE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799E-D2F8-42BF-8A0C-78FC9353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984E-CBC3-4908-8FA1-DBD28FD6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FAE0-2832-4938-A213-D9BF42B6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15C7-5315-4A48-B189-3A66B1FD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5EB9-18E7-4A31-9077-4183621F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8B20-2728-48DF-803B-5F4067E1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5CB-B0D3-4E51-B3EB-C1229C10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C14-E762-45B7-A92D-6F670E33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C9C-D4C7-4D6B-AD5A-2532B00C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569-B3E1-4D44-8492-F003CE35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6DC-C107-4B7F-9EB8-B20C07D9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57C-C3D5-4694-BC9B-32B3A24B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B706-E2EE-4E04-9B25-F3C236172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4557-838C-4C47-9946-6D7F17C41F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219320" y="62064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宋体"/>
                <a:ea typeface="宋体"/>
              </a:rPr>
              <a:t>孔乙己语文</a:t>
            </a:r>
            <a:r>
              <a:rPr b="1" lang="en-US" sz="4000" spc="-1" strike="noStrike">
                <a:solidFill>
                  <a:srgbClr val="ffff66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66"/>
                </a:solidFill>
                <a:latin typeface="宋体"/>
                <a:ea typeface="宋体"/>
              </a:rPr>
              <a:t>模板打包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219640" y="328464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鲁迅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WordArt 4" descr=""/>
          <p:cNvPicPr/>
          <p:nvPr/>
        </p:nvPicPr>
        <p:blipFill>
          <a:blip r:embed="rId2"/>
          <a:stretch/>
        </p:blipFill>
        <p:spPr>
          <a:xfrm>
            <a:off x="1290600" y="1295280"/>
            <a:ext cx="66009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219320" y="533520"/>
            <a:ext cx="72388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示问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故事发生在什么时间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从人们喝酒的方式和衣着，可以看出当时怎样的阶级状况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从酒客、掌柜、伙计等人对孔乙己的态度，可以看出当时怎样的世态人情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从孔乙己读书的经历和丁举人对孔乙己的所为，可以看出什么问题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从孔乙己最后一次到酒店喝酒的情况来看，孔乙己有哪些自身原因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562720" y="1066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（清朝末年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038480" y="22096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（贫富对立、阶级对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019920" y="3352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（世态炎凉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257800" y="4343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（两种不同命运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4797360" y="586728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（热衷科举、鄙视体力劳动、至死不悟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WordArt 5" descr=""/>
          <p:cNvPicPr/>
          <p:nvPr/>
        </p:nvPicPr>
        <p:blipFill>
          <a:blip r:embed="rId1"/>
          <a:stretch/>
        </p:blipFill>
        <p:spPr>
          <a:xfrm>
            <a:off x="907920" y="527040"/>
            <a:ext cx="2565360" cy="31622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457200" y="4648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社会原因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64832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自身原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990720" y="5105520"/>
            <a:ext cx="2666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封建社会和封建教育制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4724280" y="5029200"/>
            <a:ext cx="3886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身受封建教育制度的毒害：热衷科举、自命不凡、好吃懒做、鄙视体力劳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0" descr="孔乙己2"/>
          <p:cNvPicPr/>
          <p:nvPr/>
        </p:nvPicPr>
        <p:blipFill>
          <a:blip r:embed="rId2"/>
          <a:stretch/>
        </p:blipFill>
        <p:spPr>
          <a:xfrm>
            <a:off x="4648320" y="0"/>
            <a:ext cx="42368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2209680" y="9144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小说的主题是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133720" y="1905120"/>
            <a:ext cx="5105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说通过对孔乙己的悲惨遭遇的描写，反映了封建文化和封建科举制度对读书人的毒害，有力地控诉了科举制度的罪恶。小说也揭露和批判了封建社会的世态炎凉，人们精神的麻木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228600" y="3049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小说写“我”一这个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岁的小伙计有什么作用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33520" y="15238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‘我”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的酒店小伙计是孔乙己命运的见证人。小说都是通过“我”的所见所闻所感来写，用第一人称可以使故事显得真实亲切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57200" y="3048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以使故事情节集中，内容简要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33520" y="3809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以表现周围人对孔乙己的态度，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的小伙计都鄙视孔乙己，更能说明这个社会对不幸者的冷漠，使作品更增加了悲凉的意味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8580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作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981080" y="228600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研究孔乙己这个人物形象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以及其所蕴含的社会意义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33520" y="76212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教学目标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文本框 8194"/>
          <p:cNvSpPr/>
          <p:nvPr/>
        </p:nvSpPr>
        <p:spPr>
          <a:xfrm>
            <a:off x="1260360" y="2925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WordArt 2" descr=""/>
          <p:cNvPicPr/>
          <p:nvPr/>
        </p:nvPicPr>
        <p:blipFill>
          <a:blip r:embed="rId1"/>
          <a:stretch/>
        </p:blipFill>
        <p:spPr>
          <a:xfrm>
            <a:off x="907920" y="1365120"/>
            <a:ext cx="2565360" cy="3162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孔乙己2"/>
          <p:cNvPicPr/>
          <p:nvPr/>
        </p:nvPicPr>
        <p:blipFill>
          <a:blip r:embed="rId2"/>
          <a:stretch/>
        </p:blipFill>
        <p:spPr>
          <a:xfrm>
            <a:off x="4191120" y="914400"/>
            <a:ext cx="4667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41B2-1666-4CB1-AA6C-0BA361808D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5"/>
          <p:cNvSpPr/>
          <p:nvPr/>
        </p:nvSpPr>
        <p:spPr>
          <a:xfrm>
            <a:off x="706320" y="64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虽是长衫”却“又脏又破”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4211640" y="949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四体不勤，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477720" y="16351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是满口之乎者也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983040" y="15588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以读书人自居，卖弄学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858960" y="277812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睁大眼睛说，你怎么凭空污人清白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4059360" y="28544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死要面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630360" y="41497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涨红了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”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额上青筋条条绽出”“窃书不能算偷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4059360" y="42260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自欺欺人、迂腐可笑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57200" y="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于封建科举制度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封建科举制度是隋朝以后封建王朝用考试选拔官吏的制度。科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分科举人的意思。它分院试、乡试、会试、殿试四级考试。院试由县、府、省主持，及格者称秀才。乡试每三年在省城举行，主考由朝廷委派，参加者须是秀才。乡试及格者称举人。会试在乡试的第二年二月举行，由礼部主持，及格者称贡生。殿试由皇帝在皇宫大殿亲自主持，中者称进土，第一名为状元。科举实际上是由下而上的层层考试。科举考试的内容，明朝以后主要考八股文，以（四书＊（五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某个文句为题作文，文章有固定的格式，内容是阐释孔孟之道，从内容到形式都不允许越矩半步，严重禁铜了知识分子的思想。从科举取士人员的情况来看，康有为曾经指出，戊戌变法前，全国每年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万读书人，参加考选“秀才”，只有百分之一入选；三年一考的“举人”，人选者只有于分之一；三年一考的“进士”，入选者只有万分之一。许多读书人老死科场，利欲熏心，精神畸型，成了科举的奴隶，成了科举制度的受害者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33520" y="914400"/>
            <a:ext cx="8305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查字典，读准下面加点字的音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颓唐（       ）     附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)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屑置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咸亨酒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      荤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)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羼水（         ）    拭（        ）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      惋惜（       ）    阔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舀水（         ）   涨红（           ）绽（         ）  哄笑（         ）    间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着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)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打折（       ）      门槛（         ）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52480" y="19051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u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495680" y="1905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16292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ià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362320" y="2362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xi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334120" y="2362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ē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238880" y="2438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à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676520" y="2819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ū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64832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à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7238880" y="2895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143000" y="33526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hà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572000" y="3352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ǎ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7162920" y="3352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u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1752480" y="3809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ǎ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4572000" y="3809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hà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6934320" y="3809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hà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1752480" y="4343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ō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4572000" y="4343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ià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7162920" y="4343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há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1752480" y="48769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4724280" y="4800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ǎ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26"/>
          <p:cNvSpPr/>
          <p:nvPr/>
        </p:nvSpPr>
        <p:spPr>
          <a:xfrm>
            <a:off x="685800" y="360360"/>
            <a:ext cx="5942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查工具书，解释下面词语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屑置辩：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颓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辩：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格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缠夹不清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之乎者也：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抵：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君子固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附和：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营生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27"/>
          <p:cNvSpPr/>
          <p:nvPr/>
        </p:nvSpPr>
        <p:spPr>
          <a:xfrm>
            <a:off x="2438280" y="7621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认为不值得辩论或申辩。屑，值得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28"/>
          <p:cNvSpPr/>
          <p:nvPr/>
        </p:nvSpPr>
        <p:spPr>
          <a:xfrm>
            <a:off x="1752480" y="12193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精神萎靡不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情绪低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29"/>
          <p:cNvSpPr/>
          <p:nvPr/>
        </p:nvSpPr>
        <p:spPr>
          <a:xfrm>
            <a:off x="1676520" y="16765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辩白，辩解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30"/>
          <p:cNvSpPr/>
          <p:nvPr/>
        </p:nvSpPr>
        <p:spPr>
          <a:xfrm>
            <a:off x="1676520" y="2057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布置的格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31"/>
          <p:cNvSpPr/>
          <p:nvPr/>
        </p:nvSpPr>
        <p:spPr>
          <a:xfrm>
            <a:off x="236232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搅扰、夹杂不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32"/>
          <p:cNvSpPr/>
          <p:nvPr/>
        </p:nvSpPr>
        <p:spPr>
          <a:xfrm>
            <a:off x="2362320" y="30481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之、乎、者、也”是文言文里常用的语助词，常用来形容丰文不白的话或文章。含讽刺意味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33"/>
          <p:cNvSpPr/>
          <p:nvPr/>
        </p:nvSpPr>
        <p:spPr>
          <a:xfrm>
            <a:off x="1905120" y="4267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概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34"/>
          <p:cNvSpPr/>
          <p:nvPr/>
        </p:nvSpPr>
        <p:spPr>
          <a:xfrm>
            <a:off x="2362320" y="47242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语出（论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意思是“君子能够安于穷困，不因穷困而丧失其道德意志。固，固守，安守。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36"/>
          <p:cNvSpPr/>
          <p:nvPr/>
        </p:nvSpPr>
        <p:spPr>
          <a:xfrm>
            <a:off x="1523880" y="59436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言语、行动）追随别人（多含贬义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37"/>
          <p:cNvSpPr/>
          <p:nvPr/>
        </p:nvSpPr>
        <p:spPr>
          <a:xfrm>
            <a:off x="1828800" y="63388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谋生，筹划如何生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WordArt 6" descr=""/>
          <p:cNvPicPr/>
          <p:nvPr/>
        </p:nvPicPr>
        <p:blipFill>
          <a:blip r:embed="rId2"/>
          <a:stretch/>
        </p:blipFill>
        <p:spPr>
          <a:xfrm>
            <a:off x="2133720" y="522360"/>
            <a:ext cx="620532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62120" y="1295280"/>
            <a:ext cx="2514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开端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发展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高潮和结局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52388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开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429000" y="13716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绍鲁镇咸亨酒店的大概情况，做为孔乙己出场的背景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666880" y="4267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76720" y="28954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孔乙己第一次出场，表现孔乙己是大伙的笑料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724280" y="4267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孔乙己第二次出场，表现孔乙己被打折腿后的遭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905120" y="45720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说的故事情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1856880" y="2895480"/>
            <a:ext cx="15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—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18680" y="2379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环境：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998440" y="1521000"/>
            <a:ext cx="434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故事发生的具体地点有 何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041560" y="3425760"/>
            <a:ext cx="672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小说中人物所处的时代有何特点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7f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WordArt 4" descr=""/>
          <p:cNvPicPr/>
          <p:nvPr/>
        </p:nvPicPr>
        <p:blipFill>
          <a:blip r:embed="rId1"/>
          <a:stretch/>
        </p:blipFill>
        <p:spPr>
          <a:xfrm>
            <a:off x="4489560" y="374760"/>
            <a:ext cx="3555720" cy="308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孔乙己1"/>
          <p:cNvPicPr/>
          <p:nvPr/>
        </p:nvPicPr>
        <p:blipFill>
          <a:blip r:embed="rId2"/>
          <a:stretch/>
        </p:blipFill>
        <p:spPr>
          <a:xfrm>
            <a:off x="685800" y="609480"/>
            <a:ext cx="3156120" cy="50292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9"/>
          <p:cNvSpPr/>
          <p:nvPr/>
        </p:nvSpPr>
        <p:spPr>
          <a:xfrm>
            <a:off x="4038480" y="48006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站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781680" y="3886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长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5334120" y="5410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唯一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4038480" y="38098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6858000" y="4876920"/>
            <a:ext cx="8380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坐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572000" y="4419720"/>
            <a:ext cx="360" cy="380880"/>
            <a:chOff x="4572000" y="4419720"/>
            <a:chExt cx="360" cy="380880"/>
          </a:xfrm>
        </p:grpSpPr>
        <p:sp>
          <p:nvSpPr>
            <p:cNvPr id="145" name="Line 14"/>
            <p:cNvSpPr/>
            <p:nvPr/>
          </p:nvSpPr>
          <p:spPr>
            <a:xfrm>
              <a:off x="4572000" y="4419720"/>
              <a:ext cx="0" cy="380880"/>
            </a:xfrm>
            <a:prstGeom prst="line">
              <a:avLst/>
            </a:prstGeom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4572000" y="44197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315200" y="4419720"/>
            <a:ext cx="360" cy="457200"/>
            <a:chOff x="7315200" y="4419720"/>
            <a:chExt cx="360" cy="457200"/>
          </a:xfrm>
        </p:grpSpPr>
        <p:sp>
          <p:nvSpPr>
            <p:cNvPr id="148" name="Line 15"/>
            <p:cNvSpPr/>
            <p:nvPr/>
          </p:nvSpPr>
          <p:spPr>
            <a:xfrm>
              <a:off x="7315200" y="44197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7315200" y="44197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Oval 16"/>
          <p:cNvSpPr/>
          <p:nvPr/>
        </p:nvSpPr>
        <p:spPr>
          <a:xfrm>
            <a:off x="5334120" y="3581280"/>
            <a:ext cx="1295280" cy="1828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孔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029200" y="4800600"/>
            <a:ext cx="380880" cy="228600"/>
            <a:chOff x="5029200" y="4800600"/>
            <a:chExt cx="380880" cy="228600"/>
          </a:xfrm>
        </p:grpSpPr>
        <p:sp>
          <p:nvSpPr>
            <p:cNvPr id="152" name="Line 17"/>
            <p:cNvSpPr/>
            <p:nvPr/>
          </p:nvSpPr>
          <p:spPr>
            <a:xfrm flipH="1">
              <a:off x="5029200" y="4800600"/>
              <a:ext cx="380880" cy="228600"/>
            </a:xfrm>
            <a:prstGeom prst="line">
              <a:avLst/>
            </a:prstGeom>
            <a:ln w="572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5029200" y="480060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629040" y="4267080"/>
            <a:ext cx="305280" cy="152640"/>
            <a:chOff x="6629040" y="4267080"/>
            <a:chExt cx="305280" cy="152640"/>
          </a:xfrm>
        </p:grpSpPr>
        <p:sp>
          <p:nvSpPr>
            <p:cNvPr id="155" name="Line 18"/>
            <p:cNvSpPr/>
            <p:nvPr/>
          </p:nvSpPr>
          <p:spPr>
            <a:xfrm flipH="1">
              <a:off x="6629040" y="4267080"/>
              <a:ext cx="304920" cy="152640"/>
            </a:xfrm>
            <a:prstGeom prst="line">
              <a:avLst/>
            </a:prstGeom>
            <a:ln w="572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6629400" y="4267080"/>
              <a:ext cx="304920" cy="15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9"/>
          <p:cNvSpPr/>
          <p:nvPr/>
        </p:nvSpPr>
        <p:spPr>
          <a:xfrm>
            <a:off x="1143000" y="32004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特殊身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文本框 8194"/>
          <p:cNvSpPr/>
          <p:nvPr/>
        </p:nvSpPr>
        <p:spPr>
          <a:xfrm>
            <a:off x="2195640" y="5877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WordArt 2050"/>
          <p:cNvSpPr txBox="1"/>
          <p:nvPr/>
        </p:nvSpPr>
        <p:spPr>
          <a:xfrm>
            <a:off x="3581280" y="609480"/>
            <a:ext cx="5029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孔乙己有着怎样的性格？</a:t>
            </a:r>
            <a:endParaRPr b="1" lang="en-US" sz="32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61" name="Text Box 2051"/>
          <p:cNvSpPr/>
          <p:nvPr/>
        </p:nvSpPr>
        <p:spPr>
          <a:xfrm>
            <a:off x="304920" y="51055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体不勤，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052"/>
          <p:cNvSpPr/>
          <p:nvPr/>
        </p:nvSpPr>
        <p:spPr>
          <a:xfrm>
            <a:off x="6019920" y="4038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读书人自居，卖弄学问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053"/>
          <p:cNvSpPr/>
          <p:nvPr/>
        </p:nvSpPr>
        <p:spPr>
          <a:xfrm>
            <a:off x="3886200" y="6019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要面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054"/>
          <p:cNvSpPr/>
          <p:nvPr/>
        </p:nvSpPr>
        <p:spPr>
          <a:xfrm>
            <a:off x="3886200" y="51814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欺欺人、迂腐可笑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056"/>
          <p:cNvSpPr/>
          <p:nvPr/>
        </p:nvSpPr>
        <p:spPr>
          <a:xfrm>
            <a:off x="3733920" y="2438280"/>
            <a:ext cx="403848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从外貌、语言、动作、神态等描写角度分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057" descr="kongyiji4"/>
          <p:cNvPicPr/>
          <p:nvPr/>
        </p:nvPicPr>
        <p:blipFill>
          <a:blip r:embed="rId2"/>
          <a:stretch/>
        </p:blipFill>
        <p:spPr>
          <a:xfrm>
            <a:off x="228600" y="838080"/>
            <a:ext cx="3270240" cy="41911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058"/>
          <p:cNvSpPr/>
          <p:nvPr/>
        </p:nvSpPr>
        <p:spPr>
          <a:xfrm>
            <a:off x="609480" y="57913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穷困潦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059"/>
          <p:cNvSpPr/>
          <p:nvPr/>
        </p:nvSpPr>
        <p:spPr>
          <a:xfrm>
            <a:off x="3733920" y="4114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命清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060"/>
          <p:cNvSpPr/>
          <p:nvPr/>
        </p:nvSpPr>
        <p:spPr>
          <a:xfrm>
            <a:off x="609588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至死不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061"/>
          <p:cNvSpPr/>
          <p:nvPr/>
        </p:nvSpPr>
        <p:spPr>
          <a:xfrm>
            <a:off x="7441200" y="4648320"/>
            <a:ext cx="1155240" cy="190476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热心善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0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05:01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58Z</dcterms:modified>
  <cp:revision>8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