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2BD3-D59E-4D17-93D2-B5444F8B8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CFA4-2910-4D4A-92B1-F87DFF60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9354-0401-42F9-8C3C-D8E1DCD36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D8E4-F917-41AA-8CCA-2402AC0C3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4D12-AF4F-4F46-AA4B-CA56EE11A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A632-2E3C-42B1-BAD9-7C723899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969F-BC53-427D-B418-D8C4E190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DEB2-2F85-4EC9-BE52-3EEA63F3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1ADF-7772-42BD-BED9-47224B28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DC2F-83D9-41EF-B039-4FD9F210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2F8A-36CD-466B-9A48-4072EFB5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684F-824B-4E9D-AB0A-00826CEC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0012-AF2D-4A29-AF0A-E7B63C8A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7AA4-71DB-4918-B819-9E35EB9E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CD98-E6AE-4792-B087-1154DA50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A9EF-F972-4DBE-ACBA-E073CD42E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FA08-9016-4F5A-AFC3-BD3ECDD30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3E4D-E9CA-4A95-A3CA-CE9C2CFE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B43B-F540-4955-BB22-A8E07A33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EA70-625B-49BF-A4EF-E94C9872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009D-0F76-4CDA-BC37-80042FC3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2E8F-2002-42CA-819A-640A5E11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9EF3-8E2D-4616-9861-827E2669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48D3-5240-42A0-BFE8-1559C806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3369-9974-4648-A47E-C5C87DF72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ECFA-DADB-410C-9499-6741BD0D411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105600951&amp;tn=baiduimagedetail&amp;word=&#32599;&#24067;&#27850;&amp;in=10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291723701&amp;tn=baiduimagedetail&amp;word=&#32599;&#24067;&#27850;&amp;in=16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116487752&amp;tn=baiduimagedetail&amp;word=&#32599;&#24067;&#27850;&amp;in=5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.baidu.com/i?ct=503316480&amp;z=63191350&amp;tn=baiduimagedetail&amp;word=&#32599;&#24067;&#27850;&amp;in=4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826920" y="1773360"/>
            <a:ext cx="7275600" cy="21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罗布泊消逝的仙湖课件</a:t>
            </a:r>
            <a:r>
              <a:rPr b="1" lang="en-US" sz="4000" spc="-1" strike="noStrike">
                <a:ln w="0">
                  <a:noFill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PPT</a:t>
            </a:r>
            <a:r>
              <a:rPr b="1" lang="zh-CN" sz="4000" spc="-1" strike="noStrike">
                <a:ln w="0">
                  <a:noFill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模板打包下载</a:t>
            </a:r>
            <a:endParaRPr b="1" lang="en-US" sz="4000" spc="-1" strike="noStrike">
              <a:ln w="0">
                <a:noFill/>
              </a:ln>
              <a:solidFill>
                <a:srgbClr val="c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6"/>
          <p:cNvGrpSpPr/>
          <p:nvPr/>
        </p:nvGrpSpPr>
        <p:grpSpPr>
          <a:xfrm>
            <a:off x="212760" y="533520"/>
            <a:ext cx="8778960" cy="380880"/>
            <a:chOff x="212760" y="533520"/>
            <a:chExt cx="8778960" cy="380880"/>
          </a:xfrm>
        </p:grpSpPr>
        <p:sp>
          <p:nvSpPr>
            <p:cNvPr id="120" name="Rectangle 4"/>
            <p:cNvSpPr/>
            <p:nvPr/>
          </p:nvSpPr>
          <p:spPr>
            <a:xfrm>
              <a:off x="212760" y="533520"/>
              <a:ext cx="5803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5"/>
            <p:cNvSpPr/>
            <p:nvPr/>
          </p:nvSpPr>
          <p:spPr>
            <a:xfrm>
              <a:off x="212760" y="533520"/>
              <a:ext cx="8778960" cy="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ff9900"/>
                  </a:solidFill>
                  <a:latin typeface="宋体"/>
                </a:rPr>
                <a:t>一、罗布泊过去是什么样子，现在又变成了什么样子？试用简洁的语言加以概括，并归纳一下变化的原因。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Rectangle 11"/>
          <p:cNvSpPr/>
          <p:nvPr/>
        </p:nvSpPr>
        <p:spPr>
          <a:xfrm>
            <a:off x="0" y="1752480"/>
            <a:ext cx="5803920" cy="26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304920" y="1295280"/>
            <a:ext cx="5105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罗布泊过去是广阔、美丽、充满生机的湖泊，罗布泊周边是牛马成群、绿林环绕、河流清澈的生命绿洲。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现在变成了一片死寂的荒漠，胡杨林成片死亡，寸草不生，不见飞鸟，令人恐怖。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变化的原因，一是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世纪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年代塔里木河曾经人为改道，导致下游干旱缺水；二是盲目滥用塔里木河水资源，致使下游河道干涸、罗布泊断水，生态环境彻底破坏。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9" descr="u=1325261879,3122365166&amp;gp=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2286000"/>
            <a:ext cx="25909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121E-02AA-4350-BA62-B6E8EEEF0AF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304920" y="380880"/>
            <a:ext cx="8838720" cy="1295640"/>
            <a:chOff x="304920" y="380880"/>
            <a:chExt cx="8838720" cy="1295640"/>
          </a:xfrm>
        </p:grpSpPr>
        <p:sp>
          <p:nvSpPr>
            <p:cNvPr id="130" name="Rectangle 4"/>
            <p:cNvSpPr/>
            <p:nvPr/>
          </p:nvSpPr>
          <p:spPr>
            <a:xfrm>
              <a:off x="304920" y="380880"/>
              <a:ext cx="584352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5"/>
            <p:cNvSpPr/>
            <p:nvPr/>
          </p:nvSpPr>
          <p:spPr>
            <a:xfrm>
              <a:off x="304920" y="380880"/>
              <a:ext cx="8838720" cy="2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9933"/>
                  </a:solidFill>
                  <a:latin typeface="宋体"/>
                </a:rPr>
                <a:t>二、文章的字里行间充满了强烈的忧患意识，有的是直抒胸臆，有的引用数据，找出几个这样的句子，体会一下它们各自的作用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Group 13"/>
          <p:cNvGrpSpPr/>
          <p:nvPr/>
        </p:nvGrpSpPr>
        <p:grpSpPr>
          <a:xfrm>
            <a:off x="60480" y="1523880"/>
            <a:ext cx="8778600" cy="685800"/>
            <a:chOff x="60480" y="1523880"/>
            <a:chExt cx="8778600" cy="685800"/>
          </a:xfrm>
        </p:grpSpPr>
        <p:sp>
          <p:nvSpPr>
            <p:cNvPr id="133" name="Rectangle 11"/>
            <p:cNvSpPr/>
            <p:nvPr/>
          </p:nvSpPr>
          <p:spPr>
            <a:xfrm>
              <a:off x="60480" y="1523880"/>
              <a:ext cx="58035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12"/>
            <p:cNvSpPr/>
            <p:nvPr/>
          </p:nvSpPr>
          <p:spPr>
            <a:xfrm>
              <a:off x="60480" y="1523880"/>
              <a:ext cx="8778600" cy="1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zh-CN" sz="1700" spc="-1" strike="noStrike">
                  <a:solidFill>
                    <a:srgbClr val="000000"/>
                  </a:solidFill>
                  <a:latin typeface="宋体"/>
                </a:rPr>
                <a:t>此时此刻，我们停止了说笑。那一片巨大的黄色沙地深深地刺痛着我们的心，使我们个个心情沉重。</a:t>
              </a:r>
              <a:r>
                <a:rPr b="0" lang="zh-CN" sz="17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r>
                <a:rPr b="0" lang="zh-CN" sz="1700" spc="-1" strike="noStrike">
                  <a:solidFill>
                    <a:srgbClr val="ff6699"/>
                  </a:solidFill>
                  <a:latin typeface="宋体"/>
                </a:rPr>
                <a:t>直抒内心痛苦而沉重的感情，有力地烘托了罗布泊的惨状，强化了生态被破坏的悲剧。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Group 20"/>
          <p:cNvGrpSpPr/>
          <p:nvPr/>
        </p:nvGrpSpPr>
        <p:grpSpPr>
          <a:xfrm>
            <a:off x="0" y="2895480"/>
            <a:ext cx="8778960" cy="914400"/>
            <a:chOff x="0" y="2895480"/>
            <a:chExt cx="8778960" cy="914400"/>
          </a:xfrm>
        </p:grpSpPr>
        <p:sp>
          <p:nvSpPr>
            <p:cNvPr id="136" name="Rectangle 18"/>
            <p:cNvSpPr/>
            <p:nvPr/>
          </p:nvSpPr>
          <p:spPr>
            <a:xfrm>
              <a:off x="0" y="2895480"/>
              <a:ext cx="5803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19"/>
            <p:cNvSpPr/>
            <p:nvPr/>
          </p:nvSpPr>
          <p:spPr>
            <a:xfrm>
              <a:off x="0" y="2895480"/>
              <a:ext cx="877896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zh-CN" sz="1700" spc="-1" strike="noStrike">
                  <a:solidFill>
                    <a:srgbClr val="000000"/>
                  </a:solidFill>
                  <a:latin typeface="宋体"/>
                </a:rPr>
                <a:t>这出悲剧的制造者又是人</a:t>
              </a:r>
              <a:r>
                <a:rPr b="0" lang="en-US" sz="1700" spc="-1" strike="noStrike">
                  <a:solidFill>
                    <a:srgbClr val="000000"/>
                  </a:solidFill>
                  <a:latin typeface="宋体"/>
                </a:rPr>
                <a:t>!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r>
                <a:rPr b="0" lang="zh-CN" sz="1700" spc="-1" strike="noStrike">
                  <a:solidFill>
                    <a:srgbClr val="ff6699"/>
                  </a:solidFill>
                  <a:latin typeface="宋体"/>
                </a:rPr>
                <a:t>一针见血地指出罗布泊的消失是人为地破坏生态的恶果，具有强烈的谴责意味，指责悲剧制造者的盲目和愚昧。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Group 27"/>
          <p:cNvGrpSpPr/>
          <p:nvPr/>
        </p:nvGrpSpPr>
        <p:grpSpPr>
          <a:xfrm>
            <a:off x="136440" y="4267080"/>
            <a:ext cx="8778960" cy="774720"/>
            <a:chOff x="136440" y="4267080"/>
            <a:chExt cx="8778960" cy="774720"/>
          </a:xfrm>
        </p:grpSpPr>
        <p:sp>
          <p:nvSpPr>
            <p:cNvPr id="139" name="Rectangle 25"/>
            <p:cNvSpPr/>
            <p:nvPr/>
          </p:nvSpPr>
          <p:spPr>
            <a:xfrm>
              <a:off x="136440" y="4267080"/>
              <a:ext cx="580392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26"/>
            <p:cNvSpPr/>
            <p:nvPr/>
          </p:nvSpPr>
          <p:spPr>
            <a:xfrm>
              <a:off x="136440" y="4267080"/>
              <a:ext cx="877896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zh-CN" sz="1700" spc="-1" strike="noStrike">
                  <a:solidFill>
                    <a:srgbClr val="000000"/>
                  </a:solidFill>
                  <a:latin typeface="宋体"/>
                </a:rPr>
                <a:t>救救青海湖，救救月牙泉，救救所有因人的介入而即将成为荒漠的地方</a:t>
              </a:r>
              <a:r>
                <a:rPr b="0" lang="zh-CN" sz="17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r>
                <a:rPr b="0" lang="zh-CN" sz="1700" spc="-1" strike="noStrike">
                  <a:solidFill>
                    <a:srgbClr val="000000"/>
                  </a:solidFill>
                  <a:latin typeface="宋体"/>
                </a:rPr>
                <a:t>，</a:t>
              </a:r>
              <a:r>
                <a:rPr b="0" lang="zh-CN" sz="1700" spc="-1" strike="noStrike">
                  <a:solidFill>
                    <a:srgbClr val="ff6699"/>
                  </a:solidFill>
                  <a:latin typeface="宋体"/>
                </a:rPr>
                <a:t>发出了拯救生态环境的强烈呼声，表达了强烈的环保意识、忧患意识，振聋发聩。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Group 34"/>
          <p:cNvGrpSpPr/>
          <p:nvPr/>
        </p:nvGrpSpPr>
        <p:grpSpPr>
          <a:xfrm>
            <a:off x="60480" y="5638680"/>
            <a:ext cx="8778600" cy="990720"/>
            <a:chOff x="60480" y="5638680"/>
            <a:chExt cx="8778600" cy="990720"/>
          </a:xfrm>
        </p:grpSpPr>
        <p:sp>
          <p:nvSpPr>
            <p:cNvPr id="142" name="Rectangle 32"/>
            <p:cNvSpPr/>
            <p:nvPr/>
          </p:nvSpPr>
          <p:spPr>
            <a:xfrm>
              <a:off x="60480" y="5638680"/>
              <a:ext cx="58035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33"/>
            <p:cNvSpPr/>
            <p:nvPr/>
          </p:nvSpPr>
          <p:spPr>
            <a:xfrm>
              <a:off x="60480" y="5638680"/>
              <a:ext cx="8778600" cy="28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zh-CN" sz="1700" spc="-1" strike="noStrike">
                  <a:solidFill>
                    <a:srgbClr val="000000"/>
                  </a:solidFill>
                  <a:latin typeface="宋体"/>
                </a:rPr>
                <a:t>几十年间塔里木河流域修筑水库</a:t>
              </a:r>
              <a:r>
                <a:rPr b="0" lang="en-US" sz="1700" spc="-1" strike="noStrike">
                  <a:solidFill>
                    <a:srgbClr val="000000"/>
                  </a:solidFill>
                  <a:latin typeface="宋体"/>
                </a:rPr>
                <a:t>130</a:t>
              </a:r>
              <a:r>
                <a:rPr b="0" lang="zh-CN" sz="1700" spc="-1" strike="noStrike">
                  <a:solidFill>
                    <a:srgbClr val="000000"/>
                  </a:solidFill>
                  <a:latin typeface="宋体"/>
                </a:rPr>
                <a:t>多座，任意掘堤修引水口</a:t>
              </a:r>
              <a:r>
                <a:rPr b="0" lang="en-US" sz="1700" spc="-1" strike="noStrike">
                  <a:solidFill>
                    <a:srgbClr val="000000"/>
                  </a:solidFill>
                  <a:latin typeface="宋体"/>
                </a:rPr>
                <a:t>138</a:t>
              </a:r>
              <a:r>
                <a:rPr b="0" lang="zh-CN" sz="1700" spc="-1" strike="noStrike">
                  <a:solidFill>
                    <a:srgbClr val="000000"/>
                  </a:solidFill>
                  <a:latin typeface="宋体"/>
                </a:rPr>
                <a:t>处，建抽水泵站</a:t>
              </a:r>
              <a:r>
                <a:rPr b="0" lang="en-US" sz="1700" spc="-1" strike="noStrike">
                  <a:solidFill>
                    <a:srgbClr val="000000"/>
                  </a:solidFill>
                  <a:latin typeface="宋体"/>
                </a:rPr>
                <a:t>400</a:t>
              </a:r>
              <a:r>
                <a:rPr b="0" lang="zh-CN" sz="1700" spc="-1" strike="noStrike">
                  <a:solidFill>
                    <a:srgbClr val="000000"/>
                  </a:solidFill>
                  <a:latin typeface="宋体"/>
                </a:rPr>
                <a:t>多处，有的泵站一天就要抽水</a:t>
              </a:r>
              <a:r>
                <a:rPr b="0" lang="en-US" sz="17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0" lang="zh-CN" sz="1700" spc="-1" strike="noStrike">
                  <a:solidFill>
                    <a:srgbClr val="000000"/>
                  </a:solidFill>
                  <a:latin typeface="宋体"/>
                </a:rPr>
                <a:t>万多立方米</a:t>
              </a:r>
              <a:r>
                <a:rPr b="0" lang="zh-CN" sz="17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r>
                <a:rPr b="0" lang="zh-CN" sz="1700" spc="-1" strike="noStrike">
                  <a:solidFill>
                    <a:srgbClr val="000000"/>
                  </a:solidFill>
                  <a:latin typeface="宋体"/>
                </a:rPr>
                <a:t>。</a:t>
              </a:r>
              <a:r>
                <a:rPr b="0" lang="zh-CN" sz="1700" spc="-1" strike="noStrike">
                  <a:solidFill>
                    <a:srgbClr val="ff6699"/>
                  </a:solidFill>
                  <a:latin typeface="宋体"/>
                </a:rPr>
                <a:t>一系列数据具体、确凿，充分说明人们是怎样盲目地拼命地滥用塔里木河水资源的，正是这种盲目行为，造成了罗布泊的荒漠化。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8"/>
          <p:cNvSpPr/>
          <p:nvPr/>
        </p:nvSpPr>
        <p:spPr>
          <a:xfrm>
            <a:off x="1187280" y="1844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Img222064321"/>
          <p:cNvPicPr/>
          <p:nvPr/>
        </p:nvPicPr>
        <p:blipFill>
          <a:blip r:embed="rId1"/>
          <a:stretch/>
        </p:blipFill>
        <p:spPr>
          <a:xfrm>
            <a:off x="138240" y="189000"/>
            <a:ext cx="8839080" cy="48765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7"/>
          <p:cNvSpPr/>
          <p:nvPr/>
        </p:nvSpPr>
        <p:spPr>
          <a:xfrm>
            <a:off x="228600" y="5151600"/>
            <a:ext cx="8778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700" spc="-1" strike="noStrike">
                <a:solidFill>
                  <a:srgbClr val="3366ff"/>
                </a:solidFill>
                <a:latin typeface="宋体"/>
              </a:rPr>
              <a:t>泊者，湖也，湖泊湖泊，泊就是湖。</a:t>
            </a:r>
            <a:r>
              <a:rPr b="0" lang="zh-CN" sz="27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0" lang="zh-CN" sz="2700" spc="-1" strike="noStrike">
                <a:solidFill>
                  <a:srgbClr val="3366ff"/>
                </a:solidFill>
                <a:latin typeface="宋体"/>
              </a:rPr>
              <a:t>罗布泊，消逝的仙湖</a:t>
            </a:r>
            <a:r>
              <a:rPr b="0" lang="zh-CN" sz="2700" spc="-1" strike="noStrike">
                <a:solidFill>
                  <a:srgbClr val="3366ff"/>
                </a:solidFill>
                <a:latin typeface="Times New Roman"/>
              </a:rPr>
              <a:t>”</a:t>
            </a:r>
            <a:r>
              <a:rPr b="0" lang="zh-CN" sz="2700" spc="-1" strike="noStrike">
                <a:solidFill>
                  <a:srgbClr val="3366ff"/>
                </a:solidFill>
                <a:latin typeface="宋体"/>
              </a:rPr>
              <a:t>，就是说，罗布泊曾经是一个湖，而且是一个非常美丽的仙湖，如今消失了。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6"/>
          <p:cNvGrpSpPr/>
          <p:nvPr/>
        </p:nvGrpSpPr>
        <p:grpSpPr>
          <a:xfrm>
            <a:off x="1295280" y="2349360"/>
            <a:ext cx="6934320" cy="2679480"/>
            <a:chOff x="1295280" y="2349360"/>
            <a:chExt cx="6934320" cy="2679480"/>
          </a:xfrm>
        </p:grpSpPr>
        <p:sp>
          <p:nvSpPr>
            <p:cNvPr id="88" name="Rectangle 4"/>
            <p:cNvSpPr/>
            <p:nvPr/>
          </p:nvSpPr>
          <p:spPr>
            <a:xfrm>
              <a:off x="1295280" y="2349360"/>
              <a:ext cx="4584240" cy="267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1295280" y="2349360"/>
              <a:ext cx="69343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700" spc="-1" strike="noStrike">
                  <a:solidFill>
                    <a:srgbClr val="3366ff"/>
                  </a:solidFill>
                  <a:latin typeface="宋体"/>
                </a:rPr>
                <a:t>本文是一篇报告文学。报告文学兼有文学和新闻两种特点。新闻的特点要求真实，文学的特点则要求艺术加工，讲究形象性、抒情性。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1"/>
          <p:cNvSpPr/>
          <p:nvPr/>
        </p:nvSpPr>
        <p:spPr>
          <a:xfrm>
            <a:off x="1066680" y="1600200"/>
            <a:ext cx="6934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关于罗布泊，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辞海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上是这样说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蒙古语称罗布诺尔，意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汇入多水之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。古称蒲海、盐泽、洛普池、泽。在新疆维吾尔自治区塔里木盆地东部、若羌县东北部。孔雀河从北面注入。呈葫芦形，面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3 00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平方公里，湖面海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76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米。由于河流改道及上游灌溉引水，湖水逐渐枯浅和干涸。沿岸盐泽广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13" descr="u=883517726,611803693&amp;gp=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685800"/>
            <a:ext cx="158904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13"/>
          <p:cNvGrpSpPr/>
          <p:nvPr/>
        </p:nvGrpSpPr>
        <p:grpSpPr>
          <a:xfrm>
            <a:off x="533520" y="685800"/>
            <a:ext cx="7467480" cy="2679480"/>
            <a:chOff x="533520" y="685800"/>
            <a:chExt cx="7467480" cy="2679480"/>
          </a:xfrm>
        </p:grpSpPr>
        <p:sp>
          <p:nvSpPr>
            <p:cNvPr id="93" name="Rectangle 11"/>
            <p:cNvSpPr/>
            <p:nvPr/>
          </p:nvSpPr>
          <p:spPr>
            <a:xfrm>
              <a:off x="533520" y="685800"/>
              <a:ext cx="4936680" cy="267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12"/>
            <p:cNvSpPr/>
            <p:nvPr/>
          </p:nvSpPr>
          <p:spPr>
            <a:xfrm>
              <a:off x="533520" y="685800"/>
              <a:ext cx="74674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700" spc="-1" strike="noStrike">
                  <a:solidFill>
                    <a:srgbClr val="99cc00"/>
                  </a:solidFill>
                  <a:latin typeface="宋体"/>
                </a:rPr>
                <a:t>标题是</a:t>
              </a:r>
              <a:r>
                <a:rPr b="1" lang="zh-CN" sz="2700" spc="-1" strike="noStrike">
                  <a:solidFill>
                    <a:srgbClr val="99cc00"/>
                  </a:solidFill>
                  <a:latin typeface="Times New Roman"/>
                </a:rPr>
                <a:t>“</a:t>
              </a:r>
              <a:r>
                <a:rPr b="1" lang="zh-CN" sz="2700" spc="-1" strike="noStrike">
                  <a:solidFill>
                    <a:srgbClr val="99cc00"/>
                  </a:solidFill>
                  <a:latin typeface="宋体"/>
                </a:rPr>
                <a:t>罗布泊，消逝的仙湖</a:t>
              </a:r>
              <a:r>
                <a:rPr b="1" lang="zh-CN" sz="2700" spc="-1" strike="noStrike">
                  <a:solidFill>
                    <a:srgbClr val="99cc00"/>
                  </a:solidFill>
                  <a:latin typeface="Times New Roman"/>
                </a:rPr>
                <a:t>”</a:t>
              </a:r>
              <a:r>
                <a:rPr b="1" lang="zh-CN" sz="2700" spc="-1" strike="noStrike">
                  <a:solidFill>
                    <a:srgbClr val="99cc00"/>
                  </a:solidFill>
                  <a:latin typeface="宋体"/>
                </a:rPr>
                <a:t>，就是说，罗布泊本是非常美丽的湖泊，如今消逝了，成了荒漠。这是生态环境遭受人为破坏的悲剧。这篇报告文学以强烈的呼声，警醒世人，要树立全民环保意识，搞好生态保护。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Group 20"/>
          <p:cNvGrpSpPr/>
          <p:nvPr/>
        </p:nvGrpSpPr>
        <p:grpSpPr>
          <a:xfrm>
            <a:off x="228600" y="3492360"/>
            <a:ext cx="8778960" cy="2679480"/>
            <a:chOff x="228600" y="3492360"/>
            <a:chExt cx="8778960" cy="2679480"/>
          </a:xfrm>
        </p:grpSpPr>
        <p:sp>
          <p:nvSpPr>
            <p:cNvPr id="96" name="Rectangle 18"/>
            <p:cNvSpPr/>
            <p:nvPr/>
          </p:nvSpPr>
          <p:spPr>
            <a:xfrm>
              <a:off x="228600" y="3492360"/>
              <a:ext cx="5803920" cy="267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19"/>
            <p:cNvSpPr/>
            <p:nvPr/>
          </p:nvSpPr>
          <p:spPr>
            <a:xfrm>
              <a:off x="228600" y="3492360"/>
              <a:ext cx="877896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9933"/>
                  </a:solidFill>
                  <a:latin typeface="宋体"/>
                </a:rPr>
                <a:t>  </a:t>
              </a:r>
              <a:r>
                <a:rPr b="1" lang="zh-CN" sz="2700" spc="-1" strike="noStrike">
                  <a:solidFill>
                    <a:srgbClr val="ff9933"/>
                  </a:solidFill>
                  <a:latin typeface="宋体"/>
                </a:rPr>
                <a:t>罗布泊今昔对比，令人痛惜，罗布泊消亡的原因，令人遗憾。全文的思路大体是这样的。开头是今日罗布泊的荒漠景象，接着上溯历史上的美丽景象。然后着重说明罗布泊消亡的缘故，又具体展现今日罗布泊的荒漠景象。最后推而广之，说到青海湖、月牙泉的颓势，篇末发出拯救生态环境的强烈呼吁。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文本框 8197"/>
          <p:cNvSpPr/>
          <p:nvPr/>
        </p:nvSpPr>
        <p:spPr>
          <a:xfrm>
            <a:off x="684360" y="630864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3"/>
          <p:cNvSpPr/>
          <p:nvPr/>
        </p:nvSpPr>
        <p:spPr>
          <a:xfrm>
            <a:off x="3429000" y="1143000"/>
            <a:ext cx="525780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罗布泊消失的原因是什么？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世纪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年代塔里木河曾经人为改道导致下游干旱缺水，盲目滥用塔里木河水资源导致下游河道干涸，罗布泊断水。总之，由于人为的原因，生态环境被破坏，而致使美丽神秘的仙湖消失。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5" descr="u=3635431069,3163199416&amp;gp=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219320"/>
            <a:ext cx="2590560" cy="1774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7" descr="u=3720130245,3987255134&amp;gp=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3886200"/>
            <a:ext cx="281952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6"/>
          <p:cNvGrpSpPr/>
          <p:nvPr/>
        </p:nvGrpSpPr>
        <p:grpSpPr>
          <a:xfrm>
            <a:off x="365040" y="914400"/>
            <a:ext cx="8778960" cy="2679480"/>
            <a:chOff x="365040" y="914400"/>
            <a:chExt cx="8778960" cy="2679480"/>
          </a:xfrm>
        </p:grpSpPr>
        <p:sp>
          <p:nvSpPr>
            <p:cNvPr id="103" name="Rectangle 4"/>
            <p:cNvSpPr/>
            <p:nvPr/>
          </p:nvSpPr>
          <p:spPr>
            <a:xfrm>
              <a:off x="365040" y="914400"/>
              <a:ext cx="5803920" cy="267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5"/>
            <p:cNvSpPr/>
            <p:nvPr/>
          </p:nvSpPr>
          <p:spPr>
            <a:xfrm>
              <a:off x="365040" y="914400"/>
              <a:ext cx="877896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9933ff"/>
                  </a:solidFill>
                  <a:latin typeface="宋体"/>
                </a:rPr>
                <a:t>今日罗布泊是怎样一个地方？</a:t>
              </a:r>
              <a:r>
                <a:rPr b="1" lang="zh-CN" sz="27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zh-CN" sz="2700" spc="-1" strike="noStrike">
                  <a:solidFill>
                    <a:srgbClr val="000000"/>
                  </a:solidFill>
                  <a:latin typeface="宋体"/>
                </a:rPr>
                <a:t>沙漠</a:t>
              </a: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r>
                <a:rPr b="1" lang="zh-CN" sz="27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zh-CN" sz="2700" spc="-1" strike="noStrike">
                  <a:solidFill>
                    <a:srgbClr val="000000"/>
                  </a:solidFill>
                  <a:latin typeface="宋体"/>
                </a:rPr>
                <a:t>神秘</a:t>
              </a: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r>
                <a:rPr b="1" lang="zh-CN" sz="2700" spc="-1" strike="noStrike">
                  <a:solidFill>
                    <a:srgbClr val="000000"/>
                  </a:solidFill>
                  <a:latin typeface="宋体"/>
                </a:rPr>
                <a:t>。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9933ff"/>
                  </a:solidFill>
                  <a:latin typeface="宋体"/>
                </a:rPr>
                <a:t>过去罗布泊是怎样一个地方？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zh-CN" sz="2700" spc="-1" strike="noStrike">
                  <a:solidFill>
                    <a:srgbClr val="000000"/>
                  </a:solidFill>
                  <a:latin typeface="宋体"/>
                </a:rPr>
                <a:t>绿洲</a:t>
              </a: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r>
                <a:rPr b="1" lang="zh-CN" sz="27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zh-CN" sz="2700" spc="-1" strike="noStrike">
                  <a:solidFill>
                    <a:srgbClr val="000000"/>
                  </a:solidFill>
                  <a:latin typeface="宋体"/>
                </a:rPr>
                <a:t>仙湖</a:t>
              </a: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r>
                <a:rPr b="1" lang="zh-CN" sz="2700" spc="-1" strike="noStrike">
                  <a:solidFill>
                    <a:srgbClr val="000000"/>
                  </a:solidFill>
                  <a:latin typeface="宋体"/>
                </a:rPr>
                <a:t>。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9933ff"/>
                  </a:solidFill>
                  <a:latin typeface="宋体"/>
                </a:rPr>
                <a:t>罗布泊为什么消亡？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zh-CN" sz="2700" spc="-1" strike="noStrike">
                  <a:solidFill>
                    <a:srgbClr val="000000"/>
                  </a:solidFill>
                  <a:latin typeface="宋体"/>
                </a:rPr>
                <a:t>改道</a:t>
              </a: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r>
                <a:rPr b="1" lang="zh-CN" sz="27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zh-CN" sz="2700" spc="-1" strike="noStrike">
                  <a:solidFill>
                    <a:srgbClr val="000000"/>
                  </a:solidFill>
                  <a:latin typeface="宋体"/>
                </a:rPr>
                <a:t>四盲</a:t>
              </a: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r>
                <a:rPr b="1" lang="zh-CN" sz="2700" spc="-1" strike="noStrike">
                  <a:solidFill>
                    <a:srgbClr val="000000"/>
                  </a:solidFill>
                  <a:latin typeface="宋体"/>
                </a:rPr>
                <a:t>。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9933ff"/>
                  </a:solidFill>
                  <a:latin typeface="宋体"/>
                </a:rPr>
                <a:t>同样的悲剧还有哪些？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zh-CN" sz="2700" spc="-1" strike="noStrike">
                  <a:solidFill>
                    <a:srgbClr val="000000"/>
                  </a:solidFill>
                  <a:latin typeface="宋体"/>
                </a:rPr>
                <a:t>青海湖</a:t>
              </a: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r>
                <a:rPr b="1" lang="zh-CN" sz="27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zh-CN" sz="2700" spc="-1" strike="noStrike">
                  <a:solidFill>
                    <a:srgbClr val="000000"/>
                  </a:solidFill>
                  <a:latin typeface="宋体"/>
                </a:rPr>
                <a:t>月牙泉</a:t>
              </a: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r>
                <a:rPr b="1" lang="zh-CN" sz="2700" spc="-1" strike="noStrike">
                  <a:solidFill>
                    <a:srgbClr val="000000"/>
                  </a:solidFill>
                  <a:latin typeface="宋体"/>
                </a:rPr>
                <a:t>。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ff6699"/>
                  </a:solidFill>
                  <a:latin typeface="宋体"/>
                </a:rPr>
                <a:t>全文充满痛惜之情，为罗布泊生态环境的破坏而痛惜，为人们的盲目性造成的悲剧而痛惜。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380880" y="304920"/>
            <a:ext cx="2457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问题研究</a:t>
            </a:r>
            <a:endParaRPr b="1" lang="en-US" sz="96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06" name="Group 7"/>
          <p:cNvGrpSpPr/>
          <p:nvPr/>
        </p:nvGrpSpPr>
        <p:grpSpPr>
          <a:xfrm>
            <a:off x="182520" y="1219320"/>
            <a:ext cx="8778960" cy="501480"/>
            <a:chOff x="182520" y="1219320"/>
            <a:chExt cx="8778960" cy="501480"/>
          </a:xfrm>
        </p:grpSpPr>
        <p:sp>
          <p:nvSpPr>
            <p:cNvPr id="107" name="Rectangle 5"/>
            <p:cNvSpPr/>
            <p:nvPr/>
          </p:nvSpPr>
          <p:spPr>
            <a:xfrm>
              <a:off x="182520" y="1219320"/>
              <a:ext cx="580392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182520" y="1219320"/>
              <a:ext cx="877896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6699"/>
                  </a:solidFill>
                  <a:latin typeface="宋体"/>
                </a:rPr>
                <a:t>1</a:t>
              </a:r>
              <a:r>
                <a:rPr b="1" lang="zh-CN" sz="1700" spc="-1" strike="noStrike">
                  <a:solidFill>
                    <a:srgbClr val="ff6699"/>
                  </a:solidFill>
                  <a:latin typeface="宋体"/>
                </a:rPr>
                <a:t>．造成生态环境破坏的深层原因是什么？为什么人们会制造悲剧，自讨苦吃？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Group 14"/>
          <p:cNvGrpSpPr/>
          <p:nvPr/>
        </p:nvGrpSpPr>
        <p:grpSpPr>
          <a:xfrm>
            <a:off x="152280" y="1981080"/>
            <a:ext cx="8778960" cy="2679480"/>
            <a:chOff x="152280" y="1981080"/>
            <a:chExt cx="8778960" cy="2679480"/>
          </a:xfrm>
        </p:grpSpPr>
        <p:sp>
          <p:nvSpPr>
            <p:cNvPr id="110" name="Rectangle 12"/>
            <p:cNvSpPr/>
            <p:nvPr/>
          </p:nvSpPr>
          <p:spPr>
            <a:xfrm>
              <a:off x="152280" y="1981080"/>
              <a:ext cx="5803920" cy="267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152280" y="1981080"/>
              <a:ext cx="877896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最值得注意的是</a:t>
              </a:r>
              <a:r>
                <a:rPr b="1" lang="zh-CN" sz="17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盲目</a:t>
              </a:r>
              <a:r>
                <a:rPr b="1" lang="zh-CN" sz="17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二字：</a:t>
              </a:r>
              <a:r>
                <a:rPr b="1" lang="zh-CN" sz="17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盲目增加耕地用水、盲目修建水库截水、盲目掘堤引水、盲目建泵站排水，</a:t>
              </a:r>
              <a:r>
                <a:rPr b="1" lang="zh-CN" sz="17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四盲</a:t>
              </a:r>
              <a:r>
                <a:rPr b="1" lang="zh-CN" sz="17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像个巨大的吸水鬼，终于将塔里木河抽干了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……”“</a:t>
              </a: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盲目</a:t>
              </a:r>
              <a:r>
                <a:rPr b="1" lang="zh-CN" sz="17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，就是目光短浅，急功近利，只图眼前利益，不顾长远利益，头脑里根本没有可持续发展的观念。盲目，就是目光狭小，只图本地区利益，不顾整体利益。盲目，就是不懂自然规律，不懂生态平衡，不懂上游将水抽干了，下游的河道就会干涸，罗布泊就会干涸，周边生态环境就会严重恶化，乃至荒漠化。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当年</a:t>
              </a:r>
              <a:r>
                <a:rPr b="1" lang="zh-CN" sz="17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塔里木河两岸人口激增</a:t>
              </a:r>
              <a:r>
                <a:rPr b="1" lang="zh-CN" sz="17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，扩大耕地，开采矿藏，也是开发，问题是当年的开发没有考虑水资源，简单的以为塔里木河有的是水，顾了上游不顾下游。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从罗布泊消失的深层原因中应该吸取的教训是：</a:t>
              </a:r>
              <a:r>
                <a:rPr b="1" lang="zh-CN" sz="1700" spc="-1" strike="noStrike">
                  <a:solidFill>
                    <a:srgbClr val="ff9900"/>
                  </a:solidFill>
                  <a:latin typeface="宋体"/>
                </a:rPr>
                <a:t>开发要克服盲目性，认识自然规律，认识生态平衡，谋求发展必须抓好生态环境的保护和建设。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7"/>
          <p:cNvGrpSpPr/>
          <p:nvPr/>
        </p:nvGrpSpPr>
        <p:grpSpPr>
          <a:xfrm>
            <a:off x="365040" y="380880"/>
            <a:ext cx="8778960" cy="381240"/>
            <a:chOff x="365040" y="380880"/>
            <a:chExt cx="8778960" cy="381240"/>
          </a:xfrm>
        </p:grpSpPr>
        <p:sp>
          <p:nvSpPr>
            <p:cNvPr id="113" name="Rectangle 5"/>
            <p:cNvSpPr/>
            <p:nvPr/>
          </p:nvSpPr>
          <p:spPr>
            <a:xfrm>
              <a:off x="365040" y="380880"/>
              <a:ext cx="5803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365040" y="380880"/>
              <a:ext cx="8778960" cy="8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6699"/>
                  </a:solidFill>
                  <a:latin typeface="宋体"/>
                </a:rPr>
                <a:t>2</a:t>
              </a:r>
              <a:r>
                <a:rPr b="1" lang="zh-CN" sz="1700" spc="-1" strike="noStrike">
                  <a:solidFill>
                    <a:srgbClr val="ff6699"/>
                  </a:solidFill>
                  <a:latin typeface="宋体"/>
                </a:rPr>
                <a:t>．课文为什么具有震撼人心、振聋发聩的力量？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Group 14"/>
          <p:cNvGrpSpPr/>
          <p:nvPr/>
        </p:nvGrpSpPr>
        <p:grpSpPr>
          <a:xfrm>
            <a:off x="0" y="1143000"/>
            <a:ext cx="8778960" cy="2679480"/>
            <a:chOff x="0" y="1143000"/>
            <a:chExt cx="8778960" cy="2679480"/>
          </a:xfrm>
        </p:grpSpPr>
        <p:sp>
          <p:nvSpPr>
            <p:cNvPr id="116" name="Rectangle 12"/>
            <p:cNvSpPr/>
            <p:nvPr/>
          </p:nvSpPr>
          <p:spPr>
            <a:xfrm>
              <a:off x="0" y="1143000"/>
              <a:ext cx="5803920" cy="267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13"/>
            <p:cNvSpPr/>
            <p:nvPr/>
          </p:nvSpPr>
          <p:spPr>
            <a:xfrm>
              <a:off x="0" y="1143000"/>
              <a:ext cx="877896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从根本上说，罗布泊从美丽的仙湖变成令人恐怖的荒漠，是令人震惊的。从写法上探究，</a:t>
              </a:r>
              <a:r>
                <a:rPr b="1" lang="zh-CN" sz="1700" spc="-1" strike="noStrike">
                  <a:solidFill>
                    <a:srgbClr val="9933ff"/>
                  </a:solidFill>
                  <a:latin typeface="宋体"/>
                </a:rPr>
                <a:t>对比、拟人、排比等手法大大强化了感情色彩，直接抒情也有撼人心灵的力量。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99cc00"/>
                  </a:solidFill>
                  <a:latin typeface="宋体"/>
                </a:rPr>
                <a:t>对比手法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——</a:t>
              </a: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作者对比罗布泊的今昔，让人知道罗布泊并非从来如此，原来昔日这里曾是美丽的仙湖和繁华的绿洲。</a:t>
              </a:r>
              <a:r>
                <a:rPr b="1" lang="zh-CN" sz="1700" spc="-1" strike="noStrike">
                  <a:solidFill>
                    <a:srgbClr val="ff0000"/>
                  </a:solidFill>
                  <a:latin typeface="宋体"/>
                </a:rPr>
                <a:t>作者将两种截然不同的景象都作了鲜明而具体的描写，显示了巨大的落差，造成了文势的跌宕，产生震撼人心的力量。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99cc00"/>
                  </a:solidFill>
                  <a:latin typeface="宋体"/>
                </a:rPr>
                <a:t>拟人手法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——</a:t>
              </a: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作者将胡杨林拟人化：</a:t>
              </a:r>
              <a:r>
                <a:rPr b="1" lang="zh-CN" sz="17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那奇形怪状的枯枝、那死后不愿倒下的身躯，似在表明胡杨在生命最后时刻的挣扎与痛苦，又像在向谁伸出求救之手</a:t>
              </a:r>
              <a:r>
                <a:rPr b="1" lang="en-US" sz="1700" spc="-1" strike="noStrike">
                  <a:solidFill>
                    <a:srgbClr val="000000"/>
                  </a:solidFill>
                  <a:latin typeface="宋体"/>
                </a:rPr>
                <a:t>!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赋予胡杨以人的感情，怎能不令人感情激荡，为自己盲目破坏生态环境而痛惜不已。作者又将罗布泊拟人化：</a:t>
              </a:r>
              <a:r>
                <a:rPr b="1" lang="zh-CN" sz="17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站在罗布泊边缘，你能看清那一道道肋骨的排列走向，看到沧海桑田的痕迹，你会感到这胸膛里面深藏的痛苦与无奈。</a:t>
              </a:r>
              <a:r>
                <a:rPr b="1" lang="zh-CN" sz="17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这里同样</a:t>
              </a:r>
              <a:r>
                <a:rPr b="1" lang="zh-CN" sz="1700" spc="-1" strike="noStrike">
                  <a:solidFill>
                    <a:srgbClr val="ff0000"/>
                  </a:solidFill>
                  <a:latin typeface="宋体"/>
                </a:rPr>
                <a:t>赋予罗布泊以人的感情，怎能不令人痛心。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99cc00"/>
                  </a:solidFill>
                  <a:latin typeface="宋体"/>
                </a:rPr>
                <a:t>排比手法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——</a:t>
              </a: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例如：</a:t>
              </a:r>
              <a:r>
                <a:rPr b="1" lang="zh-CN" sz="17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四盲</a:t>
              </a:r>
              <a:r>
                <a:rPr b="1" lang="zh-CN" sz="17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：</a:t>
              </a:r>
              <a:r>
                <a:rPr b="1" lang="zh-CN" sz="17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盲目增加耕地用水、盲目修建水库截水、盲目掘堤引水、盲目建泵站抽水，</a:t>
              </a:r>
              <a:r>
                <a:rPr b="1" lang="zh-CN" sz="17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四盲</a:t>
              </a:r>
              <a:r>
                <a:rPr b="1" lang="zh-CN" sz="17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像个巨大的吸水鬼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……”</a:t>
              </a:r>
              <a:r>
                <a:rPr b="1" lang="zh-CN" sz="1700" spc="-1" strike="noStrike">
                  <a:solidFill>
                    <a:srgbClr val="ff0000"/>
                  </a:solidFill>
                  <a:latin typeface="宋体"/>
                </a:rPr>
                <a:t>连用四个</a:t>
              </a:r>
              <a:r>
                <a:rPr b="1" lang="zh-CN" sz="1700" spc="-1" strike="noStrike">
                  <a:solidFill>
                    <a:srgbClr val="ff0000"/>
                  </a:solidFill>
                  <a:latin typeface="Times New Roman"/>
                </a:rPr>
                <a:t>“</a:t>
              </a:r>
              <a:r>
                <a:rPr b="1" lang="zh-CN" sz="1700" spc="-1" strike="noStrike">
                  <a:solidFill>
                    <a:srgbClr val="ff0000"/>
                  </a:solidFill>
                  <a:latin typeface="宋体"/>
                </a:rPr>
                <a:t>盲目</a:t>
              </a:r>
              <a:r>
                <a:rPr b="1" lang="zh-CN" sz="1700" spc="-1" strike="noStrike">
                  <a:solidFill>
                    <a:srgbClr val="ff0000"/>
                  </a:solidFill>
                  <a:latin typeface="Times New Roman"/>
                </a:rPr>
                <a:t>”</a:t>
              </a:r>
              <a:r>
                <a:rPr b="1" lang="zh-CN" sz="1700" spc="-1" strike="noStrike">
                  <a:solidFill>
                    <a:srgbClr val="ff0000"/>
                  </a:solidFill>
                  <a:latin typeface="宋体"/>
                </a:rPr>
                <a:t>，遗憾之情、谴责之情大大强化。又如篇末三个</a:t>
              </a:r>
              <a:r>
                <a:rPr b="1" lang="zh-CN" sz="1700" spc="-1" strike="noStrike">
                  <a:solidFill>
                    <a:srgbClr val="ff0000"/>
                  </a:solidFill>
                  <a:latin typeface="Times New Roman"/>
                </a:rPr>
                <a:t>“</a:t>
              </a:r>
              <a:r>
                <a:rPr b="1" lang="zh-CN" sz="1700" spc="-1" strike="noStrike">
                  <a:solidFill>
                    <a:srgbClr val="ff0000"/>
                  </a:solidFill>
                  <a:latin typeface="宋体"/>
                </a:rPr>
                <a:t>救救</a:t>
              </a:r>
              <a:r>
                <a:rPr b="1" lang="zh-CN" sz="1700" spc="-1" strike="noStrike">
                  <a:solidFill>
                    <a:srgbClr val="ff0000"/>
                  </a:solidFill>
                  <a:latin typeface="Times New Roman"/>
                </a:rPr>
                <a:t>”</a:t>
              </a:r>
              <a:r>
                <a:rPr b="1" lang="zh-CN" sz="1700" spc="-1" strike="noStrike">
                  <a:solidFill>
                    <a:srgbClr val="ff0000"/>
                  </a:solidFill>
                  <a:latin typeface="宋体"/>
                </a:rPr>
                <a:t>，呼吁之声，振聋发聩。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99cc00"/>
                  </a:solidFill>
                  <a:latin typeface="宋体"/>
                </a:rPr>
                <a:t>直接抒情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——</a:t>
              </a: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例如：</a:t>
              </a:r>
              <a:r>
                <a:rPr b="1" lang="zh-CN" sz="17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zh-CN" sz="1700" spc="-1" strike="noStrike">
                  <a:solidFill>
                    <a:srgbClr val="000000"/>
                  </a:solidFill>
                  <a:latin typeface="宋体"/>
                </a:rPr>
                <a:t>此时此刻，我们停止了说笑，那一片巨大的黄色沙地深深地刺痛着我们的心，使我们个个心情沉重。</a:t>
              </a:r>
              <a:r>
                <a:rPr b="1" lang="zh-CN" sz="17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r>
                <a:rPr b="1" lang="zh-CN" sz="1700" spc="-1" strike="noStrike">
                  <a:solidFill>
                    <a:srgbClr val="ff0000"/>
                  </a:solidFill>
                  <a:latin typeface="宋体"/>
                </a:rPr>
                <a:t>这样的抒情让人共鸣，让读者也深深地痛心，深切地意识到破坏生态环境的严重后果，觉悟到只有保护环境才能保护人类自己。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文本框 8197"/>
          <p:cNvSpPr/>
          <p:nvPr/>
        </p:nvSpPr>
        <p:spPr>
          <a:xfrm>
            <a:off x="1187280" y="6453360"/>
            <a:ext cx="582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1T14:36:5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9:53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