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629-902F-45F8-9761-8D448CA3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EE6-6833-4E1F-9607-1FD25E88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A9B-B922-4136-B4B1-B14020AF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7A5-A778-4995-B94C-91E67411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BD77-3B49-4A51-8AD7-38CCEDC5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8F4C-44D4-4CDB-8ACD-CA209CFE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1354-1C6F-4E1B-A6B7-66D8C7DE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1076-4708-48BD-B5B3-61A7DBB1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AF95-3AEC-4B09-A684-9FADCE5D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00C3-43A4-421B-A4F0-3097B615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01DB-5B8F-45C5-9E7E-07316CA6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AF3-A525-4928-A616-7EDE0D89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078E-9BF5-47F4-BF4E-D293627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AA1E-CB8B-4186-BF8A-18165663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E3B6-0003-4130-A7B7-15A949A6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85D1-D9FE-4241-B4DE-A583D08F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2D54-9AE1-4058-8EC6-5D511EB6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30F0-DEC4-4A46-9781-2611C480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1C0C8-FF7F-47F0-BE96-5A6EFB70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CD6F9-6579-4F78-997F-2C267F37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2465-3DBC-4788-8528-58244150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66603-51C6-4F9D-9436-A5AABD06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963-CEEC-4588-B9F5-0E77DFC8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994F-B51F-458B-8E8D-A3E22926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3E1B-53C8-48CB-8BCF-39445142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A38B-5244-4ED8-87CE-8879A0C7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3C0E4-3613-47BD-9B31-FEF40897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8EF2-66EA-4C5C-A2BD-383F07FA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EABD-9071-409F-AD0E-B553D80D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B08C-FE5E-4196-9F65-8EF7B3F7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A3F-16B7-494D-A5EB-E0389523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4EB-D18D-4BBB-AD61-D23126D9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F5D-C756-4119-A742-58903926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CF5-839C-467D-8A85-E9F08F78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EF0-99F1-423E-8013-BCE09EC7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B14-1B1A-4768-B1FB-66D89546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8276-3965-4A04-A809-D9E8CC902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小学语文低年级内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B1EF-EF20-4AD2-BC77-29D01D4CAA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小学语文高年级封面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533B-EE22-4616-9097-49622058C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ext Box 4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554960" cy="7016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14400" y="990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自读课文，思考：课文讲了一件什么事？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14400" y="2743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本文写的是一位叫鲁滨孙的英国人，在一次航海中船翻漂流到一座荒无人烟的小岛上，战胜种种困难，历尽磨难，生活了二十多年之久，最后终于获救回到英国的一件事。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《鲁滨孙漂流记》朗读.MP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8199"/>
          <p:cNvSpPr/>
          <p:nvPr/>
        </p:nvSpPr>
        <p:spPr>
          <a:xfrm>
            <a:off x="2195640" y="220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67387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920" y="685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默读课文，思考：鲁滨孙漂流到荒岛，遇到了什么困难？他是怎么解决的？从中你体会到什么？</a:t>
            </a:r>
            <a:r>
              <a:rPr b="1" lang="zh-CN" sz="3600" spc="-1" strike="noStrike">
                <a:solidFill>
                  <a:srgbClr val="00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971640" y="2781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冷饿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85800" y="3535200"/>
            <a:ext cx="24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野人威胁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743200" y="2849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搭起帐篷  打猎捕鱼  养羊种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590920" y="3535200"/>
            <a:ext cx="3886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插树桩   分养羊群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救下“星期五”为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666880" y="531828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华文行楷"/>
                <a:ea typeface="华文行楷"/>
              </a:rPr>
              <a:t>有智慧  勇敢无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03A5-2301-49AB-90B9-D63E33AAA00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6"/>
          <p:cNvSpPr/>
          <p:nvPr/>
        </p:nvSpPr>
        <p:spPr>
          <a:xfrm>
            <a:off x="3276720" y="134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715000" y="663480"/>
            <a:ext cx="30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鲁滨孙的经历给了我们什么启发？在学习和生活当中遇到困难时，你是怎样做的？应该怎样做？联系实际谈一谈。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插图"/>
          <p:cNvPicPr/>
          <p:nvPr/>
        </p:nvPicPr>
        <p:blipFill>
          <a:blip r:embed="rId1"/>
          <a:stretch/>
        </p:blipFill>
        <p:spPr>
          <a:xfrm>
            <a:off x="344520" y="380880"/>
            <a:ext cx="4913280" cy="6096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2:03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38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