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chimes.wav" ContentType="audio/x-wav"/>
  <Override PartName="/ppt/media/drumroll.wav" ContentType="audio/x-wav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32B-732D-4337-9B57-C974CA2C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B7B-7908-46C3-A3AD-1C9CCE04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6B6-CD32-44C9-B4CC-4DE85EA1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F24-5192-4E72-B919-79277791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5C41-ADE1-4A43-9061-98EDFEA9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9B2-E1BE-4ADE-B93B-3D64325C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0161-535D-41AB-B767-D5905FB0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1BC3-FEA5-4202-9B72-959FCC27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BFBD-1A0E-49AD-83B8-4306319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4797-B9D4-48E5-B7C5-F15DE458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55F2-E0EF-49EC-B9BD-BE217604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73D-3D27-43A6-8E0D-81E5FD61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F16F-5F9D-40F9-B757-5799E81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BF78-E055-48F1-99E1-CF324B51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222-D7F1-415E-89BC-114FD2F9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6E5F-89B8-4659-AB1C-10EF3686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9A73-70E2-40E2-A923-BF3EEB53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AA16-2DEF-4E19-9976-1CDEDC9C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56F0-BF54-4CE9-AD24-A9FADA4E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EFDF-AC89-4B9D-AF9E-FF234E9F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FD30-3965-4D89-894C-B846EAF9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B8B49-DDED-4FA9-A750-5AAACB0F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22E-6A11-4824-9C76-0BF7B09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E878-0249-47AD-954A-97FCFA06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0BFB-6204-4D83-8B7F-E46296B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1C7A-AE11-49D7-8494-82F3F75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7799-E9CB-434D-93EE-9330FEBD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FDB1-630B-494E-8584-DB43D5B4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CD3E6-A67C-47B2-BCE5-4C5EE17B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F5DE-7837-411B-AE9E-30F0EC64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0A7-BA64-4BCC-8864-E8A31DD2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50C-8936-4FB4-A7E7-9D750065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226-AA79-42B3-80A8-48756684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EF7-D0B9-49B2-B475-8DFAF4CA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CDD-E35E-40DE-9C93-51CD0AA2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B40-6115-48FE-A294-460C314A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F84-D6FD-46DB-A06C-1CA0893A4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2064-289D-497A-AA50-8BA356692B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74CA-8678-4BA3-A8CD-778E280E5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41160402&amp;tn=baiduimagedetail&amp;word=&#32972;&#26223;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ext Box 3" descr=""/>
          <p:cNvPicPr/>
          <p:nvPr/>
        </p:nvPicPr>
        <p:blipFill>
          <a:blip r:embed="rId1"/>
          <a:stretch/>
        </p:blipFill>
        <p:spPr>
          <a:xfrm>
            <a:off x="1298520" y="1371600"/>
            <a:ext cx="7251840" cy="7016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"/>
          <p:cNvSpPr/>
          <p:nvPr/>
        </p:nvSpPr>
        <p:spPr>
          <a:xfrm>
            <a:off x="4800600" y="396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郭沫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26"/>
          <p:cNvSpPr/>
          <p:nvPr/>
        </p:nvSpPr>
        <p:spPr>
          <a:xfrm>
            <a:off x="216000" y="4995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百姓相信爱国诗人是不会死的，每年农历五月五日，他们摇着龙船，到处去寻觅诗人。他的爱国精神，已经在中国人民心中生了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27" descr="ls100"/>
          <p:cNvPicPr/>
          <p:nvPr/>
        </p:nvPicPr>
        <p:blipFill>
          <a:blip r:embed="rId1"/>
          <a:stretch/>
        </p:blipFill>
        <p:spPr>
          <a:xfrm>
            <a:off x="762120" y="297000"/>
            <a:ext cx="74674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3429000" y="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屈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平，字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号灵均，我国第一位伟大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爱国主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人，战国时楚国人。他用楚辞的形式写了我国第一首政治抒情诗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离骚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我国文学史上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浪漫主义诗歌创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源头。因看透了秦国吞并六国的野心，力劝楚怀王联齐抗秦，后来遭奸人陷害，罢官放逐，但心仍系祖国。楚国被攻后，自投汩罗江而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6" descr="m3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7"/>
          <p:cNvSpPr/>
          <p:nvPr/>
        </p:nvSpPr>
        <p:spPr>
          <a:xfrm>
            <a:off x="232560" y="380880"/>
            <a:ext cx="789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屈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21760" y="22500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离骚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屈原的代表作，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国古代最长的一首政治抒情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全诗共二千四百多字。是一首浪漫主义作品。比喻生动，语言瑰丽，夸张大胆，诗中融入大量的神话传说及历史人物故事，使诗篇波澜起伏，千变万化，雄伟奇观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屈原创造了骚体，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楚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为后世诗人的创作开辟了无限的空间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g3"/>
          <p:cNvPicPr/>
          <p:nvPr/>
        </p:nvPicPr>
        <p:blipFill>
          <a:blip r:embed="rId1"/>
          <a:stretch/>
        </p:blipFill>
        <p:spPr>
          <a:xfrm>
            <a:off x="640080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g2"/>
          <p:cNvPicPr/>
          <p:nvPr/>
        </p:nvPicPr>
        <p:blipFill>
          <a:blip r:embed="rId2"/>
          <a:stretch/>
        </p:blipFill>
        <p:spPr>
          <a:xfrm>
            <a:off x="3505320" y="3962520"/>
            <a:ext cx="2811240" cy="2895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g1"/>
          <p:cNvPicPr/>
          <p:nvPr/>
        </p:nvPicPr>
        <p:blipFill>
          <a:blip r:embed="rId3"/>
          <a:stretch/>
        </p:blipFill>
        <p:spPr>
          <a:xfrm>
            <a:off x="0" y="3962520"/>
            <a:ext cx="3505320" cy="2895480"/>
          </a:xfrm>
          <a:prstGeom prst="rect">
            <a:avLst/>
          </a:prstGeom>
          <a:ln w="0">
            <a:noFill/>
          </a:ln>
        </p:spPr>
      </p:pic>
      <p:sp>
        <p:nvSpPr>
          <p:cNvPr id="578" name="文本框 8197"/>
          <p:cNvSpPr/>
          <p:nvPr/>
        </p:nvSpPr>
        <p:spPr>
          <a:xfrm>
            <a:off x="990720" y="36576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郭沫若"/>
          <p:cNvPicPr/>
          <p:nvPr/>
        </p:nvPicPr>
        <p:blipFill>
          <a:blip r:embed="rId1"/>
          <a:stretch/>
        </p:blipFill>
        <p:spPr>
          <a:xfrm>
            <a:off x="0" y="0"/>
            <a:ext cx="3936960" cy="624852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886200" y="762120"/>
            <a:ext cx="495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郭沫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89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978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隶书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作家、诗人、历史学家、剧作家、考古学家、古文字学家、社会活动家。原名郭开贞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代表作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诗集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女神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历史剧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屈原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            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棠棣之花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虎符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高渐离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南冠草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4960" y="258840"/>
            <a:ext cx="8067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88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9 4 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时值抗日战争的相持阶段，半壁河山沦于敌手， 蒋介石集团又消极抗日，掀起反共高潮，大肆捕杀中国共产党人，“全中国进步的人们都感受着愤怒。”于是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针对政治现实，郭沫若创作了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屈原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，用以鞭挞国民党反动派的黑暗统治，抒发人民的愤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曾说：“我把这时代的愤怒复活在屈原的时代里去了。换句话说，我是借了屈原的时代来象征我们当前的时代。”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序俄文译本史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〉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26"/>
          <p:cNvSpPr/>
          <p:nvPr/>
        </p:nvSpPr>
        <p:spPr>
          <a:xfrm>
            <a:off x="1239840" y="6206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写作意图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27"/>
          <p:cNvSpPr/>
          <p:nvPr/>
        </p:nvSpPr>
        <p:spPr>
          <a:xfrm>
            <a:off x="755640" y="20606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郭沫若借历史上屈原的悲剧，展示了现实世界光明与黑暗，正义与邪恶的尖锐斗争，起到了借古讽今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026"/>
          <p:cNvSpPr/>
          <p:nvPr/>
        </p:nvSpPr>
        <p:spPr>
          <a:xfrm>
            <a:off x="685800" y="1290600"/>
            <a:ext cx="80773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睥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　　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　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鞺鞺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鞳（　　　　　）　　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（　　　）　　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咆 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（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梗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）　　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驰 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）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待（　　）　　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悔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徘 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27"/>
          <p:cNvSpPr/>
          <p:nvPr/>
        </p:nvSpPr>
        <p:spPr>
          <a:xfrm>
            <a:off x="1757880" y="134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ì nì</a:t>
            </a:r>
            <a:r>
              <a:rPr b="1" lang="en-US" sz="2400" spc="-1" strike="noStrike">
                <a:solidFill>
                  <a:srgbClr val="ffe2c5"/>
                </a:solidFill>
                <a:latin typeface="Lucida Console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8"/>
          <p:cNvSpPr/>
          <p:nvPr/>
        </p:nvSpPr>
        <p:spPr>
          <a:xfrm>
            <a:off x="4668480" y="1379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l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9"/>
          <p:cNvSpPr/>
          <p:nvPr/>
        </p:nvSpPr>
        <p:spPr>
          <a:xfrm>
            <a:off x="7133040" y="136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30"/>
          <p:cNvSpPr/>
          <p:nvPr/>
        </p:nvSpPr>
        <p:spPr>
          <a:xfrm>
            <a:off x="2257560" y="205092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ā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 t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31"/>
          <p:cNvSpPr/>
          <p:nvPr/>
        </p:nvSpPr>
        <p:spPr>
          <a:xfrm>
            <a:off x="564228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32"/>
          <p:cNvSpPr/>
          <p:nvPr/>
        </p:nvSpPr>
        <p:spPr>
          <a:xfrm>
            <a:off x="1694880" y="269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b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33"/>
          <p:cNvSpPr/>
          <p:nvPr/>
        </p:nvSpPr>
        <p:spPr>
          <a:xfrm>
            <a:off x="4397760" y="2685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34"/>
          <p:cNvSpPr/>
          <p:nvPr/>
        </p:nvSpPr>
        <p:spPr>
          <a:xfrm>
            <a:off x="6818400" y="26938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35"/>
          <p:cNvSpPr/>
          <p:nvPr/>
        </p:nvSpPr>
        <p:spPr>
          <a:xfrm>
            <a:off x="1794240" y="33415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 x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36"/>
          <p:cNvSpPr/>
          <p:nvPr/>
        </p:nvSpPr>
        <p:spPr>
          <a:xfrm>
            <a:off x="5069880" y="33130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xu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37"/>
          <p:cNvSpPr/>
          <p:nvPr/>
        </p:nvSpPr>
        <p:spPr>
          <a:xfrm>
            <a:off x="7599960" y="3362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z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038"/>
          <p:cNvSpPr/>
          <p:nvPr/>
        </p:nvSpPr>
        <p:spPr>
          <a:xfrm>
            <a:off x="1604880" y="3981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39"/>
          <p:cNvSpPr/>
          <p:nvPr/>
        </p:nvSpPr>
        <p:spPr>
          <a:xfrm>
            <a:off x="4714920" y="40435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chí ch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40"/>
          <p:cNvSpPr/>
          <p:nvPr/>
        </p:nvSpPr>
        <p:spPr>
          <a:xfrm>
            <a:off x="1622880" y="466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ü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41"/>
          <p:cNvSpPr/>
          <p:nvPr/>
        </p:nvSpPr>
        <p:spPr>
          <a:xfrm>
            <a:off x="397296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42"/>
          <p:cNvSpPr/>
          <p:nvPr/>
        </p:nvSpPr>
        <p:spPr>
          <a:xfrm>
            <a:off x="6403680" y="46418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43"/>
          <p:cNvSpPr/>
          <p:nvPr/>
        </p:nvSpPr>
        <p:spPr>
          <a:xfrm>
            <a:off x="1803960" y="52941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 hu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44"/>
          <p:cNvSpPr/>
          <p:nvPr/>
        </p:nvSpPr>
        <p:spPr>
          <a:xfrm>
            <a:off x="4809960" y="531504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ǐ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45"/>
          <p:cNvSpPr/>
          <p:nvPr/>
        </p:nvSpPr>
        <p:spPr>
          <a:xfrm>
            <a:off x="7655040" y="530064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重点字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563868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写出下列词语的意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睥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污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犀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播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虐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雷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踌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鞭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祈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忏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罪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拖泥带水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129528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眼睛斜着看，形容高傲的样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1219320" y="11430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干净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106668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器、言语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锋利；锐利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143000" y="2209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摆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1430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残暴狠毒的手段待人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1143000" y="3200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雷暴；霹雳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9"/>
          <p:cNvSpPr/>
          <p:nvPr/>
        </p:nvSpPr>
        <p:spPr>
          <a:xfrm>
            <a:off x="1143000" y="3733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犹豫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1219320" y="4267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打。比喻抨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1"/>
          <p:cNvSpPr/>
          <p:nvPr/>
        </p:nvSpPr>
        <p:spPr>
          <a:xfrm>
            <a:off x="121932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种宗教仪式，信仰宗教的人向神默告自己的愿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2"/>
          <p:cNvSpPr/>
          <p:nvPr/>
        </p:nvSpPr>
        <p:spPr>
          <a:xfrm>
            <a:off x="114300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了过去的错误或罪过而感觉痛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3"/>
          <p:cNvSpPr/>
          <p:nvPr/>
        </p:nvSpPr>
        <p:spPr>
          <a:xfrm>
            <a:off x="121932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迷信的人认为应受到报应的罪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4"/>
          <p:cNvSpPr/>
          <p:nvPr/>
        </p:nvSpPr>
        <p:spPr>
          <a:xfrm>
            <a:off x="1676520" y="6324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说话、写文章不简洁或做事不干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屈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3"/>
          <p:cNvSpPr/>
          <p:nvPr/>
        </p:nvSpPr>
        <p:spPr>
          <a:xfrm>
            <a:off x="1295280" y="0"/>
            <a:ext cx="687384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全剧分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橘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受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招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被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雷电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文节选自第五幕的</a:t>
            </a:r>
            <a:r>
              <a:rPr b="1" lang="zh-CN" sz="4000" spc="-1" strike="noStrike">
                <a:solidFill>
                  <a:srgbClr val="ffe2c5"/>
                </a:solidFill>
                <a:latin typeface="隶书"/>
                <a:ea typeface="隶书"/>
              </a:rPr>
              <a:t>第二场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是全剧的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高潮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6405480" y="133920"/>
            <a:ext cx="1185840" cy="4660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剧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438280" y="60958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828800" y="5867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看课文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页参考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屈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250920" y="189000"/>
            <a:ext cx="2881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戏剧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304920" y="31096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独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种非常具有表现力的艺术手段，它可以直接展现人物内心深刻而复杂的矛盾。郭沫若在他的历史剧创作中，十分注意在戏剧冲突中激化人物的内心情感，逐渐推向高潮，最后以长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抒情独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方式喷泻而出，以达到最大限度的戏剧和抒情效果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雷电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独白就是这样一首激越澎湃的</a:t>
            </a: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抒情散文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舞台说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舞台上的屈原内心独白发生的时间、地点和当时的自然环境，以及动作、外表形象作了一个必要的交代，为演员的表演提供造型，也为读者理解下文他震天撼地的呼喊作了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152280" y="1709280"/>
            <a:ext cx="8839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学习文章抓住事物特征展开想像，达到物我同化的境界，有力地抒发战斗激情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体会屈原热爱祖国，抨击黑暗，热烈追求光明的思想感情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教学重点、难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运用多种修辞方法，表达思想感情，增强气势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品味语言，理解语言中所包含的深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09120" y="380520"/>
            <a:ext cx="806292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听课文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感受课文在形式上并不押韵，但节奏分明，声调铿锵有力的特点，注意品味文章语言，体会文章气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按自然力声威的发展，和屈原的感情脉络，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划分文章层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987280" y="334440"/>
            <a:ext cx="2925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结构分析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0" y="1197000"/>
            <a:ext cx="9144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两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第一层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风雷电的呼唤与歌颂，对光明的礼赞与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！你咆哮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这包含着一切罪恶的黑暗烧毁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层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借指斥神鬼偶象来愤怒诅咒昏庸腐朽的当权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你这东皇太一烧毁了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篇末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104292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研读赏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609480" y="981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屈原的独白写了哪些景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395280" y="45086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写这些景象时，运用了什么手法？仔细分析一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80880" y="1828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风雷电，洞庭湖、东海、长江，有形的长剑、无形的长剑，没有阴谋，没有污秽、没有自私自利的没有人的小岛，“土偶木梗”的群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屈原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468360" y="765000"/>
            <a:ext cx="3419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雷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洞庭湖、东海、长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形的长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土偶木梗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阴谋、没有污秽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自私自利的没有人的小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4572000" y="685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世间追求正义、光明的变革力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5153400" y="1600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民群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4724280" y="2286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坚定的信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4794120" y="40766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社会现实极端憎恶而企求寄托灵魂的一方净土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68360" y="1052640"/>
            <a:ext cx="1943280" cy="360"/>
            <a:chOff x="2268360" y="1052640"/>
            <a:chExt cx="1943280" cy="360"/>
          </a:xfrm>
        </p:grpSpPr>
        <p:sp>
          <p:nvSpPr>
            <p:cNvPr id="641" name="Line 8"/>
            <p:cNvSpPr/>
            <p:nvPr/>
          </p:nvSpPr>
          <p:spPr>
            <a:xfrm>
              <a:off x="2268360" y="1052640"/>
              <a:ext cx="1943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2268360" y="1052640"/>
              <a:ext cx="194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419640" y="1844640"/>
            <a:ext cx="1296720" cy="360"/>
            <a:chOff x="3419640" y="1844640"/>
            <a:chExt cx="1296720" cy="360"/>
          </a:xfrm>
        </p:grpSpPr>
        <p:sp>
          <p:nvSpPr>
            <p:cNvPr id="644" name="Line 9"/>
            <p:cNvSpPr/>
            <p:nvPr/>
          </p:nvSpPr>
          <p:spPr>
            <a:xfrm>
              <a:off x="3419640" y="1844640"/>
              <a:ext cx="1296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3419640" y="1844640"/>
              <a:ext cx="129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56000" y="3213000"/>
            <a:ext cx="2016000" cy="360"/>
            <a:chOff x="2556000" y="3213000"/>
            <a:chExt cx="2016000" cy="360"/>
          </a:xfrm>
        </p:grpSpPr>
        <p:sp>
          <p:nvSpPr>
            <p:cNvPr id="647" name="Line 10"/>
            <p:cNvSpPr/>
            <p:nvPr/>
          </p:nvSpPr>
          <p:spPr>
            <a:xfrm>
              <a:off x="2556000" y="3213000"/>
              <a:ext cx="2016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2556000" y="321300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Text Box 11"/>
          <p:cNvSpPr/>
          <p:nvPr/>
        </p:nvSpPr>
        <p:spPr>
          <a:xfrm>
            <a:off x="1619280" y="558972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委婉曲折含蓄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化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抽象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具体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形象可感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118728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象征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4724280" y="29718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无德无能，欺民惑众的官僚统治集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108000" y="5805360"/>
            <a:ext cx="17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590920" y="2590920"/>
            <a:ext cx="2016000" cy="360"/>
            <a:chOff x="2590920" y="2590920"/>
            <a:chExt cx="2016000" cy="360"/>
          </a:xfrm>
        </p:grpSpPr>
        <p:sp>
          <p:nvSpPr>
            <p:cNvPr id="654" name="Line 15"/>
            <p:cNvSpPr/>
            <p:nvPr/>
          </p:nvSpPr>
          <p:spPr>
            <a:xfrm>
              <a:off x="2590920" y="2590920"/>
              <a:ext cx="2016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2590920" y="259092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780000" y="4653000"/>
            <a:ext cx="1079280" cy="4680"/>
            <a:chOff x="3780000" y="4653000"/>
            <a:chExt cx="1079280" cy="4680"/>
          </a:xfrm>
        </p:grpSpPr>
        <p:sp>
          <p:nvSpPr>
            <p:cNvPr id="657" name="Line 16"/>
            <p:cNvSpPr/>
            <p:nvPr/>
          </p:nvSpPr>
          <p:spPr>
            <a:xfrm>
              <a:off x="3780000" y="4653000"/>
              <a:ext cx="1079280" cy="46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3780000" y="4653000"/>
              <a:ext cx="107928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50920" y="907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抒情主人公通过呼唤风、雷、电表达了一种怎样的思想感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468360" y="24922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对风雷电的呼唤与歌颂，表现了诗人对黑暗世界的强烈愤懑和摧毁黑暗的热望，也表明了诗人对光明未来的热烈追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屈原怒斥神鬼偶像的目的是什么？</a:t>
            </a:r>
            <a:br>
              <a:rPr sz="4800"/>
            </a:b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表达了他怎样的精神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09120" y="2887200"/>
            <a:ext cx="81536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神鬼偶像指的是人世间昏庸腐朽暴戾的当权者，表达了他鞭挞一切污秽，横扫一切邪恶的顽强斗争精神，体现了他和黑暗势力斗争到底的浩然正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197"/>
          <p:cNvSpPr/>
          <p:nvPr/>
        </p:nvSpPr>
        <p:spPr>
          <a:xfrm>
            <a:off x="914400" y="6019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WordArt 2"/>
          <p:cNvSpPr txBox="1"/>
          <p:nvPr/>
        </p:nvSpPr>
        <p:spPr>
          <a:xfrm>
            <a:off x="971640" y="1916280"/>
            <a:ext cx="698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评点屈原的形象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611280" y="3573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爱国爱民，忠贞不屈，有着浩然正气和英勇无畏的斗争精神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4192920" y="2590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屈原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z3"/>
          <p:cNvPicPr/>
          <p:nvPr/>
        </p:nvPicPr>
        <p:blipFill>
          <a:blip r:embed="rId1"/>
          <a:stretch/>
        </p:blipFill>
        <p:spPr>
          <a:xfrm>
            <a:off x="0" y="0"/>
            <a:ext cx="9144000" cy="2473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5"/>
          <p:cNvSpPr/>
          <p:nvPr/>
        </p:nvSpPr>
        <p:spPr>
          <a:xfrm>
            <a:off x="228600" y="51577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路漫漫其修远兮，吾将上下而求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屈原橘颂"/>
          <p:cNvPicPr/>
          <p:nvPr/>
        </p:nvPicPr>
        <p:blipFill>
          <a:blip r:embed="rId1"/>
          <a:stretch/>
        </p:blipFill>
        <p:spPr>
          <a:xfrm>
            <a:off x="684360" y="1628640"/>
            <a:ext cx="2582640" cy="452592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3"/>
          <p:cNvSpPr/>
          <p:nvPr/>
        </p:nvSpPr>
        <p:spPr>
          <a:xfrm>
            <a:off x="3708360" y="83664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屈原：正义和光明的化身。是战斗不屈的战士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3733920" y="198108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痛恨黑暗，向往光明，蔑视鬼神，鞭挞一切污秽，誓与丑恶奸佞们战斗到底。对风雷电的呼唤和歌颂，表现了他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横扫一切邪恶的顽强战斗精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虽桎梏加身，但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不屈不挠，浩然正气凛然不可侵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充分表现了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忠于祖国，热爱人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高尚情操和崇高理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-234720" y="692280"/>
            <a:ext cx="127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虽九死其犹未悔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4289040" y="6095880"/>
            <a:ext cx="33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桎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ì g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脚镣和手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08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风，你咆哮吧！咆哮吧！尽力地咆哮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5029200" y="609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：可以从修辞手法及其作用、揭示句子的含义来品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91440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运用呼告、排比、反复修辞手法，热切地向往和赞美风这种自然界的伟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7"/>
          <p:cNvSpPr/>
          <p:nvPr/>
        </p:nvSpPr>
        <p:spPr>
          <a:xfrm>
            <a:off x="2971800" y="2286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026" descr="ls1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35575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027"/>
          <p:cNvSpPr/>
          <p:nvPr/>
        </p:nvSpPr>
        <p:spPr>
          <a:xfrm>
            <a:off x="2899440" y="115920"/>
            <a:ext cx="325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a50021"/>
                </a:solidFill>
                <a:uFillTx/>
                <a:latin typeface="Arial"/>
                <a:ea typeface="华文隶书"/>
              </a:rPr>
              <a:t>屈 原 的 故 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028"/>
          <p:cNvSpPr/>
          <p:nvPr/>
        </p:nvSpPr>
        <p:spPr>
          <a:xfrm>
            <a:off x="0" y="560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战国时代，称雄的秦、楚、齐、燕、赵、韩、魏七国，争城夺地，互相杀伐，连年混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"/>
          <p:cNvSpPr/>
          <p:nvPr/>
        </p:nvSpPr>
        <p:spPr>
          <a:xfrm>
            <a:off x="304920" y="2771640"/>
            <a:ext cx="86169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告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是在行文中直呼文中的人或物的一种修辞方式。也就是对本来不在面前的人或物直接呼唤，并且跟他说话，一般可把它分为呼人、呼物两种形式                                                          雷锋啊，你虽然生活在二十世纪六十年代，但人们从你身上，也从千千万万革命战士的身上，看见了未来的人类，共产主义的人类。（呼人）                                                        啊，电！你这宇宙中最犀利的剑呀！我的长剑被人拔去了，但是你，你能拔去我有形的长剑，你不能拔去我无形的长剑呀！（呼物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572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电，你这宇宙中的剑，也正是我心中的剑。你劈吧，劈吧，劈吧！把这比铁还坚硬的黑暗劈开，劈开，劈开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62120" y="388620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连串的反复，一个比一个强烈、一个比一个坚决，表达屈原想要冲破黑暗的急切而又果敢的决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 “火，你在天边，你在眼前，你在我的四面，我知道你就是宇宙的生命，你就是我呀！我这熊熊的燃烧着的生命，我这快要使我全身炸裂的怒火，难道就不能迸射出光明了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27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28"/>
          <p:cNvSpPr/>
          <p:nvPr/>
        </p:nvSpPr>
        <p:spPr>
          <a:xfrm>
            <a:off x="990720" y="4267080"/>
            <a:ext cx="739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这几句是屈原对光明的狂热的呼喊，运用了排比、反问，表达了诗人对光明未来的热烈向往与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68580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把你这东皇太一烧毁了吧！把你这云中君烧毁了吧！你们这些土偶木梗，你们高坐在神位上有什么德能？你们只是产生黑暗的父亲和母亲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838080" y="3809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深刻的指出了产生黑暗的社会根源，表现了作者鞭挞一切污秽、横扫一切邪恶的顽强战斗精神，体现了他与黑暗势力决斗到底的浩然正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屈原"/>
          <p:cNvPicPr/>
          <p:nvPr/>
        </p:nvPicPr>
        <p:blipFill>
          <a:blip r:embed="rId1"/>
          <a:stretch/>
        </p:blipFill>
        <p:spPr>
          <a:xfrm>
            <a:off x="5981760" y="990720"/>
            <a:ext cx="3162240" cy="586728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3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2c5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雷电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独白激情澎湃，气象雄浑，作者是如何做到这一点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716400" y="1844640"/>
            <a:ext cx="225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拟人兼呼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排比和反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用短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455480" y="229536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爱憎表达最直接有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1699920" y="3657600"/>
            <a:ext cx="44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句式整齐，感情表达更强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1466640" y="510372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语气急促，情感激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屈原1"/>
          <p:cNvPicPr/>
          <p:nvPr/>
        </p:nvPicPr>
        <p:blipFill>
          <a:blip r:embed="rId1"/>
          <a:stretch/>
        </p:blipFill>
        <p:spPr>
          <a:xfrm>
            <a:off x="5452920" y="1341360"/>
            <a:ext cx="3691080" cy="51832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3"/>
          <p:cNvSpPr/>
          <p:nvPr/>
        </p:nvSpPr>
        <p:spPr>
          <a:xfrm>
            <a:off x="32400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内心独白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想像奇特，联想丰富，气势宏伟，表现作者浪漫主义的激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324000" y="177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运用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的手法，将作者难以言表的情感表达得更加含蓄、深沉、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395280" y="321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比喻、拟人、排比、夸张、反复、呼告、反问等多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修辞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方法的运用，增强了语句的气势和感情色彩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403280" y="2924280"/>
            <a:ext cx="5184720" cy="360"/>
            <a:chOff x="1403280" y="2924280"/>
            <a:chExt cx="5184720" cy="360"/>
          </a:xfrm>
        </p:grpSpPr>
        <p:sp>
          <p:nvSpPr>
            <p:cNvPr id="699" name="Line 6"/>
            <p:cNvSpPr/>
            <p:nvPr/>
          </p:nvSpPr>
          <p:spPr>
            <a:xfrm>
              <a:off x="1403280" y="2924280"/>
              <a:ext cx="518472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1403280" y="2924280"/>
              <a:ext cx="51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10920" y="4797000"/>
            <a:ext cx="5113440" cy="360"/>
            <a:chOff x="610920" y="4797000"/>
            <a:chExt cx="5113440" cy="360"/>
          </a:xfrm>
        </p:grpSpPr>
        <p:sp>
          <p:nvSpPr>
            <p:cNvPr id="702" name="Line 7"/>
            <p:cNvSpPr/>
            <p:nvPr/>
          </p:nvSpPr>
          <p:spPr>
            <a:xfrm>
              <a:off x="611280" y="4797360"/>
              <a:ext cx="511308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 rot="10800000">
              <a:off x="610920" y="4797000"/>
              <a:ext cx="511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8"/>
          <p:cNvSpPr/>
          <p:nvPr/>
        </p:nvSpPr>
        <p:spPr>
          <a:xfrm>
            <a:off x="468360" y="5229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多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表达激烈的情感，急促的语气，体会屈原忧国忧民，英勇无畏的伟大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348000" y="5805000"/>
            <a:ext cx="5113440" cy="360"/>
            <a:chOff x="3348000" y="5805000"/>
            <a:chExt cx="5113440" cy="360"/>
          </a:xfrm>
        </p:grpSpPr>
        <p:sp>
          <p:nvSpPr>
            <p:cNvPr id="706" name="Line 9"/>
            <p:cNvSpPr/>
            <p:nvPr/>
          </p:nvSpPr>
          <p:spPr>
            <a:xfrm>
              <a:off x="3348000" y="5805360"/>
              <a:ext cx="511344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 rot="10800000">
              <a:off x="3348000" y="5805000"/>
              <a:ext cx="511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1066680" y="12193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雷电颂</a:t>
            </a:r>
            <a:r>
              <a:rPr b="1" lang="en-US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》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的舞台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685800" y="2362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为舞台上屈原的动作、形象外貌作了必要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交代，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为读者理解下文的震天撼地的呼喊作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铺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u=52912102,1896979028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492200" cy="11160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3"/>
          <p:cNvSpPr/>
          <p:nvPr/>
        </p:nvSpPr>
        <p:spPr>
          <a:xfrm>
            <a:off x="380880" y="1219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这是一篇悲壮、慷慨、激昂的抒情独白。屈原召唤着风暴雷电等雄伟的自然力量，他与风暴雷电已完全融为一体</a:t>
            </a: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!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让我们用自己最激越的感情，朗读课文，走进屈原丰富的内心世界，感受这雷与电的洗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WordArt 4"/>
          <p:cNvSpPr txBox="1"/>
          <p:nvPr/>
        </p:nvSpPr>
        <p:spPr>
          <a:xfrm>
            <a:off x="457200" y="4572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结束语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13" name="文本框 8197"/>
          <p:cNvSpPr/>
          <p:nvPr/>
        </p:nvSpPr>
        <p:spPr>
          <a:xfrm>
            <a:off x="1371600" y="6095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知识积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郭沫若的六部历史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棠棣之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虎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渐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四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孔雀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南冠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黑暗反动势力坚持进行顽强、不妥协的斗争，是贯穿这些剧本的一个共同的基本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2EA7-6A8A-4E16-8AD3-5C9610D458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026"/>
          <p:cNvSpPr/>
          <p:nvPr/>
        </p:nvSpPr>
        <p:spPr>
          <a:xfrm>
            <a:off x="0" y="493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那时，楚国的大诗人屈原，正当青年，为楚怀王的左徒官。他见百姓受到战争灾难，十分痛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27"/>
          <p:cNvSpPr/>
          <p:nvPr/>
        </p:nvSpPr>
        <p:spPr>
          <a:xfrm>
            <a:off x="0" y="5698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屈原立志报国为民，劝怀王任用贤能，爱护百姓，很得怀王的信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28" descr="ls3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/>
          <p:cNvSpPr/>
          <p:nvPr/>
        </p:nvSpPr>
        <p:spPr>
          <a:xfrm>
            <a:off x="1066680" y="13716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假如你的梦想和你父母的理想有所差距，你如何用一封热情洋溢的信打动你的父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026"/>
          <p:cNvSpPr/>
          <p:nvPr/>
        </p:nvSpPr>
        <p:spPr>
          <a:xfrm>
            <a:off x="0" y="493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那时，楚国的大诗人屈原，正当青年，为楚怀王的左徒官。他见百姓受到战争灾难，十分痛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7"/>
          <p:cNvSpPr/>
          <p:nvPr/>
        </p:nvSpPr>
        <p:spPr>
          <a:xfrm>
            <a:off x="0" y="5698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屈原立志报国为民，劝怀王任用贤能，爱护百姓，很得怀王的信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28" descr="ls3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1026" descr="ls7"/>
          <p:cNvPicPr/>
          <p:nvPr/>
        </p:nvPicPr>
        <p:blipFill>
          <a:blip r:embed="rId1"/>
          <a:stretch/>
        </p:blipFill>
        <p:spPr>
          <a:xfrm>
            <a:off x="304920" y="304920"/>
            <a:ext cx="8280360" cy="43434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027"/>
          <p:cNvSpPr/>
          <p:nvPr/>
        </p:nvSpPr>
        <p:spPr>
          <a:xfrm>
            <a:off x="0" y="479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但是此时，种种诬陷也接踵而至，楚王撤销了屈原的官职，流放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28"/>
          <p:cNvSpPr/>
          <p:nvPr/>
        </p:nvSpPr>
        <p:spPr>
          <a:xfrm>
            <a:off x="0" y="593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当时秦国势力大，秦攻击楚国。屈原主张联齐抗秦，遭到拒绝，几次被囚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026" descr="ls94"/>
          <p:cNvPicPr/>
          <p:nvPr/>
        </p:nvPicPr>
        <p:blipFill>
          <a:blip r:embed="rId1"/>
          <a:stretch/>
        </p:blipFill>
        <p:spPr>
          <a:xfrm>
            <a:off x="609480" y="304920"/>
            <a:ext cx="7391520" cy="42386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1027"/>
          <p:cNvSpPr/>
          <p:nvPr/>
        </p:nvSpPr>
        <p:spPr>
          <a:xfrm>
            <a:off x="0" y="480024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楚国国势一天不如一天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失掉了对抗秦兵的力量。秦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占领了楚国大部分土地，楚国要灭亡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28"/>
          <p:cNvSpPr/>
          <p:nvPr/>
        </p:nvSpPr>
        <p:spPr>
          <a:xfrm>
            <a:off x="0" y="5714640"/>
            <a:ext cx="96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满腹的忧愁愤恨，他写成了诗篇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离骚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。他越来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老了，但是复兴楚国的希望，却一天也没有熄灭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26"/>
          <p:cNvSpPr/>
          <p:nvPr/>
        </p:nvSpPr>
        <p:spPr>
          <a:xfrm>
            <a:off x="36360" y="5507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楚国要亡了！他来到了汨罗江边。他在清澈的江水里看见了自己的满头白发，心里像波浪一样翻腾起来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27" descr="jpm96"/>
          <p:cNvPicPr/>
          <p:nvPr/>
        </p:nvPicPr>
        <p:blipFill>
          <a:blip r:embed="rId1"/>
          <a:stretch/>
        </p:blipFill>
        <p:spPr>
          <a:xfrm>
            <a:off x="533520" y="449280"/>
            <a:ext cx="81882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26"/>
          <p:cNvSpPr/>
          <p:nvPr/>
        </p:nvSpPr>
        <p:spPr>
          <a:xfrm>
            <a:off x="0" y="5850360"/>
            <a:ext cx="9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爱国诗人带了楚国的干净石块，很快沉了下去。这天正是农历五月五日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027" descr="ls98"/>
          <p:cNvPicPr/>
          <p:nvPr/>
        </p:nvPicPr>
        <p:blipFill>
          <a:blip r:embed="rId1"/>
          <a:stretch/>
        </p:blipFill>
        <p:spPr>
          <a:xfrm>
            <a:off x="0" y="0"/>
            <a:ext cx="6324480" cy="520704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1028"/>
          <p:cNvSpPr/>
          <p:nvPr/>
        </p:nvSpPr>
        <p:spPr>
          <a:xfrm>
            <a:off x="8125200" y="216000"/>
            <a:ext cx="667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这里的土地没被秦兵践踏过，是干净的。他解下衣服，包着江边的石头，用带子紧紧缚在自己身上，奋力向江心一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11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