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6.png" ContentType="image/png"/>
  <Override PartName="/ppt/media/image5.gif" ContentType="image/gif"/>
  <Override PartName="/ppt/media/image14.jpeg" ContentType="image/jpeg"/>
  <Override PartName="/ppt/media/image4.jpeg" ContentType="image/jpeg"/>
  <Override PartName="/ppt/media/image2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BE19-9DB8-4B88-9347-DC1531BE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2CFB-2DBA-4004-B786-6213AE54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D329E-DE81-4EA9-A217-762A0166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57A64-77CC-445E-B208-B0DF2BCC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59FBC-E7AF-4F37-A828-4CBCC373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E3B2F-BEAE-40C8-AAF4-4DF6400E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7780A-3651-433C-AC6B-996F5B66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FFC15-05CE-40D5-892E-15F37355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22AE3-4A68-4A78-AED7-7237ED8F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32391-6FFC-485C-9DAF-74C76D1D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11AB7-424D-4CF1-A6D7-4E74FCCD9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714339-D11F-40EB-84BE-5CB6F665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07D7-93EB-4CCA-945F-69B05CC6A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C8841-B528-4E09-94BC-18F6659D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0A24C-0F86-441C-B32B-B243ABAC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D7030-9CE2-4B94-B1AA-C115185B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1B98B-2041-47D1-B726-C29C18A5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6BABE-8817-48D8-9CD1-0C397927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6150F-C9C9-4946-9D77-2DBE3331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998F6-5E9F-4F42-8FAC-53F38EA4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0257B-2D22-4EBF-8779-3F4106C0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27E5D-BA7A-4AC1-9E81-22598BC0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683B5-7B6D-4D7E-A9D5-7BD4AE76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7CC6-C667-4ACF-9D0A-45121EC79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1DBEE-7D95-4572-AB7E-81AB37192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DDCF-89D3-4414-8A30-1E8E95E74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D521-CC38-4CC8-B6CF-3BCAF2A8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E506-556B-440C-AC67-286CA1DA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76FF-A7DC-4CB9-9ED3-605F88D1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DE13-68E1-4486-BE66-7D7ED2DF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4B79-6DD1-4213-A299-517E7E59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513E-2F87-451B-81B0-8C425029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CF01-A4A8-430A-ABEA-53A50908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723D-A4B1-4743-B140-09D61CF3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C63C-982C-44CD-9F07-1D928195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FC42-5AC2-46DC-9C09-5A0160F8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1680-7995-44B8-870D-13A59B2E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B144-1911-4649-A22C-59016B2E7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3316D-8C12-4B78-9612-273DAA4D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F378F-2E3F-4B10-814D-8DC74772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10B13-2AE4-493F-A10B-2754855B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E16FD-CC0B-496E-80BA-AA095C3F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F48A5-237F-43C1-BEF5-E1101D87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E35B-80BA-4CB3-A773-06C6338D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3859D-08F7-4B9E-B900-69AE0D70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DB5FA-9476-4317-A111-F1B1B70E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FD120-8528-4EAC-97AC-B264C994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EBA07-59A6-47F1-957B-B235C6E7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C1762-D6E0-4F5F-A0EC-CBEC4F66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BB0B5-3D14-4BC4-B1B6-FCB364684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9187B-E3BB-407E-8C4B-357EB679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DDD83-44DD-463E-9132-091C2592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B46D4-B7F5-492E-BC4C-D96AF9FB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DFC1E-E79A-422F-94CB-98097E4A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EB66-E3E1-4BC7-9CDB-A779D3DE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5B7F9-89DD-456B-ACE2-77C59525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11F6B-A1DE-4836-AC8C-F02552FC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37529-439E-42A7-A242-0C7F56D6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1AB07-2F64-4178-985E-32C755D7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A0650-34EF-4548-B27B-DB5F5946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EE912-1FEB-45C8-9C69-D749EB42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B3F7B-A765-4D98-9FA5-691BA15F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B4A31-6844-4998-AA33-384BB9FD6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20F65-646B-4A48-85EC-51007377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6531C-A393-4637-8481-249CFCAEE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931C-6032-4DDE-97E7-87146D54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2E435-FC8F-4C76-8FD5-C527E21A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6E6F1-0938-4F64-997D-24D478CA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2955D-C685-42EE-808E-AFF5AFD2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E6F27-C5FE-45EA-98A0-1E2EACAF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BC545-2A36-4294-B458-D0244F53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F8625-8FCE-4FA6-BFAC-C46B0C56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C203D-E917-417C-9A1E-8152C868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C2140-202B-4405-A472-243A8189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36419-358C-4694-B2F9-A092FBE0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A3620-604C-4581-AC64-7AE0798C9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5990-B493-4F0D-AAF4-EB14A864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51E7D-A6CB-4841-BA01-D1597FD03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5423A-648F-42E8-AD86-D426224D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6CDC4-CAB7-48C7-82DC-3B703C27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1474A-02EC-4186-A1F8-DC0B6A1D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35D72-3CAB-4B40-9250-31FD1683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BB8B1-8016-4FC1-B79A-07892788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1EB95-F910-4427-9C0F-5BB4A8817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B1B6A-A125-423C-B852-B7EBC900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9080B-4F9C-4D88-B675-32E070C8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BD592-AF6C-48DF-9C83-0D38118A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785A-9E08-41F0-9305-9743498B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C0216-B687-443D-AD1D-F08CC439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122C4-7E46-4F46-A2C9-A4AC5DBC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E3C15-F021-4FB8-87F0-73682CF37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74855-D161-47B8-9A8C-9F8D402D9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363B2-6E44-4B7E-98E6-FEFDB9C7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784E1-034B-453B-BF22-5A7BA4E0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C9D21-5C53-47A4-96E1-60ABF5DB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359E3-4848-46F5-BE33-95F38796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102E9-774A-47D1-8AC2-7881F04C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D51F2-6BC9-40A1-94FC-D1C64E1F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181E-0B6B-4BE3-A2FB-F4463F12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56476-D522-48C4-B5BA-8EB32A07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D570B-6DD3-4713-93C0-D55EA9D4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59E48-1C3C-4D9C-AF65-BA4C2295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30A72-13E0-49FC-92D4-91CC86E0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83EF5-AE21-4B4A-A561-B1AAE56C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194FB-DD48-4597-AE91-65E91E9FB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79028-0A51-4D22-B596-940436FE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9936AC-1EF3-4E8E-944F-37200576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40D17-632D-4453-8C69-65A548EC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5A724-A947-46B0-9CB2-B43C6E8B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875B-386C-4C05-AE02-D83A61FC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5893F-C7FB-4E82-85AD-C9952E01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05477-1CDF-458A-88A3-781D3EDE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599D6-BC48-40F8-AAE1-1AF24D2E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AD533-0405-4312-AC87-9E5540D5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1417B-47F1-4BB3-988F-7BE05182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EF269-3F08-4FD5-81F3-F8E7C557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D91BE-BAE2-4D98-8422-F0F89AB0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DA398-7A39-4BA1-9965-C76A37F9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78518-4BE4-481B-B1CB-6D01ABC7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C1B44-F502-43C7-B5D1-9F2A0FD2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8C15-D408-41C8-8593-9B8215218CE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981080" y="3962520"/>
            <a:ext cx="6512040" cy="360"/>
            <a:chOff x="1981080" y="3962520"/>
            <a:chExt cx="6512040" cy="360"/>
          </a:xfrm>
        </p:grpSpPr>
        <p:sp>
          <p:nvSpPr>
            <p:cNvPr id="461" name="Line 8"/>
            <p:cNvSpPr/>
            <p:nvPr/>
          </p:nvSpPr>
          <p:spPr>
            <a:xfrm>
              <a:off x="1981080" y="3962520"/>
              <a:ext cx="651204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462" name=""/>
            <p:cNvSpPr txBox="1"/>
            <p:nvPr/>
          </p:nvSpPr>
          <p:spPr>
            <a:xfrm>
              <a:off x="1981080" y="3962520"/>
              <a:ext cx="6512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B8CF-4B0E-4FC9-89A7-BE91FF5F2889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5D8D-D3F0-442F-B66A-6DDE1A9917A3}" type="slidenum">
              <a:rPr b="1" lang="zh-CN" sz="2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7962840" y="152280"/>
            <a:ext cx="360" cy="1524240"/>
            <a:chOff x="7962840" y="152280"/>
            <a:chExt cx="360" cy="1524240"/>
          </a:xfrm>
        </p:grpSpPr>
        <p:sp>
          <p:nvSpPr>
            <p:cNvPr id="90" name="Line 2"/>
            <p:cNvSpPr/>
            <p:nvPr/>
          </p:nvSpPr>
          <p:spPr>
            <a:xfrm>
              <a:off x="7962840" y="152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7962840" y="152280"/>
              <a:ext cx="360" cy="1524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3141-440F-4B5A-9FAB-C1500FE6D2DD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99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00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01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02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03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04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05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06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07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08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09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1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11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12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13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1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15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16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17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1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19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20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21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22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23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24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25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26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27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28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E6A9-946F-4577-AEBA-BC5F8455CCC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2F87-EC2B-48D6-95A4-2B0559BCFF77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57200" y="6172200"/>
            <a:ext cx="8229600" cy="360"/>
            <a:chOff x="457200" y="6172200"/>
            <a:chExt cx="8229600" cy="360"/>
          </a:xfrm>
        </p:grpSpPr>
        <p:sp>
          <p:nvSpPr>
            <p:cNvPr id="213" name="Line 8"/>
            <p:cNvSpPr/>
            <p:nvPr/>
          </p:nvSpPr>
          <p:spPr>
            <a:xfrm>
              <a:off x="457200" y="6172200"/>
              <a:ext cx="822960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457200" y="617220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F567-5C66-4AE8-B504-A95C547076D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93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94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9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9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9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7245-BB38-4BED-A309-51E7285D62F5}" type="slidenum">
              <a:rPr b="1" lang="zh-CN" sz="2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7315200" y="1066680"/>
            <a:ext cx="360" cy="4496040"/>
            <a:chOff x="7315200" y="1066680"/>
            <a:chExt cx="360" cy="4496040"/>
          </a:xfrm>
        </p:grpSpPr>
        <p:sp>
          <p:nvSpPr>
            <p:cNvPr id="340" name="Line 2"/>
            <p:cNvSpPr/>
            <p:nvPr/>
          </p:nvSpPr>
          <p:spPr>
            <a:xfrm>
              <a:off x="7315200" y="1066680"/>
              <a:ext cx="0" cy="44960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>
              <a:off x="7315200" y="1066680"/>
              <a:ext cx="360" cy="4496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342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343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44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45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46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47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48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49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50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51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52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53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54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55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56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57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58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59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60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61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62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63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64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65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66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67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68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69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70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71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72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73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04920" y="2819520"/>
            <a:ext cx="8229600" cy="360"/>
            <a:chOff x="304920" y="2819520"/>
            <a:chExt cx="8229600" cy="360"/>
          </a:xfrm>
        </p:grpSpPr>
        <p:sp>
          <p:nvSpPr>
            <p:cNvPr id="375" name="Line 40"/>
            <p:cNvSpPr/>
            <p:nvPr/>
          </p:nvSpPr>
          <p:spPr>
            <a:xfrm>
              <a:off x="304920" y="2819520"/>
              <a:ext cx="8229600" cy="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76" name=""/>
            <p:cNvSpPr txBox="1"/>
            <p:nvPr/>
          </p:nvSpPr>
          <p:spPr>
            <a:xfrm>
              <a:off x="304920" y="281952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B74B-C6FC-4BB4-BB15-41A709B9DE77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24A8-A7F3-45DF-914E-498A1406ACC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11"/>
          <p:cNvSpPr/>
          <p:nvPr/>
        </p:nvSpPr>
        <p:spPr>
          <a:xfrm>
            <a:off x="971640" y="187308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宋体"/>
              </a:rPr>
              <a:t>来自社会的</a:t>
            </a:r>
            <a:r>
              <a:rPr b="1" lang="zh-CN" sz="4000" spc="-1" strike="noStrike">
                <a:solidFill>
                  <a:srgbClr val="dc3400"/>
                </a:solidFill>
                <a:latin typeface="宋体"/>
                <a:ea typeface="宋体"/>
              </a:rPr>
              <a:t>爱</a:t>
            </a:r>
            <a:r>
              <a:rPr b="1" lang="en-US" sz="4000" spc="-1" strike="noStrike">
                <a:solidFill>
                  <a:srgbClr val="dc34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dc3400"/>
                </a:solidFill>
                <a:latin typeface="宋体"/>
                <a:ea typeface="宋体"/>
              </a:rPr>
              <a:t>课件打包下载</a:t>
            </a:r>
            <a:endParaRPr b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826920" y="80640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义务教育新课标三年级品德与社会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0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cc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539" name="Picture 4" descr="2007824163226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0" name="文本框 8196"/>
          <p:cNvSpPr/>
          <p:nvPr/>
        </p:nvSpPr>
        <p:spPr>
          <a:xfrm>
            <a:off x="1281240" y="8031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1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543" name="Picture 4" descr="制衣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546" name="Picture 4" descr="盖楼"/>
          <p:cNvPicPr/>
          <p:nvPr/>
        </p:nvPicPr>
        <p:blipFill>
          <a:blip r:embed="rId1"/>
          <a:stretch/>
        </p:blipFill>
        <p:spPr>
          <a:xfrm>
            <a:off x="0" y="-15840"/>
            <a:ext cx="9213840" cy="68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为了给我们营造一个好的学习环境和生活环境，社会为我们做了那些事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610920" y="1916280"/>
            <a:ext cx="70167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1a06"/>
                </a:solidFill>
                <a:latin typeface="Times New Roman"/>
              </a:rPr>
              <a:t>在我们的学校和家庭周围看：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4" descr="20099281019jt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552" name="Picture 4" descr="201006101035296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555" name="Picture 4" descr="333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558" name="Picture 5" descr="20073281011589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Picture 4" descr="图片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5"/>
          <p:cNvSpPr/>
          <p:nvPr/>
        </p:nvSpPr>
        <p:spPr>
          <a:xfrm>
            <a:off x="971640" y="1197000"/>
            <a:ext cx="720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任何人不得在中小学、幼儿园、托儿所的教室、寝室、活动室和其他未成年人集中活动的室内抽烟。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d61a06"/>
                </a:solidFill>
                <a:latin typeface="Times New Roman"/>
              </a:rPr>
              <a:t>——</a:t>
            </a:r>
            <a:r>
              <a:rPr b="1" lang="en-US" sz="3200" spc="-1" strike="noStrike">
                <a:solidFill>
                  <a:srgbClr val="d61a06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d61a06"/>
                </a:solidFill>
                <a:latin typeface="Times New Roman"/>
              </a:rPr>
              <a:t>中华人民共和国未成年人          保护法</a:t>
            </a:r>
            <a:r>
              <a:rPr b="1" lang="en-US" sz="3200" spc="-1" strike="noStrike">
                <a:solidFill>
                  <a:srgbClr val="d61a06"/>
                </a:solidFill>
                <a:latin typeface="Times New Roman"/>
              </a:rPr>
              <a:t>》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826920" y="27082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博物馆、纪念馆、科技馆、文化馆、影剧院、体育场（馆）、动物园、公园等场所，应当对中小学生优惠开放。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  </a:t>
            </a:r>
            <a:r>
              <a:rPr b="1" lang="en-US" sz="3200" spc="-1" strike="noStrike">
                <a:solidFill>
                  <a:srgbClr val="d61a06"/>
                </a:solidFill>
                <a:latin typeface="Times New Roman"/>
              </a:rPr>
              <a:t>——</a:t>
            </a:r>
            <a:r>
              <a:rPr b="1" lang="en-US" sz="3200" spc="-1" strike="noStrike">
                <a:solidFill>
                  <a:srgbClr val="d61a06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d61a06"/>
                </a:solidFill>
                <a:latin typeface="Times New Roman"/>
                <a:ea typeface="楷体_GB2312"/>
              </a:rPr>
              <a:t>中华人民共和国未成年人保护法</a:t>
            </a:r>
            <a:r>
              <a:rPr b="1" lang="en-US" sz="3200" spc="-1" strike="noStrike">
                <a:solidFill>
                  <a:srgbClr val="d61a06"/>
                </a:solidFill>
                <a:latin typeface="Times New Roman"/>
              </a:rPr>
              <a:t>》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563" name="Picture 3" descr="04"/>
          <p:cNvPicPr/>
          <p:nvPr/>
        </p:nvPicPr>
        <p:blipFill>
          <a:blip r:embed="rId1"/>
          <a:stretch/>
        </p:blipFill>
        <p:spPr>
          <a:xfrm>
            <a:off x="685800" y="1146240"/>
            <a:ext cx="2446200" cy="60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510" name="Picture 4" descr="图片133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" descr="r05"/>
          <p:cNvPicPr/>
          <p:nvPr/>
        </p:nvPicPr>
        <p:blipFill>
          <a:blip r:embed="rId2"/>
          <a:stretch/>
        </p:blipFill>
        <p:spPr>
          <a:xfrm>
            <a:off x="0" y="3141720"/>
            <a:ext cx="1868400" cy="338616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6"/>
          <p:cNvSpPr/>
          <p:nvPr/>
        </p:nvSpPr>
        <p:spPr>
          <a:xfrm rot="9693600">
            <a:off x="467640" y="1197000"/>
            <a:ext cx="2082600" cy="1130400"/>
          </a:xfrm>
          <a:prstGeom prst="cloudCallout">
            <a:avLst>
              <a:gd name="adj1" fmla="val -87888"/>
              <a:gd name="adj2" fmla="val -173162"/>
            </a:avLst>
          </a:prstGeom>
          <a:solidFill>
            <a:srgbClr val="00cc99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们应该</a:t>
            </a:r>
            <a:endParaRPr b="1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怎么做？</a:t>
            </a:r>
            <a:endParaRPr b="1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13" name="Text Box 7"/>
          <p:cNvSpPr/>
          <p:nvPr/>
        </p:nvSpPr>
        <p:spPr>
          <a:xfrm>
            <a:off x="2050920" y="3284640"/>
            <a:ext cx="62643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理解爱   表达爱   回报爱</a:t>
            </a:r>
            <a:endParaRPr b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04"/>
          <p:cNvPicPr/>
          <p:nvPr/>
        </p:nvPicPr>
        <p:blipFill>
          <a:blip r:embed="rId1"/>
          <a:stretch/>
        </p:blipFill>
        <p:spPr>
          <a:xfrm>
            <a:off x="685800" y="1146240"/>
            <a:ext cx="2446200" cy="60624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3"/>
          <p:cNvSpPr/>
          <p:nvPr/>
        </p:nvSpPr>
        <p:spPr>
          <a:xfrm>
            <a:off x="1187280" y="2276640"/>
            <a:ext cx="720108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　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凡满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周岁的儿童，不分性别、民族、种族，应当入学接受规定年限的义务教育。父母或者其他监护人必须使适龄的子女或者被监护人按时入学。</a:t>
            </a: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   </a:t>
            </a: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      </a:t>
            </a:r>
            <a:r>
              <a:rPr b="1" lang="zh-CN" sz="3000" spc="-1" strike="noStrike">
                <a:solidFill>
                  <a:srgbClr val="d61a06"/>
                </a:solidFill>
                <a:latin typeface="Times New Roman"/>
                <a:ea typeface="楷体_GB2312"/>
              </a:rPr>
              <a:t>——</a:t>
            </a:r>
            <a:r>
              <a:rPr b="1" lang="zh-CN" sz="3000" spc="-1" strike="noStrike">
                <a:solidFill>
                  <a:srgbClr val="d61a06"/>
                </a:solidFill>
                <a:latin typeface="Times New Roman"/>
                <a:ea typeface="楷体_GB2312"/>
              </a:rPr>
              <a:t>《中华人民共和国义务教育法》</a:t>
            </a: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66" name="文本框 8196"/>
          <p:cNvSpPr/>
          <p:nvPr/>
        </p:nvSpPr>
        <p:spPr>
          <a:xfrm>
            <a:off x="1187280" y="1752480"/>
            <a:ext cx="585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7e9ce8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1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10"/>
          <p:cNvSpPr/>
          <p:nvPr/>
        </p:nvSpPr>
        <p:spPr>
          <a:xfrm>
            <a:off x="971640" y="2133720"/>
            <a:ext cx="763272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父母与子女之间的关系，不因父母离婚而消除。离婚后，子女无论由父或母直接抚养，仍是父母双方的子女。父母对子女仍有抚养和教育的权利和义务。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                </a:t>
            </a:r>
            <a:r>
              <a:rPr b="1" lang="zh-CN" sz="3200" spc="-1" strike="noStrike">
                <a:solidFill>
                  <a:srgbClr val="d61a06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d61a06"/>
                </a:solidFill>
                <a:latin typeface="Times New Roman"/>
                <a:ea typeface="楷体_GB2312"/>
              </a:rPr>
              <a:t>《中华人民共和国婚姻法》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568" name="Picture 13" descr="03"/>
          <p:cNvPicPr/>
          <p:nvPr/>
        </p:nvPicPr>
        <p:blipFill>
          <a:blip r:embed="rId1"/>
          <a:stretch/>
        </p:blipFill>
        <p:spPr>
          <a:xfrm>
            <a:off x="539640" y="1125360"/>
            <a:ext cx="2422800" cy="64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70" name="Picture 4" descr="xin_1030106200812843427310"/>
          <p:cNvPicPr/>
          <p:nvPr/>
        </p:nvPicPr>
        <p:blipFill>
          <a:blip r:embed="rId1"/>
          <a:stretch/>
        </p:blipFill>
        <p:spPr>
          <a:xfrm>
            <a:off x="-1476360" y="0"/>
            <a:ext cx="12276000" cy="70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AFE6-E582-451F-9FCD-A6758CE84372}" type="slidenum">
              <a:rPr b="0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195640" y="1196640"/>
            <a:ext cx="5796000" cy="41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爱的奉献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400"/>
            </a:br>
            <a:br>
              <a:rPr sz="1800"/>
            </a:b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这是心的呼唤 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这是爱的奉献 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这是人间的春风 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幸福之花处处开遍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只要人人都献出一点爱 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世界将变成美好的人间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577" name="群星-爱的奉献.mp3" descr=""/>
          <p:cNvPicPr/>
          <p:nvPr/>
        </p:nvPicPr>
        <p:blipFill>
          <a:blip r:embed="rId2"/>
          <a:stretch/>
        </p:blipFill>
        <p:spPr>
          <a:xfrm>
            <a:off x="7451640" y="551664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218802" fill="hold"/>
                                        <p:tgtEl>
                                          <p:spTgt spid="5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6" descr="20120601154907786"/>
          <p:cNvPicPr/>
          <p:nvPr/>
        </p:nvPicPr>
        <p:blipFill>
          <a:blip r:embed="rId1"/>
          <a:stretch/>
        </p:blipFill>
        <p:spPr>
          <a:xfrm>
            <a:off x="826920" y="189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7"/>
          <p:cNvSpPr/>
          <p:nvPr/>
        </p:nvSpPr>
        <p:spPr>
          <a:xfrm>
            <a:off x="4480920" y="6040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学校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518" name="Picture 4" descr="医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5"/>
          <p:cNvSpPr/>
          <p:nvPr/>
        </p:nvSpPr>
        <p:spPr>
          <a:xfrm>
            <a:off x="4212720" y="5084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医院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0" name="文本框 8196"/>
          <p:cNvSpPr/>
          <p:nvPr/>
        </p:nvSpPr>
        <p:spPr>
          <a:xfrm>
            <a:off x="1351080" y="63072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1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523" name="Picture 4" descr="鹅鹅鹅"/>
          <p:cNvPicPr/>
          <p:nvPr/>
        </p:nvPicPr>
        <p:blipFill>
          <a:blip r:embed="rId1"/>
          <a:stretch/>
        </p:blipFill>
        <p:spPr>
          <a:xfrm>
            <a:off x="0" y="0"/>
            <a:ext cx="9264600" cy="694836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6"/>
          <p:cNvSpPr/>
          <p:nvPr/>
        </p:nvSpPr>
        <p:spPr>
          <a:xfrm>
            <a:off x="4356000" y="522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超市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527" name="Picture 5" descr="300000602809126690823473058_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6"/>
          <p:cNvSpPr/>
          <p:nvPr/>
        </p:nvSpPr>
        <p:spPr>
          <a:xfrm>
            <a:off x="2627280" y="5877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游乐场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3" descr="图片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4" descr="03"/>
          <p:cNvPicPr/>
          <p:nvPr/>
        </p:nvPicPr>
        <p:blipFill>
          <a:blip r:embed="rId2"/>
          <a:stretch/>
        </p:blipFill>
        <p:spPr>
          <a:xfrm>
            <a:off x="684360" y="765000"/>
            <a:ext cx="2422440" cy="64008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5"/>
          <p:cNvSpPr/>
          <p:nvPr/>
        </p:nvSpPr>
        <p:spPr>
          <a:xfrm>
            <a:off x="1371600" y="2276640"/>
            <a:ext cx="6656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说一说：社会为我们做了些什么？</a:t>
            </a:r>
            <a:endParaRPr b="1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2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2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4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0" y="981000"/>
            <a:ext cx="2952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议一议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35" name="Text Box 6"/>
          <p:cNvSpPr/>
          <p:nvPr/>
        </p:nvSpPr>
        <p:spPr>
          <a:xfrm>
            <a:off x="755640" y="1773360"/>
            <a:ext cx="52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在日常生活中，说说自己从哪里感受到来自社会的爱。</a:t>
            </a:r>
            <a:endParaRPr b="1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7" descr="17214408"/>
          <p:cNvPicPr/>
          <p:nvPr/>
        </p:nvPicPr>
        <p:blipFill>
          <a:blip r:embed="rId1"/>
          <a:stretch/>
        </p:blipFill>
        <p:spPr>
          <a:xfrm>
            <a:off x="0" y="189000"/>
            <a:ext cx="9109080" cy="666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1T08:49:5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3:47Z</dcterms:modified>
  <cp:revision>8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