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chimes.wav" ContentType="audio/x-wav"/>
  <Override PartName="/ppt/media/image6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type.wav" ContentType="audio/x-wav"/>
  <Override PartName="/ppt/media/drumroll.wav" ContentType="audio/x-wav"/>
  <Override PartName="/ppt/media/image7.jpeg" ContentType="image/jpeg"/>
  <Override PartName="/ppt/media/image9.wmf" ContentType="image/x-wmf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A24B-3BEA-42B0-884B-2C76C26A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29A0-0A1F-41CB-8959-0F3E8865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03D5F-B4ED-4340-97CF-033BFEB0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78D29-60EF-482D-A9DE-D60276CA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FE414-CFF8-4775-83C6-D552B967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0208F-F78C-455F-B01B-186BE131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6C1C4-EA40-4455-BC27-5CF63799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58734-16A7-4E42-A228-749FB67C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653C8-CDF1-4A4A-99DA-78AEC9DA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0D08B-54B0-42DC-9FEC-E85CCE36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04D6C-D0C1-446F-B71C-511D9611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1BF98-F51D-4620-8CE0-8CD7F702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4D3C-07B2-4DF0-AE2F-2EC48E83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CF92A-BF9B-48A5-AA7E-5191E672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1A1F6-280C-47F0-B849-54944EED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46706-4F8A-4B51-99FA-D49FB9EA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6C986-19AB-4A70-9800-EACE0CB4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73B06-F6BF-4309-BCE9-1D921BF0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8D921-E3BF-4FDB-A7EC-6F178F5A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792FC-4552-463D-AF66-B2FF7F34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AE268-D86F-4AE1-9AAE-DB00CBDB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2E199-FC82-4077-B3BC-CD7AC104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5E308-AC5E-4D88-9414-77ED00CF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A01F-570B-4151-BF9B-1216C9CE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EDA55-0248-4539-8070-DE8C1100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91D9-2B87-4CCE-B647-7AC7EFAF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8139-8E60-4DF6-BFA1-B81D0E47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6BD0-0D9C-4457-A6EF-752B806F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C63A-0540-4456-B1A7-253BD2B9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D0AE-80F9-4C3A-8F64-B19303E5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C53E-87A5-4D2D-9160-98883500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D09E-E559-4E30-B292-FB1D219D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FD7D-6977-4285-8D66-1BC6F799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2B06-F89D-40B2-8495-BAAC9A8B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BD7D-07F7-4C42-B128-09D0DEF9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7BF8-BC34-4E85-9038-563B018F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8240-2917-43CE-9414-59BD4146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0205-3F60-4CD9-A75B-6E2EBEF2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B1B23-4E4B-42F2-BA90-6AA31E19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3EF73-08A0-4277-BDA0-5162F5EC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D5782-FC6D-48BE-92B1-05FDBC21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A654E-F6B2-416F-85E3-64BC510C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9C771-C23F-4C45-9282-064CB1BF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B631-14A2-4081-BFC8-DE7EF2FF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5F219-EDA5-4A9B-81E5-E6BDBFBF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EAA60-99D8-4651-8F00-DD7FFD1C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C081B-BFFC-4724-AAFA-1F869F31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67498-5816-4DB3-8F09-2A2EB006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C80CC-F5D7-45DE-9C4F-1AA10A5D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219A8-2A39-4BD4-AE58-6FA22D1E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6391D-7E8E-4D64-BE69-5AD15A3A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3B5B5-B6D5-4026-8B4F-BDF493D8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F2AF2-9A50-4A57-89AD-6F2F83AE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9E260-CA7F-4634-BD01-D7DF3430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CFD-AECC-4C25-9EB0-2880F474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D8DAA-E9F5-40F8-8AF8-DD2CDF53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991F8-6C97-414C-85F3-BF4C8A95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34F70-A83E-46BF-B660-F2036CB0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37629-839A-4E9A-A3C2-4780285E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436B9-DC4F-410A-A05E-74F97173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D092F-F643-4002-8085-0461C9A7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803F4-13E6-406F-A5B0-D1C2AB32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7087B-F225-4F02-91EC-A9C90383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9A9A9-3236-40E1-A6E1-4063780F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F54DF-DD0D-4DBB-B94F-469D21A7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DEB4-E5C0-454C-8197-DA8FEB5A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2CDF2-EF77-4273-B368-405F959E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FDCD1-338B-489F-8C99-794D2196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B965E-B16B-4602-BBB9-81597885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050A9-2E97-4A4C-9E56-8F557854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18001-D1E2-4B5B-B688-CEB55C2A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84632-D862-4C93-BDFD-451BFC0D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62624-D722-44ED-BFE7-32B87BEF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779CF-D26F-4080-9893-EB4F4E20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CDCEC-D75F-4593-9EA7-9C9018F4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462AD-FFA3-44B5-AE53-69D741F0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3C3-07E2-4E75-A355-10FA0A6B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9F7E4-E1E0-4F62-A735-BA12577D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6EE52-EC2A-4DE7-B777-D9BC812A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B1685-AF5F-4839-AD19-C0C26755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EFE7E-13B3-46FB-8720-BC6D017E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EE4CC-B6CE-448C-808F-6A3651E5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2875A-5DC4-4EDA-BD47-A1BF2344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D9713-6C24-4D60-AB4F-F3C70A5D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C43BE-5282-41BB-B8B5-6C6A3C26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8E165-3F98-4E50-9883-45632F61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815A7-092B-4387-A2A1-7B6B3481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B6B-E2AE-4F2A-BE0A-3A4C91C4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B6B46-2FD5-4DFD-ACEB-42164CF9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D9A50-1905-4C41-A49F-E681D1D2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D1380-2D40-4D7B-AD23-EFFFF220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1B5FB-E452-4934-AC43-E6EB4DA6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5CA1E-FF0B-4217-BC51-F29A21CE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18012-796F-4063-B6D2-17453B6E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EB582-E7AF-43D5-9ED0-8DB44CD7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144F9-A783-41DC-8AB4-3FDC722E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BE5B3-94D5-4A77-894F-16A8C604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CA5F8-515F-4D71-BBE3-ED01F443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87E6-0AEE-41DF-AAE1-4A29BEA0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E92AA-186E-4615-84AE-715F3FE8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6DD2B-30AD-48E9-AFB6-E0AAEABF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C3DD7-CC1B-4BB0-91FC-D5785CCF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E2A12-D29C-425D-8E0B-D1016BF1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94C50-CB7A-48AC-A75B-B0E3BAD0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52B95-EFE4-4739-88DF-54A836C7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8F183-6DA6-45C2-B462-1693448B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C46C4-9C82-43E1-85CA-8135A2B9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33BC5-7491-4D8E-A26D-F7E67664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BDCB9-2A79-4F48-B3AF-6A13039A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916C-D0E6-47FF-99BF-30F3D9C0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A57E9-A221-48BF-8A43-4298EE52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197EB-C0C4-47AF-841E-E942CAEE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D45CD-23D9-4B09-8532-D5831D03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2CBDC-7229-4F59-A41A-96BD6BA3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A3C63-8732-4687-AC33-04190198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C90D6-1963-48CE-87DB-0B95A082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BFED5-0907-464E-B64F-31BECFEE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FDB47-8E6A-4391-9A68-2659EBE3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B49C5-750E-460D-B13A-DC314CE0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B026E-39FD-4021-9DA2-99D3146D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4CCA-D88B-4982-9767-BCAF29B1B267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6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7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D2E7-72FA-41FB-8615-C6B0346DAB73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2CB9-762F-4563-A34E-E06A98F6B03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直接连接符 12" descr=""/>
          <p:cNvPicPr/>
          <p:nvPr/>
        </p:nvPicPr>
        <p:blipFill>
          <a:blip r:embed="rId3"/>
          <a:stretch/>
        </p:blipFill>
        <p:spPr>
          <a:xfrm>
            <a:off x="514440" y="534528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5F72-31AD-41E4-B4D9-0D52E1825287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128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129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CB9C-8971-4C2A-B85E-A2E1978A0ED3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直接连接符 12" descr=""/>
          <p:cNvPicPr/>
          <p:nvPr/>
        </p:nvPicPr>
        <p:blipFill>
          <a:blip r:embed="rId3"/>
          <a:stretch/>
        </p:blipFill>
        <p:spPr>
          <a:xfrm>
            <a:off x="514440" y="3440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1679-C750-4352-9277-F7106339943E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直接连接符 12" descr=""/>
          <p:cNvPicPr/>
          <p:nvPr/>
        </p:nvPicPr>
        <p:blipFill>
          <a:blip r:embed="rId3"/>
          <a:stretch/>
        </p:blipFill>
        <p:spPr>
          <a:xfrm>
            <a:off x="514440" y="6014880"/>
            <a:ext cx="8629560" cy="279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34E0-ACEA-4E35-B062-38C149391F59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4348-CF1E-445B-B996-9F4B69F0CE68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直接连接符 12" descr=""/>
          <p:cNvPicPr/>
          <p:nvPr/>
        </p:nvPicPr>
        <p:blipFill>
          <a:blip r:embed="rId3"/>
          <a:stretch/>
        </p:blipFill>
        <p:spPr>
          <a:xfrm>
            <a:off x="514440" y="5843520"/>
            <a:ext cx="8629560" cy="2811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8117-989C-4996-9C3C-E27A70AC4564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D070-15EA-4031-B0A3-2298605DD162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C:\Documents and Settings\jxz\桌面\美苏争霸\米格-15追逐F-8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矩形 2"/>
          <p:cNvSpPr/>
          <p:nvPr/>
        </p:nvSpPr>
        <p:spPr>
          <a:xfrm>
            <a:off x="1373760" y="2435400"/>
            <a:ext cx="596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第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宋体"/>
              </a:rPr>
              <a:t>14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课 冷战中的对峙课件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3"/>
          <p:cNvSpPr/>
          <p:nvPr/>
        </p:nvSpPr>
        <p:spPr>
          <a:xfrm>
            <a:off x="530280" y="549360"/>
            <a:ext cx="51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七单元  战后世界格局的演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3"/>
          <p:cNvSpPr/>
          <p:nvPr/>
        </p:nvSpPr>
        <p:spPr>
          <a:xfrm>
            <a:off x="2622960" y="15228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看一看，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214200" y="3143160"/>
            <a:ext cx="78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</a:t>
            </a:r>
            <a:r>
              <a:rPr b="1" lang="en-US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、根据材料，结合教材，回答：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马歇尔计划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的影响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5"/>
          <p:cNvGrpSpPr/>
          <p:nvPr/>
        </p:nvGrpSpPr>
        <p:grpSpPr>
          <a:xfrm>
            <a:off x="1928880" y="4500720"/>
            <a:ext cx="6781680" cy="2209680"/>
            <a:chOff x="1928880" y="4500720"/>
            <a:chExt cx="6781680" cy="2209680"/>
          </a:xfrm>
        </p:grpSpPr>
        <p:sp>
          <p:nvSpPr>
            <p:cNvPr id="460" name="AutoShape 6"/>
            <p:cNvSpPr/>
            <p:nvPr/>
          </p:nvSpPr>
          <p:spPr>
            <a:xfrm>
              <a:off x="1928880" y="4500720"/>
              <a:ext cx="6781680" cy="2209680"/>
            </a:xfrm>
            <a:prstGeom prst="horizontalScroll">
              <a:avLst>
                <a:gd name="adj" fmla="val 12500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7"/>
            <p:cNvSpPr/>
            <p:nvPr/>
          </p:nvSpPr>
          <p:spPr>
            <a:xfrm>
              <a:off x="3605760" y="5110200"/>
              <a:ext cx="4021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积极影响：西欧各国经济得到迅速恢复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消极影响：西欧被美国控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2"/>
          <p:cNvSpPr/>
          <p:nvPr/>
        </p:nvSpPr>
        <p:spPr>
          <a:xfrm>
            <a:off x="136440" y="919080"/>
            <a:ext cx="879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材料一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94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年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9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年，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个国家接受了美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多亿美元的援助，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是赠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是贷款。因此丘吉尔把“马歇尔计划”称为“人类历史上最慷慨的举动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材料二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我们每接受一笔贷款，我们的独立便减少一分。”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法国总理皮拉尔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14" descr="华约与北约的对峙"/>
          <p:cNvPicPr/>
          <p:nvPr/>
        </p:nvPicPr>
        <p:blipFill>
          <a:blip r:embed="rId1"/>
          <a:stretch/>
        </p:blipFill>
        <p:spPr>
          <a:xfrm>
            <a:off x="838080" y="0"/>
            <a:ext cx="681192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TextBox 3"/>
          <p:cNvSpPr/>
          <p:nvPr/>
        </p:nvSpPr>
        <p:spPr>
          <a:xfrm>
            <a:off x="7122960" y="571680"/>
            <a:ext cx="1521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Franklin Gothic Book"/>
              </a:rPr>
              <a:t>两大军事集团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3886200" y="2532600"/>
            <a:ext cx="1646280" cy="7642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 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3"/>
          <p:cNvGrpSpPr/>
          <p:nvPr/>
        </p:nvGrpSpPr>
        <p:grpSpPr>
          <a:xfrm>
            <a:off x="1143000" y="5181480"/>
            <a:ext cx="7238880" cy="1067040"/>
            <a:chOff x="1143000" y="5181480"/>
            <a:chExt cx="7238880" cy="1067040"/>
          </a:xfrm>
        </p:grpSpPr>
        <p:sp>
          <p:nvSpPr>
            <p:cNvPr id="467" name="Oval 4"/>
            <p:cNvSpPr/>
            <p:nvPr/>
          </p:nvSpPr>
          <p:spPr>
            <a:xfrm>
              <a:off x="1143000" y="5181480"/>
              <a:ext cx="1676520" cy="9907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苏联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5"/>
            <p:cNvSpPr/>
            <p:nvPr/>
          </p:nvSpPr>
          <p:spPr>
            <a:xfrm>
              <a:off x="6553080" y="5181480"/>
              <a:ext cx="1828800" cy="106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美国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6"/>
          <p:cNvGrpSpPr/>
          <p:nvPr/>
        </p:nvGrpSpPr>
        <p:grpSpPr>
          <a:xfrm>
            <a:off x="3657240" y="3429000"/>
            <a:ext cx="1981080" cy="3124080"/>
            <a:chOff x="3657240" y="3429000"/>
            <a:chExt cx="1981080" cy="3124080"/>
          </a:xfrm>
        </p:grpSpPr>
        <p:sp>
          <p:nvSpPr>
            <p:cNvPr id="470" name="AutoShape 7"/>
            <p:cNvSpPr/>
            <p:nvPr/>
          </p:nvSpPr>
          <p:spPr>
            <a:xfrm rot="5400000">
              <a:off x="3085560" y="4000320"/>
              <a:ext cx="3124080" cy="1981080"/>
            </a:xfrm>
            <a:prstGeom prst="rightArrow">
              <a:avLst>
                <a:gd name="adj1" fmla="val 50000"/>
                <a:gd name="adj2" fmla="val 3940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8"/>
            <p:cNvSpPr/>
            <p:nvPr/>
          </p:nvSpPr>
          <p:spPr>
            <a:xfrm>
              <a:off x="3660480" y="3581280"/>
              <a:ext cx="152100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争霸开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9"/>
          <p:cNvGrpSpPr/>
          <p:nvPr/>
        </p:nvGrpSpPr>
        <p:grpSpPr>
          <a:xfrm>
            <a:off x="6019920" y="549360"/>
            <a:ext cx="2209680" cy="5019840"/>
            <a:chOff x="6019920" y="549360"/>
            <a:chExt cx="2209680" cy="5019840"/>
          </a:xfrm>
        </p:grpSpPr>
        <p:sp>
          <p:nvSpPr>
            <p:cNvPr id="473" name="AutoShape 10"/>
            <p:cNvSpPr/>
            <p:nvPr/>
          </p:nvSpPr>
          <p:spPr>
            <a:xfrm rot="16200000">
              <a:off x="5333760" y="1980720"/>
              <a:ext cx="3581640" cy="2209680"/>
            </a:xfrm>
            <a:prstGeom prst="upArrowCallout">
              <a:avLst>
                <a:gd name="adj1" fmla="val 40526"/>
                <a:gd name="adj2" fmla="val 40522"/>
                <a:gd name="adj3" fmla="val 16657"/>
                <a:gd name="adj4" fmla="val 66660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1"/>
            <p:cNvSpPr/>
            <p:nvPr/>
          </p:nvSpPr>
          <p:spPr>
            <a:xfrm>
              <a:off x="6830280" y="1295280"/>
              <a:ext cx="1399320" cy="35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资本主义阵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2"/>
            <p:cNvSpPr/>
            <p:nvPr/>
          </p:nvSpPr>
          <p:spPr>
            <a:xfrm>
              <a:off x="6853680" y="549360"/>
              <a:ext cx="667800" cy="50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北大西洋公约组织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13"/>
          <p:cNvGrpSpPr/>
          <p:nvPr/>
        </p:nvGrpSpPr>
        <p:grpSpPr>
          <a:xfrm>
            <a:off x="1219320" y="901440"/>
            <a:ext cx="2286000" cy="4245840"/>
            <a:chOff x="1219320" y="901440"/>
            <a:chExt cx="2286000" cy="4245840"/>
          </a:xfrm>
        </p:grpSpPr>
        <p:sp>
          <p:nvSpPr>
            <p:cNvPr id="477" name="AutoShape 14"/>
            <p:cNvSpPr/>
            <p:nvPr/>
          </p:nvSpPr>
          <p:spPr>
            <a:xfrm rot="16200000">
              <a:off x="571320" y="1942560"/>
              <a:ext cx="3581640" cy="2286000"/>
            </a:xfrm>
            <a:prstGeom prst="downArrowCallout">
              <a:avLst>
                <a:gd name="adj1" fmla="val 39173"/>
                <a:gd name="adj2" fmla="val 39169"/>
                <a:gd name="adj3" fmla="val 16657"/>
                <a:gd name="adj4" fmla="val 66667"/>
              </a:avLst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5"/>
            <p:cNvSpPr/>
            <p:nvPr/>
          </p:nvSpPr>
          <p:spPr>
            <a:xfrm>
              <a:off x="1985040" y="1139040"/>
              <a:ext cx="667800" cy="39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（华沙条约组织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6"/>
            <p:cNvSpPr/>
            <p:nvPr/>
          </p:nvSpPr>
          <p:spPr>
            <a:xfrm>
              <a:off x="1223280" y="901440"/>
              <a:ext cx="789840" cy="42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社会主义阵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矩形 3"/>
          <p:cNvSpPr/>
          <p:nvPr/>
        </p:nvSpPr>
        <p:spPr>
          <a:xfrm>
            <a:off x="2566800" y="28584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Franklin Gothic Book"/>
                <a:ea typeface="华文行楷"/>
              </a:rPr>
              <a:t>二、美苏争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4"/>
          <p:cNvSpPr/>
          <p:nvPr/>
        </p:nvSpPr>
        <p:spPr>
          <a:xfrm>
            <a:off x="4143240" y="228600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5"/>
          <p:cNvSpPr/>
          <p:nvPr/>
        </p:nvSpPr>
        <p:spPr>
          <a:xfrm>
            <a:off x="642960" y="6143760"/>
            <a:ext cx="52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美苏争霸是怎样开始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6" descr="美国野牛"/>
          <p:cNvPicPr/>
          <p:nvPr/>
        </p:nvPicPr>
        <p:blipFill>
          <a:blip r:embed="rId1"/>
          <a:stretch/>
        </p:blipFill>
        <p:spPr>
          <a:xfrm>
            <a:off x="5143680" y="1143000"/>
            <a:ext cx="2571480" cy="32180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  <p:pic>
        <p:nvPicPr>
          <p:cNvPr id="484" name="Picture 5" descr="俄国熊"/>
          <p:cNvPicPr/>
          <p:nvPr/>
        </p:nvPicPr>
        <p:blipFill>
          <a:blip r:embed="rId2"/>
          <a:stretch/>
        </p:blipFill>
        <p:spPr>
          <a:xfrm>
            <a:off x="1071720" y="1214280"/>
            <a:ext cx="3000240" cy="320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85" name="Rectangle 4"/>
          <p:cNvSpPr/>
          <p:nvPr/>
        </p:nvSpPr>
        <p:spPr>
          <a:xfrm>
            <a:off x="214200" y="4643280"/>
            <a:ext cx="86742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书体坊郭小语钢笔楷体"/>
                <a:ea typeface="书体坊郭小语钢笔楷体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书体坊郭小语钢笔楷体"/>
                <a:ea typeface="书体坊郭小语钢笔楷体"/>
              </a:rPr>
              <a:t>二战中，英国首相丘吉尔曾对英美苏的力量对比作过一个形象的描绘：“我的一边坐着巨大的俄国熊，另一边是巨大的北美野牛，中间坐着的是一头可怜的英国小毛驴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304920" y="304920"/>
            <a:ext cx="3047760" cy="1068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二、美苏争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04920" y="1371600"/>
          <a:ext cx="8001000" cy="500688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  <a:gridCol w="1295280"/>
                <a:gridCol w="1219320"/>
                <a:gridCol w="1447560"/>
                <a:gridCol w="1905120"/>
              </a:tblGrid>
              <a:tr h="76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阶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特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主要事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美国领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苏联领导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6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五六十年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开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4e3b30"/>
                          </a:solidFill>
                          <a:uFillTx/>
                          <a:latin typeface="Franklin Gothic Book"/>
                          <a:ea typeface="华文楷体"/>
                        </a:rPr>
                        <a:t>       </a:t>
                      </a:r>
                      <a:r>
                        <a:rPr b="1" lang="en-US" sz="2000" spc="-1" strike="noStrike" u="sng">
                          <a:solidFill>
                            <a:srgbClr val="4e3b30"/>
                          </a:solidFill>
                          <a:uFillTx/>
                          <a:latin typeface="Franklin Gothic Book"/>
                          <a:ea typeface="华文楷体"/>
                        </a:rPr>
                        <a:t>.</a:t>
                      </a:r>
                      <a:r>
                        <a:rPr b="1" lang="zh-CN" sz="2000" spc="-1" strike="noStrike" u="sng">
                          <a:solidFill>
                            <a:srgbClr val="4e3b30"/>
                          </a:solidFill>
                          <a:uFillTx/>
                          <a:latin typeface="Franklin Gothic Book"/>
                          <a:ea typeface="华文楷体"/>
                        </a:rPr>
                        <a:t>  </a:t>
                      </a:r>
                      <a:r>
                        <a:rPr b="1" lang="en-US" sz="2000" spc="-1" strike="noStrike" u="sng">
                          <a:solidFill>
                            <a:srgbClr val="4e3b30"/>
                          </a:solidFill>
                          <a:uFillTx/>
                          <a:latin typeface="Franklin Gothic Book"/>
                          <a:ea typeface="华文楷体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占优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4e3b30"/>
                          </a:solidFill>
                          <a:uFillTx/>
                          <a:latin typeface="Franklin Gothic Book"/>
                          <a:ea typeface="华文楷体"/>
                        </a:rPr>
                        <a:t>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5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5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缓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双方</a:t>
                      </a:r>
                      <a:r>
                        <a:rPr b="1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4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8" name="Text Box 47"/>
          <p:cNvSpPr/>
          <p:nvPr/>
        </p:nvSpPr>
        <p:spPr>
          <a:xfrm>
            <a:off x="304920" y="388620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304920" y="3267000"/>
          <a:ext cx="6095880" cy="100656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  <a:gridCol w="1295280"/>
                <a:gridCol w="1219320"/>
                <a:gridCol w="144756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7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年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高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Franklin Gothic Book"/>
                          <a:ea typeface="华文楷体"/>
                        </a:rPr>
                        <a:t>苏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攻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Franklin Gothic Book"/>
                          <a:ea typeface="华文楷体"/>
                        </a:rPr>
                        <a:t>美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苏联出兵阿富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304920" y="4267080"/>
          <a:ext cx="6095880" cy="101592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  <a:gridCol w="1295280"/>
                <a:gridCol w="1219320"/>
                <a:gridCol w="1447560"/>
              </a:tblGrid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年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缓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4e3b30"/>
                          </a:solidFill>
                          <a:uFillTx/>
                          <a:latin typeface="Franklin Gothic Book"/>
                          <a:ea typeface="华文楷体"/>
                        </a:rPr>
                        <a:t>双方缓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苏联从阿富汗撤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    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91" name="Text Box 77"/>
          <p:cNvSpPr/>
          <p:nvPr/>
        </p:nvSpPr>
        <p:spPr>
          <a:xfrm>
            <a:off x="304920" y="5257800"/>
            <a:ext cx="46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78"/>
          <p:cNvSpPr/>
          <p:nvPr/>
        </p:nvSpPr>
        <p:spPr>
          <a:xfrm>
            <a:off x="304920" y="556272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91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    结束       争霸结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2"/>
          <p:cNvSpPr/>
          <p:nvPr/>
        </p:nvSpPr>
        <p:spPr>
          <a:xfrm>
            <a:off x="3429000" y="3571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阅读课文第二目，完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Object 79" descr=""/>
          <p:cNvPicPr/>
          <p:nvPr/>
        </p:nvPicPr>
        <p:blipFill>
          <a:blip r:embed="rId1"/>
          <a:stretch/>
        </p:blipFill>
        <p:spPr>
          <a:xfrm>
            <a:off x="6634080" y="5486400"/>
            <a:ext cx="2509920" cy="137160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8198"/>
          <p:cNvSpPr/>
          <p:nvPr/>
        </p:nvSpPr>
        <p:spPr>
          <a:xfrm>
            <a:off x="3543480" y="911160"/>
            <a:ext cx="4012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d1f1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ad1f1f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304920" y="304920"/>
            <a:ext cx="3047760" cy="1068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二、美苏争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304920" y="1371600"/>
          <a:ext cx="8001000" cy="493704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  <a:gridCol w="1295280"/>
                <a:gridCol w="1219320"/>
                <a:gridCol w="1447560"/>
                <a:gridCol w="1905120"/>
              </a:tblGrid>
              <a:tr h="76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阶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特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主要事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美国领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苏联领导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3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五六十年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开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美国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4e3b30"/>
                          </a:solidFill>
                          <a:uFillTx/>
                          <a:latin typeface="Franklin Gothic Book"/>
                          <a:ea typeface="华文楷体"/>
                        </a:rPr>
                        <a:t>优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4e3b30"/>
                          </a:solidFill>
                          <a:uFillTx/>
                          <a:latin typeface="Franklin Gothic Book"/>
                          <a:ea typeface="华文楷体"/>
                        </a:rPr>
                        <a:t>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Franklin Gothic Book"/>
                          <a:ea typeface="华文楷体"/>
                        </a:rPr>
                        <a:t>古巴导弹危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赫鲁晓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缓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双方</a:t>
                      </a:r>
                      <a:r>
                        <a:rPr b="1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2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98" name="Text Box 47"/>
          <p:cNvSpPr/>
          <p:nvPr/>
        </p:nvSpPr>
        <p:spPr>
          <a:xfrm>
            <a:off x="304920" y="388620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304920" y="3267000"/>
          <a:ext cx="6095880" cy="100656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  <a:gridCol w="1295280"/>
                <a:gridCol w="1219320"/>
                <a:gridCol w="144756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7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年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高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Franklin Gothic Book"/>
                          <a:ea typeface="华文楷体"/>
                        </a:rPr>
                        <a:t>苏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攻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Franklin Gothic Book"/>
                          <a:ea typeface="华文楷体"/>
                        </a:rPr>
                        <a:t>美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苏联出兵阿富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尼克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304920" y="4267080"/>
          <a:ext cx="6095880" cy="101592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  <a:gridCol w="1295280"/>
                <a:gridCol w="1219320"/>
                <a:gridCol w="1447560"/>
              </a:tblGrid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年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缓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4e3b30"/>
                          </a:solidFill>
                          <a:uFillTx/>
                          <a:latin typeface="Franklin Gothic Book"/>
                          <a:ea typeface="华文楷体"/>
                        </a:rPr>
                        <a:t>双方缓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苏联从阿富汗撤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     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1" name="Text Box 76"/>
          <p:cNvSpPr/>
          <p:nvPr/>
        </p:nvSpPr>
        <p:spPr>
          <a:xfrm>
            <a:off x="6400800" y="4267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戈尔巴乔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7"/>
          <p:cNvSpPr/>
          <p:nvPr/>
        </p:nvSpPr>
        <p:spPr>
          <a:xfrm>
            <a:off x="304920" y="5257800"/>
            <a:ext cx="46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8"/>
          <p:cNvSpPr/>
          <p:nvPr/>
        </p:nvSpPr>
        <p:spPr>
          <a:xfrm>
            <a:off x="304920" y="556272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年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结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争霸结束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苏联解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1026" descr="G:\8788\尼克松.JPG"/>
          <p:cNvPicPr/>
          <p:nvPr/>
        </p:nvPicPr>
        <p:blipFill>
          <a:blip r:embed="rId1"/>
          <a:stretch/>
        </p:blipFill>
        <p:spPr>
          <a:xfrm>
            <a:off x="6143760" y="2643120"/>
            <a:ext cx="2787480" cy="161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1" dur="1" fill="hold"/>
                                  <p:tgtEl>
                                    <p:spTgt spid="5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"/>
          <p:cNvSpPr/>
          <p:nvPr/>
        </p:nvSpPr>
        <p:spPr>
          <a:xfrm>
            <a:off x="0" y="1491840"/>
            <a:ext cx="878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材料一：北约集团 的军队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万兵力和华约集团的军队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万兵力，双方千万大军处于战略对峙状态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材料二：美国的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62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枚战略导弹和苏联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9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枚战略导弹，及双方数以万计的战役核导弹，相互瞄准着对方成员国的军事、政治、经济目标，处于待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按电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之势，进而导致军备竞赛，争夺核优势、航天优势的斗争愈演愈烈，国际形势日趋紧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材料三：双方都害怕毁灭于世界上已据有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-1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亿吨当量的核武器中，谁也未敢启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核按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发动核大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2"/>
          <p:cNvSpPr/>
          <p:nvPr/>
        </p:nvSpPr>
        <p:spPr>
          <a:xfrm>
            <a:off x="1902240" y="607212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冷战对战后国际关系产生的影响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8A54-B96E-4389-AA28-122566B240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"/>
          <p:cNvSpPr/>
          <p:nvPr/>
        </p:nvSpPr>
        <p:spPr>
          <a:xfrm>
            <a:off x="142920" y="1386360"/>
            <a:ext cx="8786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冷战感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遏制与对抗没有出路，和平与合作才能共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、大力发展经济与社会事业，提高人民生活水平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充分发挥联合国在解决国际与地区事务中的积极作用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反对霸权主义，强权政治，维护世界和平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大力提倡和平共处五项原则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642960" y="2214720"/>
            <a:ext cx="7900920" cy="4140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642960" y="2503440"/>
            <a:ext cx="7848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楷体_GB2312"/>
              </a:rPr>
              <a:t>在二战中，美苏摒弃前嫌，共同发起组建了反法西斯同盟，为二战的尽早结束做出了巨大贡献，二战后，人民渴望永久的和平，但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4"/>
          <p:cNvSpPr/>
          <p:nvPr/>
        </p:nvSpPr>
        <p:spPr>
          <a:xfrm>
            <a:off x="4000680" y="3714840"/>
            <a:ext cx="792000" cy="1084320"/>
          </a:xfrm>
          <a:prstGeom prst="downArrow">
            <a:avLst>
              <a:gd name="adj1" fmla="val 50000"/>
              <a:gd name="adj2" fmla="val 4774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5"/>
          <p:cNvSpPr/>
          <p:nvPr/>
        </p:nvSpPr>
        <p:spPr>
          <a:xfrm>
            <a:off x="1785960" y="4643280"/>
            <a:ext cx="578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Arial"/>
                <a:ea typeface="楷体_GB2312"/>
              </a:rPr>
              <a:t>新形式的“战争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  <a:ea typeface="楷体_GB2312"/>
              </a:rPr>
              <a:t>——“</a:t>
            </a:r>
            <a:r>
              <a:rPr b="1" lang="zh-CN" sz="3600" spc="-1" strike="noStrike">
                <a:solidFill>
                  <a:srgbClr val="4e3b30"/>
                </a:solidFill>
                <a:latin typeface="Arial"/>
                <a:ea typeface="楷体_GB2312"/>
              </a:rPr>
              <a:t>冷战”</a:t>
            </a:r>
            <a:r>
              <a:rPr b="1" lang="en-US" sz="3600" spc="-1" strike="noStrike">
                <a:solidFill>
                  <a:srgbClr val="4e3b30"/>
                </a:solidFill>
                <a:latin typeface="Arial"/>
                <a:ea typeface="楷体_GB2312"/>
              </a:rPr>
              <a:t> 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Arial"/>
                <a:ea typeface="楷体_GB2312"/>
              </a:rPr>
              <a:t>接踵而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214200" y="395640"/>
            <a:ext cx="89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二战后苏联的进行的两次改革及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二战后美国发展经历了三个阶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二战中，反法西斯国家取得胜利的最主要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0" y="153036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"/>
          <p:cNvSpPr/>
          <p:nvPr/>
        </p:nvSpPr>
        <p:spPr>
          <a:xfrm>
            <a:off x="0" y="29880"/>
            <a:ext cx="9001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冷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兴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冷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的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冷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热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冷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三个阶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冷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影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142920" y="592920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什么是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“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冷战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”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（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Cold  War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下箭头 3"/>
          <p:cNvSpPr/>
          <p:nvPr/>
        </p:nvSpPr>
        <p:spPr>
          <a:xfrm>
            <a:off x="4714920" y="1428840"/>
            <a:ext cx="642960" cy="10000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下箭头 4"/>
          <p:cNvSpPr/>
          <p:nvPr/>
        </p:nvSpPr>
        <p:spPr>
          <a:xfrm>
            <a:off x="4714920" y="3714840"/>
            <a:ext cx="642960" cy="10000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hk"/>
          <p:cNvPicPr/>
          <p:nvPr/>
        </p:nvPicPr>
        <p:blipFill>
          <a:blip r:embed="rId1"/>
          <a:stretch/>
        </p:blipFill>
        <p:spPr>
          <a:xfrm>
            <a:off x="1571760" y="857160"/>
            <a:ext cx="6337080" cy="579924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3"/>
          <p:cNvSpPr/>
          <p:nvPr/>
        </p:nvSpPr>
        <p:spPr>
          <a:xfrm>
            <a:off x="2071800" y="1285920"/>
            <a:ext cx="54291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33"/>
                </a:solidFill>
                <a:latin typeface="迷你简硬笔楷书"/>
                <a:ea typeface="迷你简硬笔楷书"/>
              </a:rPr>
              <a:t>材料一：</a:t>
            </a:r>
            <a:r>
              <a:rPr b="0" lang="zh-CN" sz="36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战时，要保持团结并不太难，因为有一个打败共同敌人的共同目标，这一点谁都清楚。艰难的工作在战后，那时，</a:t>
            </a:r>
            <a:r>
              <a:rPr b="0" lang="zh-CN" sz="3600" spc="-1" strike="noStrike">
                <a:solidFill>
                  <a:srgbClr val="ff0000"/>
                </a:solidFill>
                <a:latin typeface="迷你简硬笔楷书"/>
                <a:ea typeface="迷你简硬笔楷书"/>
              </a:rPr>
              <a:t>各种不同的利害关系</a:t>
            </a:r>
            <a:r>
              <a:rPr b="0" lang="zh-CN" sz="36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往往会使同盟国分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斯大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1945</a:t>
            </a:r>
            <a:r>
              <a:rPr b="0" lang="zh-CN" sz="36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年于雅尔塔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3"/>
          <p:cNvSpPr/>
          <p:nvPr/>
        </p:nvSpPr>
        <p:spPr>
          <a:xfrm>
            <a:off x="1867680" y="7776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两个昔日的盟友为什么为反目成仇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457200" y="785880"/>
            <a:ext cx="8458200" cy="180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材料二：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美国今天是一个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强大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国家，没有任何一个国家比它更强大了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……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意味着，我们拥有这样的力量，就得挑起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领导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担子并承担责任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美国 杜鲁门（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46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美国想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428760" y="3214800"/>
            <a:ext cx="8305560" cy="3080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材料三：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次战争和过去不同了：无论谁占领了土地，也就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在那里强加它自己的社会制度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不可能有别的情况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苏联 斯大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苏联想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3"/>
          <p:cNvSpPr/>
          <p:nvPr/>
        </p:nvSpPr>
        <p:spPr>
          <a:xfrm>
            <a:off x="1867680" y="7776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两个昔日的盟友为什么为反目成仇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4"/>
          <p:cNvSpPr/>
          <p:nvPr/>
        </p:nvSpPr>
        <p:spPr>
          <a:xfrm>
            <a:off x="214200" y="628668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迷你简硬笔楷书"/>
                <a:ea typeface="迷你简硬笔楷书"/>
              </a:rPr>
              <a:t>材料三还表明美苏双方在</a:t>
            </a:r>
            <a:r>
              <a:rPr b="1" lang="en-US" sz="2800" spc="-1" strike="noStrike">
                <a:solidFill>
                  <a:srgbClr val="ff0000"/>
                </a:solidFill>
                <a:latin typeface="迷你简硬笔楷书"/>
                <a:ea typeface="迷你简硬笔楷书"/>
              </a:rPr>
              <a:t>___________</a:t>
            </a:r>
            <a:r>
              <a:rPr b="1" lang="zh-CN" sz="2800" spc="-1" strike="noStrike">
                <a:solidFill>
                  <a:srgbClr val="ff0000"/>
                </a:solidFill>
                <a:latin typeface="迷你简硬笔楷书"/>
                <a:ea typeface="迷你简硬笔楷书"/>
              </a:rPr>
              <a:t>方面的根本对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539640" y="549360"/>
            <a:ext cx="8064720" cy="5770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4ece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22440" y="663480"/>
            <a:ext cx="7851600" cy="274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迷你简硬笔楷书"/>
                <a:ea typeface="迷你简硬笔楷书"/>
              </a:rPr>
              <a:t>材料四：苏联“狂热地坚信，它同美国之间不可能有永久的妥协。它坚信，如果苏联政权要得到巩固，那么搞乱我国社会的内部和谐，破坏我国传统的生活方式，以及损害我国在国际舞台上的权威，这种做法是可取和必要的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迷你简硬笔楷书"/>
                <a:ea typeface="迷你简硬笔楷书"/>
              </a:rPr>
              <a:t>——</a:t>
            </a:r>
            <a:r>
              <a:rPr b="1" lang="zh-CN" sz="2400" spc="-1" strike="noStrike">
                <a:solidFill>
                  <a:srgbClr val="333333"/>
                </a:solidFill>
                <a:latin typeface="迷你简硬笔楷书"/>
                <a:ea typeface="迷你简硬笔楷书"/>
              </a:rPr>
              <a:t>美国驻苏代办乔治</a:t>
            </a:r>
            <a:r>
              <a:rPr b="1" lang="en-US" sz="2400" spc="-1" strike="noStrike">
                <a:solidFill>
                  <a:srgbClr val="333333"/>
                </a:solidFill>
                <a:latin typeface="迷你简硬笔楷书"/>
                <a:ea typeface="迷你简硬笔楷书"/>
              </a:rPr>
              <a:t>·</a:t>
            </a:r>
            <a:r>
              <a:rPr b="1" lang="zh-CN" sz="2400" spc="-1" strike="noStrike">
                <a:solidFill>
                  <a:srgbClr val="333333"/>
                </a:solidFill>
                <a:latin typeface="迷你简硬笔楷书"/>
                <a:ea typeface="迷你简硬笔楷书"/>
              </a:rPr>
              <a:t>凯南（</a:t>
            </a:r>
            <a:r>
              <a:rPr b="1" lang="en-US" sz="2400" spc="-1" strike="noStrike">
                <a:solidFill>
                  <a:srgbClr val="333333"/>
                </a:solidFill>
                <a:latin typeface="迷你简硬笔楷书"/>
                <a:ea typeface="迷你简硬笔楷书"/>
              </a:rPr>
              <a:t>1946</a:t>
            </a:r>
            <a:r>
              <a:rPr b="1" lang="zh-CN" sz="2400" spc="-1" strike="noStrike">
                <a:solidFill>
                  <a:srgbClr val="333333"/>
                </a:solidFill>
                <a:latin typeface="迷你简硬笔楷书"/>
                <a:ea typeface="迷你简硬笔楷书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迷你简硬笔楷书"/>
                <a:ea typeface="迷你简硬笔楷书"/>
              </a:rPr>
              <a:t>材料五：战后美国对外政策的基本特征就是争夺世界霸权，苏联是美国通往世界霸权道路上的“最主要障碍”，美国正积极扩充军备，准备针对苏联的战争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迷你简硬笔楷书"/>
                <a:ea typeface="迷你简硬笔楷书"/>
              </a:rPr>
              <a:t>——</a:t>
            </a:r>
            <a:r>
              <a:rPr b="1" lang="zh-CN" sz="2400" spc="-1" strike="noStrike">
                <a:solidFill>
                  <a:srgbClr val="333333"/>
                </a:solidFill>
                <a:latin typeface="迷你简硬笔楷书"/>
                <a:ea typeface="迷你简硬笔楷书"/>
              </a:rPr>
              <a:t>苏联驻美大使诺维科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请回答：两则材料表明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539640" y="549360"/>
            <a:ext cx="8064720" cy="5770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4ece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22440" y="663480"/>
            <a:ext cx="7851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迷你简硬笔楷书"/>
                <a:ea typeface="迷你简硬笔楷书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材料六：从波罗的海的什切青到亚得里亚海边的里亚斯特，一幅横贯欧洲大陆的铁幕已经降落下来。在这条线后面，座落着中欧和东欧古国的都城</a:t>
            </a:r>
            <a:r>
              <a:rPr b="0" lang="en-US" sz="40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……</a:t>
            </a:r>
            <a:r>
              <a:rPr b="0" lang="zh-CN" sz="40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所有这些名城及其居民无一不处在苏联的势力范围之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引自丘吉尔“铁幕”演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5"/>
          <p:cNvSpPr/>
          <p:nvPr/>
        </p:nvSpPr>
        <p:spPr>
          <a:xfrm>
            <a:off x="357120" y="3571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Franklin Gothic Book"/>
              </a:rPr>
              <a:t>阅读探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357120" y="1096200"/>
            <a:ext cx="8215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何为“冷战”政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美国推行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冷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政策的原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②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冷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政策开始的标志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冷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在政治、经济、军事上各有什么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④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苏联采取哪些措施应对西方国家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冷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两极格局形成的标志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57120" y="3424320"/>
          <a:ext cx="8786880" cy="2219400"/>
        </p:xfrm>
        <a:graphic>
          <a:graphicData uri="http://schemas.openxmlformats.org/drawingml/2006/table">
            <a:tbl>
              <a:tblPr/>
              <a:tblGrid>
                <a:gridCol w="1000080"/>
                <a:gridCol w="3849840"/>
                <a:gridCol w="3936960"/>
              </a:tblGrid>
              <a:tr h="57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以美国为首的资本主义阵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以苏联为首的社会主义阵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政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经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军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48" name=""/>
          <p:cNvGrpSpPr/>
          <p:nvPr/>
        </p:nvGrpSpPr>
        <p:grpSpPr>
          <a:xfrm>
            <a:off x="-60480" y="-7920"/>
            <a:ext cx="868680" cy="592200"/>
            <a:chOff x="-60480" y="-7920"/>
            <a:chExt cx="868680" cy="592200"/>
          </a:xfrm>
        </p:grpSpPr>
        <p:sp>
          <p:nvSpPr>
            <p:cNvPr id="449" name="Line 9"/>
            <p:cNvSpPr/>
            <p:nvPr/>
          </p:nvSpPr>
          <p:spPr>
            <a:xfrm>
              <a:off x="-60480" y="-7920"/>
              <a:ext cx="868680" cy="592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>
              <a:off x="-60480" y="-7920"/>
              <a:ext cx="868680" cy="592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136440" y="919080"/>
            <a:ext cx="879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材料一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94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年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9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年，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个国家接受了美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多亿美元的援助，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是赠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是贷款。因此丘吉尔把“马歇尔计划”称为“人类历史上最慷慨的举动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材料二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我们每接受一笔贷款，我们的独立便减少一分。”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法国总理皮拉尔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2622960" y="15228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看一看，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1561680" y="2643120"/>
            <a:ext cx="53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  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、“马歇尔计划”要解决欧洲什么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结合材料分析“马歇尔计划”的目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5"/>
          <p:cNvGrpSpPr/>
          <p:nvPr/>
        </p:nvGrpSpPr>
        <p:grpSpPr>
          <a:xfrm>
            <a:off x="1714680" y="3500280"/>
            <a:ext cx="7163280" cy="3286080"/>
            <a:chOff x="1714680" y="3500280"/>
            <a:chExt cx="7163280" cy="3286080"/>
          </a:xfrm>
        </p:grpSpPr>
        <p:sp>
          <p:nvSpPr>
            <p:cNvPr id="455" name="AutoShape 6"/>
            <p:cNvSpPr/>
            <p:nvPr/>
          </p:nvSpPr>
          <p:spPr>
            <a:xfrm>
              <a:off x="1714680" y="3500280"/>
              <a:ext cx="7163280" cy="3286080"/>
            </a:xfrm>
            <a:prstGeom prst="horizontalScroll">
              <a:avLst>
                <a:gd name="adj" fmla="val 12500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7"/>
            <p:cNvSpPr/>
            <p:nvPr/>
          </p:nvSpPr>
          <p:spPr>
            <a:xfrm>
              <a:off x="3807360" y="4025160"/>
              <a:ext cx="3432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要解决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战后西欧的经济困境和政治动荡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目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帮助西欧各国迅速恢复经济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防止革命爆发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通过美国的援助，打开西欧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户，控制西欧。进而遏制苏联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" dur="1" fill="hold"/>
                                  <p:tgtEl>
                                    <p:spTgt spid="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2:05:4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57Z</dcterms:modified>
  <cp:revision>9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