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camera.wav" ContentType="audio/x-wav"/>
  <Override PartName="/ppt/media/image13.jpeg" ContentType="image/jpeg"/>
  <Override PartName="/ppt/media/image14.jpeg" ContentType="image/jpeg"/>
  <Override PartName="/ppt/media/carbrak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F5A-EA86-4482-816F-BAB0F233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EE4-6F14-4C3F-BD96-D670449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C9B-C5B8-488F-A0FE-1E74DB56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EF4-76E9-42EA-8505-3B7CEBD1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D782-DC9D-4133-86D2-D8EE3104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179-7E08-4969-A637-13CE164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34C-5392-400D-BA9B-0FF6EE2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100-4EA0-49AB-8DB0-DC03F07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0A3-F5D6-4E39-B16F-60F2844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F652-D472-4381-B5E2-1002C603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457-88D6-485D-994B-9A1962E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5DE-8081-4BBC-9CC3-C4B4C68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32AD-CD8B-4A8E-890F-B59468A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58B7-D889-4B28-A695-DCBC0D9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DC2-48F0-4227-8264-C6020B9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FD8A-758D-4B67-8D56-A732A7BF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4EE2-3E9D-4762-A625-4847E15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934-31C3-4683-9AE7-92B9A94E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B60-4EA9-4272-B4EE-8A7D88B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C7C-1CC6-4FA4-8D19-3E1861D0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09F-9E8D-4A75-A32C-7CAA76A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790-98AA-4A6F-99ED-50B21FC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BF5-8BE8-4FA6-921B-F565165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4E2-723C-4AB8-A1E7-E5A27E5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1F7-E0DD-4F83-B44F-8E1BE95C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A0E-0681-4E7E-8AD1-83F3A4B9E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4" descr=""/>
          <p:cNvPicPr/>
          <p:nvPr/>
        </p:nvPicPr>
        <p:blipFill>
          <a:blip r:embed="rId1"/>
          <a:stretch/>
        </p:blipFill>
        <p:spPr>
          <a:xfrm>
            <a:off x="539640" y="150840"/>
            <a:ext cx="7772400" cy="15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6240" y="1901880"/>
            <a:ext cx="42339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猫是大家都很熟悉的一种小动物。很多家庭因为猫惹人喜爱而养它。我国著名作家郑振铎先生，他家也曾养过三只小猫。从养这三只小猫的过程中，他领悟到了一些生活的哲理和做人的道理。究竟是什么样的哲理呢？今天，我们一起来学习郑振铎先生的散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站猫"/>
          <p:cNvPicPr/>
          <p:nvPr/>
        </p:nvPicPr>
        <p:blipFill>
          <a:blip r:embed="rId2"/>
          <a:stretch/>
        </p:blipFill>
        <p:spPr>
          <a:xfrm>
            <a:off x="4578480" y="1916280"/>
            <a:ext cx="4241520" cy="3457440"/>
          </a:xfrm>
          <a:prstGeom prst="rect">
            <a:avLst/>
          </a:prstGeom>
          <a:ln w="0">
            <a:noFill/>
          </a:ln>
        </p:spPr>
      </p:pic>
      <p:pic>
        <p:nvPicPr>
          <p:cNvPr id="85" name="cat11863.wav" descr=""/>
          <p:cNvPicPr/>
          <p:nvPr/>
        </p:nvPicPr>
        <p:blipFill>
          <a:blip r:embed="rId3"/>
          <a:stretch/>
        </p:blipFill>
        <p:spPr>
          <a:xfrm>
            <a:off x="325908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cat21878.wav" descr=""/>
          <p:cNvPicPr/>
          <p:nvPr/>
        </p:nvPicPr>
        <p:blipFill>
          <a:blip r:embed="rId4"/>
          <a:stretch/>
        </p:blipFill>
        <p:spPr>
          <a:xfrm>
            <a:off x="361944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CAT3.wav" descr=""/>
          <p:cNvPicPr/>
          <p:nvPr/>
        </p:nvPicPr>
        <p:blipFill>
          <a:blip r:embed="rId5"/>
          <a:stretch/>
        </p:blipFill>
        <p:spPr>
          <a:xfrm>
            <a:off x="4051440" y="530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12"/>
                            </p:stCondLst>
                            <p:childTnLst>
                              <p:par>
                                <p:cTn id="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5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67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了解三只猫的不同外形、性情及在家中的地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体会文章的思想感情及蕴涵的人生哲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揣摩生动的细节描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形成关爱动物、善待生命的情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1979640" y="162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138560" y="260280"/>
            <a:ext cx="4681440" cy="1708920"/>
          </a:xfrm>
          <a:prstGeom prst="rect">
            <a:avLst/>
          </a:prstGeom>
          <a:solidFill>
            <a:srgbClr val="3333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郑振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现代作家、学者。福建省长乐县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92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年底，与茅盾、叶圣陶等发起成立文学研究会，是我国新文化运动的积极倡导者。本文选自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郑振铎文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468360" y="189000"/>
            <a:ext cx="24462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作者简介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8" name="Picture 4" descr="SC20040908133605078"/>
          <p:cNvPicPr/>
          <p:nvPr/>
        </p:nvPicPr>
        <p:blipFill>
          <a:blip r:embed="rId1"/>
          <a:stretch/>
        </p:blipFill>
        <p:spPr>
          <a:xfrm>
            <a:off x="468360" y="1459080"/>
            <a:ext cx="3384360" cy="4248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0" y="5805360"/>
            <a:ext cx="49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郑振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uó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898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958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533520"/>
            <a:ext cx="754380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预习检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忧郁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污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然 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蜷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伏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戒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凝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望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骂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怂恿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叮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533520"/>
            <a:ext cx="754380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预习检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忧郁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污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然 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蜷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伏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戒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凝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望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骂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怂恿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叮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1600200"/>
            <a:ext cx="8001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ōu    yù                sè         chà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án           chéng             n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ǔ                sǒng  yǒng     dīng  z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027"/>
          <p:cNvSpPr/>
          <p:nvPr/>
        </p:nvSpPr>
        <p:spPr>
          <a:xfrm>
            <a:off x="324000" y="33336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整体感知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、作者一共养了几只猫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这几只猫的外形、性情各有什么特征？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和家人对这几只猫的态度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24000" y="28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几只猫的结局怎样？对它们的亡失或屈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心情有些什么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539640" y="4076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猫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1116000" y="501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64927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8856720" cy="6453360"/>
        </p:xfrm>
        <a:graphic>
          <a:graphicData uri="http://schemas.openxmlformats.org/drawingml/2006/table">
            <a:tbl>
              <a:tblPr/>
              <a:tblGrid>
                <a:gridCol w="1209600"/>
                <a:gridCol w="1206720"/>
                <a:gridCol w="1209600"/>
                <a:gridCol w="1208160"/>
                <a:gridCol w="1209600"/>
                <a:gridCol w="1206360"/>
                <a:gridCol w="160668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来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外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性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结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感情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一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二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三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49"/>
          <p:cNvSpPr/>
          <p:nvPr/>
        </p:nvSpPr>
        <p:spPr>
          <a:xfrm>
            <a:off x="1258920" y="90792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从隔壁要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14032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332000" y="242100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舅舅送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2"/>
          <p:cNvSpPr/>
          <p:nvPr/>
        </p:nvSpPr>
        <p:spPr>
          <a:xfrm>
            <a:off x="1258920" y="501336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蜷伏在家门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3"/>
          <p:cNvSpPr/>
          <p:nvPr/>
        </p:nvSpPr>
        <p:spPr>
          <a:xfrm>
            <a:off x="234000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花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4"/>
          <p:cNvSpPr/>
          <p:nvPr/>
        </p:nvSpPr>
        <p:spPr>
          <a:xfrm>
            <a:off x="2340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5"/>
          <p:cNvSpPr/>
          <p:nvPr/>
        </p:nvSpPr>
        <p:spPr>
          <a:xfrm>
            <a:off x="234000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不好看很瘦、毛烧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3635280" y="98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很活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3635280" y="26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更有趣更活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08360" y="49417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忧郁懒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509652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4932360" y="306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4859280" y="47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不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624888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死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6084720" y="314172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6084720" y="5013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屈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7236000" y="10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难过、酸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6"/>
          <p:cNvSpPr/>
          <p:nvPr/>
        </p:nvSpPr>
        <p:spPr>
          <a:xfrm>
            <a:off x="7164360" y="234936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怅然、愤恨、诅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7164360" y="465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难过、良心受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看到了一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9200" y="144792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便扑过来抢，又扑过去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776840" y="205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活泼可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800x600_002"/>
          <p:cNvPicPr/>
          <p:nvPr/>
        </p:nvPicPr>
        <p:blipFill>
          <a:blip r:embed="rId1"/>
          <a:stretch/>
        </p:blipFill>
        <p:spPr>
          <a:xfrm>
            <a:off x="3886200" y="2895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1"/>
          <p:cNvSpPr/>
          <p:nvPr/>
        </p:nvSpPr>
        <p:spPr>
          <a:xfrm>
            <a:off x="990720" y="4038480"/>
            <a:ext cx="2133360" cy="1219320"/>
          </a:xfrm>
          <a:prstGeom prst="cloudCallout">
            <a:avLst>
              <a:gd name="adj1" fmla="val 57888"/>
              <a:gd name="adj2" fmla="val -9518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et0136_m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73560" y="76212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更活泼更有趣的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pet0021_m"/>
          <p:cNvPicPr/>
          <p:nvPr/>
        </p:nvPicPr>
        <p:blipFill>
          <a:blip r:embed="rId1"/>
          <a:stretch/>
        </p:blipFill>
        <p:spPr>
          <a:xfrm>
            <a:off x="2590920" y="676440"/>
            <a:ext cx="6553080" cy="5594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2198880" y="838080"/>
            <a:ext cx="12776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可怜的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猫图"/>
          <p:cNvPicPr/>
          <p:nvPr/>
        </p:nvPicPr>
        <p:blipFill>
          <a:blip r:embed="rId1"/>
          <a:stretch/>
        </p:blipFill>
        <p:spPr>
          <a:xfrm>
            <a:off x="5003640" y="3470400"/>
            <a:ext cx="4140360" cy="3387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总共写了三次养猫的经历，哪一次是详写？为什么不单写这一次，而要写另外两次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352680" y="4038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352680" y="4876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791320" y="380880"/>
            <a:ext cx="2438280" cy="1295640"/>
          </a:xfrm>
          <a:prstGeom prst="wedgeEllipseCallout">
            <a:avLst>
              <a:gd name="adj1" fmla="val -58787"/>
              <a:gd name="adj2" fmla="val 485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172200" y="685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419720" y="4267080"/>
            <a:ext cx="380880" cy="106704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258920" y="573408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来历、外形、性情、在家中的地位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奔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09480" y="1143000"/>
            <a:ext cx="1676520" cy="1066680"/>
          </a:xfrm>
          <a:prstGeom prst="cloudCallout">
            <a:avLst>
              <a:gd name="adj1" fmla="val 31912"/>
              <a:gd name="adj2" fmla="val 100597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9144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2666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抒情议论的语句，体会“我的”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精读思考题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609480" y="685800"/>
            <a:ext cx="1447920" cy="9907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36232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79280" y="3068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　　　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体味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4360" y="3573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心里也感着一缕的酸辛，可怜这两月来相伴的小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46060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050920" y="414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”为花白猫的病死而难过、酸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话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6400800" y="304920"/>
            <a:ext cx="2362320" cy="914400"/>
          </a:xfrm>
          <a:prstGeom prst="wedgeRoundRectCallout">
            <a:avLst>
              <a:gd name="adj1" fmla="val -56921"/>
              <a:gd name="adj2" fmla="val 6666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品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 3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15200" y="1066680"/>
            <a:ext cx="152280" cy="360"/>
            <a:chOff x="7315200" y="1066680"/>
            <a:chExt cx="152280" cy="360"/>
          </a:xfrm>
        </p:grpSpPr>
        <p:sp>
          <p:nvSpPr>
            <p:cNvPr id="169" name="Line 3"/>
            <p:cNvSpPr/>
            <p:nvPr/>
          </p:nvSpPr>
          <p:spPr>
            <a:xfrm>
              <a:off x="7315200" y="1066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315200" y="10666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4"/>
          <p:cNvSpPr/>
          <p:nvPr/>
        </p:nvSpPr>
        <p:spPr>
          <a:xfrm>
            <a:off x="990720" y="1371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65760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难过、后悔、自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2209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这一部分表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情的词语，品味作者的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90720" y="3505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二只猫丢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好久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只猫死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永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体会这两句话的思想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重点品读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5800" y="25146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对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我想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6629400" y="762120"/>
            <a:ext cx="1523880" cy="990360"/>
          </a:xfrm>
          <a:prstGeom prst="smileyFace">
            <a:avLst>
              <a:gd name="adj" fmla="val 4653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597280" y="990720"/>
            <a:ext cx="1033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说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36232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作品中“我”对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66680" y="3048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凡事不能主观臆断，妄下断语，否则就会造成不可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补的损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说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2133720"/>
            <a:ext cx="769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743200" y="2209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二只猫的讨人喜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4320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家里人对待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666880" y="3657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三只猫的遭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主题探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8E6-F0F3-4BB1-83BC-29A0F1971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57200" y="1295280"/>
            <a:ext cx="1676520" cy="914400"/>
          </a:xfrm>
          <a:prstGeom prst="wedgeRoundRectCallout">
            <a:avLst>
              <a:gd name="adj1" fmla="val 69129"/>
              <a:gd name="adj2" fmla="val 4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2590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养第二只猫时也养了鸟，鸟也被咬死，“我”将怎样想，怎么做？请写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的片段作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爬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01520">
            <a:solidFill>
              <a:srgbClr val="0000ff"/>
            </a:solidFill>
            <a:miter/>
          </a:ln>
        </p:spPr>
      </p:pic>
    </p:spTree>
  </p:cSld>
  <p:transition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8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advTm="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00x600_002"/>
          <p:cNvPicPr/>
          <p:nvPr/>
        </p:nvPicPr>
        <p:blipFill>
          <a:blip r:embed="rId1"/>
          <a:stretch/>
        </p:blipFill>
        <p:spPr>
          <a:xfrm>
            <a:off x="0" y="-735120"/>
            <a:ext cx="9144000" cy="75931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猫和人"/>
          <p:cNvPicPr/>
          <p:nvPr/>
        </p:nvPicPr>
        <p:blipFill>
          <a:blip r:embed="rId1"/>
          <a:stretch/>
        </p:blipFill>
        <p:spPr>
          <a:xfrm>
            <a:off x="0" y="-506520"/>
            <a:ext cx="9144000" cy="73645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07091421294777387"/>
          <p:cNvPicPr/>
          <p:nvPr/>
        </p:nvPicPr>
        <p:blipFill>
          <a:blip r:embed="rId1"/>
          <a:stretch/>
        </p:blipFill>
        <p:spPr>
          <a:xfrm>
            <a:off x="-181080" y="-760320"/>
            <a:ext cx="9325080" cy="76183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024x768_140"/>
          <p:cNvPicPr/>
          <p:nvPr/>
        </p:nvPicPr>
        <p:blipFill>
          <a:blip r:embed="rId1"/>
          <a:stretch/>
        </p:blipFill>
        <p:spPr>
          <a:xfrm>
            <a:off x="-395280" y="-663480"/>
            <a:ext cx="10296360" cy="78375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05:2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35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