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11077575" cy="16325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ABB-EB6B-41AC-BA4E-B074800E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4CF-3815-4E9E-AA96-78C224AB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992B-526D-45A9-AF9A-52B3F6C2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0DA-4147-4BBE-AF36-EE898B31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4946-35D8-44CD-93A4-B8D1E507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F081-770E-4956-8935-B2EA4407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8275-6430-4B64-86B2-0D89D264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027C-AFB4-4FC4-ACB3-57CC8BCD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E9DE-8995-46C3-866F-0C2737AE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43000" y="143640"/>
            <a:ext cx="7772400" cy="66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A1E7-E573-4461-9B74-C8EC3242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DF5C-CA55-49C7-BB5E-48DA5D39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8A7C-D8D3-476B-A859-7A8AD848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15D6-72EB-4F51-8510-D4DAC736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AF3B-1CE8-4239-B62E-32F35EDC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C469-3DC5-4175-A9BA-AF340CA3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057F-4247-46F3-B737-54A6C34D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D602-D095-4DB3-AD56-807CCA81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E58ED-3696-459E-8C7E-119AEE1B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9EF53-1C26-4F6B-BE2D-5A0ADA4A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4E2C4-CF42-4BB7-B6FE-8615C456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3679C-AC7B-4BD5-A7FF-18DCA56C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A9502-DA75-47F0-9605-178264EC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6037-8EA1-4B08-AF54-616BD3F9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143000" y="143640"/>
            <a:ext cx="7772400" cy="66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E2B1B-4578-4261-810B-7CB28E54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210C5-D4ED-4D3C-9089-B2578DB7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995B3-2722-4881-A044-35AB560A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93AB7-5BA0-451C-B0A1-39841C01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B9DA9-BBA6-4D81-BE1E-37293EFC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EC133-BD48-42B1-B71B-EF6F7F70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5AE7B-C56D-4421-8A7C-1F655E38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DC6-9AD6-4782-9393-2962A18D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A55-F9FF-4C1E-B854-9E5EB7A4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3640"/>
            <a:ext cx="7772400" cy="66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988A-88D3-48B1-8AAD-AF884583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291-55F5-43D0-AA57-F9192915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898-19FF-4C76-B6E3-02F70655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0B35-8F88-402D-AEB4-2FEA7941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52280" y="313920"/>
            <a:ext cx="847800" cy="6543720"/>
            <a:chOff x="152280" y="313920"/>
            <a:chExt cx="847800" cy="6543720"/>
          </a:xfrm>
        </p:grpSpPr>
        <p:sp>
          <p:nvSpPr>
            <p:cNvPr id="1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rot="5400000">
              <a:off x="127440" y="50500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H="1" rot="5400000">
              <a:off x="132120" y="5991480"/>
              <a:ext cx="885960" cy="846000"/>
            </a:xfrm>
            <a:prstGeom prst="parallelogram">
              <a:avLst>
                <a:gd name="adj" fmla="val 5545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 flipH="1" rot="5400000">
              <a:off x="127440" y="127512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 flipH="1" rot="5400000">
              <a:off x="127440" y="22212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5" y="0"/>
                </a:lnTo>
                <a:lnTo>
                  <a:pt x="21600" y="10800"/>
                </a:lnTo>
                <a:lnTo>
                  <a:pt x="212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21"/>
          <p:cNvGrpSpPr/>
          <p:nvPr/>
        </p:nvGrpSpPr>
        <p:grpSpPr>
          <a:xfrm>
            <a:off x="150840" y="0"/>
            <a:ext cx="848880" cy="6858000"/>
            <a:chOff x="150840" y="0"/>
            <a:chExt cx="848880" cy="6858000"/>
          </a:xfrm>
        </p:grpSpPr>
        <p:sp>
          <p:nvSpPr>
            <p:cNvPr id="15" name="AutoShape 22"/>
            <p:cNvSpPr/>
            <p:nvPr/>
          </p:nvSpPr>
          <p:spPr>
            <a:xfrm rot="16200000">
              <a:off x="126000" y="3634200"/>
              <a:ext cx="895320" cy="842760"/>
            </a:xfrm>
            <a:prstGeom prst="parallelogram">
              <a:avLst>
                <a:gd name="adj" fmla="val 56256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23"/>
            <p:cNvSpPr/>
            <p:nvPr/>
          </p:nvSpPr>
          <p:spPr>
            <a:xfrm rot="16200000">
              <a:off x="125280" y="4578120"/>
              <a:ext cx="896760" cy="842760"/>
            </a:xfrm>
            <a:prstGeom prst="parallelogram">
              <a:avLst>
                <a:gd name="adj" fmla="val 56346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4"/>
            <p:cNvSpPr/>
            <p:nvPr/>
          </p:nvSpPr>
          <p:spPr>
            <a:xfrm rot="16200000">
              <a:off x="124560" y="5520240"/>
              <a:ext cx="895320" cy="842760"/>
            </a:xfrm>
            <a:prstGeom prst="parallelogram">
              <a:avLst>
                <a:gd name="adj" fmla="val 56256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5"/>
            <p:cNvSpPr/>
            <p:nvPr/>
          </p:nvSpPr>
          <p:spPr>
            <a:xfrm rot="16200000">
              <a:off x="124920" y="803160"/>
              <a:ext cx="897120" cy="842760"/>
            </a:xfrm>
            <a:prstGeom prst="parallelogram">
              <a:avLst>
                <a:gd name="adj" fmla="val 56369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6"/>
            <p:cNvSpPr/>
            <p:nvPr/>
          </p:nvSpPr>
          <p:spPr>
            <a:xfrm rot="16200000">
              <a:off x="124560" y="1745280"/>
              <a:ext cx="895320" cy="842760"/>
            </a:xfrm>
            <a:prstGeom prst="parallelogram">
              <a:avLst>
                <a:gd name="adj" fmla="val 56256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7"/>
            <p:cNvSpPr/>
            <p:nvPr/>
          </p:nvSpPr>
          <p:spPr>
            <a:xfrm rot="16200000">
              <a:off x="124560" y="2691360"/>
              <a:ext cx="895320" cy="842760"/>
            </a:xfrm>
            <a:prstGeom prst="parallelogram">
              <a:avLst>
                <a:gd name="adj" fmla="val 56256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8"/>
            <p:cNvSpPr/>
            <p:nvPr/>
          </p:nvSpPr>
          <p:spPr>
            <a:xfrm>
              <a:off x="158400" y="0"/>
              <a:ext cx="84132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9"/>
            <p:cNvSpPr/>
            <p:nvPr/>
          </p:nvSpPr>
          <p:spPr>
            <a:xfrm>
              <a:off x="153720" y="6445080"/>
              <a:ext cx="72252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2214-69D0-4010-90C6-F3BE58F7C28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27C0-8030-42C1-870D-94EFCC2616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Group 24"/>
          <p:cNvGrpSpPr/>
          <p:nvPr/>
        </p:nvGrpSpPr>
        <p:grpSpPr>
          <a:xfrm>
            <a:off x="150840" y="0"/>
            <a:ext cx="848880" cy="6858000"/>
            <a:chOff x="150840" y="0"/>
            <a:chExt cx="848880" cy="6858000"/>
          </a:xfrm>
        </p:grpSpPr>
        <p:sp>
          <p:nvSpPr>
            <p:cNvPr id="108" name="AutoShape 25"/>
            <p:cNvSpPr/>
            <p:nvPr/>
          </p:nvSpPr>
          <p:spPr>
            <a:xfrm rot="16200000">
              <a:off x="126000" y="3634200"/>
              <a:ext cx="895320" cy="842760"/>
            </a:xfrm>
            <a:prstGeom prst="parallelogram">
              <a:avLst>
                <a:gd name="adj" fmla="val 56256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AutoShape 26"/>
            <p:cNvSpPr/>
            <p:nvPr/>
          </p:nvSpPr>
          <p:spPr>
            <a:xfrm rot="16200000">
              <a:off x="125280" y="4578120"/>
              <a:ext cx="896760" cy="842760"/>
            </a:xfrm>
            <a:prstGeom prst="parallelogram">
              <a:avLst>
                <a:gd name="adj" fmla="val 56346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AutoShape 27"/>
            <p:cNvSpPr/>
            <p:nvPr/>
          </p:nvSpPr>
          <p:spPr>
            <a:xfrm rot="16200000">
              <a:off x="124560" y="5520240"/>
              <a:ext cx="895320" cy="842760"/>
            </a:xfrm>
            <a:prstGeom prst="parallelogram">
              <a:avLst>
                <a:gd name="adj" fmla="val 56256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AutoShape 28"/>
            <p:cNvSpPr/>
            <p:nvPr/>
          </p:nvSpPr>
          <p:spPr>
            <a:xfrm rot="16200000">
              <a:off x="124920" y="803160"/>
              <a:ext cx="897120" cy="842760"/>
            </a:xfrm>
            <a:prstGeom prst="parallelogram">
              <a:avLst>
                <a:gd name="adj" fmla="val 56369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AutoShape 29"/>
            <p:cNvSpPr/>
            <p:nvPr/>
          </p:nvSpPr>
          <p:spPr>
            <a:xfrm rot="16200000">
              <a:off x="124560" y="1745280"/>
              <a:ext cx="895320" cy="842760"/>
            </a:xfrm>
            <a:prstGeom prst="parallelogram">
              <a:avLst>
                <a:gd name="adj" fmla="val 56256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AutoShape 30"/>
            <p:cNvSpPr/>
            <p:nvPr/>
          </p:nvSpPr>
          <p:spPr>
            <a:xfrm rot="16200000">
              <a:off x="124560" y="2691360"/>
              <a:ext cx="895320" cy="842760"/>
            </a:xfrm>
            <a:prstGeom prst="parallelogram">
              <a:avLst>
                <a:gd name="adj" fmla="val 56256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31"/>
            <p:cNvSpPr/>
            <p:nvPr/>
          </p:nvSpPr>
          <p:spPr>
            <a:xfrm>
              <a:off x="158400" y="0"/>
              <a:ext cx="84132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32"/>
            <p:cNvSpPr/>
            <p:nvPr/>
          </p:nvSpPr>
          <p:spPr>
            <a:xfrm>
              <a:off x="153720" y="6445080"/>
              <a:ext cx="72252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152280" y="313920"/>
            <a:ext cx="847800" cy="6543720"/>
            <a:chOff x="152280" y="313920"/>
            <a:chExt cx="847800" cy="6543720"/>
          </a:xfrm>
        </p:grpSpPr>
        <p:sp>
          <p:nvSpPr>
            <p:cNvPr id="122" name="AutoShape 11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AutoShape 12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 flipH="1" rot="5400000">
              <a:off x="127440" y="50500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 flipH="1" rot="5400000">
              <a:off x="132120" y="5991480"/>
              <a:ext cx="885960" cy="846000"/>
            </a:xfrm>
            <a:prstGeom prst="parallelogram">
              <a:avLst>
                <a:gd name="adj" fmla="val 5545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AutoShape 16"/>
            <p:cNvSpPr/>
            <p:nvPr/>
          </p:nvSpPr>
          <p:spPr>
            <a:xfrm flipH="1" rot="5400000">
              <a:off x="127440" y="127512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AutoShape 17"/>
            <p:cNvSpPr/>
            <p:nvPr/>
          </p:nvSpPr>
          <p:spPr>
            <a:xfrm flipH="1" rot="5400000">
              <a:off x="127440" y="22212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5" y="0"/>
                </a:lnTo>
                <a:lnTo>
                  <a:pt x="21600" y="10800"/>
                </a:lnTo>
                <a:lnTo>
                  <a:pt x="212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7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8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9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A67B-EAD8-402F-897F-A34052A5CBC3}" type="slidenum">
              <a:rPr b="0" lang="zh-TW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矩形 4" descr=""/>
          <p:cNvPicPr/>
          <p:nvPr/>
        </p:nvPicPr>
        <p:blipFill>
          <a:blip r:embed="rId1"/>
          <a:stretch/>
        </p:blipFill>
        <p:spPr>
          <a:xfrm>
            <a:off x="1355760" y="917640"/>
            <a:ext cx="6784920" cy="70164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三、木兰诗中的动物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马的配具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2" name="Picture 4" descr="h"/>
          <p:cNvPicPr/>
          <p:nvPr/>
        </p:nvPicPr>
        <p:blipFill>
          <a:blip r:embed="rId1"/>
          <a:stretch/>
        </p:blipFill>
        <p:spPr>
          <a:xfrm>
            <a:off x="3276720" y="1752480"/>
            <a:ext cx="5638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dur="indefinite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dur="indefinite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三、木兰诗中的动物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(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骆驼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)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6" name="Picture 4" descr="單峰駱駝"/>
          <p:cNvPicPr/>
          <p:nvPr/>
        </p:nvPicPr>
        <p:blipFill>
          <a:blip r:embed="rId1"/>
          <a:stretch/>
        </p:blipFill>
        <p:spPr>
          <a:xfrm>
            <a:off x="1219320" y="2057400"/>
            <a:ext cx="3657600" cy="3962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雙峰駱駝"/>
          <p:cNvPicPr/>
          <p:nvPr/>
        </p:nvPicPr>
        <p:blipFill>
          <a:blip r:embed="rId2"/>
          <a:stretch/>
        </p:blipFill>
        <p:spPr>
          <a:xfrm>
            <a:off x="5029200" y="198108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dur="indefinite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四、木兰诗中的地理环境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1.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关山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1" name="Picture 1028" descr="第四1"/>
          <p:cNvPicPr/>
          <p:nvPr/>
        </p:nvPicPr>
        <p:blipFill>
          <a:blip r:embed="rId1"/>
          <a:stretch/>
        </p:blipFill>
        <p:spPr>
          <a:xfrm>
            <a:off x="2895480" y="2014560"/>
            <a:ext cx="62485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dur="indefinite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四、木兰诗中的地理环境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2.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黄河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.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黑山：山名，在河北省北部。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4.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燕山：从河北省蓟县北方绵延到辽西的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              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燕山山脉。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dur="indefinite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dur="indefinite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500"/>
                            </p:stCondLst>
                            <p:childTnLst>
                              <p:par>
                                <p:cTn id="288" dur="indefinite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五、北朝的生活用品简介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1.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阁楼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8" name="Picture 4" descr="古樓閣"/>
          <p:cNvPicPr/>
          <p:nvPr/>
        </p:nvPicPr>
        <p:blipFill>
          <a:blip r:embed="rId1"/>
          <a:stretch/>
        </p:blipFill>
        <p:spPr>
          <a:xfrm>
            <a:off x="2743200" y="1981080"/>
            <a:ext cx="6095880" cy="449604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8200"/>
          <p:cNvSpPr/>
          <p:nvPr/>
        </p:nvSpPr>
        <p:spPr>
          <a:xfrm>
            <a:off x="3564000" y="2060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66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dur="indefinite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五、北朝的生活用品简介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、男女服装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3" name="Picture 4" descr="二組7"/>
          <p:cNvPicPr/>
          <p:nvPr/>
        </p:nvPicPr>
        <p:blipFill>
          <a:blip r:embed="rId1"/>
          <a:stretch/>
        </p:blipFill>
        <p:spPr>
          <a:xfrm>
            <a:off x="5029200" y="2133720"/>
            <a:ext cx="4114800" cy="4495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二組6"/>
          <p:cNvPicPr/>
          <p:nvPr/>
        </p:nvPicPr>
        <p:blipFill>
          <a:blip r:embed="rId2"/>
          <a:stretch/>
        </p:blipFill>
        <p:spPr>
          <a:xfrm>
            <a:off x="1143000" y="2743200"/>
            <a:ext cx="3809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dur="indefinite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D8AE-5D68-4F17-A255-787757464B4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五、北朝的生活用品简介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116000" y="1916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3.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兵器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42" name="Picture 4" descr="二組8"/>
          <p:cNvPicPr/>
          <p:nvPr/>
        </p:nvPicPr>
        <p:blipFill>
          <a:blip r:embed="rId1"/>
          <a:stretch/>
        </p:blipFill>
        <p:spPr>
          <a:xfrm>
            <a:off x="2743200" y="2049480"/>
            <a:ext cx="609588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dur="indefinite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8"/>
          <p:cNvSpPr/>
          <p:nvPr/>
        </p:nvSpPr>
        <p:spPr>
          <a:xfrm>
            <a:off x="5724360" y="2997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669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一、木兰诗结构分析图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430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1.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原因：第一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(1)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引子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(2)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代父从军的原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2.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离乡：第二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(1)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装备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(2)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出征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8" name="Picture 17" descr="c36"/>
          <p:cNvPicPr/>
          <p:nvPr/>
        </p:nvPicPr>
        <p:blipFill>
          <a:blip r:embed="rId1"/>
          <a:stretch/>
        </p:blipFill>
        <p:spPr>
          <a:xfrm>
            <a:off x="5192640" y="2209680"/>
            <a:ext cx="3722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dur="indefinite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dur="indefinite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dur="indefinite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dur="indefinite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dur="indefinite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5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一、木兰诗结构分析图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3.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征程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第三段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(1)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行军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(2)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军中生活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(3)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凯归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4.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封赏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第四段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(1)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朝天子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(2)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厚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(3)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心愿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2" name="Picture 11" descr="BD05489_"/>
          <p:cNvPicPr/>
          <p:nvPr/>
        </p:nvPicPr>
        <p:blipFill>
          <a:blip r:embed="rId1"/>
          <a:stretch/>
        </p:blipFill>
        <p:spPr>
          <a:xfrm>
            <a:off x="4572000" y="2590920"/>
            <a:ext cx="43434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18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5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一、木蘭詩結構分析圖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5.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榮歸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第五段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(1)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家人的歡欣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(2)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木蘭之喜悅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(3)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真相大白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6.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結語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第六段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6" name="Picture 17" descr="兔子"/>
          <p:cNvPicPr/>
          <p:nvPr/>
        </p:nvPicPr>
        <p:blipFill>
          <a:blip r:embed="rId1"/>
          <a:stretch/>
        </p:blipFill>
        <p:spPr>
          <a:xfrm>
            <a:off x="4648320" y="4444920"/>
            <a:ext cx="3333600" cy="2217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1" descr="SO01827_"/>
          <p:cNvPicPr/>
          <p:nvPr/>
        </p:nvPicPr>
        <p:blipFill>
          <a:blip r:embed="rId2"/>
          <a:stretch/>
        </p:blipFill>
        <p:spPr>
          <a:xfrm flipH="1">
            <a:off x="5410080" y="1752480"/>
            <a:ext cx="3733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二、木兰诗中相关文物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(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机杼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)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1" name="Picture 4" descr="杼"/>
          <p:cNvPicPr/>
          <p:nvPr/>
        </p:nvPicPr>
        <p:blipFill>
          <a:blip r:embed="rId1"/>
          <a:stretch/>
        </p:blipFill>
        <p:spPr>
          <a:xfrm>
            <a:off x="1143000" y="1955880"/>
            <a:ext cx="723888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二、木兰诗中相关文物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(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织布机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)  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5" name="Picture 5" descr="織布機"/>
          <p:cNvPicPr/>
          <p:nvPr/>
        </p:nvPicPr>
        <p:blipFill>
          <a:blip r:embed="rId1"/>
          <a:stretch/>
        </p:blipFill>
        <p:spPr>
          <a:xfrm>
            <a:off x="1143000" y="1828800"/>
            <a:ext cx="7696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dur="indefinite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二、木兰诗中相关文物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(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金柝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)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9" name="Picture 4" descr="金柝"/>
          <p:cNvPicPr/>
          <p:nvPr/>
        </p:nvPicPr>
        <p:blipFill>
          <a:blip r:embed="rId1"/>
          <a:stretch/>
        </p:blipFill>
        <p:spPr>
          <a:xfrm>
            <a:off x="1219320" y="2057400"/>
            <a:ext cx="7467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二、木兰诗中相关文物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(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铁衣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1)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03" name="Picture 4" descr="鐵衣1"/>
          <p:cNvPicPr/>
          <p:nvPr/>
        </p:nvPicPr>
        <p:blipFill>
          <a:blip r:embed="rId1"/>
          <a:stretch/>
        </p:blipFill>
        <p:spPr>
          <a:xfrm>
            <a:off x="1295280" y="2057400"/>
            <a:ext cx="3962520" cy="3962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鐵衣2"/>
          <p:cNvPicPr/>
          <p:nvPr/>
        </p:nvPicPr>
        <p:blipFill>
          <a:blip r:embed="rId2"/>
          <a:stretch/>
        </p:blipFill>
        <p:spPr>
          <a:xfrm>
            <a:off x="5257800" y="2057400"/>
            <a:ext cx="3886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dur="indefinite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二、木兰诗中相关文物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(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铁衣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2)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08" name="Picture 4" descr="630"/>
          <p:cNvPicPr/>
          <p:nvPr/>
        </p:nvPicPr>
        <p:blipFill>
          <a:blip r:embed="rId1"/>
          <a:stretch/>
        </p:blipFill>
        <p:spPr>
          <a:xfrm>
            <a:off x="1447920" y="1752480"/>
            <a:ext cx="7162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4T02:18:4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34Z</dcterms:modified>
  <cp:revision>5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