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7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0CCA-B74A-45DD-8899-162630D83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A219-1C1E-43CC-9D23-60D931F3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3B51-937F-4C93-99C8-E1F47D6D9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84DB-F0D2-4329-9994-F836C5706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6F69-87CD-4F69-9177-6A1EFCA5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47C8-2CC5-4330-8B5F-B8B2BA6E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5940-7ECC-49A8-B138-7B8C6DDC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D7A4-EF1F-4FAC-91F3-03986DC9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53C1-39FD-475B-92B5-ECAAF606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B13D-2DA4-4995-9A95-17AFBD1D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DF84-18DC-4A91-A535-6D9C393B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10D8-0A2D-49BF-B07D-93812335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B95C-4E31-4B0B-8A0A-7AA4452B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8D48-C6F1-4884-8A8B-D0311453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353E-3A31-47C7-84E2-F19C988B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ADC5-6B08-40EA-AE07-69E21EA65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68E0-892C-472F-8703-D9B8C903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9771D-BD94-4D15-BC73-A0251318B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26828-9741-4180-B98F-28A337CF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2FBE9-556D-4A48-B85B-3B853A6E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600DA-397B-41DC-B7F5-DA97D8AC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ED0B9-2DCD-4259-930F-A14393C0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C0CD-3066-4834-BF52-7405FB25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4F45D-D7CE-41FA-8F2D-5873BE86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DB2D8-699F-4DC0-9637-135B3067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518A3-C5F9-4F57-BA4B-E40B3FD5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E7885-B8C0-40B2-8F1A-5496629F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C0906-A64E-4DF1-8C98-FBD30767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9DB5B-1110-4A29-B896-A5392AF5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2C51F-74B5-4900-BF23-BDC6E48C7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67E9-490A-4074-8358-2B9FEECD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8C50-7684-4400-B39E-73C124E7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E6A9-6526-4542-81E3-E5E3F66C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628E-231A-4268-9499-E66C08DD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CE3C-A6BE-4FE4-AF4C-60B6CB01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DBB2-3D61-4585-83A2-DEC0CB9B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8721-F863-4D0D-8165-1C11BA155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1023-0C57-4BA4-B4B8-74741A7A17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9060-39EE-4EB1-8649-70D293AB0A07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A1_234"/>
          <p:cNvPicPr/>
          <p:nvPr/>
        </p:nvPicPr>
        <p:blipFill>
          <a:blip r:embed="rId1"/>
          <a:stretch/>
        </p:blipFill>
        <p:spPr>
          <a:xfrm>
            <a:off x="1908000" y="3068640"/>
            <a:ext cx="5040360" cy="3048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1042920" y="969840"/>
            <a:ext cx="703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宋体"/>
                <a:ea typeface="宋体"/>
              </a:rPr>
              <a:t>马说语文课件</a:t>
            </a:r>
            <a:r>
              <a:rPr b="0" lang="en-US" sz="4000" spc="-1" strike="noStrike">
                <a:solidFill>
                  <a:srgbClr val="3366ff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3366ff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5" name="01-旧日的私情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6155"/>
          <p:cNvSpPr/>
          <p:nvPr/>
        </p:nvSpPr>
        <p:spPr>
          <a:xfrm>
            <a:off x="34920" y="64450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a77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7a77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9370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36CA-3A26-4F40-BEF5-D7E6315D20D6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324000" y="1314360"/>
            <a:ext cx="8569080" cy="37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808"/>
                </a:solidFill>
                <a:latin typeface="Arial"/>
              </a:rPr>
              <a:t>如果你怀才不遇，你会学那位古人的做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808"/>
                </a:solidFill>
                <a:latin typeface="Arial"/>
              </a:rPr>
              <a:t>、韩 愈 怀 才不遇写文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808"/>
                </a:solidFill>
                <a:latin typeface="Arial"/>
              </a:rPr>
              <a:t>、苏 秦 悬 梁刺骨暗发愤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808"/>
                </a:solidFill>
                <a:latin typeface="Arial"/>
              </a:rPr>
              <a:t>、董邵南另寻高就求发展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808"/>
                </a:solidFill>
                <a:latin typeface="Arial"/>
              </a:rPr>
              <a:t>、陶渊明归隐田园乐悠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AutoShape 5"/>
          <p:cNvSpPr/>
          <p:nvPr/>
        </p:nvSpPr>
        <p:spPr>
          <a:xfrm>
            <a:off x="8763120" y="66294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10800"/>
                </a:moveTo>
                <a:lnTo>
                  <a:pt x="24990" y="3794"/>
                </a:lnTo>
                <a:lnTo>
                  <a:pt x="24990" y="17806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7"/>
          <p:cNvSpPr/>
          <p:nvPr/>
        </p:nvSpPr>
        <p:spPr>
          <a:xfrm>
            <a:off x="6012000" y="323676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250920" y="765000"/>
            <a:ext cx="5122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c5900"/>
                </a:solidFill>
                <a:latin typeface="华文细黑"/>
                <a:ea typeface="华文细黑"/>
              </a:rPr>
              <a:t>        </a:t>
            </a: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韩愈 </a:t>
            </a:r>
            <a:r>
              <a:rPr b="1" lang="en-US" sz="3200" spc="-1" strike="noStrike">
                <a:solidFill>
                  <a:srgbClr val="dc5900"/>
                </a:solidFill>
                <a:latin typeface="黑体"/>
                <a:ea typeface="黑体"/>
              </a:rPr>
              <a:t>(768</a:t>
            </a: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dc5900"/>
                </a:solidFill>
                <a:latin typeface="黑体"/>
                <a:ea typeface="黑体"/>
              </a:rPr>
              <a:t>824),</a:t>
            </a: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字退之，唐代著名文学家。初登仕途时，很不得志。他曾三次上书宰相求擢用。很可惜有</a:t>
            </a:r>
            <a:r>
              <a:rPr b="1" lang="zh-CN" sz="3200" spc="-1" strike="noStrike">
                <a:solidFill>
                  <a:srgbClr val="dc5900"/>
                </a:solidFill>
                <a:latin typeface="华文细黑"/>
                <a:ea typeface="黑体"/>
              </a:rPr>
              <a:t>“</a:t>
            </a: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忧天下之心</a:t>
            </a:r>
            <a:r>
              <a:rPr b="1" lang="zh-CN" sz="3200" spc="-1" strike="noStrike">
                <a:solidFill>
                  <a:srgbClr val="dc5900"/>
                </a:solidFill>
                <a:latin typeface="华文细黑"/>
                <a:ea typeface="黑体"/>
              </a:rPr>
              <a:t>”</a:t>
            </a: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的他，终未被采纳。当时奸佞当权，政治黑暗，有才能之士不受重视，所以他有</a:t>
            </a:r>
            <a:r>
              <a:rPr b="1" lang="zh-CN" sz="3200" spc="-1" strike="noStrike">
                <a:solidFill>
                  <a:srgbClr val="dc5900"/>
                </a:solidFill>
                <a:latin typeface="华文细黑"/>
                <a:ea typeface="黑体"/>
              </a:rPr>
              <a:t>“</a:t>
            </a: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伯乐不常有</a:t>
            </a:r>
            <a:r>
              <a:rPr b="1" lang="zh-CN" sz="3200" spc="-1" strike="noStrike">
                <a:solidFill>
                  <a:srgbClr val="dc5900"/>
                </a:solidFill>
                <a:latin typeface="华文细黑"/>
                <a:ea typeface="黑体"/>
              </a:rPr>
              <a:t>”</a:t>
            </a: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之叹，</a:t>
            </a:r>
            <a:r>
              <a:rPr b="1" lang="zh-CN" sz="3200" spc="-1" strike="noStrike">
                <a:solidFill>
                  <a:srgbClr val="dc5900"/>
                </a:solidFill>
                <a:latin typeface="Arial"/>
                <a:ea typeface="黑体"/>
              </a:rPr>
              <a:t>对埋没人才强烈不满，并加以揭露和抨击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9" name="Picture 3" descr="聊斋志异——促织1"/>
          <p:cNvPicPr/>
          <p:nvPr/>
        </p:nvPicPr>
        <p:blipFill>
          <a:blip r:embed="rId1"/>
          <a:srcRect l="44448" t="0" r="14283" b="13638"/>
          <a:stretch/>
        </p:blipFill>
        <p:spPr>
          <a:xfrm>
            <a:off x="5410080" y="685800"/>
            <a:ext cx="3468960" cy="556272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5"/>
          <p:cNvSpPr/>
          <p:nvPr/>
        </p:nvSpPr>
        <p:spPr>
          <a:xfrm>
            <a:off x="8534520" y="64008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10800"/>
                </a:moveTo>
                <a:lnTo>
                  <a:pt x="24990" y="3794"/>
                </a:lnTo>
                <a:lnTo>
                  <a:pt x="24990" y="17806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2" name="Picture 11" descr="马说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324000" y="1125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  <a:ea typeface="隶书"/>
              </a:rPr>
              <a:t>作者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324000" y="1916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  <a:ea typeface="隶书"/>
              </a:rPr>
              <a:t>朗读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324000" y="4581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  <a:ea typeface="隶书"/>
              </a:rPr>
              <a:t>拓展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324000" y="3716280"/>
            <a:ext cx="17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  <a:ea typeface="隶书"/>
              </a:rPr>
              <a:t>情景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324000" y="2781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  <a:ea typeface="隶书"/>
              </a:rPr>
              <a:t>配文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324000" y="333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  <a:ea typeface="隶书"/>
              </a:rPr>
              <a:t>文体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250920" y="1557360"/>
            <a:ext cx="8604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      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说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”：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古代的一种议论体裁，用以陈述作者对社会上某些问题的观点；写法十分灵活，可以叙事，可以议论，都是为了说明一个道理；讲究文采，和现在的杂文大致相近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8534520" y="64008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10800"/>
                </a:moveTo>
                <a:lnTo>
                  <a:pt x="24990" y="3794"/>
                </a:lnTo>
                <a:lnTo>
                  <a:pt x="24990" y="17806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34920" y="476280"/>
            <a:ext cx="9144000" cy="39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　　世有伯乐，然后有千里马。千里马常有，而伯乐不常有。故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虽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有名马，祗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辱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于奴隶人之手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骈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死于槽枥之间，不以千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称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也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　　马之千里者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一食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或尽粟一石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食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马者不知其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能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千里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食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也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马也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虽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有千里之能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食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不饱，力不足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才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美不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见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且欲与常马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等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不可得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安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求其能千里也 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策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之不以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其道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食之不能尽其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材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鸣之而不能通其意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执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策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临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之，曰：“天下无马！”呜呼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其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真无马邪？其真不知马也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457200" y="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朗诵课文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Text Box 30"/>
          <p:cNvSpPr/>
          <p:nvPr/>
        </p:nvSpPr>
        <p:spPr>
          <a:xfrm>
            <a:off x="2843280" y="620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zhǐ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Text Box 31"/>
          <p:cNvSpPr/>
          <p:nvPr/>
        </p:nvSpPr>
        <p:spPr>
          <a:xfrm>
            <a:off x="6012000" y="6206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pián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Text Box 32"/>
          <p:cNvSpPr/>
          <p:nvPr/>
        </p:nvSpPr>
        <p:spPr>
          <a:xfrm>
            <a:off x="3203640" y="198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shí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Text Box 33"/>
          <p:cNvSpPr/>
          <p:nvPr/>
        </p:nvSpPr>
        <p:spPr>
          <a:xfrm>
            <a:off x="5796000" y="198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sì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Text Box 34"/>
          <p:cNvSpPr/>
          <p:nvPr/>
        </p:nvSpPr>
        <p:spPr>
          <a:xfrm>
            <a:off x="468360" y="2565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sì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Text Box 35"/>
          <p:cNvSpPr/>
          <p:nvPr/>
        </p:nvSpPr>
        <p:spPr>
          <a:xfrm>
            <a:off x="5364000" y="2565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shí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Text Box 36"/>
          <p:cNvSpPr/>
          <p:nvPr/>
        </p:nvSpPr>
        <p:spPr>
          <a:xfrm>
            <a:off x="684360" y="31417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xiàn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276720" y="952560"/>
            <a:ext cx="75960" cy="38160"/>
            <a:chOff x="3276720" y="952560"/>
            <a:chExt cx="75960" cy="38160"/>
          </a:xfrm>
        </p:grpSpPr>
        <p:sp>
          <p:nvSpPr>
            <p:cNvPr id="152" name="Line 37"/>
            <p:cNvSpPr/>
            <p:nvPr/>
          </p:nvSpPr>
          <p:spPr>
            <a:xfrm>
              <a:off x="3276720" y="952560"/>
              <a:ext cx="75960" cy="381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3276720" y="952560"/>
              <a:ext cx="75960" cy="3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019560" y="2514240"/>
            <a:ext cx="360" cy="360"/>
            <a:chOff x="6019560" y="2514240"/>
            <a:chExt cx="360" cy="360"/>
          </a:xfrm>
        </p:grpSpPr>
        <p:sp>
          <p:nvSpPr>
            <p:cNvPr id="155" name="Line 38"/>
            <p:cNvSpPr/>
            <p:nvPr/>
          </p:nvSpPr>
          <p:spPr>
            <a:xfrm>
              <a:off x="6019920" y="2514600"/>
              <a:ext cx="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 rot="10800000">
              <a:off x="6019560" y="2514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57" name="Text Box 39"/>
          <p:cNvSpPr/>
          <p:nvPr/>
        </p:nvSpPr>
        <p:spPr>
          <a:xfrm>
            <a:off x="4932360" y="198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dàn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AutoShape 40"/>
          <p:cNvSpPr/>
          <p:nvPr/>
        </p:nvSpPr>
        <p:spPr>
          <a:xfrm>
            <a:off x="8534520" y="64008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10800"/>
                </a:moveTo>
                <a:lnTo>
                  <a:pt x="24990" y="3794"/>
                </a:lnTo>
                <a:lnTo>
                  <a:pt x="24990" y="17806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9" name="马说  朗读欣赏2.wav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8194"/>
          <p:cNvSpPr/>
          <p:nvPr/>
        </p:nvSpPr>
        <p:spPr>
          <a:xfrm>
            <a:off x="2266920" y="5734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a77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3452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-9360" y="476280"/>
            <a:ext cx="91440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　　世有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伯乐，然后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有千里马。千里马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常有，而伯乐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不常有。故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虽有名马，祗辱于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奴隶人之手，骈死于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槽枥之间，不以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千里称也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　　马之千里者，一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食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尽粟一石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食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马者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不知其能千里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食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也。是马也，虽有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千里之能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食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不饱，力不足，才美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不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见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且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欲与常马等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不可得，安求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其能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千里也 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　　策之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不以其道，食之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不能尽其材，鸣之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而不能通其意，执策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而临之，曰：“天下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无马！”呜呼！其真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无马邪？其</a:t>
            </a:r>
            <a:r>
              <a:rPr b="1" lang="en-US" sz="2800" spc="-1" strike="noStrike">
                <a:solidFill>
                  <a:srgbClr val="d70532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真不知马也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457200" y="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朗诵课文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8532720" y="6021360"/>
            <a:ext cx="381240" cy="228600"/>
          </a:xfrm>
          <a:custGeom>
            <a:avLst/>
            <a:gdLst>
              <a:gd name="textAreaLeft" fmla="*/ 14760 w 381240"/>
              <a:gd name="textAreaRight" fmla="*/ 366480 w 3812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0994" y="10800"/>
                </a:moveTo>
                <a:lnTo>
                  <a:pt x="25006" y="3794"/>
                </a:lnTo>
                <a:lnTo>
                  <a:pt x="25006" y="17806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708360" y="620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zhǐ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6877080" y="6206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pián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3203640" y="198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shí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5940360" y="1916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sì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900000" y="2565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sì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5867280" y="2565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shí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1476360" y="30686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xiàn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276720" y="952560"/>
            <a:ext cx="75960" cy="38160"/>
            <a:chOff x="3276720" y="952560"/>
            <a:chExt cx="75960" cy="38160"/>
          </a:xfrm>
        </p:grpSpPr>
        <p:sp>
          <p:nvSpPr>
            <p:cNvPr id="172" name="Line 15"/>
            <p:cNvSpPr/>
            <p:nvPr/>
          </p:nvSpPr>
          <p:spPr>
            <a:xfrm>
              <a:off x="3276720" y="952560"/>
              <a:ext cx="75960" cy="381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3276720" y="952560"/>
              <a:ext cx="75960" cy="3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019560" y="2514240"/>
            <a:ext cx="360" cy="360"/>
            <a:chOff x="6019560" y="2514240"/>
            <a:chExt cx="360" cy="360"/>
          </a:xfrm>
        </p:grpSpPr>
        <p:sp>
          <p:nvSpPr>
            <p:cNvPr id="175" name="Line 16"/>
            <p:cNvSpPr/>
            <p:nvPr/>
          </p:nvSpPr>
          <p:spPr>
            <a:xfrm>
              <a:off x="6019920" y="2514600"/>
              <a:ext cx="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 rot="10800000">
              <a:off x="6019560" y="2514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77" name="Text Box 17"/>
          <p:cNvSpPr/>
          <p:nvPr/>
        </p:nvSpPr>
        <p:spPr>
          <a:xfrm>
            <a:off x="5148360" y="1916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dàn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2843280" y="2349360"/>
            <a:ext cx="25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808"/>
                </a:solidFill>
                <a:latin typeface="Arial"/>
              </a:rPr>
              <a:t>识马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8534520" y="64008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10800"/>
                </a:moveTo>
                <a:lnTo>
                  <a:pt x="24990" y="3794"/>
                </a:lnTo>
                <a:lnTo>
                  <a:pt x="24990" y="17806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250920" y="54936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808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808"/>
                </a:solidFill>
                <a:latin typeface="Arial"/>
              </a:rPr>
              <a:t>1.</a:t>
            </a:r>
            <a:r>
              <a:rPr b="0" lang="en-US" sz="36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808"/>
                </a:solidFill>
                <a:latin typeface="Arial"/>
              </a:rPr>
              <a:t>有个研究生</a:t>
            </a:r>
            <a:r>
              <a:rPr b="0" lang="en-US" sz="3600" spc="-1" strike="noStrike">
                <a:solidFill>
                  <a:srgbClr val="000808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808"/>
                </a:solidFill>
                <a:latin typeface="Arial"/>
              </a:rPr>
              <a:t>专业水平高</a:t>
            </a:r>
            <a:r>
              <a:rPr b="0" lang="en-US" sz="3600" spc="-1" strike="noStrike">
                <a:solidFill>
                  <a:srgbClr val="000808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808"/>
                </a:solidFill>
                <a:latin typeface="Arial"/>
              </a:rPr>
              <a:t>因其与人沟通的能力不行而找不到工作</a:t>
            </a:r>
            <a:r>
              <a:rPr b="0" lang="en-US" sz="3600" spc="-1" strike="noStrike">
                <a:solidFill>
                  <a:srgbClr val="000808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808"/>
                </a:solidFill>
                <a:latin typeface="Arial"/>
              </a:rPr>
              <a:t>一直没有被哪个单位重用</a:t>
            </a:r>
            <a:r>
              <a:rPr b="0" lang="en-US" sz="3600" spc="-1" strike="noStrike">
                <a:solidFill>
                  <a:srgbClr val="000808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808"/>
                </a:solidFill>
                <a:latin typeface="Arial"/>
              </a:rPr>
              <a:t>他不由地感慨</a:t>
            </a:r>
            <a:r>
              <a:rPr b="0" lang="en-US" sz="3600" spc="-1" strike="noStrike">
                <a:solidFill>
                  <a:srgbClr val="000808"/>
                </a:solidFill>
                <a:latin typeface="Arial"/>
              </a:rPr>
              <a:t>:</a:t>
            </a:r>
            <a:r>
              <a:rPr b="0" lang="zh-CN" sz="3600" spc="-1" strike="noStrike">
                <a:solidFill>
                  <a:srgbClr val="000808"/>
                </a:solidFill>
                <a:latin typeface="Arial"/>
              </a:rPr>
              <a:t>唉</a:t>
            </a:r>
            <a:r>
              <a:rPr b="0" lang="en-US" sz="3600" spc="-1" strike="noStrike">
                <a:solidFill>
                  <a:srgbClr val="000808"/>
                </a:solidFill>
                <a:latin typeface="Arial"/>
              </a:rPr>
              <a:t>,______</a:t>
            </a:r>
            <a:r>
              <a:rPr b="0" lang="en-US" sz="3600" spc="-1" strike="noStrike" u="sng">
                <a:solidFill>
                  <a:srgbClr val="000808"/>
                </a:solidFill>
                <a:uFillTx/>
                <a:latin typeface="Arial"/>
              </a:rPr>
              <a:t>         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0" y="227664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808"/>
                </a:solidFill>
                <a:latin typeface="Arial"/>
              </a:rPr>
              <a:t>假设</a:t>
            </a: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000808"/>
                </a:solidFill>
                <a:latin typeface="Arial"/>
              </a:rPr>
              <a:t>你在短跑方面具有刘翔的天赋</a:t>
            </a: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808"/>
                </a:solidFill>
                <a:latin typeface="Arial"/>
              </a:rPr>
              <a:t>但因饮食调养等因素</a:t>
            </a: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808"/>
                </a:solidFill>
                <a:latin typeface="Arial"/>
              </a:rPr>
              <a:t>没有良好的身体素质</a:t>
            </a: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808"/>
                </a:solidFill>
                <a:latin typeface="Arial"/>
              </a:rPr>
              <a:t>同时不能接受严格正规的训练</a:t>
            </a: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808"/>
                </a:solidFill>
                <a:latin typeface="Arial"/>
              </a:rPr>
              <a:t>最终变成一个平常人</a:t>
            </a: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808"/>
                </a:solidFill>
                <a:latin typeface="Arial"/>
              </a:rPr>
              <a:t>当有人笑你怎么成不了世界冠军时</a:t>
            </a: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808"/>
                </a:solidFill>
                <a:latin typeface="Arial"/>
              </a:rPr>
              <a:t>你会说</a:t>
            </a: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:______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0" y="429264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808"/>
                </a:solidFill>
                <a:latin typeface="Arial"/>
              </a:rPr>
              <a:t>当你遇到这样一个老师</a:t>
            </a: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000808"/>
                </a:solidFill>
                <a:latin typeface="Arial"/>
              </a:rPr>
              <a:t>上课不能正确引导你学习</a:t>
            </a: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808"/>
                </a:solidFill>
                <a:latin typeface="Arial"/>
              </a:rPr>
              <a:t>每天的题海战术弄得你头晕目眩</a:t>
            </a: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808"/>
                </a:solidFill>
                <a:latin typeface="Arial"/>
              </a:rPr>
              <a:t>当你想与他沟通</a:t>
            </a: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808"/>
                </a:solidFill>
                <a:latin typeface="Arial"/>
              </a:rPr>
              <a:t>他又不能明白你的意思</a:t>
            </a: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808"/>
                </a:solidFill>
                <a:latin typeface="Arial"/>
              </a:rPr>
              <a:t>你会说</a:t>
            </a: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:___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8534520" y="64008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10800"/>
                </a:moveTo>
                <a:lnTo>
                  <a:pt x="24990" y="3794"/>
                </a:lnTo>
                <a:lnTo>
                  <a:pt x="24990" y="17806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文本框 8194"/>
          <p:cNvSpPr/>
          <p:nvPr/>
        </p:nvSpPr>
        <p:spPr>
          <a:xfrm>
            <a:off x="1692360" y="5734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a77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539640" y="198900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808"/>
                </a:solidFill>
                <a:latin typeface="Arial"/>
              </a:rPr>
              <a:t>我是千里马，因为</a:t>
            </a:r>
            <a:r>
              <a:rPr b="0" lang="en-US" sz="6000" spc="-1" strike="noStrike">
                <a:solidFill>
                  <a:srgbClr val="000808"/>
                </a:solidFill>
                <a:latin typeface="Arial"/>
              </a:rPr>
              <a:t>……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2:45:5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3:32Z</dcterms:modified>
  <cp:revision>1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