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12.png" ContentType="image/png"/>
  <Override PartName="/ppt/media/image32.jpeg" ContentType="image/jpeg"/>
  <Override PartName="/ppt/media/image40.png" ContentType="image/png"/>
  <Override PartName="/ppt/media/image11.jpeg" ContentType="image/jpeg"/>
  <Override PartName="/ppt/media/image4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3.png" ContentType="image/pn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088-AAB8-4E0C-98ED-061BED0D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0A4-3B01-4515-AA09-ABBB7AC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B6A-63AA-46CB-A44A-5A4707C1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674-4C7D-49EB-A2C2-18635117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9655-6639-4F06-9425-623AD37C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C349-704D-4D5B-BE61-4CB9D348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B835-59F7-4FB3-BC60-86A6482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489D-FA8C-4B98-B99B-DEE208D3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F594-2901-4CB7-9D5F-5F1B2156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7D90-E630-4452-993A-AE27DD6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815-5F9C-4E3F-8EB4-CC22F2D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FA8-D7FA-4259-8B4E-7300073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772F-0B9F-4DF7-A91F-607A9FAB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A74A-DB44-412E-8CEF-49D9085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B2CB-F5FE-4235-9BE4-157ECFA1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0EAC-BE63-44DC-832B-6BF3C417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8992-4411-47D3-B39F-FE9B3688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BE8-E5C2-4754-800F-CFA02FD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59C-3EE0-44B6-8CB8-79D1C07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D9F-1E69-4F21-AE45-314ED3D4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0C5-EF42-43E8-A046-D5DCD39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6F-8EEE-4688-99BB-EE4C824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145-2AE9-4FDE-BAEF-A0DAE88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A4DF-A3AD-4FA8-BD05-491267A6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5e2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3982-BB62-4C09-B2D4-0DA043DD3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D46D-4B17-414E-BEDD-756D904F5F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080817162811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1100160" y="549360"/>
            <a:ext cx="9885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Arial"/>
              </a:rPr>
              <a:t>牧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00"/>
                </a:solidFill>
                <a:latin typeface="Arial"/>
              </a:rPr>
              <a:t>童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2952720" y="476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牧童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4EF6"/>
          <p:cNvPicPr/>
          <p:nvPr/>
        </p:nvPicPr>
        <p:blipFill>
          <a:blip r:embed="rId1"/>
          <a:stretch/>
        </p:blipFill>
        <p:spPr>
          <a:xfrm>
            <a:off x="6443640" y="2602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4859280" y="189000"/>
            <a:ext cx="122544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</a:rPr>
              <a:t>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35440" y="3572280"/>
            <a:ext cx="227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也。从人从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大物，故可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义为分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开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件错理微    件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引申为物件 多作为量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、一件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806400" y="350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庖丁解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20353159415"/>
          <p:cNvPicPr/>
          <p:nvPr/>
        </p:nvPicPr>
        <p:blipFill>
          <a:blip r:embed="rId2"/>
          <a:stretch/>
        </p:blipFill>
        <p:spPr>
          <a:xfrm>
            <a:off x="0" y="0"/>
            <a:ext cx="45007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4932360" y="0"/>
            <a:ext cx="9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楷体"/>
              </a:rPr>
              <a:t>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7261"/>
          <p:cNvPicPr/>
          <p:nvPr/>
        </p:nvPicPr>
        <p:blipFill>
          <a:blip r:embed="rId1"/>
          <a:stretch/>
        </p:blipFill>
        <p:spPr>
          <a:xfrm>
            <a:off x="781200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45"/>
          <p:cNvPicPr/>
          <p:nvPr/>
        </p:nvPicPr>
        <p:blipFill>
          <a:blip r:embed="rId2"/>
          <a:stretch/>
        </p:blipFill>
        <p:spPr>
          <a:xfrm>
            <a:off x="781200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78"/>
          <p:cNvPicPr/>
          <p:nvPr/>
        </p:nvPicPr>
        <p:blipFill>
          <a:blip r:embed="rId3"/>
          <a:stretch/>
        </p:blipFill>
        <p:spPr>
          <a:xfrm>
            <a:off x="7812000" y="2349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6084720" y="404640"/>
            <a:ext cx="1873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 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175800" y="323352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畜父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性的鸟兽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1078200" y="58050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雉鸣求其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508000" y="4365720"/>
            <a:ext cx="31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牡丹之称出现在唐以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花中富贵者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李时珍说：“牡丹以色丹者为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虽结子而根上生苗，故谓之牡丹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性，可营养繁殖之意 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2008731191020853_2"/>
          <p:cNvPicPr/>
          <p:nvPr/>
        </p:nvPicPr>
        <p:blipFill>
          <a:blip r:embed="rId4"/>
          <a:stretch/>
        </p:blipFill>
        <p:spPr>
          <a:xfrm>
            <a:off x="0" y="0"/>
            <a:ext cx="4586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4958640" y="981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012000" y="1053000"/>
            <a:ext cx="136836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725D"/>
          <p:cNvPicPr/>
          <p:nvPr/>
        </p:nvPicPr>
        <p:blipFill>
          <a:blip r:embed="rId1"/>
          <a:stretch/>
        </p:blipFill>
        <p:spPr>
          <a:xfrm>
            <a:off x="7451640" y="19890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725D"/>
          <p:cNvPicPr/>
          <p:nvPr/>
        </p:nvPicPr>
        <p:blipFill>
          <a:blip r:embed="rId2"/>
          <a:stretch/>
        </p:blipFill>
        <p:spPr>
          <a:xfrm>
            <a:off x="7451640" y="333360"/>
            <a:ext cx="1258920" cy="12589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5815440" y="3213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畜母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鸟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571442_162242029_2"/>
          <p:cNvPicPr/>
          <p:nvPr/>
        </p:nvPicPr>
        <p:blipFill>
          <a:blip r:embed="rId3"/>
          <a:stretch/>
        </p:blipFill>
        <p:spPr>
          <a:xfrm>
            <a:off x="179280" y="189000"/>
            <a:ext cx="4311720" cy="530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5"/>
          <p:cNvSpPr/>
          <p:nvPr/>
        </p:nvSpPr>
        <p:spPr>
          <a:xfrm>
            <a:off x="5270400" y="486900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牝鸡司晨    牝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4934880" y="1231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ì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5591160" y="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  <a:ea typeface="楷体"/>
              </a:rPr>
              <a:t>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516720" y="-244080"/>
            <a:ext cx="144000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  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篆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1" descr="7267"/>
          <p:cNvPicPr/>
          <p:nvPr/>
        </p:nvPicPr>
        <p:blipFill>
          <a:blip r:embed="rId1"/>
          <a:stretch/>
        </p:blipFill>
        <p:spPr>
          <a:xfrm>
            <a:off x="7956720" y="1341360"/>
            <a:ext cx="1187280" cy="118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7267"/>
          <p:cNvPicPr/>
          <p:nvPr/>
        </p:nvPicPr>
        <p:blipFill>
          <a:blip r:embed="rId2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7267"/>
          <p:cNvPicPr/>
          <p:nvPr/>
        </p:nvPicPr>
        <p:blipFill>
          <a:blip r:embed="rId3"/>
          <a:stretch/>
        </p:blipFill>
        <p:spPr>
          <a:xfrm>
            <a:off x="7956720" y="278136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xinsrc_23201062210161252574217"/>
          <p:cNvPicPr/>
          <p:nvPr/>
        </p:nvPicPr>
        <p:blipFill>
          <a:blip r:embed="rId4"/>
          <a:stretch/>
        </p:blipFill>
        <p:spPr>
          <a:xfrm>
            <a:off x="0" y="0"/>
            <a:ext cx="5148360" cy="4022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6"/>
          <p:cNvSpPr/>
          <p:nvPr/>
        </p:nvSpPr>
        <p:spPr>
          <a:xfrm>
            <a:off x="-1476360" y="4580280"/>
            <a:ext cx="95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pū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手拿棍棒牧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牧牲畜。后引申为管理、治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童     畜牧       州牧（古代治民之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牧民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放牧为生的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政府治理人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710440" y="39330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養牛人也。从攴从牛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xin_16202072215236401267088"/>
          <p:cNvPicPr/>
          <p:nvPr/>
        </p:nvPicPr>
        <p:blipFill>
          <a:blip r:embed="rId1"/>
          <a:stretch/>
        </p:blipFill>
        <p:spPr>
          <a:xfrm>
            <a:off x="0" y="0"/>
            <a:ext cx="5184720" cy="3914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5461920" y="260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7281"/>
          <p:cNvPicPr/>
          <p:nvPr/>
        </p:nvPicPr>
        <p:blipFill>
          <a:blip r:embed="rId2"/>
          <a:stretch/>
        </p:blipFill>
        <p:spPr>
          <a:xfrm>
            <a:off x="6516720" y="18900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8"/>
          <p:cNvSpPr/>
          <p:nvPr/>
        </p:nvSpPr>
        <p:spPr>
          <a:xfrm>
            <a:off x="570528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43960" y="2938320"/>
            <a:ext cx="22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牛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指耕地的工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398960" y="4828320"/>
            <a:ext cx="320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田   犁地   犁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5965200" y="549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726F"/>
          <p:cNvPicPr/>
          <p:nvPr/>
        </p:nvPicPr>
        <p:blipFill>
          <a:blip r:embed="rId1"/>
          <a:stretch/>
        </p:blipFill>
        <p:spPr>
          <a:xfrm>
            <a:off x="7093080" y="0"/>
            <a:ext cx="1692000" cy="1692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989680" y="-3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6266520" y="2636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集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u=1090197910,3923126065&amp;fm=52&amp;gp=0"/>
          <p:cNvPicPr/>
          <p:nvPr/>
        </p:nvPicPr>
        <p:blipFill>
          <a:blip r:embed="rId2"/>
          <a:stretch/>
        </p:blipFill>
        <p:spPr>
          <a:xfrm>
            <a:off x="539640" y="54936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7266"/>
          <p:cNvPicPr/>
          <p:nvPr/>
        </p:nvPicPr>
        <p:blipFill>
          <a:blip r:embed="rId1"/>
          <a:stretch/>
        </p:blipFill>
        <p:spPr>
          <a:xfrm>
            <a:off x="7164360" y="47628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5149800" y="40356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á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292720" y="119700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2009061009090965"/>
          <p:cNvPicPr/>
          <p:nvPr/>
        </p:nvPicPr>
        <p:blipFill>
          <a:blip r:embed="rId2"/>
          <a:stretch/>
        </p:blipFill>
        <p:spPr>
          <a:xfrm>
            <a:off x="250920" y="189000"/>
            <a:ext cx="4995720" cy="3689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2431440" y="4365000"/>
            <a:ext cx="353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种牛，全身有长毛，腿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国青藏高原地区出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地人民用来拉犁和驮运货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6325560" y="333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727A"/>
          <p:cNvPicPr/>
          <p:nvPr/>
        </p:nvPicPr>
        <p:blipFill>
          <a:blip r:embed="rId1"/>
          <a:stretch/>
        </p:blipFill>
        <p:spPr>
          <a:xfrm>
            <a:off x="7164360" y="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9"/>
          <p:cNvSpPr/>
          <p:nvPr/>
        </p:nvSpPr>
        <p:spPr>
          <a:xfrm>
            <a:off x="197640" y="4004280"/>
            <a:ext cx="631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用的纯色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用的纯色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供宴飨或祭祀用的牛、羊、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牺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时掌管牺牲的官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W020081127634788869623"/>
          <p:cNvPicPr/>
          <p:nvPr/>
        </p:nvPicPr>
        <p:blipFill>
          <a:blip r:embed="rId2"/>
          <a:stretch/>
        </p:blipFill>
        <p:spPr>
          <a:xfrm>
            <a:off x="324000" y="260280"/>
            <a:ext cx="4751280" cy="35514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6457680" y="22042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宗廟之牲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598440" y="2923200"/>
            <a:ext cx="123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祭品用的毛色纯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牲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460760" y="5950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引申为放弃或损失个人利益或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227640" y="194760"/>
            <a:ext cx="18226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25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7272"/>
          <p:cNvPicPr/>
          <p:nvPr/>
        </p:nvPicPr>
        <p:blipFill>
          <a:blip r:embed="rId1"/>
          <a:stretch/>
        </p:blipFill>
        <p:spPr>
          <a:xfrm>
            <a:off x="7667640" y="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7272"/>
          <p:cNvPicPr/>
          <p:nvPr/>
        </p:nvPicPr>
        <p:blipFill>
          <a:blip r:embed="rId2"/>
          <a:stretch/>
        </p:blipFill>
        <p:spPr>
          <a:xfrm>
            <a:off x="7596360" y="130500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3"/>
          <p:cNvSpPr/>
          <p:nvPr/>
        </p:nvSpPr>
        <p:spPr>
          <a:xfrm>
            <a:off x="6108120" y="364392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供祭祀用的全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6629400" y="29232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牛完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6" descr="1311507436244"/>
          <p:cNvPicPr/>
          <p:nvPr/>
        </p:nvPicPr>
        <p:blipFill>
          <a:blip r:embed="rId3"/>
          <a:stretch/>
        </p:blipFill>
        <p:spPr>
          <a:xfrm>
            <a:off x="0" y="0"/>
            <a:ext cx="5472000" cy="3645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8"/>
          <p:cNvSpPr/>
          <p:nvPr/>
        </p:nvSpPr>
        <p:spPr>
          <a:xfrm>
            <a:off x="324000" y="378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烤全牛祭祀圣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5864760" y="404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250920" y="4149000"/>
            <a:ext cx="68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泛指供祭祀、盟誓及食用的家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324000" y="5157000"/>
            <a:ext cx="79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时祭祀用的牺牲的躯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祭祀时的用牲之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祭祀中有关准备牺牲的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牲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ēngch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6253920" y="1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7279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2548800" y="134100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朴特，牛父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2153520" y="3428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性的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2126880" y="2420280"/>
            <a:ext cx="30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牡牛也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2354400" y="4291560"/>
            <a:ext cx="41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郊特牲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郊者，祭天之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一牛，故曰特牲。所以特也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一之义，也就是特别、独特的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793680" y="343440"/>
            <a:ext cx="1845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铺横野六七里，笛弄晚风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饱饭黄昏后，不脱蓑衣卧月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3" descr="729F"/>
          <p:cNvPicPr/>
          <p:nvPr/>
        </p:nvPicPr>
        <p:blipFill>
          <a:blip r:embed="rId1"/>
          <a:stretch/>
        </p:blipFill>
        <p:spPr>
          <a:xfrm>
            <a:off x="2843280" y="333360"/>
            <a:ext cx="2266920" cy="22669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4"/>
          <p:cNvSpPr/>
          <p:nvPr/>
        </p:nvSpPr>
        <p:spPr>
          <a:xfrm>
            <a:off x="2002680" y="94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"/>
              </a:rPr>
              <a:t>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1833480" y="33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à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2433960" y="4004640"/>
            <a:ext cx="379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犟牛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喻指倔强之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犟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顶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3398760" y="278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脾气固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gucn_20100818150828231159pic1"/>
          <p:cNvPicPr/>
          <p:nvPr/>
        </p:nvPicPr>
        <p:blipFill>
          <a:blip r:embed="rId1"/>
          <a:stretch/>
        </p:blipFill>
        <p:spPr>
          <a:xfrm>
            <a:off x="324000" y="333360"/>
            <a:ext cx="4267080" cy="568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4788000" y="1125360"/>
            <a:ext cx="262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蓑衣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8199"/>
          <p:cNvSpPr/>
          <p:nvPr/>
        </p:nvSpPr>
        <p:spPr>
          <a:xfrm>
            <a:off x="2700360" y="6165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"/>
          <p:cNvSpPr/>
          <p:nvPr/>
        </p:nvSpPr>
        <p:spPr>
          <a:xfrm>
            <a:off x="1279080" y="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哀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区别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45448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4974120" y="242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045400" y="4076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5045400" y="981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3924360" y="1484280"/>
            <a:ext cx="216000" cy="3382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7840 h 3382920"/>
              <a:gd name="textAreaBottom" fmla="*/ 3295080 h 33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156360" y="26852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215760" y="112464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uā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6358680" y="4436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2473200" y="40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古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780120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7801200" y="429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5550120" y="260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54C0"/>
          <p:cNvPicPr/>
          <p:nvPr/>
        </p:nvPicPr>
        <p:blipFill>
          <a:blip r:embed="rId1"/>
          <a:stretch/>
        </p:blipFill>
        <p:spPr>
          <a:xfrm>
            <a:off x="7451640" y="0"/>
            <a:ext cx="1525680" cy="1525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54C0"/>
          <p:cNvPicPr/>
          <p:nvPr/>
        </p:nvPicPr>
        <p:blipFill>
          <a:blip r:embed="rId2"/>
          <a:stretch/>
        </p:blipFill>
        <p:spPr>
          <a:xfrm>
            <a:off x="7618320" y="1413000"/>
            <a:ext cx="1525680" cy="1525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6857640" y="76500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5005080" y="4004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6" descr="s32_26000229-673x447"/>
          <p:cNvPicPr/>
          <p:nvPr/>
        </p:nvPicPr>
        <p:blipFill>
          <a:blip r:embed="rId3"/>
          <a:stretch/>
        </p:blipFill>
        <p:spPr>
          <a:xfrm>
            <a:off x="-612720" y="0"/>
            <a:ext cx="5616360" cy="50846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7"/>
          <p:cNvSpPr/>
          <p:nvPr/>
        </p:nvSpPr>
        <p:spPr>
          <a:xfrm>
            <a:off x="5870880" y="314100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悯也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口衣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6236280" y="3789000"/>
            <a:ext cx="180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义为怜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申为悲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悲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1843560" y="5229360"/>
            <a:ext cx="39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哀兵必胜  哀而不伤  哀鸿遍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哀莫大于心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621760" y="476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764400" y="98100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金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8870"/>
          <p:cNvPicPr/>
          <p:nvPr/>
        </p:nvPicPr>
        <p:blipFill>
          <a:blip r:embed="rId1"/>
          <a:stretch/>
        </p:blipFill>
        <p:spPr>
          <a:xfrm>
            <a:off x="745164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8870"/>
          <p:cNvPicPr/>
          <p:nvPr/>
        </p:nvPicPr>
        <p:blipFill>
          <a:blip r:embed="rId2"/>
          <a:stretch/>
        </p:blipFill>
        <p:spPr>
          <a:xfrm>
            <a:off x="7524720" y="1557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2"/>
          <p:cNvSpPr/>
          <p:nvPr/>
        </p:nvSpPr>
        <p:spPr>
          <a:xfrm>
            <a:off x="-264240" y="3933720"/>
            <a:ext cx="745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rǎ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“冄”象草毛茸茸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“蓑衣”的“蓑”的本字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本义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申为力量减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衰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落。所以“衰”为“蓑”的本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衰”现在用于衰落讲，为区分把衰加草字头 为“蓑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365880" y="187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uā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5" descr="12814197364c60e9d80c24f"/>
          <p:cNvPicPr/>
          <p:nvPr/>
        </p:nvPicPr>
        <p:blipFill>
          <a:blip r:embed="rId3"/>
          <a:stretch/>
        </p:blipFill>
        <p:spPr>
          <a:xfrm>
            <a:off x="324000" y="0"/>
            <a:ext cx="4332240" cy="37497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8"/>
          <p:cNvSpPr/>
          <p:nvPr/>
        </p:nvSpPr>
        <p:spPr>
          <a:xfrm>
            <a:off x="4673880" y="321228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艸（草）雨衣。从衣，象形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5003640" y="1879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7" descr="8870"/>
          <p:cNvPicPr/>
          <p:nvPr/>
        </p:nvPicPr>
        <p:blipFill>
          <a:blip r:embed="rId4"/>
          <a:stretch/>
        </p:blipFill>
        <p:spPr>
          <a:xfrm>
            <a:off x="7451640" y="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8" descr="8870"/>
          <p:cNvPicPr/>
          <p:nvPr/>
        </p:nvPicPr>
        <p:blipFill>
          <a:blip r:embed="rId5"/>
          <a:stretch/>
        </p:blipFill>
        <p:spPr>
          <a:xfrm>
            <a:off x="7524720" y="1557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8"/>
          <p:cNvSpPr/>
          <p:nvPr/>
        </p:nvSpPr>
        <p:spPr>
          <a:xfrm>
            <a:off x="6577920" y="692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99"/>
                </a:solidFill>
                <a:latin typeface="Arial"/>
                <a:ea typeface="楷体"/>
              </a:rPr>
              <a:t>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6501600" y="18828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7E17"/>
          <p:cNvPicPr/>
          <p:nvPr/>
        </p:nvPicPr>
        <p:blipFill>
          <a:blip r:embed="rId1"/>
          <a:stretch/>
        </p:blipFill>
        <p:spPr>
          <a:xfrm>
            <a:off x="7308720" y="189000"/>
            <a:ext cx="1582920" cy="15825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-1019160" y="3427920"/>
            <a:ext cx="7824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丧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哭丧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丧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大到小依照一定的标准递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古代数学名词。谓从大渐差而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一定比数递减的次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衰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土地之差等以征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3359160" y="27802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衣。長六寸，博四寸，直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3750120" y="836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</a:rPr>
              <a:t>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651640" y="981000"/>
            <a:ext cx="976320" cy="486000"/>
          </a:xfrm>
          <a:prstGeom prst="rightArrow">
            <a:avLst>
              <a:gd name="adj1" fmla="val 50000"/>
              <a:gd name="adj2" fmla="val 50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1707480" y="6021360"/>
            <a:ext cx="62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衰”现在用于衰落讲，为区分把衰加绞丝旁 为“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9" descr="8870"/>
          <p:cNvPicPr/>
          <p:nvPr/>
        </p:nvPicPr>
        <p:blipFill>
          <a:blip r:embed="rId2"/>
          <a:stretch/>
        </p:blipFill>
        <p:spPr>
          <a:xfrm>
            <a:off x="457200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8870"/>
          <p:cNvPicPr/>
          <p:nvPr/>
        </p:nvPicPr>
        <p:blipFill>
          <a:blip r:embed="rId3"/>
          <a:stretch/>
        </p:blipFill>
        <p:spPr>
          <a:xfrm>
            <a:off x="4572000" y="134136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449000" y="343440"/>
            <a:ext cx="654156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（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横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七里，笛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饱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昏后，不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蓑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卧月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AAC6-6AA2-4EE6-A3CF-E5F0575380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395280" y="851760"/>
            <a:ext cx="8748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铺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横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辽阔的原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逗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饱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吃饱了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蓑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棕或草编织的外衣，用来遮风避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卧月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躺着观看明亮的月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68360" y="28090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吕岩，字洞宾，唐代京兆人。他考过科举，做过县令。后来唐代暴发了黄巢领导的农民起义，时局动荡，吕洞宾就带家人躲入山中修道。最后不知去向，传说他已经得道成了神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906200" y="343440"/>
            <a:ext cx="562716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牧  童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吕 岩（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横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七里，笛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四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归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饱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黄昏后，不脱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蓑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卧月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199"/>
          <p:cNvSpPr/>
          <p:nvPr/>
        </p:nvSpPr>
        <p:spPr>
          <a:xfrm>
            <a:off x="755640" y="5373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5"/>
          <p:cNvSpPr/>
          <p:nvPr/>
        </p:nvSpPr>
        <p:spPr>
          <a:xfrm>
            <a:off x="197964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2033332N6-1"/>
          <p:cNvPicPr/>
          <p:nvPr/>
        </p:nvPicPr>
        <p:blipFill>
          <a:blip r:embed="rId1"/>
          <a:stretch/>
        </p:blipFill>
        <p:spPr>
          <a:xfrm>
            <a:off x="1258920" y="-243000"/>
            <a:ext cx="680400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0023aeaa687b0c92f68627"/>
          <p:cNvPicPr/>
          <p:nvPr/>
        </p:nvPicPr>
        <p:blipFill>
          <a:blip r:embed="rId1"/>
          <a:stretch/>
        </p:blipFill>
        <p:spPr>
          <a:xfrm>
            <a:off x="250920" y="333360"/>
            <a:ext cx="6372000" cy="5261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97600" y="1197000"/>
            <a:ext cx="1095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牧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"/>
              </a:rPr>
              <a:t>童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48480" y="112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"/>
              </a:rPr>
              <a:t>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187280" y="141300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0" y="1413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59684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405200" y="4349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333560" y="2693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437560" y="27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437080" y="3429000"/>
            <a:ext cx="503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4596840" y="450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250920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2437560" y="4437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726228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9"/>
          <p:cNvSpPr/>
          <p:nvPr/>
        </p:nvSpPr>
        <p:spPr>
          <a:xfrm>
            <a:off x="4525200" y="270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0"/>
          <p:cNvSpPr/>
          <p:nvPr/>
        </p:nvSpPr>
        <p:spPr>
          <a:xfrm>
            <a:off x="726228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1"/>
          <p:cNvSpPr/>
          <p:nvPr/>
        </p:nvSpPr>
        <p:spPr>
          <a:xfrm>
            <a:off x="459684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725B"/>
          <p:cNvPicPr/>
          <p:nvPr/>
        </p:nvPicPr>
        <p:blipFill>
          <a:blip r:embed="rId1"/>
          <a:stretch/>
        </p:blipFill>
        <p:spPr>
          <a:xfrm>
            <a:off x="6732720" y="1989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34"/>
          <p:cNvPicPr/>
          <p:nvPr/>
        </p:nvPicPr>
        <p:blipFill>
          <a:blip r:embed="rId2"/>
          <a:stretch/>
        </p:blipFill>
        <p:spPr>
          <a:xfrm>
            <a:off x="6516720" y="1890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923040" y="3859920"/>
            <a:ext cx="38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骨文字形作“牜”。中间一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牛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面两竖加弯表牛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两小撇表示牛耳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725B"/>
          <p:cNvPicPr/>
          <p:nvPr/>
        </p:nvPicPr>
        <p:blipFill>
          <a:blip r:embed="rId3"/>
          <a:stretch/>
        </p:blipFill>
        <p:spPr>
          <a:xfrm>
            <a:off x="6732720" y="33577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2008412223917234_2"/>
          <p:cNvPicPr/>
          <p:nvPr/>
        </p:nvPicPr>
        <p:blipFill>
          <a:blip r:embed="rId4"/>
          <a:stretch/>
        </p:blipFill>
        <p:spPr>
          <a:xfrm>
            <a:off x="0" y="404640"/>
            <a:ext cx="5256360" cy="3311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1185480" y="5546880"/>
            <a:ext cx="670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汗牛充栋    </a:t>
            </a:r>
            <a:r>
              <a:rPr b="0" lang="zh-CN" sz="4000" spc="-1" strike="noStrike">
                <a:solidFill>
                  <a:srgbClr val="333399"/>
                </a:solidFill>
                <a:latin typeface="楷体"/>
                <a:ea typeface="楷体"/>
              </a:rPr>
              <a:t>九牛一毛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对牛弹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目无全牛   九牛二虎之力  牛刀小试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04280" y="37893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5"/>
          <p:cNvPicPr/>
          <p:nvPr/>
        </p:nvPicPr>
        <p:blipFill>
          <a:blip r:embed="rId1"/>
          <a:stretch/>
        </p:blipFill>
        <p:spPr>
          <a:xfrm>
            <a:off x="6948360" y="378936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7262"/>
          <p:cNvPicPr/>
          <p:nvPr/>
        </p:nvPicPr>
        <p:blipFill>
          <a:blip r:embed="rId2"/>
          <a:stretch/>
        </p:blipFill>
        <p:spPr>
          <a:xfrm>
            <a:off x="6877080" y="33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4"/>
          <p:cNvPicPr/>
          <p:nvPr/>
        </p:nvPicPr>
        <p:blipFill>
          <a:blip r:embed="rId3"/>
          <a:stretch/>
        </p:blipFill>
        <p:spPr>
          <a:xfrm>
            <a:off x="6804000" y="206064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5"/>
          <p:cNvSpPr/>
          <p:nvPr/>
        </p:nvSpPr>
        <p:spPr>
          <a:xfrm>
            <a:off x="4859280" y="333360"/>
            <a:ext cx="18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甲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金 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01300001005810130156148050565"/>
          <p:cNvPicPr/>
          <p:nvPr/>
        </p:nvPicPr>
        <p:blipFill>
          <a:blip r:embed="rId4"/>
          <a:stretch/>
        </p:blipFill>
        <p:spPr>
          <a:xfrm>
            <a:off x="0" y="0"/>
            <a:ext cx="5292720" cy="3970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2116080" y="3789360"/>
            <a:ext cx="2527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牲口的圈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后引申为牢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坚固含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880640" y="5876280"/>
            <a:ext cx="503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地为牢    牢不可破    牢甲利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55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21Z</dcterms:modified>
  <cp:revision>1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