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whoosh.wav" ContentType="audio/x-wav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913-B35A-4EF0-A88F-E6E84C21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658-3595-44D9-A619-3EA29188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3C51E-B437-4A42-90C4-D58895F3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79848-7984-41A8-BEB9-742DE5FA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8F9FE-1ABE-4EE4-A67D-53458712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CA195-FAAC-4672-A9D1-9CD62E6B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97326-904C-42AA-AE05-BAA722B1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9D688-80FC-4904-BBB9-389835D2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22A2A-C808-4B49-8B81-A28BA9AA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CF940-9283-4181-8AB7-3AFC5386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B4056-FC4D-4FDC-A97B-FB59C6FE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200A7-01CD-41A8-88D0-8295C791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80A-04BA-41DF-9853-2D3B47D3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5853A-1667-4012-9E5E-6C489434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B1DC7-A95F-4597-87B8-69B69E44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CA518-A299-4874-8828-9EADFBBD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07F84-D91D-4A79-BD91-247D37B2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D5ED6-A662-4F46-BFDB-03DABB7D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74077-061D-48CA-A599-F255F674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23F3F-8411-4B6B-B115-2B6FF17E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233AC-A7CB-4BA4-AB1F-D2A4BC9C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036B4-3BFA-4DFE-8219-E0A56AEF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4B999-86F5-412A-B79E-AA9FDE22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022-CE24-4ABC-9BD8-5427EF68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DABA4-6D2E-4E01-AF62-437C60C3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F95A7-1E48-46B9-BF8C-BE15692D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9E6AD-D317-448D-AB6C-A5D04D6B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C1690-1EE5-409D-A14E-727992AB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4E2DD-F3A4-4E71-B1B5-285B4A3F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9CFEC-ADFF-4490-9F46-BA20F154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5703F-75C9-4BA6-A60C-2C9DFE03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413BC-E17D-4AE3-BDC9-B60E0993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07586-5F99-458C-8E2F-06E02FCA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A5BA4-31D3-4FE8-9918-FB23D16F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42F2-54D1-43A1-AAD5-685B3D95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6507C-F460-49A0-811D-495B93A3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A4DF7-E363-4B3A-915D-9FAADAE0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80843-371A-449F-BAB0-7D61585F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F9644-F42D-49C8-9D5B-EC7D2708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359D3-A878-45AB-9F0A-2C159AC4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9EDE7-8691-478E-A9AD-64FD45CC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6E8AD-FE84-4D1D-9754-872FD426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354EE-FBCE-4BE3-AFCD-A0D65F09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34173-8431-4616-AB87-1B8D272A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CB17A-D2A7-4077-B412-F245E0E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4D99-34D3-4CEB-8433-39E1A24F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D5ED4-6EE7-46CF-9AF9-B0F86F7D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490CA-208C-48B2-8DB0-0228634D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01EFB-CC8C-4BBF-B8F5-316C44B5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F4960-DBD0-4172-8096-0791DA0A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17C85-BF90-43C3-94A1-D5B9CF90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01018-8728-4270-A2BE-10DBC682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D126E-EADE-4E24-9EBE-B514D2BE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38C91-CBB2-4C45-A8F9-22DE8010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E1E18-E590-4FF8-9A5A-FAB3E4C3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71761-58E8-4E15-AECD-1E77E3D5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CA70-BA6B-432D-ABAD-3AED65C8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5E3C4-F519-4988-84D2-318931B5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EE180-5205-482C-B141-22E161F8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0162B-1E00-47D3-9C63-94C955AC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0F119-F03A-4B62-9070-9684C3F1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D4693-B0D9-4D5E-9D82-0D4D2811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F8FB6-15D7-4F6D-9DEA-AE0A331A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09B95-DE71-47CA-83BE-7C4C83A7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AD02D-B13C-4D80-ADA3-8D0D0DAC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FB3EA4-1B73-4722-9DD0-FBE21A71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C9EFD-586F-427D-A74F-90680592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E031-FFFB-43A2-B18F-85BC16A8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07232-8BCD-4831-B3A6-0B6D5D36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BCD3F-F06E-4341-B518-B6E559B9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269CB6-448F-45F4-AF52-FAC1F704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A60A94-7400-43CB-A376-CDA6DE0D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A89A1-3DA8-4EF9-A871-11487E09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9FDB9-4013-4435-97DD-1CBD43F5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B1119-2FF8-47FA-A46B-4572B6CD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9508A5-11FF-4B2B-A4A0-DEBEE224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AE53A3-D167-4EE5-B869-48DACCD7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8BD9DD-7DA4-48A4-8D04-A16770BE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B33A-57C4-4847-9CD5-A2FEE479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8DDBBA-A760-4382-95D6-996532AC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BEA597-C7E2-4022-A854-EA652ABE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67E71D-9729-4E41-B5FD-13DF23CF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6F91E-D241-4792-B75B-B7B18438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55C49D-D112-416B-AB05-C6C7AC46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6C6E44-205F-4CED-9C01-D3940A45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3DB52-821D-44A9-A9AA-4558A165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BA9054-6659-4DD8-962E-DB345526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989BE-6747-4BD5-96F0-F7A213ED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14A6FA-6359-47C4-B4C4-2F42D5AB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EACA-6927-41D2-B0BC-9335468B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361035-ACFF-4812-B6A7-67191942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9B62-A6E2-4372-9396-9378294C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721-37B7-4199-A6D0-EA98182C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AF34-57CF-4E5E-BFF1-1FED7321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8D03-298D-49FD-9294-694B33C2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8F38-E4D5-4B19-B86D-0070AF2F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3198-A3BF-4A1C-98EC-784DF53F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6ADB-6036-42CE-AFA5-F7FC4A9A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89972-BDD6-4280-8BC1-BE993EFB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1665-D8A6-4FCD-A5DF-5C612168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636F6-6307-443D-9D2E-07DAE660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B317-CC90-4AC6-8E2A-056337E9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C636-4C30-4FEE-803D-2EE431DB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3C0-0063-4CC1-BF22-72FD7CB2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405F-DF23-4F76-B6FC-FBC8D4FB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464E-8CE6-4BC6-92E4-D0B6860E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24670-3B27-4FF5-8651-70AD7D3C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D14E6-455F-473A-87BA-DEA9E439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DD2E0-9254-4E63-BF81-7CFFF49F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95C18-DC3C-48D7-AF81-9B76A8B1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1DC2-FDC8-47CB-AD5D-D6B8DFF6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13D71-E51C-46BE-AB51-8C82DD00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536F2-34D8-4D5F-A492-2954F985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22A95-A2B7-4118-BDDF-6EE15D42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937-F5EE-4A0B-8B5E-6BC38638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4B59D-6439-459D-B446-FDFB7BF6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55D2F-2AED-4BEE-9997-724DB101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4E83-6D05-411E-BB05-D71B0042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92458-8EFA-44D9-B2D3-5725FBB0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21F92-483E-495A-A3D8-8734DB55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6276C-7BE4-492F-B182-D396F042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1EB5-DCDE-4E69-B47B-6501CDC3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25558-61AA-4F17-B872-ABD86FEF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9F4AF-AC58-4BB4-860E-5947E75D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466B9-CEBF-4185-B5A7-7E7AD053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731-75C2-4491-A51F-DD5473AD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6F251-1A34-42E1-BEE3-1E008E40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DCF4E-11B7-4A64-9D7F-36D80EDB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47C71-E7BD-4876-8F53-56B2E019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CF01A-30E7-4157-B491-435CF9FF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4BACC-6642-439C-AC7C-7852401E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9A92F-26E6-4951-998E-4B1EF0A9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76668-2697-4A45-B897-E5ED09E9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4EA9E-A0AB-4BD4-8A89-4263CC33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EFEC1-33C0-4B9B-A57A-CB405964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D442F-308B-42BE-9DE8-2726834E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989-8243-449C-B355-73576956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44F47-799D-4040-836B-2674FA26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604DE-F782-4F69-9EAE-F6174A1F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4CBC8-8656-4749-A3B2-94FB82B7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4151C-FD02-4503-8702-3CE50E2F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DF576-D9F6-4917-9DD2-9E45AFFF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600B8-1991-44F2-846B-A87CA1EE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BDA67-14BB-4DE6-9309-BD37DC9E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81264-0DC9-4E84-8043-F018C998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4CADF-4F76-4291-B99E-390ECE4D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109B2-6BF0-4C9F-9AE3-002D7DEC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AF6-BEC9-4EBC-8B13-B989B5A4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BED55-36CC-4C23-96D6-B829FF07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75C80-51E3-4532-B984-ACF4CA94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AC1A0-4F32-4493-A996-64CB54E9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555F9-9468-4C8D-8A32-625A317B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D9679-185D-47D3-8015-22CEB939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8C19B-4F99-4436-9973-CCDDA1C5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24A15-F0F6-4BDE-9B0E-08CC6FB6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4906D-3811-4038-ACD2-A97BA1F3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369F3-EB41-45F6-8631-7F2C1BA7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8B946-065C-4DC3-BE09-DADD335B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654-2DDA-4970-AB38-BA9E9671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546AD-AAD5-489A-B84E-64613868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8A6F7-7442-4ECB-994F-D59966CB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D6748-46D8-4902-8300-151D5B32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D2E4A-65F3-4902-91E3-7031D126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1D985-0D4C-4E9D-A386-069118BB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51389-0346-4C86-B1F2-4BC462A0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4CD30-6C28-4BF4-8898-CD6160C8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F7465-E741-48CF-827B-66F0AABC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7E432-64D7-452F-ACD7-980695D7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FE57D-42C6-4024-A30B-E7C9A753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1C5-FDC4-40BF-BB84-DD681906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9D6F6-1669-4C69-92F9-649AD0B2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DDD3B-3A2F-448A-80DD-A77B1873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B66C0-FB19-4B9A-8937-888E4007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780AD-6C2A-465C-98C5-E75F2FE6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182F0-6F44-4C07-B5B9-3A309B7C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5BB52-3B6E-49E9-AE85-C17D5120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1DFFE-547D-41F1-809D-AA23BD4D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1AD84-F5D9-400C-951A-B004649A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717A7-D1E9-4D74-9E22-86A8E0CD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6365D-9349-44E3-A2B5-A78A0A24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DA00-546B-4461-8F21-7CA89FC8C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FC93-FE05-4466-922B-189C45B96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6DA2-9DF4-446F-B334-A5677B885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068E-2574-4F17-84A1-E90A9FDB0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9090-5F7E-4485-98C5-AF8414ECC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A357-4D98-47A1-9234-AA6F88358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CD26-311E-474B-BF36-F22C1EED6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9DEB-390D-47DF-9B7B-E2836C04FD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231A-578B-46FD-A8BD-E7D8E8464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6D48-B23F-454D-905C-7646BA1FA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31ED-7D6C-4584-B819-36CEB10DB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71C0-8605-46DC-807C-0811BE971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C020-F5FC-42FD-9D66-6BB205B6D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9533-D0C4-4888-9C3D-C81DD6874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25C8-059B-4BBA-9B52-3A64C9E8A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3"/>
          <p:cNvSpPr txBox="1"/>
          <p:nvPr/>
        </p:nvSpPr>
        <p:spPr>
          <a:xfrm>
            <a:off x="1027080" y="1916280"/>
            <a:ext cx="716292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第二节  免疫与计划免疫</a:t>
            </a: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免费下载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468360" y="2781360"/>
            <a:ext cx="799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受抗原刺激后产生的能抵抗病原体的特殊蛋白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3"/>
          <p:cNvSpPr/>
          <p:nvPr/>
        </p:nvSpPr>
        <p:spPr>
          <a:xfrm>
            <a:off x="747000" y="838080"/>
            <a:ext cx="140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3300"/>
                </a:solidFill>
                <a:latin typeface="黑体"/>
                <a:ea typeface="黑体"/>
              </a:rPr>
              <a:t>抗 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文本框 8199"/>
          <p:cNvSpPr/>
          <p:nvPr/>
        </p:nvSpPr>
        <p:spPr>
          <a:xfrm>
            <a:off x="895320" y="2098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944892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黑体"/>
              </a:rPr>
              <a:t>非特异性免疫和特异性免疫的区别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533520" y="1330200"/>
          <a:ext cx="8154720" cy="4248000"/>
        </p:xfrm>
        <a:graphic>
          <a:graphicData uri="http://schemas.openxmlformats.org/drawingml/2006/table">
            <a:tbl>
              <a:tblPr/>
              <a:tblGrid>
                <a:gridCol w="1153800"/>
                <a:gridCol w="3247920"/>
                <a:gridCol w="375300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非特异性免疫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特异性免疫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9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范围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特性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形成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Text Box 29"/>
          <p:cNvSpPr/>
          <p:nvPr/>
        </p:nvSpPr>
        <p:spPr>
          <a:xfrm>
            <a:off x="1920960" y="2050920"/>
            <a:ext cx="316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机体对体内外异物都可以发生免疫反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30"/>
          <p:cNvSpPr/>
          <p:nvPr/>
        </p:nvSpPr>
        <p:spPr>
          <a:xfrm>
            <a:off x="5448240" y="205092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机体仅对某一异物（抗原）产生免疫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1"/>
          <p:cNvSpPr/>
          <p:nvPr/>
        </p:nvSpPr>
        <p:spPr>
          <a:xfrm>
            <a:off x="2063880" y="349092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非专一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32"/>
          <p:cNvSpPr/>
          <p:nvPr/>
        </p:nvSpPr>
        <p:spPr>
          <a:xfrm>
            <a:off x="5808600" y="3490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专一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3"/>
          <p:cNvSpPr/>
          <p:nvPr/>
        </p:nvSpPr>
        <p:spPr>
          <a:xfrm>
            <a:off x="1992240" y="421020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生来就有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34"/>
          <p:cNvSpPr/>
          <p:nvPr/>
        </p:nvSpPr>
        <p:spPr>
          <a:xfrm>
            <a:off x="5305320" y="42102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后天逐渐形成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5"/>
          <p:cNvSpPr/>
          <p:nvPr/>
        </p:nvSpPr>
        <p:spPr>
          <a:xfrm>
            <a:off x="2568600" y="4859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6"/>
          <p:cNvSpPr/>
          <p:nvPr/>
        </p:nvSpPr>
        <p:spPr>
          <a:xfrm>
            <a:off x="6240600" y="49165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37"/>
          <p:cNvSpPr/>
          <p:nvPr/>
        </p:nvSpPr>
        <p:spPr>
          <a:xfrm>
            <a:off x="2256480" y="5484960"/>
            <a:ext cx="551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非特异性免疫和恃异性免疫共同构成人体总的防御功能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后者是在前者的基础上产生的。非特异性免疫和特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免疫不可分开，相辅相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-1440" y="23760"/>
            <a:ext cx="88200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反馈练习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5" name="Text Box 3"/>
          <p:cNvSpPr/>
          <p:nvPr/>
        </p:nvSpPr>
        <p:spPr>
          <a:xfrm>
            <a:off x="3410280" y="890640"/>
            <a:ext cx="19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列皮肤的作用中，属于免疫作用的是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防止细菌侵入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防止水分蒸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感受外界刺激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调节体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2862720" y="2330280"/>
            <a:ext cx="227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人体内可以吞噬和消灭病原体的是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呼吸道黏膜   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淋巴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抗体和抗原   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吞噬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3093840" y="3772080"/>
            <a:ext cx="19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列现象中，属于特异性免疫的是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唾液的杀菌作用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接种百白破疫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白细胞吞噬病菌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皮肤的屏障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2597760" y="5283360"/>
            <a:ext cx="291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免疫细胞主要是                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吞噬细胞         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腺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上皮细胞         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淋巴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7"/>
          <p:cNvSpPr/>
          <p:nvPr/>
        </p:nvSpPr>
        <p:spPr>
          <a:xfrm>
            <a:off x="6535080" y="22669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6550200" y="363528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7338600" y="75564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0"/>
          <p:cNvSpPr/>
          <p:nvPr/>
        </p:nvSpPr>
        <p:spPr>
          <a:xfrm>
            <a:off x="6751080" y="514836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A9C5-A698-415E-A2FF-AFDCA9183B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"/>
          <p:cNvSpPr/>
          <p:nvPr/>
        </p:nvSpPr>
        <p:spPr>
          <a:xfrm>
            <a:off x="2460960" y="806400"/>
            <a:ext cx="264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呼吸道黏膜上纤毛的作用是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杀菌作用       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清扫异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吞噬病菌       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保护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2676960" y="2330280"/>
            <a:ext cx="291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列关于抗体的叙述，不正确的是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在体内存留时间有长有短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是一种特殊的蛋白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能破坏和排斥所有病原体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是在抗原刺激下产生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395280" y="4941720"/>
            <a:ext cx="823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列结构中，不属于免疫器官的是（    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肝脏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脾脏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胸腺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淋巴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5608080" y="75888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6624360" y="227160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6763320" y="486900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10"/>
          <p:cNvSpPr/>
          <p:nvPr/>
        </p:nvSpPr>
        <p:spPr>
          <a:xfrm>
            <a:off x="0" y="0"/>
            <a:ext cx="8820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反馈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914400" y="1600200"/>
            <a:ext cx="8839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8125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468125"/>
                </a:solidFill>
                <a:latin typeface="黑体"/>
                <a:ea typeface="黑体"/>
              </a:rPr>
              <a:t>、人为什么会生病？</a:t>
            </a:r>
            <a:br>
              <a:rPr sz="4400"/>
            </a:br>
            <a:r>
              <a:rPr b="1" lang="en-US" sz="4400" spc="-1" strike="noStrike">
                <a:solidFill>
                  <a:srgbClr val="468125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468125"/>
                </a:solidFill>
                <a:latin typeface="黑体"/>
                <a:ea typeface="黑体"/>
              </a:rPr>
              <a:t>、为什么绝大多数人又不易生病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914400" y="4572000"/>
            <a:ext cx="5638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fe125"/>
                </a:solidFill>
                <a:latin typeface="黑体"/>
                <a:ea typeface="黑体"/>
              </a:rPr>
              <a:t>答案</a:t>
            </a:r>
            <a:r>
              <a:rPr b="1" lang="en-US" sz="4400" spc="-1" strike="noStrike">
                <a:solidFill>
                  <a:srgbClr val="cfe125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cfe125"/>
                </a:solidFill>
                <a:latin typeface="黑体"/>
                <a:ea typeface="黑体"/>
              </a:rPr>
              <a:t>：病原体入侵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838080" y="533412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cfe125"/>
                </a:solidFill>
                <a:latin typeface="黑体"/>
                <a:ea typeface="黑体"/>
              </a:rPr>
              <a:t>答案</a:t>
            </a:r>
            <a:r>
              <a:rPr b="1" lang="en-US" sz="4400" spc="-1" strike="noStrike">
                <a:solidFill>
                  <a:srgbClr val="cfe125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cfe125"/>
                </a:solidFill>
                <a:latin typeface="黑体"/>
                <a:ea typeface="黑体"/>
              </a:rPr>
              <a:t>：通常人有一定的抵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fe1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WordArt 5"/>
          <p:cNvSpPr txBox="1"/>
          <p:nvPr/>
        </p:nvSpPr>
        <p:spPr>
          <a:xfrm rot="741600">
            <a:off x="-1036440" y="1440"/>
            <a:ext cx="4421520" cy="18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876000"/>
                </a:gradFill>
                <a:latin typeface="华文琥珀"/>
              </a:rPr>
              <a:t>   </a:t>
            </a:r>
            <a:r>
              <a:rPr b="1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876000"/>
                </a:gradFill>
                <a:latin typeface="华文琥珀"/>
              </a:rPr>
              <a:t>问题</a:t>
            </a:r>
            <a:endParaRPr b="1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876000"/>
              </a:gradFill>
              <a:latin typeface="华文琥珀"/>
              <a:ea typeface="华文琥珀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2851920" y="8571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黑体"/>
              </a:rPr>
              <a:t>各种各样的细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3" descr="stevespir"/>
          <p:cNvPicPr/>
          <p:nvPr/>
        </p:nvPicPr>
        <p:blipFill>
          <a:blip r:embed="rId1"/>
          <a:stretch/>
        </p:blipFill>
        <p:spPr>
          <a:xfrm>
            <a:off x="1523880" y="1905120"/>
            <a:ext cx="7239240" cy="44830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" descr="LANZAO"/>
          <p:cNvPicPr/>
          <p:nvPr/>
        </p:nvPicPr>
        <p:blipFill>
          <a:blip r:embed="rId2"/>
          <a:stretch/>
        </p:blipFill>
        <p:spPr>
          <a:xfrm>
            <a:off x="1523880" y="1905120"/>
            <a:ext cx="7162920" cy="44812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XIJUN"/>
          <p:cNvPicPr/>
          <p:nvPr/>
        </p:nvPicPr>
        <p:blipFill>
          <a:blip r:embed="rId3"/>
          <a:stretch/>
        </p:blipFill>
        <p:spPr>
          <a:xfrm>
            <a:off x="1523880" y="1905120"/>
            <a:ext cx="7086600" cy="4381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P22"/>
          <p:cNvPicPr/>
          <p:nvPr/>
        </p:nvPicPr>
        <p:blipFill>
          <a:blip r:embed="rId1"/>
          <a:stretch/>
        </p:blipFill>
        <p:spPr>
          <a:xfrm>
            <a:off x="1905120" y="1981080"/>
            <a:ext cx="6933960" cy="45720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IMAGES1"/>
          <p:cNvPicPr/>
          <p:nvPr/>
        </p:nvPicPr>
        <p:blipFill>
          <a:blip r:embed="rId2"/>
          <a:stretch/>
        </p:blipFill>
        <p:spPr>
          <a:xfrm>
            <a:off x="1905120" y="1981080"/>
            <a:ext cx="6933960" cy="4572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IMAGES"/>
          <p:cNvPicPr/>
          <p:nvPr/>
        </p:nvPicPr>
        <p:blipFill>
          <a:blip r:embed="rId3"/>
          <a:stretch/>
        </p:blipFill>
        <p:spPr>
          <a:xfrm>
            <a:off x="1905120" y="1981080"/>
            <a:ext cx="6858000" cy="4572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Em10a"/>
          <p:cNvPicPr/>
          <p:nvPr/>
        </p:nvPicPr>
        <p:blipFill>
          <a:blip r:embed="rId4"/>
          <a:stretch/>
        </p:blipFill>
        <p:spPr>
          <a:xfrm>
            <a:off x="1905120" y="1981080"/>
            <a:ext cx="6858000" cy="4572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chlorellavirus"/>
          <p:cNvPicPr/>
          <p:nvPr/>
        </p:nvPicPr>
        <p:blipFill>
          <a:blip r:embed="rId5"/>
          <a:stretch/>
        </p:blipFill>
        <p:spPr>
          <a:xfrm>
            <a:off x="1905120" y="1981080"/>
            <a:ext cx="6858000" cy="45309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35436"/>
          <p:cNvPicPr/>
          <p:nvPr/>
        </p:nvPicPr>
        <p:blipFill>
          <a:blip r:embed="rId6"/>
          <a:stretch/>
        </p:blipFill>
        <p:spPr>
          <a:xfrm>
            <a:off x="1905120" y="1981080"/>
            <a:ext cx="6858000" cy="454824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8"/>
          <p:cNvSpPr/>
          <p:nvPr/>
        </p:nvSpPr>
        <p:spPr>
          <a:xfrm>
            <a:off x="3761640" y="8380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Arial"/>
                <a:ea typeface="黑体"/>
              </a:rPr>
              <a:t>各种各样的病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9" descr="4535"/>
          <p:cNvPicPr/>
          <p:nvPr/>
        </p:nvPicPr>
        <p:blipFill>
          <a:blip r:embed="rId7"/>
          <a:stretch/>
        </p:blipFill>
        <p:spPr>
          <a:xfrm>
            <a:off x="1703520" y="194004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00011"/>
          <p:cNvPicPr/>
          <p:nvPr/>
        </p:nvPicPr>
        <p:blipFill>
          <a:blip r:embed="rId1"/>
          <a:stretch/>
        </p:blipFill>
        <p:spPr>
          <a:xfrm>
            <a:off x="1752480" y="1295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3"/>
          <p:cNvSpPr/>
          <p:nvPr/>
        </p:nvSpPr>
        <p:spPr>
          <a:xfrm>
            <a:off x="2953080" y="13716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e3adc"/>
                </a:solidFill>
                <a:latin typeface="Tahoma"/>
                <a:ea typeface="黑体"/>
              </a:rPr>
              <a:t>皮肤和黏膜对病菌的阻挡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4898520" y="1981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407e"/>
                </a:solidFill>
                <a:latin typeface="Tahoma"/>
                <a:ea typeface="黑体"/>
              </a:rPr>
              <a:t>属哪种免疫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5" descr="00031"/>
          <p:cNvPicPr/>
          <p:nvPr/>
        </p:nvPicPr>
        <p:blipFill>
          <a:blip r:embed="rId2"/>
          <a:stretch/>
        </p:blipFill>
        <p:spPr>
          <a:xfrm>
            <a:off x="1600200" y="1371600"/>
            <a:ext cx="7238880" cy="525780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6"/>
          <p:cNvSpPr/>
          <p:nvPr/>
        </p:nvSpPr>
        <p:spPr>
          <a:xfrm>
            <a:off x="1676520" y="15238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e3adc"/>
                </a:solidFill>
                <a:latin typeface="Tahoma"/>
                <a:ea typeface="黑体"/>
              </a:rPr>
              <a:t>皮肤分泌物的杀菌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4898520" y="22096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属哪种免疫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8" descr="00021"/>
          <p:cNvPicPr/>
          <p:nvPr/>
        </p:nvPicPr>
        <p:blipFill>
          <a:blip r:embed="rId3"/>
          <a:stretch/>
        </p:blipFill>
        <p:spPr>
          <a:xfrm>
            <a:off x="1649520" y="1297080"/>
            <a:ext cx="7189560" cy="533232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9"/>
          <p:cNvSpPr/>
          <p:nvPr/>
        </p:nvSpPr>
        <p:spPr>
          <a:xfrm>
            <a:off x="2743200" y="1447920"/>
            <a:ext cx="57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e3adc"/>
                </a:solidFill>
                <a:latin typeface="Tahoma"/>
                <a:ea typeface="黑体"/>
              </a:rPr>
              <a:t>呼吸道黏膜上的纤毛清扫异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6132960" y="2057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属哪种免疫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11" descr="00041"/>
          <p:cNvPicPr/>
          <p:nvPr/>
        </p:nvPicPr>
        <p:blipFill>
          <a:blip r:embed="rId4"/>
          <a:stretch/>
        </p:blipFill>
        <p:spPr>
          <a:xfrm>
            <a:off x="1600200" y="1295280"/>
            <a:ext cx="7289640" cy="533412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12"/>
          <p:cNvSpPr/>
          <p:nvPr/>
        </p:nvSpPr>
        <p:spPr>
          <a:xfrm>
            <a:off x="2057400" y="157176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ahoma"/>
                <a:ea typeface="黑体"/>
              </a:rPr>
              <a:t>溶菌酶使细菌溶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4700160" y="2438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407e"/>
                </a:solidFill>
                <a:latin typeface="Tahoma"/>
                <a:ea typeface="楷体_GB2312"/>
              </a:rPr>
              <a:t>属哪种免疫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14" descr="TSBJ"/>
          <p:cNvPicPr/>
          <p:nvPr/>
        </p:nvPicPr>
        <p:blipFill>
          <a:blip r:embed="rId5"/>
          <a:stretch/>
        </p:blipFill>
        <p:spPr>
          <a:xfrm>
            <a:off x="1600200" y="1371600"/>
            <a:ext cx="7238880" cy="525780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15"/>
          <p:cNvSpPr/>
          <p:nvPr/>
        </p:nvSpPr>
        <p:spPr>
          <a:xfrm>
            <a:off x="1905120" y="15717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a8c48"/>
                </a:solidFill>
                <a:latin typeface="Tahoma"/>
                <a:ea typeface="黑体"/>
              </a:rPr>
              <a:t>吞噬细胞吞噬病原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6"/>
          <p:cNvSpPr/>
          <p:nvPr/>
        </p:nvSpPr>
        <p:spPr>
          <a:xfrm>
            <a:off x="2383920" y="56865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ahoma"/>
                <a:ea typeface="楷体_GB2312"/>
              </a:rPr>
              <a:t>属哪种免疫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17" descr="00051"/>
          <p:cNvPicPr/>
          <p:nvPr/>
        </p:nvPicPr>
        <p:blipFill>
          <a:blip r:embed="rId6"/>
          <a:stretch/>
        </p:blipFill>
        <p:spPr>
          <a:xfrm>
            <a:off x="1600200" y="1295280"/>
            <a:ext cx="7315200" cy="525780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18"/>
          <p:cNvSpPr/>
          <p:nvPr/>
        </p:nvSpPr>
        <p:spPr>
          <a:xfrm>
            <a:off x="4783320" y="54864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ahoma"/>
                <a:ea typeface="黑体"/>
              </a:rPr>
              <a:t>白细胞消灭病原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9"/>
          <p:cNvSpPr/>
          <p:nvPr/>
        </p:nvSpPr>
        <p:spPr>
          <a:xfrm>
            <a:off x="6208920" y="4800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a8c48"/>
                </a:solidFill>
                <a:latin typeface="Tahoma"/>
                <a:ea typeface="楷体_GB2312"/>
              </a:rPr>
              <a:t>属哪种免疫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文本框 8199"/>
          <p:cNvSpPr/>
          <p:nvPr/>
        </p:nvSpPr>
        <p:spPr>
          <a:xfrm>
            <a:off x="4149720" y="4314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75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75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75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75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75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75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75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75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75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75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5024520" y="2165400"/>
            <a:ext cx="411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a8c48"/>
                </a:solidFill>
                <a:latin typeface="黑体"/>
                <a:ea typeface="黑体"/>
              </a:rPr>
              <a:t>皮肤分泌物的杀菌作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1511280" y="1752480"/>
            <a:ext cx="26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a8c48"/>
                </a:solidFill>
                <a:latin typeface="黑体"/>
                <a:ea typeface="黑体"/>
              </a:rPr>
              <a:t>第一道防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1584360" y="376884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a8c48"/>
                </a:solidFill>
                <a:latin typeface="黑体"/>
                <a:ea typeface="黑体"/>
              </a:rPr>
              <a:t>第二道防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5057640" y="116856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a8c48"/>
                </a:solidFill>
                <a:latin typeface="黑体"/>
                <a:ea typeface="黑体"/>
              </a:rPr>
              <a:t>皮肤和黏膜的阻挡作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5018040" y="1673280"/>
            <a:ext cx="411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a8c48"/>
                </a:solidFill>
                <a:latin typeface="黑体"/>
                <a:ea typeface="黑体"/>
              </a:rPr>
              <a:t>黏膜上纤毛的清扫作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7"/>
          <p:cNvSpPr/>
          <p:nvPr/>
        </p:nvSpPr>
        <p:spPr>
          <a:xfrm>
            <a:off x="5342040" y="342900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a8c48"/>
                </a:solidFill>
                <a:latin typeface="黑体"/>
                <a:ea typeface="黑体"/>
              </a:rPr>
              <a:t>溶菌酶使细菌溶解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5419080" y="419112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a8c48"/>
                </a:solidFill>
                <a:latin typeface="黑体"/>
                <a:ea typeface="黑体"/>
              </a:rPr>
              <a:t>吞噬细胞吞噬病原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9"/>
          <p:cNvSpPr/>
          <p:nvPr/>
        </p:nvSpPr>
        <p:spPr>
          <a:xfrm>
            <a:off x="1366920" y="1889280"/>
            <a:ext cx="233280" cy="3139920"/>
          </a:xfrm>
          <a:custGeom>
            <a:avLst/>
            <a:gdLst>
              <a:gd name="textAreaLeft" fmla="*/ 149040 w 233280"/>
              <a:gd name="textAreaRight" fmla="*/ 233640 w 233280"/>
              <a:gd name="textAreaTop" fmla="*/ 81720 h 3139920"/>
              <a:gd name="textAreaBottom" fmla="*/ 3058200 h 31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299"/>
                </a:lnTo>
                <a:cubicBezTo>
                  <a:pt x="10800" y="10198"/>
                  <a:pt x="5400" y="11096"/>
                  <a:pt x="0" y="11096"/>
                </a:cubicBezTo>
                <a:cubicBezTo>
                  <a:pt x="5400" y="11096"/>
                  <a:pt x="10800" y="11995"/>
                  <a:pt x="10800" y="12893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99cc00"/>
          </a:solidFill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651960" y="12394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4eb8"/>
                </a:solidFill>
                <a:latin typeface="黑体"/>
                <a:ea typeface="黑体"/>
              </a:rPr>
              <a:t>非特异性免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4800600" y="4800600"/>
            <a:ext cx="338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a8c48"/>
                </a:solidFill>
                <a:latin typeface="黑体"/>
                <a:ea typeface="黑体"/>
              </a:rPr>
              <a:t>白细胞消灭病原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2111760" y="2386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a8c48"/>
                </a:solidFill>
                <a:latin typeface="黑体"/>
                <a:ea typeface="黑体"/>
              </a:rPr>
              <a:t>（皮肤和黏膜组成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2410200" y="434340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8c48"/>
                </a:solidFill>
                <a:latin typeface="黑体"/>
                <a:ea typeface="黑体"/>
              </a:rPr>
              <a:t>（溶菌酶和吞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8c48"/>
                </a:solidFill>
                <a:latin typeface="黑体"/>
                <a:ea typeface="黑体"/>
              </a:rPr>
              <a:t>细胞组成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4"/>
          <p:cNvSpPr/>
          <p:nvPr/>
        </p:nvSpPr>
        <p:spPr>
          <a:xfrm>
            <a:off x="4967280" y="1312920"/>
            <a:ext cx="144360" cy="144288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2880"/>
              <a:gd name="textAreaBottom" fmla="*/ 1405440 h 144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299"/>
                </a:lnTo>
                <a:cubicBezTo>
                  <a:pt x="10800" y="10198"/>
                  <a:pt x="5400" y="11096"/>
                  <a:pt x="0" y="11096"/>
                </a:cubicBezTo>
                <a:cubicBezTo>
                  <a:pt x="5400" y="11096"/>
                  <a:pt x="10800" y="11995"/>
                  <a:pt x="10800" y="12893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ff9900"/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15"/>
          <p:cNvSpPr/>
          <p:nvPr/>
        </p:nvSpPr>
        <p:spPr>
          <a:xfrm>
            <a:off x="4648320" y="3657600"/>
            <a:ext cx="152280" cy="152388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299"/>
                </a:lnTo>
                <a:cubicBezTo>
                  <a:pt x="10800" y="10198"/>
                  <a:pt x="5400" y="11096"/>
                  <a:pt x="0" y="11096"/>
                </a:cubicBezTo>
                <a:cubicBezTo>
                  <a:pt x="5400" y="11096"/>
                  <a:pt x="10800" y="11995"/>
                  <a:pt x="10800" y="12893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99cc00"/>
          </a:solidFill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2268360" y="5561640"/>
            <a:ext cx="477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e3adc"/>
                </a:solidFill>
                <a:latin typeface="黑体"/>
                <a:ea typeface="黑体"/>
              </a:rPr>
              <a:t>非特异性免疫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a8c48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bfd856"/>
                </a:solidFill>
                <a:latin typeface="黑体"/>
                <a:ea typeface="黑体"/>
              </a:rPr>
              <a:t>先天的，对多种病原体有防御作用</a:t>
            </a:r>
            <a:r>
              <a:rPr b="1" lang="zh-CN" sz="3200" spc="-1" strike="noStrike">
                <a:solidFill>
                  <a:srgbClr val="5a8c48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75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75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75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75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75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75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75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天花病人2"/>
          <p:cNvPicPr/>
          <p:nvPr/>
        </p:nvPicPr>
        <p:blipFill>
          <a:blip r:embed="rId1">
            <a:lum contrast="18000"/>
          </a:blip>
          <a:srcRect l="19723" t="18780" r="17606" b="7198"/>
          <a:stretch/>
        </p:blipFill>
        <p:spPr>
          <a:xfrm>
            <a:off x="1676520" y="1752480"/>
            <a:ext cx="6933960" cy="510552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天花病人1"/>
          <p:cNvPicPr/>
          <p:nvPr/>
        </p:nvPicPr>
        <p:blipFill>
          <a:blip r:embed="rId2"/>
          <a:srcRect l="29033" t="12901" r="31616" b="9676"/>
          <a:stretch/>
        </p:blipFill>
        <p:spPr>
          <a:xfrm>
            <a:off x="1752480" y="1828800"/>
            <a:ext cx="4100760" cy="502920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4"/>
          <p:cNvSpPr/>
          <p:nvPr/>
        </p:nvSpPr>
        <p:spPr>
          <a:xfrm>
            <a:off x="609480" y="6858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  <a:ea typeface="黑体"/>
              </a:rPr>
              <a:t>由天花病毒引起的</a:t>
            </a: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黑体"/>
              </a:rPr>
              <a:t>一种流行性特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黑体"/>
              </a:rPr>
              <a:t>     </a:t>
            </a: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黑体"/>
              </a:rPr>
              <a:t>强，死亡率特别高的传染病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787320" y="2681280"/>
            <a:ext cx="63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00"/>
                </a:solidFill>
                <a:latin typeface="Times New Roman"/>
                <a:ea typeface="黑体"/>
              </a:rPr>
              <a:t>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00"/>
                </a:solidFill>
                <a:latin typeface="Times New Roman"/>
                <a:ea typeface="黑体"/>
              </a:rPr>
              <a:t>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304920" y="2771640"/>
            <a:ext cx="206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花病毒</a:t>
            </a:r>
            <a:r>
              <a:rPr b="1" lang="en-US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原体</a:t>
            </a:r>
            <a:r>
              <a:rPr b="1" lang="en-US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3276720" y="2649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体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4981680" y="2649600"/>
            <a:ext cx="2104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抵抗天花病毒的物质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特殊蛋白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Group 5"/>
          <p:cNvGrpSpPr/>
          <p:nvPr/>
        </p:nvGrpSpPr>
        <p:grpSpPr>
          <a:xfrm>
            <a:off x="2362320" y="2604960"/>
            <a:ext cx="990360" cy="533880"/>
            <a:chOff x="2362320" y="2604960"/>
            <a:chExt cx="990360" cy="533880"/>
          </a:xfrm>
        </p:grpSpPr>
        <p:sp>
          <p:nvSpPr>
            <p:cNvPr id="675" name="Text Box 6"/>
            <p:cNvSpPr/>
            <p:nvPr/>
          </p:nvSpPr>
          <p:spPr>
            <a:xfrm>
              <a:off x="2362320" y="26049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侵入</a:t>
              </a: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2435040" y="3138480"/>
              <a:ext cx="685440" cy="360"/>
              <a:chOff x="2435040" y="3138480"/>
              <a:chExt cx="685440" cy="360"/>
            </a:xfrm>
          </p:grpSpPr>
          <p:sp>
            <p:nvSpPr>
              <p:cNvPr id="677" name="Line 7"/>
              <p:cNvSpPr/>
              <p:nvPr/>
            </p:nvSpPr>
            <p:spPr>
              <a:xfrm>
                <a:off x="2435040" y="3138480"/>
                <a:ext cx="68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 txBox="1"/>
              <p:nvPr/>
            </p:nvSpPr>
            <p:spPr>
              <a:xfrm>
                <a:off x="2435040" y="3138480"/>
                <a:ext cx="685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9" name="Group 8"/>
          <p:cNvGrpSpPr/>
          <p:nvPr/>
        </p:nvGrpSpPr>
        <p:grpSpPr>
          <a:xfrm>
            <a:off x="3944880" y="2529000"/>
            <a:ext cx="1084320" cy="594720"/>
            <a:chOff x="3944880" y="2529000"/>
            <a:chExt cx="1084320" cy="594720"/>
          </a:xfrm>
        </p:grpSpPr>
        <p:sp>
          <p:nvSpPr>
            <p:cNvPr id="680" name="Text Box 9"/>
            <p:cNvSpPr/>
            <p:nvPr/>
          </p:nvSpPr>
          <p:spPr>
            <a:xfrm>
              <a:off x="3944880" y="2529000"/>
              <a:ext cx="108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产生</a:t>
              </a: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3948120" y="3122640"/>
              <a:ext cx="887400" cy="1080"/>
              <a:chOff x="3948120" y="3122640"/>
              <a:chExt cx="887400" cy="1080"/>
            </a:xfrm>
          </p:grpSpPr>
          <p:sp>
            <p:nvSpPr>
              <p:cNvPr id="682" name="Line 10"/>
              <p:cNvSpPr/>
              <p:nvPr/>
            </p:nvSpPr>
            <p:spPr>
              <a:xfrm>
                <a:off x="3948120" y="3122640"/>
                <a:ext cx="88740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 txBox="1"/>
              <p:nvPr/>
            </p:nvSpPr>
            <p:spPr>
              <a:xfrm>
                <a:off x="3948120" y="3122640"/>
                <a:ext cx="8874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4" name="Group 11"/>
          <p:cNvGrpSpPr/>
          <p:nvPr/>
        </p:nvGrpSpPr>
        <p:grpSpPr>
          <a:xfrm>
            <a:off x="7010280" y="3138480"/>
            <a:ext cx="914400" cy="596520"/>
            <a:chOff x="7010280" y="3138480"/>
            <a:chExt cx="914400" cy="596520"/>
          </a:xfrm>
        </p:grpSpPr>
        <p:sp>
          <p:nvSpPr>
            <p:cNvPr id="685" name="Text Box 12"/>
            <p:cNvSpPr/>
            <p:nvPr/>
          </p:nvSpPr>
          <p:spPr>
            <a:xfrm>
              <a:off x="7010280" y="321444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消灭</a:t>
              </a: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7086240" y="3138480"/>
              <a:ext cx="685800" cy="360"/>
              <a:chOff x="7086240" y="3138480"/>
              <a:chExt cx="685800" cy="360"/>
            </a:xfrm>
          </p:grpSpPr>
          <p:sp>
            <p:nvSpPr>
              <p:cNvPr id="687" name="Line 13"/>
              <p:cNvSpPr/>
              <p:nvPr/>
            </p:nvSpPr>
            <p:spPr>
              <a:xfrm>
                <a:off x="7086240" y="313848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 txBox="1"/>
              <p:nvPr/>
            </p:nvSpPr>
            <p:spPr>
              <a:xfrm>
                <a:off x="7086240" y="31384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9" name="Group 14"/>
          <p:cNvGrpSpPr/>
          <p:nvPr/>
        </p:nvGrpSpPr>
        <p:grpSpPr>
          <a:xfrm>
            <a:off x="609480" y="3733920"/>
            <a:ext cx="2259000" cy="1262880"/>
            <a:chOff x="609480" y="3733920"/>
            <a:chExt cx="2259000" cy="1262880"/>
          </a:xfrm>
        </p:grpSpPr>
        <p:sp>
          <p:nvSpPr>
            <p:cNvPr id="690" name="Text Box 15"/>
            <p:cNvSpPr/>
            <p:nvPr/>
          </p:nvSpPr>
          <p:spPr>
            <a:xfrm>
              <a:off x="609480" y="4354200"/>
              <a:ext cx="225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抗 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1346400" y="3733920"/>
              <a:ext cx="1080" cy="628920"/>
              <a:chOff x="1346400" y="3733920"/>
              <a:chExt cx="1080" cy="628920"/>
            </a:xfrm>
          </p:grpSpPr>
          <p:sp>
            <p:nvSpPr>
              <p:cNvPr id="692" name="Line 16"/>
              <p:cNvSpPr/>
              <p:nvPr/>
            </p:nvSpPr>
            <p:spPr>
              <a:xfrm>
                <a:off x="1346400" y="3733920"/>
                <a:ext cx="1080" cy="62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 txBox="1"/>
              <p:nvPr/>
            </p:nvSpPr>
            <p:spPr>
              <a:xfrm>
                <a:off x="1346400" y="3733920"/>
                <a:ext cx="1080" cy="62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4" name="Group 17"/>
          <p:cNvGrpSpPr/>
          <p:nvPr/>
        </p:nvGrpSpPr>
        <p:grpSpPr>
          <a:xfrm>
            <a:off x="5105520" y="3962520"/>
            <a:ext cx="1509480" cy="1031400"/>
            <a:chOff x="5105520" y="3962520"/>
            <a:chExt cx="1509480" cy="1031400"/>
          </a:xfrm>
        </p:grpSpPr>
        <p:sp>
          <p:nvSpPr>
            <p:cNvPr id="695" name="Text Box 18"/>
            <p:cNvSpPr/>
            <p:nvPr/>
          </p:nvSpPr>
          <p:spPr>
            <a:xfrm>
              <a:off x="5105520" y="4351320"/>
              <a:ext cx="15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抗 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5739840" y="3962520"/>
              <a:ext cx="360" cy="457200"/>
              <a:chOff x="5739840" y="3962520"/>
              <a:chExt cx="360" cy="457200"/>
            </a:xfrm>
          </p:grpSpPr>
          <p:sp>
            <p:nvSpPr>
              <p:cNvPr id="697" name="Line 19"/>
              <p:cNvSpPr/>
              <p:nvPr/>
            </p:nvSpPr>
            <p:spPr>
              <a:xfrm>
                <a:off x="5739840" y="39625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 txBox="1"/>
              <p:nvPr/>
            </p:nvSpPr>
            <p:spPr>
              <a:xfrm>
                <a:off x="5739840" y="39625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9" name="Group 20"/>
          <p:cNvGrpSpPr/>
          <p:nvPr/>
        </p:nvGrpSpPr>
        <p:grpSpPr>
          <a:xfrm>
            <a:off x="6781680" y="3762360"/>
            <a:ext cx="1981440" cy="1463040"/>
            <a:chOff x="6781680" y="3762360"/>
            <a:chExt cx="1981440" cy="1463040"/>
          </a:xfrm>
        </p:grpSpPr>
        <p:sp>
          <p:nvSpPr>
            <p:cNvPr id="700" name="Text Box 21"/>
            <p:cNvSpPr/>
            <p:nvPr/>
          </p:nvSpPr>
          <p:spPr>
            <a:xfrm>
              <a:off x="6781680" y="4278240"/>
              <a:ext cx="198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免疫器官和免疫细胞组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7543800" y="3762360"/>
              <a:ext cx="360" cy="516600"/>
              <a:chOff x="7543800" y="3762360"/>
              <a:chExt cx="360" cy="516600"/>
            </a:xfrm>
          </p:grpSpPr>
          <p:sp>
            <p:nvSpPr>
              <p:cNvPr id="702" name="Line 22"/>
              <p:cNvSpPr/>
              <p:nvPr/>
            </p:nvSpPr>
            <p:spPr>
              <a:xfrm>
                <a:off x="7543800" y="3762360"/>
                <a:ext cx="0" cy="516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 txBox="1"/>
              <p:nvPr/>
            </p:nvSpPr>
            <p:spPr>
              <a:xfrm>
                <a:off x="7543800" y="3762360"/>
                <a:ext cx="360" cy="51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Text Box 23"/>
          <p:cNvSpPr/>
          <p:nvPr/>
        </p:nvSpPr>
        <p:spPr>
          <a:xfrm>
            <a:off x="7924680" y="2071800"/>
            <a:ext cx="60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花病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24"/>
          <p:cNvSpPr/>
          <p:nvPr/>
        </p:nvSpPr>
        <p:spPr>
          <a:xfrm>
            <a:off x="2213640" y="914400"/>
            <a:ext cx="47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花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侵入人体的过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5"/>
          <p:cNvSpPr/>
          <p:nvPr/>
        </p:nvSpPr>
        <p:spPr>
          <a:xfrm>
            <a:off x="609480" y="53341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e3adc"/>
                </a:solidFill>
                <a:latin typeface="黑体"/>
                <a:ea typeface="黑体"/>
              </a:rPr>
              <a:t>第三道防线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380880" y="5943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黑体"/>
              </a:rPr>
              <a:t>特异性免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免疫器官和免疫细胞组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75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75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75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75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"/>
                            </p:stCondLst>
                            <p:childTnLst>
                              <p:par>
                                <p:cTn id="311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2"/>
          <p:cNvSpPr/>
          <p:nvPr/>
        </p:nvSpPr>
        <p:spPr>
          <a:xfrm>
            <a:off x="755640" y="2637000"/>
            <a:ext cx="7848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使机体发生特异性免疫反应的物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引起人体产生抗体的物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如病原体、异种动物血清等。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611280" y="404640"/>
            <a:ext cx="807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抗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3:15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31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2e0e000000000001024140</vt:lpwstr>
  </property>
</Properties>
</file>