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37F-D5EF-48DD-AAA1-ED2EE74F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D37-58A2-48AD-A614-6385E602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D2B-378C-46A2-86BD-14644779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4AE-8706-4717-90D6-2F91FC77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BFB-31C9-499A-B027-72CF1B2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7E5-DD25-4BD8-BDCB-154A32B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060-3A01-42C9-8C4C-8E75C47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F77-1C97-41A2-B7DC-4EA73D8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694-11DE-4E79-98CB-49526A62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52B-E797-494C-84EC-2AE64D5D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CBF-8CA6-49A0-99B8-A122381B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E50-0299-4D42-9D64-24AB96FF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lan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B1C-1DF1-4F6E-91AF-C0D9FC4D0A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我的文档\民族团结\民族团结00\爱我中华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1401840" y="1125360"/>
            <a:ext cx="6705360" cy="9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团结课件</a:t>
            </a:r>
            <a:r>
              <a:rPr b="0" lang="en-US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免费下载</a:t>
            </a:r>
            <a:endParaRPr b="0" lang="en-US" sz="4000" spc="1" strike="noStrike">
              <a:ln w="2232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362320" y="838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民族区域自治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219320" y="1676520"/>
            <a:ext cx="6933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请同学们以藏族为例，探讨在我国为什么要实行民族区域自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73996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原因：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①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中国自古以来就是一个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统一的多民族国家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，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实行民族区域自治符合中国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国情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和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历史传统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②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各民族在长期的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经济文化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往来中，形成了合作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互助，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共同发展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的民族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③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近代史上，各民族在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共御外敌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、争取民族独   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立和解放的革命斗争中，建立了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休戚与共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的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亲密关系，形成了高度的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政治认同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8194"/>
          <p:cNvSpPr/>
          <p:nvPr/>
        </p:nvSpPr>
        <p:spPr>
          <a:xfrm>
            <a:off x="1676520" y="288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62120" y="1405080"/>
            <a:ext cx="78483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      </a:t>
            </a: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各少数民族聚居的地方实行区域自治。</a:t>
            </a:r>
            <a:br>
              <a:rPr sz="4400"/>
            </a:b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各民族自治地方都是中华人民共和国不可分离的部分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《中华人民共和国宪法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616120" y="54864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我国已建立了哪几个省级民族自治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中国政区图"/>
          <p:cNvPicPr/>
          <p:nvPr/>
        </p:nvPicPr>
        <p:blipFill>
          <a:blip r:embed="rId2"/>
          <a:stretch/>
        </p:blipFill>
        <p:spPr>
          <a:xfrm>
            <a:off x="609480" y="609480"/>
            <a:ext cx="640080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586560" y="1905120"/>
            <a:ext cx="140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内蒙古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新疆维吾尔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广西壮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宁夏回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西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371600" y="152388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实行民族区域自治有哪些优越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685800" y="7621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19320" y="2362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活动：分小组模拟西藏人民如何管理本民族事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1066680" y="2895480"/>
            <a:ext cx="7010280" cy="3517920"/>
            <a:chOff x="1066680" y="2895480"/>
            <a:chExt cx="7010280" cy="3517920"/>
          </a:xfrm>
        </p:grpSpPr>
        <p:sp>
          <p:nvSpPr>
            <p:cNvPr id="158" name="Text Box 7"/>
            <p:cNvSpPr/>
            <p:nvPr/>
          </p:nvSpPr>
          <p:spPr>
            <a:xfrm>
              <a:off x="2352960" y="2895480"/>
              <a:ext cx="435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①</a:t>
              </a: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组－针对近期发生在西藏的骚乱，联系西藏解放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            以来发生的巨大变化，发表一份谴责声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1066680" y="380988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②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商定一项大型基础建设项目，以提高西藏人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民的生活水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3322800" y="4698720"/>
              <a:ext cx="24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③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利用西藏的资源优势，与外商洽谈一个招商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引资的合资项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066680" y="558792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④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从文化、教育、民族节假日、工作时等方面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制定一项民族优惠政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43000" y="243828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实行民族区域自治有哪些优越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828800" y="9144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1295280" y="3505320"/>
            <a:ext cx="5791320" cy="2440800"/>
            <a:chOff x="1295280" y="3505320"/>
            <a:chExt cx="5791320" cy="2440800"/>
          </a:xfrm>
        </p:grpSpPr>
        <p:sp>
          <p:nvSpPr>
            <p:cNvPr id="167" name="Text Box 7"/>
            <p:cNvSpPr/>
            <p:nvPr/>
          </p:nvSpPr>
          <p:spPr>
            <a:xfrm>
              <a:off x="3430440" y="35053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①</a:t>
              </a:r>
              <a:r>
                <a:rPr b="1" lang="zh-CN" sz="2400" spc="-1" strike="noStrike">
                  <a:solidFill>
                    <a:srgbClr val="ff6600"/>
                  </a:solidFill>
                  <a:latin typeface="宋体"/>
                  <a:ea typeface="黑体"/>
                </a:rPr>
                <a:t>维护国家统一和保障少数民族权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2273040" y="41655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②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国家方针政策和民族地区特点相结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2334600" y="4826160"/>
              <a:ext cx="36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③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有利于国家富强和民族地区经济的繁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295280" y="5486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④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体现民族平等和民族团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308240" y="179712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在少数民族地区实行民主改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990720" y="2819520"/>
            <a:ext cx="7391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新中国成立时，少数民族地区基本上还处于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封建制、农奴制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甚至是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原始公社制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等落后的社会经济形态下。经过广泛深刻的民主改革，各民族在党和政府的领导下都走上了社会主义道路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764800" y="74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、各民族共同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38080" y="914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加强少数民族地区基础设施建设，促进基础产业发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川藏公路"/>
          <p:cNvPicPr/>
          <p:nvPr/>
        </p:nvPicPr>
        <p:blipFill>
          <a:blip r:embed="rId1"/>
          <a:stretch/>
        </p:blipFill>
        <p:spPr>
          <a:xfrm>
            <a:off x="1371600" y="2514600"/>
            <a:ext cx="5257800" cy="35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 Box 4"/>
          <p:cNvSpPr/>
          <p:nvPr/>
        </p:nvSpPr>
        <p:spPr>
          <a:xfrm>
            <a:off x="6627960" y="3124080"/>
            <a:ext cx="1277640" cy="2179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川藏公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38080" y="882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加强少数民族地区基础设施建设，促进基础产业发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川藏公路"/>
          <p:cNvPicPr/>
          <p:nvPr/>
        </p:nvPicPr>
        <p:blipFill>
          <a:blip r:embed="rId1"/>
          <a:stretch/>
        </p:blipFill>
        <p:spPr>
          <a:xfrm>
            <a:off x="1371600" y="2514600"/>
            <a:ext cx="5257800" cy="35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Text Box 4"/>
          <p:cNvSpPr/>
          <p:nvPr/>
        </p:nvSpPr>
        <p:spPr>
          <a:xfrm>
            <a:off x="6627960" y="3124080"/>
            <a:ext cx="1277640" cy="2179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青藏铁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:\我的文档\民族团结\新建文件夹\H4733CAIIJ6CE18F4J.jpg"/>
          <p:cNvPicPr/>
          <p:nvPr/>
        </p:nvPicPr>
        <p:blipFill>
          <a:blip r:embed="rId2"/>
          <a:stretch/>
        </p:blipFill>
        <p:spPr>
          <a:xfrm>
            <a:off x="1371600" y="2514600"/>
            <a:ext cx="52578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099320" y="762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发展民族经济，实施西部大开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1440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广西的</a:t>
            </a:r>
            <a:r>
              <a:rPr b="1" lang="zh-CN" sz="2800" spc="-1" strike="noStrike">
                <a:solidFill>
                  <a:srgbClr val="ff6600"/>
                </a:solidFill>
                <a:latin typeface="仿宋"/>
                <a:ea typeface="仿宋"/>
              </a:rPr>
              <a:t>北海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市被列为国家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个</a:t>
            </a:r>
            <a:r>
              <a:rPr b="1" lang="zh-CN" sz="2800" spc="-1" strike="noStrike">
                <a:solidFill>
                  <a:srgbClr val="006666"/>
                </a:solidFill>
                <a:latin typeface="仿宋"/>
                <a:ea typeface="仿宋"/>
              </a:rPr>
              <a:t>沿海开放城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r>
              <a:rPr b="1" lang="zh-CN" sz="2800" spc="-1" strike="noStrike">
                <a:solidFill>
                  <a:srgbClr val="ff6600"/>
                </a:solidFill>
                <a:latin typeface="仿宋"/>
                <a:ea typeface="仿宋"/>
              </a:rPr>
              <a:t>乌鲁木齐、南宁、昆明、呼和浩特、银川、西宁、贵阳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被国家列为</a:t>
            </a:r>
            <a:r>
              <a:rPr b="1" lang="zh-CN" sz="2800" spc="-1" strike="noStrike">
                <a:solidFill>
                  <a:srgbClr val="006666"/>
                </a:solidFill>
                <a:latin typeface="仿宋"/>
                <a:ea typeface="仿宋"/>
              </a:rPr>
              <a:t>内陆开放城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194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chengji"/>
          <p:cNvPicPr/>
          <p:nvPr/>
        </p:nvPicPr>
        <p:blipFill>
          <a:blip r:embed="rId1"/>
          <a:stretch/>
        </p:blipFill>
        <p:spPr>
          <a:xfrm>
            <a:off x="2438280" y="3200400"/>
            <a:ext cx="4484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g219559624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3"/>
          <p:cNvSpPr/>
          <p:nvPr/>
        </p:nvSpPr>
        <p:spPr>
          <a:xfrm>
            <a:off x="243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"/>
              </a:rPr>
              <a:t>实施西部大开发战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159920" y="73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泼水节1"/>
          <p:cNvPicPr/>
          <p:nvPr/>
        </p:nvPicPr>
        <p:blipFill>
          <a:blip r:embed="rId2"/>
          <a:stretch/>
        </p:blipFill>
        <p:spPr>
          <a:xfrm>
            <a:off x="3429000" y="13716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2621880" y="5562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我国哪个少数民族在欢渡什么节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8240" y="73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477120" y="28954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傣族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泼水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西气东输"/>
          <p:cNvPicPr/>
          <p:nvPr/>
        </p:nvPicPr>
        <p:blipFill>
          <a:blip r:embed="rId1"/>
          <a:stretch/>
        </p:blipFill>
        <p:spPr>
          <a:xfrm>
            <a:off x="1905120" y="914400"/>
            <a:ext cx="54100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1969920" y="5133960"/>
            <a:ext cx="52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西气东输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新疆塔里木的轮南油气田实现了向上海输送天然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8194"/>
          <p:cNvSpPr/>
          <p:nvPr/>
        </p:nvSpPr>
        <p:spPr>
          <a:xfrm>
            <a:off x="1222200" y="4986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image2.sina.com.cn/dy/c/2004-03-28/U397P1T1D3070485F21DT20040328171948.jpg"/>
          <p:cNvPicPr/>
          <p:nvPr/>
        </p:nvPicPr>
        <p:blipFill>
          <a:blip r:embed="rId1"/>
          <a:stretch/>
        </p:blipFill>
        <p:spPr>
          <a:xfrm>
            <a:off x="1676520" y="457200"/>
            <a:ext cx="5790960" cy="44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 Box 3"/>
          <p:cNvSpPr/>
          <p:nvPr/>
        </p:nvSpPr>
        <p:spPr>
          <a:xfrm>
            <a:off x="2275200" y="5003640"/>
            <a:ext cx="473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西电东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贵州洪家渡水电站是我国首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电东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标志性工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194720" y="654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帮助少数民族发展文化教育事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证书"/>
          <p:cNvPicPr/>
          <p:nvPr/>
        </p:nvPicPr>
        <p:blipFill>
          <a:blip r:embed="rId1"/>
          <a:stretch/>
        </p:blipFill>
        <p:spPr>
          <a:xfrm>
            <a:off x="2900520" y="1752480"/>
            <a:ext cx="327168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AutoShape 4"/>
          <p:cNvSpPr/>
          <p:nvPr/>
        </p:nvSpPr>
        <p:spPr>
          <a:xfrm>
            <a:off x="7620120" y="5867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301"/>
                </a:moveTo>
                <a:lnTo>
                  <a:pt x="8290" y="7301"/>
                </a:lnTo>
                <a:lnTo>
                  <a:pt x="8673" y="7667"/>
                </a:lnTo>
                <a:lnTo>
                  <a:pt x="17882" y="7667"/>
                </a:lnTo>
                <a:lnTo>
                  <a:pt x="18439" y="8224"/>
                </a:lnTo>
                <a:lnTo>
                  <a:pt x="18439" y="8772"/>
                </a:lnTo>
                <a:lnTo>
                  <a:pt x="20284" y="8772"/>
                </a:lnTo>
                <a:lnTo>
                  <a:pt x="20650" y="8224"/>
                </a:lnTo>
                <a:lnTo>
                  <a:pt x="21390" y="8224"/>
                </a:lnTo>
                <a:lnTo>
                  <a:pt x="21390" y="13376"/>
                </a:lnTo>
                <a:lnTo>
                  <a:pt x="20650" y="13376"/>
                </a:lnTo>
                <a:lnTo>
                  <a:pt x="20284" y="12828"/>
                </a:lnTo>
                <a:lnTo>
                  <a:pt x="18439" y="12828"/>
                </a:lnTo>
                <a:lnTo>
                  <a:pt x="18439" y="14107"/>
                </a:lnTo>
                <a:lnTo>
                  <a:pt x="8856" y="14107"/>
                </a:lnTo>
                <a:lnTo>
                  <a:pt x="8856" y="9877"/>
                </a:lnTo>
                <a:lnTo>
                  <a:pt x="8673" y="9877"/>
                </a:lnTo>
                <a:lnTo>
                  <a:pt x="8290" y="10243"/>
                </a:lnTo>
                <a:lnTo>
                  <a:pt x="7377" y="10243"/>
                </a:lnTo>
                <a:close/>
              </a:path>
            </a:pathLst>
          </a:cu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6A8D-F2ED-483D-9592-95D499C946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699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WordArt 6" descr=""/>
          <p:cNvPicPr/>
          <p:nvPr/>
        </p:nvPicPr>
        <p:blipFill>
          <a:blip r:embed="rId2"/>
          <a:stretch/>
        </p:blipFill>
        <p:spPr>
          <a:xfrm>
            <a:off x="833400" y="1066680"/>
            <a:ext cx="4886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663280" y="2133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哪个少数民族的什么乐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8000" y="3124080"/>
            <a:ext cx="137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彝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白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阿昌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葫芦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二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我的文档\民族团结\新建文件夹\hulusi.jpg"/>
          <p:cNvPicPr/>
          <p:nvPr/>
        </p:nvPicPr>
        <p:blipFill>
          <a:blip r:embed="rId2"/>
          <a:stretch/>
        </p:blipFill>
        <p:spPr>
          <a:xfrm>
            <a:off x="1828800" y="3048120"/>
            <a:ext cx="472428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维吾尔3"/>
          <p:cNvPicPr/>
          <p:nvPr/>
        </p:nvPicPr>
        <p:blipFill>
          <a:blip r:embed="rId2"/>
          <a:stretch/>
        </p:blipFill>
        <p:spPr>
          <a:xfrm>
            <a:off x="2602080" y="2133720"/>
            <a:ext cx="1817640" cy="304776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1521600">
            <a:off x="4647960" y="837720"/>
            <a:ext cx="6858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420720" y="5410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些分别是哪个民族的服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三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505320" y="1676520"/>
            <a:ext cx="11430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14560" y="45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维吾尔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151760" y="4572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2" descr="C:\我的文档\民族团结\新建文件夹\007.jpg"/>
          <p:cNvPicPr/>
          <p:nvPr/>
        </p:nvPicPr>
        <p:blipFill>
          <a:blip r:embed="rId3"/>
          <a:stretch/>
        </p:blipFill>
        <p:spPr>
          <a:xfrm>
            <a:off x="4800600" y="2209680"/>
            <a:ext cx="1895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673720" y="52578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哪个少数民族的传统体育盛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5880" y="38098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蒙古族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那达慕大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四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G:\11.jpg"/>
          <p:cNvPicPr/>
          <p:nvPr/>
        </p:nvPicPr>
        <p:blipFill>
          <a:blip r:embed="rId2"/>
          <a:stretch/>
        </p:blipFill>
        <p:spPr>
          <a:xfrm>
            <a:off x="5761080" y="1295280"/>
            <a:ext cx="246852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9" descr="G:\18.jpg"/>
          <p:cNvPicPr/>
          <p:nvPr/>
        </p:nvPicPr>
        <p:blipFill>
          <a:blip r:embed="rId3"/>
          <a:stretch/>
        </p:blipFill>
        <p:spPr>
          <a:xfrm>
            <a:off x="3352680" y="2286000"/>
            <a:ext cx="239256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10" descr="G:\14.jpg"/>
          <p:cNvPicPr/>
          <p:nvPr/>
        </p:nvPicPr>
        <p:blipFill>
          <a:blip r:embed="rId4"/>
          <a:stretch/>
        </p:blipFill>
        <p:spPr>
          <a:xfrm>
            <a:off x="914400" y="3200400"/>
            <a:ext cx="2438280" cy="18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371600" y="482904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元朝和清朝分别是哪两个少数民族建立的政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175200" y="396252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元朝：蒙古族    清朝：满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五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G:\chengjieshihan.jpg"/>
          <p:cNvPicPr/>
          <p:nvPr/>
        </p:nvPicPr>
        <p:blipFill>
          <a:blip r:embed="rId2"/>
          <a:stretch/>
        </p:blipFill>
        <p:spPr>
          <a:xfrm>
            <a:off x="2590920" y="1676520"/>
            <a:ext cx="1716120" cy="21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2895480" y="16765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成吉思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" descr="G:\nuerhachi.jpg"/>
          <p:cNvPicPr/>
          <p:nvPr/>
        </p:nvPicPr>
        <p:blipFill>
          <a:blip r:embed="rId3"/>
          <a:stretch/>
        </p:blipFill>
        <p:spPr>
          <a:xfrm>
            <a:off x="5181480" y="1676520"/>
            <a:ext cx="167652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Text Box 11"/>
          <p:cNvSpPr/>
          <p:nvPr/>
        </p:nvSpPr>
        <p:spPr>
          <a:xfrm>
            <a:off x="5410080" y="34336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努尔哈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219320" y="4876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你能说出他是哪个少数民族的哪位艺术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六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G:\马.jpg"/>
          <p:cNvPicPr/>
          <p:nvPr/>
        </p:nvPicPr>
        <p:blipFill>
          <a:blip r:embed="rId2"/>
          <a:stretch/>
        </p:blipFill>
        <p:spPr>
          <a:xfrm>
            <a:off x="3352680" y="1981080"/>
            <a:ext cx="25146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8"/>
          <p:cNvSpPr/>
          <p:nvPr/>
        </p:nvSpPr>
        <p:spPr>
          <a:xfrm>
            <a:off x="6248520" y="31240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马三立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回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371600" y="2743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我国在少数民族聚居的地区实行什么制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七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133720" y="4572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743200" y="4419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民族区域自治制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59680" y="49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、民族区域自治的实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014360" y="119700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我国的民族构成和民族分布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1116000" y="1905120"/>
            <a:ext cx="5334120" cy="4289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088040" y="3124080"/>
            <a:ext cx="109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仿宋_GB2312"/>
              </a:rPr>
              <a:t>分布特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大杂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小聚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6:32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0Z</dcterms:modified>
  <cp:revision>10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