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suction.wav" ContentType="audio/x-wav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A51-7C2E-4E3A-BC74-65BFE3CC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F8E-F652-470A-A6F0-25E42C04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FEB-4463-4459-A5D4-62A3AB47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EA1-9F22-42D9-A456-9E2C3038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2786-5186-4533-8D3A-FAE9AA1F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0D7A-C0CE-472A-8338-31CC3235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7DC2-ED30-4029-A154-18811D69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5F1-DCDB-489E-87FA-0C807A82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1ED1-D8FD-4717-A669-D1DBC02F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EF98-96D7-4F21-A415-795BD8B6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B8D4-4FE3-4CEC-A433-79C6B069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C9B-015D-486A-90D8-4D884ECC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362B-312C-42CE-99DD-4179C037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F7BE-1443-4187-8124-E5E9D82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464F-B10F-4993-B5CB-C45B1617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F060-9D5E-4E11-9066-E6D6AD42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585A-736A-4FE2-9DBD-AC3F63F4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345-B03D-42EB-8CB8-4852B40A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61A-8487-43D5-A8CD-6CCD2CC0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781-6FE4-4384-BA1B-FED87898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CE4-D7C8-4D6B-9464-EE759A2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354-82AB-4232-9E4B-D142219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BE7-66F2-4320-A6F3-BC67B096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791-0219-46D6-9635-85238D6B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2372-A253-4452-8C6B-4335730F0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EB5C-9BA5-47E5-8ABB-53070F03D1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511200" y="1916280"/>
            <a:ext cx="708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哪种材料硬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87948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594600" y="476280"/>
            <a:ext cx="188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根据我们观察到的结果，将木条、卡纸、铁钉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塑料尺按硬度从大到小的顺序排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哪种材料最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329840" y="3141720"/>
            <a:ext cx="655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铁钉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塑料尺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木条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卡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38320" y="2133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硬度从大到小排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324000" y="469944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材料的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硬度越大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越能防止别的物体破坏它的表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082251629272498"/>
          <p:cNvPicPr/>
          <p:nvPr/>
        </p:nvPicPr>
        <p:blipFill>
          <a:blip r:embed="rId1"/>
          <a:stretch/>
        </p:blipFill>
        <p:spPr>
          <a:xfrm>
            <a:off x="36360" y="641520"/>
            <a:ext cx="1866960" cy="1630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IMG_42891"/>
          <p:cNvPicPr/>
          <p:nvPr/>
        </p:nvPicPr>
        <p:blipFill>
          <a:blip r:embed="rId2"/>
          <a:stretch/>
        </p:blipFill>
        <p:spPr>
          <a:xfrm>
            <a:off x="2050920" y="638280"/>
            <a:ext cx="2184480" cy="163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IMG_42901"/>
          <p:cNvPicPr/>
          <p:nvPr/>
        </p:nvPicPr>
        <p:blipFill>
          <a:blip r:embed="rId3"/>
          <a:stretch/>
        </p:blipFill>
        <p:spPr>
          <a:xfrm>
            <a:off x="4500720" y="655560"/>
            <a:ext cx="2160360" cy="1621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IMG_42991"/>
          <p:cNvPicPr/>
          <p:nvPr/>
        </p:nvPicPr>
        <p:blipFill>
          <a:blip r:embed="rId4"/>
          <a:stretch/>
        </p:blipFill>
        <p:spPr>
          <a:xfrm>
            <a:off x="6877080" y="61920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IMG_43011"/>
          <p:cNvPicPr/>
          <p:nvPr/>
        </p:nvPicPr>
        <p:blipFill>
          <a:blip r:embed="rId5"/>
          <a:stretch/>
        </p:blipFill>
        <p:spPr>
          <a:xfrm>
            <a:off x="7093080" y="2425680"/>
            <a:ext cx="1778040" cy="2371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IMG_43031"/>
          <p:cNvPicPr/>
          <p:nvPr/>
        </p:nvPicPr>
        <p:blipFill>
          <a:blip r:embed="rId6"/>
          <a:stretch/>
        </p:blipFill>
        <p:spPr>
          <a:xfrm>
            <a:off x="4861080" y="2494080"/>
            <a:ext cx="1726920" cy="230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IMG_43041"/>
          <p:cNvPicPr/>
          <p:nvPr/>
        </p:nvPicPr>
        <p:blipFill>
          <a:blip r:embed="rId7"/>
          <a:stretch/>
        </p:blipFill>
        <p:spPr>
          <a:xfrm>
            <a:off x="324000" y="5003640"/>
            <a:ext cx="2314440" cy="1737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IMG_43061"/>
          <p:cNvPicPr/>
          <p:nvPr/>
        </p:nvPicPr>
        <p:blipFill>
          <a:blip r:embed="rId8"/>
          <a:stretch/>
        </p:blipFill>
        <p:spPr>
          <a:xfrm>
            <a:off x="2556000" y="2519280"/>
            <a:ext cx="1761840" cy="2349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MG_43071"/>
          <p:cNvPicPr/>
          <p:nvPr/>
        </p:nvPicPr>
        <p:blipFill>
          <a:blip r:embed="rId9"/>
          <a:stretch/>
        </p:blipFill>
        <p:spPr>
          <a:xfrm>
            <a:off x="252360" y="2565360"/>
            <a:ext cx="1779480" cy="2371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IMG_43081"/>
          <p:cNvPicPr/>
          <p:nvPr/>
        </p:nvPicPr>
        <p:blipFill>
          <a:blip r:embed="rId10"/>
          <a:stretch/>
        </p:blipFill>
        <p:spPr>
          <a:xfrm>
            <a:off x="3492360" y="5022720"/>
            <a:ext cx="2291040" cy="1717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IMG_43091"/>
          <p:cNvPicPr/>
          <p:nvPr/>
        </p:nvPicPr>
        <p:blipFill>
          <a:blip r:embed="rId11"/>
          <a:stretch/>
        </p:blipFill>
        <p:spPr>
          <a:xfrm>
            <a:off x="6748560" y="5267160"/>
            <a:ext cx="1682640" cy="1262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1712880" y="39600"/>
            <a:ext cx="59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中的金属物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2495b18fdddffa64bedbc6f"/>
          <p:cNvPicPr/>
          <p:nvPr/>
        </p:nvPicPr>
        <p:blipFill>
          <a:blip r:embed="rId1"/>
          <a:stretch/>
        </p:blipFill>
        <p:spPr>
          <a:xfrm>
            <a:off x="828720" y="1773360"/>
            <a:ext cx="1650960" cy="18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45749fa77e94ed87d043586e"/>
          <p:cNvPicPr/>
          <p:nvPr/>
        </p:nvPicPr>
        <p:blipFill>
          <a:blip r:embed="rId2"/>
          <a:stretch/>
        </p:blipFill>
        <p:spPr>
          <a:xfrm>
            <a:off x="3635280" y="1773360"/>
            <a:ext cx="966960" cy="183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镍"/>
          <p:cNvPicPr/>
          <p:nvPr/>
        </p:nvPicPr>
        <p:blipFill>
          <a:blip r:embed="rId3"/>
          <a:stretch/>
        </p:blipFill>
        <p:spPr>
          <a:xfrm>
            <a:off x="1403280" y="4005360"/>
            <a:ext cx="2521080" cy="2016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认识这些是什么金属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钢"/>
          <p:cNvPicPr/>
          <p:nvPr/>
        </p:nvPicPr>
        <p:blipFill>
          <a:blip r:embed="rId4"/>
          <a:stretch/>
        </p:blipFill>
        <p:spPr>
          <a:xfrm>
            <a:off x="5148360" y="39337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IMG_43241"/>
          <p:cNvPicPr/>
          <p:nvPr/>
        </p:nvPicPr>
        <p:blipFill>
          <a:blip r:embed="rId5"/>
          <a:stretch/>
        </p:blipFill>
        <p:spPr>
          <a:xfrm>
            <a:off x="5869080" y="184464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6" descr="DSC01905"/>
          <p:cNvPicPr/>
          <p:nvPr/>
        </p:nvPicPr>
        <p:blipFill>
          <a:blip r:embed="rId1"/>
          <a:stretch/>
        </p:blipFill>
        <p:spPr>
          <a:xfrm>
            <a:off x="1835280" y="1125360"/>
            <a:ext cx="5473440" cy="1582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179280" y="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金属看起来是什么样的？可以拉成丝或打成薄片吗？金属还有哪些特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2565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属看起来很坚硬，金属可以拉成丝和打成薄片。如：金属丝、金属薄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382896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气泡图中记下我们了解的金属的特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5076720" y="436572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属的种类很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能说出哪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属的名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2254320" y="59086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金、铁、银、铜等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65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金属的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IMG_42901"/>
          <p:cNvPicPr/>
          <p:nvPr/>
        </p:nvPicPr>
        <p:blipFill>
          <a:blip r:embed="rId1"/>
          <a:stretch/>
        </p:blipFill>
        <p:spPr>
          <a:xfrm>
            <a:off x="468360" y="90792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0" y="29952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金属有传热本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IMG_43191"/>
          <p:cNvPicPr/>
          <p:nvPr/>
        </p:nvPicPr>
        <p:blipFill>
          <a:blip r:embed="rId2"/>
          <a:stretch/>
        </p:blipFill>
        <p:spPr>
          <a:xfrm>
            <a:off x="5724360" y="3789360"/>
            <a:ext cx="2664000" cy="1996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219640" y="580464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属有导电本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IMG_43201"/>
          <p:cNvPicPr/>
          <p:nvPr/>
        </p:nvPicPr>
        <p:blipFill>
          <a:blip r:embed="rId3"/>
          <a:stretch/>
        </p:blipFill>
        <p:spPr>
          <a:xfrm>
            <a:off x="36360" y="4151160"/>
            <a:ext cx="2205360" cy="1652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MG_43231"/>
          <p:cNvPicPr/>
          <p:nvPr/>
        </p:nvPicPr>
        <p:blipFill>
          <a:blip r:embed="rId4"/>
          <a:stretch/>
        </p:blipFill>
        <p:spPr>
          <a:xfrm>
            <a:off x="2052720" y="4130640"/>
            <a:ext cx="2233440" cy="1673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250920" y="5876280"/>
            <a:ext cx="48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属有易变形本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铝"/>
          <p:cNvPicPr/>
          <p:nvPr/>
        </p:nvPicPr>
        <p:blipFill>
          <a:blip r:embed="rId5"/>
          <a:stretch/>
        </p:blipFill>
        <p:spPr>
          <a:xfrm>
            <a:off x="4572000" y="105264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u=1656937676,3539574262&amp;fm=0&amp;gp=2"/>
          <p:cNvPicPr/>
          <p:nvPr/>
        </p:nvPicPr>
        <p:blipFill>
          <a:blip r:embed="rId6"/>
          <a:stretch/>
        </p:blipFill>
        <p:spPr>
          <a:xfrm>
            <a:off x="6659640" y="1052640"/>
            <a:ext cx="2239920" cy="1584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4284720" y="2891880"/>
            <a:ext cx="421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属有一定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29"/>
          <p:cNvSpPr/>
          <p:nvPr/>
        </p:nvSpPr>
        <p:spPr>
          <a:xfrm>
            <a:off x="2411280" y="5589720"/>
            <a:ext cx="2160720" cy="936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8"/>
          <p:cNvSpPr/>
          <p:nvPr/>
        </p:nvSpPr>
        <p:spPr>
          <a:xfrm>
            <a:off x="0" y="1628640"/>
            <a:ext cx="2987640" cy="936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449600" y="476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气泡图中记下我们了解的金属的特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2987640" y="3429000"/>
            <a:ext cx="177012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金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395280" y="2708280"/>
            <a:ext cx="23464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250920" y="4941720"/>
            <a:ext cx="234612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5364000" y="2924280"/>
            <a:ext cx="266544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4716360" y="5373720"/>
            <a:ext cx="237672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2916360" y="1341360"/>
            <a:ext cx="2346120" cy="165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924360" y="2924280"/>
            <a:ext cx="71280" cy="576000"/>
            <a:chOff x="3924360" y="2924280"/>
            <a:chExt cx="71280" cy="576000"/>
          </a:xfrm>
        </p:grpSpPr>
        <p:sp>
          <p:nvSpPr>
            <p:cNvPr id="193" name="Line 11"/>
            <p:cNvSpPr/>
            <p:nvPr/>
          </p:nvSpPr>
          <p:spPr>
            <a:xfrm>
              <a:off x="3924360" y="2924280"/>
              <a:ext cx="71280" cy="57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924360" y="2924280"/>
              <a:ext cx="7128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195640" y="3789360"/>
            <a:ext cx="863640" cy="360360"/>
            <a:chOff x="2195640" y="3789360"/>
            <a:chExt cx="863640" cy="360360"/>
          </a:xfrm>
        </p:grpSpPr>
        <p:sp>
          <p:nvSpPr>
            <p:cNvPr id="196" name="Line 12"/>
            <p:cNvSpPr/>
            <p:nvPr/>
          </p:nvSpPr>
          <p:spPr>
            <a:xfrm>
              <a:off x="2195640" y="3789360"/>
              <a:ext cx="86364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2195640" y="3789360"/>
              <a:ext cx="86364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339640" y="4652640"/>
            <a:ext cx="865440" cy="857160"/>
            <a:chOff x="2339640" y="4652640"/>
            <a:chExt cx="865440" cy="857160"/>
          </a:xfrm>
        </p:grpSpPr>
        <p:sp>
          <p:nvSpPr>
            <p:cNvPr id="199" name="Line 13"/>
            <p:cNvSpPr/>
            <p:nvPr/>
          </p:nvSpPr>
          <p:spPr>
            <a:xfrm flipV="1">
              <a:off x="2340000" y="4652640"/>
              <a:ext cx="865080" cy="857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800000">
              <a:off x="2339640" y="4652640"/>
              <a:ext cx="86508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140360" y="4869000"/>
            <a:ext cx="718920" cy="865080"/>
            <a:chOff x="4140360" y="4869000"/>
            <a:chExt cx="718920" cy="865080"/>
          </a:xfrm>
        </p:grpSpPr>
        <p:sp>
          <p:nvSpPr>
            <p:cNvPr id="202" name="Line 14"/>
            <p:cNvSpPr/>
            <p:nvPr/>
          </p:nvSpPr>
          <p:spPr>
            <a:xfrm>
              <a:off x="4140360" y="4869000"/>
              <a:ext cx="718920" cy="865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140360" y="4869000"/>
              <a:ext cx="71892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788000" y="4005360"/>
            <a:ext cx="1008000" cy="271440"/>
            <a:chOff x="4788000" y="4005360"/>
            <a:chExt cx="1008000" cy="271440"/>
          </a:xfrm>
        </p:grpSpPr>
        <p:sp>
          <p:nvSpPr>
            <p:cNvPr id="205" name="Line 15"/>
            <p:cNvSpPr/>
            <p:nvPr/>
          </p:nvSpPr>
          <p:spPr>
            <a:xfrm flipV="1">
              <a:off x="4788000" y="4005360"/>
              <a:ext cx="1008000" cy="27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 rot="10800000">
              <a:off x="4788000" y="4005360"/>
              <a:ext cx="1008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6"/>
          <p:cNvSpPr/>
          <p:nvPr/>
        </p:nvSpPr>
        <p:spPr>
          <a:xfrm>
            <a:off x="3717360" y="1844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坚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5724360" y="3068640"/>
            <a:ext cx="24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有金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光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148360" y="515772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有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展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948240" y="5013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易传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948240" y="2924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能导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5845680" y="1989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吸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560520" y="1699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水中会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2963880" y="573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塑性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7"/>
          <p:cNvSpPr/>
          <p:nvPr/>
        </p:nvSpPr>
        <p:spPr>
          <a:xfrm>
            <a:off x="5508720" y="1916280"/>
            <a:ext cx="1800000" cy="936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0" y="18900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金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259440" y="76500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属是一种很重要的材料，有许多重要的用途。看看我们周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都有哪些用金属做成的物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050640" y="5157720"/>
            <a:ext cx="311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金属做成的物品有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车子、飞机、桶子、锅子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勺子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车子"/>
          <p:cNvPicPr/>
          <p:nvPr/>
        </p:nvPicPr>
        <p:blipFill>
          <a:blip r:embed="rId1"/>
          <a:stretch/>
        </p:blipFill>
        <p:spPr>
          <a:xfrm>
            <a:off x="324000" y="1557360"/>
            <a:ext cx="1849320" cy="2016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飞机"/>
          <p:cNvPicPr/>
          <p:nvPr/>
        </p:nvPicPr>
        <p:blipFill>
          <a:blip r:embed="rId2"/>
          <a:stretch/>
        </p:blipFill>
        <p:spPr>
          <a:xfrm>
            <a:off x="2771640" y="177336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桶子"/>
          <p:cNvPicPr/>
          <p:nvPr/>
        </p:nvPicPr>
        <p:blipFill>
          <a:blip r:embed="rId3"/>
          <a:stretch/>
        </p:blipFill>
        <p:spPr>
          <a:xfrm>
            <a:off x="971640" y="3500280"/>
            <a:ext cx="1469880" cy="1617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shaozi"/>
          <p:cNvPicPr/>
          <p:nvPr/>
        </p:nvPicPr>
        <p:blipFill>
          <a:blip r:embed="rId4"/>
          <a:stretch/>
        </p:blipFill>
        <p:spPr>
          <a:xfrm>
            <a:off x="6012000" y="2637000"/>
            <a:ext cx="2736720" cy="24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01680" y="836280"/>
            <a:ext cx="434196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铜制电线</a:t>
            </a: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各种形状的金属制品</a:t>
            </a:r>
            <a:br>
              <a:rPr sz="36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各种饰品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各种各样的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属的导热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属的导电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属的延展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属的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59280" y="1844640"/>
            <a:ext cx="1944360" cy="2160720"/>
            <a:chOff x="3059280" y="1844640"/>
            <a:chExt cx="1944360" cy="2160720"/>
          </a:xfrm>
        </p:grpSpPr>
        <p:sp>
          <p:nvSpPr>
            <p:cNvPr id="226" name="Line 4"/>
            <p:cNvSpPr/>
            <p:nvPr/>
          </p:nvSpPr>
          <p:spPr>
            <a:xfrm>
              <a:off x="3059280" y="1844640"/>
              <a:ext cx="1944360" cy="21607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059280" y="1844640"/>
              <a:ext cx="1944360" cy="21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03280" y="1988640"/>
            <a:ext cx="1873440" cy="792360"/>
            <a:chOff x="3203280" y="1988640"/>
            <a:chExt cx="1873440" cy="792360"/>
          </a:xfrm>
        </p:grpSpPr>
        <p:sp>
          <p:nvSpPr>
            <p:cNvPr id="229" name="Line 5"/>
            <p:cNvSpPr/>
            <p:nvPr/>
          </p:nvSpPr>
          <p:spPr>
            <a:xfrm flipV="1">
              <a:off x="3203640" y="1988640"/>
              <a:ext cx="1873080" cy="792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 rot="10800000">
              <a:off x="3203280" y="1988640"/>
              <a:ext cx="18730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058920" y="2492280"/>
            <a:ext cx="2089440" cy="865440"/>
            <a:chOff x="3058920" y="2492280"/>
            <a:chExt cx="2089440" cy="865440"/>
          </a:xfrm>
        </p:grpSpPr>
        <p:sp>
          <p:nvSpPr>
            <p:cNvPr id="232" name="Line 6"/>
            <p:cNvSpPr/>
            <p:nvPr/>
          </p:nvSpPr>
          <p:spPr>
            <a:xfrm flipV="1">
              <a:off x="3059280" y="2492280"/>
              <a:ext cx="2089080" cy="865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 rot="10800000">
              <a:off x="3058920" y="2492280"/>
              <a:ext cx="2089080" cy="86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700000" y="3357360"/>
            <a:ext cx="2376720" cy="718920"/>
            <a:chOff x="2700000" y="3357360"/>
            <a:chExt cx="2376720" cy="718920"/>
          </a:xfrm>
        </p:grpSpPr>
        <p:sp>
          <p:nvSpPr>
            <p:cNvPr id="235" name="Line 7"/>
            <p:cNvSpPr/>
            <p:nvPr/>
          </p:nvSpPr>
          <p:spPr>
            <a:xfrm flipV="1">
              <a:off x="2700360" y="3357360"/>
              <a:ext cx="2376360" cy="718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2700000" y="3357360"/>
              <a:ext cx="2376360" cy="7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20600" y="266760"/>
            <a:ext cx="902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用过的空铝罐可以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回收利用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。送回工厂的空铝罐，经过加热熔炼后能够再制成铝材薄片，生产出新的铝罐。这要比开采铝土矿节省许多资源和能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5"/>
          <p:cNvSpPr txBox="1"/>
          <p:nvPr/>
        </p:nvSpPr>
        <p:spPr>
          <a:xfrm>
            <a:off x="250920" y="3789360"/>
            <a:ext cx="331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022480" y="494172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喝完饮料后的空铝罐，我们应该怎样处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525640" y="5589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回收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746960" y="31417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金属可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反复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EF13-7F43-4F00-A8C1-7C90869EB1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我们的周围，有许许多多的物体，它们是由不同的材料做成的。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木头、纤维、纸、玻璃、金属、塑料、橡胶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等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，我们都十分熟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为什么菜刀，镰刀，锤子等用铁制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不用铅制？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银的导电性比铜好，为什么电线一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般用铜而不用银制？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为什么灯泡里的灯丝用钨制而不用锡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制？如果用锡制的话，可能会出现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什么情况？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为什么有的铁制品如水龙头等镀铬？　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如果镀金怎么样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木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907920"/>
            <a:ext cx="604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360" y="30164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木材的特性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黄白色、容易吸水、容易加工、能浮在水面上、表面有纹路、比较硬等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314172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物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都是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多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材料做成的，我们的周围存在着许多不同种类的材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260280"/>
            <a:ext cx="914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最常见的材料：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木头、纤维、纸、玻璃、金属、塑料、橡胶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2"/>
          <p:cNvSpPr/>
          <p:nvPr/>
        </p:nvSpPr>
        <p:spPr>
          <a:xfrm>
            <a:off x="4067280" y="63817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200988213552847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324000" y="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辩析题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50920" y="79704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所有的物质都是材料。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燃料、化学原料、食物、药物一般都是材料。（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电视机的外壳是金属。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现在家庭中装修墙上贴的是墙纸。（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泡泡糖是材料。 （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740720" y="7970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340000" y="43974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796000" y="21636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7991640" y="30290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88000" y="51166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软硬程度描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8360" y="4579560"/>
            <a:ext cx="194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MG_42901"/>
          <p:cNvPicPr/>
          <p:nvPr/>
        </p:nvPicPr>
        <p:blipFill>
          <a:blip r:embed="rId1"/>
          <a:stretch/>
        </p:blipFill>
        <p:spPr>
          <a:xfrm>
            <a:off x="0" y="1916280"/>
            <a:ext cx="3168720" cy="237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MG_42931"/>
          <p:cNvPicPr/>
          <p:nvPr/>
        </p:nvPicPr>
        <p:blipFill>
          <a:blip r:embed="rId2"/>
          <a:stretch/>
        </p:blipFill>
        <p:spPr>
          <a:xfrm>
            <a:off x="3203640" y="1916280"/>
            <a:ext cx="2879640" cy="2520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19640" y="4723200"/>
            <a:ext cx="21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IMG_42921"/>
          <p:cNvPicPr/>
          <p:nvPr/>
        </p:nvPicPr>
        <p:blipFill>
          <a:blip r:embed="rId3"/>
          <a:stretch/>
        </p:blipFill>
        <p:spPr>
          <a:xfrm>
            <a:off x="6227640" y="1825560"/>
            <a:ext cx="2916360" cy="2595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6443640" y="4580280"/>
            <a:ext cx="23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软绵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14400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不同的材料有不同的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性质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材料的性质决定材料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用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199"/>
          <p:cNvSpPr/>
          <p:nvPr/>
        </p:nvSpPr>
        <p:spPr>
          <a:xfrm>
            <a:off x="498600" y="3522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选择身边最常见的木条、卡纸、铁钉和塑料这四种物品研究。它们当中谁的硬度更大呢？试着先自己想出一种研究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07880" y="24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硬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79280" y="31417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以准备木条、卡纸、铁钉和塑料尺各两根，用一根木条分别去刻画另一根木条、卡纸、铁钉和塑料尺。木条能在它们的表面留下划痕吗？再分别用卡纸、铁钉和塑料尺重复这个实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650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硬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4000" y="836640"/>
            <a:ext cx="84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把观察到的现象记录在表格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3009960"/>
            <a:ext cx="9456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81040" y="4253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533600"/>
          <a:ext cx="9145440" cy="49766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30240"/>
                <a:gridCol w="1676520"/>
                <a:gridCol w="1981080"/>
              </a:tblGrid>
              <a:tr h="77616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木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卡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铁钉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塑料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76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0" y="1773360"/>
            <a:ext cx="1692360" cy="1800000"/>
            <a:chOff x="0" y="1773360"/>
            <a:chExt cx="1692360" cy="1800000"/>
          </a:xfrm>
        </p:grpSpPr>
        <p:sp>
          <p:nvSpPr>
            <p:cNvPr id="117" name="Line 47"/>
            <p:cNvSpPr/>
            <p:nvPr/>
          </p:nvSpPr>
          <p:spPr>
            <a:xfrm>
              <a:off x="0" y="1773360"/>
              <a:ext cx="1692360" cy="180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0" y="1773360"/>
              <a:ext cx="1692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48"/>
          <p:cNvSpPr/>
          <p:nvPr/>
        </p:nvSpPr>
        <p:spPr>
          <a:xfrm>
            <a:off x="539640" y="16286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被划的     材 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9"/>
          <p:cNvSpPr/>
          <p:nvPr/>
        </p:nvSpPr>
        <p:spPr>
          <a:xfrm>
            <a:off x="0" y="2637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用来划的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0"/>
          <p:cNvSpPr/>
          <p:nvPr/>
        </p:nvSpPr>
        <p:spPr>
          <a:xfrm>
            <a:off x="744480" y="350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木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1"/>
          <p:cNvSpPr/>
          <p:nvPr/>
        </p:nvSpPr>
        <p:spPr>
          <a:xfrm>
            <a:off x="250920" y="414972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卡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2"/>
          <p:cNvSpPr/>
          <p:nvPr/>
        </p:nvSpPr>
        <p:spPr>
          <a:xfrm>
            <a:off x="600120" y="501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铁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0" y="5734080"/>
            <a:ext cx="22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塑料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4436640" y="1596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划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5"/>
          <p:cNvSpPr/>
          <p:nvPr/>
        </p:nvSpPr>
        <p:spPr>
          <a:xfrm>
            <a:off x="2235240" y="3070080"/>
            <a:ext cx="63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6"/>
          <p:cNvSpPr/>
          <p:nvPr/>
        </p:nvSpPr>
        <p:spPr>
          <a:xfrm>
            <a:off x="2411280" y="3573360"/>
            <a:ext cx="4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7"/>
          <p:cNvSpPr/>
          <p:nvPr/>
        </p:nvSpPr>
        <p:spPr>
          <a:xfrm>
            <a:off x="4316040" y="3500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8"/>
          <p:cNvSpPr/>
          <p:nvPr/>
        </p:nvSpPr>
        <p:spPr>
          <a:xfrm>
            <a:off x="6059520" y="34941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9"/>
          <p:cNvSpPr/>
          <p:nvPr/>
        </p:nvSpPr>
        <p:spPr>
          <a:xfrm>
            <a:off x="7623000" y="3500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0"/>
          <p:cNvSpPr/>
          <p:nvPr/>
        </p:nvSpPr>
        <p:spPr>
          <a:xfrm>
            <a:off x="2436840" y="429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1"/>
          <p:cNvSpPr/>
          <p:nvPr/>
        </p:nvSpPr>
        <p:spPr>
          <a:xfrm>
            <a:off x="4141800" y="43196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2"/>
          <p:cNvSpPr/>
          <p:nvPr/>
        </p:nvSpPr>
        <p:spPr>
          <a:xfrm>
            <a:off x="6108840" y="4221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3"/>
          <p:cNvSpPr/>
          <p:nvPr/>
        </p:nvSpPr>
        <p:spPr>
          <a:xfrm>
            <a:off x="7693200" y="4221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4"/>
          <p:cNvSpPr/>
          <p:nvPr/>
        </p:nvSpPr>
        <p:spPr>
          <a:xfrm>
            <a:off x="2372760" y="51577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5"/>
          <p:cNvSpPr/>
          <p:nvPr/>
        </p:nvSpPr>
        <p:spPr>
          <a:xfrm>
            <a:off x="4171680" y="50846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6"/>
          <p:cNvSpPr/>
          <p:nvPr/>
        </p:nvSpPr>
        <p:spPr>
          <a:xfrm>
            <a:off x="5942160" y="51116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7"/>
          <p:cNvSpPr/>
          <p:nvPr/>
        </p:nvSpPr>
        <p:spPr>
          <a:xfrm>
            <a:off x="7772040" y="4869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8"/>
          <p:cNvSpPr/>
          <p:nvPr/>
        </p:nvSpPr>
        <p:spPr>
          <a:xfrm>
            <a:off x="2372760" y="58053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9"/>
          <p:cNvSpPr/>
          <p:nvPr/>
        </p:nvSpPr>
        <p:spPr>
          <a:xfrm>
            <a:off x="4244760" y="5877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0"/>
          <p:cNvSpPr/>
          <p:nvPr/>
        </p:nvSpPr>
        <p:spPr>
          <a:xfrm>
            <a:off x="6181560" y="5805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1"/>
          <p:cNvSpPr/>
          <p:nvPr/>
        </p:nvSpPr>
        <p:spPr>
          <a:xfrm>
            <a:off x="7669440" y="57610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6:52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04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