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5EE-3C06-4146-91CA-B726C6D1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9E0-4B54-4C59-95AC-04162DD6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7F3-0886-42F6-BC70-C2839397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B09-0B66-4626-ADD9-E08C111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6FCD-0599-4F47-AE73-29F7860B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AB5B-D5C0-4D33-A19B-CE28E474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0F4-FCB6-4898-8067-4437414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417C-2D6D-4198-867B-1BEF58C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CDA-7903-45E8-AA4C-ABD7982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9A25-DAB4-42D3-A351-A36A5D3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AA21-75A7-4693-8155-AA50FECB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143-CCE9-42EC-A5AD-DA421F2F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53A8-D850-4C6A-AB4D-5E3D332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ACB0-C59F-4EAA-B428-BEBB2D6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6B13-BBEE-4A3C-B867-0C6C3447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D74-A73F-4ACA-AB53-1ECFEF46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907-1FC8-4944-873D-A02FC4AC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E6291-10AC-4C36-B1FB-6EAE2394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A8A3-513D-4A28-BAB1-8508DCA8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864A-8148-4C55-A99C-BEDD9273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FCA6-9964-4E49-B9AF-C113689D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7276-004B-4E89-AAC4-C28FF8A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568-E1AE-4E6D-AF30-89013E7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E766-3922-4482-8692-BDEE7D3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3499C-379C-421C-B056-F819D3D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E050-A83D-416D-9DBA-C273F54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0D2C-F037-4AA6-8023-1CD32F1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6778-00BA-455F-8A00-04D030F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6C5A-8612-4EB4-BF87-E89337D4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5677-DC3A-485E-8E96-BBB4DEF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823-E489-40DD-B2AC-5190D6A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242-2655-45CD-8247-2BFC3E9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8D4-D8AD-4241-B693-77B2AE8D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A35-B30C-4647-8343-2B675A2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EA3-658D-4D2B-B6E1-27BC119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8B1-C3E9-4DA6-AE37-1FD5688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B666-68F7-4DB4-B768-A5B8CF6757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E8A-C43D-4BE1-9389-A0CF96EA7D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88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C4D-EFF5-4043-A0FD-34148E955D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508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19120" y="146988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节  欧姆定律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4013280" y="3065400"/>
            <a:ext cx="3724200" cy="244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"/>
          <p:cNvPicPr/>
          <p:nvPr/>
        </p:nvPicPr>
        <p:blipFill>
          <a:blip r:embed="rId3"/>
          <a:stretch/>
        </p:blipFill>
        <p:spPr>
          <a:xfrm>
            <a:off x="1905120" y="3065400"/>
            <a:ext cx="1928520" cy="24512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0" y="1749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某小灯泡工作时两端的电压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.5V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用电流表测得此时的电流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00m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此灯泡工作时的电阻是多少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1019160" y="843120"/>
            <a:ext cx="42480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算算看吧！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BC79-87E3-46F9-90E6-7042A60198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733320" y="266688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当导体两端电压为零时，导体电阻也为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导体两端的电压越大，导体的电阻也越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导体中的电流越大，导体的电阻也越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导体的电阻是导体本身的性质，它的大小与导体两端的电压及导体中的电流无关。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0492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Object 5" descr=""/>
          <p:cNvPicPr/>
          <p:nvPr/>
        </p:nvPicPr>
        <p:blipFill>
          <a:blip r:embed="rId1"/>
          <a:stretch/>
        </p:blipFill>
        <p:spPr>
          <a:xfrm>
            <a:off x="4243320" y="735120"/>
            <a:ext cx="871560" cy="7938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6288120" y="719280"/>
            <a:ext cx="914400" cy="780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485640" y="723960"/>
            <a:ext cx="7953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欧姆定律公式            可导出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此式，下列说法正确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300640" y="18003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20040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导体中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跟导体两端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成正比，跟导体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阻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成反比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886200" y="914400"/>
            <a:ext cx="282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德国物理学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欧 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38080" y="388620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欧姆定律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4724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U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压         伏特（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V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09480" y="3886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I 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流         安培（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5486400"/>
            <a:ext cx="783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R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阻         欧姆（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黑体"/>
              </a:rPr>
              <a:t>Ω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1676520" cy="15782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3471120" y="1676520"/>
            <a:ext cx="2853360" cy="1992240"/>
            <a:chOff x="3471120" y="1676520"/>
            <a:chExt cx="2853360" cy="1992240"/>
          </a:xfrm>
        </p:grpSpPr>
        <p:pic>
          <p:nvPicPr>
            <p:cNvPr id="146" name="Object 6" descr=""/>
            <p:cNvPicPr/>
            <p:nvPr/>
          </p:nvPicPr>
          <p:blipFill>
            <a:blip r:embed="rId2"/>
            <a:stretch/>
          </p:blipFill>
          <p:spPr>
            <a:xfrm>
              <a:off x="4572000" y="1676520"/>
              <a:ext cx="1752480" cy="56520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dddddd"/>
              </a:outerShdw>
            </a:effectLst>
          </p:spPr>
        </p:pic>
        <p:pic>
          <p:nvPicPr>
            <p:cNvPr id="147" name="Object 7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1490400" cy="1306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148" name=""/>
            <p:cNvGrpSpPr/>
            <p:nvPr/>
          </p:nvGrpSpPr>
          <p:grpSpPr>
            <a:xfrm>
              <a:off x="3505320" y="1981080"/>
              <a:ext cx="914400" cy="457200"/>
              <a:chOff x="3505320" y="1981080"/>
              <a:chExt cx="914400" cy="457200"/>
            </a:xfrm>
          </p:grpSpPr>
          <p:sp>
            <p:nvSpPr>
              <p:cNvPr id="149" name="Line 8"/>
              <p:cNvSpPr/>
              <p:nvPr/>
            </p:nvSpPr>
            <p:spPr>
              <a:xfrm flipV="1">
                <a:off x="3505320" y="1981080"/>
                <a:ext cx="91440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10800000">
                <a:off x="3505320" y="19810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71120" y="2417760"/>
              <a:ext cx="982800" cy="1031760"/>
              <a:chOff x="3471120" y="2417760"/>
              <a:chExt cx="982800" cy="1031760"/>
            </a:xfrm>
          </p:grpSpPr>
          <p:sp>
            <p:nvSpPr>
              <p:cNvPr id="152" name="Line 9"/>
              <p:cNvSpPr/>
              <p:nvPr/>
            </p:nvSpPr>
            <p:spPr>
              <a:xfrm>
                <a:off x="3471120" y="2651760"/>
                <a:ext cx="982440" cy="56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 rot="15126600">
                <a:off x="3543120" y="2552400"/>
                <a:ext cx="83808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47920" y="5867280"/>
            <a:ext cx="1066680" cy="360"/>
            <a:chOff x="1447920" y="5867280"/>
            <a:chExt cx="1066680" cy="360"/>
          </a:xfrm>
        </p:grpSpPr>
        <p:sp>
          <p:nvSpPr>
            <p:cNvPr id="155" name="Line 10"/>
            <p:cNvSpPr/>
            <p:nvPr/>
          </p:nvSpPr>
          <p:spPr>
            <a:xfrm>
              <a:off x="1447920" y="58672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47920" y="5867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657600" y="5867280"/>
            <a:ext cx="1066680" cy="360"/>
            <a:chOff x="3657600" y="5867280"/>
            <a:chExt cx="1066680" cy="360"/>
          </a:xfrm>
        </p:grpSpPr>
        <p:sp>
          <p:nvSpPr>
            <p:cNvPr id="158" name="Line 11"/>
            <p:cNvSpPr/>
            <p:nvPr/>
          </p:nvSpPr>
          <p:spPr>
            <a:xfrm>
              <a:off x="3657600" y="58672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657600" y="5867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47560" y="5105160"/>
            <a:ext cx="1067040" cy="360"/>
            <a:chOff x="1447560" y="5105160"/>
            <a:chExt cx="1067040" cy="360"/>
          </a:xfrm>
        </p:grpSpPr>
        <p:sp>
          <p:nvSpPr>
            <p:cNvPr id="161" name="Line 12"/>
            <p:cNvSpPr/>
            <p:nvPr/>
          </p:nvSpPr>
          <p:spPr>
            <a:xfrm>
              <a:off x="1447920" y="5105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447560" y="510516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657600" y="5105520"/>
            <a:ext cx="1066680" cy="360"/>
            <a:chOff x="3657600" y="5105520"/>
            <a:chExt cx="1066680" cy="360"/>
          </a:xfrm>
        </p:grpSpPr>
        <p:sp>
          <p:nvSpPr>
            <p:cNvPr id="164" name="Line 13"/>
            <p:cNvSpPr/>
            <p:nvPr/>
          </p:nvSpPr>
          <p:spPr>
            <a:xfrm>
              <a:off x="3657600" y="5105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657600" y="51055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71600" y="4267080"/>
            <a:ext cx="1066680" cy="360"/>
            <a:chOff x="1371600" y="4267080"/>
            <a:chExt cx="1066680" cy="360"/>
          </a:xfrm>
        </p:grpSpPr>
        <p:sp>
          <p:nvSpPr>
            <p:cNvPr id="167" name="Line 14"/>
            <p:cNvSpPr/>
            <p:nvPr/>
          </p:nvSpPr>
          <p:spPr>
            <a:xfrm>
              <a:off x="137160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3716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57600" y="4267080"/>
            <a:ext cx="1066680" cy="360"/>
            <a:chOff x="3657600" y="4267080"/>
            <a:chExt cx="1066680" cy="360"/>
          </a:xfrm>
        </p:grpSpPr>
        <p:sp>
          <p:nvSpPr>
            <p:cNvPr id="170" name="Line 15"/>
            <p:cNvSpPr/>
            <p:nvPr/>
          </p:nvSpPr>
          <p:spPr>
            <a:xfrm>
              <a:off x="365760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6576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" name="WordArt 16"/>
          <p:cNvSpPr txBox="1"/>
          <p:nvPr/>
        </p:nvSpPr>
        <p:spPr>
          <a:xfrm>
            <a:off x="1295280" y="5335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欧姆定律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文本框 8199"/>
          <p:cNvSpPr/>
          <p:nvPr/>
        </p:nvSpPr>
        <p:spPr>
          <a:xfrm>
            <a:off x="3657600" y="1062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2057400"/>
            <a:ext cx="85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公式中的单位要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统一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公式中的各个物理量必须对应于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同一段电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295280" y="83808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注意哦！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6" name="Picture 8" descr="8-6"/>
          <p:cNvPicPr/>
          <p:nvPr/>
        </p:nvPicPr>
        <p:blipFill>
          <a:blip r:embed="rId1"/>
          <a:stretch/>
        </p:blipFill>
        <p:spPr>
          <a:xfrm>
            <a:off x="4343400" y="3809880"/>
            <a:ext cx="426708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120" y="1752120"/>
            <a:ext cx="856764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辆汽车的车灯接在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2V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电源两端，灯丝电阻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求通过灯丝的电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835200" y="3402000"/>
            <a:ext cx="74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根据欧姆定律可知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844640" y="4087800"/>
            <a:ext cx="6295680" cy="1219680"/>
            <a:chOff x="1844640" y="4087800"/>
            <a:chExt cx="6295680" cy="1219680"/>
          </a:xfrm>
        </p:grpSpPr>
        <p:grpSp>
          <p:nvGrpSpPr>
            <p:cNvPr id="181" name="Group 14"/>
            <p:cNvGrpSpPr/>
            <p:nvPr/>
          </p:nvGrpSpPr>
          <p:grpSpPr>
            <a:xfrm>
              <a:off x="1844640" y="4087800"/>
              <a:ext cx="1091520" cy="1219680"/>
              <a:chOff x="1844640" y="4087800"/>
              <a:chExt cx="1091520" cy="1219680"/>
            </a:xfrm>
          </p:grpSpPr>
          <p:sp>
            <p:nvSpPr>
              <p:cNvPr id="182" name="Text Box 10"/>
              <p:cNvSpPr/>
              <p:nvPr/>
            </p:nvSpPr>
            <p:spPr>
              <a:xfrm>
                <a:off x="1844640" y="4344840"/>
                <a:ext cx="577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I=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11"/>
              <p:cNvSpPr/>
              <p:nvPr/>
            </p:nvSpPr>
            <p:spPr>
              <a:xfrm>
                <a:off x="2358360" y="4087800"/>
                <a:ext cx="51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U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Text Box 12"/>
              <p:cNvSpPr/>
              <p:nvPr/>
            </p:nvSpPr>
            <p:spPr>
              <a:xfrm>
                <a:off x="2422080" y="4604040"/>
                <a:ext cx="51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58360" y="4667760"/>
                <a:ext cx="450360" cy="360"/>
                <a:chOff x="2358360" y="4667760"/>
                <a:chExt cx="450360" cy="360"/>
              </a:xfrm>
            </p:grpSpPr>
            <p:sp>
              <p:nvSpPr>
                <p:cNvPr id="186" name="Line 13"/>
                <p:cNvSpPr/>
                <p:nvPr/>
              </p:nvSpPr>
              <p:spPr>
                <a:xfrm>
                  <a:off x="2358360" y="4667760"/>
                  <a:ext cx="45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2358360" y="4667760"/>
                  <a:ext cx="45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8" name="Text Box 15"/>
            <p:cNvSpPr/>
            <p:nvPr/>
          </p:nvSpPr>
          <p:spPr>
            <a:xfrm>
              <a:off x="2942280" y="4390920"/>
              <a:ext cx="519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12V/30</a:t>
              </a:r>
              <a:r>
                <a:rPr b="1" lang="el-GR" sz="3200" spc="-1" strike="noStrike">
                  <a:solidFill>
                    <a:srgbClr val="000000"/>
                  </a:solidFill>
                  <a:latin typeface="Verdana"/>
                </a:rPr>
                <a:t>Ω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0.4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75248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如图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7.2-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所示，闭合开关后，电压表的示数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V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电流表的示数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0.3A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求电阻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的阻值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6683400" y="51894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.2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139760" y="33908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根据欧姆定律可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36"/>
          <p:cNvGrpSpPr/>
          <p:nvPr/>
        </p:nvGrpSpPr>
        <p:grpSpPr>
          <a:xfrm>
            <a:off x="595440" y="4100400"/>
            <a:ext cx="5238360" cy="1314360"/>
            <a:chOff x="595440" y="4100400"/>
            <a:chExt cx="5238360" cy="1314360"/>
          </a:xfrm>
        </p:grpSpPr>
        <p:grpSp>
          <p:nvGrpSpPr>
            <p:cNvPr id="194" name="Group 14"/>
            <p:cNvGrpSpPr/>
            <p:nvPr/>
          </p:nvGrpSpPr>
          <p:grpSpPr>
            <a:xfrm>
              <a:off x="595440" y="4100400"/>
              <a:ext cx="1364760" cy="1314360"/>
              <a:chOff x="595440" y="4100400"/>
              <a:chExt cx="1364760" cy="1314360"/>
            </a:xfrm>
          </p:grpSpPr>
          <p:sp>
            <p:nvSpPr>
              <p:cNvPr id="195" name="Text Box 10"/>
              <p:cNvSpPr/>
              <p:nvPr/>
            </p:nvSpPr>
            <p:spPr>
              <a:xfrm>
                <a:off x="595440" y="4465800"/>
                <a:ext cx="72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1237680" y="4100400"/>
                <a:ext cx="64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Calibri"/>
                  </a:rPr>
                  <a:t>U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1317600" y="4833360"/>
                <a:ext cx="64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237680" y="4924080"/>
                <a:ext cx="563040" cy="360"/>
                <a:chOff x="1237680" y="4924080"/>
                <a:chExt cx="563040" cy="360"/>
              </a:xfrm>
            </p:grpSpPr>
            <p:sp>
              <p:nvSpPr>
                <p:cNvPr id="199" name="Line 13"/>
                <p:cNvSpPr/>
                <p:nvPr/>
              </p:nvSpPr>
              <p:spPr>
                <a:xfrm>
                  <a:off x="1237680" y="4924080"/>
                  <a:ext cx="56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1237680" y="4924080"/>
                  <a:ext cx="563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1" name="Text Box 35"/>
            <p:cNvSpPr/>
            <p:nvPr/>
          </p:nvSpPr>
          <p:spPr>
            <a:xfrm>
              <a:off x="1837080" y="4524480"/>
              <a:ext cx="39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6V/0.3A=20 </a:t>
              </a:r>
              <a:r>
                <a:rPr b="1" lang="el-GR" sz="3200" spc="-1" strike="noStrike">
                  <a:solidFill>
                    <a:srgbClr val="000000"/>
                  </a:solidFill>
                  <a:latin typeface="Verdana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" name="Group 38"/>
          <p:cNvGrpSpPr/>
          <p:nvPr/>
        </p:nvGrpSpPr>
        <p:grpSpPr>
          <a:xfrm>
            <a:off x="6081840" y="3067200"/>
            <a:ext cx="2361960" cy="2030040"/>
            <a:chOff x="6081840" y="3067200"/>
            <a:chExt cx="2361960" cy="2030040"/>
          </a:xfrm>
        </p:grpSpPr>
        <p:grpSp>
          <p:nvGrpSpPr>
            <p:cNvPr id="203" name="Group 27"/>
            <p:cNvGrpSpPr/>
            <p:nvPr/>
          </p:nvGrpSpPr>
          <p:grpSpPr>
            <a:xfrm>
              <a:off x="6081840" y="3067200"/>
              <a:ext cx="2361960" cy="2030040"/>
              <a:chOff x="6081840" y="3067200"/>
              <a:chExt cx="2361960" cy="20300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737400" y="4707360"/>
                <a:ext cx="360" cy="389880"/>
                <a:chOff x="6737400" y="4707360"/>
                <a:chExt cx="360" cy="389880"/>
              </a:xfrm>
            </p:grpSpPr>
            <p:sp>
              <p:nvSpPr>
                <p:cNvPr id="205" name="Line 20"/>
                <p:cNvSpPr/>
                <p:nvPr/>
              </p:nvSpPr>
              <p:spPr>
                <a:xfrm>
                  <a:off x="6737400" y="4707360"/>
                  <a:ext cx="0" cy="38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>
                  <a:off x="6737400" y="4707360"/>
                  <a:ext cx="360" cy="3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791400" y="4828680"/>
                <a:ext cx="360" cy="178920"/>
                <a:chOff x="6791400" y="4828680"/>
                <a:chExt cx="360" cy="178920"/>
              </a:xfrm>
            </p:grpSpPr>
            <p:sp>
              <p:nvSpPr>
                <p:cNvPr id="208" name="Line 21"/>
                <p:cNvSpPr/>
                <p:nvPr/>
              </p:nvSpPr>
              <p:spPr>
                <a:xfrm>
                  <a:off x="6791400" y="4828680"/>
                  <a:ext cx="0" cy="1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>
                  <a:off x="6791400" y="4828680"/>
                  <a:ext cx="3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0" name="Group 26"/>
              <p:cNvGrpSpPr/>
              <p:nvPr/>
            </p:nvGrpSpPr>
            <p:grpSpPr>
              <a:xfrm>
                <a:off x="6081840" y="3067200"/>
                <a:ext cx="2361960" cy="1919520"/>
                <a:chOff x="6081840" y="3067200"/>
                <a:chExt cx="2361960" cy="1919520"/>
              </a:xfrm>
            </p:grpSpPr>
            <p:grpSp>
              <p:nvGrpSpPr>
                <p:cNvPr id="211" name="Group 17"/>
                <p:cNvGrpSpPr/>
                <p:nvPr/>
              </p:nvGrpSpPr>
              <p:grpSpPr>
                <a:xfrm>
                  <a:off x="6081840" y="3067200"/>
                  <a:ext cx="2350800" cy="1854360"/>
                  <a:chOff x="6081840" y="3067200"/>
                  <a:chExt cx="2350800" cy="1854360"/>
                </a:xfrm>
              </p:grpSpPr>
              <p:grpSp>
                <p:nvGrpSpPr>
                  <p:cNvPr id="212" name="Group 11"/>
                  <p:cNvGrpSpPr/>
                  <p:nvPr/>
                </p:nvGrpSpPr>
                <p:grpSpPr>
                  <a:xfrm>
                    <a:off x="6081840" y="3211920"/>
                    <a:ext cx="349200" cy="1709640"/>
                    <a:chOff x="6081840" y="3211920"/>
                    <a:chExt cx="349200" cy="170964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6254640" y="3211920"/>
                      <a:ext cx="360" cy="736200"/>
                      <a:chOff x="6254640" y="3211920"/>
                      <a:chExt cx="360" cy="736200"/>
                    </a:xfrm>
                  </p:grpSpPr>
                  <p:sp>
                    <p:nvSpPr>
                      <p:cNvPr id="214" name="Line 8"/>
                      <p:cNvSpPr/>
                      <p:nvPr/>
                    </p:nvSpPr>
                    <p:spPr>
                      <a:xfrm>
                        <a:off x="6254640" y="3211920"/>
                        <a:ext cx="0" cy="736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15" name=""/>
                      <p:cNvSpPr txBox="1"/>
                      <p:nvPr/>
                    </p:nvSpPr>
                    <p:spPr>
                      <a:xfrm>
                        <a:off x="6254640" y="3211920"/>
                        <a:ext cx="360" cy="736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254640" y="4218120"/>
                      <a:ext cx="360" cy="703440"/>
                      <a:chOff x="6254640" y="4218120"/>
                      <a:chExt cx="360" cy="703440"/>
                    </a:xfrm>
                  </p:grpSpPr>
                  <p:sp>
                    <p:nvSpPr>
                      <p:cNvPr id="217" name="Line 9"/>
                      <p:cNvSpPr/>
                      <p:nvPr/>
                    </p:nvSpPr>
                    <p:spPr>
                      <a:xfrm>
                        <a:off x="6254640" y="4218120"/>
                        <a:ext cx="0" cy="70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18" name=""/>
                      <p:cNvSpPr txBox="1"/>
                      <p:nvPr/>
                    </p:nvSpPr>
                    <p:spPr>
                      <a:xfrm>
                        <a:off x="6254640" y="4218120"/>
                        <a:ext cx="360" cy="703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219" name="Oval 10"/>
                    <p:cNvSpPr/>
                    <p:nvPr/>
                  </p:nvSpPr>
                  <p:spPr>
                    <a:xfrm>
                      <a:off x="6081840" y="3948120"/>
                      <a:ext cx="349200" cy="30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20" name="Group 16"/>
                  <p:cNvGrpSpPr/>
                  <p:nvPr/>
                </p:nvGrpSpPr>
                <p:grpSpPr>
                  <a:xfrm>
                    <a:off x="6253200" y="3067200"/>
                    <a:ext cx="2179440" cy="601560"/>
                    <a:chOff x="6253200" y="3067200"/>
                    <a:chExt cx="2179440" cy="601560"/>
                  </a:xfrm>
                </p:grpSpPr>
                <p:grpSp>
                  <p:nvGrpSpPr>
                    <p:cNvPr id="221" name="Group 7"/>
                    <p:cNvGrpSpPr/>
                    <p:nvPr/>
                  </p:nvGrpSpPr>
                  <p:grpSpPr>
                    <a:xfrm>
                      <a:off x="6265800" y="3067200"/>
                      <a:ext cx="2165040" cy="289440"/>
                      <a:chOff x="6265800" y="3067200"/>
                      <a:chExt cx="2165040" cy="28944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6265800" y="3201480"/>
                        <a:ext cx="900720" cy="360"/>
                        <a:chOff x="6265800" y="3201480"/>
                        <a:chExt cx="900720" cy="360"/>
                      </a:xfrm>
                    </p:grpSpPr>
                    <p:sp>
                      <p:nvSpPr>
                        <p:cNvPr id="223" name="Line 4"/>
                        <p:cNvSpPr/>
                        <p:nvPr/>
                      </p:nvSpPr>
                      <p:spPr>
                        <a:xfrm>
                          <a:off x="6265800" y="3201480"/>
                          <a:ext cx="900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 txBox="1"/>
                        <p:nvPr/>
                      </p:nvSpPr>
                      <p:spPr>
                        <a:xfrm>
                          <a:off x="6265800" y="3201480"/>
                          <a:ext cx="9007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7454520" y="3211920"/>
                        <a:ext cx="976320" cy="360"/>
                        <a:chOff x="7454520" y="3211920"/>
                        <a:chExt cx="976320" cy="360"/>
                      </a:xfrm>
                    </p:grpSpPr>
                    <p:sp>
                      <p:nvSpPr>
                        <p:cNvPr id="226" name="Line 5"/>
                        <p:cNvSpPr/>
                        <p:nvPr/>
                      </p:nvSpPr>
                      <p:spPr>
                        <a:xfrm>
                          <a:off x="7454520" y="3211920"/>
                          <a:ext cx="976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 txBox="1"/>
                        <p:nvPr/>
                      </p:nvSpPr>
                      <p:spPr>
                        <a:xfrm>
                          <a:off x="7454520" y="3211920"/>
                          <a:ext cx="9763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228" name="Oval 6"/>
                      <p:cNvSpPr/>
                      <p:nvPr/>
                    </p:nvSpPr>
                    <p:spPr>
                      <a:xfrm>
                        <a:off x="7155000" y="3067200"/>
                        <a:ext cx="336600" cy="28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V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29" name="Group 15"/>
                    <p:cNvGrpSpPr/>
                    <p:nvPr/>
                  </p:nvGrpSpPr>
                  <p:grpSpPr>
                    <a:xfrm>
                      <a:off x="6253200" y="3501720"/>
                      <a:ext cx="2179440" cy="167040"/>
                      <a:chOff x="6253200" y="3501720"/>
                      <a:chExt cx="2179440" cy="167040"/>
                    </a:xfrm>
                  </p:grpSpPr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6253200" y="3601440"/>
                        <a:ext cx="685800" cy="360"/>
                        <a:chOff x="6253200" y="3601440"/>
                        <a:chExt cx="685800" cy="360"/>
                      </a:xfrm>
                    </p:grpSpPr>
                    <p:sp>
                      <p:nvSpPr>
                        <p:cNvPr id="231" name="Line 12"/>
                        <p:cNvSpPr/>
                        <p:nvPr/>
                      </p:nvSpPr>
                      <p:spPr>
                        <a:xfrm>
                          <a:off x="6253200" y="3601440"/>
                          <a:ext cx="685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 txBox="1"/>
                        <p:nvPr/>
                      </p:nvSpPr>
                      <p:spPr>
                        <a:xfrm>
                          <a:off x="6253200" y="3601440"/>
                          <a:ext cx="6858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233" name="Rectangle 13"/>
                      <p:cNvSpPr/>
                      <p:nvPr/>
                    </p:nvSpPr>
                    <p:spPr>
                      <a:xfrm>
                        <a:off x="6951600" y="3501720"/>
                        <a:ext cx="700200" cy="16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7639200" y="3579120"/>
                        <a:ext cx="793440" cy="360"/>
                        <a:chOff x="7639200" y="3579120"/>
                        <a:chExt cx="793440" cy="360"/>
                      </a:xfrm>
                    </p:grpSpPr>
                    <p:sp>
                      <p:nvSpPr>
                        <p:cNvPr id="235" name="Line 14"/>
                        <p:cNvSpPr/>
                        <p:nvPr/>
                      </p:nvSpPr>
                      <p:spPr>
                        <a:xfrm>
                          <a:off x="7639200" y="3579120"/>
                          <a:ext cx="793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 txBox="1"/>
                        <p:nvPr/>
                      </p:nvSpPr>
                      <p:spPr>
                        <a:xfrm>
                          <a:off x="7639200" y="3579120"/>
                          <a:ext cx="7934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431200" y="3222360"/>
                  <a:ext cx="360" cy="1697040"/>
                  <a:chOff x="8431200" y="3222360"/>
                  <a:chExt cx="360" cy="1697040"/>
                </a:xfrm>
              </p:grpSpPr>
              <p:sp>
                <p:nvSpPr>
                  <p:cNvPr id="238" name="Line 18"/>
                  <p:cNvSpPr/>
                  <p:nvPr/>
                </p:nvSpPr>
                <p:spPr>
                  <a:xfrm>
                    <a:off x="8431200" y="3222360"/>
                    <a:ext cx="0" cy="169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8431200" y="3222360"/>
                    <a:ext cx="360" cy="16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267600" y="4907880"/>
                  <a:ext cx="455400" cy="360"/>
                  <a:chOff x="6267600" y="4907880"/>
                  <a:chExt cx="455400" cy="360"/>
                </a:xfrm>
              </p:grpSpPr>
              <p:sp>
                <p:nvSpPr>
                  <p:cNvPr id="241" name="Line 19"/>
                  <p:cNvSpPr/>
                  <p:nvPr/>
                </p:nvSpPr>
                <p:spPr>
                  <a:xfrm>
                    <a:off x="6267600" y="4907880"/>
                    <a:ext cx="455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6267600" y="4907880"/>
                    <a:ext cx="455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791400" y="4919760"/>
                  <a:ext cx="496800" cy="360"/>
                  <a:chOff x="6791400" y="4919760"/>
                  <a:chExt cx="496800" cy="360"/>
                </a:xfrm>
              </p:grpSpPr>
              <p:sp>
                <p:nvSpPr>
                  <p:cNvPr id="244" name="Line 22"/>
                  <p:cNvSpPr/>
                  <p:nvPr/>
                </p:nvSpPr>
                <p:spPr>
                  <a:xfrm>
                    <a:off x="6791400" y="4919760"/>
                    <a:ext cx="49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>
                    <a:off x="6791400" y="4919760"/>
                    <a:ext cx="496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46" name="Oval 23"/>
                <p:cNvSpPr/>
                <p:nvPr/>
              </p:nvSpPr>
              <p:spPr>
                <a:xfrm>
                  <a:off x="7327800" y="4862880"/>
                  <a:ext cx="14940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462440" y="4684680"/>
                  <a:ext cx="228960" cy="189720"/>
                  <a:chOff x="7462440" y="4684680"/>
                  <a:chExt cx="228960" cy="189720"/>
                </a:xfrm>
              </p:grpSpPr>
              <p:sp>
                <p:nvSpPr>
                  <p:cNvPr id="248" name="Line 24"/>
                  <p:cNvSpPr/>
                  <p:nvPr/>
                </p:nvSpPr>
                <p:spPr>
                  <a:xfrm flipV="1">
                    <a:off x="7462800" y="4684680"/>
                    <a:ext cx="228600" cy="18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9" name=""/>
                  <p:cNvSpPr txBox="1"/>
                  <p:nvPr/>
                </p:nvSpPr>
                <p:spPr>
                  <a:xfrm rot="10800000">
                    <a:off x="7462440" y="4684680"/>
                    <a:ext cx="22860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705800" y="4930200"/>
                  <a:ext cx="738000" cy="360"/>
                  <a:chOff x="7705800" y="4930200"/>
                  <a:chExt cx="738000" cy="360"/>
                </a:xfrm>
              </p:grpSpPr>
              <p:sp>
                <p:nvSpPr>
                  <p:cNvPr id="251" name="Line 25"/>
                  <p:cNvSpPr/>
                  <p:nvPr/>
                </p:nvSpPr>
                <p:spPr>
                  <a:xfrm>
                    <a:off x="7705800" y="4930200"/>
                    <a:ext cx="73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2" name=""/>
                  <p:cNvSpPr txBox="1"/>
                  <p:nvPr/>
                </p:nvSpPr>
                <p:spPr>
                  <a:xfrm>
                    <a:off x="7705800" y="4930200"/>
                    <a:ext cx="73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53" name="Text Box 37"/>
            <p:cNvSpPr/>
            <p:nvPr/>
          </p:nvSpPr>
          <p:spPr>
            <a:xfrm>
              <a:off x="7074000" y="360216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7524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个熨斗的电阻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0.1KΩ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使用时流过的电流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1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加在电熨斗上的电压是多少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17400" y="3578400"/>
            <a:ext cx="705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 根据欧姆定律可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=IR=2.1A×100Ω=210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科学世界：酒精浓度检测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200909030921028212"/>
          <p:cNvPicPr/>
          <p:nvPr/>
        </p:nvPicPr>
        <p:blipFill>
          <a:blip r:embed="rId1"/>
          <a:stretch/>
        </p:blipFill>
        <p:spPr>
          <a:xfrm>
            <a:off x="577800" y="1730520"/>
            <a:ext cx="8028000" cy="4754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019160" y="430200"/>
            <a:ext cx="4248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算算看吧！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4000" y="3649680"/>
            <a:ext cx="90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个定值电阻的阻值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使用时流过的电流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00m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加在这个定值电阻两端的电压是多大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0" y="1882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个电熨斗的电阻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接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20V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电压上，流过它的电流是多少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文本框 8199"/>
          <p:cNvSpPr/>
          <p:nvPr/>
        </p:nvSpPr>
        <p:spPr>
          <a:xfrm>
            <a:off x="1724040" y="198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5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9Z</dcterms:modified>
  <cp:revision>1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