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3.gif" ContentType="image/gif"/>
  <Override PartName="/ppt/media/image7.png" ContentType="image/png"/>
  <Override PartName="/ppt/media/image1.jpeg" ContentType="image/jpeg"/>
  <Override PartName="/ppt/media/image22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gif" ContentType="image/gif"/>
  <Override PartName="/ppt/media/image29.png" ContentType="image/png"/>
  <Override PartName="/ppt/media/image21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3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26D26-A617-4E27-B248-48DF79C1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92AA9-275D-4287-B2C6-BF3198FD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8FB8B-89F4-4B60-AD53-AE9044C0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15FCC-B466-4477-BA82-6D01884B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35D76-E8FB-49C8-94C2-EB414E9B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FBEF4-EDA4-4C28-958B-E765B036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ABAD4-824D-4228-98B0-CD1DA005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A7259-57FA-41D6-BBD9-EFF5A572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D7891-BF59-4B3F-9F1C-1ABB3311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0A3C5-3FDB-4867-A4F8-1B2E2E2E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6B911-E3B8-4A3C-90CC-2C45455E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E123A-2211-4D71-BE2C-CAFB928A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4D884-5CDB-46E9-ADC4-C33308F5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E39EA-4789-425E-BBDA-F496DF82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8DA04-C00B-4EA2-9BAC-58F278D6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61B0B-4EAA-4288-AADF-D7415F04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4EF23-5EA6-4EA7-AFFB-C2D43228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28BED-E7B6-4595-8698-52EB5E4F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3D54F-9E9E-4957-B2A1-B7E6643B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9E98B-76D4-4A62-8CC2-97B85CC9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CE395-CE6B-4606-9B49-74DFE804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70E19-7596-4FE0-B787-069D16BA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045C5-82BD-4B2D-80EE-68031B26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8296B-A57D-4082-80AA-26B7B8F3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BF708-690D-4174-8353-6569414F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66E2B-5DFB-431F-AD12-2B66378C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C04F4-C707-4700-B964-D2A00672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EF767-724F-4B95-AFCD-9B754692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5DEF3-028D-454C-A183-914D6797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47E97-AB39-4DA1-879F-2996EBCD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79616-FA87-4255-857A-B57D53C0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67ADF-215F-4651-AE24-8C0A2191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07447-2DBB-423C-AC47-2CE91651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61439-7AE0-4D81-801D-E70FFE8B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1B5AC-DBFE-47D7-AC09-FF0F933A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45CDC-C946-4899-B954-35E7640C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94C2C-556C-4AEA-9B43-A32C0488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B9D57-ABAC-4171-8D25-47E28EC0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54053-00E8-49E7-9DF9-5BFBAC65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62019-54AB-473F-92B1-20E19D26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E6D34-2C62-4525-A44D-69E37FB9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EB97F-48DE-4935-81FD-64072B3F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F05E2-1686-4EAF-8DC8-46E34944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3C26B-A903-4A32-9D14-EC2B20B8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45847-DF74-4189-8424-F6420D24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0800B-0CFF-463A-93EE-AFADE518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C1742-9CA5-4FC9-9423-C2A51920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3C4B6-DCFC-4185-B65D-C6784117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F5FE5-39BB-4628-8B40-ADEE4D19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9017E-B8F7-4894-AFBF-03AF3406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7C769-19F6-429A-BCAA-0C8B4551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8C5C7-D83D-4E28-BE59-B31E0F30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2B1D9-D77D-4185-8408-141123AA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36388-4567-42CA-8BA6-0DD9FADE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2B64E-EC29-48CB-BC1D-8C24D0B8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1B150-5364-4610-B11B-A2458034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9CFF9-A560-4CD4-B30F-6185B214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90F50-4D60-499B-A18E-96B6D2B5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FA8FA-904E-4C30-A417-03D28CFC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7AEB6-3407-4978-9EE8-D3D6AC12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21189-6A1E-49E8-B4BD-6C228A73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81D35-6AFD-44C4-8B5B-CFD5BFE5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1D300-5928-4A36-B1E5-DBE6D70F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16BB1-ADF9-48E0-9980-EEB347AB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F3B51-A559-47B1-8379-0A012DF2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E196C-C067-4086-9194-84BB0856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D084D-EEB6-4B76-9AED-E967704C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BFFC3-2A21-4C69-B283-2C818BB7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84FAC-806E-4A5C-AA9C-B4DE2BB7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55957-D811-48F4-B234-20136A9B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06C32-2F46-4874-830A-3B16F333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E70D8-1F3A-4907-BFD9-0C9D3A98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E06318-77E1-4C29-96DA-3F3010F1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F28111-4B35-4640-8918-AD015FCE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E74882-5453-4723-9492-6195B0D5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983DD-8D39-49B1-82D8-EB1A872C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821C7F-11A2-442B-828C-5DAC6239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287689-CD86-4ACD-9E94-7D8EDB5C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D18E0B-B6DD-4CE5-9091-83731A3D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EDCEF-B54E-4459-8F45-30E543C4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FAA440-8A47-4670-8E89-C20CFB09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6D67-D980-43AB-A6CF-BF6A1E96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02C2-1225-4A45-B4AB-91224EBE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D98D-F478-4521-8873-018F7F5D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946-DB3F-4149-906B-423AEF33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61D8-964B-4911-AD2C-CE66F85A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1C8-D039-4437-9164-DE0F5286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C5D6-A415-4D3C-950A-6EFCE6CF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BFA2-B4F3-4F88-92EB-BCEF34F1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8DB-01A3-419A-998D-57F56904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022D-48F5-48F6-91BF-AD384D69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998-790F-44BB-A8AE-417DC6AD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0F08-2449-4C97-8D3C-13E945AE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1495-E751-4E89-8CB0-D25FB804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A11C-F2DB-446B-9692-4577042F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77DE-2D71-46A7-8806-45528929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94A4-0887-42A0-8A49-1D4AE31A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D50D-F8FF-4CBE-B03F-0F046E59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CF0E-314A-4B19-81FB-C5ABBC04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D947-88AF-46EA-B051-16218723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F81A-A79D-48E1-BC8B-FA9DF5DB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1045-A518-4D28-B7AC-FCE4794F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B579-2273-454F-BCCB-D13E49BA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8EF7-AE2B-4673-A082-608F5375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AF18-62BE-44F6-A998-888F03B1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62A3C-DD84-42D0-8330-989C3E88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9D288-2AFC-4F4C-9A57-36CB6DCB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D1A27-5C05-412A-A306-8194F2B8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42C84-EF09-4095-BD6D-A05B1522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0120D-1D80-40BC-A8A8-46492D83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6F537-AF59-49DB-B7D6-199D34EC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D28D7-70C0-4FDD-969D-12585153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0D724-D21B-4402-927E-A09E4B88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94708-8D18-4A2C-901C-3074280B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FC4D4-9CE3-4093-93D9-25D657AC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10EB9-B49F-480E-9587-BB250596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90AC8-63C8-428B-A5D4-F71A1C6E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A7F78-0045-42F8-9A27-688F6CF5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FAA1D-BFA5-476F-8892-85A63EB2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9BB02-6CE8-4AA7-AC29-7EE5F2B3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E7683-8C6A-43E4-883E-1478858F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B8A33-AB49-40AB-85F9-C2532B7C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D42FE-8719-4CE4-B01B-F38EEEF3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606BC-AA0A-43C3-B7FC-4C41BC6A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FC708-60F7-4245-94BE-37DD6261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06546-72F8-465F-A256-CDEDFBDE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72DDB-36A3-4224-8EA6-BB18C77D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6B6FC-B811-4290-B129-D01C58AF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5B7CD-881B-4CB5-9083-5ECDBBDD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93683-5133-46C8-A2B3-C6DEE3EE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90970-0D1F-471E-B406-5A3863D3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96292-F418-4732-B54D-6F8D3299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9CB74-D8FC-41E6-AC75-7D46973F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6F2D8-C888-4FE0-879E-BC2D9991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1C9AB-BED7-4749-AB3A-3940325D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D06F6-4E5C-408B-8292-E5B5B5C1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7EB5E-00C7-4D64-9EE1-6432D362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ECE1D-9A7B-4B94-AA0D-3E3F560E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F794F-EF57-459B-A381-ECDD0A0B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65755-90D5-47D1-9606-1476CFCE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1CE5F-3054-45ED-B6A1-0A4A8179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51962-2EBA-48EF-AB9B-4C8B1E62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2939A-BFFE-42CF-9A5C-16EC01EA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CFE43-2F8D-4F7A-8328-269B06D1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0A875-3A19-49F5-8683-C97530FD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66C86-34B3-4886-8C65-BB05981D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1ADB3-9C64-4B5E-A26C-3E7A2C30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CE9BF-F671-4207-8082-877A6B21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DA2A8-95C8-4635-BF62-1C4724D0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6397E-939B-466A-9CF6-AEA8D105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3412E-4846-4057-AE3C-36B4E48D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03CE8-2843-463F-B71E-23E2BD9A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3FEF3-C962-462F-B954-8D72BEFE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5F1AA-6890-4E4C-BB22-663376BE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CB892-CC12-4294-A97A-ED99DDE6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46FD5-943E-4673-AC7F-D4825503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3A50-B09A-4D16-B230-FDAA5D2E17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A18A-38AA-4A15-BD53-22830DDFFFA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D1D2-0BF1-475F-9DB3-09B07B312B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F354-281D-47E8-B4FA-4EEF26187D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DA27-1FF3-44F2-B2EE-5792BC5610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B4E1-615F-4F9D-8355-A1AB73D225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8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A8FF-BC1A-48CB-9897-071722A1C63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EE66-80BC-45AE-AACB-8EB3A0168CA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2107-C193-4D37-9522-4753AF0A2A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36A3-23E9-4EA2-8CBE-BFD5169E2B9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DC52-CD03-4B2A-A314-C9AE259046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6309-2D58-4D51-858F-39696423A6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DAEE-94EF-4749-AD86-7B5EFF4146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2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2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../../../../&#30446;&#24405;.ppt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15" descr="框"/>
          <p:cNvPicPr/>
          <p:nvPr/>
        </p:nvPicPr>
        <p:blipFill>
          <a:blip r:embed="rId1"/>
          <a:stretch/>
        </p:blipFill>
        <p:spPr>
          <a:xfrm>
            <a:off x="1905120" y="685800"/>
            <a:ext cx="6476760" cy="20066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老师"/>
          <p:cNvPicPr/>
          <p:nvPr/>
        </p:nvPicPr>
        <p:blipFill>
          <a:blip r:embed="rId2"/>
          <a:stretch/>
        </p:blipFill>
        <p:spPr>
          <a:xfrm>
            <a:off x="17640" y="2803680"/>
            <a:ext cx="3698640" cy="351288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4"/>
          <p:cNvSpPr/>
          <p:nvPr/>
        </p:nvSpPr>
        <p:spPr>
          <a:xfrm>
            <a:off x="1752480" y="16765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平等尊重你我他课件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下载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14" name="Picture 5" descr="SC20060725172627500"/>
          <p:cNvPicPr/>
          <p:nvPr/>
        </p:nvPicPr>
        <p:blipFill>
          <a:blip r:embed="rId3"/>
          <a:stretch/>
        </p:blipFill>
        <p:spPr>
          <a:xfrm>
            <a:off x="3581280" y="30481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615" name="矩形 1"/>
          <p:cNvSpPr/>
          <p:nvPr/>
        </p:nvSpPr>
        <p:spPr>
          <a:xfrm>
            <a:off x="3946680" y="91440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九课 心有他人天地宽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http://www.eeppt.com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13"/>
          <p:cNvSpPr/>
          <p:nvPr/>
        </p:nvSpPr>
        <p:spPr>
          <a:xfrm>
            <a:off x="4038480" y="55627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平等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人类永恒的追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3679920" y="936720"/>
            <a:ext cx="4762440" cy="466704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2" descr=""/>
          <p:cNvPicPr/>
          <p:nvPr/>
        </p:nvPicPr>
        <p:blipFill>
          <a:blip r:embed="rId2"/>
          <a:stretch/>
        </p:blipFill>
        <p:spPr>
          <a:xfrm>
            <a:off x="830160" y="3270240"/>
            <a:ext cx="2516400" cy="259236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3" descr=""/>
          <p:cNvPicPr/>
          <p:nvPr/>
        </p:nvPicPr>
        <p:blipFill>
          <a:blip r:embed="rId3"/>
          <a:stretch/>
        </p:blipFill>
        <p:spPr>
          <a:xfrm>
            <a:off x="828720" y="762120"/>
            <a:ext cx="2517840" cy="24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2"/>
          <p:cNvSpPr/>
          <p:nvPr/>
        </p:nvSpPr>
        <p:spPr>
          <a:xfrm>
            <a:off x="4229280" y="4746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7" name="Rectangle 8"/>
          <p:cNvSpPr/>
          <p:nvPr/>
        </p:nvSpPr>
        <p:spPr>
          <a:xfrm>
            <a:off x="2637000" y="1015920"/>
            <a:ext cx="40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板块二：尊重从我做起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48" name="Picture 5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162240" cy="3838680"/>
          </a:xfrm>
          <a:prstGeom prst="rect">
            <a:avLst/>
          </a:prstGeom>
          <a:ln w="0">
            <a:noFill/>
          </a:ln>
        </p:spPr>
      </p:pic>
      <p:sp>
        <p:nvSpPr>
          <p:cNvPr id="749" name="文本框 8194"/>
          <p:cNvSpPr/>
          <p:nvPr/>
        </p:nvSpPr>
        <p:spPr>
          <a:xfrm>
            <a:off x="1571760" y="60498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336699"/>
                </a:solidFill>
                <a:uFillTx/>
                <a:latin typeface="Verdana"/>
                <a:ea typeface="宋体"/>
                <a:hlinkClick r:id="rId2"/>
              </a:rPr>
              <a:t>免费ppt模板</a:t>
            </a:r>
            <a:r>
              <a:rPr b="1" lang="zh-CN" sz="16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r>
              <a:rPr b="1" lang="zh-CN" sz="1600" spc="-1" strike="noStrike">
                <a:solidFill>
                  <a:srgbClr val="0000ff"/>
                </a:solidFill>
                <a:latin typeface="Verdana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789120" y="2471760"/>
            <a:ext cx="75564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剧情：老师上课时，发现成绩优异的张丽没带课本</a:t>
            </a:r>
            <a:r>
              <a:rPr b="1" lang="en-US" sz="2100" spc="-1" strike="noStrike">
                <a:solidFill>
                  <a:srgbClr val="0000ff"/>
                </a:solidFill>
                <a:latin typeface="宋体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成绩不理想的张强趴在桌子上</a:t>
            </a:r>
            <a:r>
              <a:rPr b="1" lang="en-US" sz="2100" spc="-1" strike="noStrike">
                <a:solidFill>
                  <a:srgbClr val="0000ff"/>
                </a:solidFill>
                <a:latin typeface="宋体"/>
              </a:rPr>
              <a:t>…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Text Box 7"/>
          <p:cNvSpPr/>
          <p:nvPr/>
        </p:nvSpPr>
        <p:spPr>
          <a:xfrm>
            <a:off x="685800" y="3657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我想对剧中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说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宋体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2" name="Text Box 9"/>
          <p:cNvSpPr/>
          <p:nvPr/>
        </p:nvSpPr>
        <p:spPr>
          <a:xfrm>
            <a:off x="1676520" y="14256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小品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书的风波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》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53" name="Picture 11" descr="2004121511115859383"/>
          <p:cNvPicPr/>
          <p:nvPr/>
        </p:nvPicPr>
        <p:blipFill>
          <a:blip r:embed="rId1"/>
          <a:stretch/>
        </p:blipFill>
        <p:spPr>
          <a:xfrm>
            <a:off x="685800" y="4865760"/>
            <a:ext cx="7772400" cy="13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788760" y="1968480"/>
            <a:ext cx="74818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原因：受人尊重是每个人的基本权利，成功交往也要求我们去尊重他人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具体表现：平等待人、礼貌待人、诚信待人、友善待人、理解他人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Text Box 6"/>
          <p:cNvSpPr/>
          <p:nvPr/>
        </p:nvSpPr>
        <p:spPr>
          <a:xfrm>
            <a:off x="1905120" y="11574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尊重他人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56" name="Picture 10" descr="182"/>
          <p:cNvPicPr/>
          <p:nvPr/>
        </p:nvPicPr>
        <p:blipFill>
          <a:blip r:embed="rId1"/>
          <a:stretch/>
        </p:blipFill>
        <p:spPr>
          <a:xfrm>
            <a:off x="609480" y="5226120"/>
            <a:ext cx="8001000" cy="9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图片 2" descr=""/>
          <p:cNvPicPr/>
          <p:nvPr/>
        </p:nvPicPr>
        <p:blipFill>
          <a:blip r:embed="rId1"/>
          <a:stretch/>
        </p:blipFill>
        <p:spPr>
          <a:xfrm>
            <a:off x="762120" y="623880"/>
            <a:ext cx="7858080" cy="56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4"/>
          <p:cNvSpPr/>
          <p:nvPr/>
        </p:nvSpPr>
        <p:spPr>
          <a:xfrm>
            <a:off x="1308240" y="2209680"/>
            <a:ext cx="7607160" cy="25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宋体"/>
                <a:ea typeface="宋体"/>
              </a:rPr>
              <a:t>原因：</a:t>
            </a:r>
            <a:r>
              <a:rPr b="1" lang="zh-CN" sz="2100" spc="-1" strike="noStrike">
                <a:solidFill>
                  <a:srgbClr val="ff0000"/>
                </a:solidFill>
                <a:latin typeface="宋体"/>
                <a:ea typeface="宋体"/>
              </a:rPr>
              <a:t>社会是人际关系的集合体。</a:t>
            </a:r>
            <a:endParaRPr b="1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100" spc="-1" strike="noStrike">
                <a:solidFill>
                  <a:srgbClr val="ff0000"/>
                </a:solidFill>
                <a:latin typeface="宋体"/>
                <a:ea typeface="宋体"/>
              </a:rPr>
              <a:t>尊重社会就是尊重他人，尊重自己。</a:t>
            </a:r>
            <a:endParaRPr b="1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宋体"/>
                <a:ea typeface="宋体"/>
              </a:rPr>
              <a:t>具体表现</a:t>
            </a:r>
            <a:r>
              <a:rPr b="0" lang="zh-CN" sz="2100" spc="-1" strike="noStrike">
                <a:solidFill>
                  <a:srgbClr val="0000ff"/>
                </a:solidFill>
                <a:latin typeface="宋体"/>
                <a:ea typeface="宋体"/>
              </a:rPr>
              <a:t>：</a:t>
            </a:r>
            <a:endParaRPr b="1" lang="en-US" sz="2100" spc="-1" strike="noStrike">
              <a:solidFill>
                <a:srgbClr val="0000ff"/>
              </a:solidFill>
              <a:latin typeface="Arial"/>
            </a:endParaRPr>
          </a:p>
          <a:p>
            <a:pPr lvl="1" marL="907920" indent="-4363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宋体"/>
              </a:rPr>
              <a:t>承担责任、维护权利等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907920" indent="-4363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宋体"/>
              </a:rPr>
              <a:t>遵守规则（底线）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9" name="Text Box 6"/>
          <p:cNvSpPr/>
          <p:nvPr/>
        </p:nvSpPr>
        <p:spPr>
          <a:xfrm>
            <a:off x="2590920" y="990720"/>
            <a:ext cx="32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1752480" y="11430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尊重社会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61" name="Picture 8" descr="1L89V294O$UBKW8N33V4%1M"/>
          <p:cNvPicPr/>
          <p:nvPr/>
        </p:nvPicPr>
        <p:blipFill>
          <a:blip r:embed="rId1"/>
          <a:stretch/>
        </p:blipFill>
        <p:spPr>
          <a:xfrm>
            <a:off x="6629400" y="4495680"/>
            <a:ext cx="1371600" cy="13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2" descr="1"/>
          <p:cNvPicPr/>
          <p:nvPr/>
        </p:nvPicPr>
        <p:blipFill>
          <a:blip r:embed="rId1"/>
          <a:stretch/>
        </p:blipFill>
        <p:spPr>
          <a:xfrm>
            <a:off x="4648320" y="685800"/>
            <a:ext cx="3809880" cy="27576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3" descr="1"/>
          <p:cNvPicPr/>
          <p:nvPr/>
        </p:nvPicPr>
        <p:blipFill>
          <a:blip r:embed="rId2"/>
          <a:stretch/>
        </p:blipFill>
        <p:spPr>
          <a:xfrm>
            <a:off x="4648320" y="3581280"/>
            <a:ext cx="3809880" cy="262440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4" descr="1"/>
          <p:cNvPicPr/>
          <p:nvPr/>
        </p:nvPicPr>
        <p:blipFill>
          <a:blip r:embed="rId3"/>
          <a:stretch/>
        </p:blipFill>
        <p:spPr>
          <a:xfrm>
            <a:off x="685800" y="3429000"/>
            <a:ext cx="3733920" cy="2693880"/>
          </a:xfrm>
          <a:prstGeom prst="rect">
            <a:avLst/>
          </a:prstGeom>
          <a:ln w="0">
            <a:noFill/>
          </a:ln>
        </p:spPr>
      </p:pic>
      <p:sp>
        <p:nvSpPr>
          <p:cNvPr id="765" name="Text Box 7"/>
          <p:cNvSpPr/>
          <p:nvPr/>
        </p:nvSpPr>
        <p:spPr>
          <a:xfrm>
            <a:off x="838080" y="1828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城市牛皮癣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5" descr="xinsrc_66fcf28f1906416b89028e55b43a4c9c"/>
          <p:cNvPicPr/>
          <p:nvPr/>
        </p:nvPicPr>
        <p:blipFill>
          <a:blip r:embed="rId1"/>
          <a:stretch/>
        </p:blipFill>
        <p:spPr>
          <a:xfrm>
            <a:off x="895320" y="806400"/>
            <a:ext cx="7410600" cy="53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7"/>
          <p:cNvSpPr/>
          <p:nvPr/>
        </p:nvSpPr>
        <p:spPr>
          <a:xfrm>
            <a:off x="2590920" y="55627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睁眼瞎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68" name="图片 1" descr=""/>
          <p:cNvPicPr/>
          <p:nvPr/>
        </p:nvPicPr>
        <p:blipFill>
          <a:blip r:embed="rId1"/>
          <a:stretch/>
        </p:blipFill>
        <p:spPr>
          <a:xfrm>
            <a:off x="573120" y="797040"/>
            <a:ext cx="8008920" cy="46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63280" y="2184480"/>
            <a:ext cx="7481880" cy="15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原因：人类生存离不开自然，人类有责任和义务尊重无私奉献的大自然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具体表现：保护环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Text Box 7"/>
          <p:cNvSpPr/>
          <p:nvPr/>
        </p:nvSpPr>
        <p:spPr>
          <a:xfrm>
            <a:off x="1828800" y="11430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尊重自然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1" name="Text Box 8"/>
          <p:cNvSpPr/>
          <p:nvPr/>
        </p:nvSpPr>
        <p:spPr>
          <a:xfrm>
            <a:off x="990720" y="4419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尊重自然的核心是保护环境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9" descr="学习目标"/>
          <p:cNvPicPr/>
          <p:nvPr/>
        </p:nvPicPr>
        <p:blipFill>
          <a:blip r:embed="rId1"/>
          <a:stretch/>
        </p:blipFill>
        <p:spPr>
          <a:xfrm>
            <a:off x="2755800" y="755640"/>
            <a:ext cx="3514680" cy="103176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5"/>
          <p:cNvSpPr/>
          <p:nvPr/>
        </p:nvSpPr>
        <p:spPr>
          <a:xfrm>
            <a:off x="685800" y="2133720"/>
            <a:ext cx="77724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．把握平等的内涵，知道人人平等是指人格和法律地位上的平等。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．懂得什么是尊重，尊重自己，尊重他人，尊重自然。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．懂得爱护公共环境和设施，遵守公德和秩序体现着对他人的尊重。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．生活中能做到平等对待他人，尤其是平等对待处境不利的人，并能提供力所能及的帮助。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．在遵守道德、遵纪守法，爱护公物，保护环境。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．能做到尊重他人，尊重社会，尊重自然。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Picture 7" descr="200812595328254_2"/>
          <p:cNvPicPr/>
          <p:nvPr/>
        </p:nvPicPr>
        <p:blipFill>
          <a:blip r:embed="rId1"/>
          <a:stretch/>
        </p:blipFill>
        <p:spPr>
          <a:xfrm>
            <a:off x="914400" y="990720"/>
            <a:ext cx="746748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4" descr="F201006012134421273597079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5" descr="601893aff68c2e3e35fe9c37a9bee948"/>
          <p:cNvPicPr/>
          <p:nvPr/>
        </p:nvPicPr>
        <p:blipFill>
          <a:blip r:embed="rId1"/>
          <a:stretch/>
        </p:blipFill>
        <p:spPr>
          <a:xfrm>
            <a:off x="762120" y="797040"/>
            <a:ext cx="7543800" cy="53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571680" y="1676160"/>
            <a:ext cx="822960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、（</a:t>
            </a:r>
            <a:r>
              <a:rPr b="1" lang="en-US" sz="2100" spc="-1" strike="noStrike">
                <a:solidFill>
                  <a:srgbClr val="0000ff"/>
                </a:solidFill>
                <a:latin typeface="宋体"/>
              </a:rPr>
              <a:t>2010·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昭通中考）每个人都是社会的一员，社会交往是人类不可缺少的活动。我们在与他人交往的过程中要 获得知识、友谊和信任，就必须懂得做人的基本要求。做人的基本要求是 </a:t>
            </a:r>
            <a:r>
              <a:rPr b="1" lang="en-US" sz="2100" spc="-1" strike="noStrike">
                <a:solidFill>
                  <a:srgbClr val="0000ff"/>
                </a:solidFill>
                <a:latin typeface="宋体"/>
              </a:rPr>
              <a:t>(  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．以礼相待、唯唯诺诺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．真诚坦率、想说就说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．不近情理、坚持原则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宋体"/>
              </a:rPr>
              <a:t>D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．尊重他人、平等相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2438280" y="3124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77" name="Picture 8" descr="课堂训练"/>
          <p:cNvPicPr/>
          <p:nvPr/>
        </p:nvPicPr>
        <p:blipFill>
          <a:blip r:embed="rId1"/>
          <a:stretch/>
        </p:blipFill>
        <p:spPr>
          <a:xfrm>
            <a:off x="2749680" y="806400"/>
            <a:ext cx="3117600" cy="71748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5" descr="动画人物"/>
          <p:cNvPicPr/>
          <p:nvPr/>
        </p:nvPicPr>
        <p:blipFill>
          <a:blip r:embed="rId2"/>
          <a:stretch/>
        </p:blipFill>
        <p:spPr>
          <a:xfrm>
            <a:off x="5410080" y="4114800"/>
            <a:ext cx="157176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457200" y="5331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、尽管我们每个人的境遇和条件不同，但人生而平等，下列有关平等的理解正确的有（   ）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①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在人格上，我们都有做人的尊严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②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在法律地位上，我们每个人都平等地享有法定的权利，平等地履行法定的义务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③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金钱和地位的差异可以超越人格尊严和人们法律地位上的平等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④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金钱和地位的差异不可以超越人格尊严和人们法律地位上的平等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宋体"/>
              </a:rPr>
              <a:t>A. ②③④   B.①②③   C.①②④    D.①③④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Text Box 8"/>
          <p:cNvSpPr/>
          <p:nvPr/>
        </p:nvSpPr>
        <p:spPr>
          <a:xfrm>
            <a:off x="4876920" y="11732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C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1" name="文本框 8194"/>
          <p:cNvSpPr/>
          <p:nvPr/>
        </p:nvSpPr>
        <p:spPr>
          <a:xfrm>
            <a:off x="965160" y="5491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336699"/>
                </a:solidFill>
                <a:uFillTx/>
                <a:latin typeface="Verdana"/>
                <a:ea typeface="宋体"/>
                <a:hlinkClick r:id="rId1"/>
              </a:rPr>
              <a:t>免费ppt模板</a:t>
            </a:r>
            <a:r>
              <a:rPr b="1" lang="zh-CN" sz="16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r>
              <a:rPr b="1" lang="zh-CN" sz="1600" spc="-1" strike="noStrike">
                <a:solidFill>
                  <a:srgbClr val="0000ff"/>
                </a:solidFill>
                <a:latin typeface="Verdana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171360" y="2268360"/>
            <a:ext cx="1033560" cy="342900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平等尊重你我他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3312720" y="2954160"/>
            <a:ext cx="762480" cy="360"/>
            <a:chOff x="3312720" y="2954160"/>
            <a:chExt cx="762480" cy="360"/>
          </a:xfrm>
        </p:grpSpPr>
        <p:sp>
          <p:nvSpPr>
            <p:cNvPr id="784" name="Line 10"/>
            <p:cNvSpPr/>
            <p:nvPr/>
          </p:nvSpPr>
          <p:spPr>
            <a:xfrm flipH="1">
              <a:off x="3312720" y="29541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85" name=""/>
            <p:cNvSpPr txBox="1"/>
            <p:nvPr/>
          </p:nvSpPr>
          <p:spPr>
            <a:xfrm>
              <a:off x="3313080" y="295416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389040" y="4935600"/>
            <a:ext cx="686160" cy="360"/>
            <a:chOff x="3389040" y="4935600"/>
            <a:chExt cx="686160" cy="360"/>
          </a:xfrm>
        </p:grpSpPr>
        <p:sp>
          <p:nvSpPr>
            <p:cNvPr id="787" name="Line 11"/>
            <p:cNvSpPr/>
            <p:nvPr/>
          </p:nvSpPr>
          <p:spPr>
            <a:xfrm flipH="1">
              <a:off x="3389040" y="4935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88" name=""/>
            <p:cNvSpPr txBox="1"/>
            <p:nvPr/>
          </p:nvSpPr>
          <p:spPr>
            <a:xfrm>
              <a:off x="3389400" y="493560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789" name="Text Box 16"/>
          <p:cNvSpPr/>
          <p:nvPr/>
        </p:nvSpPr>
        <p:spPr>
          <a:xfrm>
            <a:off x="2093760" y="2554200"/>
            <a:ext cx="1143000" cy="45972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人生而平等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0" name="Text Box 17"/>
          <p:cNvSpPr/>
          <p:nvPr/>
        </p:nvSpPr>
        <p:spPr>
          <a:xfrm>
            <a:off x="2093760" y="4335480"/>
            <a:ext cx="1219320" cy="82548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尊重从我做起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1" name="Text Box 18"/>
          <p:cNvSpPr/>
          <p:nvPr/>
        </p:nvSpPr>
        <p:spPr>
          <a:xfrm>
            <a:off x="4191120" y="1447920"/>
            <a:ext cx="4190760" cy="167940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．平等的集体表现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．“高人一等” 的思想和做法是错误的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．增强平等意识、平等对待他人、取长补短是正确态度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平等对待处于不利地位的人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2" name="Text Box 19"/>
          <p:cNvSpPr/>
          <p:nvPr/>
        </p:nvSpPr>
        <p:spPr>
          <a:xfrm>
            <a:off x="4200480" y="4191120"/>
            <a:ext cx="4432320" cy="128304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．尊重的意义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．尊重他人的要求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．尊重个体、尊重社会、尊重自然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1255680" y="3868200"/>
            <a:ext cx="380880" cy="360"/>
            <a:chOff x="1255680" y="3868200"/>
            <a:chExt cx="380880" cy="360"/>
          </a:xfrm>
        </p:grpSpPr>
        <p:sp>
          <p:nvSpPr>
            <p:cNvPr id="794" name="Line 23"/>
            <p:cNvSpPr/>
            <p:nvPr/>
          </p:nvSpPr>
          <p:spPr>
            <a:xfrm flipH="1">
              <a:off x="1255680" y="38685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95" name=""/>
            <p:cNvSpPr txBox="1"/>
            <p:nvPr/>
          </p:nvSpPr>
          <p:spPr>
            <a:xfrm rot="10800000">
              <a:off x="1255680" y="386820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796" name="Group 31"/>
          <p:cNvGrpSpPr/>
          <p:nvPr/>
        </p:nvGrpSpPr>
        <p:grpSpPr>
          <a:xfrm>
            <a:off x="1636560" y="3030480"/>
            <a:ext cx="380880" cy="1752840"/>
            <a:chOff x="1636560" y="3030480"/>
            <a:chExt cx="380880" cy="1752840"/>
          </a:xfrm>
        </p:grpSpPr>
        <p:grpSp>
          <p:nvGrpSpPr>
            <p:cNvPr id="797" name=""/>
            <p:cNvGrpSpPr/>
            <p:nvPr/>
          </p:nvGrpSpPr>
          <p:grpSpPr>
            <a:xfrm>
              <a:off x="1636560" y="4782960"/>
              <a:ext cx="380880" cy="360"/>
              <a:chOff x="1636560" y="4782960"/>
              <a:chExt cx="380880" cy="360"/>
            </a:xfrm>
          </p:grpSpPr>
          <p:sp>
            <p:nvSpPr>
              <p:cNvPr id="798" name="Line 27"/>
              <p:cNvSpPr/>
              <p:nvPr/>
            </p:nvSpPr>
            <p:spPr>
              <a:xfrm>
                <a:off x="1636560" y="47829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 txBox="1"/>
              <p:nvPr/>
            </p:nvSpPr>
            <p:spPr>
              <a:xfrm>
                <a:off x="1636560" y="478296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1636560" y="3030480"/>
              <a:ext cx="380880" cy="360"/>
              <a:chOff x="1636560" y="3030480"/>
              <a:chExt cx="380880" cy="360"/>
            </a:xfrm>
          </p:grpSpPr>
          <p:sp>
            <p:nvSpPr>
              <p:cNvPr id="801" name="Line 28"/>
              <p:cNvSpPr/>
              <p:nvPr/>
            </p:nvSpPr>
            <p:spPr>
              <a:xfrm>
                <a:off x="1636560" y="30304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 txBox="1"/>
              <p:nvPr/>
            </p:nvSpPr>
            <p:spPr>
              <a:xfrm>
                <a:off x="1636560" y="303048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1636560" y="3030480"/>
              <a:ext cx="360" cy="1752480"/>
              <a:chOff x="1636560" y="3030480"/>
              <a:chExt cx="360" cy="1752480"/>
            </a:xfrm>
          </p:grpSpPr>
          <p:sp>
            <p:nvSpPr>
              <p:cNvPr id="804" name="Line 29"/>
              <p:cNvSpPr/>
              <p:nvPr/>
            </p:nvSpPr>
            <p:spPr>
              <a:xfrm>
                <a:off x="1636560" y="3030480"/>
                <a:ext cx="0" cy="17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 txBox="1"/>
              <p:nvPr/>
            </p:nvSpPr>
            <p:spPr>
              <a:xfrm>
                <a:off x="1636560" y="3030480"/>
                <a:ext cx="360" cy="1752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</p:grpSp>
      <p:pic>
        <p:nvPicPr>
          <p:cNvPr id="806" name="Picture 35" descr="图片3"/>
          <p:cNvPicPr/>
          <p:nvPr/>
        </p:nvPicPr>
        <p:blipFill>
          <a:blip r:embed="rId1"/>
          <a:stretch/>
        </p:blipFill>
        <p:spPr>
          <a:xfrm>
            <a:off x="2610000" y="758880"/>
            <a:ext cx="3089160" cy="7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6"/>
          <p:cNvSpPr/>
          <p:nvPr/>
        </p:nvSpPr>
        <p:spPr>
          <a:xfrm>
            <a:off x="609480" y="2057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学习了本课后，你有哪些收获和感想？告诉大家好吗？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685800" y="3385080"/>
            <a:ext cx="7696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平等、尊重，这是人类社会理性的呼声，只要我们本着一颗善良的心，平等待人、尊重他人，我们获得的也将是平等和尊重。我们期盼的社会将会更加和谐、美好。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09" name="Picture 9" descr="图片2"/>
          <p:cNvPicPr/>
          <p:nvPr/>
        </p:nvPicPr>
        <p:blipFill>
          <a:blip r:embed="rId1"/>
          <a:stretch/>
        </p:blipFill>
        <p:spPr>
          <a:xfrm>
            <a:off x="3124080" y="914400"/>
            <a:ext cx="3353040" cy="9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E8D9-6930-49A5-BC79-F0CF906312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Freeform 2"/>
          <p:cNvSpPr/>
          <p:nvPr/>
        </p:nvSpPr>
        <p:spPr>
          <a:xfrm>
            <a:off x="749160" y="4533840"/>
            <a:ext cx="7659720" cy="352440"/>
          </a:xfrm>
          <a:custGeom>
            <a:avLst/>
            <a:gdLst/>
            <a:ahLst/>
            <a:rect l="l" t="t" r="r" b="b"/>
            <a:pathLst>
              <a:path w="4825" h="222">
                <a:moveTo>
                  <a:pt x="4825" y="222"/>
                </a:moveTo>
                <a:lnTo>
                  <a:pt x="4808" y="217"/>
                </a:lnTo>
                <a:lnTo>
                  <a:pt x="4739" y="207"/>
                </a:lnTo>
                <a:lnTo>
                  <a:pt x="4627" y="191"/>
                </a:lnTo>
                <a:lnTo>
                  <a:pt x="4472" y="170"/>
                </a:lnTo>
                <a:lnTo>
                  <a:pt x="4274" y="145"/>
                </a:lnTo>
                <a:lnTo>
                  <a:pt x="4042" y="119"/>
                </a:lnTo>
                <a:lnTo>
                  <a:pt x="3776" y="98"/>
                </a:lnTo>
                <a:lnTo>
                  <a:pt x="3475" y="78"/>
                </a:lnTo>
                <a:lnTo>
                  <a:pt x="3148" y="62"/>
                </a:lnTo>
                <a:lnTo>
                  <a:pt x="2786" y="47"/>
                </a:lnTo>
                <a:lnTo>
                  <a:pt x="2399" y="47"/>
                </a:lnTo>
                <a:lnTo>
                  <a:pt x="2012" y="47"/>
                </a:lnTo>
                <a:lnTo>
                  <a:pt x="1660" y="62"/>
                </a:lnTo>
                <a:lnTo>
                  <a:pt x="1333" y="78"/>
                </a:lnTo>
                <a:lnTo>
                  <a:pt x="1032" y="98"/>
                </a:lnTo>
                <a:lnTo>
                  <a:pt x="774" y="119"/>
                </a:lnTo>
                <a:lnTo>
                  <a:pt x="550" y="145"/>
                </a:lnTo>
                <a:lnTo>
                  <a:pt x="361" y="170"/>
                </a:lnTo>
                <a:lnTo>
                  <a:pt x="206" y="191"/>
                </a:lnTo>
                <a:lnTo>
                  <a:pt x="94" y="207"/>
                </a:lnTo>
                <a:lnTo>
                  <a:pt x="34" y="217"/>
                </a:lnTo>
                <a:lnTo>
                  <a:pt x="8" y="222"/>
                </a:lnTo>
                <a:lnTo>
                  <a:pt x="0" y="8"/>
                </a:lnTo>
                <a:lnTo>
                  <a:pt x="2400" y="8"/>
                </a:lnTo>
                <a:lnTo>
                  <a:pt x="4800" y="0"/>
                </a:lnTo>
                <a:lnTo>
                  <a:pt x="4825" y="222"/>
                </a:lnTo>
                <a:close/>
              </a:path>
            </a:pathLst>
          </a:custGeom>
          <a:solidFill>
            <a:srgbClr val="00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5" name="Rectangle 3"/>
          <p:cNvSpPr/>
          <p:nvPr/>
        </p:nvSpPr>
        <p:spPr>
          <a:xfrm>
            <a:off x="561960" y="2492280"/>
            <a:ext cx="8058240" cy="2041560"/>
          </a:xfrm>
          <a:prstGeom prst="rect">
            <a:avLst/>
          </a:prstGeom>
          <a:solidFill>
            <a:srgbClr val="f9e807">
              <a:alpha val="84000"/>
            </a:srgbClr>
          </a:solidFill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6" name="Text Box 8"/>
          <p:cNvSpPr/>
          <p:nvPr/>
        </p:nvSpPr>
        <p:spPr>
          <a:xfrm>
            <a:off x="981000" y="2698920"/>
            <a:ext cx="7386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尊重别人的人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别人也不会尊重他。 </a:t>
            </a:r>
            <a:endParaRPr b="1" lang="en-US" sz="3000" spc="-1" strike="noStrike">
              <a:solidFill>
                <a:srgbClr val="0000ff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席勒</a:t>
            </a:r>
            <a:endParaRPr b="1" lang="en-US" sz="3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17" name="Picture 5" descr="图片2"/>
          <p:cNvPicPr/>
          <p:nvPr/>
        </p:nvPicPr>
        <p:blipFill>
          <a:blip r:embed="rId1"/>
          <a:stretch/>
        </p:blipFill>
        <p:spPr>
          <a:xfrm>
            <a:off x="3149640" y="1041480"/>
            <a:ext cx="3041640" cy="96336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7" descr="图片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2920" y="5067360"/>
            <a:ext cx="145728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1"/>
          <p:cNvSpPr/>
          <p:nvPr/>
        </p:nvSpPr>
        <p:spPr>
          <a:xfrm>
            <a:off x="2581200" y="16351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板块一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生而平等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20" name="Picture 11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179520" cy="38098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2" descr="图片3"/>
          <p:cNvPicPr/>
          <p:nvPr/>
        </p:nvPicPr>
        <p:blipFill>
          <a:blip r:embed="rId2"/>
          <a:stretch/>
        </p:blipFill>
        <p:spPr>
          <a:xfrm>
            <a:off x="2971800" y="762120"/>
            <a:ext cx="3346560" cy="66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62120" y="2639880"/>
            <a:ext cx="7619760" cy="18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ff"/>
                </a:solidFill>
                <a:latin typeface="宋体"/>
              </a:rPr>
              <a:t>某单位车辆违反交通法规并造成交通事故，造成两人身亡。其中一人为某大学教授，另一人为进城务工农民。在理赔时，肇事单位认为，应给教授赔偿</a:t>
            </a:r>
            <a:r>
              <a:rPr b="0" lang="en-US" sz="1900" spc="-1" strike="noStrike">
                <a:solidFill>
                  <a:srgbClr val="0000ff"/>
                </a:solidFill>
                <a:latin typeface="宋体"/>
              </a:rPr>
              <a:t>30</a:t>
            </a:r>
            <a:r>
              <a:rPr b="0" lang="zh-CN" sz="1900" spc="-1" strike="noStrike">
                <a:solidFill>
                  <a:srgbClr val="0000ff"/>
                </a:solidFill>
                <a:latin typeface="宋体"/>
              </a:rPr>
              <a:t>万元，按照农民工当地的人均收入水平，赔农民工</a:t>
            </a:r>
            <a:r>
              <a:rPr b="0" lang="en-US" sz="1900" spc="-1" strike="noStrike">
                <a:solidFill>
                  <a:srgbClr val="0000ff"/>
                </a:solidFill>
                <a:latin typeface="宋体"/>
              </a:rPr>
              <a:t>8</a:t>
            </a:r>
            <a:r>
              <a:rPr b="0" lang="zh-CN" sz="1900" spc="-1" strike="noStrike">
                <a:solidFill>
                  <a:srgbClr val="0000ff"/>
                </a:solidFill>
                <a:latin typeface="宋体"/>
              </a:rPr>
              <a:t>万元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762120" y="4465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你如何看待这种 “同命不同价”的现象？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4" name="Text Box 7"/>
          <p:cNvSpPr/>
          <p:nvPr/>
        </p:nvSpPr>
        <p:spPr>
          <a:xfrm>
            <a:off x="2438280" y="1295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现实评说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4"/>
          <p:cNvSpPr/>
          <p:nvPr/>
        </p:nvSpPr>
        <p:spPr>
          <a:xfrm>
            <a:off x="2286000" y="26226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人生而平等。平等集中体现为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人格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法律地位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的平等。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2743200" y="1905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知识驿站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627" name="Group 8"/>
          <p:cNvGrpSpPr/>
          <p:nvPr/>
        </p:nvGrpSpPr>
        <p:grpSpPr>
          <a:xfrm>
            <a:off x="609480" y="5181480"/>
            <a:ext cx="7925040" cy="914400"/>
            <a:chOff x="609480" y="5181480"/>
            <a:chExt cx="7925040" cy="914400"/>
          </a:xfrm>
        </p:grpSpPr>
        <p:sp>
          <p:nvSpPr>
            <p:cNvPr id="628" name="AutoShape 9"/>
            <p:cNvSpPr/>
            <p:nvPr/>
          </p:nvSpPr>
          <p:spPr>
            <a:xfrm>
              <a:off x="609480" y="5181480"/>
              <a:ext cx="7925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9" name="Freeform 10"/>
            <p:cNvSpPr/>
            <p:nvPr/>
          </p:nvSpPr>
          <p:spPr>
            <a:xfrm>
              <a:off x="609480" y="5337000"/>
              <a:ext cx="1586160" cy="43704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0" name="Rectangle 11"/>
            <p:cNvSpPr/>
            <p:nvPr/>
          </p:nvSpPr>
          <p:spPr>
            <a:xfrm>
              <a:off x="609480" y="5747400"/>
              <a:ext cx="1583640" cy="3222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1" name="Freeform 12"/>
            <p:cNvSpPr/>
            <p:nvPr/>
          </p:nvSpPr>
          <p:spPr>
            <a:xfrm>
              <a:off x="5392080" y="5320800"/>
              <a:ext cx="3142080" cy="45288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2" name="Rectangle 13"/>
            <p:cNvSpPr/>
            <p:nvPr/>
          </p:nvSpPr>
          <p:spPr>
            <a:xfrm>
              <a:off x="5389920" y="5774040"/>
              <a:ext cx="3144600" cy="3218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3" name="Freeform 14"/>
            <p:cNvSpPr/>
            <p:nvPr/>
          </p:nvSpPr>
          <p:spPr>
            <a:xfrm>
              <a:off x="5389920" y="5581800"/>
              <a:ext cx="67320" cy="192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4" name="Freeform 15"/>
            <p:cNvSpPr/>
            <p:nvPr/>
          </p:nvSpPr>
          <p:spPr>
            <a:xfrm>
              <a:off x="5491440" y="5581800"/>
              <a:ext cx="71280" cy="192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5" name="Freeform 16"/>
            <p:cNvSpPr/>
            <p:nvPr/>
          </p:nvSpPr>
          <p:spPr>
            <a:xfrm>
              <a:off x="5599440" y="5581800"/>
              <a:ext cx="71280" cy="192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6" name="Rectangle 17"/>
            <p:cNvSpPr/>
            <p:nvPr/>
          </p:nvSpPr>
          <p:spPr>
            <a:xfrm>
              <a:off x="5389920" y="5632560"/>
              <a:ext cx="3027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7" name="Rectangle 18"/>
            <p:cNvSpPr/>
            <p:nvPr/>
          </p:nvSpPr>
          <p:spPr>
            <a:xfrm>
              <a:off x="5389920" y="5726160"/>
              <a:ext cx="302760" cy="2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7441200" y="5581800"/>
              <a:ext cx="69120" cy="192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9" name="Freeform 20"/>
            <p:cNvSpPr/>
            <p:nvPr/>
          </p:nvSpPr>
          <p:spPr>
            <a:xfrm>
              <a:off x="7544160" y="5581800"/>
              <a:ext cx="7056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0" name="Freeform 21"/>
            <p:cNvSpPr/>
            <p:nvPr/>
          </p:nvSpPr>
          <p:spPr>
            <a:xfrm>
              <a:off x="7651800" y="5581800"/>
              <a:ext cx="7128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1" name="Freeform 22"/>
            <p:cNvSpPr/>
            <p:nvPr/>
          </p:nvSpPr>
          <p:spPr>
            <a:xfrm>
              <a:off x="7759800" y="5581800"/>
              <a:ext cx="7020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2" name="Freeform 23"/>
            <p:cNvSpPr/>
            <p:nvPr/>
          </p:nvSpPr>
          <p:spPr>
            <a:xfrm>
              <a:off x="7867080" y="5581800"/>
              <a:ext cx="71280" cy="20916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3" name="Freeform 24"/>
            <p:cNvSpPr/>
            <p:nvPr/>
          </p:nvSpPr>
          <p:spPr>
            <a:xfrm>
              <a:off x="7975440" y="5593680"/>
              <a:ext cx="70560" cy="21528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4" name="Freeform 25"/>
            <p:cNvSpPr/>
            <p:nvPr/>
          </p:nvSpPr>
          <p:spPr>
            <a:xfrm>
              <a:off x="8085960" y="5604840"/>
              <a:ext cx="68040" cy="22716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5" name="Freeform 26"/>
            <p:cNvSpPr/>
            <p:nvPr/>
          </p:nvSpPr>
          <p:spPr>
            <a:xfrm>
              <a:off x="8194320" y="5619600"/>
              <a:ext cx="67320" cy="24588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6" name="Freeform 27"/>
            <p:cNvSpPr/>
            <p:nvPr/>
          </p:nvSpPr>
          <p:spPr>
            <a:xfrm>
              <a:off x="8301600" y="5641560"/>
              <a:ext cx="68040" cy="27072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7" name="Freeform 28"/>
            <p:cNvSpPr/>
            <p:nvPr/>
          </p:nvSpPr>
          <p:spPr>
            <a:xfrm>
              <a:off x="8409960" y="5666400"/>
              <a:ext cx="67320" cy="31464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8" name="Freeform 29"/>
            <p:cNvSpPr/>
            <p:nvPr/>
          </p:nvSpPr>
          <p:spPr>
            <a:xfrm>
              <a:off x="8517240" y="5720400"/>
              <a:ext cx="16920" cy="30996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9" name="Freeform 30"/>
            <p:cNvSpPr/>
            <p:nvPr/>
          </p:nvSpPr>
          <p:spPr>
            <a:xfrm>
              <a:off x="7405200" y="5632560"/>
              <a:ext cx="1129320" cy="15300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0" name="Freeform 31"/>
            <p:cNvSpPr/>
            <p:nvPr/>
          </p:nvSpPr>
          <p:spPr>
            <a:xfrm>
              <a:off x="7405200" y="5726160"/>
              <a:ext cx="1129320" cy="22428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1" name="Freeform 32"/>
            <p:cNvSpPr/>
            <p:nvPr/>
          </p:nvSpPr>
          <p:spPr>
            <a:xfrm>
              <a:off x="5690520" y="5581800"/>
              <a:ext cx="67320" cy="192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2" name="Freeform 33"/>
            <p:cNvSpPr/>
            <p:nvPr/>
          </p:nvSpPr>
          <p:spPr>
            <a:xfrm>
              <a:off x="5792760" y="5581800"/>
              <a:ext cx="7056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3" name="Freeform 34"/>
            <p:cNvSpPr/>
            <p:nvPr/>
          </p:nvSpPr>
          <p:spPr>
            <a:xfrm>
              <a:off x="5900760" y="5581800"/>
              <a:ext cx="70560" cy="192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4" name="Rectangle 35"/>
            <p:cNvSpPr/>
            <p:nvPr/>
          </p:nvSpPr>
          <p:spPr>
            <a:xfrm>
              <a:off x="5690520" y="5632560"/>
              <a:ext cx="30348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5" name="Rectangle 36"/>
            <p:cNvSpPr/>
            <p:nvPr/>
          </p:nvSpPr>
          <p:spPr>
            <a:xfrm>
              <a:off x="5690520" y="5726160"/>
              <a:ext cx="303480" cy="2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6" name="Freeform 37"/>
            <p:cNvSpPr/>
            <p:nvPr/>
          </p:nvSpPr>
          <p:spPr>
            <a:xfrm>
              <a:off x="5991840" y="5581800"/>
              <a:ext cx="67320" cy="192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7" name="Freeform 38"/>
            <p:cNvSpPr/>
            <p:nvPr/>
          </p:nvSpPr>
          <p:spPr>
            <a:xfrm>
              <a:off x="6090840" y="5581800"/>
              <a:ext cx="7020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8" name="Freeform 39"/>
            <p:cNvSpPr/>
            <p:nvPr/>
          </p:nvSpPr>
          <p:spPr>
            <a:xfrm>
              <a:off x="6201360" y="5581800"/>
              <a:ext cx="71280" cy="192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9" name="Rectangle 40"/>
            <p:cNvSpPr/>
            <p:nvPr/>
          </p:nvSpPr>
          <p:spPr>
            <a:xfrm>
              <a:off x="5991840" y="5632560"/>
              <a:ext cx="3027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0" name="Rectangle 41"/>
            <p:cNvSpPr/>
            <p:nvPr/>
          </p:nvSpPr>
          <p:spPr>
            <a:xfrm>
              <a:off x="5991840" y="5726160"/>
              <a:ext cx="302760" cy="2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1" name="Freeform 42"/>
            <p:cNvSpPr/>
            <p:nvPr/>
          </p:nvSpPr>
          <p:spPr>
            <a:xfrm>
              <a:off x="6292080" y="5581800"/>
              <a:ext cx="6732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2" name="Freeform 43"/>
            <p:cNvSpPr/>
            <p:nvPr/>
          </p:nvSpPr>
          <p:spPr>
            <a:xfrm>
              <a:off x="6391440" y="5581800"/>
              <a:ext cx="7128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3" name="Freeform 44"/>
            <p:cNvSpPr/>
            <p:nvPr/>
          </p:nvSpPr>
          <p:spPr>
            <a:xfrm>
              <a:off x="6499080" y="5581800"/>
              <a:ext cx="7128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4" name="Rectangle 45"/>
            <p:cNvSpPr/>
            <p:nvPr/>
          </p:nvSpPr>
          <p:spPr>
            <a:xfrm>
              <a:off x="6292080" y="5632560"/>
              <a:ext cx="30348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5" name="Rectangle 46"/>
            <p:cNvSpPr/>
            <p:nvPr/>
          </p:nvSpPr>
          <p:spPr>
            <a:xfrm>
              <a:off x="6292080" y="5726160"/>
              <a:ext cx="303480" cy="2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6" name="Freeform 47"/>
            <p:cNvSpPr/>
            <p:nvPr/>
          </p:nvSpPr>
          <p:spPr>
            <a:xfrm>
              <a:off x="6589800" y="5581800"/>
              <a:ext cx="71280" cy="192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7" name="Freeform 48"/>
            <p:cNvSpPr/>
            <p:nvPr/>
          </p:nvSpPr>
          <p:spPr>
            <a:xfrm>
              <a:off x="6692760" y="5581800"/>
              <a:ext cx="7020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8" name="Freeform 49"/>
            <p:cNvSpPr/>
            <p:nvPr/>
          </p:nvSpPr>
          <p:spPr>
            <a:xfrm>
              <a:off x="6800040" y="5581800"/>
              <a:ext cx="7056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9" name="Rectangle 50"/>
            <p:cNvSpPr/>
            <p:nvPr/>
          </p:nvSpPr>
          <p:spPr>
            <a:xfrm>
              <a:off x="6589800" y="5632560"/>
              <a:ext cx="3063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0" name="Rectangle 51"/>
            <p:cNvSpPr/>
            <p:nvPr/>
          </p:nvSpPr>
          <p:spPr>
            <a:xfrm>
              <a:off x="6589800" y="5726160"/>
              <a:ext cx="306360" cy="2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1" name="Freeform 52"/>
            <p:cNvSpPr/>
            <p:nvPr/>
          </p:nvSpPr>
          <p:spPr>
            <a:xfrm>
              <a:off x="6891120" y="5581800"/>
              <a:ext cx="70560" cy="192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2" name="Freeform 53"/>
            <p:cNvSpPr/>
            <p:nvPr/>
          </p:nvSpPr>
          <p:spPr>
            <a:xfrm>
              <a:off x="6993360" y="5581800"/>
              <a:ext cx="7020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3" name="Freeform 54"/>
            <p:cNvSpPr/>
            <p:nvPr/>
          </p:nvSpPr>
          <p:spPr>
            <a:xfrm>
              <a:off x="7100640" y="5581800"/>
              <a:ext cx="7128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4" name="Rectangle 55"/>
            <p:cNvSpPr/>
            <p:nvPr/>
          </p:nvSpPr>
          <p:spPr>
            <a:xfrm>
              <a:off x="6891120" y="5632560"/>
              <a:ext cx="30348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5" name="Rectangle 56"/>
            <p:cNvSpPr/>
            <p:nvPr/>
          </p:nvSpPr>
          <p:spPr>
            <a:xfrm>
              <a:off x="6891120" y="5726160"/>
              <a:ext cx="303480" cy="2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6" name="Freeform 57"/>
            <p:cNvSpPr/>
            <p:nvPr/>
          </p:nvSpPr>
          <p:spPr>
            <a:xfrm>
              <a:off x="7191720" y="5581800"/>
              <a:ext cx="71280" cy="192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7" name="Freeform 58"/>
            <p:cNvSpPr/>
            <p:nvPr/>
          </p:nvSpPr>
          <p:spPr>
            <a:xfrm>
              <a:off x="7294680" y="5581800"/>
              <a:ext cx="6984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8" name="Freeform 59"/>
            <p:cNvSpPr/>
            <p:nvPr/>
          </p:nvSpPr>
          <p:spPr>
            <a:xfrm>
              <a:off x="7402320" y="5581800"/>
              <a:ext cx="7020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9" name="Rectangle 60"/>
            <p:cNvSpPr/>
            <p:nvPr/>
          </p:nvSpPr>
          <p:spPr>
            <a:xfrm>
              <a:off x="7191720" y="5632560"/>
              <a:ext cx="30348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0" name="Rectangle 61"/>
            <p:cNvSpPr/>
            <p:nvPr/>
          </p:nvSpPr>
          <p:spPr>
            <a:xfrm>
              <a:off x="7191720" y="5726160"/>
              <a:ext cx="303480" cy="2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1" name="Freeform 62"/>
            <p:cNvSpPr/>
            <p:nvPr/>
          </p:nvSpPr>
          <p:spPr>
            <a:xfrm>
              <a:off x="7490160" y="5275800"/>
              <a:ext cx="862560" cy="61164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2" name="Freeform 63"/>
            <p:cNvSpPr/>
            <p:nvPr/>
          </p:nvSpPr>
          <p:spPr>
            <a:xfrm>
              <a:off x="7245720" y="5181480"/>
              <a:ext cx="1208880" cy="44712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3" name="Freeform 64"/>
            <p:cNvSpPr/>
            <p:nvPr/>
          </p:nvSpPr>
          <p:spPr>
            <a:xfrm>
              <a:off x="2195640" y="5325840"/>
              <a:ext cx="3193920" cy="4482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4" name="Freeform 65"/>
            <p:cNvSpPr/>
            <p:nvPr/>
          </p:nvSpPr>
          <p:spPr>
            <a:xfrm>
              <a:off x="2266920" y="5309640"/>
              <a:ext cx="499320" cy="4640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5" name="Freeform 66"/>
            <p:cNvSpPr/>
            <p:nvPr/>
          </p:nvSpPr>
          <p:spPr>
            <a:xfrm>
              <a:off x="2463120" y="5447520"/>
              <a:ext cx="1074960" cy="32652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6" name="Freeform 67"/>
            <p:cNvSpPr/>
            <p:nvPr/>
          </p:nvSpPr>
          <p:spPr>
            <a:xfrm>
              <a:off x="2454840" y="5420160"/>
              <a:ext cx="1095480" cy="193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7" name="Rectangle 68"/>
            <p:cNvSpPr/>
            <p:nvPr/>
          </p:nvSpPr>
          <p:spPr>
            <a:xfrm>
              <a:off x="2494800" y="5625720"/>
              <a:ext cx="380160" cy="14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8" name="Freeform 69"/>
            <p:cNvSpPr/>
            <p:nvPr/>
          </p:nvSpPr>
          <p:spPr>
            <a:xfrm>
              <a:off x="2675880" y="5420160"/>
              <a:ext cx="874440" cy="1731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9" name="Rectangle 70"/>
            <p:cNvSpPr/>
            <p:nvPr/>
          </p:nvSpPr>
          <p:spPr>
            <a:xfrm>
              <a:off x="2520360" y="5637600"/>
              <a:ext cx="322920" cy="13644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0" name="Rectangle 71"/>
            <p:cNvSpPr/>
            <p:nvPr/>
          </p:nvSpPr>
          <p:spPr>
            <a:xfrm>
              <a:off x="2193120" y="5774040"/>
              <a:ext cx="3196440" cy="3218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1" name="Freeform 72"/>
            <p:cNvSpPr/>
            <p:nvPr/>
          </p:nvSpPr>
          <p:spPr>
            <a:xfrm>
              <a:off x="3479040" y="5219280"/>
              <a:ext cx="1235160" cy="2984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2" name="Freeform 73"/>
            <p:cNvSpPr/>
            <p:nvPr/>
          </p:nvSpPr>
          <p:spPr>
            <a:xfrm>
              <a:off x="3490200" y="5311080"/>
              <a:ext cx="1524240" cy="4629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3" name="Rectangle 74"/>
            <p:cNvSpPr/>
            <p:nvPr/>
          </p:nvSpPr>
          <p:spPr>
            <a:xfrm>
              <a:off x="3515760" y="5562720"/>
              <a:ext cx="885600" cy="2023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4" name="Freeform 75"/>
            <p:cNvSpPr/>
            <p:nvPr/>
          </p:nvSpPr>
          <p:spPr>
            <a:xfrm>
              <a:off x="4762440" y="5692320"/>
              <a:ext cx="493560" cy="8136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5" name="Rectangle 76"/>
            <p:cNvSpPr/>
            <p:nvPr/>
          </p:nvSpPr>
          <p:spPr>
            <a:xfrm>
              <a:off x="4762440" y="5558760"/>
              <a:ext cx="209520" cy="13356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6" name="Rectangle 77"/>
            <p:cNvSpPr/>
            <p:nvPr/>
          </p:nvSpPr>
          <p:spPr>
            <a:xfrm>
              <a:off x="3935880" y="5584680"/>
              <a:ext cx="380520" cy="15120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7" name="Rectangle 78"/>
            <p:cNvSpPr/>
            <p:nvPr/>
          </p:nvSpPr>
          <p:spPr>
            <a:xfrm>
              <a:off x="4805280" y="5572800"/>
              <a:ext cx="126720" cy="11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8" name="Freeform 79"/>
            <p:cNvSpPr/>
            <p:nvPr/>
          </p:nvSpPr>
          <p:spPr>
            <a:xfrm>
              <a:off x="3479040" y="5272920"/>
              <a:ext cx="1546920" cy="2739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9" name="Rectangle 80"/>
            <p:cNvSpPr/>
            <p:nvPr/>
          </p:nvSpPr>
          <p:spPr>
            <a:xfrm>
              <a:off x="4043160" y="5593680"/>
              <a:ext cx="16524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0" name="Rectangle 81"/>
            <p:cNvSpPr/>
            <p:nvPr/>
          </p:nvSpPr>
          <p:spPr>
            <a:xfrm>
              <a:off x="3956040" y="5593680"/>
              <a:ext cx="6732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1" name="Rectangle 82"/>
            <p:cNvSpPr/>
            <p:nvPr/>
          </p:nvSpPr>
          <p:spPr>
            <a:xfrm>
              <a:off x="4231080" y="5593680"/>
              <a:ext cx="6516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2" name="Rectangle 83"/>
            <p:cNvSpPr/>
            <p:nvPr/>
          </p:nvSpPr>
          <p:spPr>
            <a:xfrm>
              <a:off x="4534560" y="5593680"/>
              <a:ext cx="10512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3" name="Rectangle 84"/>
            <p:cNvSpPr/>
            <p:nvPr/>
          </p:nvSpPr>
          <p:spPr>
            <a:xfrm>
              <a:off x="4466880" y="5593680"/>
              <a:ext cx="4788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4" name="Rectangle 85"/>
            <p:cNvSpPr/>
            <p:nvPr/>
          </p:nvSpPr>
          <p:spPr>
            <a:xfrm>
              <a:off x="4663080" y="5593680"/>
              <a:ext cx="4716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5" name="Freeform 86"/>
            <p:cNvSpPr/>
            <p:nvPr/>
          </p:nvSpPr>
          <p:spPr>
            <a:xfrm>
              <a:off x="4623480" y="5412600"/>
              <a:ext cx="76320" cy="295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6" name="Freeform 87"/>
            <p:cNvSpPr/>
            <p:nvPr/>
          </p:nvSpPr>
          <p:spPr>
            <a:xfrm>
              <a:off x="4727880" y="5412600"/>
              <a:ext cx="79560" cy="295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7" name="Freeform 88"/>
            <p:cNvSpPr/>
            <p:nvPr/>
          </p:nvSpPr>
          <p:spPr>
            <a:xfrm>
              <a:off x="4668480" y="5396760"/>
              <a:ext cx="90720" cy="392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8" name="Freeform 89"/>
            <p:cNvSpPr/>
            <p:nvPr/>
          </p:nvSpPr>
          <p:spPr>
            <a:xfrm>
              <a:off x="4725000" y="5431680"/>
              <a:ext cx="494280" cy="1270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9" name="Rectangle 90"/>
            <p:cNvSpPr/>
            <p:nvPr/>
          </p:nvSpPr>
          <p:spPr>
            <a:xfrm>
              <a:off x="5048640" y="5739120"/>
              <a:ext cx="195840" cy="3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0" name="Rectangle 91"/>
            <p:cNvSpPr/>
            <p:nvPr/>
          </p:nvSpPr>
          <p:spPr>
            <a:xfrm>
              <a:off x="4983480" y="5699520"/>
              <a:ext cx="195840" cy="3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1" name="Freeform 92"/>
            <p:cNvSpPr/>
            <p:nvPr/>
          </p:nvSpPr>
          <p:spPr>
            <a:xfrm>
              <a:off x="4980240" y="5470200"/>
              <a:ext cx="227520" cy="8856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2" name="Rectangle 93"/>
            <p:cNvSpPr/>
            <p:nvPr/>
          </p:nvSpPr>
          <p:spPr>
            <a:xfrm>
              <a:off x="5156280" y="5558760"/>
              <a:ext cx="25920" cy="1335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3" name="Freeform 94"/>
            <p:cNvSpPr/>
            <p:nvPr/>
          </p:nvSpPr>
          <p:spPr>
            <a:xfrm>
              <a:off x="4776120" y="5431680"/>
              <a:ext cx="314640" cy="993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4" name="Rectangle 95"/>
            <p:cNvSpPr/>
            <p:nvPr/>
          </p:nvSpPr>
          <p:spPr>
            <a:xfrm>
              <a:off x="4971960" y="5558760"/>
              <a:ext cx="42480" cy="1335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5" name="Rectangle 96"/>
            <p:cNvSpPr/>
            <p:nvPr/>
          </p:nvSpPr>
          <p:spPr>
            <a:xfrm>
              <a:off x="4762440" y="5558760"/>
              <a:ext cx="42840" cy="1335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6" name="Freeform 97"/>
            <p:cNvSpPr/>
            <p:nvPr/>
          </p:nvSpPr>
          <p:spPr>
            <a:xfrm>
              <a:off x="1620000" y="5774040"/>
              <a:ext cx="1254600" cy="32184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7" name="Freeform 98"/>
            <p:cNvSpPr/>
            <p:nvPr/>
          </p:nvSpPr>
          <p:spPr>
            <a:xfrm>
              <a:off x="3206880" y="5626800"/>
              <a:ext cx="126720" cy="24732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8" name="Freeform 99"/>
            <p:cNvSpPr/>
            <p:nvPr/>
          </p:nvSpPr>
          <p:spPr>
            <a:xfrm>
              <a:off x="3221280" y="5646960"/>
              <a:ext cx="73440" cy="756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9" name="Freeform 100"/>
            <p:cNvSpPr/>
            <p:nvPr/>
          </p:nvSpPr>
          <p:spPr>
            <a:xfrm>
              <a:off x="3221280" y="5679360"/>
              <a:ext cx="75600" cy="576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0" name="Freeform 101"/>
            <p:cNvSpPr/>
            <p:nvPr/>
          </p:nvSpPr>
          <p:spPr>
            <a:xfrm>
              <a:off x="3221280" y="5670720"/>
              <a:ext cx="75600" cy="396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1" name="Freeform 102"/>
            <p:cNvSpPr/>
            <p:nvPr/>
          </p:nvSpPr>
          <p:spPr>
            <a:xfrm>
              <a:off x="3221280" y="5714280"/>
              <a:ext cx="81720" cy="756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2" name="Freeform 103"/>
            <p:cNvSpPr/>
            <p:nvPr/>
          </p:nvSpPr>
          <p:spPr>
            <a:xfrm>
              <a:off x="3221280" y="5706720"/>
              <a:ext cx="81720" cy="468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3" name="Freeform 104"/>
            <p:cNvSpPr/>
            <p:nvPr/>
          </p:nvSpPr>
          <p:spPr>
            <a:xfrm>
              <a:off x="762480" y="5278680"/>
              <a:ext cx="862560" cy="64656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4" name="Freeform 105"/>
            <p:cNvSpPr/>
            <p:nvPr/>
          </p:nvSpPr>
          <p:spPr>
            <a:xfrm>
              <a:off x="617400" y="5190120"/>
              <a:ext cx="1157760" cy="43344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5" name="Freeform 106"/>
            <p:cNvSpPr/>
            <p:nvPr/>
          </p:nvSpPr>
          <p:spPr>
            <a:xfrm>
              <a:off x="1514520" y="5739120"/>
              <a:ext cx="226800" cy="13464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6" name="Freeform 107"/>
            <p:cNvSpPr/>
            <p:nvPr/>
          </p:nvSpPr>
          <p:spPr>
            <a:xfrm>
              <a:off x="1134360" y="5791320"/>
              <a:ext cx="133560" cy="7308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矩形 7"/>
          <p:cNvSpPr/>
          <p:nvPr/>
        </p:nvSpPr>
        <p:spPr>
          <a:xfrm>
            <a:off x="4416480" y="154152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28" name="Picture 2" descr="公平"/>
          <p:cNvPicPr/>
          <p:nvPr/>
        </p:nvPicPr>
        <p:blipFill>
          <a:blip r:embed="rId1"/>
          <a:stretch/>
        </p:blipFill>
        <p:spPr>
          <a:xfrm>
            <a:off x="4572000" y="685800"/>
            <a:ext cx="3657600" cy="217188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4"/>
          <p:cNvSpPr/>
          <p:nvPr/>
        </p:nvSpPr>
        <p:spPr>
          <a:xfrm>
            <a:off x="685800" y="3656880"/>
            <a:ext cx="784872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日前，“三同”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——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同票同权”、“同命同价”、“同工同酬”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一起闯入公众视野：城乡按相同人口比例选举人大代表；处理重大交通事故、矿山事故时不考虑年龄、收入状况等因素，以同一数额确定死亡赔偿金；从事相同内容工作，获同级别工资待遇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1594080" y="563868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这充分体现了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原则 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1" name="Text Box 7"/>
          <p:cNvSpPr/>
          <p:nvPr/>
        </p:nvSpPr>
        <p:spPr>
          <a:xfrm>
            <a:off x="2666880" y="5638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平等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2" name="Text Box 8"/>
          <p:cNvSpPr/>
          <p:nvPr/>
        </p:nvSpPr>
        <p:spPr>
          <a:xfrm>
            <a:off x="838080" y="11430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看漫画、析道理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"/>
          <p:cNvSpPr/>
          <p:nvPr/>
        </p:nvSpPr>
        <p:spPr>
          <a:xfrm>
            <a:off x="762120" y="4419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人人都享有法律规定的政治、经济、社会、文化等方面的权利。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685800" y="2013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中华人民共和国宪法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规定：“中华人民共和国公民在法律面前一律平等。”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5" name="AutoShape 5"/>
          <p:cNvSpPr/>
          <p:nvPr/>
        </p:nvSpPr>
        <p:spPr>
          <a:xfrm>
            <a:off x="4191120" y="3505320"/>
            <a:ext cx="761760" cy="698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6" name="Text Box 7"/>
          <p:cNvSpPr/>
          <p:nvPr/>
        </p:nvSpPr>
        <p:spPr>
          <a:xfrm>
            <a:off x="2514600" y="1143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说法谈权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4344480" y="1952640"/>
            <a:ext cx="4000680" cy="39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食品安全法实施条例</a:t>
            </a:r>
            <a:r>
              <a:rPr b="1" lang="en-US" sz="19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第二十三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条规定：从事接触直接入口食品工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作的人员患有痢疾、伤寒、</a:t>
            </a:r>
            <a:r>
              <a:rPr b="1" lang="zh-CN" sz="1900" spc="-1" strike="noStrike">
                <a:solidFill>
                  <a:srgbClr val="0000ff"/>
                </a:solidFill>
                <a:latin typeface="宋体"/>
              </a:rPr>
              <a:t>甲型病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宋体"/>
              </a:rPr>
              <a:t>毒性肝炎、戊型病毒性肝炎等消化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宋体"/>
              </a:rPr>
              <a:t>道传染病，</a:t>
            </a: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以及患有活动性肺结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核、化脓性或者渗出性皮肤病等</a:t>
            </a:r>
            <a:r>
              <a:rPr b="1" lang="zh-CN" sz="1900" spc="-1" strike="noStrike">
                <a:solidFill>
                  <a:srgbClr val="0000ff"/>
                </a:solidFill>
                <a:latin typeface="宋体"/>
              </a:rPr>
              <a:t>有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宋体"/>
              </a:rPr>
              <a:t>碍食品安全</a:t>
            </a: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的疾病的，食品生产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营者应当将其调整到其他不影响食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品安全的工作岗位。 </a:t>
            </a: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  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8" name="Picture 4" descr="8dd183111430dcd9b992518e"/>
          <p:cNvPicPr/>
          <p:nvPr/>
        </p:nvPicPr>
        <p:blipFill>
          <a:blip r:embed="rId1"/>
          <a:stretch/>
        </p:blipFill>
        <p:spPr>
          <a:xfrm>
            <a:off x="704880" y="1752480"/>
            <a:ext cx="3486240" cy="4343400"/>
          </a:xfrm>
          <a:prstGeom prst="rect">
            <a:avLst/>
          </a:prstGeom>
          <a:ln w="0">
            <a:noFill/>
          </a:ln>
        </p:spPr>
      </p:pic>
      <p:sp>
        <p:nvSpPr>
          <p:cNvPr id="739" name="Text Box 7"/>
          <p:cNvSpPr/>
          <p:nvPr/>
        </p:nvSpPr>
        <p:spPr>
          <a:xfrm>
            <a:off x="1981080" y="9907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法律捍卫平等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904760" y="1096560"/>
            <a:ext cx="5562360" cy="41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Verdana"/>
              </a:rPr>
              <a:t>如何正确看待人与人之间的差异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788760" y="2111040"/>
            <a:ext cx="7481880" cy="29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人与人之间的差异是我们尊重他人、平等待人、取长补短的现实基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自己的某些优势，不是自傲的资本；自己的某些劣势，也不是自卑的理由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增强平等意识、平等对待他人、互相取长补短，是我们应该采取的正确态度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2T09:00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32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