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chimes.wav" ContentType="audio/x-wav"/>
  <Override PartName="/ppt/media/image16.png" ContentType="image/png"/>
  <Override PartName="/ppt/media/image8.png" ContentType="image/png"/>
  <Override PartName="/ppt/media/image5.gif" ContentType="image/gif"/>
  <Override PartName="/ppt/media/image6.png" ContentType="image/png"/>
  <Override PartName="/ppt/media/image3.gif" ContentType="image/gif"/>
  <Override PartName="/ppt/media/image14.wmf" ContentType="image/x-wmf"/>
  <Override PartName="/ppt/media/image10.gif" ContentType="image/gif"/>
  <Override PartName="/ppt/media/image4.png" ContentType="image/png"/>
  <Override PartName="/ppt/media/image12.wmf" ContentType="image/x-wmf"/>
  <Override PartName="/ppt/media/image24.gif" ContentType="image/gif"/>
  <Override PartName="/ppt/media/CHIMES.WAV" ContentType="audio/x-wav"/>
  <Override PartName="/ppt/media/image25.jpeg" ContentType="image/jpeg"/>
  <Override PartName="/ppt/media/image2.jpeg" ContentType="image/jpeg"/>
  <Override PartName="/ppt/media/image23.gif" ContentType="image/gif"/>
  <Override PartName="/ppt/media/image15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3.wmf" ContentType="image/x-wmf"/>
  <Override PartName="/ppt/media/image1.jpeg" ContentType="image/jpeg"/>
  <Override PartName="/ppt/media/image7.png" ContentType="image/pn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689-3BB3-49C3-8D2E-7F8B4CC9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A1-9428-49C6-A799-6E24F136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740-0E22-4F8E-AB63-39522AC3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BB9-FF0E-493B-82CE-AF45C4D65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439C-A819-49B3-8036-25B3B9EF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AAF4-85D7-423D-BA9B-EF97A757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C6B-EEDD-41AE-A438-50C82382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9DC6-22DB-44A4-8783-B08EC154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871B-9874-4A2E-9305-EB040D9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F2CA-D3BB-4226-81E2-6F5F571D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0FC9-08A1-4329-96E5-8093FB12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998-6453-4160-9890-67A68F3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9511-51ED-4412-8382-D363BF90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D31A-1477-4D3E-B1F0-D0AF6A88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F5F5-CAFE-4802-93C4-FE828537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A0AC-E30A-4CA9-89E4-C793A23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D1F1-1308-4436-AE4E-B8AB8CB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CB6C0-567E-48BD-914D-440E0700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5F57-3450-48A2-94DE-B9C5E7D0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2008-EE1F-438B-97F8-D2545D88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F233E-2D89-4C1E-A6CD-7E9A45E6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F6BC1-E4D3-44E4-B9D4-8E3BE7D8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3B1-44B0-4391-9BDF-24C432FC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5962-FFC1-4C13-B6CB-30A863D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91A66-44F4-49AC-AEB0-0CC8905E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AF4E-5878-4B4D-BC12-A1BBCE3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234C-2714-47C5-8EC0-4EC09B4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FF6F-FE30-40E0-829D-AE64CBA5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9AE4-7308-4576-A1D6-9C0D812E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8C5E3-9DD7-496A-8823-BBF8EE46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0482-A298-4A2B-8A3B-BC3C340A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795A9-7E59-4D9A-9FAA-64673B4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D4A7-4D10-430E-A04C-EF71B76F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E3D4-8357-4DC6-8BFC-2F34A328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66596-6021-470C-AC4C-3B1C9CD6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45B7-25A6-4013-8CAF-412E4E8C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5402-6D78-4B2C-95CC-2209D44D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F786-B1F9-42DD-B80D-41C5D74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AFBD-A766-44D0-BF16-A4AD28C5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45D7F-25A1-41A8-B3DF-01B586E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69332-FD64-43BC-BF4B-A0447AD0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2B2F-E529-4FFA-81A5-525EF526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5B37-D19A-4CFA-9699-D39BFD2C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4BB-0CE6-4FF1-B5C8-4B80115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614-78A0-45CA-8BDA-8713619F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5D5-694A-4B4B-9F85-A77EAE7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FD2-6B58-4F87-A373-E3399D0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FAF-2FF2-4738-864A-9610CDC6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05E7-29DF-497A-B25A-0C74491F69A0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82C5-9AD7-4E46-B331-BAA439F0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60AA-7230-4623-866A-F8B2B2666A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7DC0-1093-4151-AF80-05ACE2674638}" type="datetime3">
              <a:rPr b="0" lang="zh-CN" sz="1400" spc="-1" strike="noStrike">
                <a:solidFill>
                  <a:srgbClr val="000000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81DA-F90A-4749-B227-0F90D199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000-EC93-46C8-A232-71F1F3DD8A56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DD6-823D-4AF9-A9DC-CE8040A6218E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C1BE-BE76-4107-861B-2B01C08E8958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16000" y="68580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数学八年级下册</a:t>
            </a:r>
            <a:endParaRPr b="0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853920" y="2843280"/>
            <a:ext cx="72723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平行四边形的性质数学课件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7" name="Picture 11" descr="c6"/>
          <p:cNvPicPr/>
          <p:nvPr/>
        </p:nvPicPr>
        <p:blipFill>
          <a:blip r:embed="rId1"/>
          <a:stretch/>
        </p:blipFill>
        <p:spPr>
          <a:xfrm>
            <a:off x="0" y="1447920"/>
            <a:ext cx="1752480" cy="155232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F52-11CF-47C9-BAA3-B2D85B88C4D3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3D51-9002-4234-B4CD-DA578128D32C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81" name="Group 2"/>
          <p:cNvGrpSpPr/>
          <p:nvPr/>
        </p:nvGrpSpPr>
        <p:grpSpPr>
          <a:xfrm>
            <a:off x="5437080" y="1573200"/>
            <a:ext cx="3745080" cy="2404800"/>
            <a:chOff x="5437080" y="1573200"/>
            <a:chExt cx="3745080" cy="2404800"/>
          </a:xfrm>
        </p:grpSpPr>
        <p:sp>
          <p:nvSpPr>
            <p:cNvPr id="382" name="AutoShape 3"/>
            <p:cNvSpPr/>
            <p:nvPr/>
          </p:nvSpPr>
          <p:spPr>
            <a:xfrm>
              <a:off x="5616360" y="2141280"/>
              <a:ext cx="3210120" cy="1238400"/>
            </a:xfrm>
            <a:prstGeom prst="parallelogram">
              <a:avLst>
                <a:gd name="adj" fmla="val 64804"/>
              </a:avLst>
            </a:prstGeom>
            <a:solidFill>
              <a:srgbClr val="ffffff">
                <a:alpha val="58000"/>
              </a:srgbClr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6225120" y="1586520"/>
              <a:ext cx="55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4" name="Text Box 5"/>
            <p:cNvSpPr/>
            <p:nvPr/>
          </p:nvSpPr>
          <p:spPr>
            <a:xfrm>
              <a:off x="7781760" y="3265200"/>
              <a:ext cx="55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8627040" y="1573200"/>
              <a:ext cx="55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>
              <a:off x="5437080" y="3274560"/>
              <a:ext cx="55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437160" y="2133720"/>
            <a:ext cx="1584360" cy="1224000"/>
            <a:chOff x="6437160" y="2133720"/>
            <a:chExt cx="1584360" cy="1224000"/>
          </a:xfrm>
        </p:grpSpPr>
        <p:sp>
          <p:nvSpPr>
            <p:cNvPr id="388" name="Line 11"/>
            <p:cNvSpPr/>
            <p:nvPr/>
          </p:nvSpPr>
          <p:spPr>
            <a:xfrm>
              <a:off x="6437160" y="2133720"/>
              <a:ext cx="1584360" cy="1224000"/>
            </a:xfrm>
            <a:prstGeom prst="line">
              <a:avLst/>
            </a:prstGeom>
            <a:ln w="572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6437160" y="2133720"/>
              <a:ext cx="1584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645160" y="2160360"/>
            <a:ext cx="3184560" cy="1197000"/>
            <a:chOff x="5645160" y="2160360"/>
            <a:chExt cx="3184560" cy="1197000"/>
          </a:xfrm>
        </p:grpSpPr>
        <p:sp>
          <p:nvSpPr>
            <p:cNvPr id="391" name="Line 12"/>
            <p:cNvSpPr/>
            <p:nvPr/>
          </p:nvSpPr>
          <p:spPr>
            <a:xfrm flipV="1">
              <a:off x="5645160" y="2160360"/>
              <a:ext cx="3184560" cy="1197000"/>
            </a:xfrm>
            <a:prstGeom prst="line">
              <a:avLst/>
            </a:prstGeom>
            <a:ln w="572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 rot="10800000">
              <a:off x="5645160" y="2160360"/>
              <a:ext cx="3184560" cy="119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93" name="Text Box 13"/>
          <p:cNvSpPr/>
          <p:nvPr/>
        </p:nvSpPr>
        <p:spPr>
          <a:xfrm>
            <a:off x="7061040" y="21528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94" name="Group 34"/>
          <p:cNvGrpSpPr/>
          <p:nvPr/>
        </p:nvGrpSpPr>
        <p:grpSpPr>
          <a:xfrm>
            <a:off x="0" y="1197000"/>
            <a:ext cx="8290080" cy="5189760"/>
            <a:chOff x="0" y="1197000"/>
            <a:chExt cx="8290080" cy="5189760"/>
          </a:xfrm>
        </p:grpSpPr>
        <p:grpSp>
          <p:nvGrpSpPr>
            <p:cNvPr id="395" name="Group 31"/>
            <p:cNvGrpSpPr/>
            <p:nvPr/>
          </p:nvGrpSpPr>
          <p:grpSpPr>
            <a:xfrm>
              <a:off x="611280" y="1197000"/>
              <a:ext cx="6696000" cy="1617480"/>
              <a:chOff x="611280" y="1197000"/>
              <a:chExt cx="6696000" cy="1617480"/>
            </a:xfrm>
          </p:grpSpPr>
          <p:sp>
            <p:nvSpPr>
              <p:cNvPr id="396" name="Text Box 9"/>
              <p:cNvSpPr/>
              <p:nvPr/>
            </p:nvSpPr>
            <p:spPr>
              <a:xfrm>
                <a:off x="611280" y="1197000"/>
                <a:ext cx="6696000" cy="161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已知：如图： 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ABCD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的对角线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AC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、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BD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      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相交于点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O.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求证：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OA=OC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，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OB=OD.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 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97" name="AutoShape 10"/>
              <p:cNvSpPr/>
              <p:nvPr/>
            </p:nvSpPr>
            <p:spPr>
              <a:xfrm>
                <a:off x="2987640" y="1341360"/>
                <a:ext cx="358920" cy="287640"/>
              </a:xfrm>
              <a:prstGeom prst="parallelogram">
                <a:avLst>
                  <a:gd name="adj" fmla="val 31195"/>
                </a:avLst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30"/>
            <p:cNvGrpSpPr/>
            <p:nvPr/>
          </p:nvGrpSpPr>
          <p:grpSpPr>
            <a:xfrm>
              <a:off x="0" y="2060640"/>
              <a:ext cx="8290080" cy="4326120"/>
              <a:chOff x="0" y="2060640"/>
              <a:chExt cx="8290080" cy="4326120"/>
            </a:xfrm>
          </p:grpSpPr>
          <p:grpSp>
            <p:nvGrpSpPr>
              <p:cNvPr id="399" name="Group 29"/>
              <p:cNvGrpSpPr/>
              <p:nvPr/>
            </p:nvGrpSpPr>
            <p:grpSpPr>
              <a:xfrm>
                <a:off x="0" y="3068640"/>
                <a:ext cx="7740720" cy="3318120"/>
                <a:chOff x="0" y="3068640"/>
                <a:chExt cx="7740720" cy="3318120"/>
              </a:xfrm>
            </p:grpSpPr>
            <p:sp>
              <p:nvSpPr>
                <p:cNvPr id="400" name="Text Box 14"/>
                <p:cNvSpPr/>
                <p:nvPr/>
              </p:nvSpPr>
              <p:spPr>
                <a:xfrm>
                  <a:off x="0" y="3068640"/>
                  <a:ext cx="2448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990000"/>
                      </a:solidFill>
                      <a:latin typeface="Arial"/>
                      <a:ea typeface="隶书"/>
                    </a:rPr>
                    <a:t>证明：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1" name="Text Box 15"/>
                <p:cNvSpPr/>
                <p:nvPr/>
              </p:nvSpPr>
              <p:spPr>
                <a:xfrm>
                  <a:off x="395280" y="3573360"/>
                  <a:ext cx="6480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∵</a:t>
                  </a:r>
                  <a:r>
                    <a:rPr b="1" lang="zh-CN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四边形</a:t>
                  </a: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ABCD</a:t>
                  </a:r>
                  <a:r>
                    <a:rPr b="1" lang="zh-CN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是平行四边形，</a:t>
                  </a:r>
                  <a:r>
                    <a:rPr b="0" lang="zh-CN" sz="36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 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16"/>
                <p:cNvSpPr/>
                <p:nvPr/>
              </p:nvSpPr>
              <p:spPr>
                <a:xfrm>
                  <a:off x="395280" y="4076640"/>
                  <a:ext cx="40672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∴ </a:t>
                  </a: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AD=BC</a:t>
                  </a:r>
                  <a:r>
                    <a:rPr b="1" lang="zh-CN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，</a:t>
                  </a: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AD∥BC.</a:t>
                  </a:r>
                  <a:r>
                    <a:rPr b="1" lang="en-US" sz="40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                 </a:t>
                  </a:r>
                  <a:endParaRPr b="0" lang="en-US" sz="4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3" name="Text Box 17"/>
                <p:cNvSpPr/>
                <p:nvPr/>
              </p:nvSpPr>
              <p:spPr>
                <a:xfrm>
                  <a:off x="395280" y="4653000"/>
                  <a:ext cx="5651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∴ ∠</a:t>
                  </a: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1=∠2</a:t>
                  </a:r>
                  <a:r>
                    <a:rPr b="1" lang="zh-CN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，∠</a:t>
                  </a:r>
                  <a:r>
                    <a:rPr b="1" lang="en-US" sz="32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3=∠4.</a:t>
                  </a:r>
                  <a:r>
                    <a:rPr b="1" lang="en-US" sz="4000" spc="-1" strike="noStrike">
                      <a:solidFill>
                        <a:srgbClr val="990000"/>
                      </a:solidFill>
                      <a:latin typeface="黑体"/>
                      <a:ea typeface="黑体"/>
                    </a:rPr>
                    <a:t> </a:t>
                  </a:r>
                  <a:endParaRPr b="0" lang="en-US" sz="4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8"/>
                <p:cNvSpPr/>
                <p:nvPr/>
              </p:nvSpPr>
              <p:spPr>
                <a:xfrm>
                  <a:off x="395280" y="5229360"/>
                  <a:ext cx="7345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∴ △</a:t>
                  </a: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AOD≌△COB</a:t>
                  </a:r>
                  <a:r>
                    <a:rPr b="1" lang="zh-CN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（</a:t>
                  </a: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ASA</a:t>
                  </a:r>
                  <a:r>
                    <a:rPr b="1" lang="zh-CN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）</a:t>
                  </a:r>
                  <a:r>
                    <a:rPr b="1" lang="en-US" sz="40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. </a:t>
                  </a:r>
                  <a:endParaRPr b="0" lang="en-US" sz="40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05" name="Text Box 19"/>
                <p:cNvSpPr/>
                <p:nvPr/>
              </p:nvSpPr>
              <p:spPr>
                <a:xfrm>
                  <a:off x="395280" y="5805360"/>
                  <a:ext cx="6121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∴ </a:t>
                  </a:r>
                  <a:r>
                    <a:rPr b="1" lang="en-US" sz="3200" spc="-1" strike="noStrike">
                      <a:solidFill>
                        <a:srgbClr val="cc0099"/>
                      </a:solidFill>
                      <a:latin typeface="黑体"/>
                      <a:ea typeface="黑体"/>
                    </a:rPr>
                    <a:t>OA=OC</a:t>
                  </a:r>
                  <a:r>
                    <a:rPr b="1" lang="zh-CN" sz="3200" spc="-1" strike="noStrike">
                      <a:solidFill>
                        <a:srgbClr val="cc0099"/>
                      </a:solidFill>
                      <a:latin typeface="黑体"/>
                      <a:ea typeface="黑体"/>
                    </a:rPr>
                    <a:t>，</a:t>
                  </a:r>
                  <a:r>
                    <a:rPr b="1" lang="en-US" sz="3200" spc="-1" strike="noStrike">
                      <a:solidFill>
                        <a:srgbClr val="cc0099"/>
                      </a:solidFill>
                      <a:latin typeface="黑体"/>
                      <a:ea typeface="黑体"/>
                    </a:rPr>
                    <a:t>OB=OD.</a:t>
                  </a:r>
                  <a:endParaRPr b="0" lang="en-US" sz="32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6" name="Freeform 20"/>
              <p:cNvSpPr/>
              <p:nvPr/>
            </p:nvSpPr>
            <p:spPr>
              <a:xfrm>
                <a:off x="6588000" y="2133720"/>
                <a:ext cx="100080" cy="139680"/>
              </a:xfrm>
              <a:custGeom>
                <a:avLst/>
                <a:gdLst/>
                <a:ahLst/>
                <a:rect l="l" t="t" r="r" b="b"/>
                <a:pathLst>
                  <a:path w="63" h="88">
                    <a:moveTo>
                      <a:pt x="63" y="0"/>
                    </a:moveTo>
                    <a:cubicBezTo>
                      <a:pt x="53" y="48"/>
                      <a:pt x="55" y="88"/>
                      <a:pt x="0" y="8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07" name="Freeform 21"/>
              <p:cNvSpPr/>
              <p:nvPr/>
            </p:nvSpPr>
            <p:spPr>
              <a:xfrm>
                <a:off x="7701120" y="3200400"/>
                <a:ext cx="133200" cy="198360"/>
              </a:xfrm>
              <a:custGeom>
                <a:avLst/>
                <a:gdLst/>
                <a:ahLst/>
                <a:rect l="l" t="t" r="r" b="b"/>
                <a:pathLst>
                  <a:path w="84" h="125">
                    <a:moveTo>
                      <a:pt x="84" y="0"/>
                    </a:moveTo>
                    <a:cubicBezTo>
                      <a:pt x="0" y="22"/>
                      <a:pt x="21" y="39"/>
                      <a:pt x="21" y="125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08" name="Freeform 22"/>
              <p:cNvSpPr/>
              <p:nvPr/>
            </p:nvSpPr>
            <p:spPr>
              <a:xfrm>
                <a:off x="8209080" y="2146320"/>
                <a:ext cx="81000" cy="218880"/>
              </a:xfrm>
              <a:custGeom>
                <a:avLst/>
                <a:gdLst/>
                <a:ahLst/>
                <a:rect l="l" t="t" r="r" b="b"/>
                <a:pathLst>
                  <a:path w="51" h="138">
                    <a:moveTo>
                      <a:pt x="51" y="0"/>
                    </a:moveTo>
                    <a:cubicBezTo>
                      <a:pt x="22" y="19"/>
                      <a:pt x="0" y="22"/>
                      <a:pt x="0" y="63"/>
                    </a:cubicBezTo>
                    <a:cubicBezTo>
                      <a:pt x="0" y="76"/>
                      <a:pt x="7" y="89"/>
                      <a:pt x="13" y="101"/>
                    </a:cubicBezTo>
                    <a:cubicBezTo>
                      <a:pt x="20" y="114"/>
                      <a:pt x="38" y="138"/>
                      <a:pt x="38" y="13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09" name="Freeform 23"/>
              <p:cNvSpPr/>
              <p:nvPr/>
            </p:nvSpPr>
            <p:spPr>
              <a:xfrm>
                <a:off x="6032520" y="3162240"/>
                <a:ext cx="165240" cy="239760"/>
              </a:xfrm>
              <a:custGeom>
                <a:avLst/>
                <a:gdLst/>
                <a:ahLst/>
                <a:rect l="l" t="t" r="r" b="b"/>
                <a:pathLst>
                  <a:path w="58" h="151">
                    <a:moveTo>
                      <a:pt x="25" y="0"/>
                    </a:moveTo>
                    <a:cubicBezTo>
                      <a:pt x="42" y="53"/>
                      <a:pt x="58" y="121"/>
                      <a:pt x="0" y="15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10" name="Text Box 24"/>
              <p:cNvSpPr/>
              <p:nvPr/>
            </p:nvSpPr>
            <p:spPr>
              <a:xfrm>
                <a:off x="7740720" y="2060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11" name="Text Box 25"/>
              <p:cNvSpPr/>
              <p:nvPr/>
            </p:nvSpPr>
            <p:spPr>
              <a:xfrm>
                <a:off x="7318440" y="29448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2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12" name="Text Box 26"/>
              <p:cNvSpPr/>
              <p:nvPr/>
            </p:nvSpPr>
            <p:spPr>
              <a:xfrm>
                <a:off x="6238800" y="294480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13" name="Text Box 27"/>
              <p:cNvSpPr/>
              <p:nvPr/>
            </p:nvSpPr>
            <p:spPr>
              <a:xfrm>
                <a:off x="6732720" y="2060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WordArt 28"/>
          <p:cNvSpPr txBox="1"/>
          <p:nvPr/>
        </p:nvSpPr>
        <p:spPr>
          <a:xfrm>
            <a:off x="0" y="-24300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 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谁先会，谁先讲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15" name="Rectangle 32"/>
          <p:cNvSpPr/>
          <p:nvPr/>
        </p:nvSpPr>
        <p:spPr>
          <a:xfrm>
            <a:off x="2556000" y="62064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行四边形的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对角线互相平分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2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25ED-C389-4C83-B469-1B700D748EEC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F5EC-6E7A-4BB7-808B-3156FB208ABB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179280" y="260280"/>
            <a:ext cx="87854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四边形的性质：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平行四边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角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互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95280" y="2133720"/>
            <a:ext cx="777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符号语言：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20" name="Group 24"/>
          <p:cNvGrpSpPr/>
          <p:nvPr/>
        </p:nvGrpSpPr>
        <p:grpSpPr>
          <a:xfrm>
            <a:off x="755640" y="2781360"/>
            <a:ext cx="4573800" cy="1300320"/>
            <a:chOff x="755640" y="2781360"/>
            <a:chExt cx="4573800" cy="1300320"/>
          </a:xfrm>
        </p:grpSpPr>
        <p:sp>
          <p:nvSpPr>
            <p:cNvPr id="421" name="Text Box 2"/>
            <p:cNvSpPr/>
            <p:nvPr/>
          </p:nvSpPr>
          <p:spPr>
            <a:xfrm>
              <a:off x="1384200" y="3433680"/>
              <a:ext cx="1819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2" name="Rectangle 6"/>
            <p:cNvSpPr/>
            <p:nvPr/>
          </p:nvSpPr>
          <p:spPr>
            <a:xfrm>
              <a:off x="1265040" y="2781360"/>
              <a:ext cx="406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∵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四边形</a:t>
              </a: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ABCD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是平行四边形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1258920" y="35002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A=OC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2700360" y="350028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</a:rPr>
                <a:t>OB=OD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5" name="Text Box 10"/>
            <p:cNvSpPr/>
            <p:nvPr/>
          </p:nvSpPr>
          <p:spPr>
            <a:xfrm>
              <a:off x="755640" y="3500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∴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165720" y="1731960"/>
            <a:ext cx="2362320" cy="990720"/>
            <a:chOff x="6165720" y="1731960"/>
            <a:chExt cx="2362320" cy="990720"/>
          </a:xfrm>
        </p:grpSpPr>
        <p:sp>
          <p:nvSpPr>
            <p:cNvPr id="427" name="Line 11"/>
            <p:cNvSpPr/>
            <p:nvPr/>
          </p:nvSpPr>
          <p:spPr>
            <a:xfrm flipV="1">
              <a:off x="6165720" y="1731960"/>
              <a:ext cx="2362320" cy="990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28" name=""/>
            <p:cNvSpPr txBox="1"/>
            <p:nvPr/>
          </p:nvSpPr>
          <p:spPr>
            <a:xfrm rot="10800000">
              <a:off x="6165720" y="1731960"/>
              <a:ext cx="236232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6171840" y="1725480"/>
            <a:ext cx="2362680" cy="990720"/>
            <a:chOff x="6171840" y="1725480"/>
            <a:chExt cx="2362680" cy="990720"/>
          </a:xfrm>
        </p:grpSpPr>
        <p:grpSp>
          <p:nvGrpSpPr>
            <p:cNvPr id="430" name=""/>
            <p:cNvGrpSpPr/>
            <p:nvPr/>
          </p:nvGrpSpPr>
          <p:grpSpPr>
            <a:xfrm>
              <a:off x="6781680" y="1725480"/>
              <a:ext cx="1752840" cy="360"/>
              <a:chOff x="6781680" y="1725480"/>
              <a:chExt cx="1752840" cy="360"/>
            </a:xfrm>
          </p:grpSpPr>
          <p:sp>
            <p:nvSpPr>
              <p:cNvPr id="431" name="Line 13"/>
              <p:cNvSpPr/>
              <p:nvPr/>
            </p:nvSpPr>
            <p:spPr>
              <a:xfrm>
                <a:off x="6781680" y="17254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6781680" y="1725480"/>
                <a:ext cx="1752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6172200" y="2715840"/>
              <a:ext cx="1752480" cy="360"/>
              <a:chOff x="6172200" y="2715840"/>
              <a:chExt cx="1752480" cy="360"/>
            </a:xfrm>
          </p:grpSpPr>
          <p:sp>
            <p:nvSpPr>
              <p:cNvPr id="434" name="Line 14"/>
              <p:cNvSpPr/>
              <p:nvPr/>
            </p:nvSpPr>
            <p:spPr>
              <a:xfrm>
                <a:off x="6172200" y="271584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6172200" y="2715840"/>
                <a:ext cx="1752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171840" y="1725480"/>
              <a:ext cx="609840" cy="990360"/>
              <a:chOff x="6171840" y="1725480"/>
              <a:chExt cx="609840" cy="990360"/>
            </a:xfrm>
          </p:grpSpPr>
          <p:sp>
            <p:nvSpPr>
              <p:cNvPr id="437" name="Line 15"/>
              <p:cNvSpPr/>
              <p:nvPr/>
            </p:nvSpPr>
            <p:spPr>
              <a:xfrm flipH="1">
                <a:off x="6171840" y="1725480"/>
                <a:ext cx="60948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6172200" y="1725480"/>
                <a:ext cx="60948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924680" y="1725480"/>
              <a:ext cx="609840" cy="990360"/>
              <a:chOff x="7924680" y="1725480"/>
              <a:chExt cx="609840" cy="990360"/>
            </a:xfrm>
          </p:grpSpPr>
          <p:sp>
            <p:nvSpPr>
              <p:cNvPr id="440" name="Line 16"/>
              <p:cNvSpPr/>
              <p:nvPr/>
            </p:nvSpPr>
            <p:spPr>
              <a:xfrm flipH="1">
                <a:off x="7924680" y="1725480"/>
                <a:ext cx="609840" cy="9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7924680" y="1725480"/>
                <a:ext cx="60984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17"/>
          <p:cNvGrpSpPr/>
          <p:nvPr/>
        </p:nvGrpSpPr>
        <p:grpSpPr>
          <a:xfrm>
            <a:off x="5791320" y="1268280"/>
            <a:ext cx="3352680" cy="1739520"/>
            <a:chOff x="5791320" y="1268280"/>
            <a:chExt cx="3352680" cy="1739520"/>
          </a:xfrm>
        </p:grpSpPr>
        <p:sp>
          <p:nvSpPr>
            <p:cNvPr id="443" name="Rectangle 18"/>
            <p:cNvSpPr/>
            <p:nvPr/>
          </p:nvSpPr>
          <p:spPr>
            <a:xfrm>
              <a:off x="6445800" y="126828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44" name="Rectangle 19"/>
            <p:cNvSpPr/>
            <p:nvPr/>
          </p:nvSpPr>
          <p:spPr>
            <a:xfrm>
              <a:off x="8534520" y="13586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45" name="Rectangle 20"/>
            <p:cNvSpPr/>
            <p:nvPr/>
          </p:nvSpPr>
          <p:spPr>
            <a:xfrm>
              <a:off x="5791320" y="24872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46" name="Rectangle 21"/>
            <p:cNvSpPr/>
            <p:nvPr/>
          </p:nvSpPr>
          <p:spPr>
            <a:xfrm>
              <a:off x="7924680" y="248724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781680" y="1725480"/>
            <a:ext cx="1143000" cy="990720"/>
            <a:chOff x="6781680" y="1725480"/>
            <a:chExt cx="1143000" cy="990720"/>
          </a:xfrm>
        </p:grpSpPr>
        <p:sp>
          <p:nvSpPr>
            <p:cNvPr id="448" name="Line 22"/>
            <p:cNvSpPr/>
            <p:nvPr/>
          </p:nvSpPr>
          <p:spPr>
            <a:xfrm>
              <a:off x="6781680" y="1725480"/>
              <a:ext cx="1143000" cy="990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6781680" y="17254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450" name="Text Box 23"/>
          <p:cNvSpPr/>
          <p:nvPr/>
        </p:nvSpPr>
        <p:spPr>
          <a:xfrm>
            <a:off x="7202520" y="18302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1" name="文本框 8199"/>
          <p:cNvSpPr/>
          <p:nvPr/>
        </p:nvSpPr>
        <p:spPr>
          <a:xfrm>
            <a:off x="2303640" y="601992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8D00-C9DF-4443-B54A-EB96F875077B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3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9474-770E-4333-B2C8-4418A0878972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68360" y="476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说一说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539640" y="1052640"/>
            <a:ext cx="860436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C=10cm, AC=8cm,     BD=14cm,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周长是多少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理由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周长哪个长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多少？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6" name="AutoShape 6"/>
          <p:cNvSpPr/>
          <p:nvPr/>
        </p:nvSpPr>
        <p:spPr>
          <a:xfrm>
            <a:off x="2556000" y="1197000"/>
            <a:ext cx="358560" cy="216000"/>
          </a:xfrm>
          <a:prstGeom prst="parallelogram">
            <a:avLst>
              <a:gd name="adj" fmla="val 415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57" name="Group 11"/>
          <p:cNvGrpSpPr/>
          <p:nvPr/>
        </p:nvGrpSpPr>
        <p:grpSpPr>
          <a:xfrm>
            <a:off x="5039280" y="1766880"/>
            <a:ext cx="3316680" cy="2658960"/>
            <a:chOff x="5039280" y="1766880"/>
            <a:chExt cx="3316680" cy="2658960"/>
          </a:xfrm>
        </p:grpSpPr>
        <p:grpSp>
          <p:nvGrpSpPr>
            <p:cNvPr id="458" name="Group 12"/>
            <p:cNvGrpSpPr/>
            <p:nvPr/>
          </p:nvGrpSpPr>
          <p:grpSpPr>
            <a:xfrm>
              <a:off x="5039280" y="2458800"/>
              <a:ext cx="1658520" cy="1328400"/>
              <a:chOff x="5039280" y="2458800"/>
              <a:chExt cx="1658520" cy="1328400"/>
            </a:xfrm>
          </p:grpSpPr>
          <p:sp>
            <p:nvSpPr>
              <p:cNvPr id="459" name="Freeform 13"/>
              <p:cNvSpPr/>
              <p:nvPr/>
            </p:nvSpPr>
            <p:spPr>
              <a:xfrm rot="3751800">
                <a:off x="5508360" y="2375280"/>
                <a:ext cx="720000" cy="1494720"/>
              </a:xfrm>
              <a:custGeom>
                <a:avLst/>
                <a:gdLst/>
                <a:ahLst/>
                <a:rect l="l" t="t" r="r" b="b"/>
                <a:pathLst>
                  <a:path w="681" h="907">
                    <a:moveTo>
                      <a:pt x="0" y="0"/>
                    </a:moveTo>
                    <a:lnTo>
                      <a:pt x="681" y="0"/>
                    </a:lnTo>
                    <a:lnTo>
                      <a:pt x="681" y="90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5039280" y="2458800"/>
                <a:ext cx="1658520" cy="1328400"/>
                <a:chOff x="5039280" y="2458800"/>
                <a:chExt cx="1658520" cy="1328400"/>
              </a:xfrm>
            </p:grpSpPr>
            <p:sp>
              <p:nvSpPr>
                <p:cNvPr id="461" name="Line 14"/>
                <p:cNvSpPr/>
                <p:nvPr/>
              </p:nvSpPr>
              <p:spPr>
                <a:xfrm flipH="1">
                  <a:off x="5371560" y="2458800"/>
                  <a:ext cx="993960" cy="13280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 txBox="1"/>
                <p:nvPr/>
              </p:nvSpPr>
              <p:spPr>
                <a:xfrm rot="3751800">
                  <a:off x="5508360" y="2375280"/>
                  <a:ext cx="720000" cy="149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3" name="Group 15"/>
            <p:cNvGrpSpPr/>
            <p:nvPr/>
          </p:nvGrpSpPr>
          <p:grpSpPr>
            <a:xfrm>
              <a:off x="6697800" y="2408040"/>
              <a:ext cx="1658160" cy="1328040"/>
              <a:chOff x="6697800" y="2408040"/>
              <a:chExt cx="1658160" cy="1328040"/>
            </a:xfrm>
          </p:grpSpPr>
          <p:sp>
            <p:nvSpPr>
              <p:cNvPr id="464" name="Freeform 16"/>
              <p:cNvSpPr/>
              <p:nvPr/>
            </p:nvSpPr>
            <p:spPr>
              <a:xfrm rot="14551800">
                <a:off x="7166880" y="2324520"/>
                <a:ext cx="720000" cy="1494360"/>
              </a:xfrm>
              <a:custGeom>
                <a:avLst/>
                <a:gdLst/>
                <a:ahLst/>
                <a:rect l="l" t="t" r="r" b="b"/>
                <a:pathLst>
                  <a:path w="681" h="907">
                    <a:moveTo>
                      <a:pt x="0" y="0"/>
                    </a:moveTo>
                    <a:lnTo>
                      <a:pt x="681" y="0"/>
                    </a:lnTo>
                    <a:lnTo>
                      <a:pt x="681" y="90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6697800" y="2408040"/>
                <a:ext cx="1658160" cy="1328040"/>
                <a:chOff x="6697800" y="2408040"/>
                <a:chExt cx="1658160" cy="1328040"/>
              </a:xfrm>
            </p:grpSpPr>
            <p:sp>
              <p:nvSpPr>
                <p:cNvPr id="466" name="Line 17"/>
                <p:cNvSpPr/>
                <p:nvPr/>
              </p:nvSpPr>
              <p:spPr>
                <a:xfrm flipV="1">
                  <a:off x="7030080" y="2408040"/>
                  <a:ext cx="993960" cy="13280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 txBox="1"/>
                <p:nvPr/>
              </p:nvSpPr>
              <p:spPr>
                <a:xfrm rot="14551800">
                  <a:off x="7166880" y="2324520"/>
                  <a:ext cx="720000" cy="14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"/>
            <p:cNvGrpSpPr/>
            <p:nvPr/>
          </p:nvGrpSpPr>
          <p:grpSpPr>
            <a:xfrm>
              <a:off x="5371200" y="3097440"/>
              <a:ext cx="1658880" cy="1328400"/>
              <a:chOff x="5371200" y="3097440"/>
              <a:chExt cx="1658880" cy="1328400"/>
            </a:xfrm>
          </p:grpSpPr>
          <p:sp>
            <p:nvSpPr>
              <p:cNvPr id="469" name="Line 18"/>
              <p:cNvSpPr/>
              <p:nvPr/>
            </p:nvSpPr>
            <p:spPr>
              <a:xfrm flipH="1">
                <a:off x="5371200" y="3736440"/>
                <a:ext cx="1658520" cy="5076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 rot="3751800">
                <a:off x="5840280" y="3013920"/>
                <a:ext cx="720000" cy="149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365520" y="1766880"/>
              <a:ext cx="1663200" cy="1330920"/>
              <a:chOff x="6365520" y="1766880"/>
              <a:chExt cx="1663200" cy="1330920"/>
            </a:xfrm>
          </p:grpSpPr>
          <p:sp>
            <p:nvSpPr>
              <p:cNvPr id="472" name="Line 19"/>
              <p:cNvSpPr/>
              <p:nvPr/>
            </p:nvSpPr>
            <p:spPr>
              <a:xfrm flipH="1">
                <a:off x="6365520" y="2405520"/>
                <a:ext cx="1663200" cy="53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 txBox="1"/>
              <p:nvPr/>
            </p:nvSpPr>
            <p:spPr>
              <a:xfrm rot="3751800">
                <a:off x="6836760" y="1681920"/>
                <a:ext cx="720000" cy="150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Rectangle 20"/>
          <p:cNvSpPr/>
          <p:nvPr/>
        </p:nvSpPr>
        <p:spPr>
          <a:xfrm>
            <a:off x="587736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4939920" y="3573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B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6" name="Rectangle 22"/>
          <p:cNvSpPr/>
          <p:nvPr/>
        </p:nvSpPr>
        <p:spPr>
          <a:xfrm>
            <a:off x="8046000" y="2276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 rot="182400">
            <a:off x="6950160" y="364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>
            <a:off x="6384600" y="3141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O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9" name="Text Box 27"/>
          <p:cNvSpPr/>
          <p:nvPr/>
        </p:nvSpPr>
        <p:spPr>
          <a:xfrm>
            <a:off x="1979640" y="342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+4+7=2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0" name="Text Box 28"/>
          <p:cNvSpPr/>
          <p:nvPr/>
        </p:nvSpPr>
        <p:spPr>
          <a:xfrm>
            <a:off x="1187280" y="508464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△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周长小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B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周长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1" name="Rectangle 29"/>
          <p:cNvSpPr/>
          <p:nvPr/>
        </p:nvSpPr>
        <p:spPr>
          <a:xfrm>
            <a:off x="4902840" y="5373720"/>
            <a:ext cx="8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小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3C5-6AF0-423A-B71C-0F06B44DEF7E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5E6F-5795-4A21-8E84-85BC72D75B08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250920" y="9079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图，四边形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是平行四边形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=10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D=8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C⊥B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求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OA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长以及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的面积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7236000" y="184932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黑体"/>
                <a:ea typeface="黑体"/>
              </a:rPr>
              <a:t>8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5292720" y="24922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黑体"/>
                <a:ea typeface="黑体"/>
              </a:rPr>
              <a:t>10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487" name="Group 6"/>
          <p:cNvGrpSpPr/>
          <p:nvPr/>
        </p:nvGrpSpPr>
        <p:grpSpPr>
          <a:xfrm>
            <a:off x="4788000" y="1833480"/>
            <a:ext cx="4003560" cy="2481480"/>
            <a:chOff x="4788000" y="1833480"/>
            <a:chExt cx="4003560" cy="2481480"/>
          </a:xfrm>
        </p:grpSpPr>
        <p:sp>
          <p:nvSpPr>
            <p:cNvPr id="488" name="Text Box 7"/>
            <p:cNvSpPr/>
            <p:nvPr/>
          </p:nvSpPr>
          <p:spPr>
            <a:xfrm>
              <a:off x="4788000" y="35956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89" name="Text Box 8"/>
            <p:cNvSpPr/>
            <p:nvPr/>
          </p:nvSpPr>
          <p:spPr>
            <a:xfrm>
              <a:off x="6432480" y="361152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0" name="Text Box 9"/>
            <p:cNvSpPr/>
            <p:nvPr/>
          </p:nvSpPr>
          <p:spPr>
            <a:xfrm>
              <a:off x="8143920" y="183816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1" name="Text Box 10"/>
            <p:cNvSpPr/>
            <p:nvPr/>
          </p:nvSpPr>
          <p:spPr>
            <a:xfrm>
              <a:off x="6543720" y="18334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5046480" y="2469960"/>
              <a:ext cx="3383280" cy="1295640"/>
            </a:xfrm>
            <a:prstGeom prst="parallelogram">
              <a:avLst>
                <a:gd name="adj" fmla="val 131604"/>
              </a:avLst>
            </a:prstGeom>
            <a:solidFill>
              <a:srgbClr val="ffffff"/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6716520" y="2469960"/>
              <a:ext cx="44640" cy="1295640"/>
              <a:chOff x="6716520" y="2469960"/>
              <a:chExt cx="44640" cy="1295640"/>
            </a:xfrm>
          </p:grpSpPr>
          <p:sp>
            <p:nvSpPr>
              <p:cNvPr id="494" name="Line 12"/>
              <p:cNvSpPr/>
              <p:nvPr/>
            </p:nvSpPr>
            <p:spPr>
              <a:xfrm flipH="1">
                <a:off x="6716520" y="2469960"/>
                <a:ext cx="44640" cy="1295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6716520" y="2469960"/>
                <a:ext cx="44640" cy="12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496" name="Freeform 13"/>
            <p:cNvSpPr/>
            <p:nvPr/>
          </p:nvSpPr>
          <p:spPr>
            <a:xfrm>
              <a:off x="6580080" y="3603600"/>
              <a:ext cx="136440" cy="16200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0"/>
                  </a:moveTo>
                  <a:lnTo>
                    <a:pt x="0" y="0"/>
                  </a:lnTo>
                  <a:lnTo>
                    <a:pt x="0" y="136"/>
                  </a:lnTo>
                </a:path>
              </a:pathLst>
            </a:custGeom>
            <a:noFill/>
            <a:ln w="63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046480" y="2469600"/>
              <a:ext cx="3384720" cy="1295640"/>
              <a:chOff x="5046480" y="2469600"/>
              <a:chExt cx="3384720" cy="1295640"/>
            </a:xfrm>
          </p:grpSpPr>
          <p:sp>
            <p:nvSpPr>
              <p:cNvPr id="498" name="Line 14"/>
              <p:cNvSpPr/>
              <p:nvPr/>
            </p:nvSpPr>
            <p:spPr>
              <a:xfrm flipV="1">
                <a:off x="5046480" y="2469600"/>
                <a:ext cx="3384720" cy="1295640"/>
              </a:xfrm>
              <a:prstGeom prst="line">
                <a:avLst/>
              </a:prstGeom>
              <a:ln w="63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 rot="10800000">
                <a:off x="5046480" y="2469600"/>
                <a:ext cx="3384720" cy="12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500" name="Text Box 15"/>
            <p:cNvSpPr/>
            <p:nvPr/>
          </p:nvSpPr>
          <p:spPr>
            <a:xfrm>
              <a:off x="6524640" y="292896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●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1" name="Text Box 16"/>
            <p:cNvSpPr/>
            <p:nvPr/>
          </p:nvSpPr>
          <p:spPr>
            <a:xfrm>
              <a:off x="6697800" y="240804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003280" y="2492280"/>
            <a:ext cx="1729440" cy="1297080"/>
            <a:chOff x="5003280" y="2492280"/>
            <a:chExt cx="1729440" cy="1297080"/>
          </a:xfrm>
        </p:grpSpPr>
        <p:sp>
          <p:nvSpPr>
            <p:cNvPr id="503" name="Line 17"/>
            <p:cNvSpPr/>
            <p:nvPr/>
          </p:nvSpPr>
          <p:spPr>
            <a:xfrm flipH="1">
              <a:off x="5003280" y="2492280"/>
              <a:ext cx="1729080" cy="1297080"/>
            </a:xfrm>
            <a:prstGeom prst="line">
              <a:avLst/>
            </a:prstGeom>
            <a:ln w="63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5003640" y="2492280"/>
              <a:ext cx="172908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732720" y="2470320"/>
            <a:ext cx="1655640" cy="360"/>
            <a:chOff x="6732720" y="2470320"/>
            <a:chExt cx="1655640" cy="360"/>
          </a:xfrm>
        </p:grpSpPr>
        <p:sp>
          <p:nvSpPr>
            <p:cNvPr id="506" name="Line 18"/>
            <p:cNvSpPr/>
            <p:nvPr/>
          </p:nvSpPr>
          <p:spPr>
            <a:xfrm>
              <a:off x="6732720" y="2470320"/>
              <a:ext cx="1655640" cy="0"/>
            </a:xfrm>
            <a:prstGeom prst="line">
              <a:avLst/>
            </a:prstGeom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732720" y="247032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08" name="Group 19"/>
          <p:cNvGrpSpPr/>
          <p:nvPr/>
        </p:nvGrpSpPr>
        <p:grpSpPr>
          <a:xfrm>
            <a:off x="5099040" y="2470320"/>
            <a:ext cx="1655640" cy="1296720"/>
            <a:chOff x="5099040" y="2470320"/>
            <a:chExt cx="1655640" cy="1296720"/>
          </a:xfrm>
        </p:grpSpPr>
        <p:sp>
          <p:nvSpPr>
            <p:cNvPr id="509" name="Freeform 20"/>
            <p:cNvSpPr/>
            <p:nvPr/>
          </p:nvSpPr>
          <p:spPr>
            <a:xfrm>
              <a:off x="5099040" y="2470320"/>
              <a:ext cx="1655640" cy="1296720"/>
            </a:xfrm>
            <a:custGeom>
              <a:avLst/>
              <a:gdLst/>
              <a:ahLst/>
              <a:rect l="l" t="t" r="r" b="b"/>
              <a:pathLst>
                <a:path w="1043" h="817">
                  <a:moveTo>
                    <a:pt x="0" y="817"/>
                  </a:moveTo>
                  <a:lnTo>
                    <a:pt x="1043" y="817"/>
                  </a:lnTo>
                  <a:lnTo>
                    <a:pt x="1043" y="0"/>
                  </a:ln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0" name="Freeform 21"/>
            <p:cNvSpPr/>
            <p:nvPr/>
          </p:nvSpPr>
          <p:spPr>
            <a:xfrm>
              <a:off x="6538680" y="3549600"/>
              <a:ext cx="215640" cy="21564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0" y="0"/>
                  </a:lnTo>
                  <a:lnTo>
                    <a:pt x="0" y="136"/>
                  </a:ln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11" name="AutoShape 34"/>
          <p:cNvSpPr/>
          <p:nvPr/>
        </p:nvSpPr>
        <p:spPr>
          <a:xfrm>
            <a:off x="2627280" y="2276640"/>
            <a:ext cx="289080" cy="215640"/>
          </a:xfrm>
          <a:prstGeom prst="parallelogram">
            <a:avLst>
              <a:gd name="adj" fmla="val 3351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12" name="Group 46"/>
          <p:cNvGrpSpPr/>
          <p:nvPr/>
        </p:nvGrpSpPr>
        <p:grpSpPr>
          <a:xfrm>
            <a:off x="-20520" y="2997360"/>
            <a:ext cx="7400880" cy="3555360"/>
            <a:chOff x="-20520" y="2997360"/>
            <a:chExt cx="7400880" cy="3555360"/>
          </a:xfrm>
        </p:grpSpPr>
        <p:sp>
          <p:nvSpPr>
            <p:cNvPr id="513" name="Text Box 22"/>
            <p:cNvSpPr/>
            <p:nvPr/>
          </p:nvSpPr>
          <p:spPr>
            <a:xfrm>
              <a:off x="0" y="2997360"/>
              <a:ext cx="122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黑体"/>
                </a:rPr>
                <a:t>解：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514" name="Group 45"/>
            <p:cNvGrpSpPr/>
            <p:nvPr/>
          </p:nvGrpSpPr>
          <p:grpSpPr>
            <a:xfrm>
              <a:off x="-20520" y="3284640"/>
              <a:ext cx="7400880" cy="3268080"/>
              <a:chOff x="-20520" y="3284640"/>
              <a:chExt cx="7400880" cy="3268080"/>
            </a:xfrm>
          </p:grpSpPr>
          <p:sp>
            <p:nvSpPr>
              <p:cNvPr id="515" name="Text Box 25"/>
              <p:cNvSpPr/>
              <p:nvPr/>
            </p:nvSpPr>
            <p:spPr>
              <a:xfrm>
                <a:off x="2340000" y="4221000"/>
                <a:ext cx="5040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a50021"/>
                    </a:solidFill>
                    <a:latin typeface="黑体"/>
                    <a:ea typeface="黑体"/>
                  </a:rPr>
                  <a:t>∴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△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ABC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是直角三角形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16" name="Rectangle 31"/>
              <p:cNvSpPr/>
              <p:nvPr/>
            </p:nvSpPr>
            <p:spPr>
              <a:xfrm>
                <a:off x="-20520" y="4221000"/>
                <a:ext cx="2217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又</a:t>
                </a:r>
                <a:r>
                  <a:rPr b="1" lang="zh-CN" sz="3200" spc="-1" strike="noStrike">
                    <a:solidFill>
                      <a:srgbClr val="a50021"/>
                    </a:solidFill>
                    <a:latin typeface="黑体"/>
                    <a:ea typeface="黑体"/>
                  </a:rPr>
                  <a:t>∵</a:t>
                </a:r>
                <a:r>
                  <a:rPr b="1" lang="en-US" sz="32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AC⊥BC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517" name="Group 44"/>
              <p:cNvGrpSpPr/>
              <p:nvPr/>
            </p:nvGrpSpPr>
            <p:grpSpPr>
              <a:xfrm>
                <a:off x="108000" y="3284640"/>
                <a:ext cx="6810480" cy="3268080"/>
                <a:chOff x="108000" y="3284640"/>
                <a:chExt cx="6810480" cy="3268080"/>
              </a:xfrm>
            </p:grpSpPr>
            <p:sp>
              <p:nvSpPr>
                <p:cNvPr id="518" name="Text Box 23"/>
                <p:cNvSpPr/>
                <p:nvPr/>
              </p:nvSpPr>
              <p:spPr>
                <a:xfrm>
                  <a:off x="468360" y="3284640"/>
                  <a:ext cx="4608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∵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四边形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ABCD</a:t>
                  </a: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是平行四边形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519" name="Text Box 24"/>
                <p:cNvSpPr/>
                <p:nvPr/>
              </p:nvSpPr>
              <p:spPr>
                <a:xfrm>
                  <a:off x="395280" y="3716280"/>
                  <a:ext cx="525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∴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BC=AD=8</a:t>
                  </a:r>
                  <a:r>
                    <a:rPr b="1" lang="zh-CN" sz="32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，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CD=AB=10</a:t>
                  </a:r>
                  <a:endParaRPr b="0" lang="en-US" sz="32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pic>
              <p:nvPicPr>
                <p:cNvPr id="520" name="Object 2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900000" y="4724280"/>
                  <a:ext cx="3116520" cy="592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1" name="Object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95640" y="4653000"/>
                  <a:ext cx="2922840" cy="6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2" name="Text Box 28"/>
                <p:cNvSpPr/>
                <p:nvPr/>
              </p:nvSpPr>
              <p:spPr>
                <a:xfrm>
                  <a:off x="108000" y="5300640"/>
                  <a:ext cx="237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又</a:t>
                  </a:r>
                  <a:r>
                    <a:rPr b="1" lang="zh-CN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∵</a:t>
                  </a:r>
                  <a:r>
                    <a:rPr b="1" lang="en-US" sz="32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OA=OC</a:t>
                  </a:r>
                  <a:endParaRPr b="0" lang="en-US" sz="32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pic>
              <p:nvPicPr>
                <p:cNvPr id="523" name="Object 2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03640" y="5157720"/>
                  <a:ext cx="2448000" cy="933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Rectangle 32"/>
                <p:cNvSpPr/>
                <p:nvPr/>
              </p:nvSpPr>
              <p:spPr>
                <a:xfrm>
                  <a:off x="468360" y="4724280"/>
                  <a:ext cx="574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a50021"/>
                      </a:solidFill>
                      <a:latin typeface="Arial"/>
                    </a:rPr>
                    <a:t>∴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33"/>
                <p:cNvSpPr/>
                <p:nvPr/>
              </p:nvSpPr>
              <p:spPr>
                <a:xfrm>
                  <a:off x="2541240" y="5373720"/>
                  <a:ext cx="427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a50021"/>
                      </a:solidFill>
                      <a:latin typeface="Arial"/>
                    </a:rPr>
                    <a:t>∴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41"/>
                <p:cNvSpPr/>
                <p:nvPr/>
              </p:nvSpPr>
              <p:spPr>
                <a:xfrm>
                  <a:off x="324000" y="5805360"/>
                  <a:ext cx="53989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1" lang="en-US" sz="32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∴</a:t>
                  </a:r>
                  <a:r>
                    <a:rPr b="1" lang="en-US" sz="40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S</a:t>
                  </a:r>
                  <a:r>
                    <a:rPr b="1" lang="en-US" sz="40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    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= BC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×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AC=8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×</a:t>
                  </a:r>
                  <a:r>
                    <a:rPr b="1" lang="en-US" sz="28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6=48</a:t>
                  </a:r>
                  <a:r>
                    <a:rPr b="1" lang="en-US" sz="2800" spc="-1" strike="noStrike">
                      <a:solidFill>
                        <a:srgbClr val="a50021"/>
                      </a:solidFill>
                      <a:latin typeface="黑体"/>
                      <a:ea typeface="黑体"/>
                    </a:rPr>
                    <a:t>   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42"/>
                <p:cNvSpPr/>
                <p:nvPr/>
              </p:nvSpPr>
              <p:spPr>
                <a:xfrm>
                  <a:off x="1187280" y="6237360"/>
                  <a:ext cx="217800" cy="144360"/>
                </a:xfrm>
                <a:prstGeom prst="parallelogram">
                  <a:avLst>
                    <a:gd name="adj" fmla="val 37718"/>
                  </a:avLst>
                </a:prstGeom>
                <a:noFill/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43"/>
                <p:cNvSpPr/>
                <p:nvPr/>
              </p:nvSpPr>
              <p:spPr>
                <a:xfrm>
                  <a:off x="1224720" y="6093000"/>
                  <a:ext cx="1014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ABCD</a:t>
                  </a:r>
                  <a:endParaRPr b="0" lang="en-US" sz="24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29" name="WordArt 47"/>
          <p:cNvSpPr txBox="1"/>
          <p:nvPr/>
        </p:nvSpPr>
        <p:spPr>
          <a:xfrm>
            <a:off x="250920" y="-17136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 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谁先会，谁展示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F807-E7B7-4D28-A87E-8AE5F3B00082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35B1-97F2-489E-A17C-A5D8AFA992E3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2" name="Freeform 2"/>
          <p:cNvSpPr/>
          <p:nvPr/>
        </p:nvSpPr>
        <p:spPr>
          <a:xfrm>
            <a:off x="2540160" y="3208320"/>
            <a:ext cx="2809800" cy="720720"/>
          </a:xfrm>
          <a:custGeom>
            <a:avLst/>
            <a:gdLst/>
            <a:ahLst/>
            <a:rect l="l" t="t" r="r" b="b"/>
            <a:pathLst>
              <a:path w="1770" h="454">
                <a:moveTo>
                  <a:pt x="0" y="454"/>
                </a:moveTo>
                <a:lnTo>
                  <a:pt x="1770" y="454"/>
                </a:lnTo>
                <a:lnTo>
                  <a:pt x="1180" y="0"/>
                </a:lnTo>
                <a:lnTo>
                  <a:pt x="0" y="454"/>
                </a:lnTo>
                <a:close/>
              </a:path>
            </a:pathLst>
          </a:custGeom>
          <a:blipFill rotWithShape="0">
            <a:blip r:embed="rId1">
              <a:alphaModFix amt="55000"/>
            </a:blip>
            <a:srcRect/>
            <a:tile tx="0" ty="0" sx="100000" sy="100000" algn="ctr"/>
          </a:blip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3" name="Freeform 3"/>
          <p:cNvSpPr/>
          <p:nvPr/>
        </p:nvSpPr>
        <p:spPr>
          <a:xfrm>
            <a:off x="2556000" y="2492280"/>
            <a:ext cx="1800000" cy="1440000"/>
          </a:xfrm>
          <a:custGeom>
            <a:avLst/>
            <a:gdLst/>
            <a:ahLst/>
            <a:rect l="l" t="t" r="r" b="b"/>
            <a:pathLst>
              <a:path w="1134" h="907">
                <a:moveTo>
                  <a:pt x="589" y="0"/>
                </a:moveTo>
                <a:lnTo>
                  <a:pt x="0" y="907"/>
                </a:lnTo>
                <a:lnTo>
                  <a:pt x="1134" y="453"/>
                </a:lnTo>
                <a:lnTo>
                  <a:pt x="589" y="0"/>
                </a:lnTo>
                <a:close/>
              </a:path>
            </a:pathLst>
          </a:custGeom>
          <a:blipFill rotWithShape="0">
            <a:blip r:embed="rId2">
              <a:alphaModFix amt="60000"/>
            </a:blip>
            <a:srcRect/>
            <a:tile tx="0" ty="0" sx="100000" sy="100000" algn="ctr"/>
          </a:blipFill>
          <a:ln w="63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4" name="Freeform 4"/>
          <p:cNvSpPr/>
          <p:nvPr/>
        </p:nvSpPr>
        <p:spPr>
          <a:xfrm>
            <a:off x="3481560" y="2503440"/>
            <a:ext cx="2808000" cy="719280"/>
          </a:xfrm>
          <a:custGeom>
            <a:avLst/>
            <a:gdLst/>
            <a:ahLst/>
            <a:rect l="l" t="t" r="r" b="b"/>
            <a:pathLst>
              <a:path w="1769" h="453">
                <a:moveTo>
                  <a:pt x="0" y="0"/>
                </a:moveTo>
                <a:lnTo>
                  <a:pt x="544" y="453"/>
                </a:lnTo>
                <a:lnTo>
                  <a:pt x="1769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>
              <a:alphaModFix amt="52000"/>
            </a:blip>
            <a:srcRect/>
            <a:tile tx="0" ty="0" sx="100000" sy="100000" algn="ctr"/>
          </a:blipFill>
          <a:ln w="63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35" name="Group 5"/>
          <p:cNvGrpSpPr/>
          <p:nvPr/>
        </p:nvGrpSpPr>
        <p:grpSpPr>
          <a:xfrm>
            <a:off x="2351160" y="1824120"/>
            <a:ext cx="4368240" cy="2681280"/>
            <a:chOff x="2351160" y="1824120"/>
            <a:chExt cx="4368240" cy="2681280"/>
          </a:xfrm>
        </p:grpSpPr>
        <p:sp>
          <p:nvSpPr>
            <p:cNvPr id="536" name="AutoShape 6"/>
            <p:cNvSpPr/>
            <p:nvPr/>
          </p:nvSpPr>
          <p:spPr>
            <a:xfrm>
              <a:off x="2560320" y="2484360"/>
              <a:ext cx="3744720" cy="1439280"/>
            </a:xfrm>
            <a:prstGeom prst="parallelogram">
              <a:avLst>
                <a:gd name="adj" fmla="val 65045"/>
              </a:avLst>
            </a:prstGeom>
            <a:noFill/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7" name="Text Box 7"/>
            <p:cNvSpPr/>
            <p:nvPr/>
          </p:nvSpPr>
          <p:spPr>
            <a:xfrm>
              <a:off x="3270240" y="1841400"/>
              <a:ext cx="64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086080" y="37908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39" name="Text Box 9"/>
            <p:cNvSpPr/>
            <p:nvPr/>
          </p:nvSpPr>
          <p:spPr>
            <a:xfrm>
              <a:off x="6072120" y="1824120"/>
              <a:ext cx="64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0" name="Text Box 10"/>
            <p:cNvSpPr/>
            <p:nvPr/>
          </p:nvSpPr>
          <p:spPr>
            <a:xfrm>
              <a:off x="2351160" y="380196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506680" y="2511360"/>
            <a:ext cx="3744720" cy="1440000"/>
            <a:chOff x="2506680" y="2511360"/>
            <a:chExt cx="3744720" cy="1440000"/>
          </a:xfrm>
        </p:grpSpPr>
        <p:sp>
          <p:nvSpPr>
            <p:cNvPr id="542" name="Line 11"/>
            <p:cNvSpPr/>
            <p:nvPr/>
          </p:nvSpPr>
          <p:spPr>
            <a:xfrm flipV="1">
              <a:off x="2506680" y="2511360"/>
              <a:ext cx="3744720" cy="1440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 rot="10800000">
              <a:off x="2506680" y="2511360"/>
              <a:ext cx="374472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44" name="Text Box 12"/>
          <p:cNvSpPr/>
          <p:nvPr/>
        </p:nvSpPr>
        <p:spPr>
          <a:xfrm>
            <a:off x="4218120" y="2627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465360" y="2489040"/>
            <a:ext cx="1871640" cy="1440000"/>
            <a:chOff x="3465360" y="2489040"/>
            <a:chExt cx="1871640" cy="1440000"/>
          </a:xfrm>
        </p:grpSpPr>
        <p:sp>
          <p:nvSpPr>
            <p:cNvPr id="546" name="Line 13"/>
            <p:cNvSpPr/>
            <p:nvPr/>
          </p:nvSpPr>
          <p:spPr>
            <a:xfrm>
              <a:off x="3465360" y="2489040"/>
              <a:ext cx="1871640" cy="1440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3465360" y="2489040"/>
              <a:ext cx="187164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476520" y="2471760"/>
            <a:ext cx="863640" cy="720720"/>
            <a:chOff x="3476520" y="2471760"/>
            <a:chExt cx="863640" cy="720720"/>
          </a:xfrm>
        </p:grpSpPr>
        <p:sp>
          <p:nvSpPr>
            <p:cNvPr id="549" name="Line 14"/>
            <p:cNvSpPr/>
            <p:nvPr/>
          </p:nvSpPr>
          <p:spPr>
            <a:xfrm>
              <a:off x="3476520" y="2471760"/>
              <a:ext cx="863640" cy="720720"/>
            </a:xfrm>
            <a:prstGeom prst="line">
              <a:avLst/>
            </a:prstGeom>
            <a:ln w="63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3476520" y="2471760"/>
              <a:ext cx="8636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4406760" y="3208320"/>
            <a:ext cx="935280" cy="719280"/>
            <a:chOff x="4406760" y="3208320"/>
            <a:chExt cx="935280" cy="719280"/>
          </a:xfrm>
        </p:grpSpPr>
        <p:sp>
          <p:nvSpPr>
            <p:cNvPr id="552" name="Line 15"/>
            <p:cNvSpPr/>
            <p:nvPr/>
          </p:nvSpPr>
          <p:spPr>
            <a:xfrm>
              <a:off x="4406760" y="3208320"/>
              <a:ext cx="935280" cy="719280"/>
            </a:xfrm>
            <a:prstGeom prst="line">
              <a:avLst/>
            </a:prstGeom>
            <a:ln w="63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4406760" y="3208320"/>
              <a:ext cx="935280" cy="71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550960" y="3203280"/>
            <a:ext cx="1873440" cy="718920"/>
            <a:chOff x="2550960" y="3203280"/>
            <a:chExt cx="1873440" cy="718920"/>
          </a:xfrm>
        </p:grpSpPr>
        <p:sp>
          <p:nvSpPr>
            <p:cNvPr id="555" name="Line 16"/>
            <p:cNvSpPr/>
            <p:nvPr/>
          </p:nvSpPr>
          <p:spPr>
            <a:xfrm flipV="1">
              <a:off x="2550960" y="3203280"/>
              <a:ext cx="1873440" cy="718920"/>
            </a:xfrm>
            <a:prstGeom prst="line">
              <a:avLst/>
            </a:prstGeom>
            <a:ln w="63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 rot="10800000">
              <a:off x="2550960" y="3203280"/>
              <a:ext cx="1873440" cy="71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397040" y="2503440"/>
            <a:ext cx="1872000" cy="720720"/>
            <a:chOff x="4397040" y="2503440"/>
            <a:chExt cx="1872000" cy="720720"/>
          </a:xfrm>
        </p:grpSpPr>
        <p:sp>
          <p:nvSpPr>
            <p:cNvPr id="558" name="Line 17"/>
            <p:cNvSpPr/>
            <p:nvPr/>
          </p:nvSpPr>
          <p:spPr>
            <a:xfrm flipV="1">
              <a:off x="4397400" y="2503440"/>
              <a:ext cx="1871640" cy="720720"/>
            </a:xfrm>
            <a:prstGeom prst="line">
              <a:avLst/>
            </a:prstGeom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 rot="10800000">
              <a:off x="4397040" y="2503440"/>
              <a:ext cx="187164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60" name="Text Box 18"/>
          <p:cNvSpPr/>
          <p:nvPr/>
        </p:nvSpPr>
        <p:spPr>
          <a:xfrm>
            <a:off x="4179960" y="2987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4067280" y="2492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大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782960" y="3059280"/>
            <a:ext cx="936720" cy="459720"/>
          </a:xfrm>
          <a:prstGeom prst="rect">
            <a:avLst/>
          </a:prstGeom>
          <a:solidFill>
            <a:srgbClr val="00ffff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四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3635280" y="34592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三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3059280" y="2924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65" name="Group 23"/>
          <p:cNvGrpSpPr/>
          <p:nvPr/>
        </p:nvGrpSpPr>
        <p:grpSpPr>
          <a:xfrm>
            <a:off x="3141360" y="2160360"/>
            <a:ext cx="1388880" cy="1465920"/>
            <a:chOff x="3141360" y="2160360"/>
            <a:chExt cx="1388880" cy="1465920"/>
          </a:xfrm>
        </p:grpSpPr>
        <p:sp>
          <p:nvSpPr>
            <p:cNvPr id="566" name="Rectangle 24"/>
            <p:cNvSpPr/>
            <p:nvPr/>
          </p:nvSpPr>
          <p:spPr>
            <a:xfrm rot="19774200">
              <a:off x="3368160" y="2317680"/>
              <a:ext cx="934920" cy="1150920"/>
            </a:xfrm>
            <a:prstGeom prst="rect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67" name="Freeform 25"/>
            <p:cNvSpPr/>
            <p:nvPr/>
          </p:nvSpPr>
          <p:spPr>
            <a:xfrm rot="19774200">
              <a:off x="3901320" y="3120840"/>
              <a:ext cx="216000" cy="21780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0"/>
                  </a:moveTo>
                  <a:lnTo>
                    <a:pt x="181" y="0"/>
                  </a:lnTo>
                  <a:lnTo>
                    <a:pt x="181" y="181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492000" y="2526120"/>
              <a:ext cx="474120" cy="806760"/>
              <a:chOff x="3492000" y="2526120"/>
              <a:chExt cx="474120" cy="806760"/>
            </a:xfrm>
          </p:grpSpPr>
          <p:sp>
            <p:nvSpPr>
              <p:cNvPr id="569" name="Line 26"/>
              <p:cNvSpPr/>
              <p:nvPr/>
            </p:nvSpPr>
            <p:spPr>
              <a:xfrm>
                <a:off x="3492000" y="2526480"/>
                <a:ext cx="473760" cy="806400"/>
              </a:xfrm>
              <a:prstGeom prst="line">
                <a:avLst/>
              </a:prstGeom>
              <a:ln w="633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 rot="19774200">
                <a:off x="3728520" y="2461680"/>
                <a:ext cx="360" cy="9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Text Box 27"/>
          <p:cNvSpPr/>
          <p:nvPr/>
        </p:nvSpPr>
        <p:spPr>
          <a:xfrm>
            <a:off x="370836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黑体"/>
              </a:rPr>
              <a:t>M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2" name="Picture 28" descr="337"/>
          <p:cNvPicPr/>
          <p:nvPr/>
        </p:nvPicPr>
        <p:blipFill>
          <a:blip r:embed="rId4"/>
          <a:stretch/>
        </p:blipFill>
        <p:spPr>
          <a:xfrm>
            <a:off x="0" y="2276640"/>
            <a:ext cx="2160720" cy="1449360"/>
          </a:xfrm>
          <a:prstGeom prst="rect">
            <a:avLst/>
          </a:prstGeom>
          <a:ln w="0">
            <a:noFill/>
          </a:ln>
        </p:spPr>
      </p:pic>
      <p:sp>
        <p:nvSpPr>
          <p:cNvPr id="573" name="WordArt 29"/>
          <p:cNvSpPr txBox="1"/>
          <p:nvPr/>
        </p:nvSpPr>
        <p:spPr>
          <a:xfrm>
            <a:off x="179280" y="189000"/>
            <a:ext cx="4321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老人分地合理吗？</a:t>
            </a:r>
            <a:endParaRPr b="1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4CB-9D59-4F1B-B38F-2CB7F70ED137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5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4C5-69A4-4C6F-8CCE-0E740C231D9E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76" name="Picture 5" descr="贝贝"/>
          <p:cNvPicPr/>
          <p:nvPr/>
        </p:nvPicPr>
        <p:blipFill>
          <a:blip r:embed="rId1"/>
          <a:stretch/>
        </p:blipFill>
        <p:spPr>
          <a:xfrm>
            <a:off x="0" y="0"/>
            <a:ext cx="3168720" cy="3168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欢欢"/>
          <p:cNvPicPr/>
          <p:nvPr/>
        </p:nvPicPr>
        <p:blipFill>
          <a:blip r:embed="rId2"/>
          <a:stretch/>
        </p:blipFill>
        <p:spPr>
          <a:xfrm>
            <a:off x="2627280" y="1557360"/>
            <a:ext cx="3594240" cy="35942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晶晶"/>
          <p:cNvPicPr/>
          <p:nvPr/>
        </p:nvPicPr>
        <p:blipFill>
          <a:blip r:embed="rId3"/>
          <a:stretch/>
        </p:blipFill>
        <p:spPr>
          <a:xfrm>
            <a:off x="0" y="342900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妮妮"/>
          <p:cNvPicPr/>
          <p:nvPr/>
        </p:nvPicPr>
        <p:blipFill>
          <a:blip r:embed="rId4"/>
          <a:stretch/>
        </p:blipFill>
        <p:spPr>
          <a:xfrm>
            <a:off x="5651640" y="3141720"/>
            <a:ext cx="3492360" cy="3492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迎迎"/>
          <p:cNvPicPr/>
          <p:nvPr/>
        </p:nvPicPr>
        <p:blipFill>
          <a:blip r:embed="rId5"/>
          <a:stretch/>
        </p:blipFill>
        <p:spPr>
          <a:xfrm>
            <a:off x="615636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581" name="WordArt 10"/>
          <p:cNvSpPr txBox="1"/>
          <p:nvPr/>
        </p:nvSpPr>
        <p:spPr>
          <a:xfrm>
            <a:off x="2700360" y="189000"/>
            <a:ext cx="295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ccffcc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比一比</a:t>
            </a:r>
            <a:r>
              <a:rPr b="1" lang="en-US" sz="1800" spc="1" strike="noStrike">
                <a:ln w="12600">
                  <a:solidFill>
                    <a:srgbClr val="ccffcc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,</a:t>
            </a:r>
            <a:r>
              <a:rPr b="1" lang="zh-CN" sz="1800" spc="1" strike="noStrike">
                <a:ln w="12600">
                  <a:solidFill>
                    <a:srgbClr val="ccffcc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谁最棒</a:t>
            </a:r>
            <a:r>
              <a:rPr b="1" lang="en-US" sz="1800" spc="1" strike="noStrike">
                <a:ln w="12600">
                  <a:solidFill>
                    <a:srgbClr val="ccffcc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?</a:t>
            </a:r>
            <a:endParaRPr b="1" lang="en-US" sz="1800" spc="1" strike="noStrike">
              <a:ln w="12600">
                <a:solidFill>
                  <a:srgbClr val="ccffcc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C29-776A-4352-91AA-296D979E148F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3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C8F-51B1-4903-B25D-4E2F81B309CB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250920" y="112536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图，在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，对角线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C,B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交于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BD=8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取值范围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_________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3059280" y="1413000"/>
            <a:ext cx="358560" cy="287280"/>
          </a:xfrm>
          <a:prstGeom prst="parallelogram">
            <a:avLst>
              <a:gd name="adj" fmla="val 31203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586" name="Group 5"/>
          <p:cNvGrpSpPr/>
          <p:nvPr/>
        </p:nvGrpSpPr>
        <p:grpSpPr>
          <a:xfrm>
            <a:off x="1979640" y="2492280"/>
            <a:ext cx="5603400" cy="3727800"/>
            <a:chOff x="1979640" y="2492280"/>
            <a:chExt cx="5603400" cy="3727800"/>
          </a:xfrm>
        </p:grpSpPr>
        <p:sp>
          <p:nvSpPr>
            <p:cNvPr id="587" name="AutoShape 6"/>
            <p:cNvSpPr/>
            <p:nvPr/>
          </p:nvSpPr>
          <p:spPr>
            <a:xfrm>
              <a:off x="2193840" y="3213000"/>
              <a:ext cx="4897080" cy="2376720"/>
            </a:xfrm>
            <a:prstGeom prst="parallelogram">
              <a:avLst>
                <a:gd name="adj" fmla="val 51511"/>
              </a:avLst>
            </a:prstGeom>
            <a:solidFill>
              <a:srgbClr val="ffffff"/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193480" y="3213000"/>
              <a:ext cx="4897440" cy="2376720"/>
              <a:chOff x="2193480" y="3213000"/>
              <a:chExt cx="4897440" cy="2376720"/>
            </a:xfrm>
          </p:grpSpPr>
          <p:sp>
            <p:nvSpPr>
              <p:cNvPr id="589" name="Line 7"/>
              <p:cNvSpPr/>
              <p:nvPr/>
            </p:nvSpPr>
            <p:spPr>
              <a:xfrm flipV="1">
                <a:off x="2193840" y="3213000"/>
                <a:ext cx="4897080" cy="2376720"/>
              </a:xfrm>
              <a:prstGeom prst="line">
                <a:avLst/>
              </a:prstGeom>
              <a:ln w="63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 rot="10800000">
                <a:off x="2193480" y="3213000"/>
                <a:ext cx="4897080" cy="237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417480" y="3213000"/>
              <a:ext cx="2449080" cy="2376720"/>
              <a:chOff x="3417480" y="3213000"/>
              <a:chExt cx="2449080" cy="2376720"/>
            </a:xfrm>
          </p:grpSpPr>
          <p:sp>
            <p:nvSpPr>
              <p:cNvPr id="592" name="Line 8"/>
              <p:cNvSpPr/>
              <p:nvPr/>
            </p:nvSpPr>
            <p:spPr>
              <a:xfrm flipH="1" flipV="1">
                <a:off x="3417480" y="3213000"/>
                <a:ext cx="2449080" cy="2376720"/>
              </a:xfrm>
              <a:prstGeom prst="line">
                <a:avLst/>
              </a:prstGeom>
              <a:ln w="507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 rot="10800000">
                <a:off x="3417480" y="3213000"/>
                <a:ext cx="2449080" cy="237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594" name="Text Box 9"/>
            <p:cNvSpPr/>
            <p:nvPr/>
          </p:nvSpPr>
          <p:spPr>
            <a:xfrm>
              <a:off x="4425840" y="3645000"/>
              <a:ext cx="718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3263760" y="2492280"/>
              <a:ext cx="718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6" name="Text Box 11"/>
            <p:cNvSpPr/>
            <p:nvPr/>
          </p:nvSpPr>
          <p:spPr>
            <a:xfrm>
              <a:off x="5589360" y="5445000"/>
              <a:ext cx="71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1979640" y="5516640"/>
              <a:ext cx="71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6864120" y="2565360"/>
              <a:ext cx="71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99" name="Text Box 14"/>
            <p:cNvSpPr/>
            <p:nvPr/>
          </p:nvSpPr>
          <p:spPr>
            <a:xfrm>
              <a:off x="4425840" y="4230720"/>
              <a:ext cx="43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바탕"/>
                  <a:ea typeface="바탕"/>
                </a:rPr>
                <a:t>●</a:t>
              </a:r>
              <a:endParaRPr b="0" lang="en-US" sz="16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00" name="Text Box 19"/>
          <p:cNvSpPr/>
          <p:nvPr/>
        </p:nvSpPr>
        <p:spPr>
          <a:xfrm>
            <a:off x="250920" y="227664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AD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＜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1" name="Picture 20" descr="WW_036"/>
          <p:cNvPicPr/>
          <p:nvPr/>
        </p:nvPicPr>
        <p:blipFill>
          <a:blip r:embed="rId1"/>
          <a:stretch/>
        </p:blipFill>
        <p:spPr>
          <a:xfrm>
            <a:off x="0" y="0"/>
            <a:ext cx="18003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CAB2-A4E6-4E3B-9C85-D981616F65B9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3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E841-5A2C-4E7C-BEF9-E6BD6A91AFB3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468360" y="1484280"/>
            <a:ext cx="82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选择：平行四边形具有而一般四边形不具有                的特征是（　　）      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不稳定性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对角线互相平分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内角的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度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外角和为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度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05" name="Picture 6" descr="WW_036"/>
          <p:cNvPicPr/>
          <p:nvPr/>
        </p:nvPicPr>
        <p:blipFill>
          <a:blip r:embed="rId1"/>
          <a:stretch/>
        </p:blipFill>
        <p:spPr>
          <a:xfrm>
            <a:off x="0" y="0"/>
            <a:ext cx="1800360" cy="11970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2843280" y="198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E9A-3874-4728-9855-C2B018AC4132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8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4F0-FC0A-4528-8A91-0E1FC52D60A6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1557360"/>
            <a:ext cx="82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若平行四边形的一边长为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则它的两条对角线长可以是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Ａ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１２和２　       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３和４　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４和６　           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４和８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10" name="Picture 7" descr="WW_036"/>
          <p:cNvPicPr/>
          <p:nvPr/>
        </p:nvPicPr>
        <p:blipFill>
          <a:blip r:embed="rId1"/>
          <a:stretch/>
        </p:blipFill>
        <p:spPr>
          <a:xfrm>
            <a:off x="0" y="0"/>
            <a:ext cx="1800360" cy="1197000"/>
          </a:xfrm>
          <a:prstGeom prst="rect">
            <a:avLst/>
          </a:prstGeom>
          <a:ln w="0">
            <a:noFill/>
          </a:ln>
        </p:spPr>
      </p:pic>
      <p:sp>
        <p:nvSpPr>
          <p:cNvPr id="611" name="AutoShape 18"/>
          <p:cNvSpPr/>
          <p:nvPr/>
        </p:nvSpPr>
        <p:spPr>
          <a:xfrm>
            <a:off x="5148360" y="4292640"/>
            <a:ext cx="3024000" cy="1366920"/>
          </a:xfrm>
          <a:prstGeom prst="parallelogram">
            <a:avLst>
              <a:gd name="adj" fmla="val 5530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148360" y="4292280"/>
            <a:ext cx="3024000" cy="1369800"/>
            <a:chOff x="5148360" y="4292280"/>
            <a:chExt cx="3024000" cy="1369800"/>
          </a:xfrm>
        </p:grpSpPr>
        <p:sp>
          <p:nvSpPr>
            <p:cNvPr id="613" name="Line 21"/>
            <p:cNvSpPr/>
            <p:nvPr/>
          </p:nvSpPr>
          <p:spPr>
            <a:xfrm flipV="1">
              <a:off x="5148360" y="4292280"/>
              <a:ext cx="3024000" cy="1369800"/>
            </a:xfrm>
            <a:prstGeom prst="line">
              <a:avLst/>
            </a:prstGeom>
            <a:ln w="63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 rot="10800000">
              <a:off x="5148360" y="4292280"/>
              <a:ext cx="3024000" cy="136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866920" y="4292280"/>
            <a:ext cx="1584360" cy="1368360"/>
            <a:chOff x="5866920" y="4292280"/>
            <a:chExt cx="1584360" cy="1368360"/>
          </a:xfrm>
        </p:grpSpPr>
        <p:sp>
          <p:nvSpPr>
            <p:cNvPr id="616" name="Line 22"/>
            <p:cNvSpPr/>
            <p:nvPr/>
          </p:nvSpPr>
          <p:spPr>
            <a:xfrm flipH="1" flipV="1">
              <a:off x="5866920" y="4292280"/>
              <a:ext cx="1584360" cy="136836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 rot="10800000">
              <a:off x="5866920" y="4292280"/>
              <a:ext cx="158436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18" name="Text Box 23"/>
          <p:cNvSpPr/>
          <p:nvPr/>
        </p:nvSpPr>
        <p:spPr>
          <a:xfrm>
            <a:off x="6516720" y="436572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19" name="Text Box 24"/>
          <p:cNvSpPr/>
          <p:nvPr/>
        </p:nvSpPr>
        <p:spPr>
          <a:xfrm>
            <a:off x="7380360" y="551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4859280" y="54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1" name="Text Box 26"/>
          <p:cNvSpPr/>
          <p:nvPr/>
        </p:nvSpPr>
        <p:spPr>
          <a:xfrm>
            <a:off x="5508720" y="39337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2" name="Text Box 27"/>
          <p:cNvSpPr/>
          <p:nvPr/>
        </p:nvSpPr>
        <p:spPr>
          <a:xfrm>
            <a:off x="7956720" y="378936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3276720" y="206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0D5F-132C-461D-B96C-3C8FA8D3E4DB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5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F3B1-A622-4A2E-BE38-666CA52A761F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26" name="Picture 4" descr="WW_036"/>
          <p:cNvPicPr/>
          <p:nvPr/>
        </p:nvPicPr>
        <p:blipFill>
          <a:blip r:embed="rId1"/>
          <a:stretch/>
        </p:blipFill>
        <p:spPr>
          <a:xfrm>
            <a:off x="0" y="0"/>
            <a:ext cx="1800360" cy="1197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395280" y="1197000"/>
            <a:ext cx="82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图，在平面直角坐标系中，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C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顶点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﹑B﹑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坐标如图所示，则顶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坐标为（     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8" name="AutoShape 6"/>
          <p:cNvSpPr/>
          <p:nvPr/>
        </p:nvSpPr>
        <p:spPr>
          <a:xfrm>
            <a:off x="5724360" y="1341360"/>
            <a:ext cx="358920" cy="289080"/>
          </a:xfrm>
          <a:prstGeom prst="parallelogram">
            <a:avLst>
              <a:gd name="adj" fmla="val 3104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29" name="Group 76"/>
          <p:cNvGrpSpPr/>
          <p:nvPr/>
        </p:nvGrpSpPr>
        <p:grpSpPr>
          <a:xfrm>
            <a:off x="5023080" y="2723040"/>
            <a:ext cx="2520360" cy="1988640"/>
            <a:chOff x="5023080" y="2723040"/>
            <a:chExt cx="2520360" cy="1988640"/>
          </a:xfrm>
        </p:grpSpPr>
        <p:grpSp>
          <p:nvGrpSpPr>
            <p:cNvPr id="630" name=""/>
            <p:cNvGrpSpPr/>
            <p:nvPr/>
          </p:nvGrpSpPr>
          <p:grpSpPr>
            <a:xfrm>
              <a:off x="5023080" y="3311640"/>
              <a:ext cx="937800" cy="804600"/>
              <a:chOff x="5023080" y="3311640"/>
              <a:chExt cx="937800" cy="804600"/>
            </a:xfrm>
          </p:grpSpPr>
          <p:sp>
            <p:nvSpPr>
              <p:cNvPr id="631" name="Line 10"/>
              <p:cNvSpPr/>
              <p:nvPr/>
            </p:nvSpPr>
            <p:spPr>
              <a:xfrm flipH="1">
                <a:off x="5238720" y="3311640"/>
                <a:ext cx="506520" cy="80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 rot="3946800">
                <a:off x="5229000" y="3317760"/>
                <a:ext cx="5259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6579000" y="3284640"/>
              <a:ext cx="964440" cy="840600"/>
              <a:chOff x="6579000" y="3284640"/>
              <a:chExt cx="964440" cy="840600"/>
            </a:xfrm>
          </p:grpSpPr>
          <p:sp>
            <p:nvSpPr>
              <p:cNvPr id="634" name="Line 13"/>
              <p:cNvSpPr/>
              <p:nvPr/>
            </p:nvSpPr>
            <p:spPr>
              <a:xfrm flipV="1">
                <a:off x="6808320" y="3284640"/>
                <a:ext cx="505800" cy="840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 txBox="1"/>
              <p:nvPr/>
            </p:nvSpPr>
            <p:spPr>
              <a:xfrm rot="14746800">
                <a:off x="6781320" y="3301920"/>
                <a:ext cx="559080" cy="80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220360" y="3520080"/>
              <a:ext cx="1606680" cy="1191600"/>
              <a:chOff x="5220360" y="3520080"/>
              <a:chExt cx="1606680" cy="1191600"/>
            </a:xfrm>
          </p:grpSpPr>
          <p:sp>
            <p:nvSpPr>
              <p:cNvPr id="637" name="Line 14"/>
              <p:cNvSpPr/>
              <p:nvPr/>
            </p:nvSpPr>
            <p:spPr>
              <a:xfrm flipH="1">
                <a:off x="5220360" y="4108320"/>
                <a:ext cx="1606680" cy="1512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 rot="3947400">
                <a:off x="5700960" y="3380040"/>
                <a:ext cx="645120" cy="147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729760" y="2723040"/>
              <a:ext cx="1611360" cy="1194840"/>
              <a:chOff x="5729760" y="2723040"/>
              <a:chExt cx="1611360" cy="1194840"/>
            </a:xfrm>
          </p:grpSpPr>
          <p:sp>
            <p:nvSpPr>
              <p:cNvPr id="640" name="Line 15"/>
              <p:cNvSpPr/>
              <p:nvPr/>
            </p:nvSpPr>
            <p:spPr>
              <a:xfrm flipH="1">
                <a:off x="5729760" y="3312720"/>
                <a:ext cx="1611360" cy="15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3947400">
                <a:off x="6211800" y="2582280"/>
                <a:ext cx="646560" cy="147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"/>
          <p:cNvGrpSpPr/>
          <p:nvPr/>
        </p:nvGrpSpPr>
        <p:grpSpPr>
          <a:xfrm>
            <a:off x="4716000" y="4138200"/>
            <a:ext cx="3078720" cy="11160"/>
            <a:chOff x="4716000" y="4138200"/>
            <a:chExt cx="3078720" cy="11160"/>
          </a:xfrm>
        </p:grpSpPr>
        <p:sp>
          <p:nvSpPr>
            <p:cNvPr id="643" name="Line 18"/>
            <p:cNvSpPr/>
            <p:nvPr/>
          </p:nvSpPr>
          <p:spPr>
            <a:xfrm flipV="1">
              <a:off x="4716360" y="4138200"/>
              <a:ext cx="3078360" cy="111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 rot="10800000">
              <a:off x="4716000" y="4138200"/>
              <a:ext cx="307836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45" name="Text Box 19"/>
          <p:cNvSpPr/>
          <p:nvPr/>
        </p:nvSpPr>
        <p:spPr>
          <a:xfrm>
            <a:off x="7596360" y="4078440"/>
            <a:ext cx="5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5219280" y="2565360"/>
            <a:ext cx="360" cy="2951280"/>
            <a:chOff x="5219280" y="2565360"/>
            <a:chExt cx="360" cy="2951280"/>
          </a:xfrm>
        </p:grpSpPr>
        <p:sp>
          <p:nvSpPr>
            <p:cNvPr id="647" name="Line 45"/>
            <p:cNvSpPr/>
            <p:nvPr/>
          </p:nvSpPr>
          <p:spPr>
            <a:xfrm flipV="1">
              <a:off x="5219640" y="2565360"/>
              <a:ext cx="0" cy="295128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 rot="10800000">
              <a:off x="5219280" y="2565360"/>
              <a:ext cx="360" cy="295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49" name="Text Box 46"/>
          <p:cNvSpPr/>
          <p:nvPr/>
        </p:nvSpPr>
        <p:spPr>
          <a:xfrm>
            <a:off x="5219640" y="2349360"/>
            <a:ext cx="5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0" name="Text Box 67"/>
          <p:cNvSpPr/>
          <p:nvPr/>
        </p:nvSpPr>
        <p:spPr>
          <a:xfrm>
            <a:off x="7380360" y="3068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1" name="Rectangle 68"/>
          <p:cNvSpPr/>
          <p:nvPr/>
        </p:nvSpPr>
        <p:spPr>
          <a:xfrm>
            <a:off x="4859280" y="407844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 (0,0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2" name="Rectangle 70"/>
          <p:cNvSpPr/>
          <p:nvPr/>
        </p:nvSpPr>
        <p:spPr>
          <a:xfrm>
            <a:off x="6517080" y="414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(5,0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3" name="Rectangle 72"/>
          <p:cNvSpPr/>
          <p:nvPr/>
        </p:nvSpPr>
        <p:spPr>
          <a:xfrm>
            <a:off x="5510520" y="28526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(2,3)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4" name="Text Box 74"/>
          <p:cNvSpPr/>
          <p:nvPr/>
        </p:nvSpPr>
        <p:spPr>
          <a:xfrm>
            <a:off x="539640" y="3716280"/>
            <a:ext cx="439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.  (3,7)     B.  (5,3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.  (7,3)     D.  (8,2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5" name="Text Box 75"/>
          <p:cNvSpPr/>
          <p:nvPr/>
        </p:nvSpPr>
        <p:spPr>
          <a:xfrm>
            <a:off x="2843280" y="2708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56" name="Group 79"/>
          <p:cNvGrpSpPr/>
          <p:nvPr/>
        </p:nvGrpSpPr>
        <p:grpSpPr>
          <a:xfrm>
            <a:off x="5724000" y="3357720"/>
            <a:ext cx="1584720" cy="792000"/>
            <a:chOff x="5724000" y="3357720"/>
            <a:chExt cx="1584720" cy="792000"/>
          </a:xfrm>
        </p:grpSpPr>
        <p:grpSp>
          <p:nvGrpSpPr>
            <p:cNvPr id="657" name=""/>
            <p:cNvGrpSpPr/>
            <p:nvPr/>
          </p:nvGrpSpPr>
          <p:grpSpPr>
            <a:xfrm>
              <a:off x="5724000" y="3357720"/>
              <a:ext cx="360" cy="792000"/>
              <a:chOff x="5724000" y="3357720"/>
              <a:chExt cx="360" cy="792000"/>
            </a:xfrm>
          </p:grpSpPr>
          <p:sp>
            <p:nvSpPr>
              <p:cNvPr id="658" name="Line 77"/>
              <p:cNvSpPr/>
              <p:nvPr/>
            </p:nvSpPr>
            <p:spPr>
              <a:xfrm flipV="1">
                <a:off x="5724360" y="3357720"/>
                <a:ext cx="0" cy="792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 rot="10800000">
                <a:off x="5724000" y="335772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308360" y="3357720"/>
              <a:ext cx="360" cy="792000"/>
              <a:chOff x="7308360" y="3357720"/>
              <a:chExt cx="360" cy="792000"/>
            </a:xfrm>
          </p:grpSpPr>
          <p:sp>
            <p:nvSpPr>
              <p:cNvPr id="661" name="Line 78"/>
              <p:cNvSpPr/>
              <p:nvPr/>
            </p:nvSpPr>
            <p:spPr>
              <a:xfrm flipV="1">
                <a:off x="7308720" y="3357720"/>
                <a:ext cx="0" cy="792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 rot="10800000">
                <a:off x="7308360" y="3357720"/>
                <a:ext cx="360" cy="79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6825-07D5-4203-9278-2A41C7809871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9DF2-32BE-44B1-B366-718B18103A4C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1" name="Picture 2" descr="板头(兰色)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33520" y="76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33"/>
                </a:solidFill>
                <a:latin typeface="Times New Roman"/>
                <a:ea typeface="华文细黑"/>
              </a:rPr>
              <a:t>八年级   数学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38080" y="6094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187280" y="4842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复习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5" name="Picture 7" descr="Globe"/>
          <p:cNvPicPr/>
          <p:nvPr/>
        </p:nvPicPr>
        <p:blipFill>
          <a:blip r:embed="rId2"/>
          <a:stretch/>
        </p:blipFill>
        <p:spPr>
          <a:xfrm>
            <a:off x="8001000" y="762120"/>
            <a:ext cx="446040" cy="4791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"/>
          <p:cNvGrpSpPr/>
          <p:nvPr/>
        </p:nvGrpSpPr>
        <p:grpSpPr>
          <a:xfrm>
            <a:off x="4191120" y="1268280"/>
            <a:ext cx="2109240" cy="947880"/>
            <a:chOff x="4191120" y="1268280"/>
            <a:chExt cx="2109240" cy="947880"/>
          </a:xfrm>
        </p:grpSpPr>
        <p:sp>
          <p:nvSpPr>
            <p:cNvPr id="177" name="Text Box 9"/>
            <p:cNvSpPr/>
            <p:nvPr/>
          </p:nvSpPr>
          <p:spPr>
            <a:xfrm>
              <a:off x="4191120" y="181728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华文细黑"/>
                </a:rPr>
                <a:t>A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5561640" y="181728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华文细黑"/>
                </a:rPr>
                <a:t>D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503240" y="1268280"/>
              <a:ext cx="3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华文细黑"/>
                </a:rPr>
                <a:t>B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5952240" y="1268280"/>
              <a:ext cx="3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  <a:ea typeface="华文细黑"/>
                </a:rPr>
                <a:t>C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815720" y="1503360"/>
              <a:ext cx="781200" cy="392400"/>
              <a:chOff x="4815720" y="1503360"/>
              <a:chExt cx="781200" cy="392400"/>
            </a:xfrm>
          </p:grpSpPr>
          <p:sp>
            <p:nvSpPr>
              <p:cNvPr id="182" name="Line 13"/>
              <p:cNvSpPr/>
              <p:nvPr/>
            </p:nvSpPr>
            <p:spPr>
              <a:xfrm>
                <a:off x="4815720" y="1503360"/>
                <a:ext cx="781200" cy="39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4815720" y="1503360"/>
                <a:ext cx="781200" cy="39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425480" y="1503360"/>
              <a:ext cx="1562400" cy="392400"/>
              <a:chOff x="4425480" y="1503360"/>
              <a:chExt cx="1562400" cy="392400"/>
            </a:xfrm>
          </p:grpSpPr>
          <p:sp>
            <p:nvSpPr>
              <p:cNvPr id="185" name="Line 14"/>
              <p:cNvSpPr/>
              <p:nvPr/>
            </p:nvSpPr>
            <p:spPr>
              <a:xfrm flipV="1">
                <a:off x="4425480" y="1503360"/>
                <a:ext cx="1562400" cy="39240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4425480" y="1503360"/>
                <a:ext cx="1562400" cy="392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187" name="AutoShape 15"/>
            <p:cNvSpPr/>
            <p:nvPr/>
          </p:nvSpPr>
          <p:spPr>
            <a:xfrm>
              <a:off x="4425480" y="1503360"/>
              <a:ext cx="1562400" cy="392400"/>
            </a:xfrm>
            <a:prstGeom prst="parallelogram">
              <a:avLst>
                <a:gd name="adj" fmla="val 99541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88" name="Group 16"/>
          <p:cNvGrpSpPr/>
          <p:nvPr/>
        </p:nvGrpSpPr>
        <p:grpSpPr>
          <a:xfrm>
            <a:off x="395280" y="2276640"/>
            <a:ext cx="2209680" cy="533160"/>
            <a:chOff x="395280" y="2276640"/>
            <a:chExt cx="2209680" cy="533160"/>
          </a:xfrm>
        </p:grpSpPr>
        <p:sp>
          <p:nvSpPr>
            <p:cNvPr id="189" name="Text Box 17"/>
            <p:cNvSpPr/>
            <p:nvPr/>
          </p:nvSpPr>
          <p:spPr>
            <a:xfrm>
              <a:off x="1157400" y="2343240"/>
              <a:ext cx="144756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定        义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pic>
          <p:nvPicPr>
            <p:cNvPr id="190" name="Object 18" descr=""/>
            <p:cNvPicPr/>
            <p:nvPr/>
          </p:nvPicPr>
          <p:blipFill>
            <a:blip r:embed="rId3"/>
            <a:stretch/>
          </p:blipFill>
          <p:spPr>
            <a:xfrm>
              <a:off x="395280" y="2276640"/>
              <a:ext cx="45720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19"/>
          <p:cNvGrpSpPr/>
          <p:nvPr/>
        </p:nvGrpSpPr>
        <p:grpSpPr>
          <a:xfrm>
            <a:off x="468360" y="3860640"/>
            <a:ext cx="2209680" cy="542880"/>
            <a:chOff x="468360" y="3860640"/>
            <a:chExt cx="2209680" cy="542880"/>
          </a:xfrm>
        </p:grpSpPr>
        <p:pic>
          <p:nvPicPr>
            <p:cNvPr id="192" name="Object 20" descr=""/>
            <p:cNvPicPr/>
            <p:nvPr/>
          </p:nvPicPr>
          <p:blipFill>
            <a:blip r:embed="rId4"/>
            <a:stretch/>
          </p:blipFill>
          <p:spPr>
            <a:xfrm>
              <a:off x="468360" y="3870000"/>
              <a:ext cx="4572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21"/>
            <p:cNvSpPr/>
            <p:nvPr/>
          </p:nvSpPr>
          <p:spPr>
            <a:xfrm>
              <a:off x="1230480" y="3860640"/>
              <a:ext cx="144756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表示方法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194" name="Group 22"/>
          <p:cNvGrpSpPr/>
          <p:nvPr/>
        </p:nvGrpSpPr>
        <p:grpSpPr>
          <a:xfrm>
            <a:off x="539640" y="5229360"/>
            <a:ext cx="2209680" cy="535680"/>
            <a:chOff x="539640" y="5229360"/>
            <a:chExt cx="2209680" cy="535680"/>
          </a:xfrm>
        </p:grpSpPr>
        <p:sp>
          <p:nvSpPr>
            <p:cNvPr id="195" name="Text Box 23"/>
            <p:cNvSpPr/>
            <p:nvPr/>
          </p:nvSpPr>
          <p:spPr>
            <a:xfrm>
              <a:off x="1301760" y="5305320"/>
              <a:ext cx="144756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华文细黑"/>
                </a:rPr>
                <a:t>性        质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  <p:pic>
          <p:nvPicPr>
            <p:cNvPr id="196" name="Object 24" descr=""/>
            <p:cNvPicPr/>
            <p:nvPr/>
          </p:nvPicPr>
          <p:blipFill>
            <a:blip r:embed="rId5"/>
            <a:stretch/>
          </p:blipFill>
          <p:spPr>
            <a:xfrm>
              <a:off x="539640" y="5229360"/>
              <a:ext cx="45720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25"/>
          <p:cNvSpPr/>
          <p:nvPr/>
        </p:nvSpPr>
        <p:spPr>
          <a:xfrm>
            <a:off x="2771640" y="220968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两组对边分别平行的四边形叫做 平 行 四边形。其不相邻的两个顶点连成的线段叫它的对角线。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916360" y="3429000"/>
            <a:ext cx="58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平行四边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D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记为“</a:t>
            </a:r>
            <a:r>
              <a:rPr b="1" i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□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D”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读作“平行四边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BCD”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其中线段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AC, B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称为对角线。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2843280" y="4797360"/>
            <a:ext cx="599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平行四边形的两组对边分别平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;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平行四边形的对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相等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平行四边形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对角相等， 相邻两角互补。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日期占位符 3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14B-1567-4528-B4FE-B55BD3B93D55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524E-FE42-4550-8C1F-161EC46028B5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5" name="Picture 4" descr="WW_036"/>
          <p:cNvPicPr/>
          <p:nvPr/>
        </p:nvPicPr>
        <p:blipFill>
          <a:blip r:embed="rId1"/>
          <a:stretch/>
        </p:blipFill>
        <p:spPr>
          <a:xfrm>
            <a:off x="0" y="0"/>
            <a:ext cx="1800360" cy="1197000"/>
          </a:xfrm>
          <a:prstGeom prst="rect">
            <a:avLst/>
          </a:prstGeom>
          <a:ln w="0">
            <a:noFill/>
          </a:ln>
        </p:spPr>
      </p:pic>
      <p:sp>
        <p:nvSpPr>
          <p:cNvPr id="666" name="AutoShape 6"/>
          <p:cNvSpPr/>
          <p:nvPr/>
        </p:nvSpPr>
        <p:spPr>
          <a:xfrm>
            <a:off x="3519360" y="3222720"/>
            <a:ext cx="3900600" cy="1698480"/>
          </a:xfrm>
          <a:prstGeom prst="parallelogram">
            <a:avLst>
              <a:gd name="adj" fmla="val 57413"/>
            </a:avLst>
          </a:prstGeom>
          <a:solidFill>
            <a:srgbClr val="ffffff"/>
          </a:solidFill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519000" y="3222720"/>
            <a:ext cx="3900960" cy="1698480"/>
            <a:chOff x="3519000" y="3222720"/>
            <a:chExt cx="3900960" cy="1698480"/>
          </a:xfrm>
        </p:grpSpPr>
        <p:sp>
          <p:nvSpPr>
            <p:cNvPr id="668" name="Line 7"/>
            <p:cNvSpPr/>
            <p:nvPr/>
          </p:nvSpPr>
          <p:spPr>
            <a:xfrm flipV="1">
              <a:off x="3519360" y="3222720"/>
              <a:ext cx="3900600" cy="1698480"/>
            </a:xfrm>
            <a:prstGeom prst="line">
              <a:avLst/>
            </a:prstGeom>
            <a:ln w="63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 rot="10800000">
              <a:off x="3519000" y="3222720"/>
              <a:ext cx="3900600" cy="169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493880" y="3222720"/>
            <a:ext cx="1950840" cy="1698480"/>
            <a:chOff x="4493880" y="3222720"/>
            <a:chExt cx="1950840" cy="1698480"/>
          </a:xfrm>
        </p:grpSpPr>
        <p:sp>
          <p:nvSpPr>
            <p:cNvPr id="671" name="Line 8"/>
            <p:cNvSpPr/>
            <p:nvPr/>
          </p:nvSpPr>
          <p:spPr>
            <a:xfrm flipH="1" flipV="1">
              <a:off x="4493880" y="3222720"/>
              <a:ext cx="1950840" cy="1698480"/>
            </a:xfrm>
            <a:prstGeom prst="line">
              <a:avLst/>
            </a:prstGeom>
            <a:ln w="507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 rot="10800000">
              <a:off x="4493880" y="3222720"/>
              <a:ext cx="1950840" cy="169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73" name="Text Box 9"/>
          <p:cNvSpPr/>
          <p:nvPr/>
        </p:nvSpPr>
        <p:spPr>
          <a:xfrm>
            <a:off x="5219640" y="393372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4" name="Text Box 10"/>
          <p:cNvSpPr/>
          <p:nvPr/>
        </p:nvSpPr>
        <p:spPr>
          <a:xfrm>
            <a:off x="7380360" y="2708280"/>
            <a:ext cx="5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D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3059280" y="4437000"/>
            <a:ext cx="5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6" name="Text Box 12"/>
          <p:cNvSpPr/>
          <p:nvPr/>
        </p:nvSpPr>
        <p:spPr>
          <a:xfrm>
            <a:off x="4067280" y="2708280"/>
            <a:ext cx="5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6372360" y="4724280"/>
            <a:ext cx="5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8" name="Text Box 15"/>
          <p:cNvSpPr/>
          <p:nvPr/>
        </p:nvSpPr>
        <p:spPr>
          <a:xfrm>
            <a:off x="179280" y="1341360"/>
            <a:ext cx="867096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对角线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﹑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相交于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且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C+BD=20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周长等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,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D=______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9" name="AutoShape 16"/>
          <p:cNvSpPr/>
          <p:nvPr/>
        </p:nvSpPr>
        <p:spPr>
          <a:xfrm>
            <a:off x="2627280" y="1628640"/>
            <a:ext cx="358920" cy="289080"/>
          </a:xfrm>
          <a:prstGeom prst="parallelogram">
            <a:avLst>
              <a:gd name="adj" fmla="val 3104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0" name="Text Box 18"/>
          <p:cNvSpPr/>
          <p:nvPr/>
        </p:nvSpPr>
        <p:spPr>
          <a:xfrm>
            <a:off x="190800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DC6-CD4C-40FF-BAAA-A91DF6E93D1D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27B7-6B50-4EE4-ABD3-94FB721C2AAC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3" name="WordArt 2"/>
          <p:cNvSpPr txBox="1"/>
          <p:nvPr/>
        </p:nvSpPr>
        <p:spPr>
          <a:xfrm>
            <a:off x="108000" y="44280"/>
            <a:ext cx="266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小结与反思</a:t>
            </a:r>
            <a:endParaRPr b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324000" y="1628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 通过本节课的学习，你有什么收获？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395280" y="2781360"/>
            <a:ext cx="84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平行四边形的性质共有哪些？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86" name="Group 24"/>
          <p:cNvGrpSpPr/>
          <p:nvPr/>
        </p:nvGrpSpPr>
        <p:grpSpPr>
          <a:xfrm>
            <a:off x="755640" y="3500280"/>
            <a:ext cx="3239640" cy="2064600"/>
            <a:chOff x="755640" y="3500280"/>
            <a:chExt cx="3239640" cy="2064600"/>
          </a:xfrm>
        </p:grpSpPr>
        <p:sp>
          <p:nvSpPr>
            <p:cNvPr id="687" name="AutoShape 22"/>
            <p:cNvSpPr/>
            <p:nvPr/>
          </p:nvSpPr>
          <p:spPr>
            <a:xfrm>
              <a:off x="755640" y="3715920"/>
              <a:ext cx="504000" cy="180036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46800 h 1800360"/>
                <a:gd name="textAreaBottom" fmla="*/ 1753560 h 18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88" name="Text Box 23"/>
            <p:cNvSpPr/>
            <p:nvPr/>
          </p:nvSpPr>
          <p:spPr>
            <a:xfrm>
              <a:off x="1362600" y="3500280"/>
              <a:ext cx="263268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边：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角：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对角线：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89" name="Text Box 25"/>
          <p:cNvSpPr/>
          <p:nvPr/>
        </p:nvSpPr>
        <p:spPr>
          <a:xfrm>
            <a:off x="2195640" y="3500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边平行，对边相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411280" y="4292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角相等，邻角互补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916360" y="494172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角线互相平分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灯片编号占位符 6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D354-ACC4-4823-B70B-637F52577448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0" y="333360"/>
          <a:ext cx="9144000" cy="5792760"/>
        </p:xfrm>
        <a:graphic>
          <a:graphicData uri="http://schemas.openxmlformats.org/drawingml/2006/table">
            <a:tbl>
              <a:tblPr/>
              <a:tblGrid>
                <a:gridCol w="587520"/>
                <a:gridCol w="504720"/>
                <a:gridCol w="2674800"/>
                <a:gridCol w="1949400"/>
                <a:gridCol w="3427560"/>
              </a:tblGrid>
              <a:tr h="96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图形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文字语言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图形语言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符号语言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33800">
                <a:tc row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平行四边形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定义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两组对边分别平行的四边形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∵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B∥CD,AD∥BC 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∴…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性质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平行四边形的对边平行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对边相等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;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对角相等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;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对角线互相平分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∵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四边形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BCD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是平行四边形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∴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B∥CD,AD∥BC AB=CD,AD= BC ∠A=∠C,∠B=∠D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OA=OC,OB=OD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4" name="Group 27"/>
          <p:cNvGrpSpPr/>
          <p:nvPr/>
        </p:nvGrpSpPr>
        <p:grpSpPr>
          <a:xfrm>
            <a:off x="3708360" y="1125360"/>
            <a:ext cx="1944720" cy="1589400"/>
            <a:chOff x="3708360" y="1125360"/>
            <a:chExt cx="1944720" cy="1589400"/>
          </a:xfrm>
        </p:grpSpPr>
        <p:sp>
          <p:nvSpPr>
            <p:cNvPr id="695" name="AutoShape 28"/>
            <p:cNvSpPr/>
            <p:nvPr/>
          </p:nvSpPr>
          <p:spPr>
            <a:xfrm>
              <a:off x="3853080" y="1630080"/>
              <a:ext cx="1655640" cy="504720"/>
            </a:xfrm>
            <a:prstGeom prst="parallelogram">
              <a:avLst>
                <a:gd name="adj" fmla="val 82008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6" name="Text Box 29"/>
            <p:cNvSpPr/>
            <p:nvPr/>
          </p:nvSpPr>
          <p:spPr>
            <a:xfrm>
              <a:off x="3708360" y="206172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Ａ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7" name="Text Box 30"/>
            <p:cNvSpPr/>
            <p:nvPr/>
          </p:nvSpPr>
          <p:spPr>
            <a:xfrm>
              <a:off x="4932360" y="21333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Ｂ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8" name="Text Box 31"/>
            <p:cNvSpPr/>
            <p:nvPr/>
          </p:nvSpPr>
          <p:spPr>
            <a:xfrm>
              <a:off x="5221440" y="11253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Ｃ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699" name="Text Box 32"/>
            <p:cNvSpPr/>
            <p:nvPr/>
          </p:nvSpPr>
          <p:spPr>
            <a:xfrm>
              <a:off x="3853080" y="1125360"/>
              <a:ext cx="50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</a:rPr>
                <a:t>Ｄ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00" name="Group 33"/>
          <p:cNvGrpSpPr/>
          <p:nvPr/>
        </p:nvGrpSpPr>
        <p:grpSpPr>
          <a:xfrm>
            <a:off x="3708360" y="2492280"/>
            <a:ext cx="1944720" cy="2886480"/>
            <a:chOff x="3708360" y="2492280"/>
            <a:chExt cx="1944720" cy="2886480"/>
          </a:xfrm>
        </p:grpSpPr>
        <p:grpSp>
          <p:nvGrpSpPr>
            <p:cNvPr id="701" name="Group 34"/>
            <p:cNvGrpSpPr/>
            <p:nvPr/>
          </p:nvGrpSpPr>
          <p:grpSpPr>
            <a:xfrm>
              <a:off x="3708360" y="2492280"/>
              <a:ext cx="1944720" cy="1589400"/>
              <a:chOff x="3708360" y="2492280"/>
              <a:chExt cx="1944720" cy="1589400"/>
            </a:xfrm>
          </p:grpSpPr>
          <p:sp>
            <p:nvSpPr>
              <p:cNvPr id="702" name="AutoShape 35"/>
              <p:cNvSpPr/>
              <p:nvPr/>
            </p:nvSpPr>
            <p:spPr>
              <a:xfrm>
                <a:off x="3853080" y="2997000"/>
                <a:ext cx="1655640" cy="504720"/>
              </a:xfrm>
              <a:prstGeom prst="parallelogram">
                <a:avLst>
                  <a:gd name="adj" fmla="val 82008"/>
                </a:avLst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03" name="Text Box 36"/>
              <p:cNvSpPr/>
              <p:nvPr/>
            </p:nvSpPr>
            <p:spPr>
              <a:xfrm>
                <a:off x="3708360" y="342864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Arial"/>
                  </a:rPr>
                  <a:t>Ａ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04" name="Text Box 37"/>
              <p:cNvSpPr/>
              <p:nvPr/>
            </p:nvSpPr>
            <p:spPr>
              <a:xfrm>
                <a:off x="4932360" y="3500280"/>
                <a:ext cx="57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Arial"/>
                  </a:rPr>
                  <a:t>Ｂ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05" name="Text Box 38"/>
              <p:cNvSpPr/>
              <p:nvPr/>
            </p:nvSpPr>
            <p:spPr>
              <a:xfrm>
                <a:off x="5221440" y="2492280"/>
                <a:ext cx="43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Arial"/>
                  </a:rPr>
                  <a:t>Ｃ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06" name="Text Box 39"/>
              <p:cNvSpPr/>
              <p:nvPr/>
            </p:nvSpPr>
            <p:spPr>
              <a:xfrm>
                <a:off x="3853080" y="2492280"/>
                <a:ext cx="502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ff"/>
                    </a:solidFill>
                    <a:latin typeface="Arial"/>
                  </a:rPr>
                  <a:t>Ｄ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4573440" y="3479760"/>
              <a:ext cx="360" cy="71640"/>
              <a:chOff x="4573440" y="3479760"/>
              <a:chExt cx="360" cy="71640"/>
            </a:xfrm>
          </p:grpSpPr>
          <p:sp>
            <p:nvSpPr>
              <p:cNvPr id="708" name="Line 40"/>
              <p:cNvSpPr/>
              <p:nvPr/>
            </p:nvSpPr>
            <p:spPr>
              <a:xfrm>
                <a:off x="4573440" y="3479760"/>
                <a:ext cx="0" cy="7164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4573440" y="347976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644720" y="3500280"/>
              <a:ext cx="360" cy="71640"/>
              <a:chOff x="4644720" y="3500280"/>
              <a:chExt cx="360" cy="71640"/>
            </a:xfrm>
          </p:grpSpPr>
          <p:sp>
            <p:nvSpPr>
              <p:cNvPr id="711" name="Line 41"/>
              <p:cNvSpPr/>
              <p:nvPr/>
            </p:nvSpPr>
            <p:spPr>
              <a:xfrm>
                <a:off x="4644720" y="3500280"/>
                <a:ext cx="0" cy="7164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4644720" y="3500280"/>
                <a:ext cx="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4860720" y="2955960"/>
              <a:ext cx="360" cy="71280"/>
              <a:chOff x="4860720" y="2955960"/>
              <a:chExt cx="360" cy="7128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4860720" y="295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486072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4933800" y="2955960"/>
              <a:ext cx="360" cy="71280"/>
              <a:chOff x="4933800" y="2955960"/>
              <a:chExt cx="360" cy="71280"/>
            </a:xfrm>
          </p:grpSpPr>
          <p:sp>
            <p:nvSpPr>
              <p:cNvPr id="717" name="Line 43"/>
              <p:cNvSpPr/>
              <p:nvPr/>
            </p:nvSpPr>
            <p:spPr>
              <a:xfrm>
                <a:off x="4933800" y="295596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4933800" y="295596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19" name="Group 44"/>
            <p:cNvGrpSpPr/>
            <p:nvPr/>
          </p:nvGrpSpPr>
          <p:grpSpPr>
            <a:xfrm>
              <a:off x="3708360" y="3789360"/>
              <a:ext cx="1944720" cy="1589400"/>
              <a:chOff x="3708360" y="3789360"/>
              <a:chExt cx="1944720" cy="1589400"/>
            </a:xfrm>
          </p:grpSpPr>
          <p:grpSp>
            <p:nvGrpSpPr>
              <p:cNvPr id="720" name="Group 45"/>
              <p:cNvGrpSpPr/>
              <p:nvPr/>
            </p:nvGrpSpPr>
            <p:grpSpPr>
              <a:xfrm>
                <a:off x="3708360" y="3789360"/>
                <a:ext cx="1944720" cy="1589400"/>
                <a:chOff x="3708360" y="3789360"/>
                <a:chExt cx="1944720" cy="1589400"/>
              </a:xfrm>
            </p:grpSpPr>
            <p:grpSp>
              <p:nvGrpSpPr>
                <p:cNvPr id="721" name="Group 46"/>
                <p:cNvGrpSpPr/>
                <p:nvPr/>
              </p:nvGrpSpPr>
              <p:grpSpPr>
                <a:xfrm>
                  <a:off x="3708360" y="3789360"/>
                  <a:ext cx="1944720" cy="1589400"/>
                  <a:chOff x="3708360" y="3789360"/>
                  <a:chExt cx="1944720" cy="1589400"/>
                </a:xfrm>
              </p:grpSpPr>
              <p:sp>
                <p:nvSpPr>
                  <p:cNvPr id="722" name="AutoShape 47"/>
                  <p:cNvSpPr/>
                  <p:nvPr/>
                </p:nvSpPr>
                <p:spPr>
                  <a:xfrm>
                    <a:off x="3853080" y="4294080"/>
                    <a:ext cx="1655640" cy="504720"/>
                  </a:xfrm>
                  <a:prstGeom prst="parallelogram">
                    <a:avLst>
                      <a:gd name="adj" fmla="val 82008"/>
                    </a:avLst>
                  </a:prstGeom>
                  <a:noFill/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Text Box 48"/>
                  <p:cNvSpPr/>
                  <p:nvPr/>
                </p:nvSpPr>
                <p:spPr>
                  <a:xfrm>
                    <a:off x="3708360" y="4725720"/>
                    <a:ext cx="4320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ff"/>
                        </a:solidFill>
                        <a:latin typeface="Arial"/>
                      </a:rPr>
                      <a:t>Ａ</a:t>
                    </a:r>
                    <a:endParaRPr b="0" lang="en-US" sz="32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Text Box 49"/>
                  <p:cNvSpPr/>
                  <p:nvPr/>
                </p:nvSpPr>
                <p:spPr>
                  <a:xfrm>
                    <a:off x="4932360" y="4797360"/>
                    <a:ext cx="5763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ff"/>
                        </a:solidFill>
                        <a:latin typeface="Arial"/>
                      </a:rPr>
                      <a:t>Ｂ</a:t>
                    </a:r>
                    <a:endParaRPr b="0" lang="en-US" sz="32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Text Box 50"/>
                  <p:cNvSpPr/>
                  <p:nvPr/>
                </p:nvSpPr>
                <p:spPr>
                  <a:xfrm>
                    <a:off x="5221440" y="3789360"/>
                    <a:ext cx="4316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ff"/>
                        </a:solidFill>
                        <a:latin typeface="Arial"/>
                      </a:rPr>
                      <a:t>Ｃ</a:t>
                    </a:r>
                    <a:endParaRPr b="0" lang="en-US" sz="32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Text Box 51"/>
                  <p:cNvSpPr/>
                  <p:nvPr/>
                </p:nvSpPr>
                <p:spPr>
                  <a:xfrm>
                    <a:off x="3853080" y="3789360"/>
                    <a:ext cx="5029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3200" spc="-1" strike="noStrike">
                        <a:solidFill>
                          <a:srgbClr val="0000ff"/>
                        </a:solidFill>
                        <a:latin typeface="Arial"/>
                      </a:rPr>
                      <a:t>Ｄ</a:t>
                    </a:r>
                    <a:endParaRPr b="0" lang="en-US" sz="32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7" name=""/>
                <p:cNvGrpSpPr/>
                <p:nvPr/>
              </p:nvGrpSpPr>
              <p:grpSpPr>
                <a:xfrm>
                  <a:off x="3852360" y="4294080"/>
                  <a:ext cx="1656000" cy="503280"/>
                  <a:chOff x="3852360" y="4294080"/>
                  <a:chExt cx="1656000" cy="503280"/>
                </a:xfrm>
              </p:grpSpPr>
              <p:sp>
                <p:nvSpPr>
                  <p:cNvPr id="728" name="Line 52"/>
                  <p:cNvSpPr/>
                  <p:nvPr/>
                </p:nvSpPr>
                <p:spPr>
                  <a:xfrm flipV="1">
                    <a:off x="3852720" y="4294080"/>
                    <a:ext cx="1655640" cy="50328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 txBox="1"/>
                  <p:nvPr/>
                </p:nvSpPr>
                <p:spPr>
                  <a:xfrm rot="10800000">
                    <a:off x="3852360" y="4294080"/>
                    <a:ext cx="165564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4284360" y="4294080"/>
                  <a:ext cx="792360" cy="503280"/>
                  <a:chOff x="4284360" y="4294080"/>
                  <a:chExt cx="792360" cy="503280"/>
                </a:xfrm>
              </p:grpSpPr>
              <p:sp>
                <p:nvSpPr>
                  <p:cNvPr id="731" name="Line 53"/>
                  <p:cNvSpPr/>
                  <p:nvPr/>
                </p:nvSpPr>
                <p:spPr>
                  <a:xfrm>
                    <a:off x="4284360" y="4294080"/>
                    <a:ext cx="792360" cy="50328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 txBox="1"/>
                  <p:nvPr/>
                </p:nvSpPr>
                <p:spPr>
                  <a:xfrm>
                    <a:off x="4284360" y="4294080"/>
                    <a:ext cx="792360" cy="503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3" name="Text Box 54"/>
                <p:cNvSpPr/>
                <p:nvPr/>
              </p:nvSpPr>
              <p:spPr>
                <a:xfrm>
                  <a:off x="4573440" y="43653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ff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4213080" y="4653000"/>
                <a:ext cx="360" cy="71280"/>
                <a:chOff x="4213080" y="4653000"/>
                <a:chExt cx="360" cy="71280"/>
              </a:xfrm>
            </p:grpSpPr>
            <p:sp>
              <p:nvSpPr>
                <p:cNvPr id="735" name="Line 55"/>
                <p:cNvSpPr/>
                <p:nvPr/>
              </p:nvSpPr>
              <p:spPr>
                <a:xfrm>
                  <a:off x="421308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 txBox="1"/>
                <p:nvPr/>
              </p:nvSpPr>
              <p:spPr>
                <a:xfrm>
                  <a:off x="421308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4924440" y="4653000"/>
                <a:ext cx="360" cy="71280"/>
                <a:chOff x="4924440" y="4653000"/>
                <a:chExt cx="360" cy="71280"/>
              </a:xfrm>
            </p:grpSpPr>
            <p:sp>
              <p:nvSpPr>
                <p:cNvPr id="738" name="Line 56"/>
                <p:cNvSpPr/>
                <p:nvPr/>
              </p:nvSpPr>
              <p:spPr>
                <a:xfrm>
                  <a:off x="4924440" y="465300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4924440" y="465300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4500360" y="4395960"/>
                <a:ext cx="360" cy="71280"/>
                <a:chOff x="4500360" y="4395960"/>
                <a:chExt cx="360" cy="71280"/>
              </a:xfrm>
            </p:grpSpPr>
            <p:sp>
              <p:nvSpPr>
                <p:cNvPr id="741" name="Line 57"/>
                <p:cNvSpPr/>
                <p:nvPr/>
              </p:nvSpPr>
              <p:spPr>
                <a:xfrm>
                  <a:off x="4500360" y="439596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4500360" y="439596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4284360" y="4643280"/>
                <a:ext cx="360" cy="71640"/>
                <a:chOff x="4284360" y="4643280"/>
                <a:chExt cx="360" cy="71640"/>
              </a:xfrm>
            </p:grpSpPr>
            <p:sp>
              <p:nvSpPr>
                <p:cNvPr id="744" name="Line 58"/>
                <p:cNvSpPr/>
                <p:nvPr/>
              </p:nvSpPr>
              <p:spPr>
                <a:xfrm>
                  <a:off x="4284360" y="464328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 txBox="1"/>
                <p:nvPr/>
              </p:nvSpPr>
              <p:spPr>
                <a:xfrm>
                  <a:off x="4284360" y="464328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5076720" y="4386240"/>
                <a:ext cx="360" cy="71640"/>
                <a:chOff x="5076720" y="4386240"/>
                <a:chExt cx="360" cy="71640"/>
              </a:xfrm>
            </p:grpSpPr>
            <p:sp>
              <p:nvSpPr>
                <p:cNvPr id="747" name="Line 59"/>
                <p:cNvSpPr/>
                <p:nvPr/>
              </p:nvSpPr>
              <p:spPr>
                <a:xfrm>
                  <a:off x="5076720" y="4386240"/>
                  <a:ext cx="0" cy="71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 txBox="1"/>
                <p:nvPr/>
              </p:nvSpPr>
              <p:spPr>
                <a:xfrm>
                  <a:off x="5076720" y="4386240"/>
                  <a:ext cx="36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"/>
              <p:cNvGrpSpPr/>
              <p:nvPr/>
            </p:nvGrpSpPr>
            <p:grpSpPr>
              <a:xfrm>
                <a:off x="5005080" y="4416480"/>
                <a:ext cx="360" cy="71280"/>
                <a:chOff x="5005080" y="4416480"/>
                <a:chExt cx="360" cy="71280"/>
              </a:xfrm>
            </p:grpSpPr>
            <p:sp>
              <p:nvSpPr>
                <p:cNvPr id="750" name="Line 60"/>
                <p:cNvSpPr/>
                <p:nvPr/>
              </p:nvSpPr>
              <p:spPr>
                <a:xfrm>
                  <a:off x="5005080" y="4416480"/>
                  <a:ext cx="0" cy="7128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 txBox="1"/>
                <p:nvPr/>
              </p:nvSpPr>
              <p:spPr>
                <a:xfrm>
                  <a:off x="5005080" y="4416480"/>
                  <a:ext cx="36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2" name=""/>
            <p:cNvGrpSpPr/>
            <p:nvPr/>
          </p:nvGrpSpPr>
          <p:grpSpPr>
            <a:xfrm>
              <a:off x="4141800" y="3121200"/>
              <a:ext cx="360" cy="71280"/>
              <a:chOff x="4141800" y="3121200"/>
              <a:chExt cx="360" cy="71280"/>
            </a:xfrm>
          </p:grpSpPr>
          <p:sp>
            <p:nvSpPr>
              <p:cNvPr id="753" name="Line 61"/>
              <p:cNvSpPr/>
              <p:nvPr/>
            </p:nvSpPr>
            <p:spPr>
              <a:xfrm>
                <a:off x="4141800" y="31212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4141800" y="31212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5292720" y="3254400"/>
              <a:ext cx="360" cy="71280"/>
              <a:chOff x="5292720" y="3254400"/>
              <a:chExt cx="360" cy="71280"/>
            </a:xfrm>
          </p:grpSpPr>
          <p:sp>
            <p:nvSpPr>
              <p:cNvPr id="756" name="Line 62"/>
              <p:cNvSpPr/>
              <p:nvPr/>
            </p:nvSpPr>
            <p:spPr>
              <a:xfrm>
                <a:off x="5292720" y="3254400"/>
                <a:ext cx="0" cy="7128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5292720" y="3254400"/>
                <a:ext cx="360" cy="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pic>
        <p:nvPicPr>
          <p:cNvPr id="758" name="Picture 63" descr="27_4200_129"/>
          <p:cNvPicPr/>
          <p:nvPr/>
        </p:nvPicPr>
        <p:blipFill>
          <a:blip r:embed="rId1"/>
          <a:stretch/>
        </p:blipFill>
        <p:spPr>
          <a:xfrm>
            <a:off x="0" y="6342120"/>
            <a:ext cx="9144000" cy="51588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8199"/>
          <p:cNvSpPr/>
          <p:nvPr/>
        </p:nvSpPr>
        <p:spPr>
          <a:xfrm>
            <a:off x="755640" y="568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FC1-E186-4D7D-989C-224EB6B02526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895B-5753-42FA-B7B0-466605993780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179280" y="1052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小明家有一块平行四边形采地，菜地中间有一口井，为了浇水的方便，小明建议妈妈经过水井修一条路，可以把菜地分成面积相等的两部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同学们，你知道聪明的小明是怎么帮妈妈分的吗？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3" name="WordArt 3"/>
          <p:cNvSpPr txBox="1"/>
          <p:nvPr/>
        </p:nvSpPr>
        <p:spPr>
          <a:xfrm>
            <a:off x="155520" y="88920"/>
            <a:ext cx="205128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引申拓展</a:t>
            </a:r>
            <a:endParaRPr b="1" lang="en-US" sz="1800" spc="1" strike="noStrike">
              <a:ln w="9360">
                <a:solidFill>
                  <a:srgbClr val="00ffff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2050920" y="3068640"/>
            <a:ext cx="5257800" cy="3152160"/>
            <a:chOff x="2050920" y="3068640"/>
            <a:chExt cx="5257800" cy="3152160"/>
          </a:xfrm>
        </p:grpSpPr>
        <p:sp>
          <p:nvSpPr>
            <p:cNvPr id="765" name="AutoShape 5"/>
            <p:cNvSpPr/>
            <p:nvPr/>
          </p:nvSpPr>
          <p:spPr>
            <a:xfrm>
              <a:off x="2266920" y="3644640"/>
              <a:ext cx="4752720" cy="2016000"/>
            </a:xfrm>
            <a:prstGeom prst="parallelogram">
              <a:avLst>
                <a:gd name="adj" fmla="val 58938"/>
              </a:avLst>
            </a:prstGeom>
            <a:solidFill>
              <a:srgbClr val="ccecff">
                <a:alpha val="56000"/>
              </a:srgbClr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2050920" y="557820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67" name="Text Box 7"/>
            <p:cNvSpPr/>
            <p:nvPr/>
          </p:nvSpPr>
          <p:spPr>
            <a:xfrm>
              <a:off x="5175000" y="40874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M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68" name="Text Box 8"/>
            <p:cNvSpPr/>
            <p:nvPr/>
          </p:nvSpPr>
          <p:spPr>
            <a:xfrm>
              <a:off x="5502240" y="55180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69" name="Text Box 9"/>
            <p:cNvSpPr/>
            <p:nvPr/>
          </p:nvSpPr>
          <p:spPr>
            <a:xfrm>
              <a:off x="4975200" y="387648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黑体"/>
                  <a:ea typeface="黑体"/>
                </a:rPr>
                <a:t>●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70" name="Text Box 10"/>
            <p:cNvSpPr/>
            <p:nvPr/>
          </p:nvSpPr>
          <p:spPr>
            <a:xfrm>
              <a:off x="6732360" y="30686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71" name="Text Box 11"/>
            <p:cNvSpPr/>
            <p:nvPr/>
          </p:nvSpPr>
          <p:spPr>
            <a:xfrm>
              <a:off x="3203280" y="3079440"/>
              <a:ext cx="5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268000" y="3645000"/>
            <a:ext cx="4752000" cy="2016000"/>
            <a:chOff x="2268000" y="3645000"/>
            <a:chExt cx="4752000" cy="2016000"/>
          </a:xfrm>
        </p:grpSpPr>
        <p:sp>
          <p:nvSpPr>
            <p:cNvPr id="773" name="Line 12"/>
            <p:cNvSpPr/>
            <p:nvPr/>
          </p:nvSpPr>
          <p:spPr>
            <a:xfrm flipV="1">
              <a:off x="2268360" y="3645000"/>
              <a:ext cx="475164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 rot="10800000">
              <a:off x="2268000" y="3645000"/>
              <a:ext cx="475164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3492000" y="3645000"/>
            <a:ext cx="2303640" cy="2016000"/>
            <a:chOff x="3492000" y="3645000"/>
            <a:chExt cx="2303640" cy="2016000"/>
          </a:xfrm>
        </p:grpSpPr>
        <p:sp>
          <p:nvSpPr>
            <p:cNvPr id="776" name="Line 13"/>
            <p:cNvSpPr/>
            <p:nvPr/>
          </p:nvSpPr>
          <p:spPr>
            <a:xfrm flipH="1" flipV="1">
              <a:off x="3492000" y="3645000"/>
              <a:ext cx="230364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 rot="10800000">
              <a:off x="3492000" y="3645000"/>
              <a:ext cx="230364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63640" y="3645000"/>
            <a:ext cx="2160720" cy="2016000"/>
            <a:chOff x="3563640" y="3645000"/>
            <a:chExt cx="2160720" cy="2016000"/>
          </a:xfrm>
        </p:grpSpPr>
        <p:sp>
          <p:nvSpPr>
            <p:cNvPr id="779" name="Line 14"/>
            <p:cNvSpPr/>
            <p:nvPr/>
          </p:nvSpPr>
          <p:spPr>
            <a:xfrm flipV="1">
              <a:off x="3564000" y="3645000"/>
              <a:ext cx="2160360" cy="2016000"/>
            </a:xfrm>
            <a:prstGeom prst="line">
              <a:avLst/>
            </a:prstGeom>
            <a:ln w="25560">
              <a:solidFill>
                <a:srgbClr val="00757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 rot="10800000">
              <a:off x="3563640" y="3645000"/>
              <a:ext cx="216036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D50-1716-4227-BB44-585A9718424E}" type="slidenum">
              <a:rPr b="0" lang="zh-CN" sz="1400" spc="-1" strike="noStrike">
                <a:solidFill>
                  <a:srgbClr val="0000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F7B-64A7-4C59-9C68-962985D2F39C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86" name="Picture 12" descr="WW_036"/>
          <p:cNvPicPr/>
          <p:nvPr/>
        </p:nvPicPr>
        <p:blipFill>
          <a:blip r:embed="rId1"/>
          <a:stretch/>
        </p:blipFill>
        <p:spPr>
          <a:xfrm>
            <a:off x="6012000" y="-316080"/>
            <a:ext cx="2652480" cy="1773360"/>
          </a:xfrm>
          <a:prstGeom prst="rect">
            <a:avLst/>
          </a:prstGeom>
          <a:ln w="0">
            <a:noFill/>
          </a:ln>
        </p:spPr>
      </p:pic>
      <p:sp>
        <p:nvSpPr>
          <p:cNvPr id="787" name="Text Box 14"/>
          <p:cNvSpPr/>
          <p:nvPr/>
        </p:nvSpPr>
        <p:spPr>
          <a:xfrm>
            <a:off x="0" y="1413000"/>
            <a:ext cx="867096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对角线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B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相交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,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直线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F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过点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AB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D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分别相交于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.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求证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OE=OF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8" name="AutoShape 15"/>
          <p:cNvSpPr/>
          <p:nvPr/>
        </p:nvSpPr>
        <p:spPr>
          <a:xfrm>
            <a:off x="900000" y="1700280"/>
            <a:ext cx="358920" cy="288720"/>
          </a:xfrm>
          <a:prstGeom prst="parallelogram">
            <a:avLst>
              <a:gd name="adj" fmla="val 31079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789" name="Group 44"/>
          <p:cNvGrpSpPr/>
          <p:nvPr/>
        </p:nvGrpSpPr>
        <p:grpSpPr>
          <a:xfrm>
            <a:off x="1547640" y="3141720"/>
            <a:ext cx="6553440" cy="2658600"/>
            <a:chOff x="1547640" y="3141720"/>
            <a:chExt cx="6553440" cy="2658600"/>
          </a:xfrm>
        </p:grpSpPr>
        <p:sp>
          <p:nvSpPr>
            <p:cNvPr id="790" name="Text Box 17"/>
            <p:cNvSpPr/>
            <p:nvPr/>
          </p:nvSpPr>
          <p:spPr>
            <a:xfrm>
              <a:off x="4545000" y="42163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●</a:t>
              </a:r>
              <a:endParaRPr b="0" lang="en-US" sz="1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791" name="Group 43"/>
            <p:cNvGrpSpPr/>
            <p:nvPr/>
          </p:nvGrpSpPr>
          <p:grpSpPr>
            <a:xfrm>
              <a:off x="1547640" y="3141720"/>
              <a:ext cx="6553440" cy="2658600"/>
              <a:chOff x="1547640" y="3141720"/>
              <a:chExt cx="6553440" cy="2658600"/>
            </a:xfrm>
          </p:grpSpPr>
          <p:sp>
            <p:nvSpPr>
              <p:cNvPr id="792" name="Text Box 9"/>
              <p:cNvSpPr/>
              <p:nvPr/>
            </p:nvSpPr>
            <p:spPr>
              <a:xfrm>
                <a:off x="4643280" y="3791160"/>
                <a:ext cx="6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Arial"/>
                  </a:rPr>
                  <a:t>O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793" name="Text Box 11"/>
              <p:cNvSpPr/>
              <p:nvPr/>
            </p:nvSpPr>
            <p:spPr>
              <a:xfrm>
                <a:off x="6477120" y="440532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990000"/>
                    </a:solidFill>
                    <a:latin typeface="Arial"/>
                  </a:rPr>
                  <a:t>F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794" name="Group 42"/>
              <p:cNvGrpSpPr/>
              <p:nvPr/>
            </p:nvGrpSpPr>
            <p:grpSpPr>
              <a:xfrm>
                <a:off x="1547640" y="3141720"/>
                <a:ext cx="6553440" cy="2658600"/>
                <a:chOff x="1547640" y="3141720"/>
                <a:chExt cx="6553440" cy="2658600"/>
              </a:xfrm>
            </p:grpSpPr>
            <p:sp>
              <p:nvSpPr>
                <p:cNvPr id="795" name="Text Box 5"/>
                <p:cNvSpPr/>
                <p:nvPr/>
              </p:nvSpPr>
              <p:spPr>
                <a:xfrm>
                  <a:off x="2916360" y="3141720"/>
                  <a:ext cx="71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A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96" name="Text Box 6"/>
                <p:cNvSpPr/>
                <p:nvPr/>
              </p:nvSpPr>
              <p:spPr>
                <a:xfrm>
                  <a:off x="1547640" y="4942080"/>
                  <a:ext cx="792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B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97" name="Text Box 7"/>
                <p:cNvSpPr/>
                <p:nvPr/>
              </p:nvSpPr>
              <p:spPr>
                <a:xfrm>
                  <a:off x="5940360" y="5157720"/>
                  <a:ext cx="647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C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98" name="Text Box 8"/>
                <p:cNvSpPr/>
                <p:nvPr/>
              </p:nvSpPr>
              <p:spPr>
                <a:xfrm>
                  <a:off x="7380360" y="3141720"/>
                  <a:ext cx="720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ff"/>
                      </a:solidFill>
                      <a:latin typeface="Arial"/>
                    </a:rPr>
                    <a:t>D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799" name="Text Box 10"/>
                <p:cNvSpPr/>
                <p:nvPr/>
              </p:nvSpPr>
              <p:spPr>
                <a:xfrm flipH="1">
                  <a:off x="2483640" y="3751200"/>
                  <a:ext cx="647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990000"/>
                      </a:solidFill>
                      <a:latin typeface="Arial"/>
                    </a:rPr>
                    <a:t>E</a:t>
                  </a:r>
                  <a:endParaRPr b="0" lang="en-US" sz="3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grpSp>
              <p:nvGrpSpPr>
                <p:cNvPr id="800" name="Group 41"/>
                <p:cNvGrpSpPr/>
                <p:nvPr/>
              </p:nvGrpSpPr>
              <p:grpSpPr>
                <a:xfrm>
                  <a:off x="2050920" y="3573360"/>
                  <a:ext cx="5329440" cy="1659240"/>
                  <a:chOff x="2050920" y="3573360"/>
                  <a:chExt cx="5329440" cy="1659240"/>
                </a:xfrm>
              </p:grpSpPr>
              <p:sp>
                <p:nvSpPr>
                  <p:cNvPr id="801" name="AutoShape 2"/>
                  <p:cNvSpPr/>
                  <p:nvPr/>
                </p:nvSpPr>
                <p:spPr>
                  <a:xfrm>
                    <a:off x="2050920" y="3575160"/>
                    <a:ext cx="5329440" cy="1657440"/>
                  </a:xfrm>
                  <a:prstGeom prst="parallelogram">
                    <a:avLst>
                      <a:gd name="adj" fmla="val 80387"/>
                    </a:avLst>
                  </a:prstGeom>
                  <a:noFill/>
                  <a:ln w="63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2050920" y="3573360"/>
                    <a:ext cx="5329440" cy="1656000"/>
                    <a:chOff x="2050920" y="3573360"/>
                    <a:chExt cx="5329440" cy="1656000"/>
                  </a:xfrm>
                </p:grpSpPr>
                <p:sp>
                  <p:nvSpPr>
                    <p:cNvPr id="803" name="Line 3"/>
                    <p:cNvSpPr/>
                    <p:nvPr/>
                  </p:nvSpPr>
                  <p:spPr>
                    <a:xfrm flipV="1">
                      <a:off x="2050920" y="3573360"/>
                      <a:ext cx="5329440" cy="165600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 txBox="1"/>
                    <p:nvPr/>
                  </p:nvSpPr>
                  <p:spPr>
                    <a:xfrm rot="10800000">
                      <a:off x="2050920" y="3573360"/>
                      <a:ext cx="5329440" cy="165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3419280" y="3574800"/>
                    <a:ext cx="2665080" cy="1655640"/>
                    <a:chOff x="3419280" y="3574800"/>
                    <a:chExt cx="2665080" cy="1655640"/>
                  </a:xfrm>
                </p:grpSpPr>
                <p:sp>
                  <p:nvSpPr>
                    <p:cNvPr id="806" name="Line 4"/>
                    <p:cNvSpPr/>
                    <p:nvPr/>
                  </p:nvSpPr>
                  <p:spPr>
                    <a:xfrm flipH="1" flipV="1">
                      <a:off x="3419280" y="3574800"/>
                      <a:ext cx="2665080" cy="1655640"/>
                    </a:xfrm>
                    <a:prstGeom prst="line">
                      <a:avLst/>
                    </a:prstGeom>
                    <a:ln w="5724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"/>
                    <p:cNvSpPr txBox="1"/>
                    <p:nvPr/>
                  </p:nvSpPr>
                  <p:spPr>
                    <a:xfrm rot="10800000">
                      <a:off x="3419280" y="3574800"/>
                      <a:ext cx="2665080" cy="165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3059280" y="3933720"/>
                    <a:ext cx="3313080" cy="935280"/>
                    <a:chOff x="3059280" y="3933720"/>
                    <a:chExt cx="3313080" cy="935280"/>
                  </a:xfrm>
                </p:grpSpPr>
                <p:sp>
                  <p:nvSpPr>
                    <p:cNvPr id="809" name="Line 16"/>
                    <p:cNvSpPr/>
                    <p:nvPr/>
                  </p:nvSpPr>
                  <p:spPr>
                    <a:xfrm>
                      <a:off x="3059280" y="3933720"/>
                      <a:ext cx="3313080" cy="935280"/>
                    </a:xfrm>
                    <a:prstGeom prst="line">
                      <a:avLst/>
                    </a:prstGeom>
                    <a:ln w="507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"/>
                    <p:cNvSpPr txBox="1"/>
                    <p:nvPr/>
                  </p:nvSpPr>
                  <p:spPr>
                    <a:xfrm>
                      <a:off x="3059280" y="3933720"/>
                      <a:ext cx="3313080" cy="93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11" name="Text Box 18"/>
                <p:cNvSpPr/>
                <p:nvPr/>
              </p:nvSpPr>
              <p:spPr>
                <a:xfrm>
                  <a:off x="2916360" y="3749760"/>
                  <a:ext cx="576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●</a:t>
                  </a:r>
                  <a:endParaRPr b="0" lang="en-US" sz="1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9"/>
                <p:cNvSpPr/>
                <p:nvPr/>
              </p:nvSpPr>
              <p:spPr>
                <a:xfrm>
                  <a:off x="6167520" y="4675320"/>
                  <a:ext cx="57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●</a:t>
                  </a:r>
                  <a:endParaRPr b="0" lang="en-US" sz="16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13" name="WordArt 29"/>
          <p:cNvSpPr txBox="1"/>
          <p:nvPr/>
        </p:nvSpPr>
        <p:spPr>
          <a:xfrm>
            <a:off x="108000" y="115920"/>
            <a:ext cx="251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cc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巩固新知</a:t>
            </a:r>
            <a:endParaRPr b="1" lang="en-US" sz="1800" spc="1" strike="noStrike">
              <a:ln w="9360">
                <a:solidFill>
                  <a:srgbClr val="ffcc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814" name="Group 46"/>
          <p:cNvGrpSpPr/>
          <p:nvPr/>
        </p:nvGrpSpPr>
        <p:grpSpPr>
          <a:xfrm>
            <a:off x="2268360" y="3573360"/>
            <a:ext cx="4908600" cy="1590480"/>
            <a:chOff x="2268360" y="3573360"/>
            <a:chExt cx="4908600" cy="1590480"/>
          </a:xfrm>
        </p:grpSpPr>
        <p:sp>
          <p:nvSpPr>
            <p:cNvPr id="815" name="Freeform 20"/>
            <p:cNvSpPr/>
            <p:nvPr/>
          </p:nvSpPr>
          <p:spPr>
            <a:xfrm>
              <a:off x="3227040" y="3800160"/>
              <a:ext cx="142920" cy="216000"/>
            </a:xfrm>
            <a:custGeom>
              <a:avLst/>
              <a:gdLst/>
              <a:ahLst/>
              <a:rect l="l" t="t" r="r" b="b"/>
              <a:pathLst>
                <a:path w="105" h="166">
                  <a:moveTo>
                    <a:pt x="0" y="0"/>
                  </a:moveTo>
                  <a:cubicBezTo>
                    <a:pt x="105" y="27"/>
                    <a:pt x="77" y="54"/>
                    <a:pt x="77" y="166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16" name="Freeform 21"/>
            <p:cNvSpPr/>
            <p:nvPr/>
          </p:nvSpPr>
          <p:spPr>
            <a:xfrm>
              <a:off x="6149520" y="4817880"/>
              <a:ext cx="79560" cy="203040"/>
            </a:xfrm>
            <a:custGeom>
              <a:avLst/>
              <a:gdLst/>
              <a:ahLst/>
              <a:rect l="l" t="t" r="r" b="b"/>
              <a:pathLst>
                <a:path w="50" h="128">
                  <a:moveTo>
                    <a:pt x="37" y="0"/>
                  </a:moveTo>
                  <a:cubicBezTo>
                    <a:pt x="1" y="56"/>
                    <a:pt x="0" y="80"/>
                    <a:pt x="50" y="12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17" name="Text Box 22"/>
            <p:cNvSpPr/>
            <p:nvPr/>
          </p:nvSpPr>
          <p:spPr>
            <a:xfrm>
              <a:off x="3309480" y="357336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18" name="Text Box 25"/>
            <p:cNvSpPr/>
            <p:nvPr/>
          </p:nvSpPr>
          <p:spPr>
            <a:xfrm>
              <a:off x="2414160" y="459252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19" name="Freeform 26"/>
            <p:cNvSpPr/>
            <p:nvPr/>
          </p:nvSpPr>
          <p:spPr>
            <a:xfrm>
              <a:off x="6989400" y="3690720"/>
              <a:ext cx="187560" cy="203040"/>
            </a:xfrm>
            <a:custGeom>
              <a:avLst/>
              <a:gdLst/>
              <a:ahLst/>
              <a:rect l="l" t="t" r="r" b="b"/>
              <a:pathLst>
                <a:path w="118" h="128">
                  <a:moveTo>
                    <a:pt x="29" y="0"/>
                  </a:moveTo>
                  <a:cubicBezTo>
                    <a:pt x="0" y="84"/>
                    <a:pt x="19" y="128"/>
                    <a:pt x="118" y="12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820" name="Freeform 30"/>
            <p:cNvSpPr/>
            <p:nvPr/>
          </p:nvSpPr>
          <p:spPr>
            <a:xfrm>
              <a:off x="3206520" y="3800160"/>
              <a:ext cx="142920" cy="216000"/>
            </a:xfrm>
            <a:custGeom>
              <a:avLst/>
              <a:gdLst/>
              <a:ahLst/>
              <a:rect l="l" t="t" r="r" b="b"/>
              <a:pathLst>
                <a:path w="105" h="166">
                  <a:moveTo>
                    <a:pt x="0" y="0"/>
                  </a:moveTo>
                  <a:cubicBezTo>
                    <a:pt x="105" y="27"/>
                    <a:pt x="77" y="54"/>
                    <a:pt x="77" y="166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821" name="Group 45"/>
            <p:cNvGrpSpPr/>
            <p:nvPr/>
          </p:nvGrpSpPr>
          <p:grpSpPr>
            <a:xfrm>
              <a:off x="2268360" y="3573360"/>
              <a:ext cx="4806720" cy="1590480"/>
              <a:chOff x="2268360" y="3573360"/>
              <a:chExt cx="4806720" cy="1590480"/>
            </a:xfrm>
          </p:grpSpPr>
          <p:sp>
            <p:nvSpPr>
              <p:cNvPr id="822" name="Text Box 27"/>
              <p:cNvSpPr/>
              <p:nvPr/>
            </p:nvSpPr>
            <p:spPr>
              <a:xfrm>
                <a:off x="6641640" y="3676320"/>
                <a:ext cx="43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823" name="Group 40"/>
              <p:cNvGrpSpPr/>
              <p:nvPr/>
            </p:nvGrpSpPr>
            <p:grpSpPr>
              <a:xfrm>
                <a:off x="2268360" y="3573360"/>
                <a:ext cx="3963960" cy="1590480"/>
                <a:chOff x="2268360" y="3573360"/>
                <a:chExt cx="3963960" cy="1590480"/>
              </a:xfrm>
            </p:grpSpPr>
            <p:sp>
              <p:nvSpPr>
                <p:cNvPr id="824" name="Text Box 23"/>
                <p:cNvSpPr/>
                <p:nvPr/>
              </p:nvSpPr>
              <p:spPr>
                <a:xfrm>
                  <a:off x="5798880" y="4643280"/>
                  <a:ext cx="43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24"/>
                <p:cNvSpPr/>
                <p:nvPr/>
              </p:nvSpPr>
              <p:spPr>
                <a:xfrm>
                  <a:off x="2268360" y="4947840"/>
                  <a:ext cx="149040" cy="200160"/>
                </a:xfrm>
                <a:custGeom>
                  <a:avLst/>
                  <a:gdLst/>
                  <a:ahLst/>
                  <a:rect l="l" t="t" r="r" b="b"/>
                  <a:pathLst>
                    <a:path w="94" h="126">
                      <a:moveTo>
                        <a:pt x="0" y="1"/>
                      </a:moveTo>
                      <a:cubicBezTo>
                        <a:pt x="25" y="5"/>
                        <a:pt x="54" y="0"/>
                        <a:pt x="76" y="13"/>
                      </a:cubicBezTo>
                      <a:cubicBezTo>
                        <a:pt x="94" y="23"/>
                        <a:pt x="88" y="99"/>
                        <a:pt x="88" y="126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31"/>
                <p:cNvSpPr/>
                <p:nvPr/>
              </p:nvSpPr>
              <p:spPr>
                <a:xfrm>
                  <a:off x="3309480" y="3573360"/>
                  <a:ext cx="43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1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32"/>
                <p:cNvSpPr/>
                <p:nvPr/>
              </p:nvSpPr>
              <p:spPr>
                <a:xfrm>
                  <a:off x="2414160" y="4592520"/>
                  <a:ext cx="433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3</a:t>
                  </a:r>
                  <a:endParaRPr b="0" lang="en-US" sz="2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33"/>
                <p:cNvSpPr/>
                <p:nvPr/>
              </p:nvSpPr>
              <p:spPr>
                <a:xfrm>
                  <a:off x="3206520" y="3800160"/>
                  <a:ext cx="142920" cy="216000"/>
                </a:xfrm>
                <a:custGeom>
                  <a:avLst/>
                  <a:gdLst/>
                  <a:ahLst/>
                  <a:rect l="l" t="t" r="r" b="b"/>
                  <a:pathLst>
                    <a:path w="105" h="166">
                      <a:moveTo>
                        <a:pt x="0" y="0"/>
                      </a:moveTo>
                      <a:cubicBezTo>
                        <a:pt x="105" y="27"/>
                        <a:pt x="77" y="54"/>
                        <a:pt x="77" y="166"/>
                      </a:cubicBezTo>
                    </a:path>
                  </a:pathLst>
                </a:custGeom>
                <a:noFill/>
                <a:ln w="507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plus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03AB-9B97-45FA-BF26-666881E173BC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3231-D103-48B8-A413-3DD6498C1176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2" name="Picture 2" descr="337"/>
          <p:cNvPicPr/>
          <p:nvPr/>
        </p:nvPicPr>
        <p:blipFill>
          <a:blip r:embed="rId1"/>
          <a:stretch/>
        </p:blipFill>
        <p:spPr>
          <a:xfrm>
            <a:off x="468360" y="2852640"/>
            <a:ext cx="2050920" cy="1513080"/>
          </a:xfrm>
          <a:prstGeom prst="rect">
            <a:avLst/>
          </a:prstGeom>
          <a:ln w="0">
            <a:noFill/>
          </a:ln>
        </p:spPr>
      </p:pic>
      <p:sp>
        <p:nvSpPr>
          <p:cNvPr id="203" name="WordArt 3"/>
          <p:cNvSpPr txBox="1"/>
          <p:nvPr/>
        </p:nvSpPr>
        <p:spPr>
          <a:xfrm>
            <a:off x="324000" y="189000"/>
            <a:ext cx="208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你来评一评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1465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一位饱经苍桑的老人，经过一辈子的辛勤劳动， 到晚年的时候，终于拥有了一块平行四边形的土地，由于年迈体弱，他决定把这块土地分给他的四个孩子，他是这样分的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05" name="Group 5"/>
          <p:cNvGrpSpPr/>
          <p:nvPr/>
        </p:nvGrpSpPr>
        <p:grpSpPr>
          <a:xfrm>
            <a:off x="4067280" y="2636640"/>
            <a:ext cx="3744720" cy="1440000"/>
            <a:chOff x="4067280" y="2636640"/>
            <a:chExt cx="3744720" cy="1440000"/>
          </a:xfrm>
        </p:grpSpPr>
        <p:sp>
          <p:nvSpPr>
            <p:cNvPr id="206" name="AutoShape 6"/>
            <p:cNvSpPr/>
            <p:nvPr/>
          </p:nvSpPr>
          <p:spPr>
            <a:xfrm>
              <a:off x="4067280" y="2637000"/>
              <a:ext cx="3744720" cy="1439640"/>
            </a:xfrm>
            <a:prstGeom prst="parallelogram">
              <a:avLst>
                <a:gd name="adj" fmla="val 65029"/>
              </a:avLst>
            </a:prstGeom>
            <a:solidFill>
              <a:srgbClr val="ccecff"/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5003640" y="2637000"/>
              <a:ext cx="1871280" cy="1439640"/>
              <a:chOff x="5003640" y="2637000"/>
              <a:chExt cx="1871280" cy="1439640"/>
            </a:xfrm>
          </p:grpSpPr>
          <p:sp>
            <p:nvSpPr>
              <p:cNvPr id="208" name="Line 7"/>
              <p:cNvSpPr/>
              <p:nvPr/>
            </p:nvSpPr>
            <p:spPr>
              <a:xfrm>
                <a:off x="5003640" y="2637000"/>
                <a:ext cx="1871280" cy="143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 txBox="1"/>
              <p:nvPr/>
            </p:nvSpPr>
            <p:spPr>
              <a:xfrm>
                <a:off x="5003640" y="2637000"/>
                <a:ext cx="187128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067280" y="2636640"/>
              <a:ext cx="3744720" cy="1439640"/>
              <a:chOff x="4067280" y="2636640"/>
              <a:chExt cx="3744720" cy="1439640"/>
            </a:xfrm>
          </p:grpSpPr>
          <p:sp>
            <p:nvSpPr>
              <p:cNvPr id="211" name="Line 8"/>
              <p:cNvSpPr/>
              <p:nvPr/>
            </p:nvSpPr>
            <p:spPr>
              <a:xfrm flipV="1">
                <a:off x="4067280" y="2636640"/>
                <a:ext cx="3744720" cy="143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 rot="10800000">
                <a:off x="4067280" y="2636640"/>
                <a:ext cx="3744720" cy="143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 Box 9"/>
          <p:cNvSpPr/>
          <p:nvPr/>
        </p:nvSpPr>
        <p:spPr>
          <a:xfrm>
            <a:off x="5651640" y="2708280"/>
            <a:ext cx="936360" cy="45972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大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4716360" y="3068640"/>
            <a:ext cx="936720" cy="45972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二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5508720" y="3429000"/>
            <a:ext cx="936360" cy="45972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三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6372360" y="3141720"/>
            <a:ext cx="936360" cy="459720"/>
          </a:xfrm>
          <a:prstGeom prst="rect">
            <a:avLst/>
          </a:prstGeom>
          <a:solidFill>
            <a:srgbClr val="00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老四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4581000"/>
            <a:ext cx="8555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当四个孩子看到时，争论不休，都认为自己的地少，同学们，你认为老人这样分合理吗？为什么？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591-F76A-4241-8957-0F77494A1280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5BF-8491-47BC-85C3-FFB7FE15138A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2627280" y="54936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叙述平行四边形的性质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21" name="Group 8"/>
          <p:cNvGrpSpPr/>
          <p:nvPr/>
        </p:nvGrpSpPr>
        <p:grpSpPr>
          <a:xfrm>
            <a:off x="2887560" y="673200"/>
            <a:ext cx="3254400" cy="2656440"/>
            <a:chOff x="2887560" y="673200"/>
            <a:chExt cx="3254400" cy="2656440"/>
          </a:xfrm>
        </p:grpSpPr>
        <p:grpSp>
          <p:nvGrpSpPr>
            <p:cNvPr id="222" name="Group 9"/>
            <p:cNvGrpSpPr/>
            <p:nvPr/>
          </p:nvGrpSpPr>
          <p:grpSpPr>
            <a:xfrm>
              <a:off x="2887560" y="1401120"/>
              <a:ext cx="1627200" cy="1326960"/>
              <a:chOff x="2887560" y="1401120"/>
              <a:chExt cx="1627200" cy="1326960"/>
            </a:xfrm>
          </p:grpSpPr>
          <p:sp>
            <p:nvSpPr>
              <p:cNvPr id="223" name="Freeform 10"/>
              <p:cNvSpPr/>
              <p:nvPr/>
            </p:nvSpPr>
            <p:spPr>
              <a:xfrm rot="3638400">
                <a:off x="3355920" y="1324800"/>
                <a:ext cx="690480" cy="1478880"/>
              </a:xfrm>
              <a:custGeom>
                <a:avLst/>
                <a:gdLst/>
                <a:ahLst/>
                <a:rect l="l" t="t" r="r" b="b"/>
                <a:pathLst>
                  <a:path w="681" h="907">
                    <a:moveTo>
                      <a:pt x="0" y="0"/>
                    </a:moveTo>
                    <a:lnTo>
                      <a:pt x="681" y="0"/>
                    </a:lnTo>
                    <a:lnTo>
                      <a:pt x="681" y="90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887560" y="1401120"/>
                <a:ext cx="1627200" cy="1326960"/>
                <a:chOff x="2887560" y="1401120"/>
                <a:chExt cx="1627200" cy="1326960"/>
              </a:xfrm>
            </p:grpSpPr>
            <p:sp>
              <p:nvSpPr>
                <p:cNvPr id="225" name="Line 11"/>
                <p:cNvSpPr/>
                <p:nvPr/>
              </p:nvSpPr>
              <p:spPr>
                <a:xfrm flipH="1">
                  <a:off x="3225960" y="1401120"/>
                  <a:ext cx="950400" cy="1326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 rot="3638400">
                  <a:off x="3355920" y="1324800"/>
                  <a:ext cx="690480" cy="147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" name="Group 12"/>
            <p:cNvGrpSpPr/>
            <p:nvPr/>
          </p:nvGrpSpPr>
          <p:grpSpPr>
            <a:xfrm>
              <a:off x="4515120" y="1277640"/>
              <a:ext cx="1626840" cy="1326960"/>
              <a:chOff x="4515120" y="1277640"/>
              <a:chExt cx="1626840" cy="1326960"/>
            </a:xfrm>
          </p:grpSpPr>
          <p:sp>
            <p:nvSpPr>
              <p:cNvPr id="228" name="Freeform 13"/>
              <p:cNvSpPr/>
              <p:nvPr/>
            </p:nvSpPr>
            <p:spPr>
              <a:xfrm rot="14438400">
                <a:off x="4983120" y="1201680"/>
                <a:ext cx="690480" cy="1478520"/>
              </a:xfrm>
              <a:custGeom>
                <a:avLst/>
                <a:gdLst/>
                <a:ahLst/>
                <a:rect l="l" t="t" r="r" b="b"/>
                <a:pathLst>
                  <a:path w="681" h="907">
                    <a:moveTo>
                      <a:pt x="0" y="0"/>
                    </a:moveTo>
                    <a:lnTo>
                      <a:pt x="681" y="0"/>
                    </a:lnTo>
                    <a:lnTo>
                      <a:pt x="681" y="907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4515120" y="1277640"/>
                <a:ext cx="1626840" cy="1326960"/>
                <a:chOff x="4515120" y="1277640"/>
                <a:chExt cx="1626840" cy="1326960"/>
              </a:xfrm>
            </p:grpSpPr>
            <p:sp>
              <p:nvSpPr>
                <p:cNvPr id="230" name="Line 14"/>
                <p:cNvSpPr/>
                <p:nvPr/>
              </p:nvSpPr>
              <p:spPr>
                <a:xfrm flipV="1">
                  <a:off x="4853520" y="1277640"/>
                  <a:ext cx="950040" cy="1326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 rot="14438400">
                  <a:off x="4983120" y="1201680"/>
                  <a:ext cx="690480" cy="147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" name=""/>
            <p:cNvGrpSpPr/>
            <p:nvPr/>
          </p:nvGrpSpPr>
          <p:grpSpPr>
            <a:xfrm>
              <a:off x="3225600" y="2002680"/>
              <a:ext cx="1627560" cy="1326960"/>
              <a:chOff x="3225600" y="2002680"/>
              <a:chExt cx="1627560" cy="1326960"/>
            </a:xfrm>
          </p:grpSpPr>
          <p:sp>
            <p:nvSpPr>
              <p:cNvPr id="233" name="Line 15"/>
              <p:cNvSpPr/>
              <p:nvPr/>
            </p:nvSpPr>
            <p:spPr>
              <a:xfrm flipH="1">
                <a:off x="3225600" y="2604600"/>
                <a:ext cx="1627560" cy="12348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 rot="3638400">
                <a:off x="3693960" y="1926360"/>
                <a:ext cx="690480" cy="147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4176360" y="673200"/>
              <a:ext cx="1631880" cy="1329480"/>
              <a:chOff x="4176360" y="673200"/>
              <a:chExt cx="1631880" cy="1329480"/>
            </a:xfrm>
          </p:grpSpPr>
          <p:sp>
            <p:nvSpPr>
              <p:cNvPr id="236" name="Line 16"/>
              <p:cNvSpPr/>
              <p:nvPr/>
            </p:nvSpPr>
            <p:spPr>
              <a:xfrm flipH="1">
                <a:off x="4176360" y="1275120"/>
                <a:ext cx="1631880" cy="126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3638400">
                <a:off x="4646880" y="595800"/>
                <a:ext cx="690480" cy="1484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Rectangle 17"/>
          <p:cNvSpPr/>
          <p:nvPr/>
        </p:nvSpPr>
        <p:spPr>
          <a:xfrm rot="21445800">
            <a:off x="3718440" y="105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A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850840" y="242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B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 rot="21422400">
            <a:off x="5814000" y="105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 rot="182400">
            <a:off x="4861080" y="2491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 rot="468000">
            <a:off x="4201200" y="2018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  <a:ea typeface="MS UI Gothic"/>
              </a:rPr>
              <a:t>O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43" name="Picture 26" descr="37"/>
          <p:cNvPicPr/>
          <p:nvPr/>
        </p:nvPicPr>
        <p:blipFill>
          <a:blip r:embed="rId1"/>
          <a:stretch/>
        </p:blipFill>
        <p:spPr>
          <a:xfrm>
            <a:off x="0" y="0"/>
            <a:ext cx="1785960" cy="190512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7"/>
          <p:cNvSpPr txBox="1"/>
          <p:nvPr/>
        </p:nvSpPr>
        <p:spPr>
          <a:xfrm>
            <a:off x="250920" y="1268280"/>
            <a:ext cx="158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知识回顾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1908000" y="3429000"/>
            <a:ext cx="561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∵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四边形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BC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是平行四边形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∥C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∥B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=CD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；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=B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= ∠BCD; ∠ABC= ∠ADC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46" name="Group 53"/>
          <p:cNvGrpSpPr/>
          <p:nvPr/>
        </p:nvGrpSpPr>
        <p:grpSpPr>
          <a:xfrm>
            <a:off x="6300720" y="2565360"/>
            <a:ext cx="2484360" cy="1368360"/>
            <a:chOff x="6300720" y="2565360"/>
            <a:chExt cx="2484360" cy="1368360"/>
          </a:xfrm>
        </p:grpSpPr>
        <p:sp>
          <p:nvSpPr>
            <p:cNvPr id="247" name="AutoShape 50"/>
            <p:cNvSpPr/>
            <p:nvPr/>
          </p:nvSpPr>
          <p:spPr>
            <a:xfrm>
              <a:off x="6300720" y="2565360"/>
              <a:ext cx="2016360" cy="1368360"/>
            </a:xfrm>
            <a:prstGeom prst="cloudCallout">
              <a:avLst>
                <a:gd name="adj1" fmla="val -101101"/>
                <a:gd name="adj2" fmla="val -72620"/>
              </a:avLst>
            </a:prstGeom>
            <a:solidFill>
              <a:srgbClr val="0000ff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6553080" y="2781360"/>
              <a:ext cx="223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还有其它性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质吗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66D9-BD40-46D6-BEFD-A371ECB86269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2411280" y="1413000"/>
            <a:ext cx="4368960" cy="2681280"/>
            <a:chOff x="2411280" y="1413000"/>
            <a:chExt cx="4368960" cy="2681280"/>
          </a:xfrm>
        </p:grpSpPr>
        <p:sp>
          <p:nvSpPr>
            <p:cNvPr id="251" name="AutoShape 3"/>
            <p:cNvSpPr/>
            <p:nvPr/>
          </p:nvSpPr>
          <p:spPr>
            <a:xfrm>
              <a:off x="2620800" y="2073240"/>
              <a:ext cx="3745080" cy="1439280"/>
            </a:xfrm>
            <a:prstGeom prst="parallelogram">
              <a:avLst>
                <a:gd name="adj" fmla="val 65051"/>
              </a:avLst>
            </a:prstGeom>
            <a:solidFill>
              <a:srgbClr val="ffffff">
                <a:alpha val="58000"/>
              </a:srgbClr>
            </a:solidFill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2" name="Text Box 4"/>
            <p:cNvSpPr/>
            <p:nvPr/>
          </p:nvSpPr>
          <p:spPr>
            <a:xfrm>
              <a:off x="3330720" y="143028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3" name="Text Box 5"/>
            <p:cNvSpPr/>
            <p:nvPr/>
          </p:nvSpPr>
          <p:spPr>
            <a:xfrm>
              <a:off x="5146560" y="3379680"/>
              <a:ext cx="6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4" name="Text Box 6"/>
            <p:cNvSpPr/>
            <p:nvPr/>
          </p:nvSpPr>
          <p:spPr>
            <a:xfrm>
              <a:off x="6132600" y="1413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5" name="Text Box 7"/>
            <p:cNvSpPr/>
            <p:nvPr/>
          </p:nvSpPr>
          <p:spPr>
            <a:xfrm>
              <a:off x="2411280" y="3390840"/>
              <a:ext cx="6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583000" y="2089080"/>
            <a:ext cx="3744720" cy="1440000"/>
            <a:chOff x="2583000" y="2089080"/>
            <a:chExt cx="3744720" cy="1440000"/>
          </a:xfrm>
        </p:grpSpPr>
        <p:sp>
          <p:nvSpPr>
            <p:cNvPr id="257" name="Line 8"/>
            <p:cNvSpPr/>
            <p:nvPr/>
          </p:nvSpPr>
          <p:spPr>
            <a:xfrm flipV="1">
              <a:off x="2583000" y="2089080"/>
              <a:ext cx="3744720" cy="1440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 rot="10800000">
              <a:off x="2583000" y="2089080"/>
              <a:ext cx="374472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59" name="WordArt 9"/>
          <p:cNvSpPr txBox="1"/>
          <p:nvPr/>
        </p:nvSpPr>
        <p:spPr>
          <a:xfrm rot="255600">
            <a:off x="250560" y="0"/>
            <a:ext cx="2340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新知探究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60" name="Group 10"/>
          <p:cNvGrpSpPr/>
          <p:nvPr/>
        </p:nvGrpSpPr>
        <p:grpSpPr>
          <a:xfrm>
            <a:off x="2590920" y="475920"/>
            <a:ext cx="6552720" cy="1252080"/>
            <a:chOff x="2590920" y="475920"/>
            <a:chExt cx="6552720" cy="1252080"/>
          </a:xfrm>
        </p:grpSpPr>
        <p:sp>
          <p:nvSpPr>
            <p:cNvPr id="261" name="Rectangle 11"/>
            <p:cNvSpPr/>
            <p:nvPr/>
          </p:nvSpPr>
          <p:spPr>
            <a:xfrm>
              <a:off x="2590920" y="475920"/>
              <a:ext cx="65527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图</a:t>
              </a: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  ABCD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的对角线</a:t>
              </a: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C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</a:t>
              </a: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D</a:t>
              </a:r>
              <a:r>
                <a:rPr b="1" lang="zh-CN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相交于点</a:t>
              </a:r>
              <a:r>
                <a:rPr b="1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.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62" name="AutoShape 12"/>
            <p:cNvSpPr/>
            <p:nvPr/>
          </p:nvSpPr>
          <p:spPr>
            <a:xfrm>
              <a:off x="4348800" y="668160"/>
              <a:ext cx="320040" cy="358920"/>
            </a:xfrm>
            <a:prstGeom prst="parallelogram">
              <a:avLst>
                <a:gd name="adj" fmla="val 25000"/>
              </a:avLst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63" name="Text Box 13"/>
          <p:cNvSpPr/>
          <p:nvPr/>
        </p:nvSpPr>
        <p:spPr>
          <a:xfrm>
            <a:off x="4327560" y="21384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541680" y="2066760"/>
            <a:ext cx="1871640" cy="1440000"/>
            <a:chOff x="3541680" y="2066760"/>
            <a:chExt cx="1871640" cy="1440000"/>
          </a:xfrm>
        </p:grpSpPr>
        <p:sp>
          <p:nvSpPr>
            <p:cNvPr id="265" name="Line 14"/>
            <p:cNvSpPr/>
            <p:nvPr/>
          </p:nvSpPr>
          <p:spPr>
            <a:xfrm>
              <a:off x="3541680" y="2066760"/>
              <a:ext cx="1871640" cy="144000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541680" y="2066760"/>
              <a:ext cx="187164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pic>
        <p:nvPicPr>
          <p:cNvPr id="267" name="Picture 15" descr="f085"/>
          <p:cNvPicPr/>
          <p:nvPr/>
        </p:nvPicPr>
        <p:blipFill>
          <a:blip r:embed="rId1"/>
          <a:stretch/>
        </p:blipFill>
        <p:spPr>
          <a:xfrm>
            <a:off x="395280" y="1197000"/>
            <a:ext cx="10494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25"/>
          <p:cNvGrpSpPr/>
          <p:nvPr/>
        </p:nvGrpSpPr>
        <p:grpSpPr>
          <a:xfrm>
            <a:off x="0" y="3500280"/>
            <a:ext cx="9144000" cy="1096920"/>
            <a:chOff x="0" y="3500280"/>
            <a:chExt cx="9144000" cy="1096920"/>
          </a:xfrm>
        </p:grpSpPr>
        <p:sp>
          <p:nvSpPr>
            <p:cNvPr id="269" name="Text Box 16"/>
            <p:cNvSpPr/>
            <p:nvPr/>
          </p:nvSpPr>
          <p:spPr>
            <a:xfrm>
              <a:off x="0" y="3500280"/>
              <a:ext cx="21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猜一猜</a:t>
              </a:r>
              <a:r>
                <a:rPr b="1" lang="en-US" sz="3200" spc="-1" strike="noStrike">
                  <a:solidFill>
                    <a:srgbClr val="cc0000"/>
                  </a:solidFill>
                  <a:latin typeface="Arial"/>
                  <a:ea typeface="黑体"/>
                </a:rPr>
                <a:t>:</a:t>
              </a:r>
              <a:endParaRPr b="0" lang="en-US" sz="32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574560" y="4076640"/>
              <a:ext cx="85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线段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A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与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C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B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与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D</a:t>
              </a: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长度有何关系？</a:t>
              </a:r>
              <a:endParaRPr b="0" lang="en-US" sz="2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71" name="Text Box 22"/>
          <p:cNvSpPr/>
          <p:nvPr/>
        </p:nvSpPr>
        <p:spPr>
          <a:xfrm>
            <a:off x="4255920" y="25876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-111240" y="4869000"/>
            <a:ext cx="21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量一量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539640" y="5229360"/>
            <a:ext cx="82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拿出手中的平行四边形纸片，测量出四条线段的长度，验证你的猜想是否正确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63F-A406-47DA-9801-E0052BF7047D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5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366C-A303-47AB-9F3C-3BCA50398B1F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6" name="WordArt 2"/>
          <p:cNvSpPr txBox="1"/>
          <p:nvPr/>
        </p:nvSpPr>
        <p:spPr>
          <a:xfrm>
            <a:off x="0" y="0"/>
            <a:ext cx="241128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动手试一试</a:t>
            </a:r>
            <a:endParaRPr b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1835280" y="2637000"/>
            <a:ext cx="5185800" cy="2874600"/>
            <a:chOff x="1835280" y="2637000"/>
            <a:chExt cx="5185800" cy="2874600"/>
          </a:xfrm>
        </p:grpSpPr>
        <p:sp>
          <p:nvSpPr>
            <p:cNvPr id="278" name="AutoShape 4"/>
            <p:cNvSpPr/>
            <p:nvPr/>
          </p:nvSpPr>
          <p:spPr>
            <a:xfrm>
              <a:off x="2340000" y="3213000"/>
              <a:ext cx="4247640" cy="1729080"/>
            </a:xfrm>
            <a:prstGeom prst="parallelogram">
              <a:avLst>
                <a:gd name="adj" fmla="val 61415"/>
              </a:avLst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2842920" y="2637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80" name="Text Box 6"/>
            <p:cNvSpPr/>
            <p:nvPr/>
          </p:nvSpPr>
          <p:spPr>
            <a:xfrm>
              <a:off x="6516720" y="2637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1835280" y="4869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82" name="Text Box 8"/>
            <p:cNvSpPr/>
            <p:nvPr/>
          </p:nvSpPr>
          <p:spPr>
            <a:xfrm>
              <a:off x="5580000" y="47973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83" name="Text Box 9"/>
            <p:cNvSpPr/>
            <p:nvPr/>
          </p:nvSpPr>
          <p:spPr>
            <a:xfrm>
              <a:off x="4262400" y="3449520"/>
              <a:ext cx="64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cc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84" name="Group 10"/>
            <p:cNvGrpSpPr/>
            <p:nvPr/>
          </p:nvGrpSpPr>
          <p:grpSpPr>
            <a:xfrm>
              <a:off x="2338200" y="3213000"/>
              <a:ext cx="4209840" cy="1714320"/>
              <a:chOff x="2338200" y="3213000"/>
              <a:chExt cx="4209840" cy="1714320"/>
            </a:xfrm>
          </p:grpSpPr>
          <p:sp>
            <p:nvSpPr>
              <p:cNvPr id="285" name="Freeform 11"/>
              <p:cNvSpPr/>
              <p:nvPr/>
            </p:nvSpPr>
            <p:spPr>
              <a:xfrm>
                <a:off x="3381120" y="3213000"/>
                <a:ext cx="2104920" cy="1714320"/>
              </a:xfrm>
              <a:custGeom>
                <a:avLst/>
                <a:gdLst/>
                <a:ahLst/>
                <a:rect l="l" t="t" r="r" b="b"/>
                <a:pathLst>
                  <a:path w="1326" h="1080">
                    <a:moveTo>
                      <a:pt x="0" y="0"/>
                    </a:moveTo>
                    <a:lnTo>
                      <a:pt x="1326" y="1080"/>
                    </a:ln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6" name="Freeform 12"/>
              <p:cNvSpPr/>
              <p:nvPr/>
            </p:nvSpPr>
            <p:spPr>
              <a:xfrm>
                <a:off x="2338200" y="3227400"/>
                <a:ext cx="4209840" cy="1679400"/>
              </a:xfrm>
              <a:custGeom>
                <a:avLst/>
                <a:gdLst/>
                <a:ahLst/>
                <a:rect l="l" t="t" r="r" b="b"/>
                <a:pathLst>
                  <a:path w="2652" h="1058">
                    <a:moveTo>
                      <a:pt x="0" y="1058"/>
                    </a:moveTo>
                    <a:lnTo>
                      <a:pt x="2652" y="0"/>
                    </a:ln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7" name="Oval 13"/>
              <p:cNvSpPr/>
              <p:nvPr/>
            </p:nvSpPr>
            <p:spPr>
              <a:xfrm>
                <a:off x="4358880" y="4005000"/>
                <a:ext cx="144720" cy="14472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14"/>
          <p:cNvGrpSpPr/>
          <p:nvPr/>
        </p:nvGrpSpPr>
        <p:grpSpPr>
          <a:xfrm>
            <a:off x="1835280" y="2637000"/>
            <a:ext cx="5186160" cy="2874240"/>
            <a:chOff x="1835280" y="2637000"/>
            <a:chExt cx="5186160" cy="2874240"/>
          </a:xfrm>
        </p:grpSpPr>
        <p:grpSp>
          <p:nvGrpSpPr>
            <p:cNvPr id="289" name="Group 15"/>
            <p:cNvGrpSpPr/>
            <p:nvPr/>
          </p:nvGrpSpPr>
          <p:grpSpPr>
            <a:xfrm>
              <a:off x="1835280" y="2637000"/>
              <a:ext cx="5186160" cy="2874240"/>
              <a:chOff x="1835280" y="2637000"/>
              <a:chExt cx="5186160" cy="2874240"/>
            </a:xfrm>
          </p:grpSpPr>
          <p:sp>
            <p:nvSpPr>
              <p:cNvPr id="290" name="AutoShape 16"/>
              <p:cNvSpPr/>
              <p:nvPr/>
            </p:nvSpPr>
            <p:spPr>
              <a:xfrm>
                <a:off x="2340000" y="3213000"/>
                <a:ext cx="4248000" cy="1728360"/>
              </a:xfrm>
              <a:prstGeom prst="parallelogram">
                <a:avLst>
                  <a:gd name="adj" fmla="val 61446"/>
                </a:avLst>
              </a:prstGeom>
              <a:noFill/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1" name="Text Box 17"/>
              <p:cNvSpPr/>
              <p:nvPr/>
            </p:nvSpPr>
            <p:spPr>
              <a:xfrm>
                <a:off x="2843280" y="26370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2" name="Text Box 18"/>
              <p:cNvSpPr/>
              <p:nvPr/>
            </p:nvSpPr>
            <p:spPr>
              <a:xfrm>
                <a:off x="6516720" y="26370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3" name="Text Box 19"/>
              <p:cNvSpPr/>
              <p:nvPr/>
            </p:nvSpPr>
            <p:spPr>
              <a:xfrm>
                <a:off x="1835280" y="486864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D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4" name="Text Box 20"/>
              <p:cNvSpPr/>
              <p:nvPr/>
            </p:nvSpPr>
            <p:spPr>
              <a:xfrm>
                <a:off x="5580000" y="479736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Arial"/>
                  </a:rPr>
                  <a:t>C</a:t>
                </a:r>
                <a:endParaRPr b="0" lang="en-US" sz="3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95" name="Text Box 21"/>
            <p:cNvSpPr/>
            <p:nvPr/>
          </p:nvSpPr>
          <p:spPr>
            <a:xfrm>
              <a:off x="4262040" y="3449520"/>
              <a:ext cx="64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296" name="Group 22"/>
            <p:cNvGrpSpPr/>
            <p:nvPr/>
          </p:nvGrpSpPr>
          <p:grpSpPr>
            <a:xfrm>
              <a:off x="2376360" y="3213000"/>
              <a:ext cx="4209480" cy="1713960"/>
              <a:chOff x="2376360" y="3213000"/>
              <a:chExt cx="4209480" cy="1713960"/>
            </a:xfrm>
          </p:grpSpPr>
          <p:sp>
            <p:nvSpPr>
              <p:cNvPr id="297" name="Freeform 23"/>
              <p:cNvSpPr/>
              <p:nvPr/>
            </p:nvSpPr>
            <p:spPr>
              <a:xfrm>
                <a:off x="3418920" y="3213000"/>
                <a:ext cx="2104560" cy="1713960"/>
              </a:xfrm>
              <a:custGeom>
                <a:avLst/>
                <a:gdLst/>
                <a:ahLst/>
                <a:rect l="l" t="t" r="r" b="b"/>
                <a:pathLst>
                  <a:path w="1326" h="1080">
                    <a:moveTo>
                      <a:pt x="0" y="0"/>
                    </a:moveTo>
                    <a:lnTo>
                      <a:pt x="1326" y="108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8" name="Freeform 24"/>
              <p:cNvSpPr/>
              <p:nvPr/>
            </p:nvSpPr>
            <p:spPr>
              <a:xfrm>
                <a:off x="2376360" y="3227040"/>
                <a:ext cx="4209480" cy="1679040"/>
              </a:xfrm>
              <a:custGeom>
                <a:avLst/>
                <a:gdLst/>
                <a:ahLst/>
                <a:rect l="l" t="t" r="r" b="b"/>
                <a:pathLst>
                  <a:path w="2652" h="1058">
                    <a:moveTo>
                      <a:pt x="0" y="1058"/>
                    </a:moveTo>
                    <a:lnTo>
                      <a:pt x="2652" y="0"/>
                    </a:ln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99" name="Oval 25"/>
              <p:cNvSpPr/>
              <p:nvPr/>
            </p:nvSpPr>
            <p:spPr>
              <a:xfrm>
                <a:off x="4396680" y="4004640"/>
                <a:ext cx="144360" cy="14436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Rectangle 26"/>
          <p:cNvSpPr/>
          <p:nvPr/>
        </p:nvSpPr>
        <p:spPr>
          <a:xfrm>
            <a:off x="324000" y="1467360"/>
            <a:ext cx="8351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黑体"/>
              </a:rPr>
              <a:t>如图，把两张完全相同的平行四边形纸片叠合在一起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它们的中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O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钉一个图钉，将一个平行四边形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旋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0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你发现了什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E42-2698-4C39-B7A5-54234CFD7ADB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2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57AD-32D9-4061-8B63-93F4209DEE7E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1476360" y="1628640"/>
            <a:ext cx="5522400" cy="3406680"/>
            <a:chOff x="1476360" y="1628640"/>
            <a:chExt cx="5522400" cy="3406680"/>
          </a:xfrm>
        </p:grpSpPr>
        <p:sp>
          <p:nvSpPr>
            <p:cNvPr id="304" name="Text Box 3"/>
            <p:cNvSpPr/>
            <p:nvPr/>
          </p:nvSpPr>
          <p:spPr>
            <a:xfrm>
              <a:off x="3925800" y="321300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305" name="Group 4"/>
            <p:cNvGrpSpPr/>
            <p:nvPr/>
          </p:nvGrpSpPr>
          <p:grpSpPr>
            <a:xfrm>
              <a:off x="1476360" y="1628640"/>
              <a:ext cx="5522400" cy="3406680"/>
              <a:chOff x="1476360" y="1628640"/>
              <a:chExt cx="5522400" cy="3406680"/>
            </a:xfrm>
          </p:grpSpPr>
          <p:sp>
            <p:nvSpPr>
              <p:cNvPr id="306" name="AutoShape 5"/>
              <p:cNvSpPr/>
              <p:nvPr/>
            </p:nvSpPr>
            <p:spPr>
              <a:xfrm>
                <a:off x="1692000" y="2315880"/>
                <a:ext cx="4895640" cy="2160720"/>
              </a:xfrm>
              <a:prstGeom prst="parallelogram">
                <a:avLst>
                  <a:gd name="adj" fmla="val 56644"/>
                </a:avLst>
              </a:prstGeom>
              <a:noFill/>
              <a:ln w="63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2916000" y="2315880"/>
                <a:ext cx="2447640" cy="2160720"/>
                <a:chOff x="2916000" y="2315880"/>
                <a:chExt cx="2447640" cy="2160720"/>
              </a:xfrm>
            </p:grpSpPr>
            <p:sp>
              <p:nvSpPr>
                <p:cNvPr id="308" name="Line 6"/>
                <p:cNvSpPr/>
                <p:nvPr/>
              </p:nvSpPr>
              <p:spPr>
                <a:xfrm>
                  <a:off x="2916000" y="2315880"/>
                  <a:ext cx="2447640" cy="216072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2916000" y="2315880"/>
                  <a:ext cx="2447640" cy="21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691640" y="2315880"/>
                <a:ext cx="4897440" cy="2158920"/>
                <a:chOff x="1691640" y="2315880"/>
                <a:chExt cx="4897440" cy="2158920"/>
              </a:xfrm>
            </p:grpSpPr>
            <p:sp>
              <p:nvSpPr>
                <p:cNvPr id="311" name="Line 7"/>
                <p:cNvSpPr/>
                <p:nvPr/>
              </p:nvSpPr>
              <p:spPr>
                <a:xfrm flipH="1">
                  <a:off x="1691640" y="2315880"/>
                  <a:ext cx="4897080" cy="215892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1692000" y="2315880"/>
                  <a:ext cx="489708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Text Box 8"/>
              <p:cNvSpPr/>
              <p:nvPr/>
            </p:nvSpPr>
            <p:spPr>
              <a:xfrm>
                <a:off x="2773080" y="162864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A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14" name="Text Box 9"/>
              <p:cNvSpPr/>
              <p:nvPr/>
            </p:nvSpPr>
            <p:spPr>
              <a:xfrm>
                <a:off x="6279840" y="166824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D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15" name="Text Box 10"/>
              <p:cNvSpPr/>
              <p:nvPr/>
            </p:nvSpPr>
            <p:spPr>
              <a:xfrm>
                <a:off x="3963960" y="2676240"/>
                <a:ext cx="718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O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16" name="Text Box 11"/>
              <p:cNvSpPr/>
              <p:nvPr/>
            </p:nvSpPr>
            <p:spPr>
              <a:xfrm>
                <a:off x="5022720" y="4327200"/>
                <a:ext cx="718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C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17" name="Text Box 12"/>
              <p:cNvSpPr/>
              <p:nvPr/>
            </p:nvSpPr>
            <p:spPr>
              <a:xfrm>
                <a:off x="1476360" y="433188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B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2905200" y="2298600"/>
            <a:ext cx="2448000" cy="2160720"/>
            <a:chOff x="2905200" y="2298600"/>
            <a:chExt cx="2448000" cy="2160720"/>
          </a:xfrm>
        </p:grpSpPr>
        <p:sp>
          <p:nvSpPr>
            <p:cNvPr id="319" name="Line 13"/>
            <p:cNvSpPr/>
            <p:nvPr/>
          </p:nvSpPr>
          <p:spPr>
            <a:xfrm>
              <a:off x="2905200" y="2298600"/>
              <a:ext cx="2448000" cy="216072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2905200" y="2298600"/>
              <a:ext cx="244800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690560" y="2308320"/>
            <a:ext cx="4897440" cy="2158920"/>
            <a:chOff x="1690560" y="2308320"/>
            <a:chExt cx="4897440" cy="2158920"/>
          </a:xfrm>
        </p:grpSpPr>
        <p:sp>
          <p:nvSpPr>
            <p:cNvPr id="322" name="Line 14"/>
            <p:cNvSpPr/>
            <p:nvPr/>
          </p:nvSpPr>
          <p:spPr>
            <a:xfrm flipH="1">
              <a:off x="1690560" y="2308320"/>
              <a:ext cx="4897440" cy="215892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690560" y="2308320"/>
              <a:ext cx="489744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24" name="AutoShape 15"/>
          <p:cNvSpPr/>
          <p:nvPr/>
        </p:nvSpPr>
        <p:spPr>
          <a:xfrm>
            <a:off x="1692360" y="2327400"/>
            <a:ext cx="4895640" cy="2160360"/>
          </a:xfrm>
          <a:prstGeom prst="parallelogram">
            <a:avLst>
              <a:gd name="adj" fmla="val 56653"/>
            </a:avLst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25" name="Group 16"/>
          <p:cNvGrpSpPr/>
          <p:nvPr/>
        </p:nvGrpSpPr>
        <p:grpSpPr>
          <a:xfrm>
            <a:off x="1476360" y="1670040"/>
            <a:ext cx="5462640" cy="3367440"/>
            <a:chOff x="1476360" y="1670040"/>
            <a:chExt cx="5462640" cy="3367440"/>
          </a:xfrm>
        </p:grpSpPr>
        <p:sp>
          <p:nvSpPr>
            <p:cNvPr id="326" name="Text Box 17"/>
            <p:cNvSpPr/>
            <p:nvPr/>
          </p:nvSpPr>
          <p:spPr>
            <a:xfrm>
              <a:off x="6289560" y="167004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27" name="Text Box 18"/>
            <p:cNvSpPr/>
            <p:nvPr/>
          </p:nvSpPr>
          <p:spPr>
            <a:xfrm>
              <a:off x="1476360" y="433404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28" name="Group 19"/>
          <p:cNvGrpSpPr/>
          <p:nvPr/>
        </p:nvGrpSpPr>
        <p:grpSpPr>
          <a:xfrm>
            <a:off x="2782800" y="1633680"/>
            <a:ext cx="2890800" cy="3398760"/>
            <a:chOff x="2782800" y="1633680"/>
            <a:chExt cx="2890800" cy="3398760"/>
          </a:xfrm>
        </p:grpSpPr>
        <p:sp>
          <p:nvSpPr>
            <p:cNvPr id="329" name="Text Box 20"/>
            <p:cNvSpPr/>
            <p:nvPr/>
          </p:nvSpPr>
          <p:spPr>
            <a:xfrm>
              <a:off x="3965400" y="269388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5024520" y="4329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2782800" y="163368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32" name="Text Box 23"/>
          <p:cNvSpPr/>
          <p:nvPr/>
        </p:nvSpPr>
        <p:spPr>
          <a:xfrm>
            <a:off x="2700360" y="5445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0ec1"/>
                </a:solidFill>
                <a:latin typeface="Arial"/>
                <a:ea typeface="华文行楷"/>
              </a:rPr>
              <a:t>再看一遍</a:t>
            </a: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3" name="WordArt 24"/>
          <p:cNvSpPr txBox="1"/>
          <p:nvPr/>
        </p:nvSpPr>
        <p:spPr>
          <a:xfrm>
            <a:off x="250920" y="33336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看一看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in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5" dur="5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7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9" dur="5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1" dur="5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3" dur="5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1CE9-7F04-4866-B35B-7D89BF64124B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A20-A1D8-4B86-B785-9C63CD0FE89E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36" name="Group 2"/>
          <p:cNvGrpSpPr/>
          <p:nvPr/>
        </p:nvGrpSpPr>
        <p:grpSpPr>
          <a:xfrm>
            <a:off x="1476360" y="1628640"/>
            <a:ext cx="5522400" cy="3406680"/>
            <a:chOff x="1476360" y="1628640"/>
            <a:chExt cx="5522400" cy="3406680"/>
          </a:xfrm>
        </p:grpSpPr>
        <p:sp>
          <p:nvSpPr>
            <p:cNvPr id="337" name="Text Box 3"/>
            <p:cNvSpPr/>
            <p:nvPr/>
          </p:nvSpPr>
          <p:spPr>
            <a:xfrm>
              <a:off x="3925800" y="3213000"/>
              <a:ext cx="64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1476360" y="1628640"/>
              <a:ext cx="5522400" cy="3406680"/>
              <a:chOff x="1476360" y="1628640"/>
              <a:chExt cx="5522400" cy="3406680"/>
            </a:xfrm>
          </p:grpSpPr>
          <p:sp>
            <p:nvSpPr>
              <p:cNvPr id="339" name="AutoShape 5"/>
              <p:cNvSpPr/>
              <p:nvPr/>
            </p:nvSpPr>
            <p:spPr>
              <a:xfrm>
                <a:off x="1692000" y="2315880"/>
                <a:ext cx="4895640" cy="2160720"/>
              </a:xfrm>
              <a:prstGeom prst="parallelogram">
                <a:avLst>
                  <a:gd name="adj" fmla="val 56644"/>
                </a:avLst>
              </a:prstGeom>
              <a:noFill/>
              <a:ln w="63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2916000" y="2315880"/>
                <a:ext cx="2447640" cy="2160720"/>
                <a:chOff x="2916000" y="2315880"/>
                <a:chExt cx="2447640" cy="2160720"/>
              </a:xfrm>
            </p:grpSpPr>
            <p:sp>
              <p:nvSpPr>
                <p:cNvPr id="341" name="Line 6"/>
                <p:cNvSpPr/>
                <p:nvPr/>
              </p:nvSpPr>
              <p:spPr>
                <a:xfrm>
                  <a:off x="2916000" y="2315880"/>
                  <a:ext cx="2447640" cy="216072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 txBox="1"/>
                <p:nvPr/>
              </p:nvSpPr>
              <p:spPr>
                <a:xfrm>
                  <a:off x="2916000" y="2315880"/>
                  <a:ext cx="2447640" cy="21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691640" y="2315880"/>
                <a:ext cx="4897440" cy="2158920"/>
                <a:chOff x="1691640" y="2315880"/>
                <a:chExt cx="4897440" cy="2158920"/>
              </a:xfrm>
            </p:grpSpPr>
            <p:sp>
              <p:nvSpPr>
                <p:cNvPr id="344" name="Line 7"/>
                <p:cNvSpPr/>
                <p:nvPr/>
              </p:nvSpPr>
              <p:spPr>
                <a:xfrm flipH="1">
                  <a:off x="1691640" y="2315880"/>
                  <a:ext cx="4897080" cy="2158920"/>
                </a:xfrm>
                <a:prstGeom prst="line">
                  <a:avLst/>
                </a:prstGeom>
                <a:ln w="50760">
                  <a:solidFill>
                    <a:srgbClr val="8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 txBox="1"/>
                <p:nvPr/>
              </p:nvSpPr>
              <p:spPr>
                <a:xfrm>
                  <a:off x="1692000" y="2315880"/>
                  <a:ext cx="4897080" cy="21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8"/>
              <p:cNvSpPr/>
              <p:nvPr/>
            </p:nvSpPr>
            <p:spPr>
              <a:xfrm>
                <a:off x="2773080" y="162864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A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7" name="Text Box 9"/>
              <p:cNvSpPr/>
              <p:nvPr/>
            </p:nvSpPr>
            <p:spPr>
              <a:xfrm>
                <a:off x="6279840" y="166824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D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8" name="Text Box 10"/>
              <p:cNvSpPr/>
              <p:nvPr/>
            </p:nvSpPr>
            <p:spPr>
              <a:xfrm>
                <a:off x="3963960" y="2676240"/>
                <a:ext cx="718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O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49" name="Text Box 11"/>
              <p:cNvSpPr/>
              <p:nvPr/>
            </p:nvSpPr>
            <p:spPr>
              <a:xfrm>
                <a:off x="5022720" y="4327200"/>
                <a:ext cx="7185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C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350" name="Text Box 12"/>
              <p:cNvSpPr/>
              <p:nvPr/>
            </p:nvSpPr>
            <p:spPr>
              <a:xfrm>
                <a:off x="1476360" y="4331880"/>
                <a:ext cx="718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990000"/>
                    </a:solidFill>
                    <a:latin typeface="黑体"/>
                    <a:ea typeface="黑体"/>
                  </a:rPr>
                  <a:t>B</a:t>
                </a:r>
                <a:endParaRPr b="0" lang="en-US" sz="4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2905200" y="2298600"/>
            <a:ext cx="2448000" cy="2160720"/>
            <a:chOff x="2905200" y="2298600"/>
            <a:chExt cx="2448000" cy="2160720"/>
          </a:xfrm>
        </p:grpSpPr>
        <p:sp>
          <p:nvSpPr>
            <p:cNvPr id="352" name="Line 13"/>
            <p:cNvSpPr/>
            <p:nvPr/>
          </p:nvSpPr>
          <p:spPr>
            <a:xfrm>
              <a:off x="2905200" y="2298600"/>
              <a:ext cx="2448000" cy="216072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905200" y="2298600"/>
              <a:ext cx="2448000" cy="216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90560" y="2308320"/>
            <a:ext cx="4897440" cy="2158920"/>
            <a:chOff x="1690560" y="2308320"/>
            <a:chExt cx="4897440" cy="2158920"/>
          </a:xfrm>
        </p:grpSpPr>
        <p:sp>
          <p:nvSpPr>
            <p:cNvPr id="355" name="Line 14"/>
            <p:cNvSpPr/>
            <p:nvPr/>
          </p:nvSpPr>
          <p:spPr>
            <a:xfrm flipH="1">
              <a:off x="1690560" y="2308320"/>
              <a:ext cx="4897440" cy="2158920"/>
            </a:xfrm>
            <a:prstGeom prst="line">
              <a:avLst/>
            </a:prstGeom>
            <a:ln w="507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690560" y="2308320"/>
              <a:ext cx="489744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57" name="AutoShape 15"/>
          <p:cNvSpPr/>
          <p:nvPr/>
        </p:nvSpPr>
        <p:spPr>
          <a:xfrm>
            <a:off x="1692360" y="2327400"/>
            <a:ext cx="4895640" cy="2160360"/>
          </a:xfrm>
          <a:prstGeom prst="parallelogram">
            <a:avLst>
              <a:gd name="adj" fmla="val 56653"/>
            </a:avLst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58" name="Group 16"/>
          <p:cNvGrpSpPr/>
          <p:nvPr/>
        </p:nvGrpSpPr>
        <p:grpSpPr>
          <a:xfrm>
            <a:off x="1476360" y="1670040"/>
            <a:ext cx="5462640" cy="3367440"/>
            <a:chOff x="1476360" y="1670040"/>
            <a:chExt cx="5462640" cy="3367440"/>
          </a:xfrm>
        </p:grpSpPr>
        <p:sp>
          <p:nvSpPr>
            <p:cNvPr id="359" name="Text Box 17"/>
            <p:cNvSpPr/>
            <p:nvPr/>
          </p:nvSpPr>
          <p:spPr>
            <a:xfrm>
              <a:off x="6289560" y="167004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D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0" name="Text Box 18"/>
            <p:cNvSpPr/>
            <p:nvPr/>
          </p:nvSpPr>
          <p:spPr>
            <a:xfrm>
              <a:off x="1476360" y="433404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61" name="Group 19"/>
          <p:cNvGrpSpPr/>
          <p:nvPr/>
        </p:nvGrpSpPr>
        <p:grpSpPr>
          <a:xfrm>
            <a:off x="2782800" y="1633680"/>
            <a:ext cx="2890800" cy="3398760"/>
            <a:chOff x="2782800" y="1633680"/>
            <a:chExt cx="2890800" cy="3398760"/>
          </a:xfrm>
        </p:grpSpPr>
        <p:sp>
          <p:nvSpPr>
            <p:cNvPr id="362" name="Text Box 20"/>
            <p:cNvSpPr/>
            <p:nvPr/>
          </p:nvSpPr>
          <p:spPr>
            <a:xfrm>
              <a:off x="3965400" y="269388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O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3" name="Text Box 21"/>
            <p:cNvSpPr/>
            <p:nvPr/>
          </p:nvSpPr>
          <p:spPr>
            <a:xfrm>
              <a:off x="5024520" y="4329000"/>
              <a:ext cx="649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64" name="Text Box 22"/>
            <p:cNvSpPr/>
            <p:nvPr/>
          </p:nvSpPr>
          <p:spPr>
            <a:xfrm>
              <a:off x="2782800" y="1633680"/>
              <a:ext cx="64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4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65" name="WordArt 23"/>
          <p:cNvSpPr txBox="1"/>
          <p:nvPr/>
        </p:nvSpPr>
        <p:spPr>
          <a:xfrm>
            <a:off x="250920" y="244440"/>
            <a:ext cx="273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看一看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2" dur="5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4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70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日期占位符 1"/>
          <p:cNvSpPr/>
          <p:nvPr/>
        </p:nvSpPr>
        <p:spPr>
          <a:xfrm>
            <a:off x="3016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6197-826C-411D-9EAC-9CD50DA40398}" type="datetime3">
              <a:rPr b="0" lang="zh-CN" sz="1400" spc="-1" strike="noStrike">
                <a:solidFill>
                  <a:srgbClr val="0000ff"/>
                </a:solidFill>
                <a:latin typeface="Arial"/>
              </a:rPr>
              <a:t>2026年7月28日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6553080" y="601992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5BF4-3F7A-4AE7-91C8-4CD283267B52}" type="slidenum">
              <a:rPr b="0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304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9" name="AutoShape 10"/>
          <p:cNvSpPr/>
          <p:nvPr/>
        </p:nvSpPr>
        <p:spPr>
          <a:xfrm>
            <a:off x="324000" y="260280"/>
            <a:ext cx="2016000" cy="1152720"/>
          </a:xfrm>
          <a:prstGeom prst="cloudCallout">
            <a:avLst>
              <a:gd name="adj1" fmla="val 53226"/>
              <a:gd name="adj2" fmla="val 93662"/>
            </a:avLst>
          </a:prstGeom>
          <a:solidFill>
            <a:srgbClr val="ff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468360" y="40464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结论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8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1" name="AutoShape 13"/>
          <p:cNvSpPr/>
          <p:nvPr/>
        </p:nvSpPr>
        <p:spPr>
          <a:xfrm>
            <a:off x="6443640" y="549360"/>
            <a:ext cx="1944720" cy="1224000"/>
          </a:xfrm>
          <a:prstGeom prst="wedgeRoundRectCallout">
            <a:avLst>
              <a:gd name="adj1" fmla="val -183712"/>
              <a:gd name="adj2" fmla="val 256486"/>
              <a:gd name="adj3" fmla="val 16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能证明     它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298440" y="2276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371520" y="4292640"/>
            <a:ext cx="7153200" cy="642600"/>
            <a:chOff x="371520" y="4292640"/>
            <a:chExt cx="7153200" cy="642600"/>
          </a:xfrm>
        </p:grpSpPr>
        <p:sp>
          <p:nvSpPr>
            <p:cNvPr id="374" name="Rectangle 15"/>
            <p:cNvSpPr/>
            <p:nvPr/>
          </p:nvSpPr>
          <p:spPr>
            <a:xfrm>
              <a:off x="684360" y="4292640"/>
              <a:ext cx="684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平行四边形的</a:t>
              </a:r>
              <a:r>
                <a:rPr b="1" lang="zh-CN" sz="3600" spc="-1" strike="noStrike" u="sng">
                  <a:solidFill>
                    <a:srgbClr val="ff0000"/>
                  </a:solidFill>
                  <a:uFillTx/>
                  <a:latin typeface="Arial"/>
                </a:rPr>
                <a:t>对角线互相平分</a:t>
              </a:r>
              <a:r>
                <a:rPr b="1" lang="en-US" sz="3600" spc="-1" strike="noStrike" u="sng">
                  <a:solidFill>
                    <a:srgbClr val="ff0000"/>
                  </a:solidFill>
                  <a:uFillTx/>
                  <a:latin typeface="Arial"/>
                </a:rPr>
                <a:t>.</a:t>
              </a:r>
              <a:endParaRPr b="0" lang="en-US" sz="36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371520" y="4437000"/>
              <a:ext cx="3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</a:rPr>
                <a:t>●</a:t>
              </a:r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376" name="Rectangle 19"/>
          <p:cNvSpPr/>
          <p:nvPr/>
        </p:nvSpPr>
        <p:spPr>
          <a:xfrm>
            <a:off x="468360" y="223200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绕它的中心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旋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0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后与自身重合，这时我们说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CD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黑体"/>
              </a:rPr>
              <a:t>中心对称图形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点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叫</a:t>
            </a:r>
            <a:r>
              <a:rPr b="1" lang="zh-CN" sz="3200" spc="-1" strike="noStrike">
                <a:solidFill>
                  <a:srgbClr val="a50021"/>
                </a:solidFill>
                <a:latin typeface="隶书"/>
                <a:ea typeface="黑体"/>
              </a:rPr>
              <a:t>对称中心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7" name="AutoShape 20"/>
          <p:cNvSpPr/>
          <p:nvPr/>
        </p:nvSpPr>
        <p:spPr>
          <a:xfrm>
            <a:off x="755640" y="2276640"/>
            <a:ext cx="358920" cy="288720"/>
          </a:xfrm>
          <a:prstGeom prst="parallelogram">
            <a:avLst>
              <a:gd name="adj" fmla="val 31079"/>
            </a:avLst>
          </a:prstGeom>
          <a:solidFill>
            <a:srgbClr val="ccecff">
              <a:alpha val="2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8" name="AutoShape 21"/>
          <p:cNvSpPr/>
          <p:nvPr/>
        </p:nvSpPr>
        <p:spPr>
          <a:xfrm>
            <a:off x="3564000" y="2781360"/>
            <a:ext cx="288720" cy="287280"/>
          </a:xfrm>
          <a:prstGeom prst="parallelogram">
            <a:avLst>
              <a:gd name="adj" fmla="val 25125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14:0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9:37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