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90A-CE4D-4970-8E76-5CA5ED7B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AD9-B485-49DB-B300-2C109E09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E3A-4E65-43D7-8999-0562BE1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92A-D923-44D2-99CB-F165FCF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686-9446-46A4-AD86-EC41354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811C-7E17-4540-9D4F-57588584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F8DE-5B9C-48FB-9757-68DF96F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F870-0266-4585-A32E-0C45A73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0144-98E5-4655-AFA1-05ED692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D4B-57AD-40D9-9B6A-A1400FF3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0E4-B585-4E11-9AC2-BFC21917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E292-1655-453E-8587-7790D82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FA1-2CA7-4A34-A06B-D0BC596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000D-FE83-488D-A577-0DD215F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09E-FB8F-416F-A238-CB37684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FF3B-B510-41D9-AB73-61332F2C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FE25-FB56-4E04-9F91-BB4CE5B1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FA1F-89CC-48C6-A2CC-53562452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664-0F4D-4942-86F5-7E14D21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B78-3A8C-40CE-8B15-18513E5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CD-96A9-4E33-AA32-A3C0752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9DB-488B-4193-AD8D-A37D29D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372-33AF-428A-A5D6-D451502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3BC-03EA-40A1-9C7E-8D56372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86F-311D-47D2-A3FE-8302A8AE6ED9}" type="datetime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EE5C-FC72-4B34-952A-219244930CE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5670-1DEE-4EBE-982D-381F22FCF2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83,22,&#24187;&#28783;&#29255; 22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76,11,&#24187;&#28783;&#29255; 11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67,15,&#24187;&#28783;&#29255; 15" TargetMode="External"/><Relationship Id="rId2" Type="http://schemas.openxmlformats.org/officeDocument/2006/relationships/hyperlink" Target="269,19,&#24187;&#28783;&#29255; 19" TargetMode="External"/><Relationship Id="rId3" Type="http://schemas.openxmlformats.org/officeDocument/2006/relationships/hyperlink" Target="268,17,&#24187;&#28783;&#29255; 17" TargetMode="External"/><Relationship Id="rId4" Type="http://schemas.openxmlformats.org/officeDocument/2006/relationships/hyperlink" Target="279,14,&#24187;&#28783;&#29255; 14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414360" y="1987560"/>
            <a:ext cx="842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起来不愿做奴隶的人们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文本框 6155"/>
          <p:cNvSpPr/>
          <p:nvPr/>
        </p:nvSpPr>
        <p:spPr>
          <a:xfrm>
            <a:off x="303120" y="5929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897280" y="3049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血战台儿庄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0" name="Picture 3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520" y="16765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171160" y="1600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宋体"/>
              </a:rPr>
              <a:t>背景（原因）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43000" y="2362320"/>
            <a:ext cx="71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台儿庄的重要战略位置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3" name="Picture 9" descr="BD15273_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9640" y="4797360"/>
            <a:ext cx="390600" cy="381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1523880" y="4648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经过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143000" y="335268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抗战形势：日本侵略者企图连接华北、华东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两大战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327672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26"/>
          <p:cNvSpPr/>
          <p:nvPr/>
        </p:nvSpPr>
        <p:spPr>
          <a:xfrm>
            <a:off x="1954800" y="13111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时间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地点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指挥官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战果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Text Box 1027"/>
          <p:cNvSpPr/>
          <p:nvPr/>
        </p:nvSpPr>
        <p:spPr>
          <a:xfrm>
            <a:off x="350532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下旬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1028"/>
          <p:cNvSpPr/>
          <p:nvPr/>
        </p:nvSpPr>
        <p:spPr>
          <a:xfrm>
            <a:off x="4374000" y="25146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山东台儿庄（徐州东北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Text Box 1029"/>
          <p:cNvSpPr/>
          <p:nvPr/>
        </p:nvSpPr>
        <p:spPr>
          <a:xfrm>
            <a:off x="3809880" y="3424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李宗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Text Box 1030"/>
          <p:cNvSpPr/>
          <p:nvPr/>
        </p:nvSpPr>
        <p:spPr>
          <a:xfrm>
            <a:off x="4340520" y="4616280"/>
            <a:ext cx="351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军大败溃逃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台儿庄战役消灭日军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AutoShape 1031"/>
          <p:cNvSpPr/>
          <p:nvPr/>
        </p:nvSpPr>
        <p:spPr>
          <a:xfrm>
            <a:off x="7010280" y="762120"/>
            <a:ext cx="838440" cy="99036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1" y="378374"/>
                </a:moveTo>
                <a:lnTo>
                  <a:pt x="320166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4"/>
                </a:lnTo>
                <a:lnTo>
                  <a:pt x="579179" y="612221"/>
                </a:lnTo>
                <a:lnTo>
                  <a:pt x="678118" y="990597"/>
                </a:lnTo>
                <a:lnTo>
                  <a:pt x="419100" y="756746"/>
                </a:lnTo>
                <a:lnTo>
                  <a:pt x="160082" y="990597"/>
                </a:lnTo>
                <a:lnTo>
                  <a:pt x="259021" y="612221"/>
                </a:lnTo>
                <a:lnTo>
                  <a:pt x="1" y="37837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90720" y="9907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414520" y="6508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黑体"/>
                <a:ea typeface="黑体"/>
              </a:rPr>
              <a:t>影  响：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1905120"/>
            <a:ext cx="7010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台儿庄战役是抗战以来中国国民党军队取得的重大胜利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它打击了日本侵略者的嚣张气焰，鼓舞了中国人民的抗战士气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26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台儿庄战役六十五周年纪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1027" descr="台儿庄战役纪念碑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46483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28"/>
          <p:cNvSpPr/>
          <p:nvPr/>
        </p:nvSpPr>
        <p:spPr>
          <a:xfrm>
            <a:off x="4024800" y="598500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战台儿庄纪念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Picture 1029" descr="4"/>
          <p:cNvPicPr/>
          <p:nvPr/>
        </p:nvPicPr>
        <p:blipFill>
          <a:blip r:embed="rId2"/>
          <a:stretch/>
        </p:blipFill>
        <p:spPr>
          <a:xfrm>
            <a:off x="3886200" y="1981080"/>
            <a:ext cx="4952880" cy="3157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30"/>
          <p:cNvSpPr/>
          <p:nvPr/>
        </p:nvSpPr>
        <p:spPr>
          <a:xfrm>
            <a:off x="6098040" y="518148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台儿庄大战纪念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81080" y="228600"/>
            <a:ext cx="56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百团大战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Picture 3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62120" y="16765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676520" y="1523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背景（原因）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914400" y="2590920"/>
            <a:ext cx="79246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、中国出现了严重的抗战困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日本加紧侵略中国，实行“囚笼政策”，分割围困敌后抗日根据地；在国际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法西斯轴心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取得暂时胜利。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99072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、投降主义思想的抬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日本对蒋介石进行威逼诱降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经过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1712880" y="192096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时间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990720" y="2895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指挥官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Text Box 1030"/>
          <p:cNvSpPr/>
          <p:nvPr/>
        </p:nvSpPr>
        <p:spPr>
          <a:xfrm>
            <a:off x="990720" y="3962520"/>
            <a:ext cx="28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主要目标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Text Box 1031"/>
          <p:cNvSpPr/>
          <p:nvPr/>
        </p:nvSpPr>
        <p:spPr>
          <a:xfrm>
            <a:off x="3657600" y="18795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4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Text Box 1032"/>
          <p:cNvSpPr/>
          <p:nvPr/>
        </p:nvSpPr>
        <p:spPr>
          <a:xfrm>
            <a:off x="3962520" y="2738520"/>
            <a:ext cx="2438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彭德怀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Text Box 1035"/>
          <p:cNvSpPr/>
          <p:nvPr/>
        </p:nvSpPr>
        <p:spPr>
          <a:xfrm>
            <a:off x="4869720" y="4800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破坏敌人的交通线，摧毁日伪军的据点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AutoShape 1036"/>
          <p:cNvSpPr/>
          <p:nvPr/>
        </p:nvSpPr>
        <p:spPr>
          <a:xfrm>
            <a:off x="6095880" y="9144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百团大战主要战绩表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38080" y="2514600"/>
          <a:ext cx="7467480" cy="20178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752480"/>
                <a:gridCol w="1295280"/>
                <a:gridCol w="1371600"/>
              </a:tblGrid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个半月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18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多次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万多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多公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近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30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3"/>
          <p:cNvSpPr/>
          <p:nvPr/>
        </p:nvSpPr>
        <p:spPr>
          <a:xfrm>
            <a:off x="108684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战役时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2611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战斗次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196520" y="2666880"/>
            <a:ext cx="1095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毙伤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日伪军人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5978160" y="2666880"/>
            <a:ext cx="729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破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交通线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7183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拔掉据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AutoShape 48"/>
          <p:cNvSpPr/>
          <p:nvPr/>
        </p:nvSpPr>
        <p:spPr>
          <a:xfrm>
            <a:off x="533520" y="9144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838080"/>
            <a:ext cx="390600" cy="381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981080" y="654120"/>
            <a:ext cx="299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imes New Roman"/>
                <a:ea typeface="宋体"/>
              </a:rPr>
              <a:t>影  响：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1828800"/>
            <a:ext cx="71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百团大战是抗战期间中国军队主动出击日军的一次最大规模的战役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486400" y="33526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19320" y="4038480"/>
            <a:ext cx="66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它提高了中国共产党和八路军的威望，坚定了全国人民抗战胜利的信心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-1065240" y="457200"/>
            <a:ext cx="77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彭德怀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873800" y="1172520"/>
            <a:ext cx="164268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谁敢横刀立马，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唯我彭大将军！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94320" y="4502880"/>
            <a:ext cx="66780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－毛泽东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1" name="Picture 5" descr="彭德怀"/>
          <p:cNvPicPr/>
          <p:nvPr/>
        </p:nvPicPr>
        <p:blipFill>
          <a:blip r:embed="rId1"/>
          <a:stretch/>
        </p:blipFill>
        <p:spPr>
          <a:xfrm>
            <a:off x="4876920" y="380880"/>
            <a:ext cx="3429000" cy="6150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6"/>
          <p:cNvSpPr/>
          <p:nvPr/>
        </p:nvSpPr>
        <p:spPr>
          <a:xfrm>
            <a:off x="762120" y="7621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828800" y="3808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众志成城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1371600"/>
          <a:ext cx="8153280" cy="4191120"/>
        </p:xfrm>
        <a:graphic>
          <a:graphicData uri="http://schemas.openxmlformats.org/drawingml/2006/table">
            <a:tbl>
              <a:tblPr/>
              <a:tblGrid>
                <a:gridCol w="1747800"/>
                <a:gridCol w="6405480"/>
              </a:tblGrid>
              <a:tr h="107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华文楷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  <a:ea typeface="华文楷体"/>
                        </a:rPr>
                        <a:t>代表人物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  <a:ea typeface="华文楷体"/>
                        </a:rPr>
                        <a:t>主要事迹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20"/>
          <p:cNvSpPr/>
          <p:nvPr/>
        </p:nvSpPr>
        <p:spPr>
          <a:xfrm flipH="1">
            <a:off x="913680" y="2743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"/>
              </a:rPr>
              <a:t>冼星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990720" y="3809880"/>
            <a:ext cx="142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徐悲鸿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1175040" y="48769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/>
              </a:rPr>
              <a:t>侯德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846960" y="2538360"/>
            <a:ext cx="32090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创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/>
              </a:rPr>
              <a:t>《黄河大合唱》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，鼓舞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中华民族的抗日战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2895480" y="358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创作反映爱国抗战精神的画举     办画展，资助抗战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971800" y="45720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发明联合制碱法，打破了抗战时期敌人对中国民族工业的封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2057400"/>
            <a:ext cx="752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起来 不愿做奴隶的人们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把我们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血肉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筑成我们新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长城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中华民族到了最危险的时候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每个人被迫发出最后的吼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起来 起来 起来 我们万众一心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冒着敌人的炮火 前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冒着敌人的炮火 前进 前进 前进 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314960" y="8380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义勇军进行曲》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Picture 5" descr="EN00354_"/>
          <p:cNvPicPr/>
          <p:nvPr/>
        </p:nvPicPr>
        <p:blipFill>
          <a:blip r:embed="rId1"/>
          <a:stretch/>
        </p:blipFill>
        <p:spPr>
          <a:xfrm>
            <a:off x="1219320" y="685800"/>
            <a:ext cx="11430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086000" y="228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隶书"/>
              </a:rPr>
              <a:t>小结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27440" y="2239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国民党战场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581280" y="2209680"/>
            <a:ext cx="27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血战台儿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574080" y="281952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938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月下旬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027440" y="342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共产党战场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00968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百团大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680640" y="4114800"/>
            <a:ext cx="19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940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月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191600" y="48006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社会各阶层民众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949560" y="4846680"/>
            <a:ext cx="47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冼星海、徐悲鸿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侯德榜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3360" y="11592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材料阅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40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战争的伟力之最深厚的根源，存在于民众之中。日本敢于欺负我们，主要的原因在于中国民众的无组织状态。克服了这一缺点，就把日本侵略者置于我们数万万站起来了的人民面前，使它像一匹野牛冲入火阵，我们一声也要把它吓一大跳，这匹野牛就非烧死不可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毛泽东选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468360" y="47973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为什么说只要中国的民众组织起来，就一定能将日本侵略者这匹野牛烧死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63680" y="582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你认为中国民众在抗战中组织起来了么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地雷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28412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埋点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89880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猜想敌人可能经过的地点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284120" y="3071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形式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917240" y="3124080"/>
            <a:ext cx="8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子母雷、连环雷 、钉子雷、碎石雷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铁夹子雷、头发丝雷等各种各样的土造地雷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284120" y="200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 Unicode MS"/>
                <a:ea typeface="宋体"/>
              </a:rPr>
              <a:t>原料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4750920" y="20574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 Unicode MS"/>
                <a:ea typeface="宋体"/>
              </a:rPr>
              <a:t>碎玻璃、生石灰、熟石灰粉和小钉子等 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7010280" y="541008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7238880" y="525780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7391520" y="472428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cubicBezTo>
                  <a:pt x="8" y="304"/>
                  <a:pt x="16" y="272"/>
                  <a:pt x="48" y="240"/>
                </a:cubicBezTo>
                <a:cubicBezTo>
                  <a:pt x="80" y="208"/>
                  <a:pt x="160" y="184"/>
                  <a:pt x="192" y="144"/>
                </a:cubicBezTo>
                <a:cubicBezTo>
                  <a:pt x="224" y="104"/>
                  <a:pt x="232" y="24"/>
                  <a:pt x="240" y="0"/>
                </a:cubicBezTo>
              </a:path>
            </a:pathLst>
          </a:custGeom>
          <a:noFill/>
          <a:ln w="57240">
            <a:solidFill>
              <a:srgbClr val="8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7467480" y="4495680"/>
            <a:ext cx="533520" cy="685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地道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地道战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0370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4370040" y="5867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特点：家家相连，村村相通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nzddzjlg3"/>
          <p:cNvPicPr/>
          <p:nvPr/>
        </p:nvPicPr>
        <p:blipFill>
          <a:blip r:embed="rId1"/>
          <a:stretch/>
        </p:blipFill>
        <p:spPr>
          <a:xfrm>
            <a:off x="3932280" y="479520"/>
            <a:ext cx="4830840" cy="3398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nzddzjlg2"/>
          <p:cNvPicPr/>
          <p:nvPr/>
        </p:nvPicPr>
        <p:blipFill>
          <a:blip r:embed="rId2"/>
          <a:stretch/>
        </p:blipFill>
        <p:spPr>
          <a:xfrm>
            <a:off x="304920" y="3352680"/>
            <a:ext cx="4267080" cy="30513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4"/>
          <p:cNvSpPr/>
          <p:nvPr/>
        </p:nvSpPr>
        <p:spPr>
          <a:xfrm>
            <a:off x="1143000" y="1600200"/>
            <a:ext cx="1905120" cy="1905120"/>
          </a:xfrm>
          <a:prstGeom prst="cloudCallout">
            <a:avLst>
              <a:gd name="adj1" fmla="val 9333"/>
              <a:gd name="adj2" fmla="val 9524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墙根下别有洞天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6553080" y="3429000"/>
            <a:ext cx="1676520" cy="1905120"/>
          </a:xfrm>
          <a:prstGeom prst="cloudCallout">
            <a:avLst>
              <a:gd name="adj1" fmla="val -30115"/>
              <a:gd name="adj2" fmla="val -9083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床板下有跷蹊？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冼星海"/>
          <p:cNvPicPr/>
          <p:nvPr/>
        </p:nvPicPr>
        <p:blipFill>
          <a:blip r:embed="rId1"/>
          <a:stretch/>
        </p:blipFill>
        <p:spPr>
          <a:xfrm>
            <a:off x="1805040" y="189000"/>
            <a:ext cx="4444920" cy="61722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752040" y="10616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人民音乐家冼星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588000" y="1197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冼星海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0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4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）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广东番禺人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他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3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创作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《黄河大合唱》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保卫黄河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Picture 3" descr="乐谱"/>
          <p:cNvPicPr/>
          <p:nvPr/>
        </p:nvPicPr>
        <p:blipFill>
          <a:blip r:embed="rId1"/>
          <a:stretch/>
        </p:blipFill>
        <p:spPr>
          <a:xfrm>
            <a:off x="6248520" y="990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音乐"/>
          <p:cNvPicPr/>
          <p:nvPr/>
        </p:nvPicPr>
        <p:blipFill>
          <a:blip r:embed="rId2"/>
          <a:stretch/>
        </p:blipFill>
        <p:spPr>
          <a:xfrm>
            <a:off x="6781680" y="1219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音乐"/>
          <p:cNvPicPr/>
          <p:nvPr/>
        </p:nvPicPr>
        <p:blipFill>
          <a:blip r:embed="rId3"/>
          <a:stretch/>
        </p:blipFill>
        <p:spPr>
          <a:xfrm>
            <a:off x="716292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音乐"/>
          <p:cNvPicPr/>
          <p:nvPr/>
        </p:nvPicPr>
        <p:blipFill>
          <a:blip r:embed="rId4"/>
          <a:stretch/>
        </p:blipFill>
        <p:spPr>
          <a:xfrm>
            <a:off x="754380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音乐"/>
          <p:cNvPicPr/>
          <p:nvPr/>
        </p:nvPicPr>
        <p:blipFill>
          <a:blip r:embed="rId5"/>
          <a:stretch/>
        </p:blipFill>
        <p:spPr>
          <a:xfrm>
            <a:off x="7924680" y="121932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221640" y="1828800"/>
            <a:ext cx="295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风在吼，马在叫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黄河在咆哮，黄河在咆哮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河西山岗万丈高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河东河北高梁熟了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万山丛中，抗日英雄真不少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青纱帐里，游击健儿逞英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端起了土枪洋枪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挥动着大刀长矛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卫家乡！保卫黄河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卫华北！保卫全中国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09480" y="5943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侯德榜"/>
          <p:cNvPicPr/>
          <p:nvPr/>
        </p:nvPicPr>
        <p:blipFill>
          <a:blip r:embed="rId1"/>
          <a:stretch/>
        </p:blipFill>
        <p:spPr>
          <a:xfrm>
            <a:off x="1158840" y="324000"/>
            <a:ext cx="4546800" cy="6095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08160" y="73728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隶书"/>
              </a:rPr>
              <a:t>科学家侯德榜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457200" y="4952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705640" y="990720"/>
            <a:ext cx="343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侯德榜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89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97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福建闽侯人。他创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侯氏制碱法”，从此，中国的制碱化学工业跃居世界前列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徐悲鸿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4952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080520" y="380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爱国画家徐悲鸿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4495680" y="281952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徐悲鸿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89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5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江苏宜兴人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代表作《愚公移山》、《奔马图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他的画融合中西，有独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的成就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6E8-C322-4320-85AD-8F09660B037E}" type="slidenum">
              <a:rPr b="0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990720" y="990720"/>
            <a:ext cx="7162560" cy="1752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同盟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英、法、美、中等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343400" y="2819520"/>
            <a:ext cx="485640" cy="1214280"/>
          </a:xfrm>
          <a:prstGeom prst="upDownArrow">
            <a:avLst>
              <a:gd name="adj1" fmla="val 50000"/>
              <a:gd name="adj2" fmla="val 4998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990720" y="4191120"/>
            <a:ext cx="7238880" cy="1676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法西斯轴心国（德、意、日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28600" y="6172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军马图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841320" y="1828800"/>
            <a:ext cx="100332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《奔马图》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990720" y="54100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1476360" y="1268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宋体"/>
              </a:rPr>
              <a:t>面对外国列强的野蛮行径，中国人民进行了不屈不饶的斗争。为了不沦为亡国奴，为了祖国的强大，一百多年来中华儿女不怕牺牲，英勇反抗外来侵略者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3836160" y="9018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★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林则徐与虎门硝烟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258920" y="16398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百多年前葡萄牙、荷兰、英国等列强开始向中国输入鸦片。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中，英国走私到中国的鸦片就有四十多箱。据估计，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时，中国已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万人吸食鸦片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Picture 4" descr="20090828154253449"/>
          <p:cNvPicPr/>
          <p:nvPr/>
        </p:nvPicPr>
        <p:blipFill>
          <a:blip r:embed="rId1"/>
          <a:stretch/>
        </p:blipFill>
        <p:spPr>
          <a:xfrm>
            <a:off x="2771640" y="3898800"/>
            <a:ext cx="3333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2556000" y="3860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1116000" y="26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鸦片对中国的危害，引起了许多正直的中国官员的忧虑。他们强烈要求禁止鸦片进口。爱国政治家林则徐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85-185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就是其中的一个代表。他上书皇帝：如果不禁止鸦片输入中国，那么，数十年后，中国不仅“几无可以御敌之兵，且无可以充饷之银”。</a:t>
            </a: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月林则徐到达广州，他向外国鸦片贩子表明了禁鸦片的坚决意志：“若鸦片一日未绝，本大臣一日不回，誓与此事相始终，断无中止之理。”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外国鸦片贩子拒缴鸦片，林则徐便采取断然措施，将外国商船上的鸦片收缴，并派兵包围商馆，不让一个外国鸦片贩子溜走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虎门海滩上人山人海。林则徐亲自指挥监督销毁鸦片。销毁鸦片的行动进行了二十多天。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3" descr="01300000329092124400369765944_s"/>
          <p:cNvPicPr/>
          <p:nvPr/>
        </p:nvPicPr>
        <p:blipFill>
          <a:blip r:embed="rId1"/>
          <a:stretch/>
        </p:blipFill>
        <p:spPr>
          <a:xfrm>
            <a:off x="1739880" y="359568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6d1340becf30a82855200973b3082191"/>
          <p:cNvPicPr/>
          <p:nvPr/>
        </p:nvPicPr>
        <p:blipFill>
          <a:blip r:embed="rId2"/>
          <a:stretch/>
        </p:blipFill>
        <p:spPr>
          <a:xfrm>
            <a:off x="4475160" y="3306600"/>
            <a:ext cx="230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元里抗英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1197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84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2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，英兵到广州的三元里一带进行骚扰，霸占民房，调戏妇女。英军的暴行激怒了当地的居民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为了赶走侵略军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，一场轰轰烈烈的抗英斗争展开了。一声锣响，大约二万五千人集合在“平英团”大旗下不仅三元里一带的乡民，就连广州的工人也都赶来参加，浩浩荡荡，阵容甚盛。他们用土枪、土炮、盾牌、锄头、镰锹等，与英军作战。可谓“刀斧犁头在手皆成兵器，儿童妇女喊声亦助兵威”。三元里之战，英军惨败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英军退出广州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这是一次这个人民自发组织抗击外国侵略者的战斗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Picture 4" descr="SYLRMKYDZ_0"/>
          <p:cNvPicPr/>
          <p:nvPr/>
        </p:nvPicPr>
        <p:blipFill>
          <a:blip r:embed="rId1"/>
          <a:stretch/>
        </p:blipFill>
        <p:spPr>
          <a:xfrm>
            <a:off x="2556000" y="43243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海海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89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年日本对我国发动了侵略战争，史称“甲午战争”。黄海海战是甲午战争中悲壮的一幕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的一天，我国北洋舰队在鸭绿江口遭到日本舰队袭击，被迫应战。在致远舰多处中弹、严重倾斜的危机时刻，邓世昌下令开足马力向日军主力舰冲去，试图撞沉日舰。日军见势不妙，边逃边施放鱼雷。致远舰不幸被鱼雷击中，被炸为两截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邓世昌和舰上二百多名官员壮烈殉国。黄海海战历时五个多小时，重创五艘日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Picture 4" descr="150R35551-0"/>
          <p:cNvPicPr/>
          <p:nvPr/>
        </p:nvPicPr>
        <p:blipFill>
          <a:blip r:embed="rId1"/>
          <a:stretch/>
        </p:blipFill>
        <p:spPr>
          <a:xfrm>
            <a:off x="971640" y="384804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717041_n"/>
          <p:cNvPicPr/>
          <p:nvPr/>
        </p:nvPicPr>
        <p:blipFill>
          <a:blip r:embed="rId2"/>
          <a:stretch/>
        </p:blipFill>
        <p:spPr>
          <a:xfrm>
            <a:off x="4697280" y="3614760"/>
            <a:ext cx="3888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051"/>
          <p:cNvSpPr/>
          <p:nvPr/>
        </p:nvSpPr>
        <p:spPr>
          <a:xfrm>
            <a:off x="1696680" y="1600200"/>
            <a:ext cx="60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的和平解决，标志着国共两党第二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合作的初步形成，预示了团结抗日新局面的到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ext Box 2052"/>
          <p:cNvSpPr/>
          <p:nvPr/>
        </p:nvSpPr>
        <p:spPr>
          <a:xfrm>
            <a:off x="838080" y="4114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月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日， 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事变的爆发，标志着全国性的抗日战争开始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WordArt 2054"/>
          <p:cNvSpPr txBox="1"/>
          <p:nvPr/>
        </p:nvSpPr>
        <p:spPr>
          <a:xfrm>
            <a:off x="106668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西安事变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2055"/>
          <p:cNvSpPr txBox="1"/>
          <p:nvPr/>
        </p:nvSpPr>
        <p:spPr>
          <a:xfrm>
            <a:off x="129528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93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WordArt 2056"/>
          <p:cNvSpPr txBox="1"/>
          <p:nvPr/>
        </p:nvSpPr>
        <p:spPr>
          <a:xfrm>
            <a:off x="2700360" y="4005360"/>
            <a:ext cx="26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WordArt 2057"/>
          <p:cNvSpPr txBox="1"/>
          <p:nvPr/>
        </p:nvSpPr>
        <p:spPr>
          <a:xfrm>
            <a:off x="3564000" y="4005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WordArt 2058"/>
          <p:cNvSpPr txBox="1"/>
          <p:nvPr/>
        </p:nvSpPr>
        <p:spPr>
          <a:xfrm>
            <a:off x="4572000" y="4005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卢沟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7:31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7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5819000000000001024120</vt:lpwstr>
  </property>
</Properties>
</file>