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5.jpeg" ContentType="image/jpeg"/>
  <Override PartName="/ppt/media/image14.gif" ContentType="image/gif"/>
  <Override PartName="/ppt/media/image13.jpeg" ContentType="image/jpeg"/>
  <Override PartName="/ppt/media/image4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projctor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3C7-7A87-49CC-A0F0-A1AA1314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8EA-205D-42BD-AC9E-6E8B1B6B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CCB0B-EB6A-40B6-94AD-42AA90A7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9574-A75B-4D1F-9368-958E9ED2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50EB5-6FFB-4060-B826-9114DC4C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E4C4B-491A-4B00-BCFF-D1FFE169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2370F-D1A1-4378-9969-AF57077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E341B-8FCC-44A8-8625-523792C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08E64-67DA-4FC0-B00F-C6F46BDD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75AC8-CE0C-4672-9628-7358834C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8FB70-7188-45C6-AD0C-6AE410EA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29BE-77D3-47E8-A508-742584A9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167-90EA-4096-BCA6-7536061D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3980A-6EEF-431B-A919-B9B26517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F983B-9AF7-4086-88B6-A4780D1B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A0CD4-6DC7-4F6A-BC11-FE2A3B03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27082-891A-4644-A5A2-8E59C8C4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54713-5E09-4D9A-B67E-242B3EDF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20DC4-E1E0-4503-9325-0722D29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E8D8B-B89D-4714-A971-C7EE2585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10A92-7AC5-49A1-9C44-A1341DE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FC969-FAB3-4D36-8748-91879E5B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FDDDC-7DD9-45FD-9AA2-6829E88C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510-B1CE-4108-A057-3AC36547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C861F-3E4C-4C99-9B91-7DF5B623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FA2DD-484D-4F1D-AAD6-32AF7487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98996-4A29-49DC-9B09-C527D283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61C1B-827A-47C0-9612-0AFFA4B7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61535-9CB6-4FFA-B8C2-484ED4E8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6D20C-BF90-4FD6-9433-537DBBD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88705-A280-45E7-A495-A1B0DFC6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DCFA4-F1F0-4FD3-AFB2-693A71B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C8400-08D7-4001-BB9C-1AE8094D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4E810-74DD-4723-BC29-06FEA65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A4A6-8C82-4CB9-AADD-EC69E611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1AF52-0EC3-4AB9-9F6E-7376EF90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DF483-574F-48F3-865D-1895C27F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8F6BE-1E42-488A-AA2A-4CE3A00A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E0565-3E09-4071-A417-13B3B249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4F626-3DD2-4B12-AF3B-9C498F9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3C573-CDF4-44BC-B184-5BDCF7B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F3A92-F1C6-426B-8497-E2CEC185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FF647-75CE-4F5B-8C6F-58716CF1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113A2-7320-4516-A663-EAC8C242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6DB65-3E97-41E8-A707-3873C626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BE11-6946-4522-8035-E52B8B7F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769EA-4D27-48B6-A3B5-2CE5716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A7BF2-11AD-47F0-952B-18AF659B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573C1-3862-4DE3-81C6-CBD9678D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159B-6233-4290-B0F4-C1DBB8A6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8FD95-DF07-40B6-A996-D73945BF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E7E32-E8DD-4E01-A14C-9A58FE5F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AC41A-95F6-4F9C-8DF2-D01AB367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14D2C-EE91-4465-BD4B-2691070F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38996-028C-4290-B57B-4DA70742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055E5-A014-49A4-99C6-49B2F125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10AA-C9A6-4B1D-A1C9-6F99A276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9E9B7-835A-4533-82B2-A698111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FFF26-E9CD-422A-AA2F-8C8E2FF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38646-FDE2-40D0-B155-83E51D7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2E1BD-BE6A-456C-AA40-DBFF05B6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879E8-0FDB-49A1-B00E-D5034C0F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B7197-86DC-4A49-AD69-9944329A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9D1A8-21AE-4116-8B8E-B90B07C9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B22C1-6A1B-4EA5-9E85-EE70220D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16771-AFE0-4562-9339-78CFA11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A815B-4561-4FD3-AAC5-3D68FE9D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772D-072A-4634-8B5E-9D8F2F1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62F0F-B9DA-4639-BAAC-DD349D0D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7A6EE-9E1A-47D6-9112-E3DD7F0C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7D8D9-2346-4674-ACF8-9719C9F3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DB523-BD17-4390-89A5-D29C3A5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44CC3-41F8-48B8-BF2B-B19D059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5CB13-B218-418E-95FF-59D0D68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01F48-378C-48D8-95CF-9ED42ED4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52863-8A7C-4A58-A0CF-F8166852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9FEC3-BB67-4AFF-9AE9-8AD67AE0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C6D02-9215-409F-964C-88A7862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1C3-EB04-4629-A165-B72F8B9A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75411-1293-431F-BCC3-67B7F9AC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9C368-7CF6-49A4-A94A-0657559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95F21-AD8C-4686-9F32-53A9A8E6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96209-1F8C-437A-A32B-845766B0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B8D5A-41D9-4A28-87F3-169EF074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44DAA-4783-4167-BB80-B4CD30D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F64CF-C41F-4D31-987F-78322A09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B9505-212F-44C0-8D41-74AA37E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92EB7-8628-488A-B3D2-A3A42837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566CD-6E51-4AE0-BDB6-C87E3052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A120-4FC9-40F7-8928-13C508BC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CEA97-D96A-49C9-8304-8F2BA3A0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CAB-DB80-4CB9-AC45-466ACDB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99D-20CC-4A90-9A22-30E2C99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54EF-07D7-4DAA-AE85-8ED7E06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CD14-60A1-411D-BE3D-99172E3B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0EA-477F-4877-87FE-692B352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F33A-0664-4D02-9FC6-42E5E3CF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7DCA-1EDC-4CCA-8C43-87AB7E57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01B4-44F0-4C17-AB2A-28F84DCA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F698-F711-466C-B8E7-1FD31C81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49C9-4825-4CB3-9000-6C0CE97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8A99-07C0-484A-9659-A11AB2B0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B7AA-4C1F-4064-95D6-D73A8647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605-6223-4615-9067-339B384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C252-3A54-403F-ADA2-D7F7A402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C9D9-6AD4-4DFB-BB7A-D6DF70C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F0C4-69E2-4A2A-83C1-FF300FE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5EC2-06A6-4604-AB96-59C15C59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8AC5-E763-4A79-AB59-14BE0340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7861-B61C-4954-9920-111DE1CB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439F-BB89-448C-B101-D4003514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B55A-4550-44C4-B763-F43ED23E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37E4-9538-441D-BDCD-7A17DD74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D4A4-4889-4EC8-A8AA-F2A42FE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133-CB23-4765-A7B6-3A825E0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00E2-D997-4764-9C51-F20B94F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AB8C-E90C-4FA0-AA68-07AFCD0F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23BF-CB59-4DA5-B881-16DF7962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2B2E-8E94-4FEC-ABFF-4303618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7609-CDE1-4A41-8AC4-39BC2B1C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C97A-D2C8-442A-9CFE-3A1D2DD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2DC2-CAC2-415D-8CF0-339DFD2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35AC-E580-45C5-AEF4-6648A816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BC81-0FE4-4B8B-866F-48E9132C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56C05-EF8C-4363-8109-911BA19E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64E-A820-4E76-A909-C9906884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0551-B13F-4917-B9C4-F9F061CB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2EAB-8F1D-466E-BB5D-3986094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93A5-EC26-4AE1-8AB2-78BB50E0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1073D-3697-4C1E-BCEF-F00778E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6631-2EE5-4CB8-B088-7338A969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8D67-A2A0-4B77-8747-F2BF47A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EEF8-F1C2-4139-8879-51928994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7509-C880-4850-B1D6-5AEFF954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343C-9D05-4119-B514-FC4FA333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540E-A758-49E0-B45E-69D48B53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DBC-76F6-4904-AB10-46856BC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42DF-6551-46B2-B28E-F7D21057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9E880-6DFF-4C09-9F52-15DAD575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40D48-F72F-457D-AC42-88D93DF0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8EF5-715A-4749-9997-7A7BC272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9C76-DC3C-409F-9025-7AA5C0E5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13D19-BA96-4E6E-9AC9-75C2279C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3462D-8057-4A92-9660-41FFB5A7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683B-E19F-4896-BFCF-02D5F2A3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9B5BD-CAD0-4385-9E6E-CFA694E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7811-E9E7-4859-B562-54F92F8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953-EAA3-4F83-A045-F9A7C03A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67ED-042C-40E4-ABE0-FE90AFBB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93A7-73AF-4216-BEB0-1D5FB431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78D3-92AB-4C93-8261-8408F9E0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101DF-FCC6-4278-B8C1-B00CC412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2D778-BAC0-4F72-8E7C-B9D25F83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4280-8CC4-476C-918E-DD99DBD2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20CE0-6272-481B-B520-D5B0F00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E9AC2-C93D-4FB5-875B-91FD54FD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D5184-8BCD-4A9E-ADC1-21DD6D23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3B24-099C-48A4-90CF-160D958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2AE-92E0-43A9-BCC4-EE0A531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97E1-B3B0-4A80-AAED-04CB7BC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C02A6-1220-4C4A-B70D-4031684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C507E-3087-42CD-B08C-C4FF5C1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204D-D7B9-4CA8-AA5A-8DE1049A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1AA4-7552-49D1-AD4C-BA3073E0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ED43E-5113-41CB-B36D-05FB65C5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F0B08-6D9B-4436-B83C-E18FBA1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5519-2C4B-4AFC-9995-D405B0E7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13F7-BA48-4C29-B941-6F6352A5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5C4CB-07BF-4C65-B94E-5B542EB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EDE-EC47-4C35-9525-2A6F137A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8C2A-3934-4360-BAF9-C0CF0ECC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DB30E-BE67-4597-BB07-726BDFCC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CCD9-2034-40E5-875E-F87FD78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20CFA-8245-432D-BBFD-6AF91F60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CA9CE-1C56-4A71-9753-5544D725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4D2A6-C4F6-45FF-98EB-7C23ABCE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CD811-CADC-4455-9CAF-20DA03E6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3C343-C0A1-4A0C-8D63-2E94FECA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6C70-4F45-4EA0-BE93-8DEF10D5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8249D-281B-4630-B89D-DD9CD1F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AF14-2DBC-4176-8093-4AE611BDED4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E58A-407C-436C-B8CA-E665A3C0FFDF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1B19-85F9-4371-BE72-2D3862B3FF96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CB4D-56A4-4DCA-90CF-2220EC241599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373A-2CD2-4881-98F0-0F4E7B1D32C7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D15F-CA28-4961-BF18-101A7F8CA7ED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BBC2-E719-4872-A5E7-48859FAF5305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8AB7-3A99-4FBE-A0F8-920D216FCA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6C56-2816-41D8-94D8-79C51EE84A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DE00-60FB-4BF3-A969-CFEFB0A6DB64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0F2-E1AE-4CC1-8CA7-5EEC6059E4CC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922F-F0AB-4EAA-863E-2E0B5BCF0099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28A5-B67A-4E61-A7DF-D1F72394D090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80A-78D6-4F20-95CE-46F5682CBD98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A43B-21ED-4E25-A6AD-1930F5E8B2B0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1186920" y="26370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宋体"/>
                <a:ea typeface="宋体"/>
              </a:rPr>
              <a:t>情趣与兴趣课件</a:t>
            </a:r>
            <a:r>
              <a:rPr b="1" lang="en-US" sz="4000" spc="-1" strike="noStrike">
                <a:solidFill>
                  <a:srgbClr val="27277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72776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8" name="WordArt 3"/>
          <p:cNvSpPr txBox="1"/>
          <p:nvPr/>
        </p:nvSpPr>
        <p:spPr>
          <a:xfrm>
            <a:off x="1187280" y="1347840"/>
            <a:ext cx="648036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华文新魏"/>
              </a:rPr>
              <a:t>第七课  品味生活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华文新魏"/>
              <a:ea typeface="华文新魏"/>
            </a:endParaRPr>
          </a:p>
        </p:txBody>
      </p:sp>
      <p:sp>
        <p:nvSpPr>
          <p:cNvPr id="61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7277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7277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44080" y="31417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        </a:t>
            </a:r>
            <a:r>
              <a:rPr b="1" lang="zh-CN" sz="4800" spc="-1" strike="noStrike">
                <a:solidFill>
                  <a:srgbClr val="272776"/>
                </a:solidFill>
                <a:latin typeface="Century Gothic"/>
                <a:ea typeface="幼圆"/>
              </a:rPr>
              <a:t>所有的情趣都可以使我们的神经得以放松，促进我们健康成长吗？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659" name="Picture 3" descr="未命名"/>
          <p:cNvPicPr/>
          <p:nvPr/>
        </p:nvPicPr>
        <p:blipFill>
          <a:blip r:embed="rId1"/>
          <a:stretch/>
        </p:blipFill>
        <p:spPr>
          <a:xfrm>
            <a:off x="5796000" y="1128600"/>
            <a:ext cx="1400040" cy="1762200"/>
          </a:xfrm>
          <a:prstGeom prst="rect">
            <a:avLst/>
          </a:prstGeom>
          <a:ln w="0">
            <a:noFill/>
          </a:ln>
        </p:spPr>
      </p:pic>
      <p:sp>
        <p:nvSpPr>
          <p:cNvPr id="660" name="WordArt 4"/>
          <p:cNvSpPr txBox="1"/>
          <p:nvPr/>
        </p:nvSpPr>
        <p:spPr>
          <a:xfrm>
            <a:off x="611280" y="692280"/>
            <a:ext cx="4114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合作 展示交流四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690560" y="227484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2776"/>
                </a:solidFill>
                <a:latin typeface="Arial"/>
              </a:rPr>
              <a:t>情趣</a:t>
            </a:r>
            <a:endParaRPr b="0" lang="en-US" sz="4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4067280" y="1916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高雅的生活情趣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4138560" y="2924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庸俗的生活情趣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3851280" y="205884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Century Gothic"/>
              </a:rPr>
              <a:t>高雅生活情趣</a:t>
            </a:r>
            <a:r>
              <a:rPr b="1" lang="zh-CN" sz="2800" spc="-1" strike="noStrike">
                <a:solidFill>
                  <a:srgbClr val="9900cc"/>
                </a:solidFill>
                <a:latin typeface="Century Gothic"/>
              </a:rPr>
              <a:t>（为什么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6" name="Oval 3"/>
          <p:cNvSpPr/>
          <p:nvPr/>
        </p:nvSpPr>
        <p:spPr>
          <a:xfrm>
            <a:off x="826920" y="1197000"/>
            <a:ext cx="342900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sq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pic>
        <p:nvPicPr>
          <p:cNvPr id="667" name="Picture 4" descr="爸爸不在家的时候"/>
          <p:cNvPicPr/>
          <p:nvPr/>
        </p:nvPicPr>
        <p:blipFill>
          <a:blip r:embed="rId2"/>
          <a:srcRect l="0" t="1979" r="3202" b="15029"/>
          <a:stretch/>
        </p:blipFill>
        <p:spPr>
          <a:xfrm>
            <a:off x="5508720" y="3789360"/>
            <a:ext cx="3166920" cy="30686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5" descr="DSC04344"/>
          <p:cNvPicPr/>
          <p:nvPr/>
        </p:nvPicPr>
        <p:blipFill>
          <a:blip r:embed="rId3"/>
          <a:stretch/>
        </p:blipFill>
        <p:spPr>
          <a:xfrm>
            <a:off x="5219640" y="1143000"/>
            <a:ext cx="3281400" cy="24606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" descr="u=905336235,2204298400&amp;fm=23&amp;gp=0"/>
          <p:cNvPicPr/>
          <p:nvPr/>
        </p:nvPicPr>
        <p:blipFill>
          <a:blip r:embed="rId4"/>
          <a:stretch/>
        </p:blipFill>
        <p:spPr>
          <a:xfrm>
            <a:off x="755640" y="4005360"/>
            <a:ext cx="4032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“载誉”归来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89520" y="404640"/>
            <a:ext cx="4398840" cy="33116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比阔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3284640"/>
            <a:ext cx="3564000" cy="3139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闹腾一整夜 进了四道门"/>
          <p:cNvPicPr/>
          <p:nvPr/>
        </p:nvPicPr>
        <p:blipFill>
          <a:blip r:embed="rId3"/>
          <a:stretch/>
        </p:blipFill>
        <p:spPr>
          <a:xfrm>
            <a:off x="4716360" y="3645000"/>
            <a:ext cx="3457800" cy="2876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"/>
          <p:cNvSpPr/>
          <p:nvPr/>
        </p:nvSpPr>
        <p:spPr>
          <a:xfrm>
            <a:off x="1116000" y="2852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吸毒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04000" y="3141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酗酒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8101080" y="4365720"/>
            <a:ext cx="86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腐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败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2556000" y="3284640"/>
            <a:ext cx="410364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庸俗的情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为什么）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3564000" y="458136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比挥霍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pic>
        <p:nvPicPr>
          <p:cNvPr id="678" name="Picture 10" descr="u=462240691,661154188&amp;fm=23&amp;gp=0"/>
          <p:cNvPicPr/>
          <p:nvPr/>
        </p:nvPicPr>
        <p:blipFill>
          <a:blip r:embed="rId4"/>
          <a:stretch/>
        </p:blipFill>
        <p:spPr>
          <a:xfrm>
            <a:off x="324000" y="260280"/>
            <a:ext cx="3456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1258920" y="476280"/>
            <a:ext cx="72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阅读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P7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的案例，回答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晶晶和丽丽对生活情趣的追求有什么不同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两种不同的生活情趣观，对她们个人的生活和学习会有什么不同的影响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116000" y="306864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答：晶晶追求的是高雅情趣；丽丽追求的是庸俗情趣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023840" y="4653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答：晶晶：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P73 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①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 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②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高雅情趣的作用；                                       丽丽：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P74AB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庸俗情趣的危害。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468360" y="2565360"/>
            <a:ext cx="7942320" cy="3219480"/>
            <a:chOff x="468360" y="2565360"/>
            <a:chExt cx="7942320" cy="3219480"/>
          </a:xfrm>
        </p:grpSpPr>
        <p:sp>
          <p:nvSpPr>
            <p:cNvPr id="683" name="Text Box 3"/>
            <p:cNvSpPr/>
            <p:nvPr/>
          </p:nvSpPr>
          <p:spPr>
            <a:xfrm>
              <a:off x="7559280" y="256536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4" name="Text Box 4"/>
            <p:cNvSpPr/>
            <p:nvPr/>
          </p:nvSpPr>
          <p:spPr>
            <a:xfrm>
              <a:off x="2122560" y="2588400"/>
              <a:ext cx="263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练法轮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468360" y="2588400"/>
              <a:ext cx="16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旅游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6" name="Text Box 6"/>
            <p:cNvSpPr/>
            <p:nvPr/>
          </p:nvSpPr>
          <p:spPr>
            <a:xfrm>
              <a:off x="5354640" y="258840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练书法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7" name="Text Box 7"/>
            <p:cNvSpPr/>
            <p:nvPr/>
          </p:nvSpPr>
          <p:spPr>
            <a:xfrm>
              <a:off x="1437480" y="38642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8" name="Text Box 8"/>
            <p:cNvSpPr/>
            <p:nvPr/>
          </p:nvSpPr>
          <p:spPr>
            <a:xfrm>
              <a:off x="3758400" y="502056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看文学名著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9" name="Text Box 9"/>
            <p:cNvSpPr/>
            <p:nvPr/>
          </p:nvSpPr>
          <p:spPr>
            <a:xfrm>
              <a:off x="3423960" y="38642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弹琴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0" name="Text Box 10"/>
            <p:cNvSpPr/>
            <p:nvPr/>
          </p:nvSpPr>
          <p:spPr>
            <a:xfrm>
              <a:off x="5991840" y="386424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饲养小动物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1" name="Text Box 11"/>
            <p:cNvSpPr/>
            <p:nvPr/>
          </p:nvSpPr>
          <p:spPr>
            <a:xfrm>
              <a:off x="1603080" y="49806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酗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2" name="Text Box 12"/>
            <p:cNvSpPr/>
            <p:nvPr/>
          </p:nvSpPr>
          <p:spPr>
            <a:xfrm>
              <a:off x="7393680" y="49975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赌博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693" name="WordArt 13"/>
          <p:cNvSpPr txBox="1"/>
          <p:nvPr/>
        </p:nvSpPr>
        <p:spPr>
          <a:xfrm>
            <a:off x="1187280" y="62064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火眼金睛辨雅俗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694" name="Picture 14" descr="孙悟空"/>
          <p:cNvPicPr/>
          <p:nvPr/>
        </p:nvPicPr>
        <p:blipFill>
          <a:blip r:embed="rId1"/>
          <a:stretch/>
        </p:blipFill>
        <p:spPr>
          <a:xfrm>
            <a:off x="7596360" y="476280"/>
            <a:ext cx="914400" cy="1303200"/>
          </a:xfrm>
          <a:prstGeom prst="rect">
            <a:avLst/>
          </a:prstGeom>
          <a:ln w="0">
            <a:noFill/>
          </a:ln>
        </p:spPr>
      </p:pic>
      <p:sp>
        <p:nvSpPr>
          <p:cNvPr id="695" name="WordArt 15"/>
          <p:cNvSpPr txBox="1"/>
          <p:nvPr/>
        </p:nvSpPr>
        <p:spPr>
          <a:xfrm>
            <a:off x="777240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96" name="文本框 8199"/>
          <p:cNvSpPr/>
          <p:nvPr/>
        </p:nvSpPr>
        <p:spPr>
          <a:xfrm>
            <a:off x="1581120" y="2122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468360" y="2637000"/>
            <a:ext cx="7992720" cy="3110760"/>
            <a:chOff x="468360" y="2637000"/>
            <a:chExt cx="7992720" cy="3110760"/>
          </a:xfrm>
        </p:grpSpPr>
        <p:sp>
          <p:nvSpPr>
            <p:cNvPr id="698" name="Text Box 3"/>
            <p:cNvSpPr/>
            <p:nvPr/>
          </p:nvSpPr>
          <p:spPr>
            <a:xfrm>
              <a:off x="7094160" y="2637000"/>
              <a:ext cx="136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9" name="Text Box 4"/>
            <p:cNvSpPr/>
            <p:nvPr/>
          </p:nvSpPr>
          <p:spPr>
            <a:xfrm>
              <a:off x="2513520" y="265932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练法轮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0" name="Text Box 5"/>
            <p:cNvSpPr/>
            <p:nvPr/>
          </p:nvSpPr>
          <p:spPr>
            <a:xfrm>
              <a:off x="468360" y="2659320"/>
              <a:ext cx="159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旅游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1" name="Text Box 6"/>
            <p:cNvSpPr/>
            <p:nvPr/>
          </p:nvSpPr>
          <p:spPr>
            <a:xfrm>
              <a:off x="5195880" y="265932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练书法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2" name="Text Box 7"/>
            <p:cNvSpPr/>
            <p:nvPr/>
          </p:nvSpPr>
          <p:spPr>
            <a:xfrm>
              <a:off x="1411920" y="3878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3" name="Text Box 8"/>
            <p:cNvSpPr/>
            <p:nvPr/>
          </p:nvSpPr>
          <p:spPr>
            <a:xfrm>
              <a:off x="3662280" y="498348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看文学名著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4" name="Text Box 9"/>
            <p:cNvSpPr/>
            <p:nvPr/>
          </p:nvSpPr>
          <p:spPr>
            <a:xfrm>
              <a:off x="3326760" y="3878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弹琴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5" name="Text Box 10"/>
            <p:cNvSpPr/>
            <p:nvPr/>
          </p:nvSpPr>
          <p:spPr>
            <a:xfrm>
              <a:off x="5817960" y="387828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饲养小动物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6" name="Text Box 11"/>
            <p:cNvSpPr/>
            <p:nvPr/>
          </p:nvSpPr>
          <p:spPr>
            <a:xfrm>
              <a:off x="1571400" y="49453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酗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7" name="Text Box 12"/>
            <p:cNvSpPr/>
            <p:nvPr/>
          </p:nvSpPr>
          <p:spPr>
            <a:xfrm>
              <a:off x="7158960" y="49453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赌博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708" name="WordArt 13"/>
          <p:cNvSpPr txBox="1"/>
          <p:nvPr/>
        </p:nvSpPr>
        <p:spPr>
          <a:xfrm>
            <a:off x="1547640" y="90792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火眼金睛辨雅俗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709" name="Picture 14" descr="孙悟空"/>
          <p:cNvPicPr/>
          <p:nvPr/>
        </p:nvPicPr>
        <p:blipFill>
          <a:blip r:embed="rId1"/>
          <a:stretch/>
        </p:blipFill>
        <p:spPr>
          <a:xfrm>
            <a:off x="826920" y="404640"/>
            <a:ext cx="9144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95280" y="549360"/>
            <a:ext cx="874872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1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兴趣和情趣之间的关系是（　　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没有兴趣就谈不上情趣，情趣通过兴趣表现出来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有了兴趣就有了情趣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兴趣和情趣没有多大区别 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D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．兴趣是以情趣为基础而产生的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2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著名的教育家皮亚杰说：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一切有成效的工作都是以某种兴趣为先决条件。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这句话告诉我们（　　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培养兴趣有利于我们把工作做好  　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所有的工作都是有趣的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有趣的才是工作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对某种工作有兴趣就一定能成功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3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生活处处有情趣，我们要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择其善者而从之，其不善者而改之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。这句话是说（　　　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别人做什么就做什么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要培养良好的品格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学会鉴别不同的情趣       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不能跟别人学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179280" y="1082880"/>
            <a:ext cx="8964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4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培根认为：</a:t>
            </a:r>
            <a:r>
              <a:rPr b="0" lang="zh-CN" sz="2800" spc="-1" strike="noStrike">
                <a:solidFill>
                  <a:srgbClr val="272776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读史使人明智，读诗使人灵秀，数学使人周密，科学使人深刻，伦理学使人庄重，逻辑修辞学使人善辩，凡有所学皆成性格。</a:t>
            </a:r>
            <a:r>
              <a:rPr b="0" lang="zh-CN" sz="2800" spc="-1" strike="noStrike">
                <a:solidFill>
                  <a:srgbClr val="272776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这段话说明    （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  ）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学好科学文化知识，高雅情趣自然而成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高雅情趣的产生源于历史、诗词、数学、伦理、逻辑等学科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文学家才会有高雅情趣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高雅的情趣使人眼界开阔，能培养出良好的性格与气质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5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庸俗的生活情趣会损害人的身心健康，丧失远大的志向。下列情趣中，你认为属于庸俗情趣的是（    ）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沉溺于电子游戏    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热爱阅读  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参加公益劳动       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乐于助人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23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喜欢看小说，常常熬夜，导致第二天上学睡觉？为什么？</a:t>
            </a:r>
            <a:br>
              <a:rPr sz="3200"/>
            </a:b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双休日写完作业后，和同学们一起去踢球，锻炼身体？为什么？</a:t>
            </a:r>
            <a:br>
              <a:rPr sz="3200"/>
            </a:b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利用电脑上网学习，查资料？为什么？</a:t>
            </a:r>
            <a:br>
              <a:rPr sz="3200"/>
            </a:b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上网打游戏，浏览黄色网页？为什么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0" y="907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请看下面几个小例子，看是高雅的情趣还是庸俗的生活情趣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8400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1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情趣与兴趣的关系怎样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2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情趣有什么作用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3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高雅情趣的特点是什么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4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高雅生活情趣的含义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5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高雅生活情趣有什么意义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6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庸俗、低级的生活情趣对人有哪些危害和影响（消极作用）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621" name="Picture 9" descr="学习目标"/>
          <p:cNvPicPr/>
          <p:nvPr/>
        </p:nvPicPr>
        <p:blipFill>
          <a:blip r:embed="rId1"/>
          <a:stretch/>
        </p:blipFill>
        <p:spPr>
          <a:xfrm>
            <a:off x="1530360" y="0"/>
            <a:ext cx="5832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DDFD-18B7-4849-B4B7-08D97FC48676}" type="slidenum">
              <a:rPr b="0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1042920" y="270828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  <a:ea typeface="黑体"/>
              </a:rPr>
              <a:t>情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1835280" y="2205000"/>
            <a:ext cx="685800" cy="20574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2556000" y="3357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庸俗的情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2556000" y="2133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高雅的情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4427640" y="23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作用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4427640" y="35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危害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3635280" y="333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Times New Roman"/>
              </a:rPr>
              <a:t>本课小结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900000" y="134136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  <a:ea typeface="黑体"/>
              </a:rPr>
              <a:t>兴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7020000" y="206064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宋体"/>
              </a:rPr>
              <a:t>陶冶高雅情趣</a:t>
            </a:r>
            <a:r>
              <a:rPr b="0" lang="zh-CN" sz="28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7020000" y="335772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宋体"/>
              </a:rPr>
              <a:t>远离庸俗情趣</a:t>
            </a:r>
            <a:r>
              <a:rPr b="0" lang="zh-CN" sz="14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272776"/>
              </a:solidFill>
              <a:latin typeface="Arial Black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084720" y="2637000"/>
            <a:ext cx="884520" cy="360"/>
            <a:chOff x="6084720" y="2637000"/>
            <a:chExt cx="884520" cy="360"/>
          </a:xfrm>
        </p:grpSpPr>
        <p:sp>
          <p:nvSpPr>
            <p:cNvPr id="729" name="Line 12"/>
            <p:cNvSpPr/>
            <p:nvPr/>
          </p:nvSpPr>
          <p:spPr>
            <a:xfrm>
              <a:off x="6084720" y="2637000"/>
              <a:ext cx="88452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084720" y="2637000"/>
              <a:ext cx="884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084720" y="3860640"/>
            <a:ext cx="968400" cy="360"/>
            <a:chOff x="6084720" y="3860640"/>
            <a:chExt cx="968400" cy="360"/>
          </a:xfrm>
        </p:grpSpPr>
        <p:sp>
          <p:nvSpPr>
            <p:cNvPr id="732" name="Line 13"/>
            <p:cNvSpPr/>
            <p:nvPr/>
          </p:nvSpPr>
          <p:spPr>
            <a:xfrm>
              <a:off x="6084720" y="3860640"/>
              <a:ext cx="96840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6084720" y="3860640"/>
              <a:ext cx="96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635280" y="3933720"/>
            <a:ext cx="884160" cy="360"/>
            <a:chOff x="3635280" y="3933720"/>
            <a:chExt cx="884160" cy="360"/>
          </a:xfrm>
        </p:grpSpPr>
        <p:sp>
          <p:nvSpPr>
            <p:cNvPr id="735" name="Line 14"/>
            <p:cNvSpPr/>
            <p:nvPr/>
          </p:nvSpPr>
          <p:spPr>
            <a:xfrm>
              <a:off x="3635280" y="3933720"/>
              <a:ext cx="88416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3635280" y="3933720"/>
              <a:ext cx="88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635280" y="2637000"/>
            <a:ext cx="884160" cy="360"/>
            <a:chOff x="3635280" y="2637000"/>
            <a:chExt cx="884160" cy="360"/>
          </a:xfrm>
        </p:grpSpPr>
        <p:sp>
          <p:nvSpPr>
            <p:cNvPr id="738" name="Line 15"/>
            <p:cNvSpPr/>
            <p:nvPr/>
          </p:nvSpPr>
          <p:spPr>
            <a:xfrm>
              <a:off x="3635280" y="2637000"/>
              <a:ext cx="88416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3635280" y="2637000"/>
              <a:ext cx="88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402920" y="1988640"/>
            <a:ext cx="360" cy="792360"/>
            <a:chOff x="1402920" y="1988640"/>
            <a:chExt cx="360" cy="792360"/>
          </a:xfrm>
        </p:grpSpPr>
        <p:sp>
          <p:nvSpPr>
            <p:cNvPr id="741" name="Line 16"/>
            <p:cNvSpPr/>
            <p:nvPr/>
          </p:nvSpPr>
          <p:spPr>
            <a:xfrm flipV="1">
              <a:off x="1403280" y="1988640"/>
              <a:ext cx="0" cy="79236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 rot="10800000">
              <a:off x="1402920" y="1988640"/>
              <a:ext cx="36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743" name="Text Box 17"/>
          <p:cNvSpPr/>
          <p:nvPr/>
        </p:nvSpPr>
        <p:spPr>
          <a:xfrm>
            <a:off x="533520" y="493704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Times New Roman"/>
                <a:ea typeface="黑体"/>
              </a:rPr>
              <a:t>　　所以，我们要积极培养正当兴趣</a:t>
            </a: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272776"/>
                </a:solidFill>
                <a:latin typeface="Times New Roman"/>
                <a:ea typeface="黑体"/>
              </a:rPr>
              <a:t>发展高雅情趣 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900000" y="220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起 源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50920" y="1196640"/>
            <a:ext cx="8562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Century Gothic"/>
              </a:rPr>
              <a:t>1.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情趣是以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为基础而产生的，同时，情趣通过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表现出来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Century Gothic"/>
              </a:rPr>
              <a:t>2.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高雅情趣体现一个人对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的追求、乐观的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和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的心理。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Century Gothic"/>
              </a:rPr>
              <a:t>3.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高雅的生活情趣，有益于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，能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、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，有助于我们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；能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，有利于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。低级庸俗的生活情趣，不利于青少年的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　   　　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，甚至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　　　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。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3" name="WordArt 3"/>
          <p:cNvSpPr txBox="1"/>
          <p:nvPr/>
        </p:nvSpPr>
        <p:spPr>
          <a:xfrm>
            <a:off x="2843280" y="404640"/>
            <a:ext cx="2405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自学检测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34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说说当你进行自己感兴趣的事情时，你会有什么感受和体会？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9640" y="2781360"/>
            <a:ext cx="815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277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华文行楷"/>
              </a:rPr>
              <a:t>当自己对某件事情感兴趣时，就会很投入，很忘我，不怕苦，不怕难，而且做了之后，印象特别深刻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539640" y="5013360"/>
            <a:ext cx="8280360" cy="14770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知之者不如好之者，好之者不如乐之者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                                     </a:t>
            </a:r>
            <a:r>
              <a:rPr b="1" lang="en-US" sz="3600" spc="-1" strike="noStrike">
                <a:solidFill>
                  <a:srgbClr val="272776"/>
                </a:solidFill>
                <a:latin typeface="Arial"/>
                <a:ea typeface="黑体"/>
              </a:rPr>
              <a:t>—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孔子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27" name="WordArt 5"/>
          <p:cNvSpPr txBox="1"/>
          <p:nvPr/>
        </p:nvSpPr>
        <p:spPr>
          <a:xfrm>
            <a:off x="0" y="404640"/>
            <a:ext cx="4114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合作 展示交流一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28640" y="15238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272776"/>
                </a:solidFill>
                <a:latin typeface="Century Gothic"/>
                <a:ea typeface="隶书"/>
              </a:rPr>
              <a:t> </a:t>
            </a:r>
            <a:endParaRPr b="0" lang="en-US" sz="37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5280" y="2491920"/>
            <a:ext cx="874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学生甲：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兴趣是最好的老师。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培养兴趣爱好，如读一本好书，对中学生培养情趣、陶冶情操、追求高品质的生活很有意义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学生乙：中学生的主要任务是学习课堂知识，把时间花在培养兴趣爱好上，会分散学习精力的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你同意谁的看法？理由是</a:t>
            </a:r>
            <a:r>
              <a:rPr b="1" lang="en-US" sz="2800" spc="-1" strike="noStrike">
                <a:solidFill>
                  <a:srgbClr val="272776"/>
                </a:solidFill>
                <a:latin typeface="Century Gothic"/>
              </a:rPr>
              <a:t>-----</a:t>
            </a:r>
            <a:r>
              <a:rPr b="1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3708360" y="620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华文新魏"/>
              </a:rPr>
              <a:t>阅读课本</a:t>
            </a:r>
            <a:r>
              <a:rPr b="1" lang="en-US" sz="3600" spc="-1" strike="noStrike">
                <a:solidFill>
                  <a:srgbClr val="272776"/>
                </a:solidFill>
                <a:latin typeface="Arial"/>
                <a:ea typeface="华文新魏"/>
              </a:rPr>
              <a:t>71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华文新魏"/>
              </a:rPr>
              <a:t>页的小故事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582080" y="162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关于杨叶与妈妈的对话，不同的人有不同的看法。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0" y="404640"/>
            <a:ext cx="4114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合作 展示交流二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682560" y="547560"/>
            <a:ext cx="785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826920" y="1197000"/>
            <a:ext cx="770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培养兴趣和情趣，对个人发展很重要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青少年要培养兴趣和情趣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要分清主次。主要任务是学习和品德培养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学习和培养兴趣、情趣是相辅相成的。但处理不当，会影响学习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5" name="文本框 8199"/>
          <p:cNvSpPr/>
          <p:nvPr/>
        </p:nvSpPr>
        <p:spPr>
          <a:xfrm>
            <a:off x="1268280" y="66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"/>
          <p:cNvSpPr/>
          <p:nvPr/>
        </p:nvSpPr>
        <p:spPr>
          <a:xfrm>
            <a:off x="1476360" y="392904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6807240" y="3637080"/>
            <a:ext cx="1481040" cy="8251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2776"/>
                </a:solidFill>
                <a:latin typeface="华文行楷"/>
                <a:ea typeface="华文行楷"/>
              </a:rPr>
              <a:t>兴趣</a:t>
            </a:r>
            <a:endParaRPr b="0" lang="en-US" sz="4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454560" y="3332160"/>
            <a:ext cx="761760" cy="17838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黑体"/>
                <a:ea typeface="黑体"/>
              </a:rPr>
              <a:t>情 </a:t>
            </a:r>
            <a:endParaRPr b="0" lang="en-US" sz="44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黑体"/>
                <a:ea typeface="黑体"/>
              </a:rPr>
              <a:t>趣</a:t>
            </a:r>
            <a:endParaRPr b="0" lang="en-US" sz="44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4673520" y="4475160"/>
            <a:ext cx="2514600" cy="9907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5075280" y="5607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表现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1" name="AutoShape 6"/>
          <p:cNvSpPr/>
          <p:nvPr/>
        </p:nvSpPr>
        <p:spPr>
          <a:xfrm rot="11747400">
            <a:off x="4215960" y="2646000"/>
            <a:ext cx="2514600" cy="9907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6426360" y="24940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基础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pic>
        <p:nvPicPr>
          <p:cNvPr id="643" name="Picture 8" descr="AD003706"/>
          <p:cNvPicPr/>
          <p:nvPr/>
        </p:nvPicPr>
        <p:blipFill>
          <a:blip r:embed="rId1"/>
          <a:stretch/>
        </p:blipFill>
        <p:spPr>
          <a:xfrm>
            <a:off x="863640" y="3484440"/>
            <a:ext cx="1714320" cy="25146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9"/>
          <p:cNvSpPr/>
          <p:nvPr/>
        </p:nvSpPr>
        <p:spPr>
          <a:xfrm>
            <a:off x="1979640" y="1285920"/>
            <a:ext cx="3483000" cy="11912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情趣是以兴趣为基础而产生的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2482920" y="53895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（较稳定）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6" name="Text Box 11"/>
          <p:cNvSpPr/>
          <p:nvPr/>
        </p:nvSpPr>
        <p:spPr>
          <a:xfrm>
            <a:off x="6515280" y="4815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（暂时的）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779640" y="3500280"/>
            <a:ext cx="1656000" cy="360"/>
            <a:chOff x="3779640" y="3500280"/>
            <a:chExt cx="1656000" cy="360"/>
          </a:xfrm>
        </p:grpSpPr>
        <p:sp>
          <p:nvSpPr>
            <p:cNvPr id="648" name="Line 12"/>
            <p:cNvSpPr/>
            <p:nvPr/>
          </p:nvSpPr>
          <p:spPr>
            <a:xfrm flipH="1">
              <a:off x="3779640" y="3500280"/>
              <a:ext cx="1655640" cy="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3780000" y="350028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650" name="Text Box 13"/>
          <p:cNvSpPr/>
          <p:nvPr/>
        </p:nvSpPr>
        <p:spPr>
          <a:xfrm>
            <a:off x="4859280" y="3446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升华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6227640" y="1285920"/>
            <a:ext cx="2519640" cy="10688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Arial"/>
                <a:ea typeface="黑体"/>
              </a:rPr>
              <a:t>情趣通过兴趣表现出来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50920" y="8668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阅读书本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P7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，思考                         （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岛上水兵们的生活情趣体现在哪些方面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250920" y="2133720"/>
            <a:ext cx="849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答：体现在：举办国际海洋法知识讲座，创办黑板报和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南沙卫士报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，举办书法、绘画大赛，帮助报考军校的战士复习文化知识。组织战士比赛拾凤尾螺；为战士弹吉他、唱歌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黑体"/>
              </a:rPr>
              <a:t>……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画材料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1160" y="428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）这些生活情趣对他们克服困难有什么意义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50920" y="486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答：这些生活情趣使他们疲劳得以解除，还能使他们充分感受到生活中的美，使他们即使在艰苦的环境中也能让生活充满欢乐。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课本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P72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改我们为他们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6" name="WordArt 6"/>
          <p:cNvSpPr txBox="1"/>
          <p:nvPr/>
        </p:nvSpPr>
        <p:spPr>
          <a:xfrm>
            <a:off x="398520" y="281160"/>
            <a:ext cx="4114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探究合作 展示交流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03280" y="14130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情趣不但能使我们因学习紧绷的神经得以放松，疲劳得以解除，还能使我们充分感受到生活中的美，使我们即使在艰苦的环境中也能让生活充满欢乐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2:18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24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