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chimes.wav" ContentType="audio/x-wav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FD8-24F9-4874-8161-2C20FF62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B1F-2C87-42BC-AB56-7DE58149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042-E472-4169-8A57-E9814665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48F-B426-4A8E-8DB7-711DD507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90AB-67FC-4CF2-977C-970604AF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020-F479-4769-ADC6-4AA9F789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BC83-0D4D-48FA-85C5-45CB8E98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E7AD-B223-4AFF-B5A8-4A02C88D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D393-8DFB-488F-A015-BF0B386C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CDFB-2B35-4BBD-8635-7A4AB737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B2F6-AF8D-4757-B8DA-751F62BD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2B0-E7CB-4888-B0D7-85BEFBFD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8DD5-4A2D-4AE6-9B6B-2E39FD04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8E11-64E0-44F1-981E-5183963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A1FA-FA4F-4412-97D9-45A5590B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4E53-062A-474A-B51D-71397F06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C9CD-B816-4C0E-962D-26032876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0FA19-481C-430F-9A2E-A23CB930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4E53-E054-42BC-99D0-6FF4EC1B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644D-5A3F-4CF7-A12A-74DCCFC5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1193-4272-4011-98EA-97AE1C1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E7D2-E45C-4EB5-9AFB-CFB0003C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0F7-1C62-48EC-A33B-7A6E46B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A9C0-4725-4136-BD44-0591294A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9A44-3D82-42D0-9678-E9284C8F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FA29-6818-4737-92AB-8564259F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D894-482E-419E-8502-D3BC4802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063C-1183-4A90-AB87-ADA28474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6152B-CFA0-4C87-960A-3B44740A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E9B7-8935-4F23-AF27-6C7C03FE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7A5-E950-4BCB-9A8F-BAE3764E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0D7-35E0-48D2-B5A1-5CAA4619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C92-8730-4A1B-AD37-5716A887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ED3-AAC7-4C06-92C0-BAD957D2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4D1-B46F-477E-BDC2-7E8D141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C8D-9C68-4EF6-96CA-2D163C63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7701cc93d56fd32be09e69e"/>
          <p:cNvPicPr/>
          <p:nvPr/>
        </p:nvPicPr>
        <p:blipFill>
          <a:blip r:embed="rId2"/>
          <a:stretch/>
        </p:blipFill>
        <p:spPr>
          <a:xfrm>
            <a:off x="6443640" y="2492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 rot="5400000">
            <a:off x="5517000" y="3239280"/>
            <a:ext cx="685800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 flipH="1" rot="16200000">
            <a:off x="-3230280" y="3238560"/>
            <a:ext cx="68565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76920"/>
            <a:ext cx="914400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>
            <a:off x="-239760" y="-14400"/>
            <a:ext cx="882720" cy="70009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395280" y="3933720"/>
            <a:ext cx="216000" cy="24847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142920" y="3753000"/>
            <a:ext cx="179280" cy="230328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-50760"/>
            <a:ext cx="571680" cy="49528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108000" y="-11160"/>
            <a:ext cx="576360" cy="29718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8209440" y="-50760"/>
            <a:ext cx="1186920" cy="7037280"/>
            <a:chOff x="8209440" y="-50760"/>
            <a:chExt cx="1186920" cy="7037280"/>
          </a:xfrm>
        </p:grpSpPr>
        <p:sp>
          <p:nvSpPr>
            <p:cNvPr id="10" name="未知"/>
            <p:cNvSpPr/>
            <p:nvPr/>
          </p:nvSpPr>
          <p:spPr>
            <a:xfrm flipH="1">
              <a:off x="8209080" y="-14400"/>
              <a:ext cx="1186920" cy="700092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 flipH="1">
              <a:off x="8542080" y="3937680"/>
              <a:ext cx="284760" cy="24786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 flipH="1">
              <a:off x="8923320" y="3756960"/>
              <a:ext cx="236880" cy="229788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 flipH="1">
              <a:off x="8636040" y="-50760"/>
              <a:ext cx="759960" cy="567504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 flipH="1">
              <a:off x="8445960" y="-14400"/>
              <a:ext cx="759960" cy="298116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未知"/>
          <p:cNvSpPr/>
          <p:nvPr/>
        </p:nvSpPr>
        <p:spPr>
          <a:xfrm>
            <a:off x="-168120" y="189000"/>
            <a:ext cx="558720" cy="56847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未知"/>
          <p:cNvSpPr/>
          <p:nvPr/>
        </p:nvSpPr>
        <p:spPr>
          <a:xfrm>
            <a:off x="8461440" y="-122400"/>
            <a:ext cx="576360" cy="5132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2AC5-60EA-4097-9686-922C0AC17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24"/>
          <p:cNvSpPr/>
          <p:nvPr/>
        </p:nvSpPr>
        <p:spPr>
          <a:xfrm>
            <a:off x="8028000" y="15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DCE3-61E5-46FD-B818-8934C9C961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未知"/>
          <p:cNvSpPr/>
          <p:nvPr/>
        </p:nvSpPr>
        <p:spPr>
          <a:xfrm>
            <a:off x="8785080" y="-47520"/>
            <a:ext cx="576360" cy="51339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8172360" y="15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-165240" y="-11160"/>
            <a:ext cx="563760" cy="56721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1"/>
          <p:cNvGrpSpPr/>
          <p:nvPr/>
        </p:nvGrpSpPr>
        <p:grpSpPr>
          <a:xfrm>
            <a:off x="8280360" y="-50760"/>
            <a:ext cx="1079280" cy="7037280"/>
            <a:chOff x="8280360" y="-50760"/>
            <a:chExt cx="1079280" cy="7037280"/>
          </a:xfrm>
        </p:grpSpPr>
        <p:sp>
          <p:nvSpPr>
            <p:cNvPr id="104" name="未知"/>
            <p:cNvSpPr/>
            <p:nvPr/>
          </p:nvSpPr>
          <p:spPr>
            <a:xfrm flipH="1">
              <a:off x="8280360" y="-14400"/>
              <a:ext cx="1079280" cy="700092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flipH="1">
              <a:off x="8582760" y="3937680"/>
              <a:ext cx="258840" cy="24786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 flipH="1">
              <a:off x="8929440" y="3756960"/>
              <a:ext cx="215280" cy="229788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 flipH="1">
              <a:off x="8668440" y="-50760"/>
              <a:ext cx="691200" cy="567504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 flipH="1">
              <a:off x="8495280" y="-14400"/>
              <a:ext cx="691200" cy="298116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未知"/>
          <p:cNvSpPr/>
          <p:nvPr/>
        </p:nvSpPr>
        <p:spPr>
          <a:xfrm>
            <a:off x="0" y="-50760"/>
            <a:ext cx="576360" cy="56736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111240" y="-11160"/>
            <a:ext cx="576000" cy="29736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-203040" y="0"/>
            <a:ext cx="884160" cy="7013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398520" y="3935520"/>
            <a:ext cx="216000" cy="24829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46160" y="3754440"/>
            <a:ext cx="179280" cy="230184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77701cc93d56fd32be09e69e"/>
          <p:cNvPicPr/>
          <p:nvPr/>
        </p:nvPicPr>
        <p:blipFill>
          <a:blip r:embed="rId2"/>
          <a:stretch/>
        </p:blipFill>
        <p:spPr>
          <a:xfrm>
            <a:off x="0" y="0"/>
            <a:ext cx="4373640" cy="5940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 rot="5400000">
            <a:off x="5554440" y="3233520"/>
            <a:ext cx="6854760" cy="39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 flipH="1" rot="16200000">
            <a:off x="-3258360" y="3241440"/>
            <a:ext cx="6850080" cy="38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240" y="6676920"/>
            <a:ext cx="914076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62472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8711-6DDA-4E78-B8A7-DC988D8B93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矩形 3" descr=""/>
          <p:cNvPicPr/>
          <p:nvPr/>
        </p:nvPicPr>
        <p:blipFill>
          <a:blip r:embed="rId1"/>
          <a:stretch/>
        </p:blipFill>
        <p:spPr>
          <a:xfrm>
            <a:off x="760320" y="1123920"/>
            <a:ext cx="7853400" cy="701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" descr=""/>
          <p:cNvPicPr/>
          <p:nvPr/>
        </p:nvPicPr>
        <p:blipFill>
          <a:blip r:embed="rId2"/>
          <a:stretch/>
        </p:blipFill>
        <p:spPr>
          <a:xfrm>
            <a:off x="430200" y="2500200"/>
            <a:ext cx="4157640" cy="25210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6" descr=""/>
          <p:cNvPicPr/>
          <p:nvPr/>
        </p:nvPicPr>
        <p:blipFill>
          <a:blip r:embed="rId3"/>
          <a:stretch/>
        </p:blipFill>
        <p:spPr>
          <a:xfrm>
            <a:off x="4587840" y="2550960"/>
            <a:ext cx="2683080" cy="242100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6155"/>
          <p:cNvSpPr/>
          <p:nvPr/>
        </p:nvSpPr>
        <p:spPr>
          <a:xfrm>
            <a:off x="431640" y="63831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377E-DF77-427D-9F63-8B5E307176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蝗虫的发育过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DDD2-D3A6-4000-BB34-5013F1A7DD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838080" y="8380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533520" y="7542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蝗虫的一生要经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个时期，它的发育也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育，这种发育类型称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013360" y="5335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受精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084080" y="449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若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08560" y="1428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成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6666480" y="1428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变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362560" y="2357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不完全变态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蝗虫的发育过程"/>
          <p:cNvPicPr/>
          <p:nvPr/>
        </p:nvPicPr>
        <p:blipFill>
          <a:blip r:embed="rId1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蝗虫的成长"/>
          <p:cNvPicPr/>
          <p:nvPr/>
        </p:nvPicPr>
        <p:blipFill>
          <a:blip r:embed="rId2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50A7-CAD3-40AF-A555-9AE8E82F28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63360" y="1066680"/>
            <a:ext cx="1155960" cy="4543920"/>
            <a:chOff x="63360" y="1066680"/>
            <a:chExt cx="1155960" cy="4543920"/>
          </a:xfrm>
        </p:grpSpPr>
        <p:sp>
          <p:nvSpPr>
            <p:cNvPr id="235" name="Text Box 3"/>
            <p:cNvSpPr/>
            <p:nvPr/>
          </p:nvSpPr>
          <p:spPr>
            <a:xfrm>
              <a:off x="63360" y="502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成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4"/>
            <p:cNvGrpSpPr/>
            <p:nvPr/>
          </p:nvGrpSpPr>
          <p:grpSpPr>
            <a:xfrm>
              <a:off x="152280" y="1066680"/>
              <a:ext cx="1067040" cy="4038840"/>
              <a:chOff x="152280" y="1066680"/>
              <a:chExt cx="1067040" cy="4038840"/>
            </a:xfrm>
          </p:grpSpPr>
          <p:grpSp>
            <p:nvGrpSpPr>
              <p:cNvPr id="237" name="Group 5"/>
              <p:cNvGrpSpPr/>
              <p:nvPr/>
            </p:nvGrpSpPr>
            <p:grpSpPr>
              <a:xfrm>
                <a:off x="304920" y="1066680"/>
                <a:ext cx="799920" cy="1371600"/>
                <a:chOff x="304920" y="1066680"/>
                <a:chExt cx="799920" cy="1371600"/>
              </a:xfrm>
            </p:grpSpPr>
            <p:sp>
              <p:nvSpPr>
                <p:cNvPr id="238" name="Text Box 6"/>
                <p:cNvSpPr/>
                <p:nvPr/>
              </p:nvSpPr>
              <p:spPr>
                <a:xfrm>
                  <a:off x="304920" y="1066680"/>
                  <a:ext cx="799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Calibri"/>
                    </a:rPr>
                    <a:t>卵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AutoShape 7"/>
                <p:cNvSpPr/>
                <p:nvPr/>
              </p:nvSpPr>
              <p:spPr>
                <a:xfrm>
                  <a:off x="533520" y="1600200"/>
                  <a:ext cx="152280" cy="838080"/>
                </a:xfrm>
                <a:prstGeom prst="downArrow">
                  <a:avLst>
                    <a:gd name="adj1" fmla="val 50000"/>
                    <a:gd name="adj2" fmla="val 137589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8"/>
              <p:cNvGrpSpPr/>
              <p:nvPr/>
            </p:nvGrpSpPr>
            <p:grpSpPr>
              <a:xfrm>
                <a:off x="152280" y="2316240"/>
                <a:ext cx="1067040" cy="1417680"/>
                <a:chOff x="152280" y="2316240"/>
                <a:chExt cx="1067040" cy="1417680"/>
              </a:xfrm>
            </p:grpSpPr>
            <p:sp>
              <p:nvSpPr>
                <p:cNvPr id="241" name="Text Box 9"/>
                <p:cNvSpPr/>
                <p:nvPr/>
              </p:nvSpPr>
              <p:spPr>
                <a:xfrm>
                  <a:off x="152280" y="231624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Calibri"/>
                    </a:rPr>
                    <a:t>幼虫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10"/>
                <p:cNvSpPr/>
                <p:nvPr/>
              </p:nvSpPr>
              <p:spPr>
                <a:xfrm>
                  <a:off x="533520" y="2895480"/>
                  <a:ext cx="152280" cy="838440"/>
                </a:xfrm>
                <a:prstGeom prst="downArrow">
                  <a:avLst>
                    <a:gd name="adj1" fmla="val 50000"/>
                    <a:gd name="adj2" fmla="val 137648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11"/>
              <p:cNvGrpSpPr/>
              <p:nvPr/>
            </p:nvGrpSpPr>
            <p:grpSpPr>
              <a:xfrm>
                <a:off x="304920" y="3657600"/>
                <a:ext cx="711000" cy="1447920"/>
                <a:chOff x="304920" y="3657600"/>
                <a:chExt cx="711000" cy="1447920"/>
              </a:xfrm>
            </p:grpSpPr>
            <p:sp>
              <p:nvSpPr>
                <p:cNvPr id="244" name="Text Box 12"/>
                <p:cNvSpPr/>
                <p:nvPr/>
              </p:nvSpPr>
              <p:spPr>
                <a:xfrm>
                  <a:off x="304920" y="3657600"/>
                  <a:ext cx="711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Calibri"/>
                    </a:rPr>
                    <a:t>蛹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13"/>
                <p:cNvSpPr/>
                <p:nvPr/>
              </p:nvSpPr>
              <p:spPr>
                <a:xfrm>
                  <a:off x="533520" y="4267080"/>
                  <a:ext cx="152280" cy="838440"/>
                </a:xfrm>
                <a:prstGeom prst="downArrow">
                  <a:avLst>
                    <a:gd name="adj1" fmla="val 50000"/>
                    <a:gd name="adj2" fmla="val 137648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6" name="Group 14"/>
          <p:cNvGrpSpPr/>
          <p:nvPr/>
        </p:nvGrpSpPr>
        <p:grpSpPr>
          <a:xfrm>
            <a:off x="1066680" y="0"/>
            <a:ext cx="8076960" cy="6822720"/>
            <a:chOff x="1066680" y="0"/>
            <a:chExt cx="8076960" cy="6822720"/>
          </a:xfrm>
        </p:grpSpPr>
        <p:pic>
          <p:nvPicPr>
            <p:cNvPr id="247" name="Picture 15" descr="G03_5_4"/>
            <p:cNvPicPr/>
            <p:nvPr/>
          </p:nvPicPr>
          <p:blipFill>
            <a:blip r:embed="rId1"/>
            <a:stretch/>
          </p:blipFill>
          <p:spPr>
            <a:xfrm>
              <a:off x="1066680" y="0"/>
              <a:ext cx="8076960" cy="68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AutoShape 16"/>
            <p:cNvSpPr/>
            <p:nvPr/>
          </p:nvSpPr>
          <p:spPr>
            <a:xfrm>
              <a:off x="2930400" y="3735360"/>
              <a:ext cx="1242360" cy="260280"/>
            </a:xfrm>
            <a:prstGeom prst="leftArrow">
              <a:avLst>
                <a:gd name="adj1" fmla="val 50000"/>
                <a:gd name="adj2" fmla="val 119263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532520" y="4430160"/>
              <a:ext cx="232920" cy="1737360"/>
            </a:xfrm>
            <a:prstGeom prst="downArrow">
              <a:avLst>
                <a:gd name="adj1" fmla="val 50000"/>
                <a:gd name="adj2" fmla="val 186372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>
              <a:off x="2619720" y="6254280"/>
              <a:ext cx="1475640" cy="260280"/>
            </a:xfrm>
            <a:prstGeom prst="rightArrow">
              <a:avLst>
                <a:gd name="adj1" fmla="val 50000"/>
                <a:gd name="adj2" fmla="val 14165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>
              <a:off x="5571000" y="6254280"/>
              <a:ext cx="854280" cy="260280"/>
            </a:xfrm>
            <a:prstGeom prst="rightArrow">
              <a:avLst>
                <a:gd name="adj1" fmla="val 50000"/>
                <a:gd name="adj2" fmla="val 82008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>
              <a:off x="7202160" y="6254280"/>
              <a:ext cx="931680" cy="260280"/>
            </a:xfrm>
            <a:prstGeom prst="rightArrow">
              <a:avLst>
                <a:gd name="adj1" fmla="val 50000"/>
                <a:gd name="adj2" fmla="val 89488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013-B697-461C-941A-077B6CDCF2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工蜂的发育过程"/>
          <p:cNvPicPr/>
          <p:nvPr/>
        </p:nvPicPr>
        <p:blipFill>
          <a:blip r:embed="rId1"/>
          <a:stretch/>
        </p:blipFill>
        <p:spPr>
          <a:xfrm>
            <a:off x="357120" y="0"/>
            <a:ext cx="7920000" cy="44067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142920" y="4429080"/>
            <a:ext cx="88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蜜蜂的一生发育中比蝗虫的发育多了一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即一生经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时期，这种发育形式称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787880" y="4214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428920" y="514368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受精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431600" y="5143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929200" y="51436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432200" y="5143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5505120" y="6143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完全变态发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D8C0-B6C4-40F6-963B-85F8AB9710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90720" y="12193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生命周期的时间就是这种动物的寿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066680" y="2133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气候、食物、敌害等生活环境因素的变化对动物的寿命会有较大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523880" y="3505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Calibri"/>
              </a:rPr>
              <a:t>剑竹枯死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Calibri"/>
              </a:rPr>
              <a:t>大熊猫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447920" y="42670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Calibri"/>
              </a:rPr>
              <a:t>水体污染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Calibri"/>
              </a:rPr>
              <a:t>鱼类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8199"/>
          <p:cNvSpPr/>
          <p:nvPr/>
        </p:nvSpPr>
        <p:spPr>
          <a:xfrm>
            <a:off x="873000" y="171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EF43-F861-4207-8824-FE33F3EDF5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676520" y="663480"/>
            <a:ext cx="14475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500040" y="1714680"/>
            <a:ext cx="77025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     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1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．动物的一生都要经历出生、生长发育、生殖、死亡等生长时期，构成了动物的生命周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857160" y="35719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2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．周而复始的生命周期，其根本意义是使生命代代相传，保证了生命的延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ACD7-862E-4967-B1AD-AD657ED397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4200" y="214200"/>
            <a:ext cx="3753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科学问题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3143160" y="1071720"/>
            <a:ext cx="2786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给动物分类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"/>
          <p:cNvGrpSpPr/>
          <p:nvPr/>
        </p:nvGrpSpPr>
        <p:grpSpPr>
          <a:xfrm>
            <a:off x="928800" y="1714680"/>
            <a:ext cx="6643440" cy="4142880"/>
            <a:chOff x="928800" y="1714680"/>
            <a:chExt cx="6643440" cy="4142880"/>
          </a:xfrm>
        </p:grpSpPr>
        <p:grpSp>
          <p:nvGrpSpPr>
            <p:cNvPr id="276" name="Group 3"/>
            <p:cNvGrpSpPr/>
            <p:nvPr/>
          </p:nvGrpSpPr>
          <p:grpSpPr>
            <a:xfrm>
              <a:off x="928800" y="1714680"/>
              <a:ext cx="6643440" cy="2327760"/>
              <a:chOff x="928800" y="1714680"/>
              <a:chExt cx="6643440" cy="2327760"/>
            </a:xfrm>
          </p:grpSpPr>
          <p:sp>
            <p:nvSpPr>
              <p:cNvPr id="277" name="Oval 4"/>
              <p:cNvSpPr/>
              <p:nvPr/>
            </p:nvSpPr>
            <p:spPr>
              <a:xfrm>
                <a:off x="928800" y="3214080"/>
                <a:ext cx="149544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动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5"/>
              <p:cNvSpPr/>
              <p:nvPr/>
            </p:nvSpPr>
            <p:spPr>
              <a:xfrm>
                <a:off x="3252240" y="2266920"/>
                <a:ext cx="149508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变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6"/>
              <p:cNvSpPr/>
              <p:nvPr/>
            </p:nvSpPr>
            <p:spPr>
              <a:xfrm>
                <a:off x="6076800" y="240516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7"/>
              <p:cNvSpPr/>
              <p:nvPr/>
            </p:nvSpPr>
            <p:spPr>
              <a:xfrm>
                <a:off x="6076800" y="171468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8"/>
              <p:cNvSpPr/>
              <p:nvPr/>
            </p:nvSpPr>
            <p:spPr>
              <a:xfrm>
                <a:off x="6076800" y="323388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421000" y="2957400"/>
                <a:ext cx="997200" cy="552240"/>
                <a:chOff x="2421000" y="2957400"/>
                <a:chExt cx="997200" cy="552240"/>
              </a:xfrm>
            </p:grpSpPr>
            <p:sp>
              <p:nvSpPr>
                <p:cNvPr id="283" name="Line 9"/>
                <p:cNvSpPr/>
                <p:nvPr/>
              </p:nvSpPr>
              <p:spPr>
                <a:xfrm flipV="1">
                  <a:off x="2421360" y="2957400"/>
                  <a:ext cx="996840" cy="55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 txBox="1"/>
                <p:nvPr/>
              </p:nvSpPr>
              <p:spPr>
                <a:xfrm rot="10800000">
                  <a:off x="2421000" y="2957400"/>
                  <a:ext cx="99684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747320" y="2680920"/>
                <a:ext cx="1329120" cy="360"/>
                <a:chOff x="4747320" y="2680920"/>
                <a:chExt cx="1329120" cy="360"/>
              </a:xfrm>
            </p:grpSpPr>
            <p:sp>
              <p:nvSpPr>
                <p:cNvPr id="286" name="Line 10"/>
                <p:cNvSpPr/>
                <p:nvPr/>
              </p:nvSpPr>
              <p:spPr>
                <a:xfrm>
                  <a:off x="4747320" y="2681280"/>
                  <a:ext cx="132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 txBox="1"/>
                <p:nvPr/>
              </p:nvSpPr>
              <p:spPr>
                <a:xfrm rot="10800000">
                  <a:off x="4747320" y="2680920"/>
                  <a:ext cx="1329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581360" y="2957400"/>
                <a:ext cx="1495080" cy="552240"/>
                <a:chOff x="4581360" y="2957400"/>
                <a:chExt cx="1495080" cy="552240"/>
              </a:xfrm>
            </p:grpSpPr>
            <p:sp>
              <p:nvSpPr>
                <p:cNvPr id="289" name="Line 11"/>
                <p:cNvSpPr/>
                <p:nvPr/>
              </p:nvSpPr>
              <p:spPr>
                <a:xfrm>
                  <a:off x="4581360" y="2957400"/>
                  <a:ext cx="1495080" cy="55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 txBox="1"/>
                <p:nvPr/>
              </p:nvSpPr>
              <p:spPr>
                <a:xfrm>
                  <a:off x="4581360" y="2957400"/>
                  <a:ext cx="149508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581000" y="1990800"/>
                <a:ext cx="1495440" cy="414000"/>
                <a:chOff x="4581000" y="1990800"/>
                <a:chExt cx="1495440" cy="414000"/>
              </a:xfrm>
            </p:grpSpPr>
            <p:sp>
              <p:nvSpPr>
                <p:cNvPr id="292" name="Line 12"/>
                <p:cNvSpPr/>
                <p:nvPr/>
              </p:nvSpPr>
              <p:spPr>
                <a:xfrm flipV="1">
                  <a:off x="4581360" y="1990800"/>
                  <a:ext cx="1495080" cy="41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 rot="10800000">
                  <a:off x="4581000" y="1990800"/>
                  <a:ext cx="1495080" cy="41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3"/>
            <p:cNvGrpSpPr/>
            <p:nvPr/>
          </p:nvGrpSpPr>
          <p:grpSpPr>
            <a:xfrm>
              <a:off x="2255040" y="3924360"/>
              <a:ext cx="5316840" cy="1933200"/>
              <a:chOff x="2255040" y="3924360"/>
              <a:chExt cx="5316840" cy="1933200"/>
            </a:xfrm>
          </p:grpSpPr>
          <p:sp>
            <p:nvSpPr>
              <p:cNvPr id="295" name="Oval 14"/>
              <p:cNvSpPr/>
              <p:nvPr/>
            </p:nvSpPr>
            <p:spPr>
              <a:xfrm>
                <a:off x="3251880" y="4476600"/>
                <a:ext cx="149508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不变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6076440" y="392436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076440" y="461484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17"/>
              <p:cNvSpPr/>
              <p:nvPr/>
            </p:nvSpPr>
            <p:spPr>
              <a:xfrm>
                <a:off x="6076440" y="530532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255040" y="3924360"/>
                <a:ext cx="996840" cy="828720"/>
                <a:chOff x="2255040" y="3924360"/>
                <a:chExt cx="996840" cy="828720"/>
              </a:xfrm>
            </p:grpSpPr>
            <p:sp>
              <p:nvSpPr>
                <p:cNvPr id="300" name="Line 18"/>
                <p:cNvSpPr/>
                <p:nvPr/>
              </p:nvSpPr>
              <p:spPr>
                <a:xfrm>
                  <a:off x="2255040" y="3924360"/>
                  <a:ext cx="996840" cy="82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 txBox="1"/>
                <p:nvPr/>
              </p:nvSpPr>
              <p:spPr>
                <a:xfrm>
                  <a:off x="2255040" y="3924360"/>
                  <a:ext cx="99684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747320" y="4890960"/>
                <a:ext cx="1329120" cy="360"/>
                <a:chOff x="4747320" y="4890960"/>
                <a:chExt cx="1329120" cy="360"/>
              </a:xfrm>
            </p:grpSpPr>
            <p:sp>
              <p:nvSpPr>
                <p:cNvPr id="303" name="Line 19"/>
                <p:cNvSpPr/>
                <p:nvPr/>
              </p:nvSpPr>
              <p:spPr>
                <a:xfrm>
                  <a:off x="4747320" y="4891320"/>
                  <a:ext cx="132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 txBox="1"/>
                <p:nvPr/>
              </p:nvSpPr>
              <p:spPr>
                <a:xfrm rot="10800000">
                  <a:off x="4747320" y="4890960"/>
                  <a:ext cx="1329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581000" y="5167080"/>
                <a:ext cx="1495080" cy="414360"/>
                <a:chOff x="4581000" y="5167080"/>
                <a:chExt cx="1495080" cy="414360"/>
              </a:xfrm>
            </p:grpSpPr>
            <p:sp>
              <p:nvSpPr>
                <p:cNvPr id="306" name="Line 20"/>
                <p:cNvSpPr/>
                <p:nvPr/>
              </p:nvSpPr>
              <p:spPr>
                <a:xfrm>
                  <a:off x="4581000" y="516708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 txBox="1"/>
                <p:nvPr/>
              </p:nvSpPr>
              <p:spPr>
                <a:xfrm>
                  <a:off x="4581000" y="516708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580640" y="4200120"/>
                <a:ext cx="1495440" cy="414360"/>
                <a:chOff x="4580640" y="4200120"/>
                <a:chExt cx="1495440" cy="414360"/>
              </a:xfrm>
            </p:grpSpPr>
            <p:sp>
              <p:nvSpPr>
                <p:cNvPr id="309" name="Line 21"/>
                <p:cNvSpPr/>
                <p:nvPr/>
              </p:nvSpPr>
              <p:spPr>
                <a:xfrm flipV="1">
                  <a:off x="4581000" y="420012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 txBox="1"/>
                <p:nvPr/>
              </p:nvSpPr>
              <p:spPr>
                <a:xfrm rot="10800000">
                  <a:off x="4580640" y="420012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619D-340B-4649-8264-5B7123DDEB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3B99-4565-4926-AFE8-9288E02B41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4200" y="214200"/>
            <a:ext cx="3753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科学问题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3143160" y="1071720"/>
            <a:ext cx="2786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给动物分类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  <a:ea typeface="宋体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"/>
          <p:cNvGrpSpPr/>
          <p:nvPr/>
        </p:nvGrpSpPr>
        <p:grpSpPr>
          <a:xfrm>
            <a:off x="928800" y="1714680"/>
            <a:ext cx="6643440" cy="4142880"/>
            <a:chOff x="928800" y="1714680"/>
            <a:chExt cx="6643440" cy="4142880"/>
          </a:xfrm>
        </p:grpSpPr>
        <p:grpSp>
          <p:nvGrpSpPr>
            <p:cNvPr id="319" name="Group 3"/>
            <p:cNvGrpSpPr/>
            <p:nvPr/>
          </p:nvGrpSpPr>
          <p:grpSpPr>
            <a:xfrm>
              <a:off x="928800" y="1714680"/>
              <a:ext cx="6643440" cy="2347560"/>
              <a:chOff x="928800" y="1714680"/>
              <a:chExt cx="6643440" cy="2347560"/>
            </a:xfrm>
          </p:grpSpPr>
          <p:sp>
            <p:nvSpPr>
              <p:cNvPr id="320" name="Oval 4"/>
              <p:cNvSpPr/>
              <p:nvPr/>
            </p:nvSpPr>
            <p:spPr>
              <a:xfrm>
                <a:off x="928800" y="3233880"/>
                <a:ext cx="149544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5"/>
              <p:cNvSpPr/>
              <p:nvPr/>
            </p:nvSpPr>
            <p:spPr>
              <a:xfrm>
                <a:off x="2786040" y="2266920"/>
                <a:ext cx="2071080" cy="82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从卵孵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而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6"/>
              <p:cNvSpPr/>
              <p:nvPr/>
            </p:nvSpPr>
            <p:spPr>
              <a:xfrm>
                <a:off x="6076800" y="240516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7"/>
              <p:cNvSpPr/>
              <p:nvPr/>
            </p:nvSpPr>
            <p:spPr>
              <a:xfrm>
                <a:off x="6076800" y="171468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8"/>
              <p:cNvSpPr/>
              <p:nvPr/>
            </p:nvSpPr>
            <p:spPr>
              <a:xfrm>
                <a:off x="6076800" y="323388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2285640" y="2928960"/>
                <a:ext cx="714240" cy="500040"/>
                <a:chOff x="2285640" y="2928960"/>
                <a:chExt cx="714240" cy="500040"/>
              </a:xfrm>
            </p:grpSpPr>
            <p:sp>
              <p:nvSpPr>
                <p:cNvPr id="326" name="Line 9"/>
                <p:cNvSpPr/>
                <p:nvPr/>
              </p:nvSpPr>
              <p:spPr>
                <a:xfrm flipV="1">
                  <a:off x="2285640" y="2928960"/>
                  <a:ext cx="714240" cy="5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 txBox="1"/>
                <p:nvPr/>
              </p:nvSpPr>
              <p:spPr>
                <a:xfrm rot="10800000">
                  <a:off x="2285640" y="2928960"/>
                  <a:ext cx="71424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747320" y="2680920"/>
                <a:ext cx="1329120" cy="360"/>
                <a:chOff x="4747320" y="2680920"/>
                <a:chExt cx="1329120" cy="360"/>
              </a:xfrm>
            </p:grpSpPr>
            <p:sp>
              <p:nvSpPr>
                <p:cNvPr id="329" name="Line 10"/>
                <p:cNvSpPr/>
                <p:nvPr/>
              </p:nvSpPr>
              <p:spPr>
                <a:xfrm>
                  <a:off x="4747320" y="2681280"/>
                  <a:ext cx="132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 rot="10800000">
                  <a:off x="4747320" y="2680920"/>
                  <a:ext cx="1329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581360" y="2957760"/>
                <a:ext cx="1495080" cy="552240"/>
                <a:chOff x="4581360" y="2957760"/>
                <a:chExt cx="1495080" cy="552240"/>
              </a:xfrm>
            </p:grpSpPr>
            <p:sp>
              <p:nvSpPr>
                <p:cNvPr id="332" name="Line 11"/>
                <p:cNvSpPr/>
                <p:nvPr/>
              </p:nvSpPr>
              <p:spPr>
                <a:xfrm>
                  <a:off x="4581360" y="2957760"/>
                  <a:ext cx="1495080" cy="55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4581360" y="2957760"/>
                  <a:ext cx="1495080" cy="5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581000" y="1990440"/>
                <a:ext cx="1495440" cy="414360"/>
                <a:chOff x="4581000" y="1990440"/>
                <a:chExt cx="1495440" cy="414360"/>
              </a:xfrm>
            </p:grpSpPr>
            <p:sp>
              <p:nvSpPr>
                <p:cNvPr id="335" name="Line 12"/>
                <p:cNvSpPr/>
                <p:nvPr/>
              </p:nvSpPr>
              <p:spPr>
                <a:xfrm flipV="1">
                  <a:off x="4581360" y="199044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 txBox="1"/>
                <p:nvPr/>
              </p:nvSpPr>
              <p:spPr>
                <a:xfrm rot="10800000">
                  <a:off x="4581000" y="199044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" name="Group 13"/>
            <p:cNvGrpSpPr/>
            <p:nvPr/>
          </p:nvGrpSpPr>
          <p:grpSpPr>
            <a:xfrm>
              <a:off x="2255040" y="3924360"/>
              <a:ext cx="5316840" cy="1933200"/>
              <a:chOff x="2255040" y="3924360"/>
              <a:chExt cx="5316840" cy="1933200"/>
            </a:xfrm>
          </p:grpSpPr>
          <p:sp>
            <p:nvSpPr>
              <p:cNvPr id="338" name="Oval 14"/>
              <p:cNvSpPr/>
              <p:nvPr/>
            </p:nvSpPr>
            <p:spPr>
              <a:xfrm>
                <a:off x="2571480" y="4476600"/>
                <a:ext cx="2175480" cy="82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由母亲直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生下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5"/>
              <p:cNvSpPr/>
              <p:nvPr/>
            </p:nvSpPr>
            <p:spPr>
              <a:xfrm>
                <a:off x="6076440" y="392436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6"/>
              <p:cNvSpPr/>
              <p:nvPr/>
            </p:nvSpPr>
            <p:spPr>
              <a:xfrm>
                <a:off x="6076440" y="461484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7"/>
              <p:cNvSpPr/>
              <p:nvPr/>
            </p:nvSpPr>
            <p:spPr>
              <a:xfrm>
                <a:off x="6076440" y="5305320"/>
                <a:ext cx="1495440" cy="55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2255040" y="3924360"/>
                <a:ext cx="601560" cy="648000"/>
                <a:chOff x="2255040" y="3924360"/>
                <a:chExt cx="601560" cy="648000"/>
              </a:xfrm>
            </p:grpSpPr>
            <p:sp>
              <p:nvSpPr>
                <p:cNvPr id="343" name="Line 18"/>
                <p:cNvSpPr/>
                <p:nvPr/>
              </p:nvSpPr>
              <p:spPr>
                <a:xfrm>
                  <a:off x="2255040" y="3924360"/>
                  <a:ext cx="601560" cy="64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 txBox="1"/>
                <p:nvPr/>
              </p:nvSpPr>
              <p:spPr>
                <a:xfrm>
                  <a:off x="2255040" y="3924360"/>
                  <a:ext cx="6015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747320" y="4890960"/>
                <a:ext cx="1329120" cy="360"/>
                <a:chOff x="4747320" y="4890960"/>
                <a:chExt cx="1329120" cy="360"/>
              </a:xfrm>
            </p:grpSpPr>
            <p:sp>
              <p:nvSpPr>
                <p:cNvPr id="346" name="Line 19"/>
                <p:cNvSpPr/>
                <p:nvPr/>
              </p:nvSpPr>
              <p:spPr>
                <a:xfrm>
                  <a:off x="4747320" y="4891320"/>
                  <a:ext cx="132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 txBox="1"/>
                <p:nvPr/>
              </p:nvSpPr>
              <p:spPr>
                <a:xfrm rot="10800000">
                  <a:off x="4747320" y="4890960"/>
                  <a:ext cx="1329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581000" y="5167080"/>
                <a:ext cx="1495080" cy="414360"/>
                <a:chOff x="4581000" y="5167080"/>
                <a:chExt cx="1495080" cy="414360"/>
              </a:xfrm>
            </p:grpSpPr>
            <p:sp>
              <p:nvSpPr>
                <p:cNvPr id="349" name="Line 20"/>
                <p:cNvSpPr/>
                <p:nvPr/>
              </p:nvSpPr>
              <p:spPr>
                <a:xfrm>
                  <a:off x="4581000" y="516708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 txBox="1"/>
                <p:nvPr/>
              </p:nvSpPr>
              <p:spPr>
                <a:xfrm>
                  <a:off x="4581000" y="516708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580640" y="4200120"/>
                <a:ext cx="1495440" cy="414360"/>
                <a:chOff x="4580640" y="4200120"/>
                <a:chExt cx="1495440" cy="414360"/>
              </a:xfrm>
            </p:grpSpPr>
            <p:sp>
              <p:nvSpPr>
                <p:cNvPr id="352" name="Line 21"/>
                <p:cNvSpPr/>
                <p:nvPr/>
              </p:nvSpPr>
              <p:spPr>
                <a:xfrm flipV="1">
                  <a:off x="4581000" y="4200120"/>
                  <a:ext cx="149508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 txBox="1"/>
                <p:nvPr/>
              </p:nvSpPr>
              <p:spPr>
                <a:xfrm rot="10800000">
                  <a:off x="4580640" y="4200120"/>
                  <a:ext cx="14950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4" name="矩形 24"/>
          <p:cNvSpPr/>
          <p:nvPr/>
        </p:nvSpPr>
        <p:spPr>
          <a:xfrm>
            <a:off x="136224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B726-DCC7-4869-8996-6537EB96B3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481120" y="17733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观察了解其他动物的生命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4B8F-CE8C-41F2-B152-669334DAB4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蝴蝶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F95B-F241-4B2A-8318-AB9D9D120A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青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CA77-CC17-484E-B718-83CEE8117C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066680" y="304920"/>
            <a:ext cx="723924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Calibri"/>
              </a:rPr>
              <a:t>据研究，一只狗能活十几年，一只海龟能活几百年，而一只蝴蝶只能活几个月时间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35812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90720" y="3657600"/>
            <a:ext cx="73152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那么，你知道它们从出生到死亡之间还要经历哪些生长时期呢？为什么这类动物没有因为它们的死亡而在我们地球上消失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000080" y="22147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我们发现动物的寿命有长有短，但最终都会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3E1D-4EA1-4621-A6F0-31BF9F4B5D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11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4766760"/>
            <a:ext cx="807696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结合生活体验，对上图青蛙的生长和发育的顺序进行填图，并且排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14240" y="357120"/>
            <a:ext cx="43196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宋体"/>
                <a:ea typeface="宋体"/>
              </a:rPr>
              <a:t>青蛙的生长和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0948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成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286000" y="3581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受精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3434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胚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01992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蝌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924680" y="3519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幼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EA55-D756-4189-B5A3-3EF29E87A9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青蛙发育"/>
          <p:cNvPicPr/>
          <p:nvPr/>
        </p:nvPicPr>
        <p:blipFill>
          <a:blip r:embed="rId1"/>
          <a:stretch/>
        </p:blipFill>
        <p:spPr>
          <a:xfrm>
            <a:off x="685800" y="184320"/>
            <a:ext cx="7696080" cy="542124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185" name="Text Box 3"/>
          <p:cNvSpPr/>
          <p:nvPr/>
        </p:nvSpPr>
        <p:spPr>
          <a:xfrm>
            <a:off x="4786200" y="6278400"/>
            <a:ext cx="12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成 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879480" y="5638680"/>
            <a:ext cx="1635120" cy="581400"/>
            <a:chOff x="879480" y="5638680"/>
            <a:chExt cx="1635120" cy="581400"/>
          </a:xfrm>
        </p:grpSpPr>
        <p:sp>
          <p:nvSpPr>
            <p:cNvPr id="187" name="Text Box 5"/>
            <p:cNvSpPr/>
            <p:nvPr/>
          </p:nvSpPr>
          <p:spPr>
            <a:xfrm>
              <a:off x="879480" y="5638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ahoma"/>
                </a:rPr>
                <a:t>受精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981080" y="5943600"/>
              <a:ext cx="533520" cy="360"/>
              <a:chOff x="1981080" y="5943600"/>
              <a:chExt cx="533520" cy="360"/>
            </a:xfrm>
          </p:grpSpPr>
          <p:sp>
            <p:nvSpPr>
              <p:cNvPr id="189" name="Line 6"/>
              <p:cNvSpPr/>
              <p:nvPr/>
            </p:nvSpPr>
            <p:spPr>
              <a:xfrm>
                <a:off x="1981080" y="5943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1981080" y="5943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7"/>
          <p:cNvGrpSpPr/>
          <p:nvPr/>
        </p:nvGrpSpPr>
        <p:grpSpPr>
          <a:xfrm>
            <a:off x="2514600" y="5638680"/>
            <a:ext cx="1600200" cy="581400"/>
            <a:chOff x="2514600" y="5638680"/>
            <a:chExt cx="1600200" cy="581400"/>
          </a:xfrm>
        </p:grpSpPr>
        <p:sp>
          <p:nvSpPr>
            <p:cNvPr id="192" name="Text Box 8"/>
            <p:cNvSpPr/>
            <p:nvPr/>
          </p:nvSpPr>
          <p:spPr>
            <a:xfrm>
              <a:off x="2514600" y="56386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Calibri"/>
                </a:rPr>
                <a:t>胚 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581280" y="5943600"/>
              <a:ext cx="533520" cy="360"/>
              <a:chOff x="3581280" y="5943600"/>
              <a:chExt cx="533520" cy="360"/>
            </a:xfrm>
          </p:grpSpPr>
          <p:sp>
            <p:nvSpPr>
              <p:cNvPr id="194" name="Line 9"/>
              <p:cNvSpPr/>
              <p:nvPr/>
            </p:nvSpPr>
            <p:spPr>
              <a:xfrm>
                <a:off x="3581280" y="5943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581280" y="5943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0"/>
          <p:cNvGrpSpPr/>
          <p:nvPr/>
        </p:nvGrpSpPr>
        <p:grpSpPr>
          <a:xfrm>
            <a:off x="4168440" y="5661000"/>
            <a:ext cx="1437120" cy="581400"/>
            <a:chOff x="4168440" y="5661000"/>
            <a:chExt cx="1437120" cy="581400"/>
          </a:xfrm>
        </p:grpSpPr>
        <p:sp>
          <p:nvSpPr>
            <p:cNvPr id="197" name="Text Box 11"/>
            <p:cNvSpPr/>
            <p:nvPr/>
          </p:nvSpPr>
          <p:spPr>
            <a:xfrm>
              <a:off x="4168440" y="5661000"/>
              <a:ext cx="7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ahoma"/>
                </a:rPr>
                <a:t>蝌 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072040" y="5965920"/>
              <a:ext cx="533520" cy="360"/>
              <a:chOff x="5072040" y="5965920"/>
              <a:chExt cx="533520" cy="360"/>
            </a:xfrm>
          </p:grpSpPr>
          <p:sp>
            <p:nvSpPr>
              <p:cNvPr id="199" name="Line 12"/>
              <p:cNvSpPr/>
              <p:nvPr/>
            </p:nvSpPr>
            <p:spPr>
              <a:xfrm>
                <a:off x="5072040" y="59659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5072040" y="596592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14"/>
          <p:cNvSpPr/>
          <p:nvPr/>
        </p:nvSpPr>
        <p:spPr>
          <a:xfrm>
            <a:off x="5963760" y="5715000"/>
            <a:ext cx="77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幼 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直接箭头连接符 16"/>
          <p:cNvCxnSpPr/>
          <p:nvPr/>
        </p:nvCxnSpPr>
        <p:spPr>
          <a:xfrm flipH="1">
            <a:off x="6357600" y="6216120"/>
            <a:ext cx="2160" cy="429480"/>
          </a:xfrm>
          <a:prstGeom prst="straightConnector1">
            <a:avLst/>
          </a:prstGeom>
          <a:ln w="9360">
            <a:solidFill>
              <a:srgbClr val="b6dcdf"/>
            </a:solidFill>
            <a:round/>
            <a:tailEnd len="med" type="arrow" w="med"/>
          </a:ln>
        </p:spPr>
      </p:cxnSp>
    </p:spTree>
  </p:cSld>
  <p:transition spd="med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D6EE-B373-4C53-B9F9-F17BBAB507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2214720" y="642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蝌蚪和成蛙特征比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57120" y="2286000"/>
          <a:ext cx="8153280" cy="19810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676520"/>
                <a:gridCol w="1828800"/>
                <a:gridCol w="167616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活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动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动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呼吸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蝌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和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45"/>
          <p:cNvSpPr/>
          <p:nvPr/>
        </p:nvSpPr>
        <p:spPr>
          <a:xfrm>
            <a:off x="2033640" y="3048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6"/>
          <p:cNvSpPr/>
          <p:nvPr/>
        </p:nvSpPr>
        <p:spPr>
          <a:xfrm>
            <a:off x="1690560" y="362916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水陆两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7"/>
          <p:cNvSpPr/>
          <p:nvPr/>
        </p:nvSpPr>
        <p:spPr>
          <a:xfrm>
            <a:off x="3938760" y="3048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8"/>
          <p:cNvSpPr/>
          <p:nvPr/>
        </p:nvSpPr>
        <p:spPr>
          <a:xfrm>
            <a:off x="3786120" y="3657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四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49"/>
          <p:cNvSpPr/>
          <p:nvPr/>
        </p:nvSpPr>
        <p:spPr>
          <a:xfrm>
            <a:off x="5538960" y="30481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游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50"/>
          <p:cNvSpPr/>
          <p:nvPr/>
        </p:nvSpPr>
        <p:spPr>
          <a:xfrm>
            <a:off x="5119560" y="3629160"/>
            <a:ext cx="16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跳跃游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65A6-49C2-4544-AEA5-4F47800A27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2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4168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928800" y="285840"/>
            <a:ext cx="431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宋体"/>
                <a:ea typeface="宋体"/>
              </a:rPr>
              <a:t>蝗虫的生长和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523880" y="5295960"/>
            <a:ext cx="61920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卵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c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WordArt 5"/>
          <p:cNvSpPr txBox="1"/>
          <p:nvPr/>
        </p:nvSpPr>
        <p:spPr>
          <a:xfrm rot="21577200">
            <a:off x="3504960" y="5295960"/>
            <a:ext cx="92376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若虫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c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8" name="WordArt 6"/>
          <p:cNvSpPr txBox="1"/>
          <p:nvPr/>
        </p:nvSpPr>
        <p:spPr>
          <a:xfrm>
            <a:off x="5867280" y="5219640"/>
            <a:ext cx="9194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成虫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c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2286000" y="5638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4648320" y="5638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7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6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