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9.png" ContentType="image/png"/>
  <Override PartName="/ppt/media/image11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D86-433A-464F-A0D4-9F88ADB2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99D-B86A-411B-B668-D0977FAA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71B1-C06B-4F08-8628-4FE4D1DC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FE98-25B6-4B5D-BC88-E1A09FC8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EE161-8480-468A-BB31-6F9AA9DD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C590A-7432-474B-9EE5-B1C1999C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9248A-E9ED-467D-89BD-E06A1B6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2A9C5-51AE-4338-A77D-44C3601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D0281-46BA-4219-A6CC-E5FA8394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0B19-5418-4711-9528-F72E2BD8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EE26-048A-4453-92C9-5692DE3B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F83D3-ADE0-4DF1-88B0-CFBEE4DF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82D-549B-4365-A543-29155702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3A97B-AFEB-4D28-B67F-CC6D835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F23AA-B073-4E9A-A4A0-5C86978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7523E-1B2A-4AF4-A9ED-F6B7F0B1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39949-AB83-4A71-AD14-C441BF2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EFD52-FD5F-45A7-B94C-EE3A142F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35286-F544-440F-8FAD-730DA64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89040-1917-4EB6-810F-26D1AB8E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9FFAA-2EA9-4BD3-A793-31926792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5A45C-D87B-40DC-8950-F4726427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EB0D8-FB24-4D47-848C-7BA9377A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CA4-DA5D-4CC5-BDBF-A7D7CB52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348B1-F082-4327-934B-CD54B9B7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19268-B864-4280-B5A1-39B6ADB7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7DBAF-7ADF-4EC7-BCD6-477F9884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90CB1-1A95-4376-BEA9-9120EA77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FEB80-917B-4E29-A17C-B6276F87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C71AA-7FDD-4CBC-AF62-BD9FA0A5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5B073-F076-434B-9C2F-C507FC6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1C538-7964-43EC-A018-79168346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0AAC5-8105-49C1-82E9-E7532A22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504B1-0753-456E-BEA9-768723F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16446-4E27-4B14-B611-8778AFC5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8EC3F-E561-447A-A7D4-C3CA34BE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F31C4-B195-4184-9B65-40D1797B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AE3DD-52D5-482B-B7B4-C0FBDA63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C3863-D2D5-4E39-8263-14075912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CE2E1-2089-42E8-81E8-8E6DE5A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2295F-B2A3-4638-9ECB-C4BB834A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8BBF3-83FC-42CE-9E46-7A7B5C2F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AFFAD-0E06-4B5A-8BFA-D89F488D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E8865-D54A-4775-9E11-43DA8B9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0FDF4-5698-4AA4-B49D-B299174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EFE66-C2D5-46A6-8D63-5DB7088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0D95E-0634-4D03-802B-917CCCD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9774-8557-4310-97BB-EB1DF55A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42CAF-232E-4C80-856E-2585A44C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226A9-75AA-4073-A0DC-98D63E1A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79B13-7C79-41D8-B41B-4BC2D8C1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83336-A04C-42F1-A6F0-BEF02539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3EF29-1445-41E8-B1A4-C0895C3D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1CC7D-7670-4359-9DCD-0A09724D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02135-B7E4-48E3-A403-3CBB9EB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5826F-A72E-4E24-BC93-F2F63A4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00430-D263-4240-9C74-BB61C37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663BA-4F91-4813-8ABD-4F0ABF3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4D28F-269C-4DBC-990F-F6721A17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33AE2-79CC-470B-A1C6-8B3C4112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AD81A-F487-4787-88E4-2AA208CA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93FD1-4F55-45F2-BBD8-92FCDE7E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0D63C-69C7-4445-8F9C-5607933D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49428-A587-47D5-BB6C-6DCD54D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C97AC-D19E-480A-81CF-1A1D9B71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C72BD-8318-4CF1-8990-463DF6BC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20C32-5AD0-4A71-89D6-F2A00CCF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2DC8F-802B-4AA0-B141-1E5BE70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20BDD-9BD0-42A3-AF32-EBF1BC77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894CA-D32D-4B6B-BAF5-1E934F4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CD12C-2D3D-4F58-968B-9CF8EF34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9C473-AFB3-4389-BC4D-728798DD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424D2-32D3-4BF9-94BE-AC89D652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290B7-CAC1-47ED-8C94-902D5553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1DA54-56F2-45F4-8C38-F44693B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7FBB4-1567-485B-BDD2-EECBC9C2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0FDB3-D358-46EF-A16A-53DEEF54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79A75-FA27-46BA-AA17-F2AAC51D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565B1-34BA-4513-B204-02917130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183A4-F79F-47BC-B887-163B4E54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CFA5D-A838-4425-91ED-5CC10DE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85FF3-680F-4D32-A4B4-EB2A5DFB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7EF82-5A66-4E18-AFDE-EA139AB0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D04D6-AA8C-4B66-990C-9A7371AD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6F27A-6F5E-48C9-A634-8EF644B1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6FF-461F-4313-8B93-445C1204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3A6C-5782-448A-915A-1B6E058C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AB86-BB5D-41C4-AA66-E5F2B26C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3975-CE92-464F-BCD9-93951324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1E8D-E570-44FB-9B84-8AF619CA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3EAA-FC4B-4D8A-864A-9486534E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1D5-3CC8-4E1D-BD37-B416F925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D9EF-3A75-4AC5-AF53-60DE18C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0DC-C9D2-48B5-8014-45B41BF9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B0AD-46DB-4EDA-B147-9F56758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F65C-3383-4FDA-A718-AC9CB65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A80C-27CF-4C8F-BB83-C190C492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34DA-29C2-4B6D-89C3-07D4AE5E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8563-A6A0-413D-8C74-86F1E7B7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C8E7-F561-4E1E-A7F6-50174EAA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4079-7944-4EC2-9182-378AF76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EAE7-011E-4182-9237-7E4ED813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341-2A99-4C63-9266-4D5A827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7D8F-99A3-4D0D-8E55-CDE7DB48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BA0A-122E-4D7D-A4E7-C443CCFA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9416-9F89-4C7E-9E9B-BDD0361D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CF80-552A-4A8C-8AE3-90BF458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A69B-DE5A-47A0-BCDD-FC618CB2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E554-5B44-4D60-A830-70A89FF2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40CF-676E-457D-9E5E-EF627E2A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7319-597E-4206-8CE0-6730EE28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DA8F-040F-4298-B978-025C6C73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D721F-B2D7-480F-9870-A032ABD3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52C-50A1-4443-A222-1AC57C99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D6B9-9FFA-4A58-BEC1-E5FE9458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BE2B-DA4E-4D04-AA35-ABB22663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B6E5E-55DA-4EAE-AB04-C10891FB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91D4-6282-4F76-ACEF-0403AE36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6C9A-4E37-4148-8A2C-B8FB083F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AB2E-B8E5-47D2-A575-8BFEECCE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6739-E3CC-4191-8175-F217A1B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6C27B-0339-4C80-AB27-E2D8816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FBE6-9001-4693-8131-8A8C1DB8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6AA0-F8A6-476E-A3B6-09B6BDFE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A58-FB72-450E-AE78-3F012E23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1D67-2121-4024-80BA-986E6F0A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072D-A971-45D1-93A3-AAD9D84E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A558-3E22-4BD4-98C0-221CD11D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FC04-BA75-4A16-87C3-F3A69EF7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F15F-AA59-46B0-894F-C9079E1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45D69-456F-4CD8-9797-06D8809B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EF07-2208-408B-8402-4B4F5C5C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E2AE-0E03-4C4A-A42E-AD8F055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1B0F-AB3A-4054-9D29-4DE71BD6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6FD18-41A4-41C8-9B27-8841B04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BE8-3884-4AF0-B9D5-059F4871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0D86B-5A1B-4246-8F3E-6A3840FD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CE30-8098-46CD-A75C-DE3A3264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5995-09ED-436A-AA75-E92E01B4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E087E-FEFA-45B8-B9A5-E3432EB3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3DB6C-7F62-44C8-8DF5-20A954B7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E694C-67A2-4832-A858-1017F80F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D606-6661-4943-9C75-D447267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15C5-AC7D-4493-908F-AA6EF44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D6BEF-FB8C-415C-A145-7E61B162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47E9-BCE9-4AF8-A5D2-AC75175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87B-1E10-422B-8FE7-F2AFC8E6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5ED35-D529-4B68-9A10-0F1FEF1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4A1BB-1C2B-46C1-A686-4D6FBD0A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106E-1176-4C18-83B5-34A59D1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5B45-B5ED-4518-9691-10E3B141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CB35A-5095-450D-8BF2-A7DFD9D8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388BE-C910-456B-A1FB-D47D8F9F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7A9B0-67FA-4AD4-B7AC-07CF295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613E-ABE6-45A6-B910-1C82EE23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23556-1F21-45AF-B345-62D1BF74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4B0E1-4087-46A4-B98D-12C05307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ADA-4435-4667-8FB6-7EA54AF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60240" y="7652520"/>
            <a:ext cx="1486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E0D26-CB9C-4007-B9F3-65DE90C9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EEC1A-582D-4E62-BDA1-533AE47F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66A17-5059-4C40-8235-29CE2E7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9A7C-09D0-474A-889A-D3BBE196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723760" y="3565080"/>
            <a:ext cx="6604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1B13-05F4-4205-BEFD-3DFA717F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108120" y="3808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72376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108120" y="3565080"/>
            <a:ext cx="322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CC08-9710-4217-B409-BD94E1E5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5648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189560" y="3808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7237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95648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189560" y="3565080"/>
            <a:ext cx="212616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7829C-1434-440D-B19D-2ECE6C24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D55D-EC1B-4B0E-9A12-939CE7FE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6FE97-206A-4A6C-9218-122A4AA7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D329D-89BB-4BA9-981C-C96C3BEA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2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0541-CE0F-47C0-805D-3F212544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DC8-85FC-4B82-8DF3-D59580B70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B27B-6219-44DA-AADB-4B3732CCB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A204-F564-4055-8D1A-91AC44D34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4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5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6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5E12-C651-4AC9-B160-A59AA3A37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7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8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9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CE6-A29A-4F1C-B7B5-EBB2EED4F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pic>
          <p:nvPicPr>
            <p:cNvPr id="576" name="Picture 3" descr="R02"/>
            <p:cNvPicPr/>
            <p:nvPr/>
          </p:nvPicPr>
          <p:blipFill>
            <a:blip r:embed="rId3"/>
            <a:stretch/>
          </p:blipFill>
          <p:spPr>
            <a:xfrm>
              <a:off x="1816200" y="4772160"/>
              <a:ext cx="808956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" descr="R04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26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5" descr="R01"/>
            <p:cNvPicPr/>
            <p:nvPr/>
          </p:nvPicPr>
          <p:blipFill>
            <a:blip r:embed="rId5"/>
            <a:stretch/>
          </p:blipFill>
          <p:spPr>
            <a:xfrm>
              <a:off x="330120" y="1371600"/>
              <a:ext cx="9245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59EC-C15B-449A-BB53-9A65DF92A5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R02"/>
          <p:cNvPicPr/>
          <p:nvPr/>
        </p:nvPicPr>
        <p:blipFill>
          <a:blip r:embed="rId3"/>
          <a:stretch/>
        </p:blipFill>
        <p:spPr>
          <a:xfrm>
            <a:off x="0" y="4303800"/>
            <a:ext cx="9906120" cy="255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R04"/>
          <p:cNvPicPr/>
          <p:nvPr/>
        </p:nvPicPr>
        <p:blipFill>
          <a:blip r:embed="rId4"/>
          <a:stretch/>
        </p:blipFill>
        <p:spPr>
          <a:xfrm>
            <a:off x="660240" y="0"/>
            <a:ext cx="1827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60240" y="380880"/>
            <a:ext cx="14860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2723760" y="380880"/>
            <a:ext cx="66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FE39-75CA-4C66-AA32-C2CB09AE40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d1"/>
          <p:cNvPicPr/>
          <p:nvPr/>
        </p:nvPicPr>
        <p:blipFill>
          <a:blip r:embed="rId3"/>
          <a:stretch/>
        </p:blipFill>
        <p:spPr>
          <a:xfrm>
            <a:off x="0" y="-243000"/>
            <a:ext cx="9906120" cy="710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B378-B474-4BB3-AF71-4B93290DCC9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A5EA-79AE-41A1-8269-0B635BC3C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3D37-AB2B-42AD-88D2-E1254930E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FDB1-0A07-408B-A68A-AC60C325E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7B0-4AF9-4F13-88A9-A44CD7648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A9AB-F71E-4234-94BF-8416F4FBC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04520" y="1699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宋体"/>
                <a:ea typeface="宋体"/>
              </a:rPr>
              <a:t>热爱生命语文</a:t>
            </a:r>
            <a:r>
              <a:rPr b="0" lang="en-US" sz="4000" spc="-1" strike="noStrike">
                <a:solidFill>
                  <a:srgbClr val="ff66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1496880" y="407628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杰克 伦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4"/>
          <p:cNvSpPr/>
          <p:nvPr/>
        </p:nvSpPr>
        <p:spPr>
          <a:xfrm>
            <a:off x="1065240" y="765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艰难爬行的主人公和一直尾随其后的饥饿不堪、奄奄一息的狼所面临的选择是简单而清晰的：要么战胜对方生存下去，要么被对方战胜，沦为牺牲品。主人公以他坚毅勇敢的性格和顽强不屈的生命意志，在同狼的最后搏斗中取胜，成为真正的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强者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。小说启示人们，生命是神奇而宝贵的，只有敬畏生命，热爱生命，才能让生命光芒四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4"/>
          <p:cNvSpPr/>
          <p:nvPr/>
        </p:nvSpPr>
        <p:spPr>
          <a:xfrm>
            <a:off x="992160" y="1844640"/>
            <a:ext cx="8209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  <a:ea typeface="黑体"/>
              </a:rPr>
              <a:t>文中的“狼”可以看作险恶的自然环境与自然力量的一种隐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207800" y="404280"/>
            <a:ext cx="2779560" cy="15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2b2b2"/>
                </a:solidFill>
                <a:latin typeface="Times New Roman"/>
                <a:ea typeface="华文彩云"/>
              </a:rPr>
              <a:t>思考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423800" y="1844640"/>
            <a:ext cx="76244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黑体"/>
                <a:ea typeface="黑体"/>
              </a:rPr>
              <a:t> </a:t>
            </a:r>
            <a:r>
              <a:rPr b="0" lang="zh-CN" sz="6000" spc="-1" strike="noStrike">
                <a:solidFill>
                  <a:srgbClr val="cc6600"/>
                </a:solidFill>
                <a:latin typeface="黑体"/>
                <a:ea typeface="黑体"/>
              </a:rPr>
              <a:t>这篇小说在艺术上有什么特点</a:t>
            </a:r>
            <a:r>
              <a:rPr b="0" lang="en-US" sz="6000" spc="-1" strike="noStrike">
                <a:solidFill>
                  <a:srgbClr val="cc6600"/>
                </a:solidFill>
                <a:latin typeface="黑体"/>
                <a:ea typeface="黑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2B7F-0076-4FFB-9497-D391897DA7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4"/>
          <p:cNvSpPr/>
          <p:nvPr/>
        </p:nvSpPr>
        <p:spPr>
          <a:xfrm>
            <a:off x="1136520" y="665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  <a:ea typeface="黑体"/>
              </a:rPr>
              <a:t>一。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故事情节的传奇性与具体细节的逼真性的高度统一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1136520" y="1935000"/>
            <a:ext cx="82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黑体"/>
              </a:rPr>
              <a:t>二。准确地摹拟了主人公在特定境遇中的心理感受与意识活．非常逼真地展示了一个疲惫、衰弱的人在荒原上的艰难求生过程，其“真实性”可谓达到了无以复加的程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矩形 4"/>
          <p:cNvSpPr/>
          <p:nvPr/>
        </p:nvSpPr>
        <p:spPr>
          <a:xfrm>
            <a:off x="2073240" y="220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S PGothic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Picture 3" descr=""/>
          <p:cNvPicPr/>
          <p:nvPr/>
        </p:nvPicPr>
        <p:blipFill>
          <a:blip r:embed="rId1"/>
          <a:stretch/>
        </p:blipFill>
        <p:spPr>
          <a:xfrm>
            <a:off x="920880" y="836640"/>
            <a:ext cx="2806560" cy="403236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4"/>
          <p:cNvSpPr/>
          <p:nvPr/>
        </p:nvSpPr>
        <p:spPr>
          <a:xfrm>
            <a:off x="3800520" y="765000"/>
            <a:ext cx="509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伦敦，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宋体"/>
              </a:rPr>
              <a:t>J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．（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宋体"/>
              </a:rPr>
              <a:t>1876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宋体"/>
              </a:rPr>
              <a:t>1916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）美国小说家，生于加利福尼亚旧金山一个破产农民家庭。他从幼年起就不得不出卖体力养活自己。他当过牧童、报童、童工、工 人、水手。他还参加过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宋体"/>
              </a:rPr>
              <a:t>1893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宋体"/>
              </a:rPr>
              <a:t>年大恐慌中失业大军组成的抗议队伍，以流浪罪被捕入狱，罚做苦工几个月。出狱后，他一边拼命干活，一边刻苦学习，广泛涉猎达 尔文、斯宾塞、尼采和马克思等人的著作。他曾考进加利福尼亚大学，一年后辍学。后来受了阿拉斯加淘金热的影响，加入了淘金者的行列，却因病空手而归，但带 回了北方故事的丰富素材。从此，他埋头写作，成为“出卖脑力劳动”的职业作家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4"/>
          <p:cNvSpPr/>
          <p:nvPr/>
        </p:nvSpPr>
        <p:spPr>
          <a:xfrm>
            <a:off x="920880" y="549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杰克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伦敦从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0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起连续发表了许多短篇小说，通称为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北方故事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，是他的成名之作。描写英国伦敦贫民窟和工人的悲惨生活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深渊中的人们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3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自传体小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马丁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伊登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9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政治幻想小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铁蹄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8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等许多中长篇小说和散文集，深刻地揭露资本主义社会的弊端和罪 恶，有力地控诉资产阶级对劳动人民的剥削，公开号召用阶级斗争和武装革命推翻资本主义制度。 杰克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伦敦在不长的十几年创作生涯中共写了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部长篇小说，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50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多篇中短篇小说和大量文学报告集、散文集和论文。其中比较优秀的还有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荒野的呼唤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i903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白牙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6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天大亮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10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谷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13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、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黑西哥人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13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，和受到列宁赞赏的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热爱生命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906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4"/>
          <p:cNvSpPr/>
          <p:nvPr/>
        </p:nvSpPr>
        <p:spPr>
          <a:xfrm>
            <a:off x="849240" y="765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热爱生命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黑体"/>
              </a:rPr>
              <a:t>》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黑体"/>
              </a:rPr>
              <a:t>讲述的是这样一个故事：一个美国西部的淘金者在返回的途中被朋友抛弃了，他独自跋涉在广袤的荒原上。冬天逼近了，寒风夹着雪花向他袭来，他已经没有一点食物了，而且他的腿受了伤，鞋子破了，脚在流血。他只能歪歪斜斜地蹒跚在布满沼泽、丘陵、小溪的荒原上，非常艰难地前行着。就在他的身体非常虚弱的时候，他遇到了一匹病狼。他发现这匹病狼跟在他的身后。舔着他的血迹尾随着他。就这样，两个濒临死亡的生灵拖着垂死的躯壳在荒原上互相猎取对方。为了活着回去、为了战胜这匹令他作呕的病狼．最终在人与狼的战斗中人获得了胜利，他咬死了狼，喝了狼的血。最终他获救了，使生命放射出耀眼的光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 Box 4"/>
          <p:cNvSpPr/>
          <p:nvPr/>
        </p:nvSpPr>
        <p:spPr>
          <a:xfrm>
            <a:off x="1208160" y="907920"/>
            <a:ext cx="7113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巉岩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ch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á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n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：高而险的山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踉跄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li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à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ng qi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à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ng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：走路不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辗转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zhǎn  zhuǎn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：①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身体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翻来覆去。②经过许多人的手或经过许多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奄奄一息：形容气息微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吹毛求疵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cī)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：故意挑毛病，找差错。疵，缺点、毛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骸骨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h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á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i)    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鲦鱼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ti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á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o)    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窒息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(zh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黑体"/>
              </a:rPr>
              <a:t>ì</a:t>
            </a:r>
            <a:r>
              <a:rPr b="1" lang="en-US" sz="2800" spc="-1" strike="noStrike">
                <a:solidFill>
                  <a:srgbClr val="cc6600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4"/>
          <p:cNvSpPr/>
          <p:nvPr/>
        </p:nvSpPr>
        <p:spPr>
          <a:xfrm>
            <a:off x="992160" y="11970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自由诵读全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小说的主人公在茫茫荒原上面临着哪些生死考验</a:t>
            </a:r>
            <a:r>
              <a:rPr b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?</a:t>
            </a: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他为什么能超越极限、战胜病狼而顽强地生存下来</a:t>
            </a:r>
            <a:r>
              <a:rPr b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198"/>
          <p:cNvSpPr/>
          <p:nvPr/>
        </p:nvSpPr>
        <p:spPr>
          <a:xfrm>
            <a:off x="1209600" y="1917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352160" y="475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cc"/>
                </a:solidFill>
                <a:latin typeface="Times New Roman"/>
              </a:rPr>
              <a:t>生死考验有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04880" y="1700280"/>
            <a:ext cx="89280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饥饿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恶劣的天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接下来是几天可怕的雨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人体力的极度虚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伤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野兽的威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地方的狼很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4"/>
          <p:cNvSpPr/>
          <p:nvPr/>
        </p:nvSpPr>
        <p:spPr>
          <a:xfrm>
            <a:off x="1568520" y="14414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黑体"/>
                <a:ea typeface="黑体"/>
              </a:rPr>
              <a:t>坚韧顽强，不畏艰难险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WordArt 5"/>
          <p:cNvSpPr txBox="1"/>
          <p:nvPr/>
        </p:nvSpPr>
        <p:spPr>
          <a:xfrm>
            <a:off x="2144880" y="3141720"/>
            <a:ext cx="5516280" cy="20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3366ff"/>
                </a:solidFill>
                <a:latin typeface="宋体"/>
              </a:rPr>
              <a:t>硬汉精神</a:t>
            </a:r>
            <a:endParaRPr b="0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792520" y="404280"/>
            <a:ext cx="386064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华文彩云"/>
              </a:rPr>
              <a:t>探究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775800" y="1699920"/>
            <a:ext cx="8334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小说的象征意味非常浓厚，这是西方许多文学作品的艺术特点。请揣摩文中显著的象征物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狼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cc6600"/>
                </a:solidFill>
                <a:latin typeface="黑体"/>
                <a:ea typeface="黑体"/>
              </a:rPr>
              <a:t>的隐喻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5:50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0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11962432052</vt:lpwstr>
  </property>
</Properties>
</file>