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20.png" ContentType="image/png"/>
  <Override PartName="/ppt/media/image7.jpeg" ContentType="image/jpeg"/>
  <Override PartName="/ppt/media/camera.wav" ContentType="audio/x-wav"/>
  <Override PartName="/ppt/media/image2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27.gif" ContentType="image/gif"/>
  <Override PartName="/ppt/media/image1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12.jpeg" ContentType="image/jpeg"/>
  <Override PartName="/ppt/media/cashreg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B53-F082-4814-A309-98B089C0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9C5-BB09-4ABC-880D-E7556788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EED38-4ADD-470A-864A-BC18655B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AEC23-7D66-4016-BF33-7257ED0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997AC-E577-4AA8-BC84-BE9F803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C51DA-6896-41BE-B613-FBDF352B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4015-E342-419A-A6B7-5586470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0ACB3-A07A-482F-83DF-E7740C8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03D73-9BF8-4F6C-9C63-A5A16775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543BC-B70A-4FB3-8CB2-75A5DB5B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D4998-FE37-4BA8-BA2C-9E3793BD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4C653-E6AC-4832-BA67-DF667176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BB7-0387-493D-BF75-FB274FD7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1FC37-48FD-4CA0-9B11-D8FF799C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BE1BD-D618-4720-BC36-A36B558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15FAA-6C6E-4057-9DD0-9D1CB90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9F01A-94E6-491A-8C68-2FBD8FFC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9ADEE-5F07-4F0F-9AA3-464D55D1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C4679-66DF-4727-81E2-124813C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B9040-362A-4837-B385-079D10C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FE7EA-9611-439A-BF06-2486492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AACD0-AC6B-47F3-9A75-E5E7CA85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9456D-BF55-4A9A-A507-C8326518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605-5B66-4645-A79C-0314204D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EC30-3E19-448B-9F20-1662CA5F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3B663-8856-4E9D-90F4-EC56AB1C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4B222-C401-4E8E-9AA3-ADAD78A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5E136-CE79-41D6-94B8-09DB1F02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EA625-0451-4DDB-AF26-C82C9B1F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30AB7-73E0-41AE-B7CE-48A574C2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51185-3379-47AA-956B-F5CF6F57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68C58-8853-45C2-ABAD-E9DF4EC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D468-CC6E-4078-9DC1-9F45EB1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0189D-E132-4EDF-934F-AA949A7D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F9BC-D2BA-446A-8EB7-C8B02D66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68BFB-BACD-4E26-AD70-59F423D7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B3EA-6994-473E-A535-0F0B592D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BCEC3-C557-4B83-B6F6-87C5695D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1D32-F734-41A5-B23D-5C20B2F2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143A9-4AC3-4B40-B5D3-9D98A048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EC7E-E02E-403F-979E-964DDC89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AA510-BA13-42EF-869C-5551702C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6E66D-BFD4-467F-9AEA-A8419DC5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2BBBD-9056-424A-BB6F-28BD0B5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01579-F86B-4D8D-AF5A-A69DE8F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B4B4-8D69-4666-B8A8-56709E5E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3AB98-0DF8-495F-A3A1-04EAE3E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991C7-A141-4548-BC1F-C748A5B3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67BE-5439-4ECE-97F4-E313F7BA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4CC94-549C-45AA-A55D-630005BF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0C6F0-DB6D-4389-AC45-31EF609E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C1683-E65F-48FC-AC8B-36AC5661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D91A9-8B33-452E-8030-B9381E19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5C3C7-4068-43F7-AE1D-68D4CE32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9120F-B615-41EC-8959-31F3C0DA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65AA7-B865-4002-8857-A157A47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B3F4-A951-4E36-83B6-143D1977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CCD15-309E-4FD4-A383-5C2EAAA8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CDD85-97F7-4366-968B-5FF99A00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C21AF-F41D-4E99-86B8-3911D3E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D6205-7734-4BA6-A104-2760D8C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8AF81-D849-437D-A634-7445FB4A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189B6-063A-4EF7-A5A7-49C3E72D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54114-8018-480F-84DB-84919AEE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5206-EEF9-4D9A-BD81-26AC1836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CF1E-9612-4A95-8916-C912A325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E5F-E43F-4F21-91B0-74917C7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F752-DD72-40AE-ADF8-49F9E1AA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F41-A49C-4883-A013-03B0C3AB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A43-2C59-44BB-BC4B-D352289D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4E4-8C08-442E-B8ED-6528DE4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FE64-74C9-41B0-B711-95FBBF8B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6BD4-01D5-41E3-8F52-E8A10ECC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07B5-D841-4E14-835A-8B44074E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6702-D0F3-4FE2-8856-15ED8AB3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0D3E-9AF7-4331-A0EB-8DA68106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52F9-8FC1-446F-A0A7-87943ED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75A2-DA8F-480B-8CE8-623C06E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0375-68A1-461E-8771-1A77D0CB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CDF-13C7-4155-B17D-71BC860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72A7-6C9B-4D81-BF9D-9B65BC94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80E8-703E-4BAA-B8F7-C65F5AB8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B28C-0EFF-4E28-BC45-3ED9E98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A702-AF17-4BE7-90DD-03D26F1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8A80-8370-4AFC-BE84-41572AFA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3590-D2AC-40D2-8B0A-BF8408EC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8ABF-8916-422B-84C7-F5411458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8C829-5DFC-4F79-B1AA-FF49931C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2DD1-20B7-42A6-8888-02022560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1B4F-35FB-4668-87F3-D227568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9F9-0874-42EA-8214-159E411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5D79-39E7-4D36-BF0A-4400470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1D58-4CAC-422B-8871-17352EF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A583-E7E8-469C-8938-EF55F0CD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CB97-B812-413B-A350-4BADB51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3504-C13E-47E1-927E-0E17CEB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8988F-2232-4FAE-8548-4F0A19B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123E-46EE-46B9-9EC4-3EEA4FC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0CA6-1182-4A99-9481-5CFF543A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E4E3-253E-4FDD-B416-0CF1D106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8E1D-CFBE-4915-8054-6A567800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A38-620D-45AF-9AED-E60D826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8C93-160D-4152-A740-A2A9D3BB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7878-0BE0-48DE-9916-45C1E47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389A-4F9E-4FEB-9E89-AD160736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52A9-4221-4233-8B6D-84203BDE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7CCB-6C9F-4491-B071-D9F7647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67E2-CB0D-4EDC-880C-06BCBFA6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C938-1606-4494-ABB4-082CC8A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C6FB-3D5A-4B52-A03F-763F82F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79BF-69AB-42FB-ADE3-5A91634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6049-48CE-451F-A2FB-BD2A2C29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DB9-3734-4898-BBDF-F562E15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E88B-A172-45B6-B988-3C16E0F1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79310-05AC-4921-9673-FB42BBEC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D667-68FB-4645-A98C-F076E126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24610-6288-4A11-A55F-DB4E8DAE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C19BE-FAF9-4D8F-A898-985E56C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00160-B4B9-47CB-A02D-6D570342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A1A86-F573-44F8-98FA-C215F128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B189-8D06-432F-9010-77CC3A3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A25D3-33C3-459C-AF3E-28EB1BF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89932-5BF3-42F5-ABAD-E1C5EF4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2ED-95AE-4151-AA41-47052D6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B081-1C63-4387-B96D-93CA97DE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DC240-52F5-4CF8-8F43-83967BEC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196BC-1C9A-4C65-B954-125A9084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C14A4-4703-4988-BC4E-90E2B661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E3233-A39A-47FD-BBF1-D2A0467A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23E46-B522-4665-989A-26C8E165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29093-5288-4578-AB22-18E74F73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A91E-54CC-4118-8A55-18A8B03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5A9E7-5158-4F64-8D35-92967863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392B-D49D-4874-AB9A-4B38A662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E57-3DF5-4AC5-AA7A-06900224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F515-BE9B-40BA-BBC7-01FD0B1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9954B-B4BA-470F-A853-B93F0D5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6D4D-4ABD-4D80-A9BF-C6F02F47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59303-CA42-4DFA-9710-ACDFBF24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297B-4E62-463A-9353-97BF6628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77C33-6ED2-4FAA-B835-79D35744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ED26-7778-4E87-B45B-1382F9E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BC886-A8AA-4B08-958F-EBFCECBC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25AFD-DA5A-4F40-81E9-1764DED1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E4C4C-FA62-46C7-AAD5-1100003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99C-1013-4752-88CB-1BE1644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7897F-9094-444B-AE52-D9EAB45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31012-456B-48B5-8508-5301D5D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9FD79-A25B-452F-9D38-6BB446C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0D17-2F08-47D6-9087-4F9CCFE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4791-84A7-42CD-85F8-793958D9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4DC73-0D00-4DEB-8467-3A83F3FD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CECB-CE0F-4DB8-954E-E0A20E5E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B36E4-2F66-4DF1-97CC-5F42B66F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8D23D-209C-4984-8E10-E309DA3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D40EC-1649-4FAB-A8C2-90A451AA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11E-0513-4D38-B7BE-56B7C122F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4871-B04C-46EF-A86F-AF0117150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DA1-3434-45DC-87A1-08D8E10617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4A8A-128A-4862-8ECF-BEB632D0B5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6CF-33EE-40BD-AE42-EA81526F8F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72C6-9809-4817-91E9-2190D69CD6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8CE1-1442-4C2F-87C3-42C3836F9627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D387-A61C-48A7-830D-DE9CA55E45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AF0E-1FDA-46FE-8239-F5DF7488B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BE97-44AA-4A50-B9E8-1549FD245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E42-2036-454A-9AC4-ACB0083726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B73E-2025-48D6-A042-E54E8EC48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B34A-FC6B-47E0-9083-D3480CCCE7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1827360" y="3097080"/>
            <a:ext cx="5205240" cy="29527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360" y="1268280"/>
            <a:ext cx="79916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73"/>
                </a:solidFill>
                <a:latin typeface="宋体"/>
                <a:ea typeface="宋体"/>
              </a:rPr>
              <a:t>第四节 人的性别遗传课件</a:t>
            </a:r>
            <a:r>
              <a:rPr b="1" lang="en-US" sz="4000" spc="-1" strike="noStrike">
                <a:solidFill>
                  <a:srgbClr val="26267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62673"/>
                </a:solidFill>
                <a:latin typeface="宋体"/>
                <a:ea typeface="宋体"/>
              </a:rPr>
              <a:t>打包下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矩形 1"/>
          <p:cNvSpPr/>
          <p:nvPr/>
        </p:nvSpPr>
        <p:spPr>
          <a:xfrm>
            <a:off x="2803320" y="47484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二章   生物的遗传和变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901800" y="4428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男女染色体有差别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2" name="Picture 6" descr="女性染色体组型"/>
          <p:cNvPicPr/>
          <p:nvPr/>
        </p:nvPicPr>
        <p:blipFill>
          <a:blip r:embed="rId1"/>
          <a:stretch/>
        </p:blipFill>
        <p:spPr>
          <a:xfrm>
            <a:off x="1268280" y="2017800"/>
            <a:ext cx="36385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3" name="Picture 7" descr="男性染色体组型"/>
          <p:cNvPicPr/>
          <p:nvPr/>
        </p:nvPicPr>
        <p:blipFill>
          <a:blip r:embed="rId2"/>
          <a:stretch/>
        </p:blipFill>
        <p:spPr>
          <a:xfrm>
            <a:off x="5230800" y="2017800"/>
            <a:ext cx="36385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4" name="Oval 8"/>
          <p:cNvSpPr/>
          <p:nvPr/>
        </p:nvSpPr>
        <p:spPr>
          <a:xfrm>
            <a:off x="3780000" y="4510080"/>
            <a:ext cx="647640" cy="863640"/>
          </a:xfrm>
          <a:prstGeom prst="ellipse">
            <a:avLst/>
          </a:prstGeom>
          <a:noFill/>
          <a:ln cap="sq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7740720" y="4510080"/>
            <a:ext cx="647640" cy="863640"/>
          </a:xfrm>
          <a:prstGeom prst="ellipse">
            <a:avLst/>
          </a:prstGeom>
          <a:noFill/>
          <a:ln cap="sq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6300720" y="602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0c30"/>
                </a:solidFill>
                <a:latin typeface="Times New Roman"/>
              </a:rPr>
              <a:t>男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2340000" y="602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0c30"/>
                </a:solidFill>
                <a:latin typeface="Times New Roman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Group 12"/>
          <p:cNvGrpSpPr/>
          <p:nvPr/>
        </p:nvGrpSpPr>
        <p:grpSpPr>
          <a:xfrm>
            <a:off x="214200" y="907920"/>
            <a:ext cx="4088880" cy="3671280"/>
            <a:chOff x="214200" y="907920"/>
            <a:chExt cx="4088880" cy="3671280"/>
          </a:xfrm>
        </p:grpSpPr>
        <p:grpSp>
          <p:nvGrpSpPr>
            <p:cNvPr id="599" name="Group 13"/>
            <p:cNvGrpSpPr/>
            <p:nvPr/>
          </p:nvGrpSpPr>
          <p:grpSpPr>
            <a:xfrm>
              <a:off x="214200" y="907920"/>
              <a:ext cx="3314880" cy="3671280"/>
              <a:chOff x="214200" y="907920"/>
              <a:chExt cx="3314880" cy="3671280"/>
            </a:xfrm>
          </p:grpSpPr>
          <p:pic>
            <p:nvPicPr>
              <p:cNvPr id="600" name="Picture 14" descr="X"/>
              <p:cNvPicPr/>
              <p:nvPr/>
            </p:nvPicPr>
            <p:blipFill>
              <a:blip r:embed="rId3"/>
              <a:stretch/>
            </p:blipFill>
            <p:spPr>
              <a:xfrm>
                <a:off x="214200" y="912960"/>
                <a:ext cx="1713960" cy="36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Picture 15" descr="X"/>
              <p:cNvPicPr/>
              <p:nvPr/>
            </p:nvPicPr>
            <p:blipFill>
              <a:blip r:embed="rId4"/>
              <a:stretch/>
            </p:blipFill>
            <p:spPr>
              <a:xfrm>
                <a:off x="1814760" y="907920"/>
                <a:ext cx="1714320" cy="366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2" name="AutoShape 16"/>
            <p:cNvSpPr/>
            <p:nvPr/>
          </p:nvSpPr>
          <p:spPr>
            <a:xfrm rot="14836200">
              <a:off x="3238920" y="3387960"/>
              <a:ext cx="1295280" cy="360360"/>
            </a:xfrm>
            <a:custGeom>
              <a:avLst/>
              <a:gdLst>
                <a:gd name="textAreaLeft" fmla="*/ 271080 w 1295280"/>
                <a:gd name="textAreaRight" fmla="*/ 894600 w 129528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-1242823"/>
                  <a:lnTo>
                    <a:pt x="18615" y="16033"/>
                  </a:lnTo>
                  <a:lnTo>
                    <a:pt x="18768" y="0"/>
                  </a:lnTo>
                  <a:lnTo>
                    <a:pt x="12950" y="16033"/>
                  </a:lnTo>
                  <a:lnTo>
                    <a:pt x="15110" y="16033"/>
                  </a:lnTo>
                  <a:arcTo wR="9048" hR="21600" stAng="4157177" swAng="1135529"/>
                  <a:lnTo>
                    <a:pt x="9720" y="21540"/>
                  </a:lnTo>
                  <a:arcTo wR="9048" hR="21600" stAng="5507294" swAng="5292706"/>
                  <a:close/>
                </a:path>
                <a:path fill="darkenLess"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107294"/>
                  <a:lnTo>
                    <a:pt x="9720" y="21540"/>
                  </a:lnTo>
                  <a:arcTo wR="9048" hR="21600" stAng="5507294" swAng="5292706"/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3" name="Group 17"/>
          <p:cNvGrpSpPr/>
          <p:nvPr/>
        </p:nvGrpSpPr>
        <p:grpSpPr>
          <a:xfrm>
            <a:off x="7291440" y="2041560"/>
            <a:ext cx="1721160" cy="1846080"/>
            <a:chOff x="7291440" y="2041560"/>
            <a:chExt cx="1721160" cy="1846080"/>
          </a:xfrm>
        </p:grpSpPr>
        <p:grpSp>
          <p:nvGrpSpPr>
            <p:cNvPr id="604" name="Group 18"/>
            <p:cNvGrpSpPr/>
            <p:nvPr/>
          </p:nvGrpSpPr>
          <p:grpSpPr>
            <a:xfrm>
              <a:off x="7291440" y="2041560"/>
              <a:ext cx="1649160" cy="1846080"/>
              <a:chOff x="7291440" y="2041560"/>
              <a:chExt cx="1649160" cy="1846080"/>
            </a:xfrm>
          </p:grpSpPr>
          <p:pic>
            <p:nvPicPr>
              <p:cNvPr id="605" name="Picture 19" descr="Y染色体"/>
              <p:cNvPicPr/>
              <p:nvPr/>
            </p:nvPicPr>
            <p:blipFill>
              <a:blip r:embed="rId5"/>
              <a:stretch/>
            </p:blipFill>
            <p:spPr>
              <a:xfrm>
                <a:off x="8178840" y="2445840"/>
                <a:ext cx="761760" cy="10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Picture 20" descr="X"/>
              <p:cNvPicPr/>
              <p:nvPr/>
            </p:nvPicPr>
            <p:blipFill>
              <a:blip r:embed="rId6"/>
              <a:stretch/>
            </p:blipFill>
            <p:spPr>
              <a:xfrm>
                <a:off x="7291440" y="2041560"/>
                <a:ext cx="907200" cy="184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7" name="AutoShape 21"/>
            <p:cNvSpPr/>
            <p:nvPr/>
          </p:nvSpPr>
          <p:spPr>
            <a:xfrm rot="17748000">
              <a:off x="8464680" y="3474000"/>
              <a:ext cx="664200" cy="158400"/>
            </a:xfrm>
            <a:custGeom>
              <a:avLst/>
              <a:gdLst>
                <a:gd name="textAreaLeft" fmla="*/ 138960 w 664200"/>
                <a:gd name="textAreaRight" fmla="*/ 458640 w 664200"/>
                <a:gd name="textAreaTop" fmla="*/ 21240 h 158400"/>
                <a:gd name="textAreaBottom" fmla="*/ 13716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-1242823"/>
                  <a:lnTo>
                    <a:pt x="18615" y="16033"/>
                  </a:lnTo>
                  <a:lnTo>
                    <a:pt x="18768" y="0"/>
                  </a:lnTo>
                  <a:lnTo>
                    <a:pt x="12950" y="16033"/>
                  </a:lnTo>
                  <a:lnTo>
                    <a:pt x="15110" y="16033"/>
                  </a:lnTo>
                  <a:arcTo wR="9048" hR="21600" stAng="4157177" swAng="1135529"/>
                  <a:lnTo>
                    <a:pt x="9720" y="21540"/>
                  </a:lnTo>
                  <a:arcTo wR="9048" hR="21600" stAng="5507294" swAng="5292706"/>
                  <a:close/>
                </a:path>
                <a:path fill="darkenLess"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107294"/>
                  <a:lnTo>
                    <a:pt x="9720" y="21540"/>
                  </a:lnTo>
                  <a:arcTo wR="9048" hR="21600" stAng="5507294" swAng="5292706"/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5"/>
          <p:cNvSpPr/>
          <p:nvPr/>
        </p:nvSpPr>
        <p:spPr>
          <a:xfrm>
            <a:off x="2413080" y="593640"/>
            <a:ext cx="60465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333399"/>
                </a:solidFill>
                <a:latin typeface="Tahoma"/>
              </a:rPr>
              <a:t>男性的精子和女性卵细胞中</a:t>
            </a:r>
            <a:br>
              <a:rPr sz="3700"/>
            </a:br>
            <a:r>
              <a:rPr b="0" lang="zh-CN" sz="3700" spc="-1" strike="noStrike">
                <a:solidFill>
                  <a:srgbClr val="333399"/>
                </a:solidFill>
                <a:latin typeface="Tahoma"/>
              </a:rPr>
              <a:t>各有几条性染色体？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36" descr="卵细胞和精子中性染色体数"/>
          <p:cNvPicPr/>
          <p:nvPr/>
        </p:nvPicPr>
        <p:blipFill>
          <a:blip r:embed="rId1"/>
          <a:stretch/>
        </p:blipFill>
        <p:spPr>
          <a:xfrm>
            <a:off x="1474920" y="1700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7"/>
          <p:cNvSpPr/>
          <p:nvPr/>
        </p:nvSpPr>
        <p:spPr>
          <a:xfrm>
            <a:off x="2987640" y="3213000"/>
            <a:ext cx="1008000" cy="360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38"/>
          <p:cNvSpPr/>
          <p:nvPr/>
        </p:nvSpPr>
        <p:spPr>
          <a:xfrm>
            <a:off x="5364000" y="3213000"/>
            <a:ext cx="1079640" cy="360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4"/>
          <p:cNvSpPr/>
          <p:nvPr/>
        </p:nvSpPr>
        <p:spPr>
          <a:xfrm>
            <a:off x="2556000" y="925560"/>
            <a:ext cx="532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女性卵细胞</a:t>
            </a:r>
            <a:br>
              <a:rPr sz="3600"/>
            </a:b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和男性精子各有几种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Picture 15" descr="卵细胞和精子的种类"/>
          <p:cNvPicPr/>
          <p:nvPr/>
        </p:nvPicPr>
        <p:blipFill>
          <a:blip r:embed="rId1"/>
          <a:stretch/>
        </p:blipFill>
        <p:spPr>
          <a:xfrm>
            <a:off x="1330200" y="1484280"/>
            <a:ext cx="7129440" cy="49784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16"/>
          <p:cNvSpPr/>
          <p:nvPr/>
        </p:nvSpPr>
        <p:spPr>
          <a:xfrm>
            <a:off x="3710160" y="3141720"/>
            <a:ext cx="57456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17"/>
          <p:cNvSpPr/>
          <p:nvPr/>
        </p:nvSpPr>
        <p:spPr>
          <a:xfrm>
            <a:off x="6227640" y="3139920"/>
            <a:ext cx="93672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18"/>
          <p:cNvSpPr/>
          <p:nvPr/>
        </p:nvSpPr>
        <p:spPr>
          <a:xfrm>
            <a:off x="2700360" y="5948280"/>
            <a:ext cx="71928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19"/>
          <p:cNvSpPr/>
          <p:nvPr/>
        </p:nvSpPr>
        <p:spPr>
          <a:xfrm>
            <a:off x="5508720" y="5878440"/>
            <a:ext cx="431640" cy="287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6443640" y="5877000"/>
            <a:ext cx="57636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10"/>
          <p:cNvSpPr/>
          <p:nvPr/>
        </p:nvSpPr>
        <p:spPr>
          <a:xfrm>
            <a:off x="3780000" y="5619600"/>
            <a:ext cx="338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22"/>
          <p:cNvSpPr/>
          <p:nvPr/>
        </p:nvSpPr>
        <p:spPr>
          <a:xfrm>
            <a:off x="1836720" y="76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性染色体组成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 Box 23"/>
          <p:cNvSpPr/>
          <p:nvPr/>
        </p:nvSpPr>
        <p:spPr>
          <a:xfrm>
            <a:off x="1908000" y="157320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生殖细胞</a:t>
            </a:r>
            <a:br>
              <a:rPr sz="3200"/>
            </a:b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性染色体组成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1692360" y="30002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生殖细胞染色体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1828800" y="4221000"/>
            <a:ext cx="303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体细胞中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染色体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 Box 26"/>
          <p:cNvSpPr/>
          <p:nvPr/>
        </p:nvSpPr>
        <p:spPr>
          <a:xfrm>
            <a:off x="4645080" y="474840"/>
            <a:ext cx="1871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4645080" y="977760"/>
            <a:ext cx="1871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   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4716360" y="1631880"/>
            <a:ext cx="2303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4716360" y="2128680"/>
            <a:ext cx="2303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  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4788000" y="2784600"/>
            <a:ext cx="31687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4788000" y="3286080"/>
            <a:ext cx="31687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   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4859280" y="4008600"/>
            <a:ext cx="280836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44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 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4859280" y="5087880"/>
            <a:ext cx="280836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44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 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3"/>
          <p:cNvSpPr/>
          <p:nvPr/>
        </p:nvSpPr>
        <p:spPr>
          <a:xfrm>
            <a:off x="2963880" y="1371600"/>
            <a:ext cx="1989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精子：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2556000" y="3657600"/>
            <a:ext cx="2092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卵细胞：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003640" y="2133720"/>
            <a:ext cx="936720" cy="1295280"/>
            <a:chOff x="5003640" y="2133720"/>
            <a:chExt cx="936720" cy="1295280"/>
          </a:xfrm>
        </p:grpSpPr>
        <p:sp>
          <p:nvSpPr>
            <p:cNvPr id="635" name="Line 45"/>
            <p:cNvSpPr/>
            <p:nvPr/>
          </p:nvSpPr>
          <p:spPr>
            <a:xfrm>
              <a:off x="5003640" y="2133720"/>
              <a:ext cx="936720" cy="1295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5003640" y="2133720"/>
              <a:ext cx="936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7" name="Text Box 46"/>
          <p:cNvSpPr/>
          <p:nvPr/>
        </p:nvSpPr>
        <p:spPr>
          <a:xfrm>
            <a:off x="5651640" y="19573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受精卵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858920" y="3429000"/>
            <a:ext cx="1081440" cy="858960"/>
            <a:chOff x="4858920" y="3429000"/>
            <a:chExt cx="1081440" cy="858960"/>
          </a:xfrm>
        </p:grpSpPr>
        <p:sp>
          <p:nvSpPr>
            <p:cNvPr id="639" name="Line 47"/>
            <p:cNvSpPr/>
            <p:nvPr/>
          </p:nvSpPr>
          <p:spPr>
            <a:xfrm flipV="1">
              <a:off x="4859280" y="3429000"/>
              <a:ext cx="1081080" cy="8589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 rot="10800000">
              <a:off x="4858920" y="3429000"/>
              <a:ext cx="1081080" cy="8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1" name="Text Box 48"/>
          <p:cNvSpPr/>
          <p:nvPr/>
        </p:nvSpPr>
        <p:spPr>
          <a:xfrm>
            <a:off x="5940360" y="2852640"/>
            <a:ext cx="203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cc"/>
                </a:solidFill>
                <a:latin typeface="Times New Roman"/>
              </a:rPr>
              <a:t>XX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Picture 49" descr="pic_69997"/>
          <p:cNvPicPr/>
          <p:nvPr/>
        </p:nvPicPr>
        <p:blipFill>
          <a:blip r:embed="rId1"/>
          <a:srcRect l="0" t="-6726" r="0" b="0"/>
          <a:stretch/>
        </p:blipFill>
        <p:spPr>
          <a:xfrm>
            <a:off x="6300720" y="3933720"/>
            <a:ext cx="1079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10"/>
          <p:cNvSpPr/>
          <p:nvPr/>
        </p:nvSpPr>
        <p:spPr>
          <a:xfrm>
            <a:off x="2417760" y="1898640"/>
            <a:ext cx="330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精    子：</a:t>
            </a:r>
            <a:r>
              <a:rPr b="0" lang="en-US" sz="6600" spc="-1" strike="noStrike">
                <a:solidFill>
                  <a:srgbClr val="00e4a8"/>
                </a:solidFill>
                <a:latin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6249960" y="2173320"/>
            <a:ext cx="20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受精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6464160" y="2906640"/>
            <a:ext cx="149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cc"/>
                </a:solidFill>
                <a:latin typeface="Times New Roman"/>
              </a:rPr>
              <a:t>XY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508720" y="2637000"/>
            <a:ext cx="934920" cy="647640"/>
            <a:chOff x="5508720" y="2637000"/>
            <a:chExt cx="934920" cy="647640"/>
          </a:xfrm>
        </p:grpSpPr>
        <p:sp>
          <p:nvSpPr>
            <p:cNvPr id="647" name="Line 13"/>
            <p:cNvSpPr/>
            <p:nvPr/>
          </p:nvSpPr>
          <p:spPr>
            <a:xfrm>
              <a:off x="5508720" y="2637000"/>
              <a:ext cx="934920" cy="647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5508720" y="2637000"/>
              <a:ext cx="93492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508360" y="3357360"/>
            <a:ext cx="935280" cy="431640"/>
            <a:chOff x="5508360" y="3357360"/>
            <a:chExt cx="935280" cy="431640"/>
          </a:xfrm>
        </p:grpSpPr>
        <p:sp>
          <p:nvSpPr>
            <p:cNvPr id="650" name="Line 14"/>
            <p:cNvSpPr/>
            <p:nvPr/>
          </p:nvSpPr>
          <p:spPr>
            <a:xfrm flipV="1">
              <a:off x="5508720" y="3357360"/>
              <a:ext cx="934920" cy="43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 rot="10800000">
              <a:off x="5508360" y="3357360"/>
              <a:ext cx="93492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2" name="Text Box 15"/>
          <p:cNvSpPr/>
          <p:nvPr/>
        </p:nvSpPr>
        <p:spPr>
          <a:xfrm>
            <a:off x="2349360" y="3429000"/>
            <a:ext cx="330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卵细胞：</a:t>
            </a:r>
            <a:r>
              <a:rPr b="0" lang="en-US" sz="6600" spc="-1" strike="noStrike">
                <a:solidFill>
                  <a:srgbClr val="00e4a8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3" name="Picture 16" descr="pic_69997"/>
          <p:cNvPicPr/>
          <p:nvPr/>
        </p:nvPicPr>
        <p:blipFill>
          <a:blip r:embed="rId1"/>
          <a:srcRect l="0" t="0" r="-9839" b="0"/>
          <a:stretch/>
        </p:blipFill>
        <p:spPr>
          <a:xfrm>
            <a:off x="6805440" y="4125960"/>
            <a:ext cx="12956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0"/>
          <p:cNvSpPr/>
          <p:nvPr/>
        </p:nvSpPr>
        <p:spPr>
          <a:xfrm>
            <a:off x="468360" y="703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女人在两次月经之间，会派出一个含有</a:t>
            </a:r>
            <a:r>
              <a:rPr b="0" lang="en-US" sz="3200" spc="-1" strike="noStrike">
                <a:solidFill>
                  <a:srgbClr val="e60c3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染色体的卵细胞。男人在一次生殖活动中派出上亿的精子，这些精子从含有的性染色体来说只有两种，一种是含有</a:t>
            </a:r>
            <a:r>
              <a:rPr b="0" lang="en-US" sz="3200" spc="-1" strike="noStrike">
                <a:solidFill>
                  <a:srgbClr val="e60c3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染色体的，一种是含有</a:t>
            </a:r>
            <a:r>
              <a:rPr b="0" lang="en-US" sz="3200" spc="-1" strike="noStrike">
                <a:solidFill>
                  <a:srgbClr val="e60c30"/>
                </a:solidFill>
                <a:latin typeface="华文新魏"/>
                <a:ea typeface="华文新魏"/>
              </a:rPr>
              <a:t>Y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染色体的。它们与卵细胞结合的机会均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  <a:ea typeface="方正舒体"/>
              </a:rPr>
              <a:t>既然如此，那么生男生女的机会是否均等呢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3" descr="01"/>
          <p:cNvPicPr/>
          <p:nvPr/>
        </p:nvPicPr>
        <p:blipFill>
          <a:blip r:embed="rId1"/>
          <a:stretch/>
        </p:blipFill>
        <p:spPr>
          <a:xfrm>
            <a:off x="325440" y="620640"/>
            <a:ext cx="1870200" cy="2521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02"/>
          <p:cNvPicPr/>
          <p:nvPr/>
        </p:nvPicPr>
        <p:blipFill>
          <a:blip r:embed="rId2"/>
          <a:stretch/>
        </p:blipFill>
        <p:spPr>
          <a:xfrm>
            <a:off x="324000" y="4005360"/>
            <a:ext cx="2016000" cy="2376360"/>
          </a:xfrm>
          <a:prstGeom prst="rect">
            <a:avLst/>
          </a:prstGeom>
          <a:ln w="0">
            <a:noFill/>
          </a:ln>
        </p:spPr>
      </p:pic>
      <p:grpSp>
        <p:nvGrpSpPr>
          <p:cNvPr id="657" name="Group 5"/>
          <p:cNvGrpSpPr/>
          <p:nvPr/>
        </p:nvGrpSpPr>
        <p:grpSpPr>
          <a:xfrm>
            <a:off x="2197080" y="1052280"/>
            <a:ext cx="1150920" cy="1189440"/>
            <a:chOff x="2197080" y="1052280"/>
            <a:chExt cx="1150920" cy="1189440"/>
          </a:xfrm>
        </p:grpSpPr>
        <p:grpSp>
          <p:nvGrpSpPr>
            <p:cNvPr id="658" name=""/>
            <p:cNvGrpSpPr/>
            <p:nvPr/>
          </p:nvGrpSpPr>
          <p:grpSpPr>
            <a:xfrm>
              <a:off x="2197080" y="1702080"/>
              <a:ext cx="503280" cy="360"/>
              <a:chOff x="2197080" y="1702080"/>
              <a:chExt cx="503280" cy="360"/>
            </a:xfrm>
          </p:grpSpPr>
          <p:sp>
            <p:nvSpPr>
              <p:cNvPr id="659" name="Line 6"/>
              <p:cNvSpPr/>
              <p:nvPr/>
            </p:nvSpPr>
            <p:spPr>
              <a:xfrm>
                <a:off x="2197080" y="1702080"/>
                <a:ext cx="503280" cy="0"/>
              </a:xfrm>
              <a:prstGeom prst="line">
                <a:avLst/>
              </a:prstGeom>
              <a:ln cap="sq"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2197080" y="170208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2700000" y="1052280"/>
              <a:ext cx="648000" cy="647640"/>
              <a:chOff x="2700000" y="1052280"/>
              <a:chExt cx="648000" cy="647640"/>
            </a:xfrm>
          </p:grpSpPr>
          <p:sp>
            <p:nvSpPr>
              <p:cNvPr id="662" name="Line 7"/>
              <p:cNvSpPr/>
              <p:nvPr/>
            </p:nvSpPr>
            <p:spPr>
              <a:xfrm flipV="1">
                <a:off x="2700360" y="1052280"/>
                <a:ext cx="647640" cy="647640"/>
              </a:xfrm>
              <a:prstGeom prst="line">
                <a:avLst/>
              </a:prstGeom>
              <a:ln cap="sq" w="12600">
                <a:solidFill>
                  <a:srgbClr val="ff99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"/>
              <p:cNvSpPr txBox="1"/>
              <p:nvPr/>
            </p:nvSpPr>
            <p:spPr>
              <a:xfrm rot="10800000">
                <a:off x="2700000" y="1052280"/>
                <a:ext cx="647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700360" y="1702080"/>
              <a:ext cx="647640" cy="539640"/>
              <a:chOff x="2700360" y="1702080"/>
              <a:chExt cx="647640" cy="539640"/>
            </a:xfrm>
          </p:grpSpPr>
          <p:sp>
            <p:nvSpPr>
              <p:cNvPr id="665" name="Line 8"/>
              <p:cNvSpPr/>
              <p:nvPr/>
            </p:nvSpPr>
            <p:spPr>
              <a:xfrm>
                <a:off x="2700360" y="1702080"/>
                <a:ext cx="647640" cy="539640"/>
              </a:xfrm>
              <a:prstGeom prst="line">
                <a:avLst/>
              </a:prstGeom>
              <a:ln cap="sq" w="12600">
                <a:solidFill>
                  <a:srgbClr val="ff99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2700360" y="1702080"/>
                <a:ext cx="64764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67" name="Oval 9"/>
          <p:cNvSpPr/>
          <p:nvPr/>
        </p:nvSpPr>
        <p:spPr>
          <a:xfrm>
            <a:off x="3419640" y="69228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Oval 10"/>
          <p:cNvSpPr/>
          <p:nvPr/>
        </p:nvSpPr>
        <p:spPr>
          <a:xfrm>
            <a:off x="3419640" y="206064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9" name="Group 11"/>
          <p:cNvGrpSpPr/>
          <p:nvPr/>
        </p:nvGrpSpPr>
        <p:grpSpPr>
          <a:xfrm>
            <a:off x="6588000" y="1620720"/>
            <a:ext cx="2305080" cy="1520640"/>
            <a:chOff x="6588000" y="1620720"/>
            <a:chExt cx="2305080" cy="1520640"/>
          </a:xfrm>
        </p:grpSpPr>
        <p:pic>
          <p:nvPicPr>
            <p:cNvPr id="670" name="Picture 12" descr="04"/>
            <p:cNvPicPr/>
            <p:nvPr/>
          </p:nvPicPr>
          <p:blipFill>
            <a:blip r:embed="rId3"/>
            <a:stretch/>
          </p:blipFill>
          <p:spPr>
            <a:xfrm>
              <a:off x="7381800" y="1620720"/>
              <a:ext cx="1511280" cy="15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1" name=""/>
            <p:cNvGrpSpPr/>
            <p:nvPr/>
          </p:nvGrpSpPr>
          <p:grpSpPr>
            <a:xfrm>
              <a:off x="6588000" y="2412720"/>
              <a:ext cx="504720" cy="360"/>
              <a:chOff x="6588000" y="2412720"/>
              <a:chExt cx="504720" cy="360"/>
            </a:xfrm>
          </p:grpSpPr>
          <p:sp>
            <p:nvSpPr>
              <p:cNvPr id="672" name="Line 13"/>
              <p:cNvSpPr/>
              <p:nvPr/>
            </p:nvSpPr>
            <p:spPr>
              <a:xfrm>
                <a:off x="6588000" y="2412720"/>
                <a:ext cx="504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6588000" y="241272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74" name="Group 14"/>
          <p:cNvGrpSpPr/>
          <p:nvPr/>
        </p:nvGrpSpPr>
        <p:grpSpPr>
          <a:xfrm>
            <a:off x="6516720" y="252360"/>
            <a:ext cx="2305080" cy="1521000"/>
            <a:chOff x="6516720" y="252360"/>
            <a:chExt cx="2305080" cy="1521000"/>
          </a:xfrm>
        </p:grpSpPr>
        <p:pic>
          <p:nvPicPr>
            <p:cNvPr id="675" name="Picture 15" descr="03"/>
            <p:cNvPicPr/>
            <p:nvPr/>
          </p:nvPicPr>
          <p:blipFill>
            <a:blip r:embed="rId4"/>
            <a:stretch/>
          </p:blipFill>
          <p:spPr>
            <a:xfrm>
              <a:off x="7310520" y="252360"/>
              <a:ext cx="1511280" cy="152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"/>
            <p:cNvGrpSpPr/>
            <p:nvPr/>
          </p:nvGrpSpPr>
          <p:grpSpPr>
            <a:xfrm>
              <a:off x="6516720" y="1044720"/>
              <a:ext cx="504720" cy="360"/>
              <a:chOff x="6516720" y="1044720"/>
              <a:chExt cx="504720" cy="360"/>
            </a:xfrm>
          </p:grpSpPr>
          <p:sp>
            <p:nvSpPr>
              <p:cNvPr id="677" name="Line 16"/>
              <p:cNvSpPr/>
              <p:nvPr/>
            </p:nvSpPr>
            <p:spPr>
              <a:xfrm>
                <a:off x="6516720" y="1044720"/>
                <a:ext cx="504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6516720" y="104472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679" name="Picture 17" descr="05"/>
          <p:cNvPicPr/>
          <p:nvPr/>
        </p:nvPicPr>
        <p:blipFill>
          <a:blip r:embed="rId5"/>
          <a:stretch/>
        </p:blipFill>
        <p:spPr>
          <a:xfrm>
            <a:off x="7308720" y="3060720"/>
            <a:ext cx="1511280" cy="152064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6659640" y="3645000"/>
            <a:ext cx="865080" cy="360"/>
            <a:chOff x="6659640" y="3645000"/>
            <a:chExt cx="865080" cy="360"/>
          </a:xfrm>
        </p:grpSpPr>
        <p:sp>
          <p:nvSpPr>
            <p:cNvPr id="681" name="Line 18"/>
            <p:cNvSpPr/>
            <p:nvPr/>
          </p:nvSpPr>
          <p:spPr>
            <a:xfrm>
              <a:off x="6659640" y="3645000"/>
              <a:ext cx="8650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6659640" y="364500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3" name="Group 19"/>
          <p:cNvGrpSpPr/>
          <p:nvPr/>
        </p:nvGrpSpPr>
        <p:grpSpPr>
          <a:xfrm>
            <a:off x="6516720" y="4500720"/>
            <a:ext cx="2305080" cy="1520640"/>
            <a:chOff x="6516720" y="4500720"/>
            <a:chExt cx="2305080" cy="1520640"/>
          </a:xfrm>
        </p:grpSpPr>
        <p:pic>
          <p:nvPicPr>
            <p:cNvPr id="684" name="Picture 20" descr="06"/>
            <p:cNvPicPr/>
            <p:nvPr/>
          </p:nvPicPr>
          <p:blipFill>
            <a:blip r:embed="rId6"/>
            <a:stretch/>
          </p:blipFill>
          <p:spPr>
            <a:xfrm>
              <a:off x="7310520" y="4500720"/>
              <a:ext cx="1511280" cy="15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"/>
            <p:cNvGrpSpPr/>
            <p:nvPr/>
          </p:nvGrpSpPr>
          <p:grpSpPr>
            <a:xfrm>
              <a:off x="6516720" y="5286240"/>
              <a:ext cx="504720" cy="360"/>
              <a:chOff x="6516720" y="5286240"/>
              <a:chExt cx="504720" cy="360"/>
            </a:xfrm>
          </p:grpSpPr>
          <p:sp>
            <p:nvSpPr>
              <p:cNvPr id="686" name="Line 21"/>
              <p:cNvSpPr/>
              <p:nvPr/>
            </p:nvSpPr>
            <p:spPr>
              <a:xfrm>
                <a:off x="6516720" y="5286240"/>
                <a:ext cx="504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6516720" y="528624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8" name="Rectangle 22"/>
          <p:cNvSpPr/>
          <p:nvPr/>
        </p:nvSpPr>
        <p:spPr>
          <a:xfrm>
            <a:off x="5724360" y="62064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23"/>
          <p:cNvSpPr/>
          <p:nvPr/>
        </p:nvSpPr>
        <p:spPr>
          <a:xfrm>
            <a:off x="5724360" y="198900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24"/>
          <p:cNvSpPr/>
          <p:nvPr/>
        </p:nvSpPr>
        <p:spPr>
          <a:xfrm>
            <a:off x="5724360" y="335592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25"/>
          <p:cNvSpPr/>
          <p:nvPr/>
        </p:nvSpPr>
        <p:spPr>
          <a:xfrm>
            <a:off x="5724360" y="494028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995640" y="2276640"/>
            <a:ext cx="1584360" cy="360"/>
            <a:chOff x="3995640" y="2276640"/>
            <a:chExt cx="1584360" cy="360"/>
          </a:xfrm>
        </p:grpSpPr>
        <p:sp>
          <p:nvSpPr>
            <p:cNvPr id="693" name="Line 26"/>
            <p:cNvSpPr/>
            <p:nvPr/>
          </p:nvSpPr>
          <p:spPr>
            <a:xfrm>
              <a:off x="3995640" y="2276640"/>
              <a:ext cx="1584360" cy="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995640" y="227664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995640" y="907920"/>
            <a:ext cx="1584360" cy="360"/>
            <a:chOff x="3995640" y="907920"/>
            <a:chExt cx="1584360" cy="360"/>
          </a:xfrm>
        </p:grpSpPr>
        <p:sp>
          <p:nvSpPr>
            <p:cNvPr id="696" name="Line 27"/>
            <p:cNvSpPr/>
            <p:nvPr/>
          </p:nvSpPr>
          <p:spPr>
            <a:xfrm>
              <a:off x="3995640" y="907920"/>
              <a:ext cx="1584360" cy="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3995640" y="90792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995640" y="3645000"/>
            <a:ext cx="1584360" cy="1440"/>
            <a:chOff x="3995640" y="3645000"/>
            <a:chExt cx="1584360" cy="1440"/>
          </a:xfrm>
        </p:grpSpPr>
        <p:sp>
          <p:nvSpPr>
            <p:cNvPr id="699" name="Line 28"/>
            <p:cNvSpPr/>
            <p:nvPr/>
          </p:nvSpPr>
          <p:spPr>
            <a:xfrm>
              <a:off x="3995640" y="3645000"/>
              <a:ext cx="1584360" cy="144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3995640" y="3645000"/>
              <a:ext cx="158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924360" y="5229360"/>
            <a:ext cx="1655640" cy="1440"/>
            <a:chOff x="3924360" y="5229360"/>
            <a:chExt cx="1655640" cy="1440"/>
          </a:xfrm>
        </p:grpSpPr>
        <p:sp>
          <p:nvSpPr>
            <p:cNvPr id="702" name="Line 29"/>
            <p:cNvSpPr/>
            <p:nvPr/>
          </p:nvSpPr>
          <p:spPr>
            <a:xfrm>
              <a:off x="3924360" y="5229360"/>
              <a:ext cx="1655640" cy="144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3924360" y="5229360"/>
              <a:ext cx="1655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4" name="Group 30"/>
          <p:cNvGrpSpPr/>
          <p:nvPr/>
        </p:nvGrpSpPr>
        <p:grpSpPr>
          <a:xfrm>
            <a:off x="2195640" y="4041360"/>
            <a:ext cx="1152360" cy="1187640"/>
            <a:chOff x="2195640" y="4041360"/>
            <a:chExt cx="1152360" cy="1187640"/>
          </a:xfrm>
        </p:grpSpPr>
        <p:grpSp>
          <p:nvGrpSpPr>
            <p:cNvPr id="705" name=""/>
            <p:cNvGrpSpPr/>
            <p:nvPr/>
          </p:nvGrpSpPr>
          <p:grpSpPr>
            <a:xfrm>
              <a:off x="2195640" y="4689360"/>
              <a:ext cx="503280" cy="360"/>
              <a:chOff x="2195640" y="4689360"/>
              <a:chExt cx="503280" cy="360"/>
            </a:xfrm>
          </p:grpSpPr>
          <p:sp>
            <p:nvSpPr>
              <p:cNvPr id="706" name="Line 31"/>
              <p:cNvSpPr/>
              <p:nvPr/>
            </p:nvSpPr>
            <p:spPr>
              <a:xfrm>
                <a:off x="2195640" y="4689360"/>
                <a:ext cx="503280" cy="0"/>
              </a:xfrm>
              <a:prstGeom prst="line">
                <a:avLst/>
              </a:prstGeom>
              <a:ln cap="sq"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"/>
              <p:cNvSpPr txBox="1"/>
              <p:nvPr/>
            </p:nvSpPr>
            <p:spPr>
              <a:xfrm>
                <a:off x="2195640" y="468936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700000" y="4041360"/>
              <a:ext cx="648000" cy="647640"/>
              <a:chOff x="2700000" y="4041360"/>
              <a:chExt cx="648000" cy="647640"/>
            </a:xfrm>
          </p:grpSpPr>
          <p:sp>
            <p:nvSpPr>
              <p:cNvPr id="709" name="Line 32"/>
              <p:cNvSpPr/>
              <p:nvPr/>
            </p:nvSpPr>
            <p:spPr>
              <a:xfrm flipV="1">
                <a:off x="2700360" y="4041360"/>
                <a:ext cx="647640" cy="647640"/>
              </a:xfrm>
              <a:prstGeom prst="line">
                <a:avLst/>
              </a:prstGeom>
              <a:ln cap="sq" w="12600">
                <a:solidFill>
                  <a:srgbClr val="66ccff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"/>
              <p:cNvSpPr txBox="1"/>
              <p:nvPr/>
            </p:nvSpPr>
            <p:spPr>
              <a:xfrm rot="10800000">
                <a:off x="2700000" y="4041360"/>
                <a:ext cx="647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2700360" y="4689360"/>
              <a:ext cx="647640" cy="539640"/>
              <a:chOff x="2700360" y="4689360"/>
              <a:chExt cx="647640" cy="539640"/>
            </a:xfrm>
          </p:grpSpPr>
          <p:sp>
            <p:nvSpPr>
              <p:cNvPr id="712" name="Line 33"/>
              <p:cNvSpPr/>
              <p:nvPr/>
            </p:nvSpPr>
            <p:spPr>
              <a:xfrm>
                <a:off x="2700360" y="4689360"/>
                <a:ext cx="647640" cy="539640"/>
              </a:xfrm>
              <a:prstGeom prst="line">
                <a:avLst/>
              </a:prstGeom>
              <a:ln cap="sq" w="12600">
                <a:solidFill>
                  <a:srgbClr val="66ccff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"/>
              <p:cNvSpPr txBox="1"/>
              <p:nvPr/>
            </p:nvSpPr>
            <p:spPr>
              <a:xfrm>
                <a:off x="2700360" y="4689360"/>
                <a:ext cx="64764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14" name="Oval 34"/>
          <p:cNvSpPr/>
          <p:nvPr/>
        </p:nvSpPr>
        <p:spPr>
          <a:xfrm>
            <a:off x="3490920" y="342900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Oval 35"/>
          <p:cNvSpPr/>
          <p:nvPr/>
        </p:nvSpPr>
        <p:spPr>
          <a:xfrm>
            <a:off x="3419640" y="501336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2268360" y="907920"/>
            <a:ext cx="5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产生精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Text Box 37"/>
          <p:cNvSpPr/>
          <p:nvPr/>
        </p:nvSpPr>
        <p:spPr>
          <a:xfrm>
            <a:off x="2268360" y="388764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产生卵细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849480" y="1052280"/>
            <a:ext cx="1802160" cy="2305080"/>
            <a:chOff x="3849480" y="1052280"/>
            <a:chExt cx="1802160" cy="2305080"/>
          </a:xfrm>
        </p:grpSpPr>
        <p:sp>
          <p:nvSpPr>
            <p:cNvPr id="719" name="Line 38"/>
            <p:cNvSpPr/>
            <p:nvPr/>
          </p:nvSpPr>
          <p:spPr>
            <a:xfrm flipV="1">
              <a:off x="3849840" y="1052280"/>
              <a:ext cx="1801800" cy="230508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 rot="10800000">
              <a:off x="3849480" y="1052280"/>
              <a:ext cx="1801800" cy="23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924360" y="2421000"/>
            <a:ext cx="1728720" cy="1160280"/>
            <a:chOff x="3924360" y="2421000"/>
            <a:chExt cx="1728720" cy="1160280"/>
          </a:xfrm>
        </p:grpSpPr>
        <p:sp>
          <p:nvSpPr>
            <p:cNvPr id="722" name="Line 39"/>
            <p:cNvSpPr/>
            <p:nvPr/>
          </p:nvSpPr>
          <p:spPr>
            <a:xfrm>
              <a:off x="3924360" y="2421000"/>
              <a:ext cx="1728720" cy="116028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3924360" y="2421000"/>
              <a:ext cx="1728720" cy="11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850920" y="2492280"/>
            <a:ext cx="1800720" cy="2448000"/>
            <a:chOff x="3850920" y="2492280"/>
            <a:chExt cx="1800720" cy="2448000"/>
          </a:xfrm>
        </p:grpSpPr>
        <p:sp>
          <p:nvSpPr>
            <p:cNvPr id="725" name="Line 40"/>
            <p:cNvSpPr/>
            <p:nvPr/>
          </p:nvSpPr>
          <p:spPr>
            <a:xfrm flipV="1">
              <a:off x="3851280" y="2492280"/>
              <a:ext cx="1800360" cy="244800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 rot="10800000">
              <a:off x="3850920" y="2492280"/>
              <a:ext cx="18003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659640" y="907920"/>
            <a:ext cx="936720" cy="360"/>
            <a:chOff x="6659640" y="907920"/>
            <a:chExt cx="936720" cy="360"/>
          </a:xfrm>
        </p:grpSpPr>
        <p:sp>
          <p:nvSpPr>
            <p:cNvPr id="728" name="Line 41"/>
            <p:cNvSpPr/>
            <p:nvPr/>
          </p:nvSpPr>
          <p:spPr>
            <a:xfrm>
              <a:off x="6659640" y="907920"/>
              <a:ext cx="936720" cy="0"/>
            </a:xfrm>
            <a:prstGeom prst="line">
              <a:avLst/>
            </a:prstGeom>
            <a:ln cap="sq" w="19080">
              <a:solidFill>
                <a:srgbClr val="1c1c1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6659640" y="9079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732720" y="2276280"/>
            <a:ext cx="792000" cy="360"/>
            <a:chOff x="6732720" y="2276280"/>
            <a:chExt cx="792000" cy="360"/>
          </a:xfrm>
        </p:grpSpPr>
        <p:sp>
          <p:nvSpPr>
            <p:cNvPr id="731" name="Line 42"/>
            <p:cNvSpPr/>
            <p:nvPr/>
          </p:nvSpPr>
          <p:spPr>
            <a:xfrm>
              <a:off x="6732720" y="2276640"/>
              <a:ext cx="792000" cy="0"/>
            </a:xfrm>
            <a:prstGeom prst="line">
              <a:avLst/>
            </a:prstGeom>
            <a:ln cap="sq" w="19080">
              <a:solidFill>
                <a:srgbClr val="1c1c1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 rot="10800000">
              <a:off x="6732720" y="227628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659640" y="5229360"/>
            <a:ext cx="865080" cy="360"/>
            <a:chOff x="6659640" y="5229360"/>
            <a:chExt cx="865080" cy="360"/>
          </a:xfrm>
        </p:grpSpPr>
        <p:sp>
          <p:nvSpPr>
            <p:cNvPr id="734" name="Line 43"/>
            <p:cNvSpPr/>
            <p:nvPr/>
          </p:nvSpPr>
          <p:spPr>
            <a:xfrm>
              <a:off x="6659640" y="5229360"/>
              <a:ext cx="865080" cy="0"/>
            </a:xfrm>
            <a:prstGeom prst="line">
              <a:avLst/>
            </a:prstGeom>
            <a:ln cap="sq" w="19080">
              <a:solidFill>
                <a:srgbClr val="1c1c1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6659640" y="522936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851280" y="1125360"/>
            <a:ext cx="1728720" cy="4102200"/>
            <a:chOff x="3851280" y="1125360"/>
            <a:chExt cx="1728720" cy="4102200"/>
          </a:xfrm>
        </p:grpSpPr>
        <p:sp>
          <p:nvSpPr>
            <p:cNvPr id="737" name="Line 44"/>
            <p:cNvSpPr/>
            <p:nvPr/>
          </p:nvSpPr>
          <p:spPr>
            <a:xfrm>
              <a:off x="3851280" y="1125360"/>
              <a:ext cx="1728720" cy="410220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3851280" y="1125360"/>
              <a:ext cx="1728720" cy="410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9" name="Rectangle 45"/>
          <p:cNvSpPr/>
          <p:nvPr/>
        </p:nvSpPr>
        <p:spPr>
          <a:xfrm>
            <a:off x="3419640" y="5661000"/>
            <a:ext cx="3670200" cy="57636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ahoma"/>
              </a:rPr>
              <a:t>生男生女机会均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6"/>
          <p:cNvSpPr/>
          <p:nvPr/>
        </p:nvSpPr>
        <p:spPr>
          <a:xfrm>
            <a:off x="539640" y="1855440"/>
            <a:ext cx="8353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使学生明确生男生女的道理，能解释生男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生女机会均等的原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提高学生实验探究的意识和能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培养学生学习生物的兴趣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611280" y="461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Rectangle 8"/>
          <p:cNvSpPr/>
          <p:nvPr/>
        </p:nvSpPr>
        <p:spPr>
          <a:xfrm>
            <a:off x="1501920" y="139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实验目的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2556000" y="620640"/>
            <a:ext cx="3670200" cy="57636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ahoma"/>
              </a:rPr>
              <a:t>生男生女机会均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文本框 8194"/>
          <p:cNvSpPr/>
          <p:nvPr/>
        </p:nvSpPr>
        <p:spPr>
          <a:xfrm>
            <a:off x="1268280" y="5584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9"/>
          <p:cNvSpPr/>
          <p:nvPr/>
        </p:nvSpPr>
        <p:spPr>
          <a:xfrm>
            <a:off x="468360" y="423720"/>
            <a:ext cx="8207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实验准备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6699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课前各小组准备围棋子，用白子表示含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染色体的精子，用黑子表示含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染色体的精子，用白子代表卵细胞。将棋子分成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组，每组两个不透光容器，分别装“精子”（黑白子均为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个）和“卵细胞”（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个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将学生分成八组，每组六人，任命一名责任心强、能力强的同学为组长，组长和组员共同安排实验操作员、纪律监督员和实验记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录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100372388"/>
          <p:cNvPicPr/>
          <p:nvPr/>
        </p:nvPicPr>
        <p:blipFill>
          <a:blip r:embed="rId1"/>
          <a:stretch/>
        </p:blipFill>
        <p:spPr>
          <a:xfrm>
            <a:off x="179280" y="128520"/>
            <a:ext cx="878544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6"/>
          <p:cNvSpPr/>
          <p:nvPr/>
        </p:nvSpPr>
        <p:spPr>
          <a:xfrm>
            <a:off x="324000" y="26352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实验过程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组间交流，教师指导改进计划，学生按计划进行实验：</a:t>
            </a:r>
            <a:br>
              <a:rPr sz="3200"/>
            </a:b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一个同学从装有“精子”的纸袋中随机取出一粒“精子”，另一个同学从装有“卵”的纸袋内取出一粒“卵细胞”，放在一起代表受精卵，并说出受精卵含有的性染色体的种类，从而获知新个体的性别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重复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次。注意：应将取出的棋子放回纸袋，再进行下一次实验。教师巡视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指导，督促学生作好记录，在表格内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填写数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900000" y="260280"/>
          <a:ext cx="7775640" cy="5945040"/>
        </p:xfrm>
        <a:graphic>
          <a:graphicData uri="http://schemas.openxmlformats.org/drawingml/2006/table">
            <a:tbl>
              <a:tblPr/>
              <a:tblGrid>
                <a:gridCol w="1509840"/>
                <a:gridCol w="1965240"/>
                <a:gridCol w="1719360"/>
                <a:gridCol w="2581200"/>
              </a:tblGrid>
              <a:tr h="100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数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据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组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别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组合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XY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组合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生男生女比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一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二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三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四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五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六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七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八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平均值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Text Box 65"/>
          <p:cNvSpPr/>
          <p:nvPr/>
        </p:nvSpPr>
        <p:spPr>
          <a:xfrm>
            <a:off x="-111600" y="1557360"/>
            <a:ext cx="911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8719d9"/>
                </a:solidFill>
                <a:latin typeface="Tahoma"/>
              </a:rPr>
              <a:t>模拟实验汇总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41"/>
          <p:cNvSpPr/>
          <p:nvPr/>
        </p:nvSpPr>
        <p:spPr>
          <a:xfrm>
            <a:off x="900000" y="1281960"/>
            <a:ext cx="7607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师生讨论结果得出结论，表达交流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Rectangle 242"/>
          <p:cNvSpPr/>
          <p:nvPr/>
        </p:nvSpPr>
        <p:spPr>
          <a:xfrm>
            <a:off x="755640" y="1989000"/>
            <a:ext cx="748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预期结果：生男生女比例约为</a:t>
            </a:r>
            <a:r>
              <a:rPr b="1" lang="en-US" sz="3600" spc="-1" strike="noStrike" u="sng">
                <a:solidFill>
                  <a:srgbClr val="ff6699"/>
                </a:solidFill>
                <a:uFillTx/>
                <a:latin typeface="Times New Roman"/>
              </a:rPr>
              <a:t>1</a:t>
            </a:r>
            <a:r>
              <a:rPr b="1" lang="zh-CN" sz="3600" spc="-1" strike="noStrike" u="sng">
                <a:solidFill>
                  <a:srgbClr val="ff6699"/>
                </a:solidFill>
                <a:uFillTx/>
                <a:latin typeface="Times New Roman"/>
              </a:rPr>
              <a:t>：</a:t>
            </a:r>
            <a:r>
              <a:rPr b="1" lang="en-US" sz="3600" spc="-1" strike="noStrike" u="sng">
                <a:solidFill>
                  <a:srgbClr val="ff6699"/>
                </a:solidFill>
                <a:uFillTx/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243"/>
          <p:cNvSpPr/>
          <p:nvPr/>
        </p:nvSpPr>
        <p:spPr>
          <a:xfrm>
            <a:off x="755640" y="2519280"/>
            <a:ext cx="684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预期结论：生男生女</a:t>
            </a:r>
            <a:r>
              <a:rPr b="1" lang="zh-CN" sz="3600" spc="-1" strike="noStrike" u="sng">
                <a:solidFill>
                  <a:srgbClr val="ff6699"/>
                </a:solidFill>
                <a:uFillTx/>
                <a:latin typeface="Times New Roman"/>
              </a:rPr>
              <a:t>机会均等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44"/>
          <p:cNvSpPr/>
          <p:nvPr/>
        </p:nvSpPr>
        <p:spPr>
          <a:xfrm>
            <a:off x="1042920" y="3346560"/>
            <a:ext cx="936720" cy="459720"/>
          </a:xfrm>
          <a:prstGeom prst="rect">
            <a:avLst/>
          </a:pr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质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45"/>
          <p:cNvSpPr/>
          <p:nvPr/>
        </p:nvSpPr>
        <p:spPr>
          <a:xfrm>
            <a:off x="1332000" y="406224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什么每组的实验结果并不都是</a:t>
            </a:r>
            <a:r>
              <a:rPr b="1" lang="en-US" sz="2800" spc="-1" strike="noStrike">
                <a:solidFill>
                  <a:srgbClr val="ff6699"/>
                </a:solidFill>
                <a:latin typeface="Tahoma"/>
              </a:rPr>
              <a:t>1: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254"/>
          <p:cNvSpPr/>
          <p:nvPr/>
        </p:nvSpPr>
        <p:spPr>
          <a:xfrm>
            <a:off x="755640" y="1484280"/>
            <a:ext cx="144360" cy="216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255"/>
          <p:cNvSpPr/>
          <p:nvPr/>
        </p:nvSpPr>
        <p:spPr>
          <a:xfrm>
            <a:off x="755640" y="2133720"/>
            <a:ext cx="144360" cy="21564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256"/>
          <p:cNvSpPr/>
          <p:nvPr/>
        </p:nvSpPr>
        <p:spPr>
          <a:xfrm>
            <a:off x="755640" y="2708280"/>
            <a:ext cx="144360" cy="216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4"/>
          <p:cNvSpPr/>
          <p:nvPr/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调查范围越大，次数越多，正反两面比例越接近</a:t>
            </a:r>
            <a:r>
              <a:rPr b="1" lang="en-US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1:1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，同样道理，在男女比例的调查中可以看出，所调查范围越大，人数越多，男女比例就越接近</a:t>
            </a:r>
            <a:r>
              <a:rPr b="1" lang="en-US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：</a:t>
            </a:r>
            <a:r>
              <a:rPr b="1" lang="en-US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65"/>
          <p:cNvSpPr/>
          <p:nvPr/>
        </p:nvSpPr>
        <p:spPr>
          <a:xfrm>
            <a:off x="304920" y="609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隶书"/>
              </a:rPr>
              <a:t>通过调查，发现了什么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gen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7"/>
          <p:cNvSpPr/>
          <p:nvPr/>
        </p:nvSpPr>
        <p:spPr>
          <a:xfrm>
            <a:off x="971640" y="1542960"/>
            <a:ext cx="75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"/>
                <a:ea typeface="华文隶书"/>
              </a:rPr>
              <a:t>可是现实生活中男女的比例情况是怎么样的呢？你能对这个现象做出合理的解释吗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"/>
          <p:cNvSpPr/>
          <p:nvPr/>
        </p:nvSpPr>
        <p:spPr>
          <a:xfrm>
            <a:off x="457200" y="125280"/>
            <a:ext cx="692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我国大陆五次人口普查资料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1476360" y="1165320"/>
          <a:ext cx="6553080" cy="4495680"/>
        </p:xfrm>
        <a:graphic>
          <a:graphicData uri="http://schemas.openxmlformats.org/drawingml/2006/table">
            <a:tbl>
              <a:tblPr/>
              <a:tblGrid>
                <a:gridCol w="2095560"/>
                <a:gridCol w="2084400"/>
                <a:gridCol w="23731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总人口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男女性别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7.6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.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5.5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.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6.3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.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6.6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6.7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37"/>
          <p:cNvSpPr/>
          <p:nvPr/>
        </p:nvSpPr>
        <p:spPr>
          <a:xfrm>
            <a:off x="3177360" y="5905080"/>
            <a:ext cx="416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第六次人口普查结果将于</a:t>
            </a:r>
            <a:r>
              <a:rPr b="1" lang="en-US" sz="2400" spc="-1" strike="noStrike">
                <a:solidFill>
                  <a:srgbClr val="8719d9"/>
                </a:solidFill>
                <a:latin typeface="Tahoma"/>
              </a:rPr>
              <a:t>2011</a:t>
            </a: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年</a:t>
            </a:r>
            <a:r>
              <a:rPr b="1" lang="en-US" sz="2400" spc="-1" strike="noStrike">
                <a:solidFill>
                  <a:srgbClr val="8719d9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月底公布</a:t>
            </a:r>
            <a:r>
              <a:rPr b="0" lang="zh-CN" sz="2400" spc="-1" strike="noStrike">
                <a:solidFill>
                  <a:srgbClr val="8719d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324000" y="1550880"/>
            <a:ext cx="842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华文隶书"/>
                <a:ea typeface="华文隶书"/>
              </a:rPr>
              <a:t>  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性别比例失调，会产生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华文彩云"/>
              </a:rPr>
              <a:t>“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婚姻   性别挤压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华文彩云"/>
              </a:rPr>
              <a:t>”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现象，并将大大引发买卖婚姻、拐卖妇女等违法犯罪行为以及各种复杂的社会问题，</a:t>
            </a:r>
            <a:br>
              <a:rPr sz="4000"/>
            </a:b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严重阻碍着我国人口的和谐、持续和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          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健康的发展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40"/>
          <p:cNvSpPr/>
          <p:nvPr/>
        </p:nvSpPr>
        <p:spPr>
          <a:xfrm>
            <a:off x="1328760" y="484200"/>
            <a:ext cx="2649600" cy="642600"/>
          </a:xfrm>
          <a:prstGeom prst="rect">
            <a:avLst/>
          </a:prstGeom>
          <a:noFill/>
          <a:ln cap="sq"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ahoma"/>
              </a:rPr>
              <a:t>性别比例失调的危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971640" y="1557360"/>
          <a:ext cx="6481800" cy="155412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物体性状的遗传是由基因控制的。那么，人的性别决定是否与性染色体有关，而与基因无关呢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Rectangle 15"/>
          <p:cNvSpPr/>
          <p:nvPr/>
        </p:nvSpPr>
        <p:spPr>
          <a:xfrm>
            <a:off x="1865160" y="56196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对人的性别遗传，你还有哪些疑问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Rectangle 18"/>
          <p:cNvSpPr/>
          <p:nvPr/>
        </p:nvSpPr>
        <p:spPr>
          <a:xfrm>
            <a:off x="684360" y="1701720"/>
            <a:ext cx="215640" cy="287280"/>
          </a:xfrm>
          <a:prstGeom prst="rect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Text Box 19"/>
          <p:cNvSpPr/>
          <p:nvPr/>
        </p:nvSpPr>
        <p:spPr>
          <a:xfrm>
            <a:off x="1258920" y="34974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习课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页内容，了解相关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AutoShape 20"/>
          <p:cNvSpPr/>
          <p:nvPr/>
        </p:nvSpPr>
        <p:spPr>
          <a:xfrm>
            <a:off x="684360" y="3573360"/>
            <a:ext cx="431640" cy="409680"/>
          </a:xfrm>
          <a:prstGeom prst="smileyFace">
            <a:avLst>
              <a:gd name="adj" fmla="val 4653"/>
            </a:avLst>
          </a:prstGeom>
          <a:solidFill>
            <a:srgbClr val="ff99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"/>
          <p:cNvGraphicFramePr/>
          <p:nvPr/>
        </p:nvGraphicFramePr>
        <p:xfrm>
          <a:off x="971640" y="907920"/>
          <a:ext cx="7272360" cy="155412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通过我们这节课的学习，现在你能用这节课的所学，解释一下生男生女到底是不是女人的责任吗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Rectangle 15"/>
          <p:cNvSpPr/>
          <p:nvPr/>
        </p:nvSpPr>
        <p:spPr>
          <a:xfrm>
            <a:off x="1042920" y="31690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在一些人的观念里还存在着重男轻女的思想，从而导致性别的比例发生偏差，你是如何来看待这个问题呢？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怎样做是正确的呢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Oval 18"/>
          <p:cNvSpPr/>
          <p:nvPr/>
        </p:nvSpPr>
        <p:spPr>
          <a:xfrm>
            <a:off x="611280" y="1052640"/>
            <a:ext cx="288720" cy="28728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Oval 19"/>
          <p:cNvSpPr/>
          <p:nvPr/>
        </p:nvSpPr>
        <p:spPr>
          <a:xfrm>
            <a:off x="611280" y="2854440"/>
            <a:ext cx="288720" cy="28728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报纸-2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" descr="报头4"/>
          <p:cNvPicPr/>
          <p:nvPr/>
        </p:nvPicPr>
        <p:blipFill>
          <a:blip r:embed="rId2"/>
          <a:stretch/>
        </p:blipFill>
        <p:spPr>
          <a:xfrm>
            <a:off x="0" y="0"/>
            <a:ext cx="9144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835280" y="1844640"/>
          <a:ext cx="5329080" cy="210348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、人的性别是性状吗？</a:t>
                      </a:r>
                      <a:br>
                        <a:rPr sz="3300"/>
                      </a:b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、性状是由什么控制着？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1835280" y="4365720"/>
          <a:ext cx="5688000" cy="59364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5943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zh-CN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基因在细胞的什么位置？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Rectangle 52"/>
          <p:cNvSpPr/>
          <p:nvPr/>
        </p:nvSpPr>
        <p:spPr>
          <a:xfrm>
            <a:off x="1695240" y="80820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5f5f5f"/>
                </a:solidFill>
                <a:latin typeface="Tahoma"/>
                <a:ea typeface="华文楷体"/>
              </a:rPr>
              <a:t>复习提问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5"/>
          <p:cNvSpPr/>
          <p:nvPr/>
        </p:nvSpPr>
        <p:spPr>
          <a:xfrm>
            <a:off x="2207160" y="1233360"/>
            <a:ext cx="4867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一、男女染色体的差别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体细胞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男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女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X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生殖细胞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精    子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Y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卵细胞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 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二、生男生女机会均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机会均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是由和卵细胞结合成受精卵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精子的类型决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1835280" y="578520"/>
            <a:ext cx="504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19d9"/>
                </a:solidFill>
                <a:latin typeface="华文楷体"/>
                <a:ea typeface="华文楷体"/>
              </a:rPr>
              <a:t>第四节 </a:t>
            </a:r>
            <a:r>
              <a:rPr b="1" lang="zh-CN" sz="3200" spc="-1" strike="noStrike">
                <a:solidFill>
                  <a:srgbClr val="8719d9"/>
                </a:solidFill>
                <a:latin typeface="Arial"/>
                <a:ea typeface="华文楷体"/>
              </a:rPr>
              <a:t>   </a:t>
            </a:r>
            <a:r>
              <a:rPr b="1" lang="zh-CN" sz="3200" spc="-1" strike="noStrike">
                <a:solidFill>
                  <a:srgbClr val="8719d9"/>
                </a:solidFill>
                <a:latin typeface="华文楷体"/>
                <a:ea typeface="华文楷体"/>
              </a:rPr>
              <a:t> 人的性别遗传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7" descr="鼓掌"/>
          <p:cNvPicPr/>
          <p:nvPr/>
        </p:nvPicPr>
        <p:blipFill>
          <a:blip r:embed="rId1"/>
          <a:stretch/>
        </p:blipFill>
        <p:spPr>
          <a:xfrm>
            <a:off x="468360" y="33336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5"/>
          <p:cNvSpPr/>
          <p:nvPr/>
        </p:nvSpPr>
        <p:spPr>
          <a:xfrm>
            <a:off x="539640" y="668160"/>
            <a:ext cx="863640" cy="4597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755640" y="14716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生活中为什么我们见到的双胞胎有的性别相同，有的性别不同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68436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同卵双胞胎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684360" y="429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异卵双胞胎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2700360" y="300528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即单卵双胞胎是一个精子与一个卵子结合产生的一个受精卵。这个受精卵一分为二，形成两个胚胎。由于他们出自同一个受精卵，接受完全一样的染色体和基因物质，因此他们性别相同 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2771640" y="471492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女性因某种原因同时排出两个卵子并同时受精，形成两个不同的受精卵 。然后分别发育成两个独立的个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长大后差异比较大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并且可以为同性也可以为异性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两个不同的受精卵发育成的双胞胎 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文本框 8194"/>
          <p:cNvSpPr/>
          <p:nvPr/>
        </p:nvSpPr>
        <p:spPr>
          <a:xfrm>
            <a:off x="1765440" y="6296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258920" y="541440"/>
            <a:ext cx="10810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719d9"/>
                </a:solidFill>
                <a:latin typeface="Tahoma"/>
                <a:ea typeface="黑体"/>
              </a:rPr>
              <a:t>练兵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8" name="Picture 7" descr="u=2730363021,199200321&amp;fm=0&amp;gp=0"/>
          <p:cNvPicPr/>
          <p:nvPr/>
        </p:nvPicPr>
        <p:blipFill>
          <a:blip r:embed="rId1"/>
          <a:stretch/>
        </p:blipFill>
        <p:spPr>
          <a:xfrm>
            <a:off x="395280" y="404640"/>
            <a:ext cx="792000" cy="115272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8"/>
          <p:cNvSpPr/>
          <p:nvPr/>
        </p:nvSpPr>
        <p:spPr>
          <a:xfrm>
            <a:off x="1539720" y="1405080"/>
            <a:ext cx="58104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一个精子中含有的性染色体有几种？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1602000" y="2435760"/>
            <a:ext cx="4591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新生儿的性别主要取决于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母亲的体细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父亲的体细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卵细胞的类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精子的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2483280" y="3789720"/>
            <a:ext cx="44060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一对夫妇第一胎生了一个女孩，他们很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再要一个男孩，那么，第二胎生男孩的几率是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11"/>
          <p:cNvSpPr/>
          <p:nvPr/>
        </p:nvSpPr>
        <p:spPr>
          <a:xfrm>
            <a:off x="2674800" y="486900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10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5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574560" y="1432440"/>
            <a:ext cx="79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正常男性体细胞的染色体组成是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X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8"/>
          <p:cNvSpPr/>
          <p:nvPr/>
        </p:nvSpPr>
        <p:spPr>
          <a:xfrm>
            <a:off x="468360" y="3355560"/>
            <a:ext cx="8207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假如一个性状总是从父亲直接传给儿子，由儿子直接传给孙子，那么控制这个性状的基因最可能的位置是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9"/>
          <p:cNvSpPr/>
          <p:nvPr/>
        </p:nvSpPr>
        <p:spPr>
          <a:xfrm>
            <a:off x="755640" y="4677840"/>
            <a:ext cx="7488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常染色体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染色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染色体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性染色体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C3D-CEE0-44AC-8510-A483282DE6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0"/>
          <p:cNvSpPr/>
          <p:nvPr/>
        </p:nvSpPr>
        <p:spPr>
          <a:xfrm>
            <a:off x="1042920" y="1773360"/>
            <a:ext cx="69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为什么生男生女机会均等？（尝试以图解的方式解释，写出性染色体即可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5291280" y="260280"/>
            <a:ext cx="2520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男</a:t>
            </a:r>
            <a:r>
              <a:rPr b="1" lang="en-US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女</a:t>
            </a:r>
            <a:r>
              <a:rPr b="1" lang="en-US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Picture 6" descr="pic_8095"/>
          <p:cNvPicPr/>
          <p:nvPr/>
        </p:nvPicPr>
        <p:blipFill>
          <a:blip r:embed="rId1"/>
          <a:stretch/>
        </p:blipFill>
        <p:spPr>
          <a:xfrm>
            <a:off x="755640" y="1125360"/>
            <a:ext cx="8137440" cy="49676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2843280" y="61657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华文新魏"/>
              </a:rPr>
              <a:t>男、女成对染色体排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1640160" y="449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女染色体的差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9"/>
          <p:cNvSpPr/>
          <p:nvPr/>
        </p:nvSpPr>
        <p:spPr>
          <a:xfrm>
            <a:off x="2124000" y="501336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10"/>
          <p:cNvSpPr/>
          <p:nvPr/>
        </p:nvSpPr>
        <p:spPr>
          <a:xfrm>
            <a:off x="6372360" y="5084640"/>
            <a:ext cx="792000" cy="7923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3132000" y="189000"/>
          <a:ext cx="1584360" cy="487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问题提纲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11280" y="765000"/>
          <a:ext cx="7848360" cy="10065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在男性和女性的染色体中哪一对有差别？这对染色体的差别可能与什么有关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611280" y="1700280"/>
          <a:ext cx="7632720" cy="10065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两幅图中，哪幅是男性的染色体，哪幅是女性的染色体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611280" y="2624040"/>
          <a:ext cx="7375320" cy="549360"/>
        </p:xfrm>
        <a:graphic>
          <a:graphicData uri="http://schemas.openxmlformats.org/drawingml/2006/table">
            <a:tbl>
              <a:tblPr/>
              <a:tblGrid>
                <a:gridCol w="7375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哪些是常染色体，哪是性染色体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9640" y="3068640"/>
          <a:ext cx="7632720" cy="10065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图中哪条是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染色体，哪条是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染色体，二者在形态上有何区别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539640" y="4005360"/>
          <a:ext cx="7848720" cy="146340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4634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就性染色体来说，在男性产生的精子和女性产生的卵细胞中，应该有几条性染色体？精子和卵细胞各有几种类型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9640" y="5445000"/>
          <a:ext cx="7777080" cy="10065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男女体细胞染色体，精子和卵细胞中染色体的数量和表示方法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867280" y="533520"/>
            <a:ext cx="304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902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年美国的细胞学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麦克郎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.E.McClung)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在观察中发现男性体细胞中的性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914400" y="479736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美国细胞学家威尔逊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B.Wilso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斯特蒂文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.H.Sturtevan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一步把男性体细胞的性染色体命名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体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体；女性体细胞中的一对性染色体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Picture 11" descr="图1"/>
          <p:cNvPicPr/>
          <p:nvPr/>
        </p:nvPicPr>
        <p:blipFill>
          <a:blip r:embed="rId1"/>
          <a:srcRect l="0" t="0" r="7598" b="3793"/>
          <a:stretch/>
        </p:blipFill>
        <p:spPr>
          <a:xfrm>
            <a:off x="228600" y="189000"/>
            <a:ext cx="5562720" cy="43434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790560" y="1844640"/>
            <a:ext cx="685800" cy="703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2700360" y="3429000"/>
            <a:ext cx="685800" cy="703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2128680" y="309600"/>
            <a:ext cx="65455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X</a:t>
            </a:r>
            <a:r>
              <a:rPr b="0" lang="zh-CN" sz="4400" spc="-1" strike="noStrike">
                <a:solidFill>
                  <a:srgbClr val="1c1c1c"/>
                </a:solidFill>
                <a:latin typeface="Tahoma"/>
              </a:rPr>
              <a:t>染色体和</a:t>
            </a: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Y</a:t>
            </a:r>
            <a:r>
              <a:rPr b="0" lang="zh-CN" sz="4400" spc="-1" strike="noStrike">
                <a:solidFill>
                  <a:srgbClr val="1c1c1c"/>
                </a:solidFill>
                <a:latin typeface="Tahoma"/>
              </a:rPr>
              <a:t>染色体的区别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6" descr="X"/>
          <p:cNvPicPr/>
          <p:nvPr/>
        </p:nvPicPr>
        <p:blipFill>
          <a:blip r:embed="rId1"/>
          <a:stretch/>
        </p:blipFill>
        <p:spPr>
          <a:xfrm>
            <a:off x="1692360" y="2116080"/>
            <a:ext cx="273672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2" name="Text Box 7"/>
          <p:cNvSpPr/>
          <p:nvPr/>
        </p:nvSpPr>
        <p:spPr>
          <a:xfrm>
            <a:off x="2411280" y="59342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c3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e60c30"/>
                </a:solidFill>
                <a:latin typeface="Times New Roman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5796000" y="54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c3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e60c30"/>
                </a:solidFill>
                <a:latin typeface="Times New Roman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9" descr="Y染色体"/>
          <p:cNvPicPr/>
          <p:nvPr/>
        </p:nvPicPr>
        <p:blipFill>
          <a:blip r:embed="rId2"/>
          <a:stretch/>
        </p:blipFill>
        <p:spPr>
          <a:xfrm>
            <a:off x="5364000" y="2400480"/>
            <a:ext cx="2552760" cy="31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5"/>
          <p:cNvSpPr/>
          <p:nvPr/>
        </p:nvSpPr>
        <p:spPr>
          <a:xfrm>
            <a:off x="571680" y="1500120"/>
            <a:ext cx="73897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根据性染色体来区分生殖细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1066680" y="304812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精子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091040" y="2743200"/>
            <a:ext cx="3505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含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染色体，含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染色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39640" y="3933720"/>
            <a:ext cx="34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卵细胞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3060720" y="4005360"/>
            <a:ext cx="2930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含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染色体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2484360" y="155880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en-US" sz="6000" spc="-1" strike="noStrike">
                <a:solidFill>
                  <a:srgbClr val="ffcf01"/>
                </a:solidFill>
                <a:latin typeface="黑体"/>
                <a:ea typeface="黑体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2627280" y="386064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564000" y="1414440"/>
            <a:ext cx="1295280" cy="719280"/>
            <a:chOff x="3564000" y="1414440"/>
            <a:chExt cx="1295280" cy="719280"/>
          </a:xfrm>
        </p:grpSpPr>
        <p:sp>
          <p:nvSpPr>
            <p:cNvPr id="574" name="Line 7"/>
            <p:cNvSpPr/>
            <p:nvPr/>
          </p:nvSpPr>
          <p:spPr>
            <a:xfrm flipV="1">
              <a:off x="3564000" y="1414440"/>
              <a:ext cx="1295280" cy="7192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 rot="10800000">
              <a:off x="3564000" y="1414440"/>
              <a:ext cx="129528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564000" y="2278080"/>
            <a:ext cx="1295280" cy="647640"/>
            <a:chOff x="3564000" y="2278080"/>
            <a:chExt cx="1295280" cy="647640"/>
          </a:xfrm>
        </p:grpSpPr>
        <p:sp>
          <p:nvSpPr>
            <p:cNvPr id="577" name="Line 8"/>
            <p:cNvSpPr/>
            <p:nvPr/>
          </p:nvSpPr>
          <p:spPr>
            <a:xfrm>
              <a:off x="3564000" y="2278080"/>
              <a:ext cx="1295280" cy="64764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564000" y="2278080"/>
              <a:ext cx="129528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708360" y="3573000"/>
            <a:ext cx="1295280" cy="762120"/>
            <a:chOff x="3708360" y="3573000"/>
            <a:chExt cx="1295280" cy="762120"/>
          </a:xfrm>
        </p:grpSpPr>
        <p:sp>
          <p:nvSpPr>
            <p:cNvPr id="580" name="Line 9"/>
            <p:cNvSpPr/>
            <p:nvPr/>
          </p:nvSpPr>
          <p:spPr>
            <a:xfrm flipV="1">
              <a:off x="3708360" y="3573000"/>
              <a:ext cx="1295280" cy="7621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 rot="10800000">
              <a:off x="3708360" y="357300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708360" y="4411800"/>
            <a:ext cx="1371600" cy="685800"/>
            <a:chOff x="3708360" y="4411800"/>
            <a:chExt cx="1371600" cy="685800"/>
          </a:xfrm>
        </p:grpSpPr>
        <p:sp>
          <p:nvSpPr>
            <p:cNvPr id="583" name="Line 10"/>
            <p:cNvSpPr/>
            <p:nvPr/>
          </p:nvSpPr>
          <p:spPr>
            <a:xfrm>
              <a:off x="3708360" y="4411800"/>
              <a:ext cx="1371600" cy="68580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3708360" y="441180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" name="Text Box 11"/>
          <p:cNvSpPr/>
          <p:nvPr/>
        </p:nvSpPr>
        <p:spPr>
          <a:xfrm>
            <a:off x="5003640" y="838080"/>
            <a:ext cx="25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精子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5076720" y="3068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卵细胞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5219640" y="4581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卵细胞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5003640" y="2278080"/>
            <a:ext cx="29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f01"/>
                </a:solidFill>
                <a:latin typeface="黑体"/>
                <a:ea typeface="黑体"/>
              </a:rPr>
              <a:t>Y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精子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1116000" y="18432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1187280" y="4149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2:58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6Z</dcterms:modified>
  <cp:revision>1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