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TYPE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0D5-F57B-442C-969A-F038959F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8DB-4065-43EF-98CF-6323599B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B0F29-D722-4F22-8637-A408F9C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7477C-18FD-44E2-AB1D-4301B026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2AC6A-989F-41A1-A117-D8C082F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7CCBA-3EE3-418E-87D3-CABFA073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4A9D3-A082-4EA7-A5F1-3A8B59F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1CA73-41DA-42DC-B2CA-06F021B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BA4A6-0299-48BA-8577-C340B34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5173D-D545-4F0C-9806-5F64EFB7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C5344-A7AC-4971-B4D0-7E68FBBD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004DF-3803-44D7-A12B-2D9C0799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44F-CD4F-4F7A-9A7A-D970BC91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2AB74-C11B-49B7-AA6D-1C95603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5508-402E-4D96-A7C7-7A25326F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5A484-5F5F-4469-8E37-5134F424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ECF0F-24D3-415E-BA12-DA49E1F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CEFBC-8260-4E78-AF8D-99107FCE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55D8B-97E1-453F-9422-ACE2886A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C4F25-7725-44E5-9315-E0F798B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BCB4-1369-4447-941D-4A4CFD1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CE422-0EAF-4DBB-8B24-109CF878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3BB0E-3698-4EEC-A924-5C8C3DB9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1DF-0631-45AA-8193-FFF65052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0D5B-A356-4921-8982-061A2751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5C551-FF67-4438-A9BC-7D1A26AD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815AD-4456-4D9C-A227-D72B753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F5905-A589-4013-A005-6C869DFA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EC7A-4414-4DA7-B07B-DE95A56B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33B0A-B879-4307-BF15-E9FFE90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2BDF2-DA8F-45F2-8D83-B53B6EA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465E2-5044-492F-9D6E-E35B82D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564E-3251-4F08-8662-960C8B80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BBDD3-F656-43B3-A455-8C2436D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B651-1624-4E36-AA85-F91BF944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AC76C-BB1A-47E4-BF46-B347027A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4886-3E6B-43E8-8C0D-5046BBEE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DDD31-F3CF-48F9-AC06-DF1B72FA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98FA-BA4E-418F-AEC4-AB15466B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36656-F4B8-4157-B618-82D22CE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51FFF-BD89-425B-A8E5-5F38CB7E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4D951-CA8A-4AB7-B75D-C46E64C8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FA00A-DA42-48DB-AAED-4D856B50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FCC5C-73D0-459F-88F6-289D7FCC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F85D5-23C7-403B-8904-3BE6E264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46F6-DFF5-4F9B-B985-2B6F995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C4DCF-4AAE-40C7-A2A8-177DF05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3B768-80A3-4369-8986-39F17F1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90E1D-06CC-48EC-9A47-E3A4E60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F11E2-3C29-487D-A6FA-810FAA5E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CC1C9-3259-4E5E-A421-9E53536A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1A3AB-8A3C-4837-8427-B144D016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787AB-EDC2-443B-BC13-9579C00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2355F-F2A3-40BE-841B-DA6CF377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23DF4-1C72-46BA-B624-87C27B47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9D120-C43C-4DB7-BB2E-3A6D1771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C04B-2FA7-4DF9-89D7-A077213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C22A4-B577-417C-868E-9C15523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4C8D5-550D-4513-8E2D-6782CB3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1645B-3A58-4F68-BAD7-3F61C7C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9BA94-5FE6-443E-BA99-EBAFAC9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A3B33-057F-48F8-9213-4251122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D3485-B7AE-4905-8B85-9F5FF5E7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A32CD-22C6-4D47-A632-4ECC9500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3E5C-B767-4DB5-A55F-CE91D91F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816A-5F71-4A14-8D04-0C76CEEE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7206-0035-43B7-BD6E-001F35E2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C093-7D77-41A6-A203-3979F2F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D0B-5C52-4CD0-A5B0-F2B53654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3F0-F8E4-412B-A62C-A520601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6928-536C-45F2-92F3-F71B021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DD3C-4EC3-489F-BD9A-C70EBD5A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35D2-AEBE-4BFD-87C5-370F464A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256A-E916-430E-93BB-E557CB76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D0E9C-0531-493C-9AFB-50197FD8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E555-56B6-4DFE-836D-77B2A78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DE81-B07B-4B2C-BC84-7244C2D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1CAE-C6B9-4C7B-A9C3-A7CE86B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8A1A-0435-4C67-8ECB-1A2B87E2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592-5541-4BA1-B8F0-02F14F6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15AF-B1C4-4D06-ACAA-8D48FF57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5CA7-22E8-42E7-AE45-F21E536E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6861-56D5-4EB9-B4E6-FF18A78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E004-0C45-41DE-B672-4BAF942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0CEC-F4BE-4481-945D-EB7B33A2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97AB-77F5-4875-8B91-F7479AC2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9967-5D94-4730-BC7D-E5C7F86F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C82C-5848-42EB-BFDB-87B577CE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98DD-7660-499E-BBBD-BE560269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799C-F057-4692-A9B8-5C79125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961-33E8-4C34-8C40-9A52C2B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D658-993C-465C-B09E-9BBA13CA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37CC-A1E2-4324-8D46-20F18AB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9912-50DA-4F19-9752-ED48EBE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2B68-B8AE-473C-A941-5FCDCE4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1E6F-14A5-474D-B26C-D5998C56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F4BE-6CEC-49D0-B9E7-87B0155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27C3-3CB7-4093-875E-DDF7D3D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3B16-B6E8-4598-B066-2ED8ACC5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1528-57E0-41C1-A3F1-C5EA7FD8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86F1-632A-4E91-B970-43B7038A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F42-8A83-4D88-BD50-9A9EB8D6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A536-9968-4A10-AC71-DCA9DC6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1A49-D3F3-4DA0-ACAA-232A676C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04B7-1870-4D35-9403-366F6D82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2CD36-B87B-4526-AF87-29CBF5F0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8025-05A5-43A0-B084-38CEB610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450CD-5EFF-4910-BD20-823A9F4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A8F4-4541-4739-8A72-3DBE6EF8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2BEF-92EB-4DD3-A64A-34A7EDD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9A60-F213-43AB-8CA8-B5582128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000C-D175-4263-8A2F-E51A775C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8D0-9743-4CCB-BD1C-5F5C70A9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78B83-6A69-4296-BEEC-A8D5DADC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2F89-237F-4575-83ED-5E1E7046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65CB0-4E27-48C5-9359-03F0E56A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CE7D-0808-4309-AACC-A5621AE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4AC3-2E43-4EE3-82CD-47FDD43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7928-CE03-45E2-BCEE-F82044E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E9F1D-A6EA-4ED9-81BB-C7650B3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76FE-0550-4265-8D7B-C52FDD5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323C-84B3-452B-9F4F-1F44D95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B7DFD-430C-4835-B8F4-9C5062F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9AB-4D3B-4493-BE98-6210E81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73E8-A04F-4BE2-A384-85D153EF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77CF-AB6E-4B67-B414-366A8ABC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9CBB-DB27-4607-B671-9067C479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13D3-E79D-4B35-8F72-544FFBBD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1B87-40DA-4E09-A26D-BFF98F1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07BAD-6B11-4E65-B1F2-8C184C50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C5A70-E5D3-4A84-8368-6E90D00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15D2B-75C6-4D34-854B-AE5C618A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A67C-7373-4403-8242-2098FA5E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B814-3D8A-42DF-862C-7AEAF4FD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F42-F6DD-4CEC-9CED-2706B00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534F-A8B4-4CD9-A0DC-0316E8D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F546E-99CF-41DE-A0F4-6F12F239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899D-7C80-4BB1-8C8E-0E0D6B7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E540E-1535-4757-9BF3-336EFDFB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900C1-30A3-48EA-8BA1-E1FF123E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3C67-0132-4227-B815-0C2746A6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BD131-984F-4400-94F3-F06CAB5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0664-B374-4611-B081-0A783B3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B04CB-C88A-4DDD-B39B-823E9AE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B3AF-959D-47CC-83B0-0BEEB6D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271-0EC2-49E4-B564-756A9AF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E5292-A499-4BED-AF2F-462D9CD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E8F56-EECD-4648-B3FC-12D3AC37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3538-AB6E-48B0-94ED-7F3F335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FCCB2-BCF9-4B5E-A329-235795E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7960-48E4-4493-9B15-364ED03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42348-0131-423D-B357-D6EF69B4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AAA9-AEBC-48C9-B580-597B3332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3ABF-AA2B-4D69-9053-5867D6DE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E0C60-2C69-46FD-B8A7-C81A1C3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06BD6-A7D0-45A6-873B-4B752092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C83-E57C-4B27-964E-E3B4E84B6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18BF-8F5C-4EBD-9F1E-05E8212B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1CB-9AE2-412B-B93C-7A1201325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DF18-E38F-446A-80C6-8D451A98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7D9-B2AB-44B5-B222-263505D0C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6A7-2578-4B2C-85CD-0A27B43D49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1C07-CA7A-4BC0-97DA-95BA85483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54C-954D-4F16-99E3-85B55BD13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A8D-BD2A-44DD-8F4B-76C1DBDEB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478-6E1E-4FA2-A77A-79F514CDB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EAE3-1658-481D-9081-86A1344B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560-BCE3-4C3B-A5C7-7E55EE784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D017-AA8A-4B59-868B-28A339E33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ucai123.com/gif/2004/8-18/16717-5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608040" y="218124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人生难免有挫折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"/>
          <p:cNvSpPr/>
          <p:nvPr/>
        </p:nvSpPr>
        <p:spPr>
          <a:xfrm>
            <a:off x="2633760" y="106668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课　让挫折丰富我们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1037160" y="18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造成挫折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79280" y="119700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观原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内部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95280" y="2708280"/>
            <a:ext cx="81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个人生理因素：体力、外貌、生理上的缺陷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心理因素：性格、气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客观原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部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然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恶劣的气候、严重的自然灾害所造成的损失或失败、生老病死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社会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、经济、法律、宗教、道德、风俗习惯、人际关系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5"/>
          <p:cNvSpPr txBox="1"/>
          <p:nvPr/>
        </p:nvSpPr>
        <p:spPr>
          <a:xfrm>
            <a:off x="468360" y="1844640"/>
            <a:ext cx="208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生鸡蛋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WordArt 6"/>
          <p:cNvSpPr txBox="1"/>
          <p:nvPr/>
        </p:nvSpPr>
        <p:spPr>
          <a:xfrm>
            <a:off x="3635280" y="206064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香蕉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6" name="WordArt 7"/>
          <p:cNvSpPr txBox="1"/>
          <p:nvPr/>
        </p:nvSpPr>
        <p:spPr>
          <a:xfrm>
            <a:off x="6516720" y="2133720"/>
            <a:ext cx="1655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咖啡豆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3348000" y="3789360"/>
            <a:ext cx="2952720" cy="2303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428472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沸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19"/>
          <p:cNvSpPr txBox="1"/>
          <p:nvPr/>
        </p:nvSpPr>
        <p:spPr>
          <a:xfrm rot="5400000">
            <a:off x="-36720" y="443700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猜结果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挫折的影响（作用）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挫折是灾难，阻碍人的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挫折能磨练人的意志，催人奋进，助人成长，是宝贵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4067280" y="98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重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确认识挫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挫折不可怕，要迎难而上，不逃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智的分析与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努力寻找克服挫折的时机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979640" y="4581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挫折也是财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2057400" y="2514600"/>
            <a:ext cx="533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1676520" y="762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1" descr="20031022030a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24"/>
          <p:cNvSpPr/>
          <p:nvPr/>
        </p:nvSpPr>
        <p:spPr>
          <a:xfrm>
            <a:off x="1009800" y="268272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今天最大的收获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26"/>
          <p:cNvSpPr txBox="1"/>
          <p:nvPr/>
        </p:nvSpPr>
        <p:spPr>
          <a:xfrm>
            <a:off x="977760" y="1073160"/>
            <a:ext cx="358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自我点评 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437C-6FA6-4F85-9396-1E409AD8DC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幸福征程多坎坷，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悬崖峭壁怪兽吼。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百折不挠迎难上，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绝顶风光勇者有。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37160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55640" y="278136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曲好的歌曲往往能打动许多人的心，使大家产生心灵的共鸣。让我们随着音乐的节拍一起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611280" y="549360"/>
            <a:ext cx="388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隶书"/>
              </a:rPr>
              <a:t>一曲难忘</a:t>
            </a:r>
            <a:endParaRPr b="1" lang="en-US" sz="1800" spc="1" strike="noStrike">
              <a:ln cap="sq"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84040" y="62064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把握生命里的每一分钟，全力以赴我们心中的梦，不经历风雨，怎么见彩虹，没有人能随随便便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歌曲中的“风雨”指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彩虹”指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告诉我们生活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不可避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取得成功，必需经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7"/>
          <p:cNvSpPr txBox="1"/>
          <p:nvPr/>
        </p:nvSpPr>
        <p:spPr>
          <a:xfrm>
            <a:off x="3814920" y="3122640"/>
            <a:ext cx="93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挫折</a:t>
            </a:r>
            <a:endParaRPr b="0" lang="en-US" sz="18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2878200" y="441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1027"/>
          <p:cNvSpPr txBox="1"/>
          <p:nvPr/>
        </p:nvSpPr>
        <p:spPr>
          <a:xfrm>
            <a:off x="3670200" y="384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4751280" y="513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挫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xinsrc_150601021028819929410"/>
          <p:cNvPicPr/>
          <p:nvPr/>
        </p:nvPicPr>
        <p:blipFill>
          <a:blip r:embed="rId1"/>
          <a:stretch/>
        </p:blipFill>
        <p:spPr>
          <a:xfrm>
            <a:off x="1905120" y="838080"/>
            <a:ext cx="5029200" cy="344016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0" y="4876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她是谁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981080" y="49528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桑兰，曾多次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国体操锦标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获跳马第一、二名，可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纽约友好运动会上练习跳马时，意外失手摔伤，导致高位残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801ITP9L_0"/>
          <p:cNvPicPr/>
          <p:nvPr/>
        </p:nvPicPr>
        <p:blipFill>
          <a:blip r:embed="rId1"/>
          <a:stretch/>
        </p:blipFill>
        <p:spPr>
          <a:xfrm>
            <a:off x="611280" y="338040"/>
            <a:ext cx="3047760" cy="4597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801ITP9L_1"/>
          <p:cNvPicPr/>
          <p:nvPr/>
        </p:nvPicPr>
        <p:blipFill>
          <a:blip r:embed="rId2"/>
          <a:stretch/>
        </p:blipFill>
        <p:spPr>
          <a:xfrm>
            <a:off x="5724360" y="260280"/>
            <a:ext cx="3048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年十四岁的林奕华，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“亚洲杯青少年花式滑冰”冠军，林奕华在四岁时接触滑冰、七岁穿上了冰刀，就此展开滑冰的运动生涯；三年前，正在花式滑冰运动展露光芒之际，林奕华右脚常感不适、疼痛，后被台北荣民总医院诊断为恶性骨肉瘤，因肿瘤位置在股骨部位，必须切除整条右腿，等于是四分之一的身体部位；奕华的妈妈回想，不晓得该怎么面对漂漂亮亮的女儿，要接受截肢、治疗的残酷事实；当场崩溃、大哭起来。奕华在思考了两个小时后，主动跟医师讨论安排手术时间及后续化疗；奕华的妈妈说，从没想到，原来一个十四岁的孩子可以这么勇敢。她安慰自己的妈妈说“我不是少了四分之一，而是还有四分之三”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不能她依旧自信、发光，要在生命的舞台上继续飞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1160" y="76500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肯是美国的一位总统，他的一生经历了无数的挫折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生意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州议员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再次生意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当选州议员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州仪长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国会议员失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当选国会议员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连任国会议员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参议员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副总统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竞选参议员再次失败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当上美国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-19080" y="2766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1066680" y="99072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1676520" y="251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1905120" y="2362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生活中你曾遇到过哪些不如意的事（自己或者是别人）描述当时的情绪反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遭遇挫折的表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愤怒、焦虑、沮丧、悲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为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所适从、自暴自弃、埋怨他人、推卸责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1:09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5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