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8D45-FDFF-4941-BEE4-88165BDD9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7079-F805-4268-9C6A-3BDF298E7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6BB6-D59F-4BC0-A042-24B1733A4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93A0-2668-4205-94CE-69D00EEDE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F2C77-E33F-432E-8A97-A5F34B7BB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5AE42-6D74-4EB4-9BA7-7640BD518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AF877-65A4-4192-8162-0AC625870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A5E6D-E6C5-4F14-9B86-2E2305A14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E6262-C052-4480-A3BF-300EB1694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97468-7B40-40E2-8284-774A7F491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4E0E2-7A52-4141-8144-72549B79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E1C9-2E16-4774-B560-EB9346BD7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5FF87-2EC7-457D-9FE5-F55B8D1E4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A0D9B-720F-4EFB-92CD-8E5BDB79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31C64-AFF2-437A-BDCB-DB89DB123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1D2EE-D019-4E2E-84F8-E12162D39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69AD4-A956-4FE0-B795-2FAF850CF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C7D1-6E2E-4436-97C3-9CFB1A03D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9F67-C58E-4389-AFF3-15A0266D3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F451-EB62-4BBB-B520-01D419C1B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981C-ACC4-4E33-8B7E-74DBE22B9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0C07-EB5A-43BA-9164-3557073F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CF83-FE31-4492-85C3-32C91FB59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42D0-0255-4134-A00B-82F38B3EE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585EB-8A3C-46E6-B3FD-93E33D973A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F8AEE-81E6-49A6-8E33-06D8A86590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0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"/>
          <p:cNvSpPr/>
          <p:nvPr/>
        </p:nvSpPr>
        <p:spPr>
          <a:xfrm>
            <a:off x="1619280" y="1917720"/>
            <a:ext cx="61135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人生语文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课件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勃兰兑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684360" y="189000"/>
            <a:ext cx="792000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阅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自然段，说说下列句子表现出的人物性格（或品质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他们熟悉那地下的世界，在迷宫般的坑道中探索道路，指导或是了解或是参与地下深处的工作，并乐此不疲，甚至忘记了岁月是怎样逝去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热爱事业、全心投入、以苦为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当死神临近时，他们会像阿基米德在临死前那样提出请求：“不要弄乱我画 的圆圈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爱事业甚于生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0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5" dur="2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611280" y="260280"/>
            <a:ext cx="784836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3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好像鲑鱼迎着激流，他们天赋的本性就是迎着岁月的激流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热情奔放、敢于冒险、敢于挑战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4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他们利用岁月，因而岁月并不使他们厌倦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热爱生活、永葆活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8198"/>
          <p:cNvSpPr/>
          <p:nvPr/>
        </p:nvSpPr>
        <p:spPr>
          <a:xfrm>
            <a:off x="1403280" y="501336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395280" y="189000"/>
            <a:ext cx="842472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本文运用比喻的手法，以此代表人生各个方面的种种人：首先，作者把人生比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揭示人类追求生命的表现形式千变万化，又有相似性、一致性的特点。其次，用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比喻从事研究工作，进行较为抽象脑力劳动的人们。再次，用征服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的人比喻军事家、政治家。最后，作者用在工场劳动的人比 喻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                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作者运用比喻含蓄、贴切地表达自己对人生的看法，新颖、奇特、形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611280" y="1554120"/>
            <a:ext cx="22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攀登高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2411280" y="263376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挖掘坑道的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2771640" y="371304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广阔领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900000" y="4865760"/>
            <a:ext cx="77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技术工人、工艺师、设计师、发明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ADBA0-5A96-4D3D-9D1E-D5E59785E8D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6" descr="20040205114703(9)"/>
          <p:cNvPicPr/>
          <p:nvPr/>
        </p:nvPicPr>
        <p:blipFill>
          <a:blip r:embed="rId1"/>
          <a:stretch/>
        </p:blipFill>
        <p:spPr>
          <a:xfrm>
            <a:off x="0" y="0"/>
            <a:ext cx="9144000" cy="66722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4"/>
          <p:cNvSpPr/>
          <p:nvPr/>
        </p:nvSpPr>
        <p:spPr>
          <a:xfrm>
            <a:off x="395280" y="243360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学习这篇文章，你把人生比作什么？对照自己，想想你将怎样选择自己的人生”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卡通4"/>
          <p:cNvPicPr/>
          <p:nvPr/>
        </p:nvPicPr>
        <p:blipFill>
          <a:blip r:embed="rId2"/>
          <a:stretch/>
        </p:blipFill>
        <p:spPr>
          <a:xfrm>
            <a:off x="7667640" y="136440"/>
            <a:ext cx="1476360" cy="14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0" y="115920"/>
            <a:ext cx="914400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一、作者简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勃兰兑斯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华文新魏"/>
              </a:rPr>
              <a:t>1842—1927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），丹麦文学批评家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文学史家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出生于犹太血统的商人家庭。在哥本哈根大学攻读法律、哲学、美学，受黑格尔影响较深。大学毕业后，到欧洲各地旅行，在法国结识了泰纳（丹纳）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187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年回国在哥本哈根大学任教，讲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华文新魏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十九世纪文学主流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华文新魏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。这部巨著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卷，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流亡文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》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德国的浪漫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》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法国的反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》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英国的自然主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》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法国浪漫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青年德意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，评论了拿破仑称帝前后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184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年法、德、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个主要文学流派的作家，如史雷格尔兄弟、霍夫曼、夏多布里昂、拉马丁、雨果、拜伦、乔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桑、巴尔扎克、斯丹达尔（司汤达）、梅里美、海涅、维尔特等。巨著基本上运用泰纳的种族、环境、时代三因素决定论来研究文学发展史，同时也注重作家的生平和心理状态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189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年出版，轰动了丹麦思想界，也受到教会的猛烈攻击。作者被迫到柏林寄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年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重要著作还有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华文新魏"/>
              </a:rPr>
              <a:t>1888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年发表的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华文新魏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波兰印象记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华文新魏"/>
              </a:rPr>
              <a:t>》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和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华文新魏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俄国印象记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华文新魏"/>
              </a:rPr>
              <a:t>》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13"/>
          <p:cNvSpPr/>
          <p:nvPr/>
        </p:nvSpPr>
        <p:spPr>
          <a:xfrm>
            <a:off x="2843280" y="558972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2" descr="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4"/>
          <p:cNvSpPr/>
          <p:nvPr/>
        </p:nvSpPr>
        <p:spPr>
          <a:xfrm>
            <a:off x="826920" y="1614600"/>
            <a:ext cx="777744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瞻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望 （       ） 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攫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取（ 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鲑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鱼 （      ）   停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滞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（      ）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臆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测 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）   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馈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赠 （ 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2484360" y="162864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h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6372360" y="164772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u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2698920" y="265572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u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6370560" y="258300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h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6516720" y="364500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u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2843280" y="3645000"/>
            <a:ext cx="115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755640" y="333360"/>
            <a:ext cx="57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给下面的红体字注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5" descr="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4"/>
          <p:cNvSpPr/>
          <p:nvPr/>
        </p:nvSpPr>
        <p:spPr>
          <a:xfrm>
            <a:off x="179280" y="189000"/>
            <a:ext cx="8820360" cy="70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解释下面的词语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停滞不前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乐此不疲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粉身碎骨：              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赏心悦目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微不足道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瞻望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2556000" y="836640"/>
            <a:ext cx="71294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受到阻碍，不能顺利的进行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发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2556000" y="234936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喜欢做某事而不知疲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2556000" y="3068640"/>
            <a:ext cx="61196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身体粉碎，指死。形容为了达到目的而不惜牺牲生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2556000" y="4581360"/>
            <a:ext cx="62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指美好的情景使人心情愉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2627280" y="5300640"/>
            <a:ext cx="59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物细小而轻微，不足挂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1763640" y="602136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往远处或高处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8198"/>
          <p:cNvSpPr/>
          <p:nvPr/>
        </p:nvSpPr>
        <p:spPr>
          <a:xfrm>
            <a:off x="1476360" y="191772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20040203165944(1)"/>
          <p:cNvPicPr/>
          <p:nvPr/>
        </p:nvPicPr>
        <p:blipFill>
          <a:blip r:embed="rId1"/>
          <a:stretch/>
        </p:blipFill>
        <p:spPr>
          <a:xfrm>
            <a:off x="-36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4"/>
          <p:cNvSpPr/>
          <p:nvPr/>
        </p:nvSpPr>
        <p:spPr>
          <a:xfrm>
            <a:off x="611280" y="476280"/>
            <a:ext cx="820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一、整体把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课文以“高塔”“地洞”“广阔领域”和“工场”为喻，从不同的角度、视野，描述人的生命旅程的不同境况，表达了作者对人的生命本质、对人类社会生活的深刻理解，表达了他对生命的珍爱的情感，以及让一生过得更有意义的信念和志向。“高塔”等四种情景纯属虚拟，是为说理而设置的，也就是说课文寓深刻的道理于一系列形象之中，夹叙夹议，而不是空发议论，写得含蓄蕴藉，耐人寻味，给人以启迪鼓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0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4"/>
          <p:cNvSpPr/>
          <p:nvPr/>
        </p:nvSpPr>
        <p:spPr>
          <a:xfrm>
            <a:off x="468360" y="189000"/>
            <a:ext cx="8136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全文按所描写的场面自然地分为四个部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第一部分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段），描述人类攀登高塔的情景，说明人类生命表现形式尽管千万别，但其中又有共同性和必然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第二部分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段），描述一些人深入地挖掘、探寻地下坑道的情景，表现他们不屈不挠、顽强奋斗的精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第三部分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段），描述一些人在广阔的领域开拓进取，他们攫取更多的土地，征服更多的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第四部分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段），描述一些在一种工场中劳动的人们，表现他们的刻苦勤奋、吃苦耐劳的精神品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" dur="2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7" descr="20040203165758(12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4"/>
          <p:cNvSpPr/>
          <p:nvPr/>
        </p:nvSpPr>
        <p:spPr>
          <a:xfrm>
            <a:off x="395280" y="692280"/>
            <a:ext cx="820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757080" y="260280"/>
            <a:ext cx="8207640" cy="36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二、问题研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．“越往上走，攀登越困难了，而且目光已不大能区别事物，它们看起来似乎都是相同的。”为什么说都是相同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往上走”意味着年龄的增长，越老经历的事越多，所以见到各种事物都“似曾相识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．“从精神上来说，他们是停留在同一个地方。”这话是什么意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人们随年事的增高，自身在许多方面会有很多改变，但是性格、志趣、品质总是很难或很少改变的。这里的“精神”应指性格之类的东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2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7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2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7" dur="2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20040203165944(10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4"/>
          <p:cNvSpPr/>
          <p:nvPr/>
        </p:nvSpPr>
        <p:spPr>
          <a:xfrm>
            <a:off x="541440" y="544680"/>
            <a:ext cx="8351640" cy="49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．在广阔的领域开拓进取的人具有怎样的性格特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 试从两大方面来概括：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一 是贪欲：占有欲极强，渴望征服，喜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掌握权力，控制人和事物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二是坚强：精力充沛，头脑活跃，爱冒险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热爱生活，勇敢地面对生活的挑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．作者描述这些人群，肯定或赞扬了什么  精神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作者似乎想借此来肯定或赞扬对时光的珍 惜，对生命的热爱，赞扬勤于劳作的精神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辛苦探索的精神，勇敢倔强的精神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4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7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2" dur="2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5" dur="2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8" dur="2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1" dur="2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6" dur="2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1" dur="20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6" dur="20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250920" y="189000"/>
            <a:ext cx="8569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．“那像是一只可爱的手在转动沙漏计，从而延缓了它的转动。”“一只可爱的手”指什么？沙漏计为什么会延缓转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一只可爱的手”是指“一切亲切的思想”；至于沙漏计延缓转动，也可以从两方面理解，一是说他“没有时间去察看放在角落里的计时沙漏计”，全神贯注以致忘记了时间，所以时间仿佛被拉长了；一是说他在有生之年做了很多很多事，别人需要很长时间做的事，他在很短的时间里就做完了，收获甚丰，过得充实，所以时间仿佛被拉长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3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8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3T05:07:2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3:34Z</dcterms:modified>
  <cp:revision>2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