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7C0-D5FA-4E98-856A-B04D513E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52D-2A65-4F27-941D-AC31233F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E0113-FFBA-4ACC-AECC-129DB0F4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CEB86-6267-4374-8EB4-3B4D9884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8F8E3-439B-424E-8840-7C2D6562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7EFFB-8655-4BE7-8F87-FBB1365E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3D98D-909D-455F-A18D-54985808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CCF16-6461-4861-ACF3-F6D11A87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6375C-E013-49B3-8772-F827675C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87821-0B92-4512-8EC2-5FE20F41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75379-6439-4910-BC6B-59C2A8D2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762BB-FE64-421A-A089-E77B6837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416-5EE1-49F9-80EE-445A9C7F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E3F20-7E0D-44C5-A3FE-AB13CDCE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A5A2A-B36F-4EAB-AA29-5F33688C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DD71C-92A5-4B64-9DD2-9F619255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6D5E1-1EAC-431D-80D4-99AE73F7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57369-B1B1-4126-9C36-7BB862F7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ED9B3-4A8D-462B-B8FE-7E2DD8CB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6B47F-A255-499B-91D5-B49D3237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8ABB0-EFB1-4172-B3F0-6B8EA5DA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9280E-2502-4D95-8B78-4273012A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3762F-0163-4EF0-80CA-735494BE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6BB-AEB0-453B-86EF-83846293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87B82-B467-4367-8B33-E58110D6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F35DF-D65C-4791-8031-1D8081CA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D0DB9-D9F0-461C-B989-317D9E5E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0CF22-1FEB-48AB-8E84-9EEF0E34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94647-E57C-48E6-B45B-815E0B30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AAE7E-3DB1-487A-8448-D815E05B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CE3F1-BAC8-4217-AA61-01D30832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E02EA-E41D-45BF-89BD-0DE6E365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17EB8-2FFD-4FCF-918B-C90E136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30199-ABCE-4172-8240-801FCB11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667F-CCB7-4EE1-A51C-5F34ED99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6F73-6239-45C4-9521-B34BDEC3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2D4A8-ED02-4EE7-94B9-28AA33AC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BE0F4-63F6-40AE-B693-6FC00274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B15EC-E466-4961-BC82-2ED140EF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BFA5B-96CD-4F59-8241-78F2792A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1E3FF-AAA7-4847-B9D5-1A555EA0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C09EF-3D7F-4B3F-AC08-D4343ADD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E931C-91A7-4437-9A74-F082A757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3A8A6-8A27-46CB-B66C-DD11006A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AB8D9-D180-4F95-A5E7-DA078972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FD5C-13C2-4336-AE34-941A316A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6919F-4902-4C54-9122-0D1473E0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42833-EDC2-4620-821B-1CA98EC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828AF-BED5-471B-B27A-1FF05EE7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E2DAA-9D39-4DA2-A5CD-DEBB1DE6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A0358-9923-4C52-ABBD-6F833499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C9C24-C95F-4023-ACB8-5B0F96F3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51C49-2C99-4524-8028-6B0FF0C8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06081-705A-4120-A7D6-3252BB9A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00F5D-8733-43AF-B2F1-A41558AD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B0446-CBBD-4B74-8560-6B805251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82FD-35BD-4160-BAE2-8FB834F2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2ADC2-00B0-4FC1-B936-6CF97224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E5AE6-E14B-480D-80F6-660EC89A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8D735-67B9-4303-943F-CCA0116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670C3-E295-4B78-92B3-AB983261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88765-D5A1-4FED-BE18-BDEAEBFB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2822A-4E28-481E-96DC-714DD5FB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F8B62-5CE7-4DA7-8CA4-F469F3C7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1EA5-5D70-4F13-87D9-347E1CC9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8782-2EEE-48FC-9A23-0270DBE4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229D-B839-4519-AE0D-F9008BA8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5022-0182-49D0-9A39-CDA2FC0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827-95F0-4416-ACE8-24040624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8350-F47B-410A-897B-312B5C3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1240-FEBD-4E68-B502-0307C130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CA21-7123-4499-B449-1B7D060F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395A-2A91-4B5D-B11A-616A290A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D47E-B30D-41D2-85B9-71002E1B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4B11-E6B0-409A-A6D9-5D273AAD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46F82-2E58-4F4F-A8DE-1C34542C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1902-C543-424E-8154-829B9C2F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61858-ED54-4CF5-9CF4-2B9999F2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86EF-8441-4423-964E-9914D1D3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7E0-926F-4073-99CC-68245637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190A-9D56-4107-87FC-A804FFD2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E5099-798E-4A52-AC51-82D11EB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5A98-E32F-4D7A-A04E-644B7AEC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8427-B05E-4075-AAA4-A0B4F58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6CBD-75E6-463C-A4A9-307D82D1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F96E-36A3-4B62-85D1-B56B78C0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9F89-AF85-45BE-8CB4-34A673B0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AD4B9-7DF1-4B8C-BC48-D1FE99C4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9751C-4D99-430C-B0CB-229AC06A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5DBD-8B03-4F75-9565-B0AB5152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FC7-4F84-4E9D-97FF-E72F5962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0930-F79E-42C6-8CF6-684A1A8F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FB97-4E8F-4F9B-9AA0-86B52376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96F7-9AC1-4ED8-8E1D-7CB95A1B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67A30-84F0-45CD-BE57-87A91605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9856A-C4D2-44F9-8DB0-356025C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EF34A-D6CE-4D05-A487-978658A3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02CD-3B89-45F0-A0C2-BF34F263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E8504-7FC3-4AA8-82C7-8AB383A9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38C17-85FE-4CE2-8B87-0FB34E98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AFA46-64A2-4E36-A754-D719D1BD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8EB-3CAB-4BB9-BF77-512A8DDB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BE728-634A-4684-9C2C-B7ED3D65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FF9FE-E42C-4D9C-8BBF-A9AB102D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BAB5-501C-4385-854A-B770C5D1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255AB-13A0-4B60-A8B0-91176C6C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AE9D8-B78D-4F80-AF78-9AA5C6FA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DBA7C-5E27-4566-839E-B58CEFDF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1A82E-0920-4D06-AEA8-FB95766B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E4696-9BCD-4F3F-A9A3-FDA3AC3E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9F2E-F92D-475F-8A2A-F92E24C5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5CF8F-FBE9-4E3B-A839-0EEA45BF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C41-B434-4B42-969B-AB19D921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279A5-6641-42AA-9E59-81F7FA4C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5373-D45C-4CBE-8008-A5F9BF14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46BF-D81E-48D3-B1FD-F2E1905F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6CC2D-DB62-4E13-BAED-738D8408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5E8D9-8D2C-45E4-A28C-599BF39C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61455-32F6-4C56-9D6F-9BC32FFD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1FE12-8DCF-4635-80A2-B74C6EF5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44CD3-823C-430B-8512-C3F7D58E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A9A08-DF59-4552-8B59-BA8B6F93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A484-3B63-4C06-B818-6D61FB5B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535-5248-46B2-86D7-A0A6C331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B98D5-71CB-4C50-9C5A-7AB41272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E03C6-F5AC-4F34-BEF2-CF2B76F8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9EC9-AA28-4A1B-8BDA-8141E227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FBB69-1E2F-4E39-ABC1-29384182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398D-4C0D-45C0-9CD2-FFE97295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8BF7A-E108-4A3D-A1D5-7C31C48B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FB2B5-9FB9-4EFC-AD59-C9D168C3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57FCD-679C-4BF6-9AB3-EFE79DEB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18DE4-2858-4AAC-B9DA-396E6CD7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EDBB7-D297-4E22-B8B5-2E7F37B1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F4E-FAF5-4968-8F95-60F73EBA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8E76F-3F0B-4E16-AC85-D1AA1688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EC6CD-E65C-46EA-B16F-70CD0AC1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D0905-529E-4464-8901-770F9033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F73E5-C5F2-4B4A-B8FB-A8509E29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DE74D-B7F9-46CA-B6F8-979B8273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A79E5-3552-4A8D-8C6A-78F2FF30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C2F70-F442-4D9C-96C7-02900462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BDF00-F9A0-4B6E-8EAF-E46E1FD5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0DFFC-2B8A-4FBF-9417-746C14CB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0FC2F-A1EA-4185-9802-3840611C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12B-7A88-4A50-91BB-51CDD7A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1DA36-7007-44E3-93C2-9767F0D1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6BAD4-29C3-4295-9414-69032E47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C7C52-8F78-4A0B-BCC3-C1AB331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BF91C-E42D-4786-80CE-239C842A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031F0-4890-4F74-B633-5301D7B8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ABD4-B39D-44C1-909A-03D6EF36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B6C2-FF09-4D8F-B293-3D60A1D7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33401-B71D-443A-8C0F-8AD3F6E0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C8EDF-ABA5-4531-AC4C-42075112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DD464-6A1C-4C72-8410-8A56D771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8B12-CE75-4A01-96D5-C74C8B9C1C2D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26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6736-07B5-449E-AD81-BD8CA3396244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74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A12C-8A70-41C8-B976-66C1D3E225A8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2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0A41-3ED1-4237-BF07-0B05728B1C8D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70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112F-E70A-4127-B3E9-312A1B542898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D426-0E24-4689-9A6B-D59CF4C735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F579-A86C-4F5F-AB1C-9745603357BF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E938-01A3-4604-81EB-BCE9C3635150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EE86-34E2-4B12-98FF-A3D106AEC338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C968-2F63-4F67-8E8F-712DEA2F47F3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0E8E-89FF-4590-A3DB-0983E86EB33A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0432-EA00-4B25-9693-0AD8F87F3747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7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1680" indent="612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627120" indent="2872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144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235160" indent="-3207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235160" indent="-3207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11DA-5BB0-461C-96E7-E0A834E9CCA3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1" descr="p073a"/>
          <p:cNvPicPr/>
          <p:nvPr/>
        </p:nvPicPr>
        <p:blipFill>
          <a:blip r:embed="rId1"/>
          <a:stretch/>
        </p:blipFill>
        <p:spPr>
          <a:xfrm>
            <a:off x="1047600" y="1940040"/>
            <a:ext cx="7056720" cy="424332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人体内废物的排出课件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2987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3494"/>
                </a:solidFill>
                <a:latin typeface="Candara"/>
                <a:ea typeface="黑体"/>
              </a:rPr>
              <a:t>一部分水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3494"/>
                </a:solidFill>
                <a:latin typeface="Candara"/>
                <a:ea typeface="黑体"/>
              </a:rPr>
              <a:t>无机盐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3494"/>
                </a:solidFill>
                <a:latin typeface="Candara"/>
                <a:ea typeface="黑体"/>
              </a:rPr>
              <a:t>葡萄糖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3494"/>
                </a:solidFill>
                <a:latin typeface="Candara"/>
                <a:ea typeface="黑体"/>
              </a:rPr>
              <a:t>尿素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62" name="Picture 5" descr="过滤"/>
          <p:cNvPicPr/>
          <p:nvPr/>
        </p:nvPicPr>
        <p:blipFill>
          <a:blip r:embed="rId1"/>
          <a:stretch/>
        </p:blipFill>
        <p:spPr>
          <a:xfrm>
            <a:off x="539640" y="620640"/>
            <a:ext cx="7872480" cy="590400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6"/>
          <p:cNvSpPr/>
          <p:nvPr/>
        </p:nvSpPr>
        <p:spPr>
          <a:xfrm>
            <a:off x="324000" y="0"/>
            <a:ext cx="84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584d3"/>
                </a:solidFill>
                <a:latin typeface="Times New Roman"/>
              </a:rPr>
              <a:t>当血液流经肾小球时</a:t>
            </a:r>
            <a:r>
              <a:rPr b="1" lang="zh-CN" sz="4800" spc="-1" strike="noStrike">
                <a:solidFill>
                  <a:srgbClr val="4584d3"/>
                </a:solidFill>
                <a:latin typeface="Arial"/>
                <a:ea typeface="隶书"/>
              </a:rPr>
              <a:t>形成</a:t>
            </a:r>
            <a:r>
              <a:rPr b="1" lang="zh-CN" sz="4800" spc="-1" strike="noStrike">
                <a:solidFill>
                  <a:srgbClr val="b12f15"/>
                </a:solidFill>
                <a:latin typeface="Arial"/>
                <a:ea typeface="隶书"/>
              </a:rPr>
              <a:t>原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9"/>
          <p:cNvSpPr/>
          <p:nvPr/>
        </p:nvSpPr>
        <p:spPr>
          <a:xfrm>
            <a:off x="822960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1742760" y="5877000"/>
            <a:ext cx="536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部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血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中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小分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物质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过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形成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原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250920" y="260280"/>
            <a:ext cx="86421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尿的形成和排出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肾脏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(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kidney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是形成尿液的器官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图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4-44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。每个肾脏包括大约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100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万个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结构和功能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单位，叫做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肾单位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。每个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肾单位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由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肾小球、肾小囊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  <a:ea typeface="华文中宋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肾小管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等部分组成。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肾小球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是血管球，由人球小动脉分出的许多毛细血管相互缠绕而成，这些毛细血管汇集成出球小动脉。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肾小囊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套在肾小球的外面，下接肾小管。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肾小管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细长而曲折，周围缠绕着大量的毛细血管。肾小囊和肾小管组成的结构，就像一个“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  <a:ea typeface="隶书"/>
              </a:rPr>
              <a:t>小漏斗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”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280" y="5157360"/>
            <a:ext cx="40388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形成尿液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(</a:t>
            </a: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终尿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68" name="Picture 6" descr="pic_78072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343400" y="1125360"/>
            <a:ext cx="4800600" cy="47325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3505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对人体有用的物质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Candara"/>
              </a:rPr>
              <a:t>大部分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Candara"/>
              </a:rPr>
              <a:t>全部葡萄糖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Candara"/>
              </a:rPr>
              <a:t>部分无机盐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4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0" y="0"/>
            <a:ext cx="93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584d3"/>
                </a:solidFill>
                <a:latin typeface="Tahoma"/>
              </a:rPr>
              <a:t>当原尿流经肾小管时</a:t>
            </a:r>
            <a:r>
              <a:rPr b="1" lang="zh-CN" sz="4400" spc="-1" strike="noStrike">
                <a:solidFill>
                  <a:srgbClr val="3ba323"/>
                </a:solidFill>
                <a:latin typeface="Arial"/>
              </a:rPr>
              <a:t>对原尿的</a:t>
            </a:r>
            <a:r>
              <a:rPr b="1" lang="zh-CN" sz="4400" spc="-1" strike="noStrike">
                <a:solidFill>
                  <a:srgbClr val="be0c08"/>
                </a:solidFill>
                <a:latin typeface="Arial"/>
              </a:rPr>
              <a:t>重吸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539640" y="3933720"/>
            <a:ext cx="410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剩下的物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水和无机盐、尿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ff0000"/>
                </a:solidFill>
                <a:latin typeface="Candara"/>
                <a:ea typeface="隶书"/>
              </a:rPr>
              <a:t>血液</a:t>
            </a:r>
            <a:r>
              <a:rPr b="0" lang="en-US" sz="5300" spc="-1" strike="noStrike">
                <a:solidFill>
                  <a:srgbClr val="ffffff"/>
                </a:solidFill>
                <a:latin typeface="Candara"/>
                <a:ea typeface="隶书"/>
              </a:rPr>
              <a:t>.</a:t>
            </a:r>
            <a:r>
              <a:rPr b="0" lang="zh-CN" sz="5300" spc="-1" strike="noStrike">
                <a:solidFill>
                  <a:srgbClr val="4584d3"/>
                </a:solidFill>
                <a:latin typeface="Candara"/>
                <a:ea typeface="隶书"/>
              </a:rPr>
              <a:t>原尿</a:t>
            </a:r>
            <a:r>
              <a:rPr b="0" lang="en-US" sz="5300" spc="-1" strike="noStrike">
                <a:solidFill>
                  <a:srgbClr val="ffffff"/>
                </a:solidFill>
                <a:latin typeface="Candara"/>
                <a:ea typeface="隶书"/>
              </a:rPr>
              <a:t>.</a:t>
            </a:r>
            <a:r>
              <a:rPr b="0" lang="zh-CN" sz="5300" spc="-1" strike="noStrike">
                <a:solidFill>
                  <a:srgbClr val="b12f15"/>
                </a:solidFill>
                <a:latin typeface="Candara"/>
                <a:ea typeface="隶书"/>
              </a:rPr>
              <a:t>尿液</a:t>
            </a:r>
            <a:r>
              <a:rPr b="0" lang="zh-CN" sz="5300" spc="-1" strike="noStrike">
                <a:solidFill>
                  <a:srgbClr val="ffffff"/>
                </a:solidFill>
                <a:latin typeface="Candara"/>
                <a:ea typeface="隶书"/>
              </a:rPr>
              <a:t>的成分比较：</a:t>
            </a:r>
            <a:endParaRPr b="0" lang="en-US" sz="53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79280" y="1125360"/>
          <a:ext cx="8856720" cy="5492880"/>
        </p:xfrm>
        <a:graphic>
          <a:graphicData uri="http://schemas.openxmlformats.org/drawingml/2006/table">
            <a:tbl>
              <a:tblPr/>
              <a:tblGrid>
                <a:gridCol w="2214720"/>
                <a:gridCol w="2144520"/>
                <a:gridCol w="2511360"/>
                <a:gridCol w="1986120"/>
              </a:tblGrid>
              <a:tr h="920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成分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浆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肾小囊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尿液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蛋白质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8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323494"/>
                          </a:solidFill>
                          <a:latin typeface="Arial"/>
                        </a:rPr>
                        <a:t>0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葡萄糖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323494"/>
                          </a:solidFill>
                          <a:latin typeface="Arial"/>
                        </a:rPr>
                        <a:t>0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机盐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1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尿素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1.8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-181440" y="620640"/>
            <a:ext cx="9325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通过以上分析可以知道，尿的形成主要与肾单位有关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图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4-45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。肾单位中的肾小球和紧贴着它的肾小囊内壁起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过滤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作用。当血液流经肾小球时，除血细胞和大分子的蛋白质以外，血浆中的一部分水、无机盐、葡萄糖和尿素等物质，都可以经过肾小球过滤到肾小囊中。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肾小囊中的液体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称为</a:t>
            </a:r>
            <a:r>
              <a:rPr b="1" lang="zh-CN" sz="3600" spc="-1" strike="noStrike">
                <a:solidFill>
                  <a:srgbClr val="ff3300"/>
                </a:solidFill>
                <a:latin typeface="Candara"/>
              </a:rPr>
              <a:t>原尿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。人体每天形成的原尿大约有</a:t>
            </a:r>
            <a:r>
              <a:rPr b="1" lang="en-US" sz="3600" spc="-1" strike="noStrike">
                <a:solidFill>
                  <a:srgbClr val="ff3300"/>
                </a:solidFill>
                <a:latin typeface="Candara"/>
              </a:rPr>
              <a:t>180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升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-360" y="54900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当原尿流经肾小管时，全部葡萄糖、大部分的水和部分无机盐等被肾小管重新吸收。这些被重新吸收的物质进入包绕在肾小管外面的毛细血管中，送回到血液里，而剩下的水和无机盐、尿素等就形成了尿液。人体每天排出的尿液约</a:t>
            </a: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1.5</a:t>
            </a: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升，比原尿少了许多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肾脏中形成的尿液，经输尿管流人膀胱暂时储存。当膀胱内的尿液储存到一定量时，人就产生尿意。排尿时，尿液经尿道排出体外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3200" spc="-1" strike="noStrike">
                <a:solidFill>
                  <a:srgbClr val="073e87"/>
                </a:solidFill>
                <a:latin typeface="Candara"/>
              </a:rPr>
              <a:t>人体排尿，不仅起到排出废物的作用，而且对调节体内水和无机盐的平衡，维持组织细胞的正常生理功能，也有重要的作用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4" descr="p075d"/>
          <p:cNvPicPr/>
          <p:nvPr/>
        </p:nvPicPr>
        <p:blipFill>
          <a:blip r:embed="rId1"/>
          <a:stretch/>
        </p:blipFill>
        <p:spPr>
          <a:xfrm>
            <a:off x="1476360" y="0"/>
            <a:ext cx="641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-11160" y="476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2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肾单位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由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肾小体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和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肾小管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组成。</a:t>
            </a:r>
            <a:endParaRPr b="0" lang="en-US" sz="49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2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肾小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体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的功能：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滤过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形成原尿。</a:t>
            </a:r>
            <a:endParaRPr b="0" lang="en-US" sz="49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2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肾小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管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的功能：</a:t>
            </a:r>
            <a:r>
              <a:rPr b="1" lang="zh-CN" sz="4900" spc="-1" strike="noStrike">
                <a:solidFill>
                  <a:srgbClr val="ff3300"/>
                </a:solidFill>
                <a:latin typeface="Candara"/>
              </a:rPr>
              <a:t>重吸收</a:t>
            </a:r>
            <a:r>
              <a:rPr b="1" lang="zh-CN" sz="4900" spc="-1" strike="noStrike">
                <a:solidFill>
                  <a:srgbClr val="073e87"/>
                </a:solidFill>
                <a:latin typeface="Candara"/>
              </a:rPr>
              <a:t>有用物。</a:t>
            </a:r>
            <a:endParaRPr b="0" lang="en-US" sz="4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576360" y="4673520"/>
            <a:ext cx="233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肾单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3132000" y="388152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肾小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3132000" y="53211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肾小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5559480" y="338292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肾小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5580000" y="41688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肾小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2916360" y="445788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5415120" y="3587760"/>
            <a:ext cx="142560" cy="1368360"/>
          </a:xfrm>
          <a:custGeom>
            <a:avLst/>
            <a:gdLst>
              <a:gd name="textAreaLeft" fmla="*/ 91080 w 142560"/>
              <a:gd name="textAreaRight" fmla="*/ 142920 w 142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4067280" y="0"/>
            <a:ext cx="4641840" cy="6858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肾"/>
          <p:cNvPicPr/>
          <p:nvPr/>
        </p:nvPicPr>
        <p:blipFill>
          <a:blip r:embed="rId2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ff0000"/>
                </a:solidFill>
                <a:latin typeface="Candara"/>
                <a:ea typeface="隶书"/>
              </a:rPr>
              <a:t>血液</a:t>
            </a:r>
            <a:r>
              <a:rPr b="0" lang="en-US" sz="5300" spc="-1" strike="noStrike">
                <a:solidFill>
                  <a:srgbClr val="ffffff"/>
                </a:solidFill>
                <a:latin typeface="Candara"/>
                <a:ea typeface="隶书"/>
              </a:rPr>
              <a:t>.</a:t>
            </a:r>
            <a:r>
              <a:rPr b="0" lang="zh-CN" sz="5300" spc="-1" strike="noStrike">
                <a:solidFill>
                  <a:srgbClr val="4584d3"/>
                </a:solidFill>
                <a:latin typeface="Candara"/>
                <a:ea typeface="隶书"/>
              </a:rPr>
              <a:t>原尿</a:t>
            </a:r>
            <a:r>
              <a:rPr b="0" lang="en-US" sz="5300" spc="-1" strike="noStrike">
                <a:solidFill>
                  <a:srgbClr val="ffffff"/>
                </a:solidFill>
                <a:latin typeface="Candara"/>
                <a:ea typeface="隶书"/>
              </a:rPr>
              <a:t>.</a:t>
            </a:r>
            <a:r>
              <a:rPr b="0" lang="zh-CN" sz="5300" spc="-1" strike="noStrike">
                <a:solidFill>
                  <a:srgbClr val="b12f15"/>
                </a:solidFill>
                <a:latin typeface="Candara"/>
                <a:ea typeface="隶书"/>
              </a:rPr>
              <a:t>尿液</a:t>
            </a:r>
            <a:r>
              <a:rPr b="0" lang="zh-CN" sz="5300" spc="-1" strike="noStrike">
                <a:solidFill>
                  <a:srgbClr val="ffffff"/>
                </a:solidFill>
                <a:latin typeface="Candara"/>
                <a:ea typeface="隶书"/>
              </a:rPr>
              <a:t>的成分比较：</a:t>
            </a:r>
            <a:endParaRPr b="0" lang="en-US" sz="53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0" y="1125360"/>
          <a:ext cx="8964720" cy="5492880"/>
        </p:xfrm>
        <a:graphic>
          <a:graphicData uri="http://schemas.openxmlformats.org/drawingml/2006/table">
            <a:tbl>
              <a:tblPr/>
              <a:tblGrid>
                <a:gridCol w="2241720"/>
                <a:gridCol w="2170080"/>
                <a:gridCol w="2541600"/>
                <a:gridCol w="2011320"/>
              </a:tblGrid>
              <a:tr h="92088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成分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浆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肾小囊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尿液中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蛋白质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8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323494"/>
                          </a:solidFill>
                          <a:latin typeface="Arial"/>
                        </a:rPr>
                        <a:t>0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葡萄糖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323494"/>
                          </a:solidFill>
                          <a:latin typeface="Arial"/>
                        </a:rPr>
                        <a:t>0.0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机盐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1.1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尿素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b80e0e"/>
                          </a:solidFill>
                          <a:latin typeface="Arial"/>
                        </a:rPr>
                        <a:t>1.80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文本框 8199"/>
          <p:cNvSpPr/>
          <p:nvPr/>
        </p:nvSpPr>
        <p:spPr>
          <a:xfrm>
            <a:off x="1338120" y="11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250920" y="83628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人体生命活动中会产生许多废物，如二氧化碳、尿素等。这些废物必须及时通过各种途径排出体外。人体将</a:t>
            </a:r>
            <a:r>
              <a:rPr b="1" lang="zh-CN" sz="4000" spc="-1" strike="noStrike">
                <a:solidFill>
                  <a:srgbClr val="ff0000"/>
                </a:solidFill>
                <a:latin typeface="Candara"/>
              </a:rPr>
              <a:t>二氧化碳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Candara"/>
              </a:rPr>
              <a:t>尿素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，以及</a:t>
            </a:r>
            <a:r>
              <a:rPr b="1" lang="zh-CN" sz="4000" spc="-1" strike="noStrike">
                <a:solidFill>
                  <a:srgbClr val="ff0000"/>
                </a:solidFill>
                <a:latin typeface="Candara"/>
              </a:rPr>
              <a:t>多余的水和无机盐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等排出体外的过程叫做</a:t>
            </a:r>
            <a:r>
              <a:rPr b="1" lang="zh-CN" sz="4000" spc="-1" strike="noStrike">
                <a:solidFill>
                  <a:srgbClr val="ff0000"/>
                </a:solidFill>
                <a:latin typeface="Candara"/>
              </a:rPr>
              <a:t>排泄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excretion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人体</a:t>
            </a:r>
            <a:r>
              <a:rPr b="1" lang="zh-CN" sz="4000" spc="-1" strike="noStrike">
                <a:solidFill>
                  <a:srgbClr val="ff3300"/>
                </a:solidFill>
                <a:latin typeface="Candara"/>
                <a:ea typeface="隶书"/>
              </a:rPr>
              <a:t>细胞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产生的废物中，尿素、多余的水和无机盐主要是通过</a:t>
            </a:r>
            <a:r>
              <a:rPr b="1" lang="zh-CN" sz="4000" spc="-1" strike="noStrike">
                <a:solidFill>
                  <a:srgbClr val="ff0000"/>
                </a:solidFill>
                <a:latin typeface="Candara"/>
              </a:rPr>
              <a:t>泌尿系统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urinary system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排出的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250920" y="907920"/>
            <a:ext cx="87138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尿液和血浆的成分有什么不同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你认为尿液主要排出哪些物质：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血浆和肾小囊中液体成分相比，肾小囊中的液体减少了：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。说明肾小球和肾小囊壁有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在肾小囊中出现葡萄糖而在尿液中并没有，这说明肾小管有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0" y="1484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尿液和血浆的成分有什么不同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认为尿液主要排出哪些物质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答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4584d3"/>
                </a:solidFill>
                <a:latin typeface="Arial"/>
                <a:ea typeface="黑体"/>
              </a:rPr>
              <a:t>血浆中没有蛋白质和葡萄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4584d3"/>
                </a:solidFill>
                <a:latin typeface="黑体"/>
                <a:ea typeface="黑体"/>
              </a:rPr>
              <a:t>无机盐、尿素及多余的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-360" y="83628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2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．血浆和肾小囊中液体成分的变化，说明肾小球和肾小囊壁的作用有什么特点．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答：同血浆相比，肾小囊中的液体含有很少的蛋白质，含有水、葡萄糖、无机盐和尿素。这说明肾小球和肾小囊壁可以</a:t>
            </a:r>
            <a:r>
              <a:rPr b="1" lang="zh-CN" sz="4000" spc="-1" strike="noStrike">
                <a:solidFill>
                  <a:srgbClr val="ff3300"/>
                </a:solidFill>
                <a:latin typeface="Candara"/>
              </a:rPr>
              <a:t>透过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水、葡萄糖、无机盐和尿素等</a:t>
            </a:r>
            <a:r>
              <a:rPr b="1" lang="zh-CN" sz="4000" spc="-1" strike="noStrike">
                <a:solidFill>
                  <a:srgbClr val="ff3300"/>
                </a:solidFill>
                <a:latin typeface="Candara"/>
              </a:rPr>
              <a:t>小分子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物质，而</a:t>
            </a:r>
            <a:r>
              <a:rPr b="1" lang="zh-CN" sz="4000" spc="-1" strike="noStrike">
                <a:solidFill>
                  <a:srgbClr val="ff3300"/>
                </a:solidFill>
                <a:latin typeface="Candara"/>
              </a:rPr>
              <a:t>很少透过蛋白质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这样的物质。   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-252720" y="1484280"/>
            <a:ext cx="9396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3.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在肾小囊中出现葡萄糖而在尿液中并没有，这说明肾小管有什么作用？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zh-CN" sz="4400" spc="-1" strike="noStrike">
                <a:solidFill>
                  <a:srgbClr val="073e87"/>
                </a:solidFill>
                <a:latin typeface="Candara"/>
              </a:rPr>
              <a:t>答：这说明肾小管可以</a:t>
            </a:r>
            <a:r>
              <a:rPr b="1" lang="zh-CN" sz="4400" spc="-1" strike="noStrike">
                <a:solidFill>
                  <a:srgbClr val="ff3300"/>
                </a:solidFill>
                <a:latin typeface="Candara"/>
              </a:rPr>
              <a:t>重新吸收</a:t>
            </a:r>
            <a:r>
              <a:rPr b="1" lang="zh-CN" sz="4400" spc="-1" strike="noStrike">
                <a:solidFill>
                  <a:srgbClr val="073e87"/>
                </a:solidFill>
                <a:latin typeface="Candara"/>
              </a:rPr>
              <a:t>肾小囊液体中的</a:t>
            </a:r>
            <a:r>
              <a:rPr b="1" lang="zh-CN" sz="4400" spc="-1" strike="noStrike">
                <a:solidFill>
                  <a:srgbClr val="ff3300"/>
                </a:solidFill>
                <a:latin typeface="Candara"/>
              </a:rPr>
              <a:t>全部葡萄糖</a:t>
            </a:r>
            <a:r>
              <a:rPr b="1" lang="zh-CN" sz="4400" spc="-1" strike="noStrike">
                <a:solidFill>
                  <a:srgbClr val="073e87"/>
                </a:solidFill>
                <a:latin typeface="Candara"/>
              </a:rPr>
              <a:t>。   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763640" y="0"/>
            <a:ext cx="507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6480" y="40428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1.A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的血液与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C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的血液成分相比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,C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血液主要减少了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无机盐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Candara"/>
              </a:rPr>
              <a:t>.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尿酸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Candara"/>
              </a:rPr>
              <a:t>.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尿素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成分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2.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与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F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液体成分比较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E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液体多了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葡萄糖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成分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3.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在从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E</a:t>
            </a:r>
            <a:r>
              <a:rPr b="1" lang="en-US" sz="4000" spc="-1" strike="noStrike">
                <a:solidFill>
                  <a:srgbClr val="073e87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F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的过程中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尿酸尿素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的浓度逐渐升高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葡萄糖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的浓度降低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4F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处液体是尿液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它最终汇集到肾脏的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Candara"/>
              </a:rPr>
              <a:t>肾盂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后经输尿管排至膀胱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在膀胱中暂时储存起来</a:t>
            </a: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98" name="Picture 4" descr="p076b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01" name="Picture 4" descr="p076a"/>
          <p:cNvPicPr/>
          <p:nvPr/>
        </p:nvPicPr>
        <p:blipFill>
          <a:blip r:embed="rId1"/>
          <a:stretch/>
        </p:blipFill>
        <p:spPr>
          <a:xfrm>
            <a:off x="1258920" y="0"/>
            <a:ext cx="60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0" y="4759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其他排泄途径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尿素、多余的水分和无机盐，除了通过肾脏形成的尿液排出外，也能通过皮肤中的汗腺分泌汗液排出。汗液的主要成分是水，还有少量的尿素和无机盐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如氯化钠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等物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汗腺分布于人的全身皮肤，在腋窝、掌心、足底等处分布较多。汗腺分为分泌部和导管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图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4-46),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分泌部位于真皮或皮下组织内，产生的汗液经导管排到皮肤的表面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人体细胞在生命活动中不断产生各种废物，其中二氧化碳由呼吸系绔搀出体外；产生的尿素等废物主要由泌尿系统形成尿液排出体外，还有一部分尿素由皮肤通过汗腺排出体外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1835280" y="573120"/>
            <a:ext cx="93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584d3"/>
                </a:solidFill>
                <a:latin typeface="Times New Roman"/>
              </a:rPr>
              <a:t>代谢废物排出途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3205080" y="836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呼 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3133800" y="2494080"/>
            <a:ext cx="317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汗 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3133800" y="4221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尿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5149800" y="477720"/>
            <a:ext cx="334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氧化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5149800" y="1052640"/>
            <a:ext cx="267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量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1"/>
          <p:cNvSpPr/>
          <p:nvPr/>
        </p:nvSpPr>
        <p:spPr>
          <a:xfrm>
            <a:off x="5076720" y="1771560"/>
            <a:ext cx="351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部分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5076720" y="2421000"/>
            <a:ext cx="30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量无机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3"/>
          <p:cNvSpPr/>
          <p:nvPr/>
        </p:nvSpPr>
        <p:spPr>
          <a:xfrm>
            <a:off x="5076720" y="3141720"/>
            <a:ext cx="250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尿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5"/>
          <p:cNvSpPr/>
          <p:nvPr/>
        </p:nvSpPr>
        <p:spPr>
          <a:xfrm>
            <a:off x="5076720" y="3789360"/>
            <a:ext cx="31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部分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6"/>
          <p:cNvSpPr/>
          <p:nvPr/>
        </p:nvSpPr>
        <p:spPr>
          <a:xfrm>
            <a:off x="5076720" y="4510080"/>
            <a:ext cx="29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部分尿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7"/>
          <p:cNvSpPr/>
          <p:nvPr/>
        </p:nvSpPr>
        <p:spPr>
          <a:xfrm>
            <a:off x="5149800" y="5157720"/>
            <a:ext cx="28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机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2917800" y="1125360"/>
            <a:ext cx="287280" cy="360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3480 h 3600720"/>
              <a:gd name="textAreaBottom" fmla="*/ 356724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23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4789440" y="407664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320 h 1440000"/>
              <a:gd name="textAreaBottom" fmla="*/ 142668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23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20"/>
          <p:cNvSpPr/>
          <p:nvPr/>
        </p:nvSpPr>
        <p:spPr>
          <a:xfrm>
            <a:off x="4789440" y="206064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040 h 1512720"/>
              <a:gd name="textAreaBottom" fmla="*/ 14986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23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1"/>
          <p:cNvSpPr/>
          <p:nvPr/>
        </p:nvSpPr>
        <p:spPr>
          <a:xfrm>
            <a:off x="4718160" y="836640"/>
            <a:ext cx="287280" cy="79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792000"/>
              <a:gd name="textAreaBottom" fmla="*/ 7848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23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22" name="Picture 4" descr="p073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5219640" y="260280"/>
            <a:ext cx="3708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be0c08"/>
                </a:solidFill>
                <a:latin typeface="Arial"/>
              </a:rPr>
              <a:t>泌尿系统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．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判断下列说法是否正确。正确的画“√”，错误的画“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X”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。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1)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膀胱是形成尿的主要器官。</a:t>
            </a: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    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2)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进入肾小球的血管为小动脉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出肾小球的血管为小静脉。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(    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(3)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肾小球和肾小囊具有过滤作用，肾小管具有重吸收作用。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(    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2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．某人在环境和进食相同的条件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·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下，测定完全休息和运动情况下，通过不同途径所散失的水分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毫升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)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，结果如下表。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1)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这两天的失水量有什么不同？这告诉我们运动时应该怎样做？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2)</a:t>
            </a:r>
            <a:r>
              <a:rPr b="1" lang="zh-CN" sz="2000" spc="-1" strike="noStrike">
                <a:solidFill>
                  <a:srgbClr val="073e87"/>
                </a:solidFill>
                <a:latin typeface="Candara"/>
              </a:rPr>
              <a:t>运动时汗液显著增多有什么意义？尿液为什么减少了呢？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6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</a:rPr>
              <a:t>(3)</a:t>
            </a:r>
            <a:r>
              <a:rPr b="1" lang="zh-CN" sz="2800" spc="-1" strike="noStrike">
                <a:solidFill>
                  <a:srgbClr val="073e87"/>
                </a:solidFill>
                <a:latin typeface="Candara"/>
              </a:rPr>
              <a:t>运动时通过呼气散失的水量为什么增加了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0" y="2924280"/>
          <a:ext cx="9144000" cy="1554120"/>
        </p:xfrm>
        <a:graphic>
          <a:graphicData uri="http://schemas.openxmlformats.org/drawingml/2006/table">
            <a:tbl>
              <a:tblPr/>
              <a:tblGrid>
                <a:gridCol w="1979640"/>
                <a:gridCol w="2592360"/>
                <a:gridCol w="2286000"/>
                <a:gridCol w="22860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汗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尿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呼出气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息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天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运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另一天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Text Box 34"/>
          <p:cNvSpPr/>
          <p:nvPr/>
        </p:nvSpPr>
        <p:spPr>
          <a:xfrm>
            <a:off x="6849720" y="11970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6622920" y="8762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4860720" y="333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-181440" y="1557360"/>
            <a:ext cx="932508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4400" spc="-1" strike="noStrike">
                <a:solidFill>
                  <a:srgbClr val="073e87"/>
                </a:solidFill>
                <a:latin typeface="Candara"/>
              </a:rPr>
              <a:t>(1)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这两天的失水量有什么不同？这告诉我们运动时应该怎样做？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4000" spc="-1" strike="noStrike">
                <a:solidFill>
                  <a:srgbClr val="073e87"/>
                </a:solidFill>
                <a:latin typeface="Candara"/>
              </a:rPr>
              <a:t>答：</a:t>
            </a:r>
            <a:r>
              <a:rPr b="1" lang="zh-CN" sz="4000" spc="-1" strike="noStrike">
                <a:solidFill>
                  <a:srgbClr val="4584d3"/>
                </a:solidFill>
                <a:latin typeface="Candara"/>
              </a:rPr>
              <a:t>运动这一天同完全休息这一天相比，散失的水量要大许多。因此，人们运动时应当多喝一些水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250920" y="2060640"/>
            <a:ext cx="86421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3800" spc="-1" strike="noStrike">
                <a:solidFill>
                  <a:srgbClr val="073e87"/>
                </a:solidFill>
                <a:latin typeface="Candara"/>
              </a:rPr>
              <a:t>(2)</a:t>
            </a:r>
            <a:r>
              <a:rPr b="1" lang="zh-CN" sz="3800" spc="-1" strike="noStrike">
                <a:solidFill>
                  <a:srgbClr val="073e87"/>
                </a:solidFill>
                <a:latin typeface="Candara"/>
              </a:rPr>
              <a:t>运动时汗液显著增多有什么意义？尿液为什么减少了呢？</a:t>
            </a:r>
            <a:endParaRPr b="0" lang="en-US" sz="38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3400" spc="-1" strike="noStrike">
                <a:solidFill>
                  <a:srgbClr val="073e87"/>
                </a:solidFill>
                <a:latin typeface="Candara"/>
              </a:rPr>
              <a:t>答：</a:t>
            </a:r>
            <a:r>
              <a:rPr b="1" lang="zh-CN" sz="3400" spc="-1" strike="noStrike">
                <a:solidFill>
                  <a:srgbClr val="4584d3"/>
                </a:solidFill>
                <a:latin typeface="Candara"/>
              </a:rPr>
              <a:t>运动时汗液显著增多，汗液蒸发时能吸收人体较多的热量。汗液分泌多，蒸发多，体内散失的热量就多些。由于运动时水主要以汗液的形式排出体外，尿液就相应减少了</a:t>
            </a:r>
            <a:r>
              <a:rPr b="1" lang="zh-CN" sz="3400" spc="-1" strike="noStrike">
                <a:solidFill>
                  <a:srgbClr val="073e87"/>
                </a:solidFill>
                <a:latin typeface="Candara"/>
              </a:rPr>
              <a:t>。</a:t>
            </a:r>
            <a:endParaRPr b="0" lang="en-US" sz="3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250920" y="1844280"/>
            <a:ext cx="864216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(3)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运动时通过呼气散失的水量为什么增加了？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zh-CN" sz="3600" spc="-1" strike="noStrike">
                <a:solidFill>
                  <a:srgbClr val="073e87"/>
                </a:solidFill>
                <a:latin typeface="Candara"/>
              </a:rPr>
              <a:t>答：</a:t>
            </a:r>
            <a:r>
              <a:rPr b="1" lang="zh-CN" sz="3600" spc="-1" strike="noStrike">
                <a:solidFill>
                  <a:srgbClr val="4584d3"/>
                </a:solidFill>
                <a:latin typeface="Candara"/>
              </a:rPr>
              <a:t>运动时呼吸频率加快、呼吸加深，通过呼吸散失的水量相应地就会增加，与此同时，由于运动时人的体温略有升高，此时呼出气体中的水量也会相应地增加。 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7795-7A0A-4AEB-A40B-4FB15BBA6F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34" name="Picture 4" descr="p077a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900000" y="1844640"/>
            <a:ext cx="36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84d3"/>
                </a:solidFill>
                <a:latin typeface="Candara"/>
                <a:ea typeface="华文中宋"/>
              </a:rPr>
              <a:t>肾脏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84d3"/>
                </a:solidFill>
                <a:latin typeface="Candara"/>
                <a:ea typeface="华文中宋"/>
              </a:rPr>
              <a:t>输尿管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84d3"/>
                </a:solidFill>
                <a:latin typeface="Candara"/>
                <a:ea typeface="华文中宋"/>
              </a:rPr>
              <a:t>膀胱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84d3"/>
                </a:solidFill>
                <a:latin typeface="Candara"/>
                <a:ea typeface="华文中宋"/>
              </a:rPr>
              <a:t>尿道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andara"/>
                <a:ea typeface="隶书"/>
              </a:rPr>
              <a:t>泌尿系统的组成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p073y"/>
          <p:cNvPicPr/>
          <p:nvPr/>
        </p:nvPicPr>
        <p:blipFill>
          <a:blip r:embed="rId1"/>
          <a:stretch/>
        </p:blipFill>
        <p:spPr>
          <a:xfrm>
            <a:off x="1476360" y="0"/>
            <a:ext cx="5678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7" name=""/>
          <p:cNvGrpSpPr/>
          <p:nvPr/>
        </p:nvGrpSpPr>
        <p:grpSpPr>
          <a:xfrm>
            <a:off x="1116000" y="1270080"/>
            <a:ext cx="1440000" cy="1582560"/>
            <a:chOff x="1116000" y="1270080"/>
            <a:chExt cx="1440000" cy="1582560"/>
          </a:xfrm>
        </p:grpSpPr>
        <p:sp>
          <p:nvSpPr>
            <p:cNvPr id="628" name="Line 5"/>
            <p:cNvSpPr/>
            <p:nvPr/>
          </p:nvSpPr>
          <p:spPr>
            <a:xfrm flipH="1" flipV="1">
              <a:off x="1116000" y="1270080"/>
              <a:ext cx="1440000" cy="1582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 rot="10800000">
              <a:off x="1116000" y="1270080"/>
              <a:ext cx="1440000" cy="158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 Box 6"/>
          <p:cNvSpPr/>
          <p:nvPr/>
        </p:nvSpPr>
        <p:spPr>
          <a:xfrm>
            <a:off x="0" y="549360"/>
            <a:ext cx="201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肾动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042560" y="3284640"/>
            <a:ext cx="1368720" cy="361800"/>
            <a:chOff x="1042560" y="3284640"/>
            <a:chExt cx="1368720" cy="361800"/>
          </a:xfrm>
        </p:grpSpPr>
        <p:sp>
          <p:nvSpPr>
            <p:cNvPr id="632" name="Line 7"/>
            <p:cNvSpPr/>
            <p:nvPr/>
          </p:nvSpPr>
          <p:spPr>
            <a:xfrm flipH="1">
              <a:off x="1042560" y="3284640"/>
              <a:ext cx="1368360" cy="36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1042920" y="3284640"/>
              <a:ext cx="136836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8"/>
          <p:cNvSpPr/>
          <p:nvPr/>
        </p:nvSpPr>
        <p:spPr>
          <a:xfrm>
            <a:off x="0" y="3573360"/>
            <a:ext cx="19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肾静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826560" y="4724280"/>
            <a:ext cx="1297440" cy="484200"/>
            <a:chOff x="826560" y="4724280"/>
            <a:chExt cx="1297440" cy="484200"/>
          </a:xfrm>
        </p:grpSpPr>
        <p:sp>
          <p:nvSpPr>
            <p:cNvPr id="636" name="Line 9"/>
            <p:cNvSpPr/>
            <p:nvPr/>
          </p:nvSpPr>
          <p:spPr>
            <a:xfrm flipH="1">
              <a:off x="826560" y="4724280"/>
              <a:ext cx="1297080" cy="484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826920" y="4724280"/>
              <a:ext cx="129708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10"/>
          <p:cNvSpPr/>
          <p:nvPr/>
        </p:nvSpPr>
        <p:spPr>
          <a:xfrm>
            <a:off x="0" y="5157720"/>
            <a:ext cx="19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输尿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6227640" y="1052640"/>
            <a:ext cx="1368720" cy="360"/>
            <a:chOff x="6227640" y="1052640"/>
            <a:chExt cx="1368720" cy="360"/>
          </a:xfrm>
        </p:grpSpPr>
        <p:sp>
          <p:nvSpPr>
            <p:cNvPr id="640" name="Line 11"/>
            <p:cNvSpPr/>
            <p:nvPr/>
          </p:nvSpPr>
          <p:spPr>
            <a:xfrm>
              <a:off x="6227640" y="1052640"/>
              <a:ext cx="136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6227640" y="105264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12"/>
          <p:cNvSpPr/>
          <p:nvPr/>
        </p:nvSpPr>
        <p:spPr>
          <a:xfrm>
            <a:off x="7477200" y="620640"/>
            <a:ext cx="144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皮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219640" y="1989000"/>
            <a:ext cx="2448000" cy="360"/>
            <a:chOff x="5219640" y="1989000"/>
            <a:chExt cx="2448000" cy="360"/>
          </a:xfrm>
        </p:grpSpPr>
        <p:sp>
          <p:nvSpPr>
            <p:cNvPr id="644" name="Line 13"/>
            <p:cNvSpPr/>
            <p:nvPr/>
          </p:nvSpPr>
          <p:spPr>
            <a:xfrm>
              <a:off x="5219640" y="1989000"/>
              <a:ext cx="2448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5219640" y="198900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Text Box 14"/>
          <p:cNvSpPr/>
          <p:nvPr/>
        </p:nvSpPr>
        <p:spPr>
          <a:xfrm>
            <a:off x="7621560" y="1555920"/>
            <a:ext cx="13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髓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716360" y="2852640"/>
            <a:ext cx="2951280" cy="1800"/>
            <a:chOff x="4716360" y="2852640"/>
            <a:chExt cx="2951280" cy="1800"/>
          </a:xfrm>
        </p:grpSpPr>
        <p:sp>
          <p:nvSpPr>
            <p:cNvPr id="648" name="Line 15"/>
            <p:cNvSpPr/>
            <p:nvPr/>
          </p:nvSpPr>
          <p:spPr>
            <a:xfrm>
              <a:off x="4716360" y="2852640"/>
              <a:ext cx="2951280" cy="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4716360" y="2852640"/>
              <a:ext cx="2951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16"/>
          <p:cNvSpPr/>
          <p:nvPr/>
        </p:nvSpPr>
        <p:spPr>
          <a:xfrm>
            <a:off x="7621560" y="2347920"/>
            <a:ext cx="15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肾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250560" y="836280"/>
            <a:ext cx="88009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肾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动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脉的颜色为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红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色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肾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静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脉的颜色为</a:t>
            </a:r>
            <a:r>
              <a:rPr b="1" lang="zh-CN" sz="6000" spc="-1" strike="noStrike">
                <a:solidFill>
                  <a:srgbClr val="4584d3"/>
                </a:solidFill>
                <a:latin typeface="Candara"/>
              </a:rPr>
              <a:t>蓝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色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肾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总体的颜色为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红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色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血液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经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  <a:ea typeface="隶书"/>
              </a:rPr>
              <a:t>肾动脉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流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入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肾脏</a:t>
            </a:r>
            <a:r>
              <a:rPr b="1" lang="en-US" sz="6000" spc="-1" strike="noStrike">
                <a:solidFill>
                  <a:srgbClr val="073e87"/>
                </a:solidFill>
                <a:latin typeface="Candara"/>
              </a:rPr>
              <a:t>,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血液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经</a:t>
            </a:r>
            <a:r>
              <a:rPr b="1" lang="zh-CN" sz="6000" spc="-1" strike="noStrike">
                <a:solidFill>
                  <a:srgbClr val="4584d3"/>
                </a:solidFill>
                <a:latin typeface="Candara"/>
                <a:ea typeface="隶书"/>
              </a:rPr>
              <a:t>肾静脉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流</a:t>
            </a:r>
            <a:r>
              <a:rPr b="1" lang="zh-CN" sz="6000" spc="-1" strike="noStrike">
                <a:solidFill>
                  <a:srgbClr val="ff3300"/>
                </a:solidFill>
                <a:latin typeface="Candara"/>
              </a:rPr>
              <a:t>出</a:t>
            </a:r>
            <a:r>
              <a:rPr b="1" lang="zh-CN" sz="6000" spc="-1" strike="noStrike">
                <a:solidFill>
                  <a:srgbClr val="073e87"/>
                </a:solidFill>
                <a:latin typeface="Candara"/>
              </a:rPr>
              <a:t>肾脏</a:t>
            </a:r>
            <a:r>
              <a:rPr b="1" lang="en-US" sz="6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178920" y="292428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答：有密切关系。肾动脉中的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  <a:ea typeface="隶书"/>
              </a:rPr>
              <a:t>血液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将人体生命活动产生的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</a:rPr>
              <a:t>尿素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、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</a:rPr>
              <a:t>无机盐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和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</a:rPr>
              <a:t>多余的水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带到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</a:rPr>
              <a:t>肾脏</a:t>
            </a:r>
            <a:r>
              <a:rPr b="0" lang="en-US" sz="37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形成</a:t>
            </a:r>
            <a:r>
              <a:rPr b="0" lang="zh-CN" sz="3700" spc="-1" strike="noStrike">
                <a:solidFill>
                  <a:srgbClr val="ff3300"/>
                </a:solidFill>
                <a:latin typeface="Candara"/>
                <a:ea typeface="隶书"/>
              </a:rPr>
              <a:t>尿液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并排出体外。肾静脉则将</a:t>
            </a:r>
            <a:r>
              <a:rPr b="1" lang="zh-CN" sz="3700" spc="-1" strike="noStrike">
                <a:solidFill>
                  <a:srgbClr val="ff3300"/>
                </a:solidFill>
                <a:latin typeface="Candara"/>
                <a:ea typeface="隶书"/>
              </a:rPr>
              <a:t>排除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了尿素、无机盐和多余的水的</a:t>
            </a:r>
            <a:r>
              <a:rPr b="1" lang="zh-CN" sz="3700" spc="-1" strike="noStrike">
                <a:solidFill>
                  <a:srgbClr val="ff3300"/>
                </a:solidFill>
                <a:latin typeface="Candara"/>
                <a:ea typeface="隶书"/>
              </a:rPr>
              <a:t>血液</a:t>
            </a:r>
            <a:r>
              <a:rPr b="0" lang="zh-CN" sz="3700" spc="-1" strike="noStrike">
                <a:solidFill>
                  <a:srgbClr val="073e87"/>
                </a:solidFill>
                <a:latin typeface="Candara"/>
              </a:rPr>
              <a:t>送往人体其他部位。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ndara"/>
              </a:rPr>
              <a:t>你认为尿液的形成与血液循环的关系</a:t>
            </a:r>
            <a:r>
              <a:rPr b="1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56" name="Picture 4" descr="p073d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5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5" descr="pic_8674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1052640"/>
            <a:ext cx="8244000" cy="5600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3"/>
          <p:cNvSpPr/>
          <p:nvPr/>
        </p:nvSpPr>
        <p:spPr>
          <a:xfrm>
            <a:off x="0" y="2602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4800" spc="-1" strike="noStrike">
                <a:solidFill>
                  <a:srgbClr val="be0c08"/>
                </a:solidFill>
                <a:latin typeface="Times New Roman"/>
              </a:rPr>
              <a:t>肾小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血液的</a:t>
            </a:r>
            <a:r>
              <a:rPr b="1" lang="zh-CN" sz="4800" spc="-1" strike="noStrike">
                <a:solidFill>
                  <a:srgbClr val="be0c08"/>
                </a:solidFill>
                <a:latin typeface="Times New Roman"/>
              </a:rPr>
              <a:t>滤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380880" y="2276640"/>
            <a:ext cx="275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584d3"/>
                </a:solidFill>
                <a:latin typeface="Tahoma"/>
                <a:ea typeface="楷体_GB2312"/>
              </a:rPr>
              <a:t>肾小球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和紧贴着它的</a:t>
            </a:r>
            <a:r>
              <a:rPr b="1" lang="zh-CN" sz="4400" spc="-1" strike="noStrike">
                <a:solidFill>
                  <a:srgbClr val="4584d3"/>
                </a:solidFill>
                <a:latin typeface="Tahoma"/>
                <a:ea typeface="楷体_GB2312"/>
              </a:rPr>
              <a:t>肾小囊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壁起过滤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03:27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24Z</dcterms:modified>
  <cp:revision>1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