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1568-F0B1-40A4-8BC1-65FA97D7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5E69-2498-4B84-8AAD-75BCD2BD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BF0C-4A73-4819-AD16-65EDD87B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F96D-4A78-42B4-9C38-903EC949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6540-DBDC-4ECA-8B8F-5ECF5AA7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3AAD-B082-4F28-859D-24100685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EC1E-C045-43A6-BC63-99E10D5A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134C-4545-4CCA-94FB-EBECBAB2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F049-EF42-45EA-99BE-D4A8027B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C560-70A6-4175-B8C2-300FF224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1B4C-DC72-450A-8DB9-E723C1AA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3A33-B576-46E9-B19C-CC7D515F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43FC-6AD0-486E-B5F9-A1FD3F5F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5734-825A-4FC0-AD58-E7BF5B05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4DD4-43F2-4682-B8E1-84BE35B2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AB68-9FFB-4022-BB8E-EDFADC9B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3AA7-89BF-49D9-BF8D-461989DC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836E-CC40-4D4A-B487-860D4DA3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01E0-F9B0-494D-AAEF-A228D6C4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660C-6CD7-498E-A398-2DB5B47D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9524-2F43-4112-A122-F7AD3E19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2618-C8F4-4003-8C70-221F4C7E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080B-788D-421E-8B28-DD6F92E6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8A97-6607-48CB-A4DD-9289CFB2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3B24-03DF-4DAD-8FB1-BC8E86DF5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01F8-1C6B-49BE-A609-E8CE530DF5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7440" y="148392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溶液的浓度课件</a:t>
            </a:r>
            <a:r>
              <a:rPr b="0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图片2"/>
          <p:cNvPicPr/>
          <p:nvPr/>
        </p:nvPicPr>
        <p:blipFill>
          <a:blip r:embed="rId1"/>
          <a:stretch/>
        </p:blipFill>
        <p:spPr>
          <a:xfrm>
            <a:off x="826920" y="3286080"/>
            <a:ext cx="3048120" cy="2102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pic_99623"/>
          <p:cNvPicPr/>
          <p:nvPr/>
        </p:nvPicPr>
        <p:blipFill>
          <a:blip r:embed="rId2"/>
          <a:stretch/>
        </p:blipFill>
        <p:spPr>
          <a:xfrm>
            <a:off x="4319640" y="3357720"/>
            <a:ext cx="4038480" cy="2016000"/>
          </a:xfrm>
          <a:prstGeom prst="rect">
            <a:avLst/>
          </a:prstGeom>
          <a:ln w="38160">
            <a:solidFill>
              <a:srgbClr val="008080"/>
            </a:solidFill>
            <a:miter/>
          </a:ln>
        </p:spPr>
      </p:pic>
      <p:sp>
        <p:nvSpPr>
          <p:cNvPr id="85" name="矩形 1"/>
          <p:cNvSpPr/>
          <p:nvPr/>
        </p:nvSpPr>
        <p:spPr>
          <a:xfrm>
            <a:off x="3349080" y="684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九单元　溶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04920" y="163044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[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题型一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]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关溶质、溶剂和溶液之间的换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0" y="549360"/>
            <a:ext cx="103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知识点二：溶质质量分数计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400640" y="32004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溶质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质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4767840" y="3809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溶液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质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095720" y="3841920"/>
            <a:ext cx="2590920" cy="360"/>
            <a:chOff x="4095720" y="3841920"/>
            <a:chExt cx="2590920" cy="360"/>
          </a:xfrm>
        </p:grpSpPr>
        <p:sp>
          <p:nvSpPr>
            <p:cNvPr id="159" name="Line 7"/>
            <p:cNvSpPr/>
            <p:nvPr/>
          </p:nvSpPr>
          <p:spPr>
            <a:xfrm>
              <a:off x="4095720" y="384192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4095720" y="3841920"/>
              <a:ext cx="2590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8"/>
          <p:cNvSpPr/>
          <p:nvPr/>
        </p:nvSpPr>
        <p:spPr>
          <a:xfrm>
            <a:off x="6553080" y="35798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×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0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826920" y="3500280"/>
            <a:ext cx="47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溶质质量分数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2031480" y="5105520"/>
            <a:ext cx="49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溶液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质量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溶质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质量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+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溶剂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质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380880" y="2514600"/>
            <a:ext cx="43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计算的依据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4" descr="LINE049"/>
          <p:cNvPicPr/>
          <p:nvPr/>
        </p:nvPicPr>
        <p:blipFill>
          <a:blip r:embed="rId1"/>
          <a:stretch/>
        </p:blipFill>
        <p:spPr>
          <a:xfrm>
            <a:off x="152280" y="6381720"/>
            <a:ext cx="8839440" cy="385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"/>
                            </p:stCondLst>
                            <p:childTnLst>
                              <p:par>
                                <p:cTn id="259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3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755640" y="1052640"/>
            <a:ext cx="763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在农业生产中，常需要用质量分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6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氯化钠溶液来选种。现在配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0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种溶液，需要氯化钠和水的质量各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60360" y="304920"/>
            <a:ext cx="77407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．根据一定量溶液求溶质和溶剂的质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547640" y="26226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900000" y="544500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配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0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质量分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6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氯化钠溶液需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4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氯化钠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6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114880" y="2924280"/>
            <a:ext cx="1473120" cy="360"/>
            <a:chOff x="5114880" y="2924280"/>
            <a:chExt cx="1473120" cy="360"/>
          </a:xfrm>
        </p:grpSpPr>
        <p:sp>
          <p:nvSpPr>
            <p:cNvPr id="171" name="Line 6"/>
            <p:cNvSpPr/>
            <p:nvPr/>
          </p:nvSpPr>
          <p:spPr>
            <a:xfrm>
              <a:off x="5114880" y="29242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5114880" y="2924280"/>
              <a:ext cx="1473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7"/>
          <p:cNvSpPr/>
          <p:nvPr/>
        </p:nvSpPr>
        <p:spPr>
          <a:xfrm>
            <a:off x="2887560" y="4441680"/>
            <a:ext cx="3224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溶剂质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溶液质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溶质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3167640" y="3362400"/>
            <a:ext cx="394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溶质质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溶液质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溶质的质量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5435280" y="293040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溶液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5446440" y="242100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溶质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2656080" y="2700360"/>
            <a:ext cx="1782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溶质的质量分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6665040" y="2714760"/>
            <a:ext cx="1270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× 10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3635280" y="4941720"/>
            <a:ext cx="43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150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 24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126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3635280" y="3933720"/>
            <a:ext cx="4392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15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×16% = 2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8196"/>
          <p:cNvSpPr/>
          <p:nvPr/>
        </p:nvSpPr>
        <p:spPr>
          <a:xfrm>
            <a:off x="1174680" y="63914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523880" y="3808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练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g 1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盐水中放入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食盐，求：所得溶液的溶质质量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523880" y="4495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练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g 1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盐水中倒出一半，求：剩余溶液的溶质的质量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03280" y="573408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剩余溶液的溶质质量分数不变，仍是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1332000" y="1413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2556000" y="177012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268360" y="2421000"/>
            <a:ext cx="2519640" cy="360"/>
            <a:chOff x="2268360" y="2421000"/>
            <a:chExt cx="2519640" cy="360"/>
          </a:xfrm>
        </p:grpSpPr>
        <p:sp>
          <p:nvSpPr>
            <p:cNvPr id="188" name="Line 8"/>
            <p:cNvSpPr/>
            <p:nvPr/>
          </p:nvSpPr>
          <p:spPr>
            <a:xfrm>
              <a:off x="2268360" y="2421000"/>
              <a:ext cx="2519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2268360" y="2421000"/>
              <a:ext cx="251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9"/>
          <p:cNvSpPr/>
          <p:nvPr/>
        </p:nvSpPr>
        <p:spPr>
          <a:xfrm>
            <a:off x="1258920" y="1989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加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2556000" y="2349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20g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2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1" descr=""/>
          <p:cNvPicPr/>
          <p:nvPr/>
        </p:nvPicPr>
        <p:blipFill>
          <a:blip r:embed="rId1"/>
          <a:stretch/>
        </p:blipFill>
        <p:spPr>
          <a:xfrm>
            <a:off x="4932360" y="2198520"/>
            <a:ext cx="1542960" cy="4384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2"/>
          <p:cNvSpPr/>
          <p:nvPr/>
        </p:nvSpPr>
        <p:spPr>
          <a:xfrm>
            <a:off x="6443640" y="21337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9.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1258920" y="3284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加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2411280" y="3068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g X10%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340000" y="3645000"/>
            <a:ext cx="3311640" cy="360"/>
            <a:chOff x="2340000" y="3645000"/>
            <a:chExt cx="3311640" cy="360"/>
          </a:xfrm>
        </p:grpSpPr>
        <p:sp>
          <p:nvSpPr>
            <p:cNvPr id="197" name="Line 15"/>
            <p:cNvSpPr/>
            <p:nvPr/>
          </p:nvSpPr>
          <p:spPr>
            <a:xfrm>
              <a:off x="2340000" y="3645000"/>
              <a:ext cx="3311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2340000" y="3645000"/>
              <a:ext cx="331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16"/>
          <p:cNvSpPr/>
          <p:nvPr/>
        </p:nvSpPr>
        <p:spPr>
          <a:xfrm>
            <a:off x="2627280" y="3645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20g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2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"/>
          <p:cNvPicPr/>
          <p:nvPr/>
        </p:nvPicPr>
        <p:blipFill>
          <a:blip r:embed="rId2"/>
          <a:stretch/>
        </p:blipFill>
        <p:spPr>
          <a:xfrm>
            <a:off x="5580000" y="3429000"/>
            <a:ext cx="1542960" cy="4381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8"/>
          <p:cNvSpPr/>
          <p:nvPr/>
        </p:nvSpPr>
        <p:spPr>
          <a:xfrm>
            <a:off x="7020000" y="3284640"/>
            <a:ext cx="17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8.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0" y="40622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液质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液体积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液密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627280" y="450864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500mL ×1.1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550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044720" y="499752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质质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550g ×10% = 55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1042920" y="54309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剂质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550g — 55g = 495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1042920" y="587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：需要氢氧化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5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95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0" y="3227760"/>
            <a:ext cx="914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练习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课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配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质量分数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氢氧化钠溶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密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1g/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需要氢氧化钠和水的质量各是多少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0" y="378000"/>
            <a:ext cx="8388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练习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课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某温度时，蒸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氯化钾溶液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氯化钾，求该溶液中溶质的质量分数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71280" y="132552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2"/>
          <p:cNvGrpSpPr/>
          <p:nvPr/>
        </p:nvGrpSpPr>
        <p:grpSpPr>
          <a:xfrm>
            <a:off x="1619280" y="1125360"/>
            <a:ext cx="6300720" cy="968400"/>
            <a:chOff x="1619280" y="1125360"/>
            <a:chExt cx="6300720" cy="968400"/>
          </a:xfrm>
        </p:grpSpPr>
        <p:sp>
          <p:nvSpPr>
            <p:cNvPr id="211" name="Rectangle 13"/>
            <p:cNvSpPr/>
            <p:nvPr/>
          </p:nvSpPr>
          <p:spPr>
            <a:xfrm>
              <a:off x="1619280" y="1342800"/>
              <a:ext cx="630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溶质的质量分数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                  ×10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4"/>
            <p:cNvGrpSpPr/>
            <p:nvPr/>
          </p:nvGrpSpPr>
          <p:grpSpPr>
            <a:xfrm>
              <a:off x="4462560" y="1125360"/>
              <a:ext cx="1728720" cy="968400"/>
              <a:chOff x="4462560" y="1125360"/>
              <a:chExt cx="1728720" cy="968400"/>
            </a:xfrm>
          </p:grpSpPr>
          <p:sp>
            <p:nvSpPr>
              <p:cNvPr id="213" name="Text Box 15"/>
              <p:cNvSpPr/>
              <p:nvPr/>
            </p:nvSpPr>
            <p:spPr>
              <a:xfrm>
                <a:off x="4462560" y="1125360"/>
                <a:ext cx="172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溶质质量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16"/>
              <p:cNvSpPr/>
              <p:nvPr/>
            </p:nvSpPr>
            <p:spPr>
              <a:xfrm>
                <a:off x="4462560" y="1573200"/>
                <a:ext cx="172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溶液质量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4462560" y="1644480"/>
                <a:ext cx="1584360" cy="360"/>
                <a:chOff x="4462560" y="1644480"/>
                <a:chExt cx="1584360" cy="360"/>
              </a:xfrm>
            </p:grpSpPr>
            <p:sp>
              <p:nvSpPr>
                <p:cNvPr id="216" name="Line 17"/>
                <p:cNvSpPr/>
                <p:nvPr/>
              </p:nvSpPr>
              <p:spPr>
                <a:xfrm>
                  <a:off x="4462560" y="1644480"/>
                  <a:ext cx="1584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 txBox="1"/>
                <p:nvPr/>
              </p:nvSpPr>
              <p:spPr>
                <a:xfrm>
                  <a:off x="4462560" y="1644480"/>
                  <a:ext cx="1584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8" name="Group 18"/>
          <p:cNvGrpSpPr/>
          <p:nvPr/>
        </p:nvGrpSpPr>
        <p:grpSpPr>
          <a:xfrm>
            <a:off x="826920" y="1917720"/>
            <a:ext cx="7561440" cy="936360"/>
            <a:chOff x="826920" y="1917720"/>
            <a:chExt cx="7561440" cy="936360"/>
          </a:xfrm>
        </p:grpSpPr>
        <p:sp>
          <p:nvSpPr>
            <p:cNvPr id="219" name="Text Box 19"/>
            <p:cNvSpPr/>
            <p:nvPr/>
          </p:nvSpPr>
          <p:spPr>
            <a:xfrm>
              <a:off x="826920" y="2147760"/>
              <a:ext cx="756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溶质的质量分数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              × 100% = 20%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20"/>
            <p:cNvGrpSpPr/>
            <p:nvPr/>
          </p:nvGrpSpPr>
          <p:grpSpPr>
            <a:xfrm>
              <a:off x="3924000" y="1917720"/>
              <a:ext cx="1008000" cy="936360"/>
              <a:chOff x="3924000" y="1917720"/>
              <a:chExt cx="1008000" cy="936360"/>
            </a:xfrm>
          </p:grpSpPr>
          <p:grpSp>
            <p:nvGrpSpPr>
              <p:cNvPr id="221" name="Group 21"/>
              <p:cNvGrpSpPr/>
              <p:nvPr/>
            </p:nvGrpSpPr>
            <p:grpSpPr>
              <a:xfrm>
                <a:off x="3924000" y="1917720"/>
                <a:ext cx="1008000" cy="520560"/>
                <a:chOff x="3924000" y="1917720"/>
                <a:chExt cx="1008000" cy="520560"/>
              </a:xfrm>
            </p:grpSpPr>
            <p:sp>
              <p:nvSpPr>
                <p:cNvPr id="222" name="Text Box 22"/>
                <p:cNvSpPr/>
                <p:nvPr/>
              </p:nvSpPr>
              <p:spPr>
                <a:xfrm>
                  <a:off x="3995280" y="1917720"/>
                  <a:ext cx="936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7g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3924000" y="2421000"/>
                  <a:ext cx="1008000" cy="360"/>
                  <a:chOff x="3924000" y="2421000"/>
                  <a:chExt cx="1008000" cy="360"/>
                </a:xfrm>
              </p:grpSpPr>
              <p:sp>
                <p:nvSpPr>
                  <p:cNvPr id="224" name="Line 23"/>
                  <p:cNvSpPr/>
                  <p:nvPr/>
                </p:nvSpPr>
                <p:spPr>
                  <a:xfrm>
                    <a:off x="3924000" y="2421000"/>
                    <a:ext cx="1008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 txBox="1"/>
                  <p:nvPr/>
                </p:nvSpPr>
                <p:spPr>
                  <a:xfrm>
                    <a:off x="3924000" y="2421000"/>
                    <a:ext cx="1008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6" name="Text Box 24"/>
              <p:cNvSpPr/>
              <p:nvPr/>
            </p:nvSpPr>
            <p:spPr>
              <a:xfrm>
                <a:off x="3995280" y="2333520"/>
                <a:ext cx="86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35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7" name="Rectangle 25"/>
          <p:cNvSpPr/>
          <p:nvPr/>
        </p:nvSpPr>
        <p:spPr>
          <a:xfrm>
            <a:off x="971640" y="27655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：该溶液中溶质的质量分数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ADD2-3981-493B-ADD0-AB4B1420E1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叶根友毛笔行书2.0版"/>
                <a:ea typeface="叶根友毛笔行书2.0版"/>
              </a:rPr>
              <a:t>当堂训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完成课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的练习题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求：认真审题   仔细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书写工整    步骤规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叶根友毛笔行书2.0版"/>
                <a:ea typeface="叶根友毛笔行书2.0版"/>
              </a:rPr>
              <a:t>候课要求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9640" y="2276640"/>
            <a:ext cx="7920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坐姿端正     精神抖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准备好化学、练习册、练习本打开、双色笔，按固定顺序摆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准备好后，预习新课的内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4105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7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掌握溶质质量分数的概念及计算公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会进行溶质质量分数的有关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计算溶质的质量分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溶质、溶剂的质量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自学指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同学们认真看课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2—4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上的内容，注意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理解溶质质量分数的概念及计算公式；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掌握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解题思路和步骤，并会做类似的问题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后，比比谁的自学效果较好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204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在三支试管中各加入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0mL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水，然后分别加入约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0.5g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g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2g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固体硫酸铜。比较三种溶液的颜色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11280" y="2422440"/>
          <a:ext cx="8132760" cy="3527280"/>
        </p:xfrm>
        <a:graphic>
          <a:graphicData uri="http://schemas.openxmlformats.org/drawingml/2006/table">
            <a:tbl>
              <a:tblPr/>
              <a:tblGrid>
                <a:gridCol w="936720"/>
                <a:gridCol w="1366920"/>
                <a:gridCol w="1366560"/>
                <a:gridCol w="1366920"/>
                <a:gridCol w="1366920"/>
                <a:gridCol w="1728720"/>
              </a:tblGrid>
              <a:tr h="103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试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编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溶液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色比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溶　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质量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溶　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质量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溶　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质量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0"/>
          <p:cNvSpPr/>
          <p:nvPr/>
        </p:nvSpPr>
        <p:spPr>
          <a:xfrm>
            <a:off x="1835280" y="37162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1"/>
          <p:cNvSpPr/>
          <p:nvPr/>
        </p:nvSpPr>
        <p:spPr>
          <a:xfrm>
            <a:off x="1690560" y="4581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较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2"/>
          <p:cNvSpPr/>
          <p:nvPr/>
        </p:nvSpPr>
        <p:spPr>
          <a:xfrm>
            <a:off x="1908000" y="53006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3"/>
          <p:cNvSpPr/>
          <p:nvPr/>
        </p:nvSpPr>
        <p:spPr>
          <a:xfrm>
            <a:off x="3172680" y="371628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0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4"/>
          <p:cNvSpPr/>
          <p:nvPr/>
        </p:nvSpPr>
        <p:spPr>
          <a:xfrm>
            <a:off x="2987640" y="4508640"/>
            <a:ext cx="122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10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5"/>
          <p:cNvSpPr/>
          <p:nvPr/>
        </p:nvSpPr>
        <p:spPr>
          <a:xfrm>
            <a:off x="3564000" y="4437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6"/>
          <p:cNvSpPr/>
          <p:nvPr/>
        </p:nvSpPr>
        <p:spPr>
          <a:xfrm>
            <a:off x="4500720" y="371628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0.5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7"/>
          <p:cNvSpPr/>
          <p:nvPr/>
        </p:nvSpPr>
        <p:spPr>
          <a:xfrm>
            <a:off x="4500720" y="4437000"/>
            <a:ext cx="8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8"/>
          <p:cNvSpPr/>
          <p:nvPr/>
        </p:nvSpPr>
        <p:spPr>
          <a:xfrm>
            <a:off x="4635360" y="522936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9"/>
          <p:cNvSpPr/>
          <p:nvPr/>
        </p:nvSpPr>
        <p:spPr>
          <a:xfrm>
            <a:off x="5796000" y="364500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0.5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0"/>
          <p:cNvSpPr/>
          <p:nvPr/>
        </p:nvSpPr>
        <p:spPr>
          <a:xfrm>
            <a:off x="5580000" y="4437000"/>
            <a:ext cx="130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1"/>
          <p:cNvSpPr/>
          <p:nvPr/>
        </p:nvSpPr>
        <p:spPr>
          <a:xfrm>
            <a:off x="5651640" y="5300640"/>
            <a:ext cx="12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2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04920" y="533520"/>
            <a:ext cx="167616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实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9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2133720" y="623880"/>
            <a:ext cx="3657600" cy="977760"/>
            <a:chOff x="2133720" y="623880"/>
            <a:chExt cx="3657600" cy="977760"/>
          </a:xfrm>
        </p:grpSpPr>
        <p:sp>
          <p:nvSpPr>
            <p:cNvPr id="107" name="Text Box 4"/>
            <p:cNvSpPr/>
            <p:nvPr/>
          </p:nvSpPr>
          <p:spPr>
            <a:xfrm>
              <a:off x="2133720" y="62388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99ff"/>
                  </a:solidFill>
                  <a:latin typeface="Arial"/>
                </a:rPr>
                <a:t>药品</a:t>
              </a:r>
              <a:r>
                <a:rPr b="1" lang="zh-CN" sz="2800" spc="-1" strike="noStrike">
                  <a:solidFill>
                    <a:srgbClr val="3399ff"/>
                  </a:solidFill>
                  <a:latin typeface="Arial"/>
                </a:rPr>
                <a:t>:</a:t>
              </a:r>
              <a:r>
                <a:rPr b="1" lang="zh-CN" sz="2800" spc="-1" strike="noStrike">
                  <a:solidFill>
                    <a:srgbClr val="3399ff"/>
                  </a:solidFill>
                  <a:latin typeface="Arial"/>
                </a:rPr>
                <a:t>水</a:t>
              </a:r>
              <a:r>
                <a:rPr b="1" lang="zh-CN" sz="2800" spc="-1" strike="noStrike">
                  <a:solidFill>
                    <a:srgbClr val="3399ff"/>
                  </a:solidFill>
                  <a:latin typeface="Arial"/>
                </a:rPr>
                <a:t>10</a:t>
              </a:r>
              <a:r>
                <a:rPr b="1" lang="en-US" sz="2800" spc="-1" strike="noStrike">
                  <a:solidFill>
                    <a:srgbClr val="3399ff"/>
                  </a:solidFill>
                  <a:latin typeface="Arial"/>
                </a:rPr>
                <a:t>mL  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硫酸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5"/>
            <p:cNvSpPr/>
            <p:nvPr/>
          </p:nvSpPr>
          <p:spPr>
            <a:xfrm>
              <a:off x="2133720" y="108108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99ff"/>
                  </a:solidFill>
                  <a:latin typeface="Arial"/>
                </a:rPr>
                <a:t>仪器</a:t>
              </a:r>
              <a:r>
                <a:rPr b="1" lang="zh-CN" sz="2800" spc="-1" strike="noStrike">
                  <a:solidFill>
                    <a:srgbClr val="3399ff"/>
                  </a:solidFill>
                  <a:latin typeface="Arial"/>
                </a:rPr>
                <a:t>:</a:t>
              </a:r>
              <a:r>
                <a:rPr b="1" lang="zh-CN" sz="2800" spc="-1" strike="noStrike">
                  <a:solidFill>
                    <a:srgbClr val="3399ff"/>
                  </a:solidFill>
                  <a:latin typeface="Arial"/>
                </a:rPr>
                <a:t>试管 滴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Object 6" descr=""/>
          <p:cNvPicPr/>
          <p:nvPr/>
        </p:nvPicPr>
        <p:blipFill>
          <a:blip r:embed="rId2"/>
          <a:stretch/>
        </p:blipFill>
        <p:spPr>
          <a:xfrm>
            <a:off x="1676520" y="1600200"/>
            <a:ext cx="5486400" cy="3800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304920" y="5410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颜色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676520" y="541008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淡蓝        蓝色        深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8196"/>
          <p:cNvSpPr/>
          <p:nvPr/>
        </p:nvSpPr>
        <p:spPr>
          <a:xfrm>
            <a:off x="1117440" y="631980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358920"/>
            <a:ext cx="7561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溶液组成的表示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701360"/>
            <a:ext cx="8424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新魏"/>
              </a:rPr>
              <a:t>正确理解“浓”溶液和“稀”溶液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新魏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11280" y="25606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有色溶液的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稀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通过观察它们的颜色，颜色深的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颜色浅的就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稀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68360" y="4365720"/>
            <a:ext cx="8351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通过颜色判断只是粗略的判断溶液的“浓”和“稀”，需要了解溶液的具体“浓”和“稀”我们可以利用</a:t>
            </a: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溶液的浓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395280" y="404640"/>
            <a:ext cx="860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知识点一：溶质质量分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838080" y="1625760"/>
            <a:ext cx="275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定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843280" y="16318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是溶质质量和溶液质量之比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5640" y="2417760"/>
            <a:ext cx="275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公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267080" y="31370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溶质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质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4634640" y="3746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溶液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质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962520" y="3778200"/>
            <a:ext cx="2590560" cy="360"/>
            <a:chOff x="3962520" y="3778200"/>
            <a:chExt cx="2590560" cy="360"/>
          </a:xfrm>
        </p:grpSpPr>
        <p:sp>
          <p:nvSpPr>
            <p:cNvPr id="124" name="Line 8"/>
            <p:cNvSpPr/>
            <p:nvPr/>
          </p:nvSpPr>
          <p:spPr>
            <a:xfrm>
              <a:off x="3962520" y="3778200"/>
              <a:ext cx="25905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3962520" y="3778200"/>
              <a:ext cx="2590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9"/>
          <p:cNvSpPr/>
          <p:nvPr/>
        </p:nvSpPr>
        <p:spPr>
          <a:xfrm>
            <a:off x="6419880" y="3516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685800" y="34686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溶质质量分数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395280" y="464976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溶质的质量 </a:t>
            </a: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=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溶液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质量 </a:t>
            </a: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溶质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质量分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"/>
                            </p:stCondLst>
                            <p:childTnLst>
                              <p:par>
                                <p:cTn id="113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"/>
                            </p:stCondLst>
                            <p:childTnLst>
                              <p:par>
                                <p:cTn id="128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3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75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讨论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某氯化钠溶液中溶质的质量分数为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其含义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989520" y="1483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6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52360" y="299736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黑体"/>
                <a:ea typeface="黑体"/>
              </a:rPr>
              <a:t>表示</a:t>
            </a:r>
            <a:r>
              <a:rPr b="1" lang="en-US" sz="4400" spc="-1" strike="noStrike">
                <a:solidFill>
                  <a:srgbClr val="ff00ff"/>
                </a:solidFill>
                <a:latin typeface="黑体"/>
                <a:ea typeface="黑体"/>
              </a:rPr>
              <a:t>100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份</a:t>
            </a:r>
            <a:r>
              <a:rPr b="1" lang="zh-CN" sz="4400" spc="-1" strike="noStrike">
                <a:solidFill>
                  <a:srgbClr val="3366ff"/>
                </a:solidFill>
                <a:latin typeface="黑体"/>
                <a:ea typeface="黑体"/>
              </a:rPr>
              <a:t>质量的氯化钠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溶液</a:t>
            </a:r>
            <a:r>
              <a:rPr b="1" lang="zh-CN" sz="4400" spc="-1" strike="noStrike">
                <a:solidFill>
                  <a:srgbClr val="3366ff"/>
                </a:solidFill>
                <a:latin typeface="黑体"/>
                <a:ea typeface="黑体"/>
              </a:rPr>
              <a:t>中含有</a:t>
            </a:r>
            <a:r>
              <a:rPr b="1" lang="en-US" sz="4400" spc="-1" strike="noStrike">
                <a:solidFill>
                  <a:srgbClr val="ff00ff"/>
                </a:solidFill>
                <a:latin typeface="黑体"/>
                <a:ea typeface="黑体"/>
              </a:rPr>
              <a:t>10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份</a:t>
            </a:r>
            <a:r>
              <a:rPr b="1" lang="zh-CN" sz="4400" spc="-1" strike="noStrike">
                <a:solidFill>
                  <a:srgbClr val="3366ff"/>
                </a:solidFill>
                <a:latin typeface="黑体"/>
                <a:ea typeface="黑体"/>
              </a:rPr>
              <a:t>质量的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氯化钠</a:t>
            </a:r>
            <a:r>
              <a:rPr b="1" lang="zh-CN" sz="4400" spc="-1" strike="noStrike">
                <a:solidFill>
                  <a:srgbClr val="3366ff"/>
                </a:solidFill>
                <a:latin typeface="黑体"/>
                <a:ea typeface="黑体"/>
              </a:rPr>
              <a:t>，</a:t>
            </a:r>
            <a:r>
              <a:rPr b="1" lang="en-US" sz="4400" spc="-1" strike="noStrike">
                <a:solidFill>
                  <a:srgbClr val="ff00ff"/>
                </a:solidFill>
                <a:latin typeface="黑体"/>
                <a:ea typeface="黑体"/>
              </a:rPr>
              <a:t>90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份</a:t>
            </a:r>
            <a:r>
              <a:rPr b="1" lang="zh-CN" sz="4400" spc="-1" strike="noStrike">
                <a:solidFill>
                  <a:srgbClr val="3366ff"/>
                </a:solidFill>
                <a:latin typeface="黑体"/>
                <a:ea typeface="黑体"/>
              </a:rPr>
              <a:t>质量的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水</a:t>
            </a:r>
            <a:r>
              <a:rPr b="1" lang="zh-CN" sz="4400" spc="-1" strike="noStrike">
                <a:solidFill>
                  <a:srgbClr val="3366ff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276920" y="5518080"/>
            <a:ext cx="397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溶质质量：溶剂质量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6231960" y="5518080"/>
            <a:ext cx="106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: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溶质的质量分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826920" y="692280"/>
            <a:ext cx="726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义：溶质的质量与溶液的质量之比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常以百分数表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826920" y="1557360"/>
            <a:ext cx="7238880" cy="918360"/>
            <a:chOff x="826920" y="1557360"/>
            <a:chExt cx="7238880" cy="918360"/>
          </a:xfrm>
        </p:grpSpPr>
        <p:sp>
          <p:nvSpPr>
            <p:cNvPr id="137" name="Text Box 5"/>
            <p:cNvSpPr/>
            <p:nvPr/>
          </p:nvSpPr>
          <p:spPr>
            <a:xfrm>
              <a:off x="3982320" y="1557360"/>
              <a:ext cx="204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溶质质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6"/>
            <p:cNvSpPr/>
            <p:nvPr/>
          </p:nvSpPr>
          <p:spPr>
            <a:xfrm>
              <a:off x="3982320" y="2016000"/>
              <a:ext cx="194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溶液质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3982320" y="2019240"/>
              <a:ext cx="1762920" cy="360"/>
              <a:chOff x="3982320" y="2019240"/>
              <a:chExt cx="1762920" cy="360"/>
            </a:xfrm>
          </p:grpSpPr>
          <p:sp>
            <p:nvSpPr>
              <p:cNvPr id="140" name="Line 7"/>
              <p:cNvSpPr/>
              <p:nvPr/>
            </p:nvSpPr>
            <p:spPr>
              <a:xfrm>
                <a:off x="3982320" y="2019240"/>
                <a:ext cx="1762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3982320" y="2019240"/>
                <a:ext cx="176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Text Box 8"/>
            <p:cNvSpPr/>
            <p:nvPr/>
          </p:nvSpPr>
          <p:spPr>
            <a:xfrm>
              <a:off x="5838480" y="1751040"/>
              <a:ext cx="222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×10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9"/>
            <p:cNvSpPr/>
            <p:nvPr/>
          </p:nvSpPr>
          <p:spPr>
            <a:xfrm>
              <a:off x="826920" y="1751040"/>
              <a:ext cx="32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溶质的质量分数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0"/>
          <p:cNvGrpSpPr/>
          <p:nvPr/>
        </p:nvGrpSpPr>
        <p:grpSpPr>
          <a:xfrm>
            <a:off x="3059280" y="2637000"/>
            <a:ext cx="4529160" cy="940680"/>
            <a:chOff x="3059280" y="2637000"/>
            <a:chExt cx="4529160" cy="940680"/>
          </a:xfrm>
        </p:grpSpPr>
        <p:sp>
          <p:nvSpPr>
            <p:cNvPr id="145" name="Text Box 11"/>
            <p:cNvSpPr/>
            <p:nvPr/>
          </p:nvSpPr>
          <p:spPr>
            <a:xfrm>
              <a:off x="3059280" y="28479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或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2"/>
            <p:cNvSpPr/>
            <p:nvPr/>
          </p:nvSpPr>
          <p:spPr>
            <a:xfrm>
              <a:off x="4348080" y="2637000"/>
              <a:ext cx="152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溶质质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3821040" y="3076560"/>
              <a:ext cx="2514240" cy="360"/>
              <a:chOff x="3821040" y="3076560"/>
              <a:chExt cx="2514240" cy="360"/>
            </a:xfrm>
          </p:grpSpPr>
          <p:sp>
            <p:nvSpPr>
              <p:cNvPr id="148" name="Line 13"/>
              <p:cNvSpPr/>
              <p:nvPr/>
            </p:nvSpPr>
            <p:spPr>
              <a:xfrm>
                <a:off x="3821040" y="3076560"/>
                <a:ext cx="25142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 txBox="1"/>
              <p:nvPr/>
            </p:nvSpPr>
            <p:spPr>
              <a:xfrm>
                <a:off x="3821040" y="3076560"/>
                <a:ext cx="2514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Text Box 14"/>
            <p:cNvSpPr/>
            <p:nvPr/>
          </p:nvSpPr>
          <p:spPr>
            <a:xfrm>
              <a:off x="3663720" y="3117960"/>
              <a:ext cx="32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溶质质量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溶剂质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5"/>
            <p:cNvSpPr/>
            <p:nvPr/>
          </p:nvSpPr>
          <p:spPr>
            <a:xfrm>
              <a:off x="6493320" y="2827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×10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16"/>
          <p:cNvSpPr/>
          <p:nvPr/>
        </p:nvSpPr>
        <p:spPr>
          <a:xfrm>
            <a:off x="108000" y="3716280"/>
            <a:ext cx="8785080" cy="28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质的质量：形成溶液的那部分溶质，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溶入溶液的不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液的质量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质的质量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剂的质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须分清溶质、溶剂与溶液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时上下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质量单位要统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忘记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100%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最后得到百分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的质量分数要在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超过其最大溶解量的范围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有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1T00:15:2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5:33Z</dcterms:modified>
  <cp:revision>2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