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823-CC01-4383-B646-9FD01DE0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FDE-5221-4CF0-93F8-24B22704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CED-2B99-4327-BA08-876F35CE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0F7-5827-486A-97D9-72229507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5861-8CF3-4D34-92E3-B35CD7C4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C13A-A114-452C-AC94-52611F7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CE59-ECBF-4925-B589-B0FAA89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D45-3543-4B9F-9C13-B6CF5F46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2D31-7DF4-4B5E-B675-BA69E2E7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8A6-5C25-4C8D-9DF9-24CC52F9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6E6E-A5FD-4560-B2BE-6CB2A92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E86-5711-483A-AC8B-25CBC225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3651-3338-40BB-A6BC-68D28DDA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C691-E307-40FB-9483-DB2305A7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08AE-3528-4FAD-843A-37568006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4AE9-B9E8-47F7-860C-8B25F5B3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6436-47E5-4FE6-872D-D0482FF4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A4DC-5937-4695-A1AF-B06196B6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E085-99B9-416A-929C-7EDB7A06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D33A-A846-45EB-917F-D93ACC58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5D05-2F55-4E80-8D9A-074B9C91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9B09-51F2-4588-AD13-D601C974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09C-C6E7-4466-8EBE-72E8C818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C9D6-5F59-4812-9136-F758A0DD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9715-B560-47AD-A56E-8451CF9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1150-3245-4B4D-AE13-CC33276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C163-3F89-4155-B9DC-A0B6BC1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C662-2437-4E0C-91BF-E0D9E6FE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FA81-F46E-44B1-BCA1-8965F8BF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A429D-E649-4913-B7FB-27D78A5C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3E48-FDC7-418C-B03A-B4AF901C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83465-B73C-4766-962C-478BA0EA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C9A9D-3817-449C-8A5D-797EF7A8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D3F-F610-4AAA-8204-158223DE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4456-2B4A-4029-85BC-DA4947A5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886A-F00C-44A1-89C9-581FD3BF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5464-43E2-4438-9766-FF37A59A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0FE4-7DAB-4ABC-A14B-DAB5BA5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D834-3324-448A-B495-CCCE54E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BB45-59A3-41AB-8C56-856BAFA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9403-B7F8-4962-AAAA-44914E5D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F476-D805-4EBE-8F51-B5480F2F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E178-A9CC-42FF-BD82-B358B106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AD1-88B0-4165-92C6-B2992BA7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833-0165-46D1-916C-F4353E2D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56D-7574-4774-B01C-2CD7F9D6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491-F2F7-4150-8488-5C4D945F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E28-A594-4500-BB0B-F528B5A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85800" y="0"/>
            <a:ext cx="2514600" cy="762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914400" y="152280"/>
            <a:ext cx="5105520" cy="990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866920" y="655272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36520" y="6528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3AC6-28A6-4C14-948E-9C1226D1C67E}" type="slidenum"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">
            <a:hlinkClick r:id="" action="ppaction://hlinkshowjump?jump=firstslide"/>
          </p:cNvPr>
          <p:cNvSpPr/>
          <p:nvPr/>
        </p:nvSpPr>
        <p:spPr>
          <a:xfrm rot="5400000">
            <a:off x="331560" y="72720"/>
            <a:ext cx="274680" cy="274680"/>
          </a:xfrm>
          <a:custGeom>
            <a:avLst/>
            <a:gdLst>
              <a:gd name="textAreaLeft" fmla="*/ 17640 w 274680"/>
              <a:gd name="textAreaRight" fmla="*/ 257040 w 274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AutoShape 11">
            <a:hlinkClick r:id="" action="ppaction://hlinkshowjump?jump=previousslide"/>
          </p:cNvPr>
          <p:cNvSpPr/>
          <p:nvPr/>
        </p:nvSpPr>
        <p:spPr>
          <a:xfrm>
            <a:off x="60480" y="351000"/>
            <a:ext cx="274320" cy="274320"/>
          </a:xfrm>
          <a:custGeom>
            <a:avLst/>
            <a:gdLst>
              <a:gd name="textAreaLeft" fmla="*/ 17640 w 274320"/>
              <a:gd name="textAreaRight" fmla="*/ 256680 w 2743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AutoShape 12">
            <a:hlinkClick r:id="" action="ppaction://hlinkshowjump?jump=nextslide"/>
          </p:cNvPr>
          <p:cNvSpPr/>
          <p:nvPr/>
        </p:nvSpPr>
        <p:spPr>
          <a:xfrm>
            <a:off x="609480" y="351000"/>
            <a:ext cx="274680" cy="274320"/>
          </a:xfrm>
          <a:custGeom>
            <a:avLst/>
            <a:gdLst>
              <a:gd name="textAreaLeft" fmla="*/ 17640 w 274680"/>
              <a:gd name="textAreaRight" fmla="*/ 257040 w 27468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21628" h="21600">
                <a:moveTo>
                  <a:pt x="0" y="0"/>
                </a:moveTo>
                <a:lnTo>
                  <a:pt x="21628" y="0"/>
                </a:lnTo>
                <a:lnTo>
                  <a:pt x="21628" y="21600"/>
                </a:lnTo>
                <a:lnTo>
                  <a:pt x="0" y="21600"/>
                </a:lnTo>
                <a:close/>
              </a:path>
              <a:path fill="lightenLess" w="21628" h="21600">
                <a:moveTo>
                  <a:pt x="0" y="0"/>
                </a:moveTo>
                <a:lnTo>
                  <a:pt x="21628" y="0"/>
                </a:lnTo>
                <a:lnTo>
                  <a:pt x="20228" y="1400"/>
                </a:lnTo>
                <a:lnTo>
                  <a:pt x="1400" y="1400"/>
                </a:lnTo>
                <a:close/>
              </a:path>
              <a:path fill="darken" w="21628" h="21600">
                <a:moveTo>
                  <a:pt x="21628" y="0"/>
                </a:moveTo>
                <a:lnTo>
                  <a:pt x="21628" y="21600"/>
                </a:lnTo>
                <a:lnTo>
                  <a:pt x="20228" y="20200"/>
                </a:lnTo>
                <a:lnTo>
                  <a:pt x="20228" y="1400"/>
                </a:lnTo>
                <a:close/>
              </a:path>
              <a:path fill="darkenLess" w="21628" h="21600">
                <a:moveTo>
                  <a:pt x="21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8" y="20200"/>
                </a:lnTo>
                <a:close/>
              </a:path>
              <a:path fill="lighten" w="21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8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AutoShape 13">
            <a:hlinkClick r:id="" action="ppaction://hlinkshowjump?jump=lastslide"/>
          </p:cNvPr>
          <p:cNvSpPr/>
          <p:nvPr/>
        </p:nvSpPr>
        <p:spPr>
          <a:xfrm rot="5400000">
            <a:off x="331560" y="622080"/>
            <a:ext cx="274320" cy="274680"/>
          </a:xfrm>
          <a:custGeom>
            <a:avLst/>
            <a:gdLst>
              <a:gd name="textAreaLeft" fmla="*/ 17640 w 274320"/>
              <a:gd name="textAreaRight" fmla="*/ 256680 w 2743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28">
                <a:moveTo>
                  <a:pt x="0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0" y="21628"/>
                </a:lnTo>
                <a:close/>
              </a:path>
              <a:path fill="lightenLess" w="21600" h="216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8">
                <a:moveTo>
                  <a:pt x="21600" y="0"/>
                </a:moveTo>
                <a:lnTo>
                  <a:pt x="21600" y="21628"/>
                </a:lnTo>
                <a:lnTo>
                  <a:pt x="20200" y="20228"/>
                </a:lnTo>
                <a:lnTo>
                  <a:pt x="20200" y="1400"/>
                </a:lnTo>
                <a:close/>
              </a:path>
              <a:path fill="darkenLess" w="21600" h="21628">
                <a:moveTo>
                  <a:pt x="21600" y="21628"/>
                </a:moveTo>
                <a:lnTo>
                  <a:pt x="0" y="21628"/>
                </a:lnTo>
                <a:lnTo>
                  <a:pt x="1400" y="20228"/>
                </a:lnTo>
                <a:lnTo>
                  <a:pt x="20200" y="20228"/>
                </a:lnTo>
                <a:close/>
              </a:path>
              <a:path fill="lighten" w="21600" h="21628">
                <a:moveTo>
                  <a:pt x="0" y="216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8"/>
                </a:lnTo>
                <a:close/>
              </a:path>
              <a:path fill="darken" w="21600" h="21628">
                <a:moveTo>
                  <a:pt x="14299" y="10814"/>
                </a:moveTo>
                <a:lnTo>
                  <a:pt x="3794" y="17821"/>
                </a:lnTo>
                <a:lnTo>
                  <a:pt x="3794" y="3808"/>
                </a:lnTo>
                <a:close/>
              </a:path>
              <a:path fill="darken" w="21600" h="21628">
                <a:moveTo>
                  <a:pt x="16144" y="3808"/>
                </a:moveTo>
                <a:lnTo>
                  <a:pt x="16144" y="17821"/>
                </a:lnTo>
                <a:lnTo>
                  <a:pt x="17806" y="17821"/>
                </a:lnTo>
                <a:lnTo>
                  <a:pt x="17806" y="3808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533520" y="900000"/>
            <a:ext cx="7467480" cy="319320"/>
            <a:chOff x="533520" y="900000"/>
            <a:chExt cx="7467480" cy="319320"/>
          </a:xfrm>
        </p:grpSpPr>
        <p:sp>
          <p:nvSpPr>
            <p:cNvPr id="13" name="Rectangle 15"/>
            <p:cNvSpPr/>
            <p:nvPr/>
          </p:nvSpPr>
          <p:spPr>
            <a:xfrm>
              <a:off x="762120" y="900000"/>
              <a:ext cx="7238880" cy="3193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533520" y="900000"/>
              <a:ext cx="387360" cy="3193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B82F-B22F-49AB-9C11-3A2A4C0C5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80B1-D82A-49F9-B474-709F2F4EEF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12">
            <a:hlinkClick r:id="" action="ppaction://hlinkshowjump?jump=previousslide"/>
          </p:cNvPr>
          <p:cNvSpPr/>
          <p:nvPr/>
        </p:nvSpPr>
        <p:spPr>
          <a:xfrm flipH="1" rot="5400000">
            <a:off x="13932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2666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195520" y="6552720"/>
            <a:ext cx="3279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9360" y="6359040"/>
            <a:ext cx="587520" cy="48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8D6D-9AD5-4B5D-908A-C6918AFFD1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tt8.cn/cp.asp?page=102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4" descr="图片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0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第九单元  溶液</a:t>
            </a:r>
            <a:endParaRPr b="0" lang="en-US" sz="5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1916280"/>
            <a:ext cx="691344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宋体"/>
                <a:ea typeface="宋体"/>
              </a:rPr>
              <a:t>课题</a:t>
            </a:r>
            <a:r>
              <a:rPr b="1" lang="en-US" sz="4000" spc="-1" strike="noStrike">
                <a:solidFill>
                  <a:srgbClr val="0066ff"/>
                </a:solidFill>
                <a:latin typeface="宋体"/>
                <a:ea typeface="宋体"/>
              </a:rPr>
              <a:t>1</a:t>
            </a:r>
            <a:r>
              <a:rPr b="1" lang="en-US" sz="4000" spc="-1" strike="noStrike">
                <a:solidFill>
                  <a:srgbClr val="cc3300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宋体"/>
              </a:rPr>
              <a:t>溶液的形成课件</a:t>
            </a:r>
            <a:r>
              <a:rPr b="1" lang="en-US" sz="4000" spc="-1" strike="noStrike">
                <a:solidFill>
                  <a:srgbClr val="cc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9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ahoma"/>
              </a:rPr>
              <a:t>氯化钠溶于水</a:t>
            </a:r>
            <a:r>
              <a:rPr b="0" lang="en-US" sz="3600" spc="-1" strike="noStrike">
                <a:solidFill>
                  <a:srgbClr val="9900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224080" y="1666800"/>
            <a:ext cx="5381640" cy="42861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9"/>
          <p:cNvSpPr/>
          <p:nvPr/>
        </p:nvSpPr>
        <p:spPr>
          <a:xfrm>
            <a:off x="2484360" y="6165720"/>
            <a:ext cx="11509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解前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4356000" y="6165720"/>
            <a:ext cx="11509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解中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300720" y="6165720"/>
            <a:ext cx="11509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解后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476360" y="4221000"/>
            <a:ext cx="72072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1547640" y="5229360"/>
            <a:ext cx="72072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溶质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900000" y="1413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溶液是：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900000" y="2421000"/>
            <a:ext cx="864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种或几种物质分散到另一种物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质里，形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924360" y="328464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均一的、稳定的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042920" y="443700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混合物。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9900cc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3.61111E-006 -4.79769E-006 L -3.61111E-006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99640" y="1341360"/>
            <a:ext cx="771372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特征：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均一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稳定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均一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指溶液中任意一部分的组成和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稳定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指外界条件不变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温度、溶剂量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042920" y="386064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组成：由溶质和溶剂两部分组成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质：被溶解的物质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剂：能溶解其他物质的物质。水是最常见的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剂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410280" y="5373720"/>
            <a:ext cx="35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溶液质量＝溶质质量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溶剂质量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203640" y="234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1166760" y="36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 flipV="1" rot="10800000">
            <a:off x="1258560" y="18828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溶液的特征及组成：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5057640" y="-14760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771640" y="220500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质完全相同。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2916360" y="2997360"/>
            <a:ext cx="50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、压强等），溶质也不会从溶剂中分离出来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ahoma"/>
              </a:rPr>
              <a:t>溶液的用途</a:t>
            </a:r>
            <a:br>
              <a:rPr sz="3200"/>
            </a:br>
            <a:endParaRPr b="0" lang="en-US" sz="32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" name="Group 19"/>
          <p:cNvGrpSpPr/>
          <p:nvPr/>
        </p:nvGrpSpPr>
        <p:grpSpPr>
          <a:xfrm>
            <a:off x="900000" y="1413000"/>
            <a:ext cx="4463640" cy="4672080"/>
            <a:chOff x="900000" y="1413000"/>
            <a:chExt cx="4463640" cy="4672080"/>
          </a:xfrm>
        </p:grpSpPr>
        <p:sp>
          <p:nvSpPr>
            <p:cNvPr id="261" name="AutoShape 20"/>
            <p:cNvSpPr/>
            <p:nvPr/>
          </p:nvSpPr>
          <p:spPr>
            <a:xfrm rot="5400000">
              <a:off x="2548800" y="4756680"/>
              <a:ext cx="567720" cy="188640"/>
            </a:xfrm>
            <a:prstGeom prst="rightArrow">
              <a:avLst>
                <a:gd name="adj1" fmla="val 50000"/>
                <a:gd name="adj2" fmla="val 75211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Text Box 21"/>
            <p:cNvSpPr/>
            <p:nvPr/>
          </p:nvSpPr>
          <p:spPr>
            <a:xfrm>
              <a:off x="1616760" y="5137920"/>
              <a:ext cx="2498400" cy="947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6600"/>
                  </a:solidFill>
                  <a:latin typeface="Arial"/>
                </a:rPr>
                <a:t>无土栽培的植物         在营养液中</a:t>
              </a: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63" name="Picture 22" descr="slide0088_image119"/>
            <p:cNvPicPr/>
            <p:nvPr/>
          </p:nvPicPr>
          <p:blipFill>
            <a:blip r:embed="rId1"/>
            <a:stretch/>
          </p:blipFill>
          <p:spPr>
            <a:xfrm>
              <a:off x="900000" y="1413000"/>
              <a:ext cx="2294280" cy="33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3" descr="200596_110307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177720" y="1413000"/>
              <a:ext cx="2185920" cy="33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24"/>
          <p:cNvGrpSpPr/>
          <p:nvPr/>
        </p:nvGrpSpPr>
        <p:grpSpPr>
          <a:xfrm>
            <a:off x="5435640" y="1413000"/>
            <a:ext cx="3457080" cy="5040000"/>
            <a:chOff x="5435640" y="1413000"/>
            <a:chExt cx="3457080" cy="5040000"/>
          </a:xfrm>
        </p:grpSpPr>
        <p:grpSp>
          <p:nvGrpSpPr>
            <p:cNvPr id="266" name="Group 25"/>
            <p:cNvGrpSpPr/>
            <p:nvPr/>
          </p:nvGrpSpPr>
          <p:grpSpPr>
            <a:xfrm>
              <a:off x="5435640" y="2313000"/>
              <a:ext cx="3457080" cy="4140000"/>
              <a:chOff x="5435640" y="2313000"/>
              <a:chExt cx="3457080" cy="4140000"/>
            </a:xfrm>
          </p:grpSpPr>
          <p:pic>
            <p:nvPicPr>
              <p:cNvPr id="267" name="Picture 26" descr="c39"/>
              <p:cNvPicPr/>
              <p:nvPr/>
            </p:nvPicPr>
            <p:blipFill>
              <a:blip r:embed="rId4"/>
              <a:stretch/>
            </p:blipFill>
            <p:spPr>
              <a:xfrm>
                <a:off x="5435640" y="3860280"/>
                <a:ext cx="3457080" cy="259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27" descr="1285200591685856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2313000"/>
                <a:ext cx="3457080" cy="1589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9" name="Group 28"/>
            <p:cNvGrpSpPr/>
            <p:nvPr/>
          </p:nvGrpSpPr>
          <p:grpSpPr>
            <a:xfrm>
              <a:off x="5702400" y="1413000"/>
              <a:ext cx="2724120" cy="899640"/>
              <a:chOff x="5702400" y="1413000"/>
              <a:chExt cx="2724120" cy="899640"/>
            </a:xfrm>
          </p:grpSpPr>
          <p:sp>
            <p:nvSpPr>
              <p:cNvPr id="270" name="Text Box 29"/>
              <p:cNvSpPr/>
              <p:nvPr/>
            </p:nvSpPr>
            <p:spPr>
              <a:xfrm>
                <a:off x="5702400" y="1413000"/>
                <a:ext cx="2724120" cy="459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Arial"/>
                  </a:rPr>
                  <a:t>医药用品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1" name="AutoShape 30"/>
              <p:cNvSpPr/>
              <p:nvPr/>
            </p:nvSpPr>
            <p:spPr>
              <a:xfrm>
                <a:off x="6832080" y="1805760"/>
                <a:ext cx="264960" cy="506880"/>
              </a:xfrm>
              <a:prstGeom prst="upArrow">
                <a:avLst>
                  <a:gd name="adj1" fmla="val 50000"/>
                  <a:gd name="adj2" fmla="val 47808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活动与探究二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：碘能溶于水吗？高锰酸钾能溶于汽油吗？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73" name="Picture 4" descr="pic_21301"/>
          <p:cNvPicPr/>
          <p:nvPr/>
        </p:nvPicPr>
        <p:blipFill>
          <a:blip r:embed="rId1"/>
          <a:stretch/>
        </p:blipFill>
        <p:spPr>
          <a:xfrm>
            <a:off x="1692360" y="1557360"/>
            <a:ext cx="6119640" cy="48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实验现象纪录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332000" y="1454040"/>
          <a:ext cx="6912000" cy="4368960"/>
        </p:xfrm>
        <a:graphic>
          <a:graphicData uri="http://schemas.openxmlformats.org/drawingml/2006/table">
            <a:tbl>
              <a:tblPr/>
              <a:tblGrid>
                <a:gridCol w="1152360"/>
                <a:gridCol w="2232360"/>
                <a:gridCol w="3527280"/>
              </a:tblGrid>
              <a:tr h="89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剂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质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现象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碘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几乎不溶于水</a:t>
                      </a:r>
                      <a:r>
                        <a:rPr b="0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汽油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碘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溶解，溶液棕色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锰酸钾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溶解，溶液紫色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汽油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锰酸钾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不溶于汽油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ahoma"/>
              </a:rPr>
              <a:t>溶质与溶剂的辨证关系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6000" y="234900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同溶质在不同种溶剂里的溶解能力不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116000" y="357336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溶质在同种溶剂里的溶解能力不同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溶液中溶质和溶剂是如何确定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258920" y="1700280"/>
          <a:ext cx="6935760" cy="4311720"/>
        </p:xfrm>
        <a:graphic>
          <a:graphicData uri="http://schemas.openxmlformats.org/drawingml/2006/table">
            <a:tbl>
              <a:tblPr/>
              <a:tblGrid>
                <a:gridCol w="1463760"/>
                <a:gridCol w="1824120"/>
                <a:gridCol w="1823760"/>
                <a:gridCol w="1824120"/>
              </a:tblGrid>
              <a:tr h="8650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体系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溶质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溶剂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气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气体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液体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固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固体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液体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液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无水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量少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量多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有水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非水物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00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32d8"/>
                </a:solidFill>
                <a:latin typeface="Tahoma"/>
              </a:rPr>
              <a:t>探究实验三：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水和乙醇能够互溶吗？</a:t>
            </a:r>
            <a:endParaRPr b="0" lang="en-US" sz="32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84" name="Picture 4" descr="pic_21296"/>
          <p:cNvPicPr/>
          <p:nvPr/>
        </p:nvPicPr>
        <p:blipFill>
          <a:blip r:embed="rId1"/>
          <a:stretch/>
        </p:blipFill>
        <p:spPr>
          <a:xfrm>
            <a:off x="1979640" y="1341360"/>
            <a:ext cx="4753080" cy="28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1042920" y="4365720"/>
          <a:ext cx="7920000" cy="1884240"/>
        </p:xfrm>
        <a:graphic>
          <a:graphicData uri="http://schemas.openxmlformats.org/drawingml/2006/table">
            <a:tbl>
              <a:tblPr/>
              <a:tblGrid>
                <a:gridCol w="895320"/>
                <a:gridCol w="1008000"/>
                <a:gridCol w="1295640"/>
                <a:gridCol w="1625400"/>
                <a:gridCol w="1225440"/>
                <a:gridCol w="1870200"/>
              </a:tblGrid>
              <a:tr h="93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溶质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振荡前现象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震荡后现象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静置后现象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结论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酒精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均匀混合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不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9966"/>
                          </a:solidFill>
                          <a:latin typeface="Tahoma"/>
                        </a:rPr>
                        <a:t>乙醇和水互溶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活动与探究四：洗涤剂在清洗油污时起的作用是什么？</a:t>
            </a:r>
            <a:endParaRPr b="0" lang="en-US" sz="2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971640" y="1268280"/>
            <a:ext cx="7273800" cy="2016360"/>
            <a:chOff x="971640" y="1268280"/>
            <a:chExt cx="7273800" cy="2016360"/>
          </a:xfrm>
        </p:grpSpPr>
        <p:pic>
          <p:nvPicPr>
            <p:cNvPr id="289" name="Picture 5" descr=""/>
            <p:cNvPicPr/>
            <p:nvPr/>
          </p:nvPicPr>
          <p:blipFill>
            <a:blip r:embed="rId1"/>
            <a:stretch/>
          </p:blipFill>
          <p:spPr>
            <a:xfrm>
              <a:off x="971640" y="1328040"/>
              <a:ext cx="1552320" cy="195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" descr=""/>
            <p:cNvPicPr/>
            <p:nvPr/>
          </p:nvPicPr>
          <p:blipFill>
            <a:blip r:embed="rId2"/>
            <a:stretch/>
          </p:blipFill>
          <p:spPr>
            <a:xfrm>
              <a:off x="3852720" y="1268280"/>
              <a:ext cx="162576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" descr=""/>
            <p:cNvPicPr/>
            <p:nvPr/>
          </p:nvPicPr>
          <p:blipFill>
            <a:blip r:embed="rId3"/>
            <a:stretch/>
          </p:blipFill>
          <p:spPr>
            <a:xfrm>
              <a:off x="6732720" y="1328040"/>
              <a:ext cx="1512720" cy="19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AutoShape 8"/>
            <p:cNvSpPr/>
            <p:nvPr/>
          </p:nvSpPr>
          <p:spPr>
            <a:xfrm>
              <a:off x="2628720" y="2039400"/>
              <a:ext cx="1295640" cy="236880"/>
            </a:xfrm>
            <a:prstGeom prst="rightArrow">
              <a:avLst>
                <a:gd name="adj1" fmla="val 50000"/>
                <a:gd name="adj2" fmla="val 136689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>
              <a:off x="5653080" y="2039400"/>
              <a:ext cx="1150920" cy="236880"/>
            </a:xfrm>
            <a:prstGeom prst="rightArrow">
              <a:avLst>
                <a:gd name="adj1" fmla="val 50000"/>
                <a:gd name="adj2" fmla="val 12142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4" name="Group 10"/>
          <p:cNvGrpSpPr/>
          <p:nvPr/>
        </p:nvGrpSpPr>
        <p:grpSpPr>
          <a:xfrm>
            <a:off x="1258920" y="4076640"/>
            <a:ext cx="6984720" cy="2162160"/>
            <a:chOff x="1258920" y="4076640"/>
            <a:chExt cx="6984720" cy="2162160"/>
          </a:xfrm>
        </p:grpSpPr>
        <p:pic>
          <p:nvPicPr>
            <p:cNvPr id="295" name="Picture 11" descr=""/>
            <p:cNvPicPr/>
            <p:nvPr/>
          </p:nvPicPr>
          <p:blipFill>
            <a:blip r:embed="rId4"/>
            <a:stretch/>
          </p:blipFill>
          <p:spPr>
            <a:xfrm>
              <a:off x="1258920" y="4143240"/>
              <a:ext cx="1263600" cy="20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2" descr=""/>
            <p:cNvPicPr/>
            <p:nvPr/>
          </p:nvPicPr>
          <p:blipFill>
            <a:blip r:embed="rId5"/>
            <a:stretch/>
          </p:blipFill>
          <p:spPr>
            <a:xfrm>
              <a:off x="4110840" y="4076640"/>
              <a:ext cx="125712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3" descr=""/>
            <p:cNvPicPr/>
            <p:nvPr/>
          </p:nvPicPr>
          <p:blipFill>
            <a:blip r:embed="rId6"/>
            <a:stretch/>
          </p:blipFill>
          <p:spPr>
            <a:xfrm>
              <a:off x="6961320" y="4076640"/>
              <a:ext cx="128232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AutoShape 14"/>
            <p:cNvSpPr/>
            <p:nvPr/>
          </p:nvSpPr>
          <p:spPr>
            <a:xfrm>
              <a:off x="2613600" y="4886640"/>
              <a:ext cx="1354320" cy="201960"/>
            </a:xfrm>
            <a:prstGeom prst="rightArrow">
              <a:avLst>
                <a:gd name="adj1" fmla="val 50000"/>
                <a:gd name="adj2" fmla="val 167585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AutoShape 15"/>
            <p:cNvSpPr/>
            <p:nvPr/>
          </p:nvSpPr>
          <p:spPr>
            <a:xfrm>
              <a:off x="5607000" y="4819320"/>
              <a:ext cx="1354320" cy="269280"/>
            </a:xfrm>
            <a:prstGeom prst="rightArrow">
              <a:avLst>
                <a:gd name="adj1" fmla="val 50000"/>
                <a:gd name="adj2" fmla="val 125689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0" name="Rectangle 16"/>
          <p:cNvSpPr/>
          <p:nvPr/>
        </p:nvSpPr>
        <p:spPr>
          <a:xfrm>
            <a:off x="2916360" y="6165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水和油 </a:t>
            </a:r>
            <a:r>
              <a:rPr b="1" lang="en-US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( </a:t>
            </a: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加了洗涤剂</a:t>
            </a:r>
            <a:r>
              <a:rPr b="1" lang="en-US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)- </a:t>
            </a: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乳化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3203640" y="3357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隶书"/>
              </a:rPr>
              <a:t>水和油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隶书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隶书"/>
              </a:rPr>
              <a:t>没有加洗涤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隶书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一、教材的地位和作用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1479600"/>
            <a:ext cx="799164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溶液是物质共存的一种状态，是中学化学遇到的一类分散体系。在下一单元里将要学习常见的酸和碱，有关它们之间的化学反应几乎都是在溶液里进行的，要学好这些内容，就很有必要要求学生系统地掌握溶液的有关知识，因此本单元的教学也正好为下一单元的学习提供知识准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题是有关溶液的初步知识。第一部分主要是使     学生在宏观上认识溶液的特征，从微观上认识溶液是溶  质以分子或离子形式，分散到溶剂中形成的均一体系。  在此基础上使学生建立一个有关溶液的较为科学的概念，进而认识溶质、溶剂及辨证关系。最后通过实验简单介绍了乳化现象 ，以激起学生学习化学的兴趣。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ahoma"/>
              </a:rPr>
              <a:t>实验现象记录：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900000" y="1268280"/>
          <a:ext cx="7848720" cy="2982960"/>
        </p:xfrm>
        <a:graphic>
          <a:graphicData uri="http://schemas.openxmlformats.org/drawingml/2006/table">
            <a:tbl>
              <a:tblPr/>
              <a:tblGrid>
                <a:gridCol w="1727280"/>
                <a:gridCol w="1512720"/>
                <a:gridCol w="1511280"/>
                <a:gridCol w="1513080"/>
                <a:gridCol w="1584360"/>
              </a:tblGrid>
              <a:tr h="5792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试管内加入的物质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现象</a:t>
                      </a: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把液体到掉后试管是否干净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振荡前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振荡后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静置后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和植物油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浑浊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不干净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和植物油和洗涤剂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浑浊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不分层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432d8"/>
                          </a:solidFill>
                          <a:latin typeface="Tahoma"/>
                        </a:rPr>
                        <a:t>干净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11"/>
          <p:cNvSpPr/>
          <p:nvPr/>
        </p:nvSpPr>
        <p:spPr>
          <a:xfrm>
            <a:off x="1042920" y="5157720"/>
            <a:ext cx="73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思考：植物油在水中形成的混合物的特点是什么？为什么加了洗涤剂的乳浊液可以稳定存在？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112"/>
          <p:cNvSpPr/>
          <p:nvPr/>
        </p:nvSpPr>
        <p:spPr>
          <a:xfrm>
            <a:off x="1042920" y="4581360"/>
            <a:ext cx="119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Text Box 114"/>
          <p:cNvSpPr/>
          <p:nvPr/>
        </p:nvSpPr>
        <p:spPr>
          <a:xfrm>
            <a:off x="971640" y="4508640"/>
            <a:ext cx="70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乳浊液：小液滴分散到液体里形成的混合物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ahoma"/>
              </a:rPr>
              <a:t>去污原理分析：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08" name="Picture 10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372120" cy="3313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2"/>
          <p:cNvSpPr/>
          <p:nvPr/>
        </p:nvSpPr>
        <p:spPr>
          <a:xfrm>
            <a:off x="826920" y="1268280"/>
            <a:ext cx="392436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洗涤剂去油污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洗涤剂是乳化剂，能使油分散成无数细小的液滴而不聚成大的油珠。这些小液滴能随水流走。达到洗净衣物的目的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250920" y="5013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汽油洗衣服的油污与洗涤剂洗油污在原理上有什么区别？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468360" y="5734080"/>
            <a:ext cx="75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汽油洗衣服的油污是油污溶解在汽油里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洗涤剂洗油污是洗涤剂有乳化作用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实验探究五：物质溶解时的吸热和放热现象</a:t>
            </a:r>
            <a:endParaRPr b="0" lang="en-US" sz="28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物质在溶解时常会使溶液的温度发生变化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：氢氧化钠溶于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4" name="氢氧化钠溶解放热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Tahoma"/>
              </a:rPr>
              <a:t>物质溶于水后的温度变化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0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有的温度升高（放热反应），有的温度降低（吸热反应）。这取决于物质的性质。如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391360" cy="376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实验现象纪录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475920"/>
            <a:ext cx="201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1197000"/>
          <a:ext cx="9144000" cy="4097160"/>
        </p:xfrm>
        <a:graphic>
          <a:graphicData uri="http://schemas.openxmlformats.org/drawingml/2006/table">
            <a:tbl>
              <a:tblPr/>
              <a:tblGrid>
                <a:gridCol w="1809720"/>
                <a:gridCol w="3222720"/>
                <a:gridCol w="228600"/>
                <a:gridCol w="1827000"/>
                <a:gridCol w="2055960"/>
              </a:tblGrid>
              <a:tr h="82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水中加入的溶质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C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OH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加入溶质前水的温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加入溶质后水的温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℃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温度基本不变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温度降低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温度升高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结论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有的物质溶解时可能吸热，有的物质溶解时可能放热。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46"/>
          <p:cNvSpPr/>
          <p:nvPr/>
        </p:nvSpPr>
        <p:spPr>
          <a:xfrm>
            <a:off x="24876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解现象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64"/>
          <p:cNvSpPr/>
          <p:nvPr/>
        </p:nvSpPr>
        <p:spPr>
          <a:xfrm>
            <a:off x="684360" y="5373720"/>
            <a:ext cx="23749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吸热：分子扩散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65"/>
          <p:cNvSpPr/>
          <p:nvPr/>
        </p:nvSpPr>
        <p:spPr>
          <a:xfrm>
            <a:off x="5003640" y="5373720"/>
            <a:ext cx="34560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放热：分子和水作用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6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吸热现象：吸热大于放热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Text Box 67"/>
          <p:cNvSpPr/>
          <p:nvPr/>
        </p:nvSpPr>
        <p:spPr>
          <a:xfrm>
            <a:off x="4859280" y="6165720"/>
            <a:ext cx="36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放热现象：吸热小于放热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ahoma"/>
              </a:rPr>
              <a:t>小结：</a:t>
            </a:r>
            <a:endParaRPr b="0" lang="en-US" sz="48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1332000" y="2492280"/>
            <a:ext cx="59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道乳浊液、乳化现象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 flipV="1" rot="10800000">
            <a:off x="1257480" y="186408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道溶液、溶质、溶剂的概念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58920" y="3645000"/>
            <a:ext cx="68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质在溶解的过程中有的吸收热量，有的放出热量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879480" y="14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826920" y="206064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、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955440" y="3789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ahoma"/>
              </a:rPr>
              <a:t>反馈矫正：</a:t>
            </a:r>
            <a:endParaRPr b="0" lang="en-US" sz="38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4560" y="836640"/>
            <a:ext cx="8569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液的特征是什么？能举例说明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液一定是无色透明的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均一、稳定的液体一定是溶液吗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举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碘酒里的溶质和溶剂各是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蔗糖溶液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aCl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液混合后还是溶液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质是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-92160" y="-80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ahoma"/>
              </a:rPr>
              <a:t>课外研究：</a:t>
            </a:r>
            <a:endParaRPr b="0" lang="en-US" sz="48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2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4"/>
          <p:cNvSpPr/>
          <p:nvPr/>
        </p:nvSpPr>
        <p:spPr>
          <a:xfrm flipV="1" rot="10800000">
            <a:off x="1042920" y="134028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879480" y="14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042920" y="1341360"/>
            <a:ext cx="7437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家庭小实验  ， 清洗餐具 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将家中的日用品溶于水。探究溶解时的吸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、放热现象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Oval 2"/>
          <p:cNvSpPr/>
          <p:nvPr/>
        </p:nvSpPr>
        <p:spPr>
          <a:xfrm>
            <a:off x="2556000" y="1197000"/>
            <a:ext cx="15238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3708360" y="2276640"/>
            <a:ext cx="16002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5076720" y="1125360"/>
            <a:ext cx="14479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250920" y="1125360"/>
            <a:ext cx="8143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219320" y="1447920"/>
            <a:ext cx="1295280" cy="152280"/>
          </a:xfrm>
          <a:prstGeom prst="leftArrow">
            <a:avLst>
              <a:gd name="adj1" fmla="val 50000"/>
              <a:gd name="adj2" fmla="val 212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267080" y="14479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>
            <a:off x="7885080" y="1197000"/>
            <a:ext cx="91440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AutoShape 10"/>
          <p:cNvSpPr/>
          <p:nvPr/>
        </p:nvSpPr>
        <p:spPr>
          <a:xfrm>
            <a:off x="6629400" y="14479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067280" y="3573360"/>
            <a:ext cx="1143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4500720" y="299736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溶质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1549440" y="1054080"/>
            <a:ext cx="75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被 溶 解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的 物  质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2700360" y="13413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一种或几种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物质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4140360" y="1052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分 散 到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5450040" y="134136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另一种 物 质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8135640" y="134136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溶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4031280" y="241308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均一、稳 定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的  混 合 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4211640" y="378936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溶液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2591640" y="46530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乳浊液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913720" y="46054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乳化现象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4187520" y="44370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乳化剂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AutoShape 24"/>
          <p:cNvSpPr/>
          <p:nvPr/>
        </p:nvSpPr>
        <p:spPr>
          <a:xfrm>
            <a:off x="3780000" y="4869000"/>
            <a:ext cx="1904760" cy="152280"/>
          </a:xfrm>
          <a:prstGeom prst="rightArrow">
            <a:avLst>
              <a:gd name="adj1" fmla="val 50000"/>
              <a:gd name="adj2" fmla="val 3127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6663240" y="990720"/>
            <a:ext cx="1076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能溶解其他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物质的物质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324000" y="2602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一、溶液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33"/>
          <p:cNvSpPr/>
          <p:nvPr/>
        </p:nvSpPr>
        <p:spPr>
          <a:xfrm>
            <a:off x="395280" y="522936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二：溶解时的吸热和放热现象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35"/>
          <p:cNvSpPr/>
          <p:nvPr/>
        </p:nvSpPr>
        <p:spPr>
          <a:xfrm>
            <a:off x="1023840" y="5753160"/>
            <a:ext cx="75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物质在溶解过程中有的吸收热量，有的放出热量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AutoShape 37"/>
          <p:cNvSpPr/>
          <p:nvPr/>
        </p:nvSpPr>
        <p:spPr>
          <a:xfrm rot="3159000">
            <a:off x="3114360" y="21495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AutoShape 38"/>
          <p:cNvSpPr/>
          <p:nvPr/>
        </p:nvSpPr>
        <p:spPr>
          <a:xfrm rot="7582800">
            <a:off x="5130360" y="222048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914400" y="182880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、溶液是无色的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、无色透明的液体就是溶液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、把食盐溶液倒掉一半后，变稀了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、在温度不变，水不蒸发的条件下，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蔗糖溶 液中蔗糖会从水中分离出来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836640" y="837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练习一：判断说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1280" y="1628280"/>
            <a:ext cx="82296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二部分介绍溶解时的吸热和放热现象。通过学生思考，自己设计实验方案并绘制简图，实验探究物质在溶解过程中的吸热或放热现象。                                                          本课题内容容易引起学生的学习兴趣，但使学生从微观角度理解溶液的形成有一定的难度，故在教学过程中可用动画模拟讲解，并注意和生活经验相联系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549360"/>
            <a:ext cx="95407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找出下列溶液中溶质、溶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）氯化钙溶液                  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）碳酸钙与盐酸反应后的溶液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95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酒精和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5mL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水 形成的溶液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可以作为溶质的（       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只有固体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只有液体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只有气体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气、液、固体都可以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把少量物质加入水中充分搅拌可以得到溶液有（          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泥沙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酒精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汽油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蔗糖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练习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940360" y="184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氯化钙     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6012000" y="2492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氯化钙     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6156360" y="321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酒精    水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3564000" y="378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8172360" y="56610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   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文本框 8199"/>
          <p:cNvSpPr/>
          <p:nvPr/>
        </p:nvSpPr>
        <p:spPr>
          <a:xfrm>
            <a:off x="1211400" y="898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368784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课堂练习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738080" y="692280"/>
            <a:ext cx="477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下列叙述正确的是                                  （      ）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均一、稳定的液体一定是溶液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溶液都有是无色透明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溶液的质量等于溶质的质量加上溶剂的质量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溶液的体积等于溶质的体积加上溶剂的体积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0" y="3141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出下列溶液中的溶质和溶剂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硫酸铜溶液 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盐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澄清石灰水         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碘酒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铁与稀硫酸恰好完全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应后的溶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7308720" y="765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d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5364000" y="386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643280" y="3573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硫酸铜           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716360" y="4076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氯化氢             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643280" y="4653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氢氧化钙        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788000" y="5157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碘          酒精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6021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硫酸亚铁         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294920"/>
            <a:ext cx="87631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右图向试管里的水中加入某种物质后，原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型管内两臂在同一水平上的红墨水，右边液面降低了些，左边的液面上升了些，则加入的物质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活性炭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生石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硝酸铵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氢氧化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简述你选择此项的理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979640" y="306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9640" y="5734080"/>
            <a:ext cx="705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、温度不变化。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放热，温度升高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、吸热，温度降低，瓶内的压强减小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2924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CE46-CE13-42F6-803B-F418B024D1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下列关于溶液的说法正确的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2757240"/>
            <a:ext cx="7772400" cy="33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均一、稳定的液体都是溶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溶液是均一、稳定的纯净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溶液是无色透明的液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溶液是均一、稳定的混合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WordArt 4"/>
          <p:cNvSpPr txBox="1"/>
          <p:nvPr/>
        </p:nvSpPr>
        <p:spPr>
          <a:xfrm>
            <a:off x="7086600" y="2971800"/>
            <a:ext cx="1447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二、教学目标</a:t>
            </a:r>
            <a:r>
              <a:rPr b="0" lang="zh-CN" sz="3600" spc="-1" strike="noStrike">
                <a:solidFill>
                  <a:srgbClr val="3333ff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8712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了解溶质、溶剂、溶液的基本概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认识溶液的基本特征是均一性、稳定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了解溶液在工农业生产和生活中的应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00000" y="1341360"/>
            <a:ext cx="59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隶书"/>
              </a:rPr>
              <a:t>、知识目标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900000" y="335772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华文隶书"/>
              </a:rPr>
              <a:t>2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隶书"/>
              </a:rPr>
              <a:t>、能力目标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332000" y="4005360"/>
            <a:ext cx="78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04292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900000" y="4724280"/>
            <a:ext cx="842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华文隶书"/>
              </a:rPr>
              <a:t>3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隶书"/>
              </a:rPr>
              <a:t>、情感目标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学生的合作精神及实事求是的科学态度。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1619280" y="3860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科学探究和科学实验的方法，练习观察，记录、分析和解决问题的思维能力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1547640" y="580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475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三、教学重点、难点</a:t>
            </a:r>
            <a:endParaRPr b="0" lang="en-US" sz="36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点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建立溶液的概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认识溶液、溶质、溶剂三者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难点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从微观上认识溶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理解溶质、溶剂的辨证关系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74760" y="1617840"/>
            <a:ext cx="696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369600" y="29448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。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8028000" y="6093000"/>
            <a:ext cx="504720" cy="431640"/>
          </a:xfrm>
          <a:custGeom>
            <a:avLst/>
            <a:gdLst/>
            <a:ahLst/>
            <a:rect l="l" t="t" r="r" b="b"/>
            <a:pathLst>
              <a:path w="504825" h="431800">
                <a:moveTo>
                  <a:pt x="0" y="164932"/>
                </a:moveTo>
                <a:lnTo>
                  <a:pt x="192827" y="164933"/>
                </a:lnTo>
                <a:lnTo>
                  <a:pt x="252412" y="0"/>
                </a:lnTo>
                <a:lnTo>
                  <a:pt x="311997" y="164933"/>
                </a:lnTo>
                <a:lnTo>
                  <a:pt x="504824" y="164932"/>
                </a:lnTo>
                <a:lnTo>
                  <a:pt x="348823" y="266865"/>
                </a:lnTo>
                <a:lnTo>
                  <a:pt x="408411" y="431798"/>
                </a:lnTo>
                <a:lnTo>
                  <a:pt x="252412" y="329863"/>
                </a:lnTo>
                <a:lnTo>
                  <a:pt x="96413" y="431798"/>
                </a:lnTo>
                <a:lnTo>
                  <a:pt x="156001" y="266865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ahoma"/>
              </a:rPr>
              <a:t>教学方法：</a:t>
            </a:r>
            <a:endParaRPr b="0" lang="en-US" sz="5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689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实验探究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堂讨论启发式讲解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8028000" y="5877000"/>
            <a:ext cx="504720" cy="431640"/>
          </a:xfrm>
          <a:custGeom>
            <a:avLst/>
            <a:gdLst/>
            <a:ahLst/>
            <a:rect l="l" t="t" r="r" b="b"/>
            <a:pathLst>
              <a:path w="504825" h="431800">
                <a:moveTo>
                  <a:pt x="0" y="164932"/>
                </a:moveTo>
                <a:lnTo>
                  <a:pt x="192827" y="164933"/>
                </a:lnTo>
                <a:lnTo>
                  <a:pt x="252412" y="0"/>
                </a:lnTo>
                <a:lnTo>
                  <a:pt x="311997" y="164933"/>
                </a:lnTo>
                <a:lnTo>
                  <a:pt x="504824" y="164932"/>
                </a:lnTo>
                <a:lnTo>
                  <a:pt x="348823" y="266865"/>
                </a:lnTo>
                <a:lnTo>
                  <a:pt x="408411" y="431798"/>
                </a:lnTo>
                <a:lnTo>
                  <a:pt x="252412" y="329863"/>
                </a:lnTo>
                <a:lnTo>
                  <a:pt x="96413" y="431798"/>
                </a:lnTo>
                <a:lnTo>
                  <a:pt x="156001" y="266865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00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ahoma"/>
              </a:rPr>
              <a:t>教学过程如下：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904680" y="1989000"/>
            <a:ext cx="729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创设情景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506960" y="198900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导入新课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732400" y="198900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导学探究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883320" y="1989000"/>
            <a:ext cx="1277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归纳小结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035680" y="1989000"/>
            <a:ext cx="1277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反馈矫正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6737040" y="1989000"/>
            <a:ext cx="729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延伸迁移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7268040" y="2060640"/>
            <a:ext cx="127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课外研究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1476360" y="27813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2627280" y="27813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AutoShape 13"/>
          <p:cNvSpPr/>
          <p:nvPr/>
        </p:nvSpPr>
        <p:spPr>
          <a:xfrm>
            <a:off x="3851280" y="27813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5003640" y="2781360"/>
            <a:ext cx="762120" cy="142920"/>
          </a:xfrm>
          <a:prstGeom prst="rightArrow">
            <a:avLst>
              <a:gd name="adj1" fmla="val 50000"/>
              <a:gd name="adj2" fmla="val 13326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6156360" y="278136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7236000" y="278136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29119"/>
          <p:cNvPicPr/>
          <p:nvPr/>
        </p:nvPicPr>
        <p:blipFill>
          <a:blip r:embed="rId1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59760" y="4869000"/>
            <a:ext cx="91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液体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17720" y="4941720"/>
            <a:ext cx="458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116000" y="4653000"/>
            <a:ext cx="360360" cy="11541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4160"/>
              <a:gd name="textAreaBottom" fmla="*/ 112428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224"/>
                </a:lnTo>
                <a:cubicBezTo>
                  <a:pt x="10800" y="10123"/>
                  <a:pt x="5400" y="11022"/>
                  <a:pt x="0" y="11022"/>
                </a:cubicBezTo>
                <a:cubicBezTo>
                  <a:pt x="5400" y="11022"/>
                  <a:pt x="10800" y="11921"/>
                  <a:pt x="10800" y="1282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619280" y="44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纯净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1619280" y="5734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混合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916360" y="4508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2916360" y="4292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2843280" y="548964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203640" y="4508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水、蒸馏水、硫酸等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843280" y="544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溶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3203640" y="587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悬浊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276720" y="6400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乳浊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活动与探究一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: </a:t>
            </a:r>
            <a:r>
              <a:rPr b="1" lang="zh-CN" sz="3200" spc="-1" strike="noStrike">
                <a:solidFill>
                  <a:srgbClr val="9900cc"/>
                </a:solidFill>
                <a:latin typeface="Tahoma"/>
              </a:rPr>
              <a:t>蔗糖溶于水</a:t>
            </a:r>
            <a:br>
              <a:rPr sz="3200"/>
            </a:br>
            <a:endParaRPr b="0" lang="en-US" sz="32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632720" cy="3514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697400" y="5632560"/>
            <a:ext cx="1070280" cy="560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cc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溶  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3708360" y="5516640"/>
            <a:ext cx="1440000" cy="792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溶    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7093080" y="5445000"/>
            <a:ext cx="1655640" cy="936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溶   液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6:46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31Z</dcterms:modified>
  <cp:revision>38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