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0.jpeg" ContentType="image/jpeg"/>
  <Override PartName="/ppt/media/image8.jpeg" ContentType="image/jpeg"/>
  <Override PartName="/ppt/media/image6.gif" ContentType="image/gif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D80-19E3-42D0-9588-53DD233D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C8A-BC32-4345-B0B8-580C9BEB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9DA2-306E-4025-BE44-EDBDF8D0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F21-73C7-4244-9460-8167DE12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BAB7-653E-4E96-9A68-0B98FCEB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18E1-2B00-4BFF-AE78-03BF181C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E8D8-E979-4D8A-8B63-4863B070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6FF0-187A-419C-913E-0BFB9BB8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2269-CC5E-4784-9932-69E355E2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ADD5-927F-4EEE-B0A4-6F238BAC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B4EF-D33A-4694-AC5E-9A287804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FD37-9CFF-43AB-A288-8B0E699E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9D7A-1D9F-4489-AD96-687BC544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7A39-26CE-40F9-A55D-CC3DCAC1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4A63-87A3-40C2-B60A-38DA72AF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00A6-76D1-4A6A-847F-A2DA917A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920F-0E88-488B-8BA8-236CED2E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DA185-0508-4E82-A06C-EFD83DE4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0B1F3-8845-44ED-A3ED-1416C3A4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00144-84AA-45AD-B421-492FB5BC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F84AE-D661-45DD-A7C1-9074816B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43E41-3F8F-44FA-9319-EA765B89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73D-924A-436D-9F66-081CD7A5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4CC90-69F2-4A1A-8B6B-F93E7202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2BDED-5D01-48E8-883A-9E7E39FF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6AE20-D669-4423-B76E-99BF151B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77FBB-1949-4C5D-9351-445A4390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54513-AE92-4A66-92B0-8B34017A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44587-5EAF-48A7-A1EA-CDB4A436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F6D36-1D58-46CE-9F49-9B5A3CF6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87D-2261-420F-B198-17F4432B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782-6E97-4DD3-9E4A-55C9EB9D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622-D50C-4C57-B6ED-0FB8A25C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931-1671-4EE6-8880-B5B06FBD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8AD0-5386-482B-80EA-8EBD1C6F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326-07DD-48C7-A515-076BA5AC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B2F4-9ED5-471A-AA15-DCFDE7E81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20F1-7A3E-4151-98B3-5B5E81C9A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CB97-3F37-43D6-9C83-4F2CB83FB8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6%BE&#439;%B6&#1340;%D2&#869;%B5%C4&#931;%BA%A6&amp;in=13273&amp;cl=2&amp;cm=1&amp;sc=0&amp;lm=-1&amp;pn=3&amp;rn=1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.baidu.com/i?ct=503316480&amp;z=0&amp;tn=baiduimagedetail&amp;word=%CE%FC%B6%BE&#931;%BA%A6&amp;in=24897&amp;cl=2&amp;cm=1&amp;sc=0&amp;lm=-1&amp;pn=142&amp;rn=1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.baidu.com/ir?t=1&amp;u=http://www.511511.com/az/200406/az00000312820040618052705125.jpg&amp;f=http://www.511511.com/AZ/200406/AZ00000312820040618052810406.shtml&amp;jn=24897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hyperlink" Target="http://image.baidu.com/ir?t=1&amp;u=http://www.511511.com/az/200406/az00000312820040618052705125.jpg&amp;f=http://www.511511.com/AZ/200406/AZ00000312820040618052810406.shtml&amp;jn=24897" TargetMode="External"/><Relationship Id="rId9" Type="http://schemas.openxmlformats.org/officeDocument/2006/relationships/hyperlink" Target="http://image.baidu.com/ir?t=1&amp;u=http://www.511511.com/az/200406/az00000312820040618052705125.jpg&amp;f=http://www.511511.com/AZ/200406/AZ00000312820040618052810406.shtml&amp;jn=24897" TargetMode="External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896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八课  学会拒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27_4200_106"/>
          <p:cNvPicPr/>
          <p:nvPr/>
        </p:nvPicPr>
        <p:blipFill>
          <a:blip r:embed="rId1"/>
          <a:stretch/>
        </p:blipFill>
        <p:spPr>
          <a:xfrm>
            <a:off x="457200" y="380880"/>
            <a:ext cx="5029200" cy="1030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27_4200_106"/>
          <p:cNvPicPr/>
          <p:nvPr/>
        </p:nvPicPr>
        <p:blipFill>
          <a:blip r:embed="rId2"/>
          <a:stretch/>
        </p:blipFill>
        <p:spPr>
          <a:xfrm>
            <a:off x="3581280" y="5410080"/>
            <a:ext cx="5181840" cy="733680"/>
          </a:xfrm>
          <a:prstGeom prst="rect">
            <a:avLst/>
          </a:prstGeom>
          <a:ln w="0">
            <a:noFill/>
          </a:ln>
        </p:spPr>
      </p:pic>
      <p:sp>
        <p:nvSpPr>
          <p:cNvPr id="126" name="WordArt 7"/>
          <p:cNvSpPr txBox="1"/>
          <p:nvPr/>
        </p:nvSpPr>
        <p:spPr>
          <a:xfrm>
            <a:off x="1295280" y="2666880"/>
            <a:ext cx="670572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-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身边的诱惑</a:t>
            </a:r>
            <a:r>
              <a:rPr b="1" lang="en-US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课件免费下载</a:t>
            </a:r>
            <a:endParaRPr b="1" lang="en-US" sz="4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xr056"/>
          <p:cNvPicPr/>
          <p:nvPr/>
        </p:nvPicPr>
        <p:blipFill>
          <a:blip r:embed="rId1"/>
          <a:stretch/>
        </p:blipFill>
        <p:spPr>
          <a:xfrm>
            <a:off x="500040" y="3733920"/>
            <a:ext cx="2203560" cy="2681280"/>
          </a:xfrm>
          <a:prstGeom prst="rect">
            <a:avLst/>
          </a:prstGeom>
          <a:ln w="0">
            <a:noFill/>
          </a:ln>
        </p:spPr>
      </p:pic>
      <p:sp>
        <p:nvSpPr>
          <p:cNvPr id="171" name="WordArt 4"/>
          <p:cNvSpPr txBox="1"/>
          <p:nvPr/>
        </p:nvSpPr>
        <p:spPr>
          <a:xfrm>
            <a:off x="250920" y="0"/>
            <a:ext cx="4343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33cc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超级大辩台</a:t>
            </a:r>
            <a:endParaRPr b="1" lang="en-US" sz="6000" spc="1" strike="noStrike">
              <a:ln w="9360">
                <a:solidFill>
                  <a:srgbClr val="ff33cc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523880" y="2057400"/>
            <a:ext cx="701064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辩题：论电脑游戏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利与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285840" y="428760"/>
            <a:ext cx="47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排   雷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692360" y="2924280"/>
            <a:ext cx="691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仿宋_GB2312"/>
              </a:rPr>
              <a:t>过度沉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影响学习成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影响人际交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影响家庭和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诱发违法犯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763640" y="148428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Comic Sans MS"/>
              </a:rPr>
              <a:t>适度游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开发智力　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调节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228600" y="380880"/>
          <a:ext cx="8777160" cy="6156360"/>
        </p:xfrm>
        <a:graphic>
          <a:graphicData uri="http://schemas.openxmlformats.org/drawingml/2006/table">
            <a:tbl>
              <a:tblPr/>
              <a:tblGrid>
                <a:gridCol w="1717560"/>
                <a:gridCol w="4683240"/>
                <a:gridCol w="1371600"/>
                <a:gridCol w="100476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有哪些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如何对待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黑体"/>
                        </a:rPr>
                        <a:t>      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危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怎么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金钱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要取之有道，通过</a:t>
                      </a:r>
                      <a:r>
                        <a:rPr b="1" lang="zh-CN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正当途径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获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不能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损害健康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影响学习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浪费钱财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破坏家庭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会分辨并自觉抵制它们的诱惑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游戏机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适当的、有节制的娱乐是有益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对于开发人的智力，锻炼眼耳手脑并用能力，有一定的好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但绝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能沉迷于此，更不能违法犯罪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黄赌毒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电子海洛因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邪教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5"/>
          <p:cNvSpPr/>
          <p:nvPr/>
        </p:nvSpPr>
        <p:spPr>
          <a:xfrm>
            <a:off x="609480" y="1371600"/>
            <a:ext cx="7925040" cy="1847880"/>
          </a:xfrm>
          <a:prstGeom prst="rect">
            <a:avLst/>
          </a:prstGeom>
          <a:solidFill>
            <a:srgbClr val="ffff99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适当的、有节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娱乐是有益的，它对于开发人的智力，锻炼眼耳手脑并用能力，有一定的好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但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绝不能沉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此，因为沉迷网络游戏有很多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危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损害健康、影响学习、浪费钱财、破坏家庭、违法犯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要以丰富的学习、健身、交友等活动坚决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抵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一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诱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1858320" y="62496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何正确看待网络游戏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WordArt 7" descr=""/>
          <p:cNvPicPr/>
          <p:nvPr/>
        </p:nvPicPr>
        <p:blipFill>
          <a:blip r:embed="rId1"/>
          <a:stretch/>
        </p:blipFill>
        <p:spPr>
          <a:xfrm>
            <a:off x="147600" y="1519200"/>
            <a:ext cx="514440" cy="1362240"/>
          </a:xfrm>
          <a:prstGeom prst="rect">
            <a:avLst/>
          </a:prstGeom>
          <a:ln w="0">
            <a:noFill/>
          </a:ln>
        </p:spPr>
      </p:pic>
      <p:pic>
        <p:nvPicPr>
          <p:cNvPr id="180" name="WordArt 8" descr=""/>
          <p:cNvPicPr/>
          <p:nvPr/>
        </p:nvPicPr>
        <p:blipFill>
          <a:blip r:embed="rId2"/>
          <a:stretch/>
        </p:blipFill>
        <p:spPr>
          <a:xfrm>
            <a:off x="61920" y="3348000"/>
            <a:ext cx="514440" cy="1362240"/>
          </a:xfrm>
          <a:prstGeom prst="rect">
            <a:avLst/>
          </a:prstGeom>
          <a:ln w="0">
            <a:noFill/>
          </a:ln>
        </p:spPr>
      </p:pic>
      <p:pic>
        <p:nvPicPr>
          <p:cNvPr id="181" name="WordArt 9" descr=""/>
          <p:cNvPicPr/>
          <p:nvPr/>
        </p:nvPicPr>
        <p:blipFill>
          <a:blip r:embed="rId3"/>
          <a:stretch/>
        </p:blipFill>
        <p:spPr>
          <a:xfrm>
            <a:off x="147600" y="5176800"/>
            <a:ext cx="514440" cy="1362240"/>
          </a:xfrm>
          <a:prstGeom prst="rect">
            <a:avLst/>
          </a:prstGeom>
          <a:ln w="0">
            <a:noFill/>
          </a:ln>
        </p:spPr>
      </p:pic>
      <p:sp>
        <p:nvSpPr>
          <p:cNvPr id="182" name="WordArt 10"/>
          <p:cNvSpPr txBox="1"/>
          <p:nvPr/>
        </p:nvSpPr>
        <p:spPr>
          <a:xfrm>
            <a:off x="6248520" y="533520"/>
            <a:ext cx="1981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辨析题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380880"/>
          <a:ext cx="8777160" cy="6265800"/>
        </p:xfrm>
        <a:graphic>
          <a:graphicData uri="http://schemas.openxmlformats.org/drawingml/2006/table">
            <a:tbl>
              <a:tblPr/>
              <a:tblGrid>
                <a:gridCol w="1717560"/>
                <a:gridCol w="4683240"/>
                <a:gridCol w="1371600"/>
                <a:gridCol w="100476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有哪些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如何对待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黑体"/>
                        </a:rPr>
                        <a:t>      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危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怎么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金钱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要取之有道，通过</a:t>
                      </a:r>
                      <a:r>
                        <a:rPr b="1" lang="zh-CN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正当途径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获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不能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损害健康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影响学习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浪费钱财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破坏家庭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会分辨并自觉抵制它们的诱惑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游戏机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适当的、有节制的娱乐是有益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对于开发人的智力，锻炼眼耳手脑并用能力，有一定的好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但绝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能沉迷于此，更不能违法犯罪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0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黄赌毒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电子海洛因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邪教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4" name="AutoShape 40"/>
          <p:cNvSpPr/>
          <p:nvPr/>
        </p:nvSpPr>
        <p:spPr>
          <a:xfrm>
            <a:off x="2057400" y="37339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1"/>
          <p:cNvSpPr/>
          <p:nvPr/>
        </p:nvSpPr>
        <p:spPr>
          <a:xfrm>
            <a:off x="2514600" y="46454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品的诱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2"/>
          <p:cNvSpPr/>
          <p:nvPr/>
        </p:nvSpPr>
        <p:spPr>
          <a:xfrm>
            <a:off x="2438280" y="4037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赌博的诱惑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3"/>
          <p:cNvSpPr/>
          <p:nvPr/>
        </p:nvSpPr>
        <p:spPr>
          <a:xfrm>
            <a:off x="2057400" y="3504240"/>
            <a:ext cx="43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不健康信息的诱惑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105520" y="129492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6324120"/>
            <a:ext cx="40384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吸毒危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29200" y="6172200"/>
            <a:ext cx="403848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吸毒危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社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1055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u=4117515778,3493467828&amp;gp=-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531720"/>
            <a:ext cx="4572000" cy="2952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u=1498164011,263376062&amp;gp=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3962520"/>
            <a:ext cx="3529080" cy="20602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3"/>
          <p:cNvSpPr/>
          <p:nvPr/>
        </p:nvSpPr>
        <p:spPr>
          <a:xfrm>
            <a:off x="5105520" y="3200400"/>
            <a:ext cx="3600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吸毒危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5" descr="u=3465895777,2855687824&amp;fm=23&amp;gp=0"/>
          <p:cNvPicPr/>
          <p:nvPr/>
        </p:nvPicPr>
        <p:blipFill>
          <a:blip r:embed="rId6"/>
          <a:stretch/>
        </p:blipFill>
        <p:spPr>
          <a:xfrm>
            <a:off x="457200" y="3886200"/>
            <a:ext cx="3333600" cy="2495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6" descr="2004841353105"/>
          <p:cNvPicPr/>
          <p:nvPr/>
        </p:nvPicPr>
        <p:blipFill>
          <a:blip r:embed="rId7"/>
          <a:stretch/>
        </p:blipFill>
        <p:spPr>
          <a:xfrm>
            <a:off x="0" y="533520"/>
            <a:ext cx="4724280" cy="27432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2"/>
          <p:cNvSpPr/>
          <p:nvPr/>
        </p:nvSpPr>
        <p:spPr>
          <a:xfrm>
            <a:off x="304920" y="3276720"/>
            <a:ext cx="2971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吸毒危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身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0" y="-1522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吸毒的危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0" y="3809880"/>
            <a:ext cx="9144000" cy="360"/>
            <a:chOff x="0" y="3809880"/>
            <a:chExt cx="9144000" cy="360"/>
          </a:xfrm>
        </p:grpSpPr>
        <p:sp>
          <p:nvSpPr>
            <p:cNvPr id="200" name="Line 17"/>
            <p:cNvSpPr/>
            <p:nvPr/>
          </p:nvSpPr>
          <p:spPr>
            <a:xfrm>
              <a:off x="0" y="3809880"/>
              <a:ext cx="914400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0" y="38098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774680" y="636120"/>
            <a:ext cx="360" cy="6248520"/>
            <a:chOff x="4774680" y="636120"/>
            <a:chExt cx="360" cy="6248520"/>
          </a:xfrm>
        </p:grpSpPr>
        <p:sp>
          <p:nvSpPr>
            <p:cNvPr id="203" name="Line 18"/>
            <p:cNvSpPr/>
            <p:nvPr/>
          </p:nvSpPr>
          <p:spPr>
            <a:xfrm flipV="1">
              <a:off x="4775040" y="636120"/>
              <a:ext cx="0" cy="6248520"/>
            </a:xfrm>
            <a:prstGeom prst="line">
              <a:avLst/>
            </a:prstGeom>
            <a:ln w="76320">
              <a:solidFill>
                <a:srgbClr val="0000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 rot="10800000">
              <a:off x="4774680" y="636120"/>
              <a:ext cx="360" cy="624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28600" y="380880"/>
          <a:ext cx="8777160" cy="6265800"/>
        </p:xfrm>
        <a:graphic>
          <a:graphicData uri="http://schemas.openxmlformats.org/drawingml/2006/table">
            <a:tbl>
              <a:tblPr/>
              <a:tblGrid>
                <a:gridCol w="1717560"/>
                <a:gridCol w="4683240"/>
                <a:gridCol w="1371600"/>
                <a:gridCol w="100476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有哪些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如何对待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黑体"/>
                        </a:rPr>
                        <a:t>      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危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怎么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金钱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要取之有道，通过</a:t>
                      </a:r>
                      <a:r>
                        <a:rPr b="1" lang="zh-CN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正当途径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获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不能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损害健康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影响学习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浪费钱财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破坏家庭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会分辨并自觉抵制它们的诱惑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游戏机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适当的、有节制的娱乐是有益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对于开发人的智力，锻炼眼耳手脑并用能力，有一定的好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但绝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能沉迷于此，更不能违法犯罪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0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黄赌毒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电子海洛因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邪教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AutoShape 37"/>
          <p:cNvSpPr/>
          <p:nvPr/>
        </p:nvSpPr>
        <p:spPr>
          <a:xfrm>
            <a:off x="2057400" y="37339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8"/>
          <p:cNvSpPr/>
          <p:nvPr/>
        </p:nvSpPr>
        <p:spPr>
          <a:xfrm>
            <a:off x="2514600" y="46454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品的诱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9"/>
          <p:cNvSpPr/>
          <p:nvPr/>
        </p:nvSpPr>
        <p:spPr>
          <a:xfrm>
            <a:off x="2438280" y="4037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赌博的诱惑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0"/>
          <p:cNvSpPr/>
          <p:nvPr/>
        </p:nvSpPr>
        <p:spPr>
          <a:xfrm>
            <a:off x="2057400" y="3504240"/>
            <a:ext cx="43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不健康信息的诱惑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228600" y="380880"/>
          <a:ext cx="8777160" cy="5808600"/>
        </p:xfrm>
        <a:graphic>
          <a:graphicData uri="http://schemas.openxmlformats.org/drawingml/2006/table">
            <a:tbl>
              <a:tblPr/>
              <a:tblGrid>
                <a:gridCol w="1717560"/>
                <a:gridCol w="4683240"/>
                <a:gridCol w="1371600"/>
                <a:gridCol w="100476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有哪些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如何对待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黑体"/>
                        </a:rPr>
                        <a:t>      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危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怎么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金钱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要取之有道，通过</a:t>
                      </a:r>
                      <a:r>
                        <a:rPr b="1" lang="zh-CN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正当途径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获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不能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损害健康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影响学习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浪费钱财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破坏家庭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会分辨并自觉抵制它们的诱惑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游戏机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适当的、有节制的娱乐是有益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对于开发人的智力，锻炼眼耳手脑并用能力，有一定的好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但绝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能沉迷于此，更不能违法犯罪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2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黄赌毒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cc00"/>
                          </a:solidFill>
                          <a:latin typeface="Arial"/>
                          <a:ea typeface="黑体"/>
                        </a:rPr>
                        <a:t>不健康信息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赌博的诱惑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毒品的诱惑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华人民共和国预防未成年人犯罪法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电子海洛因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不法网站，暴力、色情不良信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邪教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u=2820467458,295936932&amp;fm=23&amp;gp=0"/>
          <p:cNvPicPr/>
          <p:nvPr/>
        </p:nvPicPr>
        <p:blipFill>
          <a:blip r:embed="rId1"/>
          <a:stretch/>
        </p:blipFill>
        <p:spPr>
          <a:xfrm>
            <a:off x="152280" y="228600"/>
            <a:ext cx="3333960" cy="3124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image/img300202_1.jpg"/>
          <p:cNvPicPr/>
          <p:nvPr/>
        </p:nvPicPr>
        <p:blipFill>
          <a:blip r:embed="rId2"/>
          <a:stretch/>
        </p:blipFill>
        <p:spPr>
          <a:xfrm>
            <a:off x="4419720" y="4572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W020050119271384534594"/>
          <p:cNvPicPr/>
          <p:nvPr/>
        </p:nvPicPr>
        <p:blipFill>
          <a:blip r:embed="rId3"/>
          <a:stretch/>
        </p:blipFill>
        <p:spPr>
          <a:xfrm>
            <a:off x="838080" y="3505320"/>
            <a:ext cx="76201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228600" y="380880"/>
          <a:ext cx="8777160" cy="5808600"/>
        </p:xfrm>
        <a:graphic>
          <a:graphicData uri="http://schemas.openxmlformats.org/drawingml/2006/table">
            <a:tbl>
              <a:tblPr/>
              <a:tblGrid>
                <a:gridCol w="1717560"/>
                <a:gridCol w="4683240"/>
                <a:gridCol w="1371600"/>
                <a:gridCol w="100476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有哪些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如何对待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黑体"/>
                        </a:rPr>
                        <a:t>      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危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怎么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金钱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要取之有道，通过</a:t>
                      </a:r>
                      <a:r>
                        <a:rPr b="1" lang="zh-CN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正当途径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获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不能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损害健康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影响学习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浪费钱财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破坏家庭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会分辨并自觉抵制它们的诱惑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游戏机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适当的、有节制的娱乐是有益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对于开发人的智力，锻炼眼耳手脑并用能力，有一定的好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、但绝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能沉迷于此，更不能违法犯罪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2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黄赌毒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cc00"/>
                          </a:solidFill>
                          <a:latin typeface="Arial"/>
                          <a:ea typeface="黑体"/>
                        </a:rPr>
                        <a:t>不健康信息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赌博的诱惑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毒品的诱惑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华人民共和国预防未成年人犯罪法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电子海洛因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不法网站，暴力、色情不良信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邪教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邪教是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威胁人民生命财产安全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社会稳定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的毒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95280" y="119700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乐观、幽默的生活态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陶冶情操、追求高雅生活情趣的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重要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684360" y="260280"/>
            <a:ext cx="420048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如何追寻高雅生活？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68360" y="250668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善于将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好奇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化为浓厚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兴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而培养自己高雅的生活情趣，不能盲目从众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39640" y="374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丰富文化生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陶冶情操、追求高雅生活情趣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重要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11280" y="5095800"/>
            <a:ext cx="648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升情趣，陶冶情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609480" y="1371600"/>
            <a:ext cx="7925040" cy="1847880"/>
          </a:xfrm>
          <a:prstGeom prst="rect">
            <a:avLst/>
          </a:prstGeom>
          <a:solidFill>
            <a:srgbClr val="ffff99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适当的、有节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娱乐是有益的，它对于开发人的智力，锻炼眼耳手脑并用能力，有一定的好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但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绝不能沉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此，因为沉迷网络游戏有很多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危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损害健康、影响学习、浪费钱财、破坏家庭、违法犯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要以丰富的学习、健身、交友等活动坚决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抵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一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诱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858320" y="62496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何正确看待网络游戏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WordArt 4" descr=""/>
          <p:cNvPicPr/>
          <p:nvPr/>
        </p:nvPicPr>
        <p:blipFill>
          <a:blip r:embed="rId1"/>
          <a:stretch/>
        </p:blipFill>
        <p:spPr>
          <a:xfrm>
            <a:off x="147600" y="1519200"/>
            <a:ext cx="514440" cy="1362240"/>
          </a:xfrm>
          <a:prstGeom prst="rect">
            <a:avLst/>
          </a:prstGeom>
          <a:ln w="0">
            <a:noFill/>
          </a:ln>
        </p:spPr>
      </p:pic>
      <p:pic>
        <p:nvPicPr>
          <p:cNvPr id="218" name="WordArt 5" descr=""/>
          <p:cNvPicPr/>
          <p:nvPr/>
        </p:nvPicPr>
        <p:blipFill>
          <a:blip r:embed="rId2"/>
          <a:stretch/>
        </p:blipFill>
        <p:spPr>
          <a:xfrm>
            <a:off x="61920" y="3348000"/>
            <a:ext cx="514440" cy="1362240"/>
          </a:xfrm>
          <a:prstGeom prst="rect">
            <a:avLst/>
          </a:prstGeom>
          <a:ln w="0">
            <a:noFill/>
          </a:ln>
        </p:spPr>
      </p:pic>
      <p:pic>
        <p:nvPicPr>
          <p:cNvPr id="219" name="WordArt 6" descr=""/>
          <p:cNvPicPr/>
          <p:nvPr/>
        </p:nvPicPr>
        <p:blipFill>
          <a:blip r:embed="rId3"/>
          <a:stretch/>
        </p:blipFill>
        <p:spPr>
          <a:xfrm>
            <a:off x="147600" y="5176800"/>
            <a:ext cx="514440" cy="1362240"/>
          </a:xfrm>
          <a:prstGeom prst="rect">
            <a:avLst/>
          </a:prstGeom>
          <a:ln w="0">
            <a:noFill/>
          </a:ln>
        </p:spPr>
      </p:pic>
      <p:sp>
        <p:nvSpPr>
          <p:cNvPr id="220" name="WordArt 7"/>
          <p:cNvSpPr txBox="1"/>
          <p:nvPr/>
        </p:nvSpPr>
        <p:spPr>
          <a:xfrm>
            <a:off x="6248520" y="533520"/>
            <a:ext cx="1981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辨析题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50920" y="260280"/>
            <a:ext cx="8713800" cy="48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习题巩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有人说网络是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双刃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你的看法是（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网络其实有利无弊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网络有利也有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 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网络其实有弊无利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青少年不应该接触网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丰富多彩的中学生活，让我们觉得欣喜与兴奋。我们学习到更多的知识，结识了更多的朋友，有了更大的自由度。面对学校和社会中的各种诱惑，我们应该（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 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对身边发生的事情不用关注，学习好了就行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听之任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 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理智对待，努力抵制不良诱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大胆尝试各种诱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2"/>
          <p:cNvSpPr txBox="1"/>
          <p:nvPr/>
        </p:nvSpPr>
        <p:spPr>
          <a:xfrm>
            <a:off x="250920" y="260280"/>
            <a:ext cx="158904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随堂练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79280" y="981000"/>
            <a:ext cx="8785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项选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下列说法正确的是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吸食毒品是未成年人的严重不良行为，但不是违法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君子爱财，取之有道”指的是要通过合法劳动和正当途径获得金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良诱惑犹如病毒，需要我们用科学的态度、坚强的意志、清醒的头脑和正确的方法战胜他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面对金钱的诱惑，我们视之如粪土才是惟一正确的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4643280" y="1628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4BE3-14E3-4D96-BAD6-1D7ABEC809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50920" y="404640"/>
            <a:ext cx="8713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子游戏是中小学生所喜爱的一种娱乐方式，但是长期沉迷于此，有可能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开发智力，有篮球学习成绩的提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损害身体健康，导致疾病的产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降低大脑灵活性，影响学习成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诱发盗窃、抢劫、诈骗等违法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059280" y="692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B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00400" y="10663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黑体"/>
              </a:rPr>
              <a:t>忍住一份甜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美国著名的心理学家瓦尔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米歇尔曾经在一群幼儿身上做过一个有趣的实验。他给每个孩子发一块软糖，然后告诉他们说他有事要离开一会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他希望孩子们都不要吃掉那块软糖，他允诺说</a:t>
            </a:r>
            <a:r>
              <a:rPr b="1" i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r>
              <a:rPr b="1" i="1" lang="zh-CN" sz="2400" spc="-1" strike="noStrike">
                <a:solidFill>
                  <a:srgbClr val="cc3300"/>
                </a:solidFill>
                <a:latin typeface="Arial"/>
                <a:ea typeface="华文新魏"/>
              </a:rPr>
              <a:t>“</a:t>
            </a:r>
            <a:r>
              <a:rPr b="1" i="1" lang="zh-CN" sz="2400" spc="-1" strike="noStrike">
                <a:solidFill>
                  <a:srgbClr val="cc3300"/>
                </a:solidFill>
                <a:latin typeface="华文新魏"/>
                <a:ea typeface="华文新魏"/>
              </a:rPr>
              <a:t>假如你们能将这块软糖留到我办完事回来，我会再奖励给你们两块糖。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他出去了，孩子们守着那诱人的软糖等啊等。终于有人熬不住了，吃掉了那块软糖。接着，又有人做同样的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分钟后，米歇尔回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黑体"/>
              </a:rPr>
              <a:t>多年后，他发现，那些不能等待的孩子大多一事无成，而那几个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幼圆"/>
                <a:ea typeface="黑体"/>
              </a:rPr>
              <a:t>经得起诱惑的儿童成年后，在事业上取得了成功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 rot="21027000">
            <a:off x="380520" y="304920"/>
            <a:ext cx="2438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11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心理实验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11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1371600" y="1905120"/>
            <a:ext cx="1752120" cy="1071360"/>
            <a:chOff x="1371600" y="1905120"/>
            <a:chExt cx="1752120" cy="1071360"/>
          </a:xfrm>
        </p:grpSpPr>
        <p:sp>
          <p:nvSpPr>
            <p:cNvPr id="137" name="AutoShape 3"/>
            <p:cNvSpPr/>
            <p:nvPr/>
          </p:nvSpPr>
          <p:spPr>
            <a:xfrm>
              <a:off x="1371600" y="2327040"/>
              <a:ext cx="728640" cy="6490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4"/>
            <p:cNvSpPr/>
            <p:nvPr/>
          </p:nvSpPr>
          <p:spPr>
            <a:xfrm>
              <a:off x="1942560" y="1905120"/>
              <a:ext cx="669600" cy="1071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5"/>
            <p:cNvSpPr/>
            <p:nvPr/>
          </p:nvSpPr>
          <p:spPr>
            <a:xfrm>
              <a:off x="2454480" y="2424600"/>
              <a:ext cx="669240" cy="551880"/>
            </a:xfrm>
            <a:prstGeom prst="cube">
              <a:avLst>
                <a:gd name="adj" fmla="val 4819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6"/>
          <p:cNvSpPr/>
          <p:nvPr/>
        </p:nvSpPr>
        <p:spPr>
          <a:xfrm>
            <a:off x="1447920" y="236232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2438280" y="2438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905120" y="22096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468360" y="292428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、荣誉的诱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g1"/>
          <p:cNvPicPr/>
          <p:nvPr/>
        </p:nvPicPr>
        <p:blipFill>
          <a:blip r:embed="rId1"/>
          <a:stretch/>
        </p:blipFill>
        <p:spPr>
          <a:xfrm>
            <a:off x="0" y="-185760"/>
            <a:ext cx="9144000" cy="37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g1"/>
          <p:cNvPicPr/>
          <p:nvPr/>
        </p:nvPicPr>
        <p:blipFill>
          <a:blip r:embed="rId2"/>
          <a:stretch/>
        </p:blipFill>
        <p:spPr>
          <a:xfrm>
            <a:off x="0" y="-838080"/>
            <a:ext cx="369720" cy="9144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g1"/>
          <p:cNvPicPr/>
          <p:nvPr/>
        </p:nvPicPr>
        <p:blipFill>
          <a:blip r:embed="rId3"/>
          <a:stretch/>
        </p:blipFill>
        <p:spPr>
          <a:xfrm>
            <a:off x="8958240" y="-457200"/>
            <a:ext cx="370080" cy="9144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U397P249T3D105212F37DT20040828063937"/>
          <p:cNvPicPr/>
          <p:nvPr/>
        </p:nvPicPr>
        <p:blipFill>
          <a:blip r:embed="rId4"/>
          <a:stretch/>
        </p:blipFill>
        <p:spPr>
          <a:xfrm>
            <a:off x="1752480" y="0"/>
            <a:ext cx="1067040" cy="1828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xr056"/>
          <p:cNvPicPr/>
          <p:nvPr/>
        </p:nvPicPr>
        <p:blipFill>
          <a:blip r:embed="rId5"/>
          <a:stretch/>
        </p:blipFill>
        <p:spPr>
          <a:xfrm>
            <a:off x="4495680" y="380880"/>
            <a:ext cx="3889440" cy="25383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5"/>
          <p:cNvSpPr/>
          <p:nvPr/>
        </p:nvSpPr>
        <p:spPr>
          <a:xfrm>
            <a:off x="4572000" y="2924280"/>
            <a:ext cx="40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、网络游戏的诱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6" descr="040401014acn_2"/>
          <p:cNvPicPr/>
          <p:nvPr/>
        </p:nvPicPr>
        <p:blipFill>
          <a:blip r:embed="rId6"/>
          <a:stretch/>
        </p:blipFill>
        <p:spPr>
          <a:xfrm>
            <a:off x="611280" y="3500280"/>
            <a:ext cx="2808360" cy="17938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7"/>
          <p:cNvSpPr/>
          <p:nvPr/>
        </p:nvSpPr>
        <p:spPr>
          <a:xfrm>
            <a:off x="324000" y="5229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、金钱的诱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8" descr="101737_099"/>
          <p:cNvPicPr/>
          <p:nvPr/>
        </p:nvPicPr>
        <p:blipFill>
          <a:blip r:embed="rId7"/>
          <a:stretch/>
        </p:blipFill>
        <p:spPr>
          <a:xfrm>
            <a:off x="4800600" y="3581280"/>
            <a:ext cx="3672000" cy="1757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9"/>
          <p:cNvSpPr/>
          <p:nvPr/>
        </p:nvSpPr>
        <p:spPr>
          <a:xfrm>
            <a:off x="4495680" y="533412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、毒品的诱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395280" y="56674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思考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339933"/>
                </a:solidFill>
                <a:latin typeface="Times New Roman"/>
              </a:rPr>
              <a:t>在我们身边还存在着哪些诱惑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? </a:t>
            </a:r>
            <a:r>
              <a:rPr b="1" lang="zh-CN" sz="3600" spc="-1" strike="noStrike">
                <a:solidFill>
                  <a:srgbClr val="339933"/>
                </a:solidFill>
                <a:latin typeface="Times New Roman"/>
              </a:rPr>
              <a:t>哪些属于不良诱惑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28600" y="380880"/>
          <a:ext cx="8832960" cy="5689440"/>
        </p:xfrm>
        <a:graphic>
          <a:graphicData uri="http://schemas.openxmlformats.org/drawingml/2006/table">
            <a:tbl>
              <a:tblPr/>
              <a:tblGrid>
                <a:gridCol w="3041640"/>
                <a:gridCol w="579132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有哪些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如何对待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黑体"/>
                        </a:rPr>
                        <a:t>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金钱的诱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游戏机的诱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黄赌毒的诱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电子海洛因的诱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邪教的诱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6"/>
          <p:cNvSpPr/>
          <p:nvPr/>
        </p:nvSpPr>
        <p:spPr>
          <a:xfrm>
            <a:off x="2895480" y="51814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S0D20100831193242MT906759"/>
          <p:cNvPicPr/>
          <p:nvPr/>
        </p:nvPicPr>
        <p:blipFill>
          <a:blip r:embed="rId1"/>
          <a:stretch/>
        </p:blipFill>
        <p:spPr>
          <a:xfrm>
            <a:off x="1981080" y="1503360"/>
            <a:ext cx="5753160" cy="4943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1600200" y="304920"/>
            <a:ext cx="59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一、金钱的诱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U1716P1T1D10826620F21DT20060825105622"/>
          <p:cNvPicPr/>
          <p:nvPr/>
        </p:nvPicPr>
        <p:blipFill>
          <a:blip r:embed="rId1"/>
          <a:stretch/>
        </p:blipFill>
        <p:spPr>
          <a:xfrm>
            <a:off x="0" y="0"/>
            <a:ext cx="4724280" cy="3139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201005151273886447375"/>
          <p:cNvPicPr/>
          <p:nvPr/>
        </p:nvPicPr>
        <p:blipFill>
          <a:blip r:embed="rId2"/>
          <a:stretch/>
        </p:blipFill>
        <p:spPr>
          <a:xfrm>
            <a:off x="0" y="3200400"/>
            <a:ext cx="4724280" cy="3657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289877_185319615545_2"/>
          <p:cNvPicPr/>
          <p:nvPr/>
        </p:nvPicPr>
        <p:blipFill>
          <a:blip r:embed="rId3"/>
          <a:stretch/>
        </p:blipFill>
        <p:spPr>
          <a:xfrm>
            <a:off x="5562720" y="-1219320"/>
            <a:ext cx="3152520" cy="84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228600" y="380880"/>
          <a:ext cx="8777160" cy="5740560"/>
        </p:xfrm>
        <a:graphic>
          <a:graphicData uri="http://schemas.openxmlformats.org/drawingml/2006/table">
            <a:tbl>
              <a:tblPr/>
              <a:tblGrid>
                <a:gridCol w="1717560"/>
                <a:gridCol w="4683240"/>
                <a:gridCol w="1371600"/>
                <a:gridCol w="100476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有哪些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如何对待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黑体"/>
                        </a:rPr>
                        <a:t>      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危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怎么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金钱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要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取之有道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通过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正当途径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获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不能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损害健康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影响学习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浪费钱财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破坏家庭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违法犯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会分辨并自觉抵制它们的诱惑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游戏机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黄赌毒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电子海洛因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6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  <a:ea typeface="黑体"/>
                        </a:rPr>
                        <a:t>邪教的诱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3" name="Rectangle 50"/>
          <p:cNvSpPr/>
          <p:nvPr/>
        </p:nvSpPr>
        <p:spPr>
          <a:xfrm>
            <a:off x="6705720" y="1066680"/>
            <a:ext cx="121896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1"/>
          <p:cNvSpPr/>
          <p:nvPr/>
        </p:nvSpPr>
        <p:spPr>
          <a:xfrm>
            <a:off x="8077320" y="1066680"/>
            <a:ext cx="8380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8199"/>
          <p:cNvSpPr/>
          <p:nvPr/>
        </p:nvSpPr>
        <p:spPr>
          <a:xfrm>
            <a:off x="2027160" y="3083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200805273d38d4d2065845ff80507604791a4d39"/>
          <p:cNvPicPr/>
          <p:nvPr/>
        </p:nvPicPr>
        <p:blipFill>
          <a:blip r:embed="rId1"/>
          <a:stretch/>
        </p:blipFill>
        <p:spPr>
          <a:xfrm>
            <a:off x="0" y="1359000"/>
            <a:ext cx="4716360" cy="549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图片4"/>
          <p:cNvPicPr/>
          <p:nvPr/>
        </p:nvPicPr>
        <p:blipFill>
          <a:blip r:embed="rId2"/>
          <a:stretch/>
        </p:blipFill>
        <p:spPr>
          <a:xfrm>
            <a:off x="5149800" y="1384200"/>
            <a:ext cx="3994200" cy="547380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7" descr="shenghuoyongpinsan2_0275.jpg"/>
          <p:cNvPicPr/>
          <p:nvPr/>
        </p:nvPicPr>
        <p:blipFill>
          <a:blip r:embed="rId3"/>
          <a:stretch/>
        </p:blipFill>
        <p:spPr>
          <a:xfrm>
            <a:off x="0" y="0"/>
            <a:ext cx="1230480" cy="1268280"/>
          </a:xfrm>
          <a:prstGeom prst="rect">
            <a:avLst/>
          </a:prstGeom>
          <a:ln w="0">
            <a:noFill/>
          </a:ln>
        </p:spPr>
      </p:pic>
      <p:sp>
        <p:nvSpPr>
          <p:cNvPr id="169" name="WordArt 6"/>
          <p:cNvSpPr txBox="1"/>
          <p:nvPr/>
        </p:nvSpPr>
        <p:spPr>
          <a:xfrm>
            <a:off x="1828800" y="228600"/>
            <a:ext cx="4191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二、游戏机的诱惑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2:46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51Z</dcterms:modified>
  <cp:revision>9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