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F8E-3305-445E-8535-96F9FF0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98C-E055-4364-8D39-65E8C3B5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571-549A-40A8-A855-4F7636AB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0B2-F95D-42DF-A455-4CE2E1B0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4AFC-6324-4549-9AE6-F9C3918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D81D-17F6-426E-BA0D-120DDFD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CA92-C79B-442D-8591-9421B0D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F50D-1C69-44B0-9E0B-75868775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1D6-1A8E-4DE9-8ADA-A650709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3C46-698E-48F7-B1BD-59B0BF7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27D-61E0-49B3-9144-2763C8D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8D9-8E38-489E-B277-613CA20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4D2C-A43C-41D8-8772-37C58D1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1044-8345-4995-9688-2BAD60D0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BAD3-F7BA-4FBF-B64D-F6C70B22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1D27-BB4B-4E71-AC88-F324A1FA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7C95-E769-4A46-833F-C0AB8C55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1D3-6F0E-4B9C-9789-2DF134F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5E9-3B75-4F0E-AAA0-688E983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420-01D2-47B4-ABD0-21CAA3A1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101-9F5C-4403-BB78-84EE68DA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F15-BF09-41FB-8A8C-0D906604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BD2-49EF-4284-8CE1-73DD4CD2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D7A-FA76-462A-BB64-4A039DA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6CA-4FDF-4E13-9FEE-307A11870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FD90-D5DD-4BDF-A052-FFFBBCE60E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681200" y="1960560"/>
            <a:ext cx="594360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伸出爱的手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013640" y="4062240"/>
            <a:ext cx="33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爱残疾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438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谈一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在日常生活中，同学们有没有遇到过残疾人，和他们交流过呢？谁来谈谈自己的亲身经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54520" y="117144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如果我是他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708120" y="2286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现在就请大家当一回小科学家，想一想今后可以为残疾人发明一些什么呢？请各小组讨论讨论，比比看，哪组的点子最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3"/>
          <p:cNvSpPr txBox="1"/>
          <p:nvPr/>
        </p:nvSpPr>
        <p:spPr>
          <a:xfrm>
            <a:off x="609480" y="380880"/>
            <a:ext cx="38862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奇思妙想</a:t>
            </a:r>
            <a:endParaRPr b="1" lang="en-US" sz="4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0" name="Picture 4" descr="icon2"/>
          <p:cNvPicPr/>
          <p:nvPr/>
        </p:nvPicPr>
        <p:blipFill>
          <a:blip r:embed="rId1"/>
          <a:stretch/>
        </p:blipFill>
        <p:spPr>
          <a:xfrm>
            <a:off x="7543800" y="4191120"/>
            <a:ext cx="1157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907560"/>
            <a:ext cx="8569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残疾人也是一个人，们也享有生活的权利，我们要尊重他们，伸出爱的手帮助他们，我们更要向那些身残志坚的人学习，学习他们的精神，学习他们的品质，同时让我们更珍惜我们的一切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C30-3F0A-4946-98F3-F62E1F3961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 rot="184800">
            <a:off x="1751040" y="2138040"/>
            <a:ext cx="624852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同学们再见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51040" y="4343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谢谢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Q05315B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777640" y="5335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残奥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Q056462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562720" y="7621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残奥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5292720" y="4292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Img250238229"/>
          <p:cNvPicPr/>
          <p:nvPr/>
        </p:nvPicPr>
        <p:blipFill>
          <a:blip r:embed="rId1"/>
          <a:stretch/>
        </p:blipFill>
        <p:spPr>
          <a:xfrm>
            <a:off x="457200" y="533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xin_5720905111242812922739"/>
          <p:cNvPicPr/>
          <p:nvPr/>
        </p:nvPicPr>
        <p:blipFill>
          <a:blip r:embed="rId2"/>
          <a:stretch/>
        </p:blipFill>
        <p:spPr>
          <a:xfrm>
            <a:off x="3962520" y="30481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5105520" y="8380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残奥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47920" y="1219320"/>
            <a:ext cx="20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0800" y="2433600"/>
            <a:ext cx="100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大家是否知道一些残疾人的故事呢？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能简短地做一些介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1300000177739121332783086535"/>
          <p:cNvPicPr/>
          <p:nvPr/>
        </p:nvPicPr>
        <p:blipFill>
          <a:blip r:embed="rId1"/>
          <a:stretch/>
        </p:blipFill>
        <p:spPr>
          <a:xfrm>
            <a:off x="533520" y="228600"/>
            <a:ext cx="4628880" cy="61214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8199"/>
          <p:cNvSpPr/>
          <p:nvPr/>
        </p:nvSpPr>
        <p:spPr>
          <a:xfrm>
            <a:off x="4802040" y="3708360"/>
            <a:ext cx="4246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35280" y="1219320"/>
            <a:ext cx="554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世界音乐史上，还没有一个作曲家的名字比贝多芬的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更响亮。人们称贝多芬是“乐圣”、“最伟大的作曲家”，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他来说，是当着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贝多芬从小就显露出音乐的天才，不幸的是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时候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耳聋症。这个他带来沉重的打击和极大的痛苦。但是，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没有使这位作曲家意志消沉和屈服。他曾说过“我要扼住命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喉咙，才能走向胜利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贝多芬一生创作了大量作品。具有代表性的作品是九部交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曲，其中，以第三（英雄）、第五（命运）、第六（田园）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九（合唱）最为著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828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交流一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听了这么多残疾人的故事，你有什么感受？你觉得残疾人有一种怎样的精神呢？大家互相交流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残疾人虽然在生理上有缺陷，但他们残疾而不残废，同样具有奋发图强、努力拼搏的精神，在不同的岗位上、用不同的方式为国家和社会做贡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5:08:52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44:05Z</dcterms:modified>
  <cp:revision>8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