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982-E7E2-4617-ADD7-542EEF39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F6F-DBF2-4A42-BA58-661A636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BE7-6286-46E9-B890-7A6969FB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3E8-FB3A-432D-85F4-1C412D73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EC82-933F-42C7-904A-68EEEC1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8436-2627-4B06-883B-048D5F3C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572C-4E95-4EEA-AB90-C460FE9E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ABE2-B05B-4EDC-AD02-A3E838A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2172-827B-4834-88A2-DAAF004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4DB3-AA60-475E-930C-B94F55A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AFC-A049-4C73-9E2F-E6E3BEC2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EAF-C9FF-4DBC-BBA5-3E3783B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A5B1-206A-45D1-BB01-C73D5E7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F26-74F9-440D-AB86-4E22D24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28D9-38C5-4915-8319-47F5C05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1BD-544A-4457-BAC4-F485B5DD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6E3-38EB-4A06-98E4-AA79EA2A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829-22BF-481B-8F49-A62286D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2C3-9FFA-41A0-9838-E601F53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4AD-671A-4C43-87B4-989AADE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158-CE6C-440F-948F-A546B15E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A65-5448-4150-ADEA-63DE272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F89-AA99-436E-8BAE-EDE6915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4FD-12D2-4F32-BD98-95B2159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AA0-8C8C-483F-BCC2-B4B683BE3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552-0238-479D-86E1-7D7CBE38F9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\\Lhs-3\2-4&#21319;&#21326;&#21644;&#20957;&#21326;\2-&#35270;&#39057;-3&#26377;&#36259;&#30340;&#28082;&#27694;&#23454;&#39564;.mpg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533520" y="1944720"/>
            <a:ext cx="8202600" cy="4444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28480" y="735120"/>
            <a:ext cx="820764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升华和凝华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2"/>
          <p:cNvSpPr/>
          <p:nvPr/>
        </p:nvSpPr>
        <p:spPr>
          <a:xfrm>
            <a:off x="0" y="601560"/>
            <a:ext cx="86756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冬天霜的形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20051227112818434"/>
          <p:cNvPicPr/>
          <p:nvPr/>
        </p:nvPicPr>
        <p:blipFill>
          <a:blip r:embed="rId1"/>
          <a:stretch/>
        </p:blipFill>
        <p:spPr>
          <a:xfrm>
            <a:off x="611280" y="4213080"/>
            <a:ext cx="3805200" cy="210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004"/>
          <p:cNvPicPr/>
          <p:nvPr/>
        </p:nvPicPr>
        <p:blipFill>
          <a:blip r:embed="rId2"/>
          <a:stretch/>
        </p:blipFill>
        <p:spPr>
          <a:xfrm>
            <a:off x="4716360" y="1628640"/>
            <a:ext cx="3875040" cy="468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009"/>
          <p:cNvPicPr/>
          <p:nvPr/>
        </p:nvPicPr>
        <p:blipFill>
          <a:blip r:embed="rId3"/>
          <a:stretch/>
        </p:blipFill>
        <p:spPr>
          <a:xfrm>
            <a:off x="611280" y="1628640"/>
            <a:ext cx="3816360" cy="2525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611280" y="1628640"/>
            <a:ext cx="29527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- 5℃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时在窗上出现的冰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788000" y="1628640"/>
            <a:ext cx="8636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雾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11280" y="5950080"/>
            <a:ext cx="15127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围栏上的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发黑的灯泡4-27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076720" y="3573360"/>
            <a:ext cx="309744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0" y="692280"/>
            <a:ext cx="8532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灯泡用久了，钨丝会变细、内壁会发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241440" cy="396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2006122313041832062"/>
          <p:cNvPicPr/>
          <p:nvPr/>
        </p:nvPicPr>
        <p:blipFill>
          <a:blip r:embed="rId3"/>
          <a:stretch/>
        </p:blipFill>
        <p:spPr>
          <a:xfrm>
            <a:off x="4067280" y="1989000"/>
            <a:ext cx="1904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8" descr="200708171758066468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0" y="601560"/>
            <a:ext cx="86756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冬天的雪花的形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222133"/>
          <p:cNvPicPr/>
          <p:nvPr/>
        </p:nvPicPr>
        <p:blipFill>
          <a:blip r:embed="rId2"/>
          <a:stretch/>
        </p:blipFill>
        <p:spPr>
          <a:xfrm>
            <a:off x="6480000" y="4791240"/>
            <a:ext cx="266400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256046"/>
          <p:cNvPicPr/>
          <p:nvPr/>
        </p:nvPicPr>
        <p:blipFill>
          <a:blip r:embed="rId3"/>
          <a:stretch/>
        </p:blipFill>
        <p:spPr>
          <a:xfrm>
            <a:off x="6467400" y="1700280"/>
            <a:ext cx="2705040" cy="288108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8196"/>
          <p:cNvSpPr/>
          <p:nvPr/>
        </p:nvSpPr>
        <p:spPr>
          <a:xfrm>
            <a:off x="498600" y="55497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0" y="0"/>
            <a:ext cx="85550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知道舞台上的“云雾”是哪里来的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0" y="765000"/>
            <a:ext cx="9143640" cy="6092280"/>
            <a:chOff x="0" y="765000"/>
            <a:chExt cx="9143640" cy="6092280"/>
          </a:xfrm>
        </p:grpSpPr>
        <p:pic>
          <p:nvPicPr>
            <p:cNvPr id="157" name="Picture 12" descr="good2"/>
            <p:cNvPicPr/>
            <p:nvPr/>
          </p:nvPicPr>
          <p:blipFill>
            <a:blip r:embed="rId1"/>
            <a:stretch/>
          </p:blipFill>
          <p:spPr>
            <a:xfrm>
              <a:off x="4488840" y="812880"/>
              <a:ext cx="4654800" cy="60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good"/>
            <p:cNvPicPr/>
            <p:nvPr/>
          </p:nvPicPr>
          <p:blipFill>
            <a:blip r:embed="rId2">
              <a:lum bright="-30000"/>
            </a:blip>
            <a:stretch/>
          </p:blipFill>
          <p:spPr>
            <a:xfrm>
              <a:off x="0" y="765000"/>
              <a:ext cx="4488840" cy="60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1083167047"/>
          <p:cNvPicPr/>
          <p:nvPr/>
        </p:nvPicPr>
        <p:blipFill>
          <a:blip r:embed="rId1"/>
          <a:stretch/>
        </p:blipFill>
        <p:spPr>
          <a:xfrm>
            <a:off x="5148360" y="1052640"/>
            <a:ext cx="3255840" cy="4895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6169680" y="5805360"/>
            <a:ext cx="1278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饮料中加入干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8360" y="260280"/>
            <a:ext cx="2411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干冰简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95280" y="981000"/>
            <a:ext cx="4572000" cy="1620000"/>
          </a:xfrm>
          <a:prstGeom prst="rect">
            <a:avLst/>
          </a:prstGeom>
          <a:solidFill>
            <a:srgbClr val="333399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即是在大气压下以零下摄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78.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度存在的固体二氧化碳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液态二氧化碳冷却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-21.1℃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、     压力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.415Mpa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就形成固态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吸热可直接升华为气体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密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500Kg/m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4681440" cy="2981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5"/>
          <p:cNvSpPr/>
          <p:nvPr/>
        </p:nvSpPr>
        <p:spPr>
          <a:xfrm>
            <a:off x="1763640" y="6093000"/>
            <a:ext cx="12956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干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1"/>
          <p:cNvSpPr/>
          <p:nvPr/>
        </p:nvSpPr>
        <p:spPr>
          <a:xfrm>
            <a:off x="468360" y="4668840"/>
            <a:ext cx="7920000" cy="520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琥珀"/>
              </a:rPr>
              <a:t>舞台上喷出的干冰瞬间升华，从周围吸热，导致温度下降；周围空气里的水蒸气遇冷液化成小水珠，即我们所见到烟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2_039"/>
          <p:cNvPicPr/>
          <p:nvPr/>
        </p:nvPicPr>
        <p:blipFill>
          <a:blip r:embed="rId1"/>
          <a:stretch/>
        </p:blipFill>
        <p:spPr>
          <a:xfrm>
            <a:off x="7885080" y="5605560"/>
            <a:ext cx="895320" cy="847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0" y="620640"/>
            <a:ext cx="838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舞台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烟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之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468360" y="1636560"/>
            <a:ext cx="7920000" cy="2656080"/>
            <a:chOff x="468360" y="1636560"/>
            <a:chExt cx="7920000" cy="2656080"/>
          </a:xfrm>
        </p:grpSpPr>
        <p:pic>
          <p:nvPicPr>
            <p:cNvPr id="169" name="Picture 13" descr="good2"/>
            <p:cNvPicPr/>
            <p:nvPr/>
          </p:nvPicPr>
          <p:blipFill>
            <a:blip r:embed="rId2"/>
            <a:stretch/>
          </p:blipFill>
          <p:spPr>
            <a:xfrm>
              <a:off x="4356360" y="1657440"/>
              <a:ext cx="4032000" cy="26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4" descr="good"/>
            <p:cNvPicPr/>
            <p:nvPr/>
          </p:nvPicPr>
          <p:blipFill>
            <a:blip r:embed="rId3">
              <a:lum bright="-30000"/>
            </a:blip>
            <a:stretch/>
          </p:blipFill>
          <p:spPr>
            <a:xfrm>
              <a:off x="468360" y="1636560"/>
              <a:ext cx="3888000" cy="265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7"/>
          <p:cNvGrpSpPr/>
          <p:nvPr/>
        </p:nvGrpSpPr>
        <p:grpSpPr>
          <a:xfrm>
            <a:off x="1979640" y="1989000"/>
            <a:ext cx="6267240" cy="3307680"/>
            <a:chOff x="1979640" y="1989000"/>
            <a:chExt cx="6267240" cy="3307680"/>
          </a:xfrm>
        </p:grpSpPr>
        <p:sp>
          <p:nvSpPr>
            <p:cNvPr id="172" name="Oval 14"/>
            <p:cNvSpPr/>
            <p:nvPr/>
          </p:nvSpPr>
          <p:spPr>
            <a:xfrm>
              <a:off x="1979640" y="2309040"/>
              <a:ext cx="3391560" cy="2240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3528000" y="3376080"/>
              <a:ext cx="3686760" cy="1920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633920" y="1989000"/>
              <a:ext cx="3612960" cy="2347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2"/>
          <p:cNvGrpSpPr/>
          <p:nvPr/>
        </p:nvGrpSpPr>
        <p:grpSpPr>
          <a:xfrm>
            <a:off x="3132000" y="2854440"/>
            <a:ext cx="1870920" cy="608760"/>
            <a:chOff x="3132000" y="2854440"/>
            <a:chExt cx="1870920" cy="608760"/>
          </a:xfrm>
        </p:grpSpPr>
        <p:sp>
          <p:nvSpPr>
            <p:cNvPr id="176" name="AutoShape 18"/>
            <p:cNvSpPr/>
            <p:nvPr/>
          </p:nvSpPr>
          <p:spPr>
            <a:xfrm>
              <a:off x="3132000" y="2854440"/>
              <a:ext cx="339840" cy="15228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812760" y="2930400"/>
              <a:ext cx="169560" cy="151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4152600" y="3082680"/>
              <a:ext cx="339840" cy="2282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 flipV="1">
              <a:off x="4663080" y="3386880"/>
              <a:ext cx="339840" cy="759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23"/>
          <p:cNvSpPr/>
          <p:nvPr/>
        </p:nvSpPr>
        <p:spPr>
          <a:xfrm>
            <a:off x="3564000" y="1701720"/>
            <a:ext cx="2133360" cy="914400"/>
          </a:xfrm>
          <a:prstGeom prst="wedgeRoundRectCallout">
            <a:avLst>
              <a:gd name="adj1" fmla="val -56694"/>
              <a:gd name="adj2" fmla="val 78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干冰撒入冷云层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-210240" y="111600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PL_054"/>
          <p:cNvPicPr/>
          <p:nvPr/>
        </p:nvPicPr>
        <p:blipFill>
          <a:blip r:embed="rId1"/>
          <a:stretch/>
        </p:blipFill>
        <p:spPr>
          <a:xfrm>
            <a:off x="1692360" y="191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5003640" y="3646440"/>
            <a:ext cx="597240" cy="647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4"/>
          <p:cNvSpPr/>
          <p:nvPr/>
        </p:nvSpPr>
        <p:spPr>
          <a:xfrm>
            <a:off x="5364000" y="4654440"/>
            <a:ext cx="2806920" cy="1366920"/>
          </a:xfrm>
          <a:prstGeom prst="wedgeRoundRectCallout">
            <a:avLst>
              <a:gd name="adj1" fmla="val -52037"/>
              <a:gd name="adj2" fmla="val -102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冰升华吸热，使空气温度急剧下降；空气中的水蒸气凝华成小冰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826920" y="260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四、学以致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PL_054"/>
          <p:cNvPicPr/>
          <p:nvPr/>
        </p:nvPicPr>
        <p:blipFill>
          <a:blip r:embed="rId1"/>
          <a:stretch/>
        </p:blipFill>
        <p:spPr>
          <a:xfrm>
            <a:off x="1687680" y="80028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3011400" y="2813040"/>
            <a:ext cx="4800600" cy="2438280"/>
            <a:chOff x="3011400" y="2813040"/>
            <a:chExt cx="4800600" cy="2438280"/>
          </a:xfrm>
        </p:grpSpPr>
        <p:sp>
          <p:nvSpPr>
            <p:cNvPr id="188" name="Oval 4"/>
            <p:cNvSpPr/>
            <p:nvPr/>
          </p:nvSpPr>
          <p:spPr>
            <a:xfrm>
              <a:off x="3011400" y="3346560"/>
              <a:ext cx="1600200" cy="106668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"/>
            <p:cNvSpPr/>
            <p:nvPr/>
          </p:nvSpPr>
          <p:spPr>
            <a:xfrm>
              <a:off x="4154400" y="2813040"/>
              <a:ext cx="2057400" cy="144792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4154400" y="3651120"/>
              <a:ext cx="2590560" cy="160020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5830560" y="3117960"/>
              <a:ext cx="1981440" cy="99036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70560" y="125892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451400" y="4336920"/>
            <a:ext cx="115236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404600" y="4400640"/>
            <a:ext cx="911880" cy="70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下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4667400" y="3720960"/>
            <a:ext cx="596880" cy="648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2"/>
          <p:cNvSpPr/>
          <p:nvPr/>
        </p:nvSpPr>
        <p:spPr>
          <a:xfrm>
            <a:off x="5819760" y="2297160"/>
            <a:ext cx="1752480" cy="838080"/>
          </a:xfrm>
          <a:prstGeom prst="wedgeRoundRectCallout">
            <a:avLst>
              <a:gd name="adj1" fmla="val -98550"/>
              <a:gd name="adj2" fmla="val 164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冰粒变大而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L_054"/>
          <p:cNvPicPr/>
          <p:nvPr/>
        </p:nvPicPr>
        <p:blipFill>
          <a:blip r:embed="rId1"/>
          <a:stretch/>
        </p:blipFill>
        <p:spPr>
          <a:xfrm>
            <a:off x="1447920" y="60948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3048120" y="2127240"/>
            <a:ext cx="4800600" cy="2438280"/>
            <a:chOff x="3048120" y="2127240"/>
            <a:chExt cx="4800600" cy="2438280"/>
          </a:xfrm>
        </p:grpSpPr>
        <p:sp>
          <p:nvSpPr>
            <p:cNvPr id="199" name="Oval 4"/>
            <p:cNvSpPr/>
            <p:nvPr/>
          </p:nvSpPr>
          <p:spPr>
            <a:xfrm>
              <a:off x="3048120" y="2660760"/>
              <a:ext cx="1600200" cy="106668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"/>
            <p:cNvSpPr/>
            <p:nvPr/>
          </p:nvSpPr>
          <p:spPr>
            <a:xfrm>
              <a:off x="4191120" y="2127240"/>
              <a:ext cx="2057400" cy="144792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4191120" y="2965320"/>
              <a:ext cx="2590560" cy="160020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5867280" y="2432160"/>
              <a:ext cx="1981440" cy="99036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4800600" y="4870440"/>
            <a:ext cx="990720" cy="1654200"/>
          </a:xfrm>
          <a:prstGeom prst="upArrow">
            <a:avLst>
              <a:gd name="adj1" fmla="val 57694"/>
              <a:gd name="adj2" fmla="val 5563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暖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3780000" y="364500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5292720" y="407664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4500720" y="400536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5796000" y="422100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5"/>
          <p:cNvSpPr/>
          <p:nvPr/>
        </p:nvSpPr>
        <p:spPr>
          <a:xfrm>
            <a:off x="3708360" y="4203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6"/>
          <p:cNvSpPr/>
          <p:nvPr/>
        </p:nvSpPr>
        <p:spPr>
          <a:xfrm>
            <a:off x="4495680" y="515772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7"/>
          <p:cNvSpPr/>
          <p:nvPr/>
        </p:nvSpPr>
        <p:spPr>
          <a:xfrm>
            <a:off x="4500720" y="450864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8"/>
          <p:cNvSpPr/>
          <p:nvPr/>
        </p:nvSpPr>
        <p:spPr>
          <a:xfrm>
            <a:off x="3635280" y="494172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9"/>
          <p:cNvSpPr/>
          <p:nvPr/>
        </p:nvSpPr>
        <p:spPr>
          <a:xfrm>
            <a:off x="35053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44197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6443640" y="472428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6443640" y="4149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3"/>
          <p:cNvSpPr/>
          <p:nvPr/>
        </p:nvSpPr>
        <p:spPr>
          <a:xfrm>
            <a:off x="5940360" y="501336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6588000" y="544500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5"/>
          <p:cNvSpPr/>
          <p:nvPr/>
        </p:nvSpPr>
        <p:spPr>
          <a:xfrm>
            <a:off x="60199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6"/>
          <p:cNvSpPr/>
          <p:nvPr/>
        </p:nvSpPr>
        <p:spPr>
          <a:xfrm>
            <a:off x="7164360" y="328464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7"/>
          <p:cNvSpPr/>
          <p:nvPr/>
        </p:nvSpPr>
        <p:spPr>
          <a:xfrm>
            <a:off x="7164360" y="4149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9"/>
          <p:cNvSpPr/>
          <p:nvPr/>
        </p:nvSpPr>
        <p:spPr>
          <a:xfrm>
            <a:off x="5791320" y="836640"/>
            <a:ext cx="2668320" cy="1152360"/>
          </a:xfrm>
          <a:prstGeom prst="wedgeRoundRectCallout">
            <a:avLst>
              <a:gd name="adj1" fmla="val -66120"/>
              <a:gd name="adj2" fmla="val 24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小冰晶遇到暖流时，就熔化为雨点降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-168840" y="79200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1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5003640" y="3141720"/>
            <a:ext cx="597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1460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24000" y="6922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用所学的知识解释这些自然现象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3657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0" y="3068640"/>
            <a:ext cx="4572000" cy="3376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4859280" y="4292640"/>
            <a:ext cx="39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因素影响水蒸气形成露还是霜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0"/>
          <p:cNvSpPr/>
          <p:nvPr/>
        </p:nvSpPr>
        <p:spPr>
          <a:xfrm>
            <a:off x="3997440" y="2276640"/>
            <a:ext cx="122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气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1790640" y="5141880"/>
            <a:ext cx="1197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固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6438960" y="5070600"/>
            <a:ext cx="11574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液 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67360" y="2958840"/>
            <a:ext cx="1752480" cy="1981080"/>
            <a:chOff x="5067360" y="2958840"/>
            <a:chExt cx="1752480" cy="1981080"/>
          </a:xfrm>
        </p:grpSpPr>
        <p:sp>
          <p:nvSpPr>
            <p:cNvPr id="89" name="Line 43"/>
            <p:cNvSpPr/>
            <p:nvPr/>
          </p:nvSpPr>
          <p:spPr>
            <a:xfrm flipH="1" flipV="1">
              <a:off x="5067360" y="2958840"/>
              <a:ext cx="175248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 rot="10800000">
              <a:off x="5067360" y="2958840"/>
              <a:ext cx="175248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32000" y="5229360"/>
            <a:ext cx="3154680" cy="15840"/>
            <a:chOff x="3132000" y="5229360"/>
            <a:chExt cx="3154680" cy="15840"/>
          </a:xfrm>
        </p:grpSpPr>
        <p:sp>
          <p:nvSpPr>
            <p:cNvPr id="92" name="Line 44"/>
            <p:cNvSpPr/>
            <p:nvPr/>
          </p:nvSpPr>
          <p:spPr>
            <a:xfrm>
              <a:off x="3132000" y="5229360"/>
              <a:ext cx="3154680" cy="15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132000" y="5229360"/>
              <a:ext cx="3154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86280" y="5473800"/>
            <a:ext cx="3124080" cy="360"/>
            <a:chOff x="3086280" y="5473800"/>
            <a:chExt cx="3124080" cy="360"/>
          </a:xfrm>
        </p:grpSpPr>
        <p:sp>
          <p:nvSpPr>
            <p:cNvPr id="95" name="Line 45"/>
            <p:cNvSpPr/>
            <p:nvPr/>
          </p:nvSpPr>
          <p:spPr>
            <a:xfrm flipH="1">
              <a:off x="3086280" y="5473800"/>
              <a:ext cx="31240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086280" y="54738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628720" y="2882880"/>
            <a:ext cx="1524240" cy="2130480"/>
            <a:chOff x="2628720" y="2882880"/>
            <a:chExt cx="1524240" cy="2130480"/>
          </a:xfrm>
        </p:grpSpPr>
        <p:sp>
          <p:nvSpPr>
            <p:cNvPr id="98" name="Line 46"/>
            <p:cNvSpPr/>
            <p:nvPr/>
          </p:nvSpPr>
          <p:spPr>
            <a:xfrm flipV="1">
              <a:off x="2629080" y="2882880"/>
              <a:ext cx="1523880" cy="21304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0800000">
              <a:off x="2628720" y="2882880"/>
              <a:ext cx="1523880" cy="21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339640" y="2781360"/>
            <a:ext cx="1600560" cy="2209680"/>
            <a:chOff x="2339640" y="2781360"/>
            <a:chExt cx="1600560" cy="2209680"/>
          </a:xfrm>
        </p:grpSpPr>
        <p:sp>
          <p:nvSpPr>
            <p:cNvPr id="101" name="Line 47"/>
            <p:cNvSpPr/>
            <p:nvPr/>
          </p:nvSpPr>
          <p:spPr>
            <a:xfrm flipH="1">
              <a:off x="2339640" y="2781360"/>
              <a:ext cx="1600200" cy="22096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2781360"/>
              <a:ext cx="16002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8"/>
          <p:cNvSpPr/>
          <p:nvPr/>
        </p:nvSpPr>
        <p:spPr>
          <a:xfrm>
            <a:off x="3827520" y="4761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熔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3825720" y="547992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凝固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95960" y="2882880"/>
            <a:ext cx="1828800" cy="2057400"/>
            <a:chOff x="5295960" y="2882880"/>
            <a:chExt cx="1828800" cy="2057400"/>
          </a:xfrm>
        </p:grpSpPr>
        <p:sp>
          <p:nvSpPr>
            <p:cNvPr id="106" name="Line 68"/>
            <p:cNvSpPr/>
            <p:nvPr/>
          </p:nvSpPr>
          <p:spPr>
            <a:xfrm>
              <a:off x="5295960" y="2882880"/>
              <a:ext cx="1828800" cy="20574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5295960" y="2882880"/>
              <a:ext cx="18288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69"/>
          <p:cNvSpPr/>
          <p:nvPr/>
        </p:nvSpPr>
        <p:spPr>
          <a:xfrm>
            <a:off x="3390840" y="37972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0"/>
          <p:cNvSpPr/>
          <p:nvPr/>
        </p:nvSpPr>
        <p:spPr>
          <a:xfrm>
            <a:off x="2629080" y="31878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1"/>
          <p:cNvSpPr/>
          <p:nvPr/>
        </p:nvSpPr>
        <p:spPr>
          <a:xfrm>
            <a:off x="0" y="765000"/>
            <a:ext cx="8244000" cy="785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温故知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7"/>
          <p:cNvSpPr/>
          <p:nvPr/>
        </p:nvSpPr>
        <p:spPr>
          <a:xfrm rot="2924400">
            <a:off x="5507640" y="3469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液化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8"/>
          <p:cNvSpPr/>
          <p:nvPr/>
        </p:nvSpPr>
        <p:spPr>
          <a:xfrm rot="2893800">
            <a:off x="4899600" y="3901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汽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奇奇奇     大厅里飘雪花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5157720"/>
            <a:ext cx="741708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请你分析一下，只是怎么回事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39640" y="2752920"/>
            <a:ext cx="784872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一个寒冷得夜晚，彼得堡市中心的一个大厅里灯火辉煌，六千支燃烧着的蜡烛，把大厅里的舞会气氛烘托得热气腾腾。突然一位小姐晕倒，旁边的人不知所措。有人喊：“快打开窗户。”打开窗户后，刺骨的寒风涌入大厅，大厅里竟然飘起了雪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826920" y="2706120"/>
            <a:ext cx="7417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消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日在罗布沙漠中发生的奇怪的天气现象，令科考队中的专家不得其解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凌晨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左右，罗布沙漠中开始下雪，直到第二天中午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科考队到达小河目的地前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左右时，雪突然停止，沙丘上均匀地覆盖着约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积雪，茫茫无涯。气温一直在零下十四摄氏度，天空没有阳光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，过了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左右，奇怪的事发生了；就在科考队手忙脚乱地从沙滩车上卸下器材设备，开始向小河墓地靠近的时候，发现脚下踩的不再是雪地，而是干爽的沙地，再远望四周，一眼望不到边的沙漠中哪有雪的影子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A1_247"/>
          <p:cNvPicPr/>
          <p:nvPr/>
        </p:nvPicPr>
        <p:blipFill>
          <a:blip r:embed="rId1"/>
          <a:stretch/>
        </p:blipFill>
        <p:spPr>
          <a:xfrm>
            <a:off x="7812000" y="44370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9"/>
          <p:cNvSpPr/>
          <p:nvPr/>
        </p:nvSpPr>
        <p:spPr>
          <a:xfrm>
            <a:off x="826920" y="692280"/>
            <a:ext cx="7417080" cy="85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怪怪怪   大雪飘满天   瞬间就不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疆罗布沙漠出现罕见天气令科考队专家目瞪口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826920" y="5442120"/>
            <a:ext cx="8317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你推测一下，这可能是什么现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01B-F384-4C3E-9693-D714A3CCF0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1"/>
          <p:cNvSpPr/>
          <p:nvPr/>
        </p:nvSpPr>
        <p:spPr>
          <a:xfrm rot="18261600">
            <a:off x="2394720" y="37332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升华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 rot="18275400">
            <a:off x="1854720" y="3374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凝华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2411280" y="765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六种物态变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327240" y="404640"/>
            <a:ext cx="850680" cy="187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3"/>
          <p:cNvSpPr/>
          <p:nvPr/>
        </p:nvSpPr>
        <p:spPr>
          <a:xfrm>
            <a:off x="3997440" y="2276640"/>
            <a:ext cx="122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气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4"/>
          <p:cNvSpPr/>
          <p:nvPr/>
        </p:nvSpPr>
        <p:spPr>
          <a:xfrm>
            <a:off x="1790640" y="5141880"/>
            <a:ext cx="1197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固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5"/>
          <p:cNvSpPr/>
          <p:nvPr/>
        </p:nvSpPr>
        <p:spPr>
          <a:xfrm>
            <a:off x="6438960" y="5070600"/>
            <a:ext cx="11574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液 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67360" y="2958840"/>
            <a:ext cx="1752480" cy="1981080"/>
            <a:chOff x="5067360" y="2958840"/>
            <a:chExt cx="1752480" cy="1981080"/>
          </a:xfrm>
        </p:grpSpPr>
        <p:sp>
          <p:nvSpPr>
            <p:cNvPr id="250" name="Line 56"/>
            <p:cNvSpPr/>
            <p:nvPr/>
          </p:nvSpPr>
          <p:spPr>
            <a:xfrm flipH="1" flipV="1">
              <a:off x="5067360" y="2958840"/>
              <a:ext cx="175248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5067360" y="2958840"/>
              <a:ext cx="175248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132000" y="5229360"/>
            <a:ext cx="3154680" cy="15840"/>
            <a:chOff x="3132000" y="5229360"/>
            <a:chExt cx="3154680" cy="15840"/>
          </a:xfrm>
        </p:grpSpPr>
        <p:sp>
          <p:nvSpPr>
            <p:cNvPr id="253" name="Line 57"/>
            <p:cNvSpPr/>
            <p:nvPr/>
          </p:nvSpPr>
          <p:spPr>
            <a:xfrm>
              <a:off x="3132000" y="5229360"/>
              <a:ext cx="3154680" cy="15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132000" y="5229360"/>
              <a:ext cx="3154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086280" y="5473800"/>
            <a:ext cx="3124080" cy="360"/>
            <a:chOff x="3086280" y="5473800"/>
            <a:chExt cx="3124080" cy="360"/>
          </a:xfrm>
        </p:grpSpPr>
        <p:sp>
          <p:nvSpPr>
            <p:cNvPr id="256" name="Line 58"/>
            <p:cNvSpPr/>
            <p:nvPr/>
          </p:nvSpPr>
          <p:spPr>
            <a:xfrm flipH="1">
              <a:off x="3086280" y="5473800"/>
              <a:ext cx="31240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086280" y="54738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28720" y="2882880"/>
            <a:ext cx="1524240" cy="2130480"/>
            <a:chOff x="2628720" y="2882880"/>
            <a:chExt cx="1524240" cy="2130480"/>
          </a:xfrm>
        </p:grpSpPr>
        <p:sp>
          <p:nvSpPr>
            <p:cNvPr id="259" name="Line 59"/>
            <p:cNvSpPr/>
            <p:nvPr/>
          </p:nvSpPr>
          <p:spPr>
            <a:xfrm flipV="1">
              <a:off x="2629080" y="2882880"/>
              <a:ext cx="1523880" cy="21304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2628720" y="2882880"/>
              <a:ext cx="1523880" cy="21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339640" y="2781360"/>
            <a:ext cx="1600560" cy="2209680"/>
            <a:chOff x="2339640" y="2781360"/>
            <a:chExt cx="1600560" cy="2209680"/>
          </a:xfrm>
        </p:grpSpPr>
        <p:sp>
          <p:nvSpPr>
            <p:cNvPr id="262" name="Line 60"/>
            <p:cNvSpPr/>
            <p:nvPr/>
          </p:nvSpPr>
          <p:spPr>
            <a:xfrm flipH="1">
              <a:off x="2339640" y="2781360"/>
              <a:ext cx="1600200" cy="22096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340000" y="2781360"/>
              <a:ext cx="16002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61"/>
          <p:cNvSpPr/>
          <p:nvPr/>
        </p:nvSpPr>
        <p:spPr>
          <a:xfrm>
            <a:off x="3827520" y="4761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熔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3825720" y="547992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凝 固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295960" y="2882880"/>
            <a:ext cx="1828800" cy="2057400"/>
            <a:chOff x="5295960" y="2882880"/>
            <a:chExt cx="1828800" cy="2057400"/>
          </a:xfrm>
        </p:grpSpPr>
        <p:sp>
          <p:nvSpPr>
            <p:cNvPr id="267" name="Line 81"/>
            <p:cNvSpPr/>
            <p:nvPr/>
          </p:nvSpPr>
          <p:spPr>
            <a:xfrm>
              <a:off x="5295960" y="2882880"/>
              <a:ext cx="1828800" cy="20574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295960" y="2882880"/>
              <a:ext cx="18288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84"/>
          <p:cNvSpPr/>
          <p:nvPr/>
        </p:nvSpPr>
        <p:spPr>
          <a:xfrm rot="2924400">
            <a:off x="5507640" y="3469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液化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5"/>
          <p:cNvSpPr/>
          <p:nvPr/>
        </p:nvSpPr>
        <p:spPr>
          <a:xfrm rot="2893800">
            <a:off x="4899600" y="3901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汽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765000"/>
            <a:ext cx="82440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温故知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-视频-3有趣的液氮实验.mpg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6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161460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加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，碘发生了什么样的物态变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58920" y="233532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物态变化时，是否出现过液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413388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冷却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了什么样的物态变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258920" y="485460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物态变化时，是否出现过液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71640" y="305424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的这种物态变化，是吸热还是放热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00000" y="557388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的这种物态变化，是吸热还是放热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000" y="3333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0" y="692280"/>
            <a:ext cx="853272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探究活动：   人工造“雪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2492280"/>
            <a:ext cx="784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升华：物质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固态直接变为气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1280" y="4218120"/>
            <a:ext cx="784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凝华：物质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态直接变为固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92280"/>
            <a:ext cx="845964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概   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835280" y="3355920"/>
            <a:ext cx="6624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升华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吸收热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835280" y="5081760"/>
            <a:ext cx="6624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凝华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放出热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6"/>
          <p:cNvSpPr/>
          <p:nvPr/>
        </p:nvSpPr>
        <p:spPr>
          <a:xfrm>
            <a:off x="988920" y="1619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4"/>
          <p:cNvSpPr/>
          <p:nvPr/>
        </p:nvSpPr>
        <p:spPr>
          <a:xfrm>
            <a:off x="1792440" y="344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Image49"/>
          <p:cNvPicPr/>
          <p:nvPr/>
        </p:nvPicPr>
        <p:blipFill>
          <a:blip r:embed="rId1"/>
          <a:srcRect l="0" t="0" r="0" b="-73"/>
          <a:stretch/>
        </p:blipFill>
        <p:spPr>
          <a:xfrm>
            <a:off x="0" y="765000"/>
            <a:ext cx="9396360" cy="6093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95280" y="260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三、联系实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mage49"/>
          <p:cNvPicPr/>
          <p:nvPr/>
        </p:nvPicPr>
        <p:blipFill>
          <a:blip r:embed="rId1"/>
          <a:stretch/>
        </p:blipFill>
        <p:spPr>
          <a:xfrm rot="21417600">
            <a:off x="183960" y="260280"/>
            <a:ext cx="85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rcRect l="0" t="0" r="0" b="-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093080" y="620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宋体"/>
              </a:rPr>
              <a:t>雾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620640"/>
            <a:ext cx="853272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衣橱中的樟脑丸会变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2484360" y="2435400"/>
            <a:ext cx="5975280" cy="384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2007292231019246"/>
          <p:cNvPicPr/>
          <p:nvPr/>
        </p:nvPicPr>
        <p:blipFill>
          <a:blip r:embed="rId2"/>
          <a:stretch/>
        </p:blipFill>
        <p:spPr>
          <a:xfrm>
            <a:off x="900000" y="1557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OT_0028"/>
          <p:cNvPicPr/>
          <p:nvPr/>
        </p:nvPicPr>
        <p:blipFill>
          <a:blip r:embed="rId3"/>
          <a:stretch/>
        </p:blipFill>
        <p:spPr>
          <a:xfrm>
            <a:off x="684360" y="4941720"/>
            <a:ext cx="10411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39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0110000000000010250600207f7000400038000</vt:lpwstr>
  </property>
</Properties>
</file>