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F2-8528-4364-B529-0BE97C6D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69D-9615-4E8E-9E51-2938D20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6E5F-2F3A-4E57-8FE8-AA055B0C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5C85A-BA53-40F5-9183-4E4A260D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54EB-F342-4923-AC0E-07ADB97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344A6-8673-4E25-93D2-29761C6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BEDAD-A643-4B14-8FC1-14EB10C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0843-7C1A-419D-A29D-66FE552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B6D8C-C0D0-4950-84B8-838F5BA9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47458-EE89-4C72-9D3C-8D397C5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E30CF-63A1-4475-B8F3-18A65ED9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F88AD-15DC-4370-AF7C-7F95576B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4F8-2116-472D-B73F-9698C459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F1CD8-450B-4CE3-A81D-550168E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AA8CF-C6A6-422E-BDFE-C0F00EAB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89EC-D2F6-4900-AAFF-68B9B91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FFAFB-2205-41D3-804E-BA4381E7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2D765-B93F-4E8C-B38A-8B847DF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AB183-2DB0-4735-AAAA-B88717E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EFB54-8D0F-42FD-A7B3-DC69F19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CA80-FC93-4AC7-AFFC-B4AC5A2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5531-D4CD-4A96-AD0B-3800E170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5131B-5E3B-4686-94C9-0EAB9F26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575-5C21-42B5-8FE8-1C39A92D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DD399-49C7-42AF-9608-D4ACA1F0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E674D-9D57-4BBA-9D4E-1780F55D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5280-48F3-4DC9-93D7-8F4F0A4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E6BA-851A-43BE-9A26-C3FE7B9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9F2CC-AECD-421D-91DB-EB29708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369C0-7615-4C71-A768-08D7A36E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D255-7A79-4296-9584-204018D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5DA0D-F731-48F3-83CC-AE01957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14B5-8CA5-4761-8477-7A708DC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C3790-6582-4D53-9CC1-A39840D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E095-60FA-4F6B-86C9-00312584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2186-824F-4964-9EDD-04DF2A4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E51DD-4010-4927-B99B-6AF9FC4E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7FA3-C874-4FAF-BBBD-540916ED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53056-6DCF-42BB-9F95-EDC0E0C1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2C4AC-43F2-4E1A-8F87-2DAEBED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E12CB-9444-4CEF-A2BE-A8FDA8A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64935-4C3C-4DA2-A5C4-1EA642B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00FBC-BCFD-4FB2-9059-C097360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3B590-4E8E-45A9-8C4A-2CE0702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93DE4-9796-456C-A420-7BC9CD3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5ABB-E281-4A13-AB0D-4A6C8AB8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B30C6-088B-45A1-9A89-7462FEA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079FC-0E0D-4F0B-B597-CBDD268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924C2-FD3D-435D-9F03-B783E44E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F99AD-2189-4F4B-BB3A-AA48B274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C2086-B70C-4E99-8030-B5C0623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8F140-ABB1-4EE6-857E-F8495506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7503F-964A-45B3-84AD-9634FAB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0F5DC-DC06-4614-BD42-9C648DF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94B4B-D19B-474A-B425-98BD3A1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4E5A5-8E37-4240-A84D-C329968C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7B0-336D-4CDC-B5DA-C15AD9F9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606D6-8E87-4AF7-9F99-BD6D934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6FE0C-4B76-495C-B48E-2B5C47F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A35C8-6736-4934-BD4E-A16B679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F1C0E-F409-4868-9436-67C3979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FC3CC-BB4F-4735-A1AF-C5B127D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75A9A-FB3A-4FF1-8D0D-BAE28D82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E5CD3-6ECF-4CCA-98A1-17E155D2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CF79C-1BB9-4D5F-8B5C-525C6A5F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B9860-B04C-4258-9F10-8EDB2D4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BC00C-F8D7-4320-878D-B8A66EB1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24B-BD5A-4115-83A5-0B9536EA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9BB8E-D032-4049-9906-02EE025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8F506-7C44-4B1C-8E5D-2FA175E3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B1383-0C96-42E7-82E3-26E0D58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A1A4D-FD2C-49A2-A877-287CB85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3CC23-5C1D-4783-A4B2-7E78BE7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2AEB8-DE79-42B1-95B9-EED51BE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ADAE1-01BB-401F-BD46-29273A8B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E30F1-4DFF-4AA5-8B0B-87D86077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F39D3-BEB1-496F-AF8A-4134C6C9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2778-5EE0-4DD1-A852-0FC8780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A50-0EAC-4827-A414-3A78279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560-603B-4755-9705-9781935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1A7-A09D-42FA-A2D4-5740EC13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8B8-00A7-46FF-83D4-815664C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DE34-DAED-4BFA-A7F2-4103D7E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A924-C388-4245-A855-F3624F5F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29E5-90CD-4C89-91EC-B405AE5F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1DF-80DB-4DF0-9D48-E8465AD0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4ADF-D033-4FCA-80AC-C7C7398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9565-254E-4EC6-AD58-D953098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6E5A-4513-41AE-AA19-E8D9C36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8421-0A69-4352-8A1D-818B8EF4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CF02-F37D-4B86-ADDB-44A17A88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6E9-2113-4FAA-AC2B-0E74C661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FC21-99C4-49D8-8D8F-74581E40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1F42-F28A-4C2E-96FF-637E33B7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D3C4-0CAB-483E-B199-D9A64F4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0CBB-5A72-4E1F-BAA9-8A9D17A6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3D6C-860C-4947-ADA6-2DF477F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C93C-5FB5-44B1-8C3D-779C7CB5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20BB-C361-484E-83E9-F93D57B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CD76-ABA7-431C-8A52-EA5CF955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F935-A033-42E7-BA97-DBA265A7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58C0-E980-4C6C-ADA3-99A8CFA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CA4-B2D9-4F1F-9BC5-ACE25995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0DF0-F461-4379-B28A-DCCC632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53BE-D9DA-420B-B4C2-3837080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94B1-9AB4-4EEC-A8D6-82E6BD3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DDF8-8788-4495-8DBF-D8BA1EE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B3DD-253F-40FF-A83E-1854186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85EA-5FCF-4E4A-9E8A-DD0836A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44C5-DBB6-4C2E-AB24-36953CA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9448-A102-497C-B190-FDF21BFD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A136-BC89-4755-9FBF-09A8BDC6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F56C-495B-47A6-A795-7F9F20DD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0B3-48DE-4976-A7AB-E279D0A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A264-70B5-404D-AE15-75D1119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DC46-209F-452C-A4A4-83537FD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CC47-0101-43F0-BF19-0C971F1B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19EF-9502-4694-BD35-F15AC39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D5CD-554C-4C97-82DA-9C23756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0E87-867D-4B6D-8376-C432193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B357-FE18-40D1-91D4-F5FB918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6A92-F128-44B6-BA3F-084A9FF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63C2-B4D8-43F2-AD1D-CFB829D8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01B6-9158-4AA2-84EB-56F57C56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608-F0A1-4931-830C-49CFE49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F0C8-FF31-491A-9C06-4270F749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58426-F5ED-4F81-89DE-EB4F22CC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666E-0504-4CD8-9CCB-CFF7F27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D6E59-E042-4B36-B196-2F69563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7BE9A-9715-4E4C-BEEF-1E288F26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4116-D32F-4977-8A37-D86FAFD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EB6F-1E1A-4579-90A7-A83C576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BA82-04AD-44CC-8097-A254186A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E577-9983-471F-A971-6672E206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840F-A4B0-4A18-B22D-E573E47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D70-28C7-42BC-887F-42593CA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CB27-68D3-4CFC-AAA8-6D9F499E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EAC4-E8E3-401C-B720-CA8DCF2E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9DD50-9CC0-4DA6-B305-20F42AF8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9A11-52B1-4A0A-A509-492D45EA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3E5F8-0024-40A6-8C33-0F3EFDFE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D75C5-2FC4-4078-A90A-482DF81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92C1-0496-4EF0-BA81-791E3E20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CE0B-A284-451B-8009-5C4E6943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3ED0-FB26-45BE-A8F9-7BAB528E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6FF8-D7F8-4AC0-9C90-0085B70E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0BD-F3E7-4484-A570-989A5E3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755D8-4A09-4F97-936F-8809E6C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0001-49C9-4F20-A78B-A0A3C42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0723-2E9F-46E5-BA24-3EE83E2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CDCD-F684-4DE9-B4DF-729F6FE9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71567-419D-4BFB-BDFC-66204196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047C-D910-4129-8741-FBEACDC8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15CF7-F9EE-4364-90C5-D5DB1848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316B-83D3-4DC2-971B-40AEB01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505A-CB7C-4749-A177-B9C7E7AC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22C3-C8BB-481B-94BC-933AA517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C3E-C97D-4E83-AD98-8696806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5E52-55EC-4F3F-8487-436DC6A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D03D-66BD-472B-ADD2-E01DB13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AB10-7182-429A-A4B8-84ADA82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3CFEB-BA6C-40BC-9503-B06F8B7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F7D16-96E5-4137-90F6-98C448D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DD9C-0DF7-46D1-976C-6A7694E9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1A502-47DF-4610-8DF7-286408F1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7781A-4938-474B-82DD-7D9F475C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0B59C-53B8-479F-99DD-126C3A5C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0E7B-9F74-4AF7-9202-AB88508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7B0-1FB4-41E0-BA11-4E0A8ED3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5BE-2717-4655-BFFE-697C124C1F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FF7-2B35-41F2-9B4B-064C1CE52C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F54-68B4-469A-B312-BB1D311209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EECC-B2DD-425A-AB0A-9354E477C8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0264-23B9-40A0-B4EA-78D6E53D18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674-59C5-48E9-A728-4DEBF19F3D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736F-207E-43BB-AD42-FB72784487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1CF-5CEA-4BEE-A6CD-76FA135A8A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D6F-CE44-42D0-84DF-4F3C5CAB4A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FBFD-3EFD-470D-877E-7B048F013C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EE45-52D0-4847-8832-7736B45155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F1B-70B5-40AF-B876-63322C640D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51C6-594D-455A-ABF5-4A3E7525C7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6"/>
          <p:cNvSpPr txBox="1"/>
          <p:nvPr/>
        </p:nvSpPr>
        <p:spPr>
          <a:xfrm>
            <a:off x="1258920" y="1700280"/>
            <a:ext cx="684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社会生活中的民主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250920" y="404640"/>
            <a:ext cx="792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的基本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作为与专制相对立的统治形式和国家形态，具有一些共同的基本价值和基本原则。这些价值和原则以及体现这些价值和原则的一些民主形式、程序和方法，随着社会历史的发展而不断得到继承和发展。重要的特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与平等的统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数裁决与允许少数保留意见的统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举、监督国家公职人员和服从国家公职人员依法管理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与法制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8199"/>
          <p:cNvSpPr/>
          <p:nvPr/>
        </p:nvSpPr>
        <p:spPr>
          <a:xfrm>
            <a:off x="3111480" y="56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6"/>
          <p:cNvSpPr/>
          <p:nvPr/>
        </p:nvSpPr>
        <p:spPr>
          <a:xfrm>
            <a:off x="0" y="0"/>
            <a:ext cx="96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你知道哪些民主选举活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68360" y="1341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村委会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484360" y="285264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居委会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835280" y="429264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人民代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200901061427022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0013729e41140865560f4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caunews_2006110817133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xin_032010525213176505903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20061219093330168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6"/>
          <p:cNvSpPr/>
          <p:nvPr/>
        </p:nvSpPr>
        <p:spPr>
          <a:xfrm>
            <a:off x="0" y="0"/>
            <a:ext cx="96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Arial"/>
              </a:rPr>
              <a:t>我们小学生参加过什么选举活动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476360" y="2492280"/>
            <a:ext cx="41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班干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547640" y="4005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少代会代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8199"/>
          <p:cNvSpPr/>
          <p:nvPr/>
        </p:nvSpPr>
        <p:spPr>
          <a:xfrm>
            <a:off x="1295280" y="215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5"/>
          <p:cNvSpPr/>
          <p:nvPr/>
        </p:nvSpPr>
        <p:spPr>
          <a:xfrm>
            <a:off x="61128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主选举常识抢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324000" y="12682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选举人代会代表时，哪些人有选举权和被选举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250920" y="436572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学生可以参加人民代表选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95280" y="2565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按照宪法规定，选举权与被选举权是公民的一项基本政治权利 。只要年满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周岁、神智健全的本国公民均享有选举权与被选举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2009415109928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人代会代表是怎样产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179280" y="83664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人民代表是由各地区的选民们选举出来的，他们将代表这一地区的所有选民，参政议政，行使民主权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735120" y="2859120"/>
            <a:ext cx="50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27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居（村）委员会干部是怎样产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村民委员会是村民进行自我管理、自我教育、自我服务的基层群众性组织。它是由村民直接投票选举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0" y="56674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居民们自己选出的居委会干部，大家最信得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D081-69F8-41E3-830F-B19B3B838E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6"/>
          <p:cNvSpPr/>
          <p:nvPr/>
        </p:nvSpPr>
        <p:spPr>
          <a:xfrm>
            <a:off x="1692360" y="260280"/>
            <a:ext cx="6337080" cy="3240000"/>
          </a:xfrm>
          <a:prstGeom prst="cloudCallout">
            <a:avLst>
              <a:gd name="adj1" fmla="val -42912"/>
              <a:gd name="adj2" fmla="val 9047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2771640" y="69228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对民主选举的了解，你体会到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3:20:15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8:37Z</dcterms:modified>
  <cp:revision>1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