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EE3-0D2B-4494-B08D-6394AAB4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3A9-206C-4D64-8555-58DAEEF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81F-CDF1-443A-AFE9-E96E2EC1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2F0-3BF7-48C5-B615-7B17CAEA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875-1667-41D9-AAC3-7571D53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257-17FC-4B74-AF1C-E0FE86E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4C8-5721-42DD-9013-F7FCB13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73F-CF87-44B1-8AC6-78FFB72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030-3C48-4673-A491-8B94E73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8DD-42B3-4665-A69F-45A080E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B5F-FD4F-4134-8F93-720DFEDB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639-FFB3-462F-B0CD-20845FC6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47C8-EB0A-4409-84A0-707BE7AD10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9"/>
          <p:cNvSpPr txBox="1"/>
          <p:nvPr/>
        </p:nvSpPr>
        <p:spPr>
          <a:xfrm>
            <a:off x="826920" y="1268280"/>
            <a:ext cx="7490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在地球村的人们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仿宋_GB2312"/>
              </a:rPr>
              <a:t> 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仿宋_GB2312"/>
              </a:rPr>
              <a:t>分析一下人的肤色、身材与他们居住的地理环境有什么关系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Picture 12" descr="u=183001447,1361822637&amp;fm=23&amp;gp=0"/>
          <p:cNvPicPr/>
          <p:nvPr/>
        </p:nvPicPr>
        <p:blipFill>
          <a:blip r:embed="rId1"/>
          <a:stretch/>
        </p:blipFill>
        <p:spPr>
          <a:xfrm>
            <a:off x="3564000" y="3933720"/>
            <a:ext cx="2143080" cy="2924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3"/>
          <p:cNvSpPr/>
          <p:nvPr/>
        </p:nvSpPr>
        <p:spPr>
          <a:xfrm>
            <a:off x="1116000" y="1989000"/>
            <a:ext cx="2448000" cy="1656000"/>
          </a:xfrm>
          <a:prstGeom prst="cloudCallout">
            <a:avLst>
              <a:gd name="adj1" fmla="val -38523"/>
              <a:gd name="adj2" fmla="val 73009"/>
            </a:avLst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发现，住在寒冷地区的人，身高体胖的比较多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5724360" y="2421000"/>
            <a:ext cx="1368720" cy="1366920"/>
          </a:xfrm>
          <a:prstGeom prst="wedgeRoundRectCallout">
            <a:avLst>
              <a:gd name="adj1" fmla="val -85962"/>
              <a:gd name="adj2" fmla="val 63935"/>
              <a:gd name="adj3" fmla="val 16667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认为气候越热，人的肤色越深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7093080" y="2349360"/>
            <a:ext cx="1511280" cy="1368720"/>
          </a:xfrm>
          <a:prstGeom prst="wedgeEllipseCallout">
            <a:avLst>
              <a:gd name="adj1" fmla="val 51050"/>
              <a:gd name="adj2" fmla="val 68791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发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8" name="Picture 22" descr="u=2287977334,450199834&amp;fm=21&amp;gp=0[1]"/>
          <p:cNvPicPr/>
          <p:nvPr/>
        </p:nvPicPr>
        <p:blipFill>
          <a:blip r:embed="rId2"/>
          <a:stretch/>
        </p:blipFill>
        <p:spPr>
          <a:xfrm>
            <a:off x="250920" y="3933720"/>
            <a:ext cx="234000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u=2476161166,855204547&amp;fm=21&amp;gp=0[1]"/>
          <p:cNvPicPr/>
          <p:nvPr/>
        </p:nvPicPr>
        <p:blipFill>
          <a:blip r:embed="rId3"/>
          <a:stretch/>
        </p:blipFill>
        <p:spPr>
          <a:xfrm>
            <a:off x="7164360" y="4005360"/>
            <a:ext cx="197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042920" y="1628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4d4d4d"/>
                </a:solidFill>
                <a:latin typeface="宋体"/>
              </a:rPr>
              <a:t>可以说，目前世界上的三大人种，既有大范围的集中分布，又有效范围的交叉分布。那么还有哪些国家也是这样的呢</a:t>
            </a:r>
            <a:r>
              <a:rPr b="0" lang="en-US" sz="4400" spc="-1" strike="noStrike">
                <a:solidFill>
                  <a:srgbClr val="4d4d4d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63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-117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63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-117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6"/>
          <p:cNvSpPr txBox="1"/>
          <p:nvPr/>
        </p:nvSpPr>
        <p:spPr>
          <a:xfrm>
            <a:off x="468360" y="260280"/>
            <a:ext cx="244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小资料</a:t>
            </a:r>
            <a:endParaRPr b="0" lang="en-US" sz="4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95360" y="1628640"/>
            <a:ext cx="82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　　        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世界各地的人们，使用着不同的语言。到现在为止，没人能确切地说出世界上有多少种语言，不过语言学家大都同意至少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25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～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30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。要知道，光是非洲就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以上，但是使用人数超过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万的语言只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多种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20720" y="9079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仿宋_GB2312"/>
              </a:rPr>
              <a:t>　　        </a:t>
            </a:r>
            <a:r>
              <a:rPr b="0" lang="zh-CN" sz="6000" spc="-1" strike="noStrike">
                <a:solidFill>
                  <a:srgbClr val="4d4d4d"/>
                </a:solidFill>
                <a:latin typeface="Arial"/>
                <a:ea typeface="仿宋_GB2312"/>
              </a:rPr>
              <a:t>你还知道有哪些语言？地球村的人们除了用口头和书面语言以外，还可以用什么方式沟通</a:t>
            </a:r>
            <a:r>
              <a:rPr b="0" lang="en-US" sz="6000" spc="-1" strike="noStrike">
                <a:solidFill>
                  <a:srgbClr val="4d4d4d"/>
                </a:solidFill>
                <a:latin typeface="Arial"/>
                <a:ea typeface="仿宋_GB2312"/>
              </a:rPr>
              <a:t>?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文本框 8199"/>
          <p:cNvSpPr/>
          <p:nvPr/>
        </p:nvSpPr>
        <p:spPr>
          <a:xfrm>
            <a:off x="1292400" y="25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900000" y="1268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  <a:ea typeface="楷体_GB2312"/>
              </a:rPr>
              <a:t>不同的语言反映了不同的文化习惯，如果我们不理解，就会造成误解或闹出笑话。各个国家和民族药相互理解和尊重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684360" y="112536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808b3d"/>
                </a:solidFill>
                <a:latin typeface="Arial"/>
              </a:rPr>
              <a:t>我们再去了解一下，不同国家和民族在语言和文化习惯上有哪些不同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9948-AFFC-4348-918D-3758FE32AD70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6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250920" y="119700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我们去找一找不同国家和民族人们的姓名，看看在排列顺序上有什么不同。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611280" y="765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.</a:t>
            </a:r>
            <a:r>
              <a:rPr b="0" lang="zh-CN" sz="4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不同肤色的居民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68360" y="191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世界上的人，根据他们的外表特征，主要可以分为黄色人种、白色人种和黑色人种。人种虽然不同，但没有优劣之分，都是平等的。不同种族的人都是我们地球村的兄弟姐妹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9"/>
          <p:cNvSpPr/>
          <p:nvPr/>
        </p:nvSpPr>
        <p:spPr>
          <a:xfrm>
            <a:off x="0" y="0"/>
            <a:ext cx="4067280" cy="2016000"/>
          </a:xfrm>
          <a:custGeom>
            <a:avLst/>
            <a:gdLst>
              <a:gd name="textAreaLeft" fmla="*/ 0 w 4067280"/>
              <a:gd name="textAreaRight" fmla="*/ 4067640 w 406728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1128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d4d4d"/>
                </a:solidFill>
                <a:latin typeface="Arial"/>
              </a:rPr>
              <a:t>比较一下，不同人的外表特征有什么不同</a:t>
            </a:r>
            <a:r>
              <a:rPr b="0" lang="en-US" sz="72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52560" y="189000"/>
            <a:ext cx="826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种人肤色黝黑，头发黑呈波浪或鬈曲，黑眼睛，鼻子宽扁，鼻根低矮或中等，鼻突出度小，鼻孔横径较大，凸唇，口宽度大，唇厚，胡须和体毛较少。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3200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白色人种肤色较白或是浅褐色，颧骨较高，鼻梁高而窄，胡子和体毛发达。眼睛及头发颜色不属于白色人种特征，事实上除了雅利安人拥有浅色的眼睛及头发颜色外，其他闪含语系民族及高加索人皆黑色头发及深褐色的眼睛，而浅色的眼睛及头发颜色属于隐性基因，南欧及伊朗人多与闪含族人混血，所以今天这两地之白人多属黑色头发及深褐色的眼睛。</a:t>
            </a:r>
            <a:br>
              <a:rPr sz="4000"/>
            </a:b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290232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色人种，俗称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种人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又称蒙古人种或亚美人种，是世界第二大人种，人数仅次于白色人种。</a:t>
            </a:r>
            <a:br>
              <a:rPr sz="3600"/>
            </a:b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色人种肤色黄，头发粗直并且黑色，眼睛是黑色或深褐色的，面部宽阔，颧骨突出平扁，鼻梁低，胡子和体毛较少，身材为中等高度。肤色在世界所有人种中居中，头发直而硬，唇厚适中，眼睑多有内眦褶；头骨上表现的特征是鼻尖点指数中等，眼眶较高，美洲印第安人面部不象亚洲的蒙古人种那样扁，鼻子的突出度也稍大。上门齿舌面的铲形结构也是黄种人的显著特征。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042920" y="1773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Arial"/>
                <a:ea typeface="仿宋_GB2312"/>
              </a:rPr>
              <a:t>       </a:t>
            </a: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仿宋_GB2312"/>
              </a:rPr>
              <a:t>每个种族都有不同的特点和各自的优势，我们的世界也因此而多姿多彩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87280" y="184464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有人分析，就一般情况而言，体育成绩与不同人种的先天身体素质有关，你认为这种说法有道理吗？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0"/>
            <a:ext cx="2735280" cy="1916280"/>
          </a:xfrm>
          <a:prstGeom prst="rightArrow">
            <a:avLst>
              <a:gd name="adj1" fmla="val 50000"/>
              <a:gd name="adj2" fmla="val 35672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讨论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12400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2.</a:t>
            </a:r>
            <a:r>
              <a:rPr b="0" lang="zh-CN" sz="54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人种的分布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911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长期以来，地理学家和人类学家就认知到。在人类发张早起，人们常起身活在一个地方受到环境的影响，世代相传，身体便逐渐形成了适应环境的特征。因此，在人种形成的早期阶段，受自然环境的影响比较明显，人种分布有一定的地域性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3:48:39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7:03Z</dcterms:modified>
  <cp:revision>17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