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camera.wav" ContentType="audio/x-wav"/>
  <Override PartName="/ppt/media/image22.png" ContentType="image/png"/>
  <Override PartName="/ppt/media/image2.jpeg" ContentType="image/jpeg"/>
  <Override PartName="/ppt/media/image23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glass.wav" ContentType="audio/x-wav"/>
  <Override PartName="/ppt/media/image5.png" ContentType="image/png"/>
  <Override PartName="/ppt/media/image21.jpeg" ContentType="image/jpeg"/>
  <Override PartName="/ppt/media/chimes.wav" ContentType="audio/x-wav"/>
  <Override PartName="/ppt/media/image16.jpeg" ContentType="image/jpeg"/>
  <Override PartName="/ppt/media/ricochet.wav" ContentType="audio/x-wav"/>
  <Override PartName="/ppt/media/image6.jpeg" ContentType="image/jpeg"/>
  <Override PartName="/ppt/media/image25.gif" ContentType="image/gif"/>
  <Override PartName="/ppt/media/type.wav" ContentType="audio/x-wav"/>
  <Override PartName="/ppt/media/image17.png" ContentType="image/png"/>
  <Override PartName="/ppt/media/image24.gif" ContentType="image/gif"/>
  <Override PartName="/ppt/media/image3.jpeg" ContentType="image/jpeg"/>
  <Override PartName="/ppt/media/image1.png" ContentType="image/png"/>
  <Override PartName="/ppt/media/image12.jpeg" ContentType="image/jpeg"/>
  <Override PartName="/ppt/media/cashreg.wav" ContentType="audio/x-wav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4E9-6C0D-4AA8-9DE4-2BCA69FB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86F-649C-4CAF-AE9A-EF739510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224-9002-4CCA-9BB4-8F8E9D95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AB2-3DB1-4F9A-9CE7-144CA57C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887B-14CE-4EAF-B897-9F117036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8C6-5DCC-46CE-A7B9-F9BC945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4C5-F007-4893-8BC3-A867437E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C7F9-FEEE-415F-89E3-5EFE3E5B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4B8-F3CE-4B6C-B103-2D9BD331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05EF-1314-4F96-BD29-34E1D19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DCB-950C-4A46-BAA8-9B73C16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9BF-65A5-41C4-9D71-DA635653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229-90C3-48BE-B78C-06948FC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83B-D06E-4F08-99A6-E04E9C3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596-140B-4679-BA7A-D71CAA35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6F84-E630-4FA4-A3E3-34682BF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D54A-201A-4CC0-AAE6-44763C7E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121-CADA-4303-B6ED-4343B22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81A-583F-485C-9437-93202F6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BE9-86E4-406D-8EB3-C866B1C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BF7-6B82-4CED-92FC-EB823F5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25C-1744-427B-A293-A7E3C51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417-EBBF-4B14-B33C-C48C64E6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BFF-FB27-4DB6-A902-0E5EA9FC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152-AFA3-4869-8CBD-A6E2F1FF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967-35BE-4E9E-AB08-239F6AD40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286,2,&#24187;&#28783;&#29255; 2" TargetMode="External"/><Relationship Id="rId4" Type="http://schemas.openxmlformats.org/officeDocument/2006/relationships/image" Target="../media/image8.gi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glas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335600" y="1125360"/>
            <a:ext cx="667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山坡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821520" y="549360"/>
            <a:ext cx="28616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3300"/>
                </a:solidFill>
                <a:latin typeface="Times New Roman"/>
                <a:ea typeface="隶书"/>
              </a:rPr>
              <a:t>潼关怀古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618640" y="117360"/>
            <a:ext cx="47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山坡羊潼关怀古课件</a:t>
            </a:r>
            <a:r>
              <a:rPr b="1" lang="en-US" sz="3200" spc="-1" strike="noStrike">
                <a:solidFill>
                  <a:srgbClr val="a50021"/>
                </a:solidFill>
                <a:latin typeface="宋体"/>
                <a:ea typeface="宋体"/>
              </a:rPr>
              <a:t>PPT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26" descr="xin_43110105093578129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27"/>
          <p:cNvSpPr/>
          <p:nvPr/>
        </p:nvSpPr>
        <p:spPr>
          <a:xfrm>
            <a:off x="7471440" y="914400"/>
            <a:ext cx="78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山河表里漳关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200400" y="0"/>
            <a:ext cx="85345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突出潼关地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险要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57074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拟人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修辞，把本来静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山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动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了，本来无情的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写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心潮翻滚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曲为心声，一切景语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情语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聚”“怒”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两字透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了诗人极不平静的情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5957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55957"/>
                </a:solidFill>
                <a:latin typeface="Times New Roman"/>
              </a:rPr>
              <a:t>暗示潼关历来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兵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　　必争之地，铺垫</a:t>
            </a:r>
            <a:r>
              <a:rPr b="1" lang="zh-CN" sz="3600" spc="-1" strike="noStrike">
                <a:solidFill>
                  <a:srgbClr val="055957"/>
                </a:solidFill>
                <a:latin typeface="Times New Roman"/>
              </a:rPr>
              <a:t>下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tg_photo"/>
          <p:cNvPicPr/>
          <p:nvPr/>
        </p:nvPicPr>
        <p:blipFill>
          <a:blip r:embed="rId1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99240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字词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200301200008_27055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20051120012418_911713922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9" descr=""/>
          <p:cNvPicPr/>
          <p:nvPr/>
        </p:nvPicPr>
        <p:blipFill>
          <a:blip r:embed="rId3"/>
          <a:stretch/>
        </p:blipFill>
        <p:spPr>
          <a:xfrm>
            <a:off x="3870360" y="1066680"/>
            <a:ext cx="1876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５５"/>
          <p:cNvPicPr/>
          <p:nvPr/>
        </p:nvPicPr>
        <p:blipFill>
          <a:blip r:embed="rId1"/>
          <a:srcRect l="0" t="0" r="32344" b="0"/>
          <a:stretch/>
        </p:blipFill>
        <p:spPr>
          <a:xfrm>
            <a:off x="5715000" y="457200"/>
            <a:ext cx="3429000" cy="6248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107240" y="380880"/>
            <a:ext cx="15634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　百姓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　百姓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0505160920471"/>
          <p:cNvPicPr/>
          <p:nvPr/>
        </p:nvPicPr>
        <p:blipFill>
          <a:blip r:embed="rId2"/>
          <a:srcRect l="0" t="0" r="25202" b="0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4"/>
          <p:cNvSpPr/>
          <p:nvPr/>
        </p:nvSpPr>
        <p:spPr>
          <a:xfrm>
            <a:off x="1763640" y="2492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读书"/>
          <p:cNvPicPr/>
          <p:nvPr/>
        </p:nvPicPr>
        <p:blipFill>
          <a:blip r:embed="rId1"/>
          <a:stretch/>
        </p:blipFill>
        <p:spPr>
          <a:xfrm>
            <a:off x="304920" y="304920"/>
            <a:ext cx="2752560" cy="60195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6"/>
          <p:cNvGrpSpPr/>
          <p:nvPr/>
        </p:nvGrpSpPr>
        <p:grpSpPr>
          <a:xfrm>
            <a:off x="3581280" y="1523880"/>
            <a:ext cx="5181840" cy="4875120"/>
            <a:chOff x="3581280" y="1523880"/>
            <a:chExt cx="5181840" cy="4875120"/>
          </a:xfrm>
        </p:grpSpPr>
        <p:sp>
          <p:nvSpPr>
            <p:cNvPr id="139" name="Rectangle 5"/>
            <p:cNvSpPr/>
            <p:nvPr/>
          </p:nvSpPr>
          <p:spPr>
            <a:xfrm>
              <a:off x="3581280" y="1523880"/>
              <a:ext cx="5181840" cy="48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3581280" y="1523880"/>
              <a:ext cx="5181840" cy="48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小令，以深邃的历史眼光揭示出一条颠扑不破的真理：「</a:t>
              </a:r>
              <a:r>
                <a:rPr b="0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兴，百姓苦；亡，百姓苦！</a:t>
              </a: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」即不管封建王朝如何更迭，在他们的争城夺地的战争中蒙受灾难的，还是那些无辜的老百姓。它像一支高烧的红烛，照亮了人们的眼睛，使之认识到象征封建政权的宫阙，它的兴建是无数老百姓的白骨垒起来的；它的倒塌也有无数老百姓的白骨做了它的殉葬品。表达了诗人</a:t>
              </a:r>
              <a:r>
                <a:rPr b="0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对劳动人民深切的同情</a:t>
              </a: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4898160" y="6858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20cdc"/>
                </a:solidFill>
                <a:latin typeface="Times New Roman"/>
                <a:ea typeface="华文彩云"/>
              </a:rPr>
              <a:t>内　容　评　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CF6-03EE-47BD-BCDD-FF300C54E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感发"/>
          <p:cNvPicPr/>
          <p:nvPr/>
        </p:nvPicPr>
        <p:blipFill>
          <a:blip r:embed="rId2"/>
          <a:stretch/>
        </p:blipFill>
        <p:spPr>
          <a:xfrm>
            <a:off x="5791320" y="3111480"/>
            <a:ext cx="3352680" cy="3746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1660680" y="10875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04920"/>
            <a:ext cx="914400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积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昨日入城市，归来泪满巾。遍身罗绮者，不是养蚕人。（张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d20cdc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d20cdc"/>
                </a:solidFill>
                <a:latin typeface="Times New Roman"/>
              </a:rPr>
              <a:t>春种一粒粟，秋收万颗籽。四海无闲田，农夫犹饿死。（李绅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③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采菱辛苦废犁锄，血指流丹鬼质枯，无力买田聊种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近来湖面亦收租。 （范成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雨足高田白，披蓑半夜耕。人牛力俱尽，东方殊未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（崔道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 ⑤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朱门酒肉臭，路有冻死骨。（杜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GIF-475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GIF-409"/>
          <p:cNvPicPr/>
          <p:nvPr/>
        </p:nvPicPr>
        <p:blipFill>
          <a:blip r:embed="rId4"/>
          <a:stretch/>
        </p:blipFill>
        <p:spPr>
          <a:xfrm>
            <a:off x="304920" y="5334120"/>
            <a:ext cx="1279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1332000" y="429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102675_d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20059248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914400" y="914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华　　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NewsMedia_4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641920" y="1143000"/>
            <a:ext cx="152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黄　河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zhangyanghao"/>
          <p:cNvPicPr/>
          <p:nvPr/>
        </p:nvPicPr>
        <p:blipFill>
          <a:blip r:embed="rId1"/>
          <a:stretch/>
        </p:blipFill>
        <p:spPr>
          <a:xfrm>
            <a:off x="5162400" y="1066680"/>
            <a:ext cx="39816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228600" y="1295280"/>
            <a:ext cx="4800600" cy="5105160"/>
            <a:chOff x="228600" y="1295280"/>
            <a:chExt cx="4800600" cy="5105160"/>
          </a:xfrm>
        </p:grpSpPr>
        <p:sp>
          <p:nvSpPr>
            <p:cNvPr id="98" name="Rectangle 6"/>
            <p:cNvSpPr/>
            <p:nvPr/>
          </p:nvSpPr>
          <p:spPr>
            <a:xfrm>
              <a:off x="228600" y="1295280"/>
              <a:ext cx="480060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228600" y="1295280"/>
              <a:ext cx="480060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（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1270--1329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） 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元散曲家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字希孟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号云庄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济南（今属山东）人。曾 任监察御史，以批评时政为权贵所忌，免官。后复官至礼部尚书，参议中书省事。辞职归隐，屡召不赴。天历二年关中大旱，出任陕西行台中丞，办理赈灾，以</a:t>
              </a:r>
              <a:r>
                <a:rPr b="1" lang="zh-CN" sz="2400" spc="-1" strike="noStrike">
                  <a:solidFill>
                    <a:srgbClr val="9900cc"/>
                  </a:solidFill>
                  <a:latin typeface="新宋体"/>
                  <a:ea typeface="新宋体"/>
                </a:rPr>
                <a:t>积劳病卒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其散曲多描写</a:t>
              </a:r>
              <a:r>
                <a:rPr b="1" lang="zh-CN" sz="2400" spc="-1" strike="noStrike">
                  <a:solidFill>
                    <a:srgbClr val="cc0099"/>
                  </a:solidFill>
                  <a:latin typeface="新宋体"/>
                  <a:ea typeface="新宋体"/>
                </a:rPr>
                <a:t>弃官后田园隐逸生活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对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官场黑暗时流露不满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又能诗，有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《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云庄休居自适小乐府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》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、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《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云庄类稿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》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他的作品题材广泛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风格清逸而豪放。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8"/>
          <p:cNvSpPr/>
          <p:nvPr/>
        </p:nvSpPr>
        <p:spPr>
          <a:xfrm>
            <a:off x="1685520" y="380880"/>
            <a:ext cx="19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0cdc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d20cdc"/>
                </a:solidFill>
                <a:latin typeface="Times New Roman"/>
                <a:ea typeface="华文行楷"/>
              </a:rPr>
              <a:t>作者小传</a:t>
            </a:r>
            <a:r>
              <a:rPr b="0" lang="en-US" sz="4000" spc="-1" strike="noStrike">
                <a:solidFill>
                  <a:srgbClr val="d20cdc"/>
                </a:solidFill>
                <a:latin typeface="Times New Roman"/>
                <a:ea typeface="华文行楷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580720" y="1066680"/>
            <a:ext cx="667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张养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u=1503215595,84173397&amp;gp=2"/>
          <p:cNvPicPr/>
          <p:nvPr/>
        </p:nvPicPr>
        <p:blipFill>
          <a:blip r:embed="rId1"/>
          <a:stretch/>
        </p:blipFill>
        <p:spPr>
          <a:xfrm>
            <a:off x="0" y="228600"/>
            <a:ext cx="457200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该姓"/>
          <p:cNvPicPr/>
          <p:nvPr/>
        </p:nvPicPr>
        <p:blipFill>
          <a:blip r:embed="rId2"/>
          <a:srcRect l="19689" t="0" r="0" b="0"/>
          <a:stretch/>
        </p:blipFill>
        <p:spPr>
          <a:xfrm>
            <a:off x="4600440" y="85680"/>
            <a:ext cx="4543560" cy="6620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0" y="15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幼圆"/>
              </a:rPr>
              <a:t>当时关中大旱，饥民相食，灾情十分严峻。经历过宦海浮沉的张养浩本已厌倦官场生活，弃官归养；但得知关中百姓外境危困，毅然受命，出任陕西行台中丞，振济灾民，因此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幼圆"/>
                <a:hlinkClick r:id="rId3"/>
              </a:rPr>
              <a:t>途经潼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幼圆"/>
              </a:rPr>
              <a:t>。后因积劳成疾，客死任所。张养浩对百姓充满深切的同情，有着强烈的忧患意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39720" y="5562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幼圆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GIF-378"/>
          <p:cNvPicPr/>
          <p:nvPr/>
        </p:nvPicPr>
        <p:blipFill>
          <a:blip r:embed="rId4"/>
          <a:stretch/>
        </p:blipFill>
        <p:spPr>
          <a:xfrm flipH="1" rot="10800000">
            <a:off x="8528040" y="6302160"/>
            <a:ext cx="6159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37" descr="u=3911727110,4264269398&amp;gp=3"/>
          <p:cNvPicPr/>
          <p:nvPr/>
        </p:nvPicPr>
        <p:blipFill>
          <a:blip r:embed="rId1"/>
          <a:stretch/>
        </p:blipFill>
        <p:spPr>
          <a:xfrm>
            <a:off x="0" y="44197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35" descr="20050907140425221196037146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27"/>
          <p:cNvSpPr/>
          <p:nvPr/>
        </p:nvSpPr>
        <p:spPr>
          <a:xfrm>
            <a:off x="228600" y="4419720"/>
            <a:ext cx="32767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百姓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百姓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32"/>
          <p:cNvSpPr/>
          <p:nvPr/>
        </p:nvSpPr>
        <p:spPr>
          <a:xfrm>
            <a:off x="0" y="2286000"/>
            <a:ext cx="45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望西都，意踌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伤心秦汉经行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宫阙万间都做了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33"/>
          <p:cNvSpPr/>
          <p:nvPr/>
        </p:nvSpPr>
        <p:spPr>
          <a:xfrm>
            <a:off x="152280" y="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峰峦如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波涛如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山河表里潼关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6" descr="NewsMedia_4700"/>
          <p:cNvPicPr/>
          <p:nvPr/>
        </p:nvPicPr>
        <p:blipFill>
          <a:blip r:embed="rId3"/>
          <a:stretch/>
        </p:blipFill>
        <p:spPr>
          <a:xfrm>
            <a:off x="3733920" y="3200400"/>
            <a:ext cx="5410080" cy="350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9" descr="xinsrc_162040226085213457203"/>
          <p:cNvPicPr/>
          <p:nvPr/>
        </p:nvPicPr>
        <p:blipFill>
          <a:blip r:embed="rId4"/>
          <a:stretch/>
        </p:blipFill>
        <p:spPr>
          <a:xfrm>
            <a:off x="3657600" y="32004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1" descr="0429huashan06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0"/>
          <p:cNvSpPr/>
          <p:nvPr/>
        </p:nvSpPr>
        <p:spPr>
          <a:xfrm>
            <a:off x="192708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峰峦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2" descr="20050907140425221196037146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8194"/>
          <p:cNvSpPr/>
          <p:nvPr/>
        </p:nvSpPr>
        <p:spPr>
          <a:xfrm>
            <a:off x="1619280" y="162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NewsMedia_4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206400" y="1219320"/>
            <a:ext cx="78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波　涛　如　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04:42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07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