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11.jpeg" ContentType="image/jpeg"/>
  <Override PartName="/ppt/media/chimes.wav" ContentType="audio/x-wav"/>
  <Override PartName="/ppt/media/image16.png" ContentType="image/png"/>
  <Override PartName="/ppt/media/image7.png" ContentType="image/png"/>
  <Override PartName="/ppt/media/image1.jpeg" ContentType="image/jpeg"/>
  <Override PartName="/ppt/media/camera.wav" ContentType="audio/x-wav"/>
  <Override PartName="/ppt/media/image18.jpeg" ContentType="image/jpeg"/>
  <Override PartName="/ppt/media/image12.png" ContentType="image/png"/>
  <Override PartName="/ppt/media/image17.wmf" ContentType="image/x-wmf"/>
  <Override PartName="/ppt/media/image15.jpeg" ContentType="image/jpeg"/>
  <Override PartName="/ppt/media/image14.gif" ContentType="image/gif"/>
  <Override PartName="/ppt/media/cashreg.wav" ContentType="audio/x-wav"/>
  <Override PartName="/ppt/media/image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10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AEA-6367-4BD8-96AE-7EB1AB4E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F8B-CF2B-4F75-BDF1-7441A0B5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601E4-B25C-4BDF-A005-C497B08D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8ED-C4C4-4D48-8ED7-148BF186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D9DCE-EB4A-49C0-8349-D631A923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E0D7E-E7ED-4A24-8836-0136ED4E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BDF4E-56F4-476C-BCD5-F24D9AEA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F9E0A-83F7-4844-A296-F5DEC390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DF653-E211-4457-8598-6CA843A4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2BC34-043F-4A44-B73F-EA245BB8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E6E84-2E28-4E65-BD20-01CB6CE7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66121-8BA3-4810-BE3F-2421B2CA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27A45-705D-4973-9BCB-37BFA078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1D694-EC23-4BA7-8578-FFC7C1D0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228-1E5C-440C-AD60-B385FBCC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815B1-DC9F-4C08-AD85-AA8711AC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275E-F378-48FA-B29F-832FE637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6FBB-AFFD-431A-964C-63E52BB6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55A2-010C-4628-8376-D1508510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17AE-BFAB-4525-846D-DD09B090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C8FD-5630-4C0C-B203-9944DDBE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C5E9-86E5-4F20-AD52-D28BA310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D167-B0AF-479C-8C4C-1BB422ED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1B2-37D7-4A0B-AF20-85BE19B7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5F00-D9DE-40B6-A022-37B431DB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C895-20D9-47B7-BC10-5069F2A4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89B6-841C-4697-B725-B447F377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BAF7-DCD1-4886-8FE2-6E226FA1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7E1F-53F0-4F08-B0AE-34B1035E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7719F-1E3C-4954-9438-E125D761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8E86A-4CC4-4063-A792-34A45358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275A2-C62A-4324-AACE-66675F49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661FE-10AA-4B20-8F40-22A8FFCC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79E1B-2E33-4A37-9D5A-3C911D23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01D-6A4A-4319-B0AD-2B1295E2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AA1EA-FF82-4097-9E27-14A03B35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CF016-FF61-4835-BA09-F78E0E18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C9CF7-004E-46B0-965A-D017F25B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5A81D-4660-41EE-93F7-E770F9CE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F295E-2BF2-4F80-A2D9-117B9A52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65301-2479-486B-AE23-9CE571CA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372DC-DD8D-45C5-B025-A87886E6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08D-069C-4B4F-8E55-B6ED873B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55814-C6C2-4732-9BCC-E4A75478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98C8-305E-4D36-910A-03FC2F15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CF6B2-EE7B-4ED8-ABBE-0D410A28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BABF7-C156-4565-8C31-F5FBEF8F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31494-3EB2-4F4F-8C16-51A42818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46E96-4601-496C-BA61-E2B999E6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B2A9A-C76D-43D2-8E50-D612B65E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40B1F-7723-492C-8CFF-08A9258F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C2810-945F-4F88-AAC3-287D8D7B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A182D-7A23-4763-869F-D4E79735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1694B-4675-4825-B828-7C9B7CE4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F6D72-1C45-4B77-A95C-4E9F08B3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500B-093B-480F-8479-2E9F30F8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E9609-389B-4A2F-9EFE-8714347D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A7CF0-4113-4BD9-BEA9-1C4B3A65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DC947-E6DE-47EB-836A-86A998A6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61B5A-E0E2-4028-93FB-A4577AEF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71CC2-ACC1-42DE-BA93-5EE2717D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1D9A7-0A2C-4ABE-B689-068BFA4A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144A8-1E26-40A7-B6B6-6C640B62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84B19-E542-41D1-A14C-16593712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91C7C-FBB0-42A8-A660-2E729D7F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5341E-7021-4F40-B1EA-81627C94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D227-9731-4898-938C-EABC3A6A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6EAB0-19FA-4808-9EEA-C52AF1ED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9FA41-5256-481C-AA7F-AEB46D74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17AB9-E563-48B5-B01C-7F2B6CB3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769D8-60A3-4436-BBBD-738E1A1F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670D6-CDB7-480E-980E-3D1F5F50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DF8CB-D068-42F6-9449-1A560779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4FDCF-39F1-4B04-A5F1-B31B9894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1A375-8E2A-47DC-B789-456BEA0C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36AD4-ABBE-4B76-8ADA-7849805B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821B2-519E-4CAB-8B1E-4F508A86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949-70E7-47CC-8202-B65E07F5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B3A77-1B66-4303-8DC3-0E9673D6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1A542-A601-4BC3-862E-93C90F71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71B9B-8E12-4993-A809-DDB40E28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B0A1C-AF5F-4AEB-AB8B-24D3063C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8C185-C174-49F1-8B52-59EA4595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98739-7089-4C9E-B9C8-9754A33F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6267B-D206-4C9F-8A20-0312A4B1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F6D0D-1AAC-4F18-AD86-171D8F21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AE0A5-78C8-46AB-9AD5-FDC1576E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E76A2-FD95-436A-81F6-926E0ACE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1AE-D5D1-4CE2-9611-EDCB1529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35471-F199-4316-B277-0CAFC3EC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5E163-E3A8-4126-8F3A-F771ED94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877B1-7A0F-481C-8E25-7D23BDCA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6F448-1E15-4270-907E-7229FAB7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33A3C-2CEE-4553-B7C0-E4CBA1D1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8E7B6-12BE-4EC2-A951-3DAE712E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261F5-9CFA-45CF-B874-EF960234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66A2-CDB5-4764-9674-A05A2D90E2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387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B8AB-440B-4667-A8FF-7D0323D9926B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CC65-F631-494D-991A-437FEB06CC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83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5BDF-5386-4D83-9FFD-0892360026E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69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49AA-1532-435C-8D59-9814F473840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2824-6A7A-4B8D-B764-7395C9ABB8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9E04-5EB9-47CE-89A3-E4A16464CF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301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DBA3-59E6-4161-B51F-1E001346A8D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6.png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6.png"/><Relationship Id="rId6" Type="http://schemas.openxmlformats.org/officeDocument/2006/relationships/image" Target="../media/image17.wmf"/><Relationship Id="rId7" Type="http://schemas.openxmlformats.org/officeDocument/2006/relationships/image" Target="../media/image16.png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qd160.com/member/wytd/shiwu/junheng/" TargetMode="External"/><Relationship Id="rId3" Type="http://schemas.openxmlformats.org/officeDocument/2006/relationships/image" Target="../media/image9.gif"/><Relationship Id="rId4" Type="http://schemas.openxmlformats.org/officeDocument/2006/relationships/hyperlink" Target="http://www.23mm.net/sucai/img3/514/32.gif" TargetMode="External"/><Relationship Id="rId5" Type="http://schemas.openxmlformats.org/officeDocument/2006/relationships/image" Target="../media/image10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23mm.net/img2009/02/05/12.gif" TargetMode="External"/><Relationship Id="rId3" Type="http://schemas.openxmlformats.org/officeDocument/2006/relationships/image" Target="../media/image14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WordArt 2"/>
          <p:cNvSpPr txBox="1"/>
          <p:nvPr/>
        </p:nvSpPr>
        <p:spPr>
          <a:xfrm>
            <a:off x="1116000" y="1341360"/>
            <a:ext cx="6888240" cy="17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善用法律保护自己课件</a:t>
            </a:r>
            <a:r>
              <a:rPr b="1" lang="en-US" sz="40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模板下载</a:t>
            </a:r>
            <a:endParaRPr b="1" lang="en-US" sz="40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1258920" y="3645000"/>
            <a:ext cx="2563920" cy="1888920"/>
          </a:xfrm>
          <a:prstGeom prst="rect">
            <a:avLst/>
          </a:prstGeom>
          <a:ln w="0">
            <a:noFill/>
          </a:ln>
        </p:spPr>
      </p:pic>
      <p:sp>
        <p:nvSpPr>
          <p:cNvPr id="438" name="矩形 1"/>
          <p:cNvSpPr/>
          <p:nvPr/>
        </p:nvSpPr>
        <p:spPr>
          <a:xfrm>
            <a:off x="3456720" y="6732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思想品德教学课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6155"/>
          <p:cNvSpPr/>
          <p:nvPr/>
        </p:nvSpPr>
        <p:spPr>
          <a:xfrm>
            <a:off x="23760" y="64533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371600" cy="8985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3"/>
          <p:cNvSpPr/>
          <p:nvPr/>
        </p:nvSpPr>
        <p:spPr>
          <a:xfrm>
            <a:off x="755640" y="765000"/>
            <a:ext cx="7272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天，我下决心偷偷跑出家去找妈妈。在妈妈的鼓励下，我给市妇联写了这一封信，希望他们能够帮帮我，我要上法院告我爸爸。依靠市法律援助中心的帮助，我们母女俩一起将爸爸告上法庭，要求变更我的抚养关系，爸爸要承担相应的抚养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1547640" y="436572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同学甲：到法院打官司，是不光彩的的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47640" y="494172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同学乙：到法院打官司的人，都是违法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1692360" y="544500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请你做个简要评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84360" y="2924280"/>
            <a:ext cx="658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维权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5410080" y="260280"/>
            <a:ext cx="27432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仿宋_GB2312"/>
                <a:ea typeface="仿宋_GB2312"/>
              </a:rPr>
              <a:t>法律服务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仿宋_GB2312"/>
                <a:ea typeface="仿宋_GB2312"/>
              </a:rPr>
              <a:t>律师事务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仿宋_GB2312"/>
                <a:ea typeface="仿宋_GB2312"/>
              </a:rPr>
              <a:t>公证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仿宋_GB2312"/>
                <a:ea typeface="仿宋_GB2312"/>
              </a:rPr>
              <a:t>法律援助中心（</a:t>
            </a:r>
            <a:r>
              <a:rPr b="1" lang="en-US" sz="3200" spc="-1" strike="noStrike">
                <a:solidFill>
                  <a:srgbClr val="a50021"/>
                </a:solidFill>
                <a:latin typeface="仿宋_GB2312"/>
                <a:ea typeface="仿宋_GB2312"/>
              </a:rPr>
              <a:t>12348</a:t>
            </a:r>
            <a:r>
              <a:rPr b="1" lang="zh-CN" sz="3200" spc="-1" strike="noStrike">
                <a:solidFill>
                  <a:srgbClr val="a50021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2700360" y="1916280"/>
            <a:ext cx="360360" cy="2209680"/>
          </a:xfrm>
          <a:custGeom>
            <a:avLst/>
            <a:gdLst>
              <a:gd name="textAreaLeft" fmla="*/ 230400 w 360360"/>
              <a:gd name="textAreaRight" fmla="*/ 360720 w 360360"/>
              <a:gd name="textAreaTop" fmla="*/ 57240 h 2209680"/>
              <a:gd name="textAreaBottom" fmla="*/ 215244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3203640" y="3645000"/>
            <a:ext cx="10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投诉反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3132000" y="1268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咨询，寻求帮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5076720" y="649440"/>
            <a:ext cx="152640" cy="2286000"/>
          </a:xfrm>
          <a:custGeom>
            <a:avLst/>
            <a:gdLst>
              <a:gd name="textAreaLeft" fmla="*/ 97560 w 152640"/>
              <a:gd name="textAreaRight" fmla="*/ 15300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"/>
          <p:cNvSpPr/>
          <p:nvPr/>
        </p:nvSpPr>
        <p:spPr>
          <a:xfrm>
            <a:off x="4168800" y="36450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a50021"/>
                </a:solidFill>
                <a:latin typeface="仿宋_GB2312"/>
                <a:ea typeface="仿宋_GB2312"/>
              </a:rPr>
              <a:t>当地政府、公安局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a50021"/>
                </a:solidFill>
                <a:latin typeface="仿宋_GB2312"/>
                <a:ea typeface="仿宋_GB2312"/>
              </a:rPr>
              <a:t>妇联、新闻媒体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仿宋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1692360" y="220500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非诉讼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1835280" y="494172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诉讼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2843280" y="530064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打官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1332000" y="2852640"/>
            <a:ext cx="360360" cy="2521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de6ff"/>
            </a:gs>
            <a:gs pos="100000">
              <a:srgbClr val="fdd3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-320400" y="2852640"/>
            <a:ext cx="16426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f1e"/>
                </a:solidFill>
                <a:latin typeface="Times New Roman"/>
                <a:ea typeface="隶书"/>
              </a:rPr>
              <a:t>诉  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059280" y="1197000"/>
            <a:ext cx="295416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f1e"/>
                </a:solidFill>
                <a:latin typeface="Arial"/>
                <a:ea typeface="楷体_GB2312"/>
              </a:rPr>
              <a:t>刑事诉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f1e"/>
                </a:solidFill>
                <a:latin typeface="Arial"/>
                <a:ea typeface="楷体_GB2312"/>
              </a:rPr>
              <a:t>民事诉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f1e"/>
                </a:solidFill>
                <a:latin typeface="Arial"/>
                <a:ea typeface="楷体_GB2312"/>
              </a:rPr>
              <a:t>行政诉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6372360" y="549360"/>
            <a:ext cx="230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f1e"/>
                </a:solidFill>
                <a:latin typeface="Arial"/>
                <a:ea typeface="楷体_GB2312"/>
              </a:rPr>
              <a:t>公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f1e"/>
                </a:solidFill>
                <a:latin typeface="Arial"/>
                <a:ea typeface="楷体_GB2312"/>
              </a:rPr>
              <a:t>自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5"/>
          <p:cNvSpPr/>
          <p:nvPr/>
        </p:nvSpPr>
        <p:spPr>
          <a:xfrm>
            <a:off x="2268360" y="1413000"/>
            <a:ext cx="648000" cy="433440"/>
          </a:xfrm>
          <a:prstGeom prst="rightArrow">
            <a:avLst>
              <a:gd name="adj1" fmla="val 50000"/>
              <a:gd name="adj2" fmla="val 37361"/>
            </a:avLst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6"/>
          <p:cNvSpPr/>
          <p:nvPr/>
        </p:nvSpPr>
        <p:spPr>
          <a:xfrm>
            <a:off x="2268360" y="3284640"/>
            <a:ext cx="648000" cy="433440"/>
          </a:xfrm>
          <a:prstGeom prst="rightArrow">
            <a:avLst>
              <a:gd name="adj1" fmla="val 50000"/>
              <a:gd name="adj2" fmla="val 37361"/>
            </a:avLst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2340000" y="5300640"/>
            <a:ext cx="647640" cy="433440"/>
          </a:xfrm>
          <a:prstGeom prst="rightArrow">
            <a:avLst>
              <a:gd name="adj1" fmla="val 50000"/>
              <a:gd name="adj2" fmla="val 37341"/>
            </a:avLst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8"/>
          <p:cNvSpPr/>
          <p:nvPr/>
        </p:nvSpPr>
        <p:spPr>
          <a:xfrm>
            <a:off x="1547640" y="1628640"/>
            <a:ext cx="358920" cy="4032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104760 h 4032360"/>
              <a:gd name="textAreaBottom" fmla="*/ 392760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9"/>
          <p:cNvSpPr/>
          <p:nvPr/>
        </p:nvSpPr>
        <p:spPr>
          <a:xfrm>
            <a:off x="5796000" y="83664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250920" y="26028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f1e"/>
                </a:solidFill>
                <a:latin typeface="Arial"/>
                <a:ea typeface="宋体"/>
              </a:rPr>
              <a:t>诉讼的类型</a:t>
            </a:r>
            <a:r>
              <a:rPr b="1" lang="en-US" sz="4400" spc="-1" strike="noStrike">
                <a:solidFill>
                  <a:srgbClr val="000f1e"/>
                </a:solidFill>
                <a:latin typeface="Arial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684360" y="54936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天下午，北京市海淀区某中学学生小张正在家写作业，忽然，楼道里传来一女人的尖叫声。小张侧耳细听，一个男人用低沉的声音说：“快把门打开，把钱拿出来。”小张意识到刘姐家可能出事了。小张打开房门，看到刘姐家门开着，她往里一瞧，只见一男青年正用绳子捆刘姐的双手，威胁着索要钱财。见此情景，小张赶紧拨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然后快速跑到楼外，寻求路人的帮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在施工的两位民工闻讯后，迅速赶到现场。男青年企图夺门而逃，两民工勇敢地与之搏斗，在随后赶来群众的帮助下，将男青年制服，扭送到海淀公安分局恩济庄派出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张同学面对歹徒，毫不退缩，机智勇敢，受到同学、老师和社会各界的称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716040" y="5591160"/>
            <a:ext cx="74880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华文细黑"/>
              </a:rPr>
              <a:t>通过小张的案例，你认为青少年如何与违法犯罪做斗争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468360" y="148428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当自己的合法权益受到侵害时，要善于运用法律武器维权，善于同侵权行为做斗争；当国家、集体、他人的权益受到非法侵害时，我们也要加以维护。</a:t>
            </a:r>
            <a:r>
              <a:rPr b="1" lang="zh-CN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同违法犯罪作斗争，是包括我们青少年在内的全体公民义不容辞的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我们在与其斗争时，既要勇敢，又要机智，力求在保护自己的前提下，巧妙地将不法分子抓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在面对歹徒时，有效的方法应该是：设法稳住歹徒，记住歹徒相貌，了解歹徒去向，及时拨打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报警电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609480" y="1523880"/>
            <a:ext cx="658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黑体"/>
              </a:rPr>
              <a:t>善用法律保护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3"/>
          <p:cNvSpPr/>
          <p:nvPr/>
        </p:nvSpPr>
        <p:spPr>
          <a:xfrm>
            <a:off x="2819520" y="838080"/>
            <a:ext cx="304560" cy="106704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3124080" y="609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法律是维护权益的最有力武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"/>
          <p:cNvSpPr/>
          <p:nvPr/>
        </p:nvSpPr>
        <p:spPr>
          <a:xfrm>
            <a:off x="1752480" y="99072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求助有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1676520" y="495288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善于斗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7"/>
          <p:cNvSpPr/>
          <p:nvPr/>
        </p:nvSpPr>
        <p:spPr>
          <a:xfrm>
            <a:off x="1332000" y="1447920"/>
            <a:ext cx="344520" cy="3925800"/>
          </a:xfrm>
          <a:custGeom>
            <a:avLst/>
            <a:gdLst>
              <a:gd name="textAreaLeft" fmla="*/ 220320 w 344520"/>
              <a:gd name="textAreaRight" fmla="*/ 344880 w 344520"/>
              <a:gd name="textAreaTop" fmla="*/ 102240 h 3925800"/>
              <a:gd name="textAreaBottom" fmla="*/ 3823560 h 39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8"/>
          <p:cNvSpPr/>
          <p:nvPr/>
        </p:nvSpPr>
        <p:spPr>
          <a:xfrm>
            <a:off x="6172200" y="3200400"/>
            <a:ext cx="380880" cy="1295280"/>
          </a:xfrm>
          <a:custGeom>
            <a:avLst/>
            <a:gdLst>
              <a:gd name="textAreaLeft" fmla="*/ 243360 w 380880"/>
              <a:gd name="textAreaRight" fmla="*/ 381240 w 3808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6553080" y="2971800"/>
            <a:ext cx="22860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刑事诉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民事诉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行政诉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0"/>
          <p:cNvSpPr/>
          <p:nvPr/>
        </p:nvSpPr>
        <p:spPr>
          <a:xfrm>
            <a:off x="1692360" y="270828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敢打官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3124080" y="12193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非诉讼手段是维护权益的常用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2"/>
          <p:cNvSpPr/>
          <p:nvPr/>
        </p:nvSpPr>
        <p:spPr>
          <a:xfrm>
            <a:off x="2895480" y="266688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3"/>
          <p:cNvSpPr/>
          <p:nvPr/>
        </p:nvSpPr>
        <p:spPr>
          <a:xfrm>
            <a:off x="3124080" y="2209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打官司是维护权益最权威、最有效的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4"/>
          <p:cNvSpPr/>
          <p:nvPr/>
        </p:nvSpPr>
        <p:spPr>
          <a:xfrm>
            <a:off x="2895480" y="50292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5"/>
          <p:cNvSpPr/>
          <p:nvPr/>
        </p:nvSpPr>
        <p:spPr>
          <a:xfrm>
            <a:off x="0" y="76320"/>
            <a:ext cx="2666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Arial"/>
                <a:ea typeface="黑体"/>
              </a:rPr>
              <a:t>课堂小结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6"/>
          <p:cNvSpPr/>
          <p:nvPr/>
        </p:nvSpPr>
        <p:spPr>
          <a:xfrm>
            <a:off x="3060720" y="3645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诉讼的三种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7"/>
          <p:cNvSpPr/>
          <p:nvPr/>
        </p:nvSpPr>
        <p:spPr>
          <a:xfrm>
            <a:off x="3276720" y="47973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维护自己的合法权益是每个公民的责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3348000" y="59500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机智勇敢、不能硬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8200"/>
          <p:cNvSpPr/>
          <p:nvPr/>
        </p:nvSpPr>
        <p:spPr>
          <a:xfrm>
            <a:off x="2463840" y="64008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你帮忙牵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AutoShape 3"/>
          <p:cNvSpPr/>
          <p:nvPr/>
        </p:nvSpPr>
        <p:spPr>
          <a:xfrm>
            <a:off x="1171440" y="1490760"/>
            <a:ext cx="6258240" cy="107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1165320" y="1533600"/>
            <a:ext cx="20397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法律服务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5"/>
          <p:cNvSpPr/>
          <p:nvPr/>
        </p:nvSpPr>
        <p:spPr>
          <a:xfrm>
            <a:off x="1187280" y="2852640"/>
            <a:ext cx="6259680" cy="104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1187280" y="3068640"/>
            <a:ext cx="204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律师事务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7"/>
          <p:cNvSpPr/>
          <p:nvPr/>
        </p:nvSpPr>
        <p:spPr>
          <a:xfrm>
            <a:off x="1187280" y="4076640"/>
            <a:ext cx="6259680" cy="131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900000" y="4508640"/>
            <a:ext cx="19670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公证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9"/>
          <p:cNvGrpSpPr/>
          <p:nvPr/>
        </p:nvGrpSpPr>
        <p:grpSpPr>
          <a:xfrm>
            <a:off x="7740720" y="1557360"/>
            <a:ext cx="825120" cy="802800"/>
            <a:chOff x="7740720" y="1557360"/>
            <a:chExt cx="825120" cy="802800"/>
          </a:xfrm>
        </p:grpSpPr>
        <p:grpSp>
          <p:nvGrpSpPr>
            <p:cNvPr id="523" name="Group 10"/>
            <p:cNvGrpSpPr/>
            <p:nvPr/>
          </p:nvGrpSpPr>
          <p:grpSpPr>
            <a:xfrm>
              <a:off x="7740720" y="1557360"/>
              <a:ext cx="825120" cy="802800"/>
              <a:chOff x="7740720" y="1557360"/>
              <a:chExt cx="825120" cy="802800"/>
            </a:xfrm>
          </p:grpSpPr>
          <p:grpSp>
            <p:nvGrpSpPr>
              <p:cNvPr id="524" name="Group 11"/>
              <p:cNvGrpSpPr/>
              <p:nvPr/>
            </p:nvGrpSpPr>
            <p:grpSpPr>
              <a:xfrm>
                <a:off x="7740720" y="1557360"/>
                <a:ext cx="825120" cy="802800"/>
                <a:chOff x="7740720" y="1557360"/>
                <a:chExt cx="825120" cy="802800"/>
              </a:xfrm>
            </p:grpSpPr>
            <p:pic>
              <p:nvPicPr>
                <p:cNvPr id="525" name="Picture 12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740720" y="1557360"/>
                  <a:ext cx="825120" cy="800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6" name="Oval 13"/>
                <p:cNvSpPr/>
                <p:nvPr/>
              </p:nvSpPr>
              <p:spPr>
                <a:xfrm>
                  <a:off x="7740720" y="1557360"/>
                  <a:ext cx="819720" cy="80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27" name="Picture 14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7823160" y="1564920"/>
                <a:ext cx="65160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8" name="WordArt 15"/>
            <p:cNvSpPr txBox="1"/>
            <p:nvPr/>
          </p:nvSpPr>
          <p:spPr>
            <a:xfrm>
              <a:off x="8022240" y="1773360"/>
              <a:ext cx="186480" cy="32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1</a:t>
              </a:r>
              <a:endParaRPr b="0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529" name="Group 16"/>
          <p:cNvGrpSpPr/>
          <p:nvPr/>
        </p:nvGrpSpPr>
        <p:grpSpPr>
          <a:xfrm>
            <a:off x="7740720" y="2997360"/>
            <a:ext cx="825480" cy="803160"/>
            <a:chOff x="7740720" y="2997360"/>
            <a:chExt cx="825480" cy="803160"/>
          </a:xfrm>
        </p:grpSpPr>
        <p:grpSp>
          <p:nvGrpSpPr>
            <p:cNvPr id="530" name="Group 17"/>
            <p:cNvGrpSpPr/>
            <p:nvPr/>
          </p:nvGrpSpPr>
          <p:grpSpPr>
            <a:xfrm>
              <a:off x="7740720" y="2997360"/>
              <a:ext cx="825480" cy="803160"/>
              <a:chOff x="7740720" y="2997360"/>
              <a:chExt cx="825480" cy="803160"/>
            </a:xfrm>
          </p:grpSpPr>
          <p:grpSp>
            <p:nvGrpSpPr>
              <p:cNvPr id="531" name="Group 18"/>
              <p:cNvGrpSpPr/>
              <p:nvPr/>
            </p:nvGrpSpPr>
            <p:grpSpPr>
              <a:xfrm>
                <a:off x="7740720" y="2997360"/>
                <a:ext cx="825480" cy="803160"/>
                <a:chOff x="7740720" y="2997360"/>
                <a:chExt cx="825480" cy="803160"/>
              </a:xfrm>
            </p:grpSpPr>
            <p:pic>
              <p:nvPicPr>
                <p:cNvPr id="532" name="Picture 19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740720" y="299736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3" name="Oval 20"/>
                <p:cNvSpPr/>
                <p:nvPr/>
              </p:nvSpPr>
              <p:spPr>
                <a:xfrm>
                  <a:off x="7740720" y="2997360"/>
                  <a:ext cx="820080" cy="80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34" name="Picture 21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7823160" y="300492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5" name="WordArt 22"/>
            <p:cNvSpPr txBox="1"/>
            <p:nvPr/>
          </p:nvSpPr>
          <p:spPr>
            <a:xfrm>
              <a:off x="8048520" y="3213360"/>
              <a:ext cx="2286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2</a:t>
              </a:r>
              <a:endParaRPr b="0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536" name="Group 23"/>
          <p:cNvGrpSpPr/>
          <p:nvPr/>
        </p:nvGrpSpPr>
        <p:grpSpPr>
          <a:xfrm>
            <a:off x="7812000" y="4365720"/>
            <a:ext cx="825480" cy="803160"/>
            <a:chOff x="7812000" y="4365720"/>
            <a:chExt cx="825480" cy="803160"/>
          </a:xfrm>
        </p:grpSpPr>
        <p:grpSp>
          <p:nvGrpSpPr>
            <p:cNvPr id="537" name="Group 24"/>
            <p:cNvGrpSpPr/>
            <p:nvPr/>
          </p:nvGrpSpPr>
          <p:grpSpPr>
            <a:xfrm>
              <a:off x="7812000" y="4365720"/>
              <a:ext cx="825480" cy="803160"/>
              <a:chOff x="7812000" y="4365720"/>
              <a:chExt cx="825480" cy="803160"/>
            </a:xfrm>
          </p:grpSpPr>
          <p:grpSp>
            <p:nvGrpSpPr>
              <p:cNvPr id="538" name="Group 25"/>
              <p:cNvGrpSpPr/>
              <p:nvPr/>
            </p:nvGrpSpPr>
            <p:grpSpPr>
              <a:xfrm>
                <a:off x="7812000" y="4365720"/>
                <a:ext cx="825480" cy="803160"/>
                <a:chOff x="7812000" y="4365720"/>
                <a:chExt cx="825480" cy="803160"/>
              </a:xfrm>
            </p:grpSpPr>
            <p:pic>
              <p:nvPicPr>
                <p:cNvPr id="539" name="Picture 26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812000" y="436572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0" name="Oval 27"/>
                <p:cNvSpPr/>
                <p:nvPr/>
              </p:nvSpPr>
              <p:spPr>
                <a:xfrm>
                  <a:off x="7812000" y="4365720"/>
                  <a:ext cx="820080" cy="80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41" name="Picture 28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7894440" y="437328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2" name="WordArt 29"/>
            <p:cNvSpPr txBox="1"/>
            <p:nvPr/>
          </p:nvSpPr>
          <p:spPr>
            <a:xfrm>
              <a:off x="8119800" y="4581720"/>
              <a:ext cx="2286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3</a:t>
              </a:r>
              <a:endParaRPr b="0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543" name="Text Box 30"/>
          <p:cNvSpPr/>
          <p:nvPr/>
        </p:nvSpPr>
        <p:spPr>
          <a:xfrm>
            <a:off x="4172040" y="160020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证明合同等的真实性、合法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1"/>
          <p:cNvSpPr/>
          <p:nvPr/>
        </p:nvSpPr>
        <p:spPr>
          <a:xfrm>
            <a:off x="4211640" y="2925720"/>
            <a:ext cx="31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代写法律文书，提供法律咨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2"/>
          <p:cNvSpPr/>
          <p:nvPr/>
        </p:nvSpPr>
        <p:spPr>
          <a:xfrm>
            <a:off x="4390920" y="4284720"/>
            <a:ext cx="29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帮人处理法律事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60720" y="1989000"/>
            <a:ext cx="1295280" cy="1440000"/>
            <a:chOff x="3060720" y="1989000"/>
            <a:chExt cx="1295280" cy="1440000"/>
          </a:xfrm>
        </p:grpSpPr>
        <p:sp>
          <p:nvSpPr>
            <p:cNvPr id="547" name="Line 33"/>
            <p:cNvSpPr/>
            <p:nvPr/>
          </p:nvSpPr>
          <p:spPr>
            <a:xfrm>
              <a:off x="3060720" y="1989000"/>
              <a:ext cx="1295280" cy="144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 txBox="1"/>
            <p:nvPr/>
          </p:nvSpPr>
          <p:spPr>
            <a:xfrm>
              <a:off x="3060720" y="1989000"/>
              <a:ext cx="1295280" cy="14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987640" y="3429000"/>
            <a:ext cx="1513080" cy="1368360"/>
            <a:chOff x="2987640" y="3429000"/>
            <a:chExt cx="1513080" cy="1368360"/>
          </a:xfrm>
        </p:grpSpPr>
        <p:sp>
          <p:nvSpPr>
            <p:cNvPr id="550" name="Line 34"/>
            <p:cNvSpPr/>
            <p:nvPr/>
          </p:nvSpPr>
          <p:spPr>
            <a:xfrm>
              <a:off x="2987640" y="3429000"/>
              <a:ext cx="1513080" cy="1368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2987640" y="3429000"/>
              <a:ext cx="151308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484000" y="2565000"/>
            <a:ext cx="1872000" cy="2303640"/>
            <a:chOff x="2484000" y="2565000"/>
            <a:chExt cx="1872000" cy="2303640"/>
          </a:xfrm>
        </p:grpSpPr>
        <p:sp>
          <p:nvSpPr>
            <p:cNvPr id="553" name="Line 35"/>
            <p:cNvSpPr/>
            <p:nvPr/>
          </p:nvSpPr>
          <p:spPr>
            <a:xfrm flipV="1">
              <a:off x="2484360" y="2565000"/>
              <a:ext cx="1871640" cy="2303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 txBox="1"/>
            <p:nvPr/>
          </p:nvSpPr>
          <p:spPr>
            <a:xfrm rot="10800000">
              <a:off x="2484000" y="2565000"/>
              <a:ext cx="1871640" cy="230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11DA-EBD3-4A9F-8EAF-4AEB1581491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AutoShape 2"/>
          <p:cNvSpPr/>
          <p:nvPr/>
        </p:nvSpPr>
        <p:spPr>
          <a:xfrm>
            <a:off x="1333440" y="1054080"/>
            <a:ext cx="625788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1260360" y="1125360"/>
            <a:ext cx="2592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法律援助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1333440" y="2349360"/>
            <a:ext cx="625788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1260360" y="2708280"/>
            <a:ext cx="2519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国家机关、社会团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6"/>
          <p:cNvSpPr/>
          <p:nvPr/>
        </p:nvSpPr>
        <p:spPr>
          <a:xfrm>
            <a:off x="1333440" y="3646440"/>
            <a:ext cx="6257880" cy="13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1165320" y="3741840"/>
            <a:ext cx="297504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人民调解委员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8"/>
          <p:cNvSpPr/>
          <p:nvPr/>
        </p:nvSpPr>
        <p:spPr>
          <a:xfrm>
            <a:off x="1332000" y="5013360"/>
            <a:ext cx="6259320" cy="137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"/>
          <p:cNvSpPr/>
          <p:nvPr/>
        </p:nvSpPr>
        <p:spPr>
          <a:xfrm>
            <a:off x="1247760" y="5086440"/>
            <a:ext cx="2808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劳动争议仲裁委员会和劳动争议调解委员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10"/>
          <p:cNvGrpSpPr/>
          <p:nvPr/>
        </p:nvGrpSpPr>
        <p:grpSpPr>
          <a:xfrm>
            <a:off x="7812000" y="1268280"/>
            <a:ext cx="825120" cy="803160"/>
            <a:chOff x="7812000" y="1268280"/>
            <a:chExt cx="825120" cy="803160"/>
          </a:xfrm>
        </p:grpSpPr>
        <p:grpSp>
          <p:nvGrpSpPr>
            <p:cNvPr id="568" name="Group 11"/>
            <p:cNvGrpSpPr/>
            <p:nvPr/>
          </p:nvGrpSpPr>
          <p:grpSpPr>
            <a:xfrm>
              <a:off x="7812000" y="1268280"/>
              <a:ext cx="825120" cy="803160"/>
              <a:chOff x="7812000" y="1268280"/>
              <a:chExt cx="825120" cy="803160"/>
            </a:xfrm>
          </p:grpSpPr>
          <p:grpSp>
            <p:nvGrpSpPr>
              <p:cNvPr id="569" name="Group 12"/>
              <p:cNvGrpSpPr/>
              <p:nvPr/>
            </p:nvGrpSpPr>
            <p:grpSpPr>
              <a:xfrm>
                <a:off x="7812000" y="1268280"/>
                <a:ext cx="825120" cy="803160"/>
                <a:chOff x="7812000" y="1268280"/>
                <a:chExt cx="825120" cy="803160"/>
              </a:xfrm>
            </p:grpSpPr>
            <p:pic>
              <p:nvPicPr>
                <p:cNvPr id="570" name="Picture 13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812000" y="1268280"/>
                  <a:ext cx="82512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1" name="Oval 14"/>
                <p:cNvSpPr/>
                <p:nvPr/>
              </p:nvSpPr>
              <p:spPr>
                <a:xfrm>
                  <a:off x="7812000" y="1268280"/>
                  <a:ext cx="819720" cy="80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72" name="Picture 15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7894440" y="1275840"/>
                <a:ext cx="65160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3" name="WordArt 16"/>
            <p:cNvSpPr txBox="1"/>
            <p:nvPr/>
          </p:nvSpPr>
          <p:spPr>
            <a:xfrm>
              <a:off x="8093520" y="1484280"/>
              <a:ext cx="186480" cy="32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1</a:t>
              </a:r>
              <a:endParaRPr b="0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574" name="Group 17"/>
          <p:cNvGrpSpPr/>
          <p:nvPr/>
        </p:nvGrpSpPr>
        <p:grpSpPr>
          <a:xfrm>
            <a:off x="7812000" y="2637000"/>
            <a:ext cx="825480" cy="803160"/>
            <a:chOff x="7812000" y="2637000"/>
            <a:chExt cx="825480" cy="803160"/>
          </a:xfrm>
        </p:grpSpPr>
        <p:grpSp>
          <p:nvGrpSpPr>
            <p:cNvPr id="575" name="Group 18"/>
            <p:cNvGrpSpPr/>
            <p:nvPr/>
          </p:nvGrpSpPr>
          <p:grpSpPr>
            <a:xfrm>
              <a:off x="7812000" y="2637000"/>
              <a:ext cx="825480" cy="803160"/>
              <a:chOff x="7812000" y="2637000"/>
              <a:chExt cx="825480" cy="803160"/>
            </a:xfrm>
          </p:grpSpPr>
          <p:grpSp>
            <p:nvGrpSpPr>
              <p:cNvPr id="576" name="Group 19"/>
              <p:cNvGrpSpPr/>
              <p:nvPr/>
            </p:nvGrpSpPr>
            <p:grpSpPr>
              <a:xfrm>
                <a:off x="7812000" y="2637000"/>
                <a:ext cx="825480" cy="803160"/>
                <a:chOff x="7812000" y="2637000"/>
                <a:chExt cx="825480" cy="803160"/>
              </a:xfrm>
            </p:grpSpPr>
            <p:pic>
              <p:nvPicPr>
                <p:cNvPr id="577" name="Picture 20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812000" y="263700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8" name="Oval 21"/>
                <p:cNvSpPr/>
                <p:nvPr/>
              </p:nvSpPr>
              <p:spPr>
                <a:xfrm>
                  <a:off x="7812000" y="2637000"/>
                  <a:ext cx="820080" cy="80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79" name="Picture 22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7894440" y="264456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0" name="WordArt 23"/>
            <p:cNvSpPr txBox="1"/>
            <p:nvPr/>
          </p:nvSpPr>
          <p:spPr>
            <a:xfrm>
              <a:off x="8119800" y="2853000"/>
              <a:ext cx="2286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2</a:t>
              </a:r>
              <a:endParaRPr b="0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581" name="Group 24"/>
          <p:cNvGrpSpPr/>
          <p:nvPr/>
        </p:nvGrpSpPr>
        <p:grpSpPr>
          <a:xfrm>
            <a:off x="7812000" y="4005360"/>
            <a:ext cx="825480" cy="803160"/>
            <a:chOff x="7812000" y="4005360"/>
            <a:chExt cx="825480" cy="803160"/>
          </a:xfrm>
        </p:grpSpPr>
        <p:grpSp>
          <p:nvGrpSpPr>
            <p:cNvPr id="582" name="Group 25"/>
            <p:cNvGrpSpPr/>
            <p:nvPr/>
          </p:nvGrpSpPr>
          <p:grpSpPr>
            <a:xfrm>
              <a:off x="7812000" y="4005360"/>
              <a:ext cx="825480" cy="803160"/>
              <a:chOff x="7812000" y="4005360"/>
              <a:chExt cx="825480" cy="803160"/>
            </a:xfrm>
          </p:grpSpPr>
          <p:grpSp>
            <p:nvGrpSpPr>
              <p:cNvPr id="583" name="Group 26"/>
              <p:cNvGrpSpPr/>
              <p:nvPr/>
            </p:nvGrpSpPr>
            <p:grpSpPr>
              <a:xfrm>
                <a:off x="7812000" y="4005360"/>
                <a:ext cx="825480" cy="803160"/>
                <a:chOff x="7812000" y="4005360"/>
                <a:chExt cx="825480" cy="803160"/>
              </a:xfrm>
            </p:grpSpPr>
            <p:pic>
              <p:nvPicPr>
                <p:cNvPr id="584" name="Picture 27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812000" y="400536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5" name="Oval 28"/>
                <p:cNvSpPr/>
                <p:nvPr/>
              </p:nvSpPr>
              <p:spPr>
                <a:xfrm>
                  <a:off x="7812000" y="4005360"/>
                  <a:ext cx="820080" cy="80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86" name="Picture 29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7894440" y="401292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7" name="WordArt 30"/>
            <p:cNvSpPr txBox="1"/>
            <p:nvPr/>
          </p:nvSpPr>
          <p:spPr>
            <a:xfrm>
              <a:off x="8119800" y="4221360"/>
              <a:ext cx="2286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3</a:t>
              </a:r>
              <a:endParaRPr b="0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588" name="Group 31"/>
          <p:cNvGrpSpPr/>
          <p:nvPr/>
        </p:nvGrpSpPr>
        <p:grpSpPr>
          <a:xfrm>
            <a:off x="7885080" y="5373720"/>
            <a:ext cx="825480" cy="803160"/>
            <a:chOff x="7885080" y="5373720"/>
            <a:chExt cx="825480" cy="803160"/>
          </a:xfrm>
        </p:grpSpPr>
        <p:grpSp>
          <p:nvGrpSpPr>
            <p:cNvPr id="589" name="Group 32"/>
            <p:cNvGrpSpPr/>
            <p:nvPr/>
          </p:nvGrpSpPr>
          <p:grpSpPr>
            <a:xfrm>
              <a:off x="7885080" y="5373720"/>
              <a:ext cx="825480" cy="803160"/>
              <a:chOff x="7885080" y="5373720"/>
              <a:chExt cx="825480" cy="803160"/>
            </a:xfrm>
          </p:grpSpPr>
          <p:grpSp>
            <p:nvGrpSpPr>
              <p:cNvPr id="590" name="Group 33"/>
              <p:cNvGrpSpPr/>
              <p:nvPr/>
            </p:nvGrpSpPr>
            <p:grpSpPr>
              <a:xfrm>
                <a:off x="7885080" y="5373720"/>
                <a:ext cx="825480" cy="803160"/>
                <a:chOff x="7885080" y="5373720"/>
                <a:chExt cx="825480" cy="803160"/>
              </a:xfrm>
            </p:grpSpPr>
            <p:pic>
              <p:nvPicPr>
                <p:cNvPr id="591" name="Picture 34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85080" y="537372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2" name="Oval 35"/>
                <p:cNvSpPr/>
                <p:nvPr/>
              </p:nvSpPr>
              <p:spPr>
                <a:xfrm>
                  <a:off x="7885080" y="5373720"/>
                  <a:ext cx="820080" cy="80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93" name="Picture 36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7967520" y="538128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4" name="WordArt 37"/>
            <p:cNvSpPr txBox="1"/>
            <p:nvPr/>
          </p:nvSpPr>
          <p:spPr>
            <a:xfrm>
              <a:off x="8155080" y="5589720"/>
              <a:ext cx="2664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4</a:t>
              </a:r>
              <a:endParaRPr b="0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595" name="Text Box 38"/>
          <p:cNvSpPr/>
          <p:nvPr/>
        </p:nvSpPr>
        <p:spPr>
          <a:xfrm>
            <a:off x="4941720" y="1349280"/>
            <a:ext cx="251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帮助解决群众反映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9"/>
          <p:cNvSpPr/>
          <p:nvPr/>
        </p:nvSpPr>
        <p:spPr>
          <a:xfrm>
            <a:off x="5148360" y="2708280"/>
            <a:ext cx="23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调解民间纠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40"/>
          <p:cNvSpPr/>
          <p:nvPr/>
        </p:nvSpPr>
        <p:spPr>
          <a:xfrm>
            <a:off x="5005440" y="3718080"/>
            <a:ext cx="24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解决劳动者与用人单位的纠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1"/>
          <p:cNvSpPr/>
          <p:nvPr/>
        </p:nvSpPr>
        <p:spPr>
          <a:xfrm>
            <a:off x="5148360" y="5086440"/>
            <a:ext cx="241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援助无力支付法律服务费用的打官司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635280" y="1773360"/>
            <a:ext cx="1584360" cy="4248000"/>
            <a:chOff x="3635280" y="1773360"/>
            <a:chExt cx="1584360" cy="4248000"/>
          </a:xfrm>
        </p:grpSpPr>
        <p:sp>
          <p:nvSpPr>
            <p:cNvPr id="600" name="Line 42"/>
            <p:cNvSpPr/>
            <p:nvPr/>
          </p:nvSpPr>
          <p:spPr>
            <a:xfrm>
              <a:off x="3635280" y="1773360"/>
              <a:ext cx="1584360" cy="424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3635280" y="1773360"/>
              <a:ext cx="1584360" cy="42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347640" y="2133720"/>
            <a:ext cx="1800720" cy="1224000"/>
            <a:chOff x="3347640" y="2133720"/>
            <a:chExt cx="1800720" cy="1224000"/>
          </a:xfrm>
        </p:grpSpPr>
        <p:sp>
          <p:nvSpPr>
            <p:cNvPr id="603" name="Line 43"/>
            <p:cNvSpPr/>
            <p:nvPr/>
          </p:nvSpPr>
          <p:spPr>
            <a:xfrm flipV="1">
              <a:off x="3348000" y="2133720"/>
              <a:ext cx="1800360" cy="1224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 txBox="1"/>
            <p:nvPr/>
          </p:nvSpPr>
          <p:spPr>
            <a:xfrm rot="10800000">
              <a:off x="3347640" y="2133720"/>
              <a:ext cx="1800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780000" y="3212640"/>
            <a:ext cx="1512720" cy="1079640"/>
            <a:chOff x="3780000" y="3212640"/>
            <a:chExt cx="1512720" cy="1079640"/>
          </a:xfrm>
        </p:grpSpPr>
        <p:sp>
          <p:nvSpPr>
            <p:cNvPr id="606" name="Line 44"/>
            <p:cNvSpPr/>
            <p:nvPr/>
          </p:nvSpPr>
          <p:spPr>
            <a:xfrm flipV="1">
              <a:off x="3780000" y="3212640"/>
              <a:ext cx="1512720" cy="1079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 txBox="1"/>
            <p:nvPr/>
          </p:nvSpPr>
          <p:spPr>
            <a:xfrm rot="10800000">
              <a:off x="3780000" y="3212640"/>
              <a:ext cx="1512720" cy="10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3708360" y="4941720"/>
            <a:ext cx="1295280" cy="1006560"/>
            <a:chOff x="3708360" y="4941720"/>
            <a:chExt cx="1295280" cy="1006560"/>
          </a:xfrm>
        </p:grpSpPr>
        <p:sp>
          <p:nvSpPr>
            <p:cNvPr id="609" name="Line 45"/>
            <p:cNvSpPr/>
            <p:nvPr/>
          </p:nvSpPr>
          <p:spPr>
            <a:xfrm flipV="1">
              <a:off x="3708360" y="4941720"/>
              <a:ext cx="1295280" cy="1006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 txBox="1"/>
            <p:nvPr/>
          </p:nvSpPr>
          <p:spPr>
            <a:xfrm rot="10800000">
              <a:off x="3708360" y="4941720"/>
              <a:ext cx="129528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4" descr="214740"/>
          <p:cNvPicPr/>
          <p:nvPr/>
        </p:nvPicPr>
        <p:blipFill>
          <a:blip r:embed="rId2"/>
          <a:stretch/>
        </p:blipFill>
        <p:spPr>
          <a:xfrm>
            <a:off x="457200" y="5791320"/>
            <a:ext cx="8153280" cy="81108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2"/>
          <p:cNvSpPr/>
          <p:nvPr/>
        </p:nvSpPr>
        <p:spPr>
          <a:xfrm>
            <a:off x="468360" y="1700280"/>
            <a:ext cx="82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青少年维护自身合法权益最常用的手段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维护自身合法权益最正规、最权威、最有效的手段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诉讼有哪几种形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青少年怎样树立法律保护意识，增强敢于斗争、善于斗争的勇气和信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755640" y="33192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预习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1260360" y="5013360"/>
            <a:ext cx="51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她应该向谁求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457200" y="762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叫刘丽丽，今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岁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0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日爸爸妈妈离婚后，我随爸爸和奶奶生活。由于爸爸经常赌博，夜不归宿，从不关心我的学习和生活，还经常打我，生气时就用东西砸我。我告诉奶奶，奶奶说：忍忍吧，他毕竟是你爸爸，一家人的生活还得靠他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214740"/>
          <p:cNvPicPr/>
          <p:nvPr/>
        </p:nvPicPr>
        <p:blipFill>
          <a:blip r:embed="rId2"/>
          <a:stretch/>
        </p:blipFill>
        <p:spPr>
          <a:xfrm>
            <a:off x="457200" y="5791320"/>
            <a:ext cx="81532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a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105520"/>
            <a:ext cx="9144000" cy="1752480"/>
          </a:xfrm>
          <a:prstGeom prst="rect">
            <a:avLst/>
          </a:prstGeom>
          <a:ln w="0">
            <a:noFill/>
          </a:ln>
        </p:spPr>
      </p:pic>
      <p:sp>
        <p:nvSpPr>
          <p:cNvPr id="447" name="WordArt 3"/>
          <p:cNvSpPr txBox="1"/>
          <p:nvPr/>
        </p:nvSpPr>
        <p:spPr>
          <a:xfrm>
            <a:off x="2362320" y="609480"/>
            <a:ext cx="4038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求助有路 </a:t>
            </a:r>
            <a:endParaRPr b="1" lang="en-US" sz="4000" spc="1" strike="noStrike">
              <a:ln w="1908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4419720" y="1905120"/>
            <a:ext cx="30477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法律服务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律师师务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法律援助中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妇联、居委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5" descr="文件:32.gif  &lt;br&gt;  尺寸:80 × 100  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95280" y="1828800"/>
            <a:ext cx="2667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jiabao1"/>
          <p:cNvPicPr/>
          <p:nvPr/>
        </p:nvPicPr>
        <p:blipFill>
          <a:blip r:embed="rId1"/>
          <a:stretch/>
        </p:blipFill>
        <p:spPr>
          <a:xfrm>
            <a:off x="108000" y="1440"/>
            <a:ext cx="5141880" cy="609156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3"/>
          <p:cNvSpPr/>
          <p:nvPr/>
        </p:nvSpPr>
        <p:spPr>
          <a:xfrm>
            <a:off x="5364000" y="117360"/>
            <a:ext cx="3505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戚朋友、街坊邻居也看不下去，都说爸爸不对。我将这些事告诉了老师，老师也带我去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妇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明了情况，妇联也找父亲协商调解。可爸爸对我却变本加厉，经常无缘无故就打我。我睡在潮湿有异味的棉被毯子里，里面有许多跳蚤，咬得我全身上下起红块，没一个晚上有安宁觉睡，痒得我直抓，旧疤不好又添新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50920" y="616572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她采取了什么手段维护自身权益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3"/>
          <p:cNvSpPr/>
          <p:nvPr/>
        </p:nvSpPr>
        <p:spPr>
          <a:xfrm>
            <a:off x="533520" y="304920"/>
            <a:ext cx="79246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非诉讼手段：</a:t>
            </a:r>
            <a:r>
              <a:rPr b="1" lang="zh-CN" sz="4000" spc="-1" strike="noStrike">
                <a:solidFill>
                  <a:srgbClr val="ff3300"/>
                </a:solidFill>
                <a:latin typeface="华文细黑"/>
                <a:ea typeface="华文细黑"/>
              </a:rPr>
              <a:t>常用的有效手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609480" y="2362320"/>
            <a:ext cx="8001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华文细黑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华文细黑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华文细黑"/>
              </a:rPr>
              <a:t>、它通过向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华文细黑"/>
              </a:rPr>
              <a:t>政府有关部门，司法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华文细黑"/>
              </a:rPr>
              <a:t>关、人民团体、有关社会团体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华文细黑"/>
              </a:rPr>
              <a:t>等各方面反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华文细黑"/>
              </a:rPr>
              <a:t>问题，寻求帮助；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762120" y="4495680"/>
            <a:ext cx="80010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华文细黑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华文细黑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华文细黑"/>
              </a:rPr>
              <a:t>、或者通过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华文细黑"/>
              </a:rPr>
              <a:t>调解、仲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华文细黑"/>
              </a:rPr>
              <a:t>等方式，解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华文细黑"/>
              </a:rPr>
              <a:t>争议、纠纷，保障公民权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68400" cy="1523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3"/>
          <p:cNvSpPr/>
          <p:nvPr/>
        </p:nvSpPr>
        <p:spPr>
          <a:xfrm>
            <a:off x="16002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1066680" y="7621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他为什么这样做？难道我是一个女孩就这么令人讨厌，打骂已成家常便饭，我想到了反抗，可又不知道怎么做？一天傍晚，我无意中发现了奶奶的安眠药，拿着药瓶我想了很久，也想了很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…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2438280" y="83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把瓶里的药都吞了下去，我要让他知道，我不是他的出气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2362320" y="23623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可我自杀没能成功，因为药太少，第二天早上，我被爸爸的一顿暴打给打醒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2514600" y="441972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请同学们为刘丽丽想办法，她还可以通过什么手段维护自身权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5"/>
          <p:cNvSpPr txBox="1"/>
          <p:nvPr/>
        </p:nvSpPr>
        <p:spPr>
          <a:xfrm rot="5400000">
            <a:off x="-723960" y="2857320"/>
            <a:ext cx="441936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出谋划策</a:t>
            </a:r>
            <a:endParaRPr b="1" i="1" lang="en-US" sz="1800" spc="1" strike="noStrike">
              <a:ln w="9360">
                <a:solidFill>
                  <a:srgbClr val="00ff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611280" y="162864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幼圆"/>
              </a:rPr>
              <a:t>         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幼圆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幼圆"/>
              </a:rPr>
              <a:t>打官司”指的是诉讼，是人民法院主持有利害关系人参与的处理纠纷的程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612720" y="69228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宋体"/>
              </a:rPr>
              <a:t>敢打官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755640" y="378936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诉讼是 维护我们合法权益最正规、最权威、最有效的一种手段 ，是保护我们权益的最后屏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8200"/>
          <p:cNvSpPr/>
          <p:nvPr/>
        </p:nvSpPr>
        <p:spPr>
          <a:xfrm>
            <a:off x="3462480" y="816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cc"/>
                </a:solidFill>
                <a:uFillTx/>
                <a:latin typeface="Times New Roman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 </a:t>
            </a: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1:00:42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8:47:09Z</dcterms:modified>
  <cp:revision>22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