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wmf" ContentType="image/x-wmf"/>
  <Override PartName="/ppt/media/image51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57.wmf" ContentType="image/x-wmf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wmf" ContentType="image/x-wmf"/>
  <Override PartName="/ppt/media/image44.jpeg" ContentType="image/jpeg"/>
  <Override PartName="/ppt/media/image38.jpeg" ContentType="image/jpeg"/>
  <Override PartName="/ppt/media/image54.wmf" ContentType="image/x-wmf"/>
  <Override PartName="/ppt/media/image9.png" ContentType="image/png"/>
  <Override PartName="/ppt/media/image45.jpeg" ContentType="image/jpeg"/>
  <Override PartName="/ppt/media/image46.jpeg" ContentType="image/jpeg"/>
  <Override PartName="/ppt/media/image36.gif" ContentType="image/gif"/>
  <Override PartName="/ppt/media/image49.jpeg" ContentType="image/jpeg"/>
  <Override PartName="/ppt/media/image48.jpeg" ContentType="image/jpeg"/>
  <Override PartName="/ppt/media/image52.wmf" ContentType="image/x-wmf"/>
  <Override PartName="/ppt/media/image53.wmf" ContentType="image/x-wmf"/>
  <Override PartName="/ppt/media/image47.jpeg" ContentType="image/jpeg"/>
  <Override PartName="/ppt/media/image55.jpeg" ContentType="image/jpeg"/>
  <Override PartName="/ppt/media/image58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png" ContentType="image/png"/>
  <Override PartName="/ppt/media/image29.wmf" ContentType="image/x-wmf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7.png" ContentType="image/png"/>
  <Override PartName="/ppt/media/image3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FCD-D416-46AA-B21D-232C8266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968-8BEF-42CC-950D-7FFDCCAE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76C-797B-4A41-A0EE-820CA953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77D-0638-4C33-B670-4DE54223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D59B-68F7-45E0-A077-C8598D60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0B23-8EAB-4888-BA90-880ABC4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38B9-440F-481B-8C27-266F5488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EA14-5458-4239-BA6A-9194979C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701-B32C-473E-A80C-A6997F2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917D-C78A-4F33-98AD-DACA1CF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A0C3-EC15-4637-9505-ED73A60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EDE-9160-436E-B262-B277E22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F72-6F02-4879-BF05-27EEA8B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B52-712B-4258-AE44-E6909F9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43A-F925-4339-95EE-3157F2E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1350-2324-4CD9-B6E5-75037BA8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473-74C1-4E05-8D36-9C67AE4B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EC31-C30D-424F-AB11-B883A8FC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8224-F7A7-4AC1-8767-EC68CE2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A0D4-94B7-4A4A-9B6E-D3CB035E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D268-A767-4B95-B26E-DACA9F11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2B38-CE70-4BDB-9353-481DFFD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399-EA97-44E7-80BC-BCDD7E5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2CE7-6523-4CE7-BAB6-81142E4D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F36D-BCD5-46C1-9847-F7FDBEE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7BA4-B570-4F6B-B262-6F4BEC5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38AD-CE18-4B68-8607-3AF1DDD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A982-FA46-4AFA-BDD1-D071009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0EE7-0EDB-4473-A0FA-52B7D52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6315-1166-42F4-8B79-B5A62BD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2FA-BC6D-45C3-B610-F40C35E9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4CB-948F-4FDC-8FA9-935F24CC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61F-9FAF-48C4-B7BB-3AE2B763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BC7-1B98-42B4-9AB4-762C0E9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B52-73FD-41FC-89D2-0382E66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DF5-B088-45A6-87A4-8D9A243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693B-E8A1-4C15-8BBB-9EF216223DED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" name="Picture 30" descr="eddie"/>
          <p:cNvPicPr/>
          <p:nvPr/>
        </p:nvPicPr>
        <p:blipFill>
          <a:blip r:embed="rId4"/>
          <a:stretch/>
        </p:blipFill>
        <p:spPr>
          <a:xfrm>
            <a:off x="380880" y="304920"/>
            <a:ext cx="2194200" cy="197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DF51-F7F4-431D-AA13-8CD3481052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7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86" name="Picture 16" descr="education 2-2"/>
          <p:cNvPicPr/>
          <p:nvPr/>
        </p:nvPicPr>
        <p:blipFill>
          <a:blip r:embed="rId2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education 2-1"/>
          <p:cNvPicPr/>
          <p:nvPr/>
        </p:nvPicPr>
        <p:blipFill>
          <a:blip r:embed="rId3"/>
          <a:stretch/>
        </p:blipFill>
        <p:spPr>
          <a:xfrm>
            <a:off x="0" y="2743200"/>
            <a:ext cx="9144000" cy="150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33A-6B8B-42D5-A55F-49CD9FD26BF8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a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2708280" y="31417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355760" y="126828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蚯蚓的选择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110760" y="2534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华文楷体"/>
                <a:ea typeface="华文楷体"/>
              </a:rPr>
              <a:t>教科版科学五年级上册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9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47640" y="2185920"/>
          <a:ext cx="6985080" cy="4051440"/>
        </p:xfrm>
        <a:graphic>
          <a:graphicData uri="http://schemas.openxmlformats.org/drawingml/2006/table">
            <a:tbl>
              <a:tblPr/>
              <a:tblGrid>
                <a:gridCol w="503280"/>
                <a:gridCol w="490320"/>
                <a:gridCol w="1455840"/>
                <a:gridCol w="1666800"/>
                <a:gridCol w="1397160"/>
                <a:gridCol w="1471680"/>
              </a:tblGrid>
              <a:tr h="17985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干燥土壤里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盒子中间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湿润土壤里的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说明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1"/>
          <p:cNvSpPr/>
          <p:nvPr/>
        </p:nvSpPr>
        <p:spPr>
          <a:xfrm>
            <a:off x="3403440" y="11095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验二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</a:rPr>
              <a:t>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蚯蚓喜欢干燥还是湿润的环境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1908000" y="765000"/>
            <a:ext cx="6726240" cy="1008000"/>
            <a:chOff x="1908000" y="765000"/>
            <a:chExt cx="6726240" cy="1008000"/>
          </a:xfrm>
        </p:grpSpPr>
        <p:sp>
          <p:nvSpPr>
            <p:cNvPr id="173" name="Text Box 3"/>
            <p:cNvSpPr/>
            <p:nvPr/>
          </p:nvSpPr>
          <p:spPr>
            <a:xfrm>
              <a:off x="3570840" y="1017000"/>
              <a:ext cx="42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实验结论：</a:t>
              </a:r>
              <a:r>
                <a:rPr b="1" lang="zh-CN" sz="3200" spc="-1" strike="noStrike">
                  <a:solidFill>
                    <a:srgbClr val="6600ff"/>
                  </a:solidFill>
                  <a:latin typeface="Arial"/>
                  <a:ea typeface="黑体"/>
                </a:rPr>
                <a:t>蚯蚓喜欢湿润的环境。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endParaRPr b="0" lang="en-US" sz="32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908000" y="765000"/>
              <a:ext cx="6726240" cy="1008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pic>
        <p:nvPicPr>
          <p:cNvPr id="175" name="Picture 14" descr="qy4-1"/>
          <p:cNvPicPr/>
          <p:nvPr/>
        </p:nvPicPr>
        <p:blipFill>
          <a:blip r:embed="rId1"/>
          <a:stretch/>
        </p:blipFill>
        <p:spPr>
          <a:xfrm>
            <a:off x="250920" y="2997360"/>
            <a:ext cx="4495680" cy="3354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5"/>
          <p:cNvSpPr/>
          <p:nvPr/>
        </p:nvSpPr>
        <p:spPr>
          <a:xfrm>
            <a:off x="5003640" y="2349360"/>
            <a:ext cx="3672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蚯蚓是一种变温动物</a:t>
            </a:r>
            <a:r>
              <a:rPr b="0" lang="en-US" sz="3200" spc="-1" strike="noStrike">
                <a:solidFill>
                  <a:srgbClr val="660066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生活在阴暗潮湿、富含有机物的环境中，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15℃-25℃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为最佳温度，土壤的含水量一般在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60%</a:t>
            </a:r>
            <a:r>
              <a:rPr b="0" lang="zh-CN" sz="3200" spc="-1" strike="noStrike">
                <a:solidFill>
                  <a:srgbClr val="660066"/>
                </a:solidFill>
                <a:latin typeface="隶书"/>
                <a:ea typeface="隶书"/>
              </a:rPr>
              <a:t>以上的环境中生存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4" descr=""/>
          <p:cNvPicPr/>
          <p:nvPr/>
        </p:nvPicPr>
        <p:blipFill>
          <a:blip r:embed="rId1"/>
          <a:stretch/>
        </p:blipFill>
        <p:spPr>
          <a:xfrm rot="670200">
            <a:off x="6804000" y="3644640"/>
            <a:ext cx="2090880" cy="2232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7"/>
          <p:cNvSpPr/>
          <p:nvPr/>
        </p:nvSpPr>
        <p:spPr>
          <a:xfrm>
            <a:off x="1042920" y="2251080"/>
            <a:ext cx="640872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各种动物都喜欢生活在一定的环境中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不同的动物对环境有不同的要求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1692360" y="3498840"/>
            <a:ext cx="66247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当环境不适应动物生存的时候，它们会重新选择合适的环境生活，否则它们将难以生存。谁能说说相关动物与环境的例子？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195640" y="126828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拓  展：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084720" y="3759480"/>
            <a:ext cx="27352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形肥大，在南极低温环境下可以减少热量的散失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脂肪积厚，在极夜缺少食物的情况下，能以此维系生命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3"/>
                </a:solidFill>
                <a:latin typeface="Arial"/>
                <a:ea typeface="黑体"/>
              </a:rPr>
              <a:t> </a:t>
            </a:r>
            <a:endParaRPr b="0" lang="en-US" sz="2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685560" y="141300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企    鹅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6300720" cy="4964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7099200" y="19890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天   鹅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258920" y="5300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是随环境气候变化有迁徙的习性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是在深水环境中演化出的喙和蹼能适应其游禽的生活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3"/>
          <p:cNvPicPr/>
          <p:nvPr/>
        </p:nvPicPr>
        <p:blipFill>
          <a:blip r:embed="rId1"/>
          <a:stretch/>
        </p:blipFill>
        <p:spPr>
          <a:xfrm>
            <a:off x="179280" y="0"/>
            <a:ext cx="5184720" cy="473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2584080" y="551664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青   蛙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867280" y="1413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温动物随着气温的降低有冬眠的习性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蛙的体色与周围环境的颜色相协调，有保护作用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5640" y="555300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</a:rPr>
              <a:t>大   雁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847840" y="558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迁徙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723600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7833600" y="256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3"/>
                </a:solidFill>
                <a:latin typeface="华文彩云"/>
              </a:rPr>
              <a:t>狼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059360" y="5589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夏季换成短毛装，冬季换成长毛装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403280" y="5556600"/>
            <a:ext cx="7559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为了让动物有一个更好的生存环境，我们要注意保护好我们的地球环境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97" name="Picture 7" descr="大熊猫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8"/>
          <p:cNvSpPr/>
          <p:nvPr/>
        </p:nvSpPr>
        <p:spPr>
          <a:xfrm>
            <a:off x="2921040" y="4581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知道我喜欢怎样的生活环境吗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716360" y="1413000"/>
            <a:ext cx="4176720" cy="1655640"/>
          </a:xfrm>
          <a:prstGeom prst="cloudCallout">
            <a:avLst>
              <a:gd name="adj1" fmla="val -58740"/>
              <a:gd name="adj2" fmla="val 40796"/>
            </a:avLst>
          </a:prstGeom>
          <a:gradFill rotWithShape="0">
            <a:gsLst>
              <a:gs pos="0">
                <a:srgbClr val="aced0b"/>
              </a:gs>
              <a:gs pos="50000">
                <a:srgbClr val="ffffff"/>
              </a:gs>
              <a:gs pos="100000">
                <a:srgbClr val="aced0b"/>
              </a:gs>
            </a:gsLst>
            <a:lin ang="189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大家好，我就是传说中的蚯蚓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36" name="Picture 24" descr="蚯蚓"/>
          <p:cNvPicPr/>
          <p:nvPr/>
        </p:nvPicPr>
        <p:blipFill>
          <a:blip r:embed="rId1"/>
          <a:stretch/>
        </p:blipFill>
        <p:spPr>
          <a:xfrm>
            <a:off x="55440" y="44280"/>
            <a:ext cx="4803840" cy="446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5"/>
          <p:cNvSpPr/>
          <p:nvPr/>
        </p:nvSpPr>
        <p:spPr>
          <a:xfrm>
            <a:off x="3102480" y="558900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阴暗</a:t>
            </a:r>
            <a:r>
              <a:rPr b="0" lang="zh-CN" sz="3600" spc="-1" strike="noStrike">
                <a:solidFill>
                  <a:srgbClr val="200b5b"/>
                </a:solidFill>
                <a:latin typeface="Arial"/>
                <a:ea typeface="黑体"/>
              </a:rPr>
              <a:t>      </a:t>
            </a: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潮湿</a:t>
            </a:r>
            <a:r>
              <a:rPr b="0" lang="zh-CN" sz="3600" spc="-1" strike="noStrike">
                <a:solidFill>
                  <a:srgbClr val="200b5b"/>
                </a:solidFill>
                <a:latin typeface="Arial"/>
                <a:ea typeface="黑体"/>
              </a:rPr>
              <a:t>              </a:t>
            </a:r>
            <a:r>
              <a:rPr b="0" lang="zh-CN" sz="3600" spc="-1" strike="noStrike">
                <a:solidFill>
                  <a:srgbClr val="200b5b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动物36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3"/>
          <p:cNvSpPr txBox="1"/>
          <p:nvPr/>
        </p:nvSpPr>
        <p:spPr>
          <a:xfrm>
            <a:off x="2411280" y="6165720"/>
            <a:ext cx="410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隶书"/>
              </a:rPr>
              <a:t>最酷的迷彩服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隶书"/>
              <a:ea typeface="华文隶书"/>
            </a:endParaRPr>
          </a:p>
        </p:txBody>
      </p:sp>
      <p:sp>
        <p:nvSpPr>
          <p:cNvPr id="200" name="文本框 8200"/>
          <p:cNvSpPr/>
          <p:nvPr/>
        </p:nvSpPr>
        <p:spPr>
          <a:xfrm>
            <a:off x="2411280" y="628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LWRC029"/>
          <p:cNvPicPr/>
          <p:nvPr/>
        </p:nvPicPr>
        <p:blipFill>
          <a:blip r:embed="rId1"/>
          <a:stretch/>
        </p:blipFill>
        <p:spPr>
          <a:xfrm>
            <a:off x="0" y="2133720"/>
            <a:ext cx="4106880" cy="472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PASHA"/>
          <p:cNvPicPr/>
          <p:nvPr/>
        </p:nvPicPr>
        <p:blipFill>
          <a:blip r:embed="rId2"/>
          <a:stretch/>
        </p:blipFill>
        <p:spPr>
          <a:xfrm>
            <a:off x="3780000" y="0"/>
            <a:ext cx="1985760" cy="2305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MMA00016"/>
          <p:cNvPicPr/>
          <p:nvPr/>
        </p:nvPicPr>
        <p:blipFill>
          <a:blip r:embed="rId3"/>
          <a:stretch/>
        </p:blipFill>
        <p:spPr>
          <a:xfrm rot="14782800">
            <a:off x="5936760" y="839520"/>
            <a:ext cx="2158920" cy="1863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4356000" y="4508640"/>
            <a:ext cx="3961080" cy="1312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为什么蝴蝶多在白天活动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0.10012 L -0.11597 0.15861 C -0.13021 0.17017 -0.14358 0.19306 -0.15278 0.21919 C -0.16337 0.24971 -0.16702 0.2763 -0.16493 0.29873 L -0.15695 0.40208 E">
                                      <p:cBhvr>
                                        <p:cTn id="1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SPHINX"/>
          <p:cNvPicPr/>
          <p:nvPr/>
        </p:nvPicPr>
        <p:blipFill>
          <a:blip r:embed="rId1"/>
          <a:stretch/>
        </p:blipFill>
        <p:spPr>
          <a:xfrm rot="341400">
            <a:off x="1547280" y="1341360"/>
            <a:ext cx="5616720" cy="4713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50920" y="4797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为什么蛾多在夜间活动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h01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lif007_01b_pic"/>
          <p:cNvPicPr/>
          <p:nvPr/>
        </p:nvPicPr>
        <p:blipFill>
          <a:blip r:embed="rId2"/>
          <a:stretch/>
        </p:blipFill>
        <p:spPr>
          <a:xfrm>
            <a:off x="507672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971640" y="558972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为什么猴多生活在炎热的丛林中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？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动物15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>
            <a:off x="395280" y="692280"/>
            <a:ext cx="3960720" cy="1368360"/>
          </a:xfrm>
          <a:prstGeom prst="cloudCallout">
            <a:avLst>
              <a:gd name="adj1" fmla="val 12282"/>
              <a:gd name="adj2" fmla="val 141879"/>
            </a:avLst>
          </a:prstGeom>
          <a:solidFill>
            <a:srgbClr val="6600ff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华文隶书"/>
              </a:rPr>
              <a:t>好热呀！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68360" y="4869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为什么白熊生活在寒冷的北冰洋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50"/>
                            </p:stCondLst>
                            <p:childTnLst>
                              <p:par>
                                <p:cTn id="2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50"/>
                            </p:stCondLst>
                            <p:childTnLst>
                              <p:par>
                                <p:cTn id="2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OPAH"/>
          <p:cNvPicPr/>
          <p:nvPr/>
        </p:nvPicPr>
        <p:blipFill>
          <a:blip r:embed="rId2"/>
          <a:stretch/>
        </p:blipFill>
        <p:spPr>
          <a:xfrm>
            <a:off x="493560" y="3068640"/>
            <a:ext cx="2908440" cy="324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OSCAR"/>
          <p:cNvPicPr/>
          <p:nvPr/>
        </p:nvPicPr>
        <p:blipFill>
          <a:blip r:embed="rId3"/>
          <a:stretch/>
        </p:blipFill>
        <p:spPr>
          <a:xfrm>
            <a:off x="5003640" y="623880"/>
            <a:ext cx="3529080" cy="2076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411280" y="5589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为什么鱼只能生活在水中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zg563"/>
          <p:cNvPicPr/>
          <p:nvPr/>
        </p:nvPicPr>
        <p:blipFill>
          <a:blip r:embed="rId1"/>
          <a:stretch/>
        </p:blipFill>
        <p:spPr>
          <a:xfrm>
            <a:off x="4278240" y="71280"/>
            <a:ext cx="4865760" cy="6742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zg561"/>
          <p:cNvPicPr/>
          <p:nvPr/>
        </p:nvPicPr>
        <p:blipFill>
          <a:blip r:embed="rId2"/>
          <a:stretch/>
        </p:blipFill>
        <p:spPr>
          <a:xfrm>
            <a:off x="71280" y="90360"/>
            <a:ext cx="4140360" cy="37702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4"/>
          <p:cNvSpPr txBox="1"/>
          <p:nvPr/>
        </p:nvSpPr>
        <p:spPr>
          <a:xfrm>
            <a:off x="1187280" y="2852640"/>
            <a:ext cx="20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帅哥是我</a:t>
            </a:r>
            <a:endParaRPr b="0" lang="en-US" sz="3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79280" y="43164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华文隶书"/>
              </a:rPr>
              <a:t>为什么骆驼可以生活在干旱的沙漠中？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3203640" y="549360"/>
            <a:ext cx="3095640" cy="718920"/>
          </a:xfrm>
          <a:prstGeom prst="wedgeRectCallout">
            <a:avLst>
              <a:gd name="adj1" fmla="val 40819"/>
              <a:gd name="adj2" fmla="val 148013"/>
            </a:avLst>
          </a:prstGeom>
          <a:solidFill>
            <a:srgbClr val="66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我来告诉你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79280" y="333360"/>
            <a:ext cx="2340000" cy="5400720"/>
          </a:xfrm>
          <a:prstGeom prst="cloudCallout">
            <a:avLst>
              <a:gd name="adj1" fmla="val 173814"/>
              <a:gd name="adj2" fmla="val -472"/>
            </a:avLst>
          </a:prstGeom>
          <a:solidFill>
            <a:srgbClr val="00ffff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华文隶书"/>
              </a:rPr>
              <a:t>各种动物都必须生活在一定的环境里。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动物21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195640" y="566100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妈 妈 等 等 我 ！</a:t>
            </a:r>
            <a:endParaRPr b="0" lang="en-US" sz="5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s_oowyyoy"/>
          <p:cNvPicPr/>
          <p:nvPr/>
        </p:nvPicPr>
        <p:blipFill>
          <a:blip r:embed="rId1"/>
          <a:stretch/>
        </p:blipFill>
        <p:spPr>
          <a:xfrm>
            <a:off x="179280" y="135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3564000" y="260280"/>
            <a:ext cx="4176720" cy="1656000"/>
          </a:xfrm>
          <a:prstGeom prst="cloudCallout">
            <a:avLst>
              <a:gd name="adj1" fmla="val -81509"/>
              <a:gd name="adj2" fmla="val 11648"/>
            </a:avLst>
          </a:prstGeom>
          <a:gradFill rotWithShape="0">
            <a:gsLst>
              <a:gs pos="0">
                <a:srgbClr val="aced0b"/>
              </a:gs>
              <a:gs pos="50000">
                <a:srgbClr val="ffffff"/>
              </a:gs>
              <a:gs pos="100000">
                <a:srgbClr val="aced0b"/>
              </a:gs>
            </a:gsLst>
            <a:lin ang="189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大家好，我就是传说中的蚯蚓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921040" y="422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知道我喜欢怎样的生活环境吗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63920" y="2852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你一般在什么地方能看到我？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 rot="5400000">
            <a:off x="-245520" y="3423240"/>
            <a:ext cx="3743280" cy="12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高瞻远瞩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28" name="Picture 3" descr="changjinglu2_024"/>
          <p:cNvPicPr/>
          <p:nvPr/>
        </p:nvPicPr>
        <p:blipFill>
          <a:blip r:embed="rId1"/>
          <a:stretch/>
        </p:blipFill>
        <p:spPr>
          <a:xfrm>
            <a:off x="3203640" y="260280"/>
            <a:ext cx="475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9"/>
          <p:cNvPicPr/>
          <p:nvPr/>
        </p:nvPicPr>
        <p:blipFill>
          <a:blip r:embed="rId1"/>
          <a:stretch/>
        </p:blipFill>
        <p:spPr>
          <a:xfrm>
            <a:off x="34920" y="6165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长颈鹿2"/>
          <p:cNvPicPr/>
          <p:nvPr/>
        </p:nvPicPr>
        <p:blipFill>
          <a:blip r:embed="rId2"/>
          <a:stretch/>
        </p:blipFill>
        <p:spPr>
          <a:xfrm>
            <a:off x="900000" y="54936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023 L 1.0158 -0.00023 E">
                                      <p:cBhvr>
                                        <p:cTn id="325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动物62"/>
          <p:cNvPicPr/>
          <p:nvPr/>
        </p:nvPicPr>
        <p:blipFill>
          <a:blip r:embed="rId1"/>
          <a:stretch/>
        </p:blipFill>
        <p:spPr>
          <a:xfrm>
            <a:off x="684360" y="0"/>
            <a:ext cx="46148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3"/>
          <p:cNvSpPr txBox="1"/>
          <p:nvPr/>
        </p:nvSpPr>
        <p:spPr>
          <a:xfrm rot="5400000">
            <a:off x="5522040" y="2613600"/>
            <a:ext cx="356400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隶书"/>
              </a:rPr>
              <a:t>不怕冷就来玩！</a:t>
            </a:r>
            <a:endParaRPr b="1" lang="en-US" sz="36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动物42"/>
          <p:cNvPicPr/>
          <p:nvPr/>
        </p:nvPicPr>
        <p:blipFill>
          <a:blip r:embed="rId1"/>
          <a:stretch/>
        </p:blipFill>
        <p:spPr>
          <a:xfrm>
            <a:off x="114480" y="115920"/>
            <a:ext cx="8820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图片"/>
          <p:cNvPicPr/>
          <p:nvPr/>
        </p:nvPicPr>
        <p:blipFill>
          <a:blip r:embed="rId1"/>
          <a:stretch/>
        </p:blipFill>
        <p:spPr>
          <a:xfrm>
            <a:off x="133200" y="3816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328320" y="2421000"/>
            <a:ext cx="911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华文隶书"/>
              </a:rPr>
              <a:t>我 是 谁 ？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图片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9928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2268360" y="5516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俺可不是牛！</a:t>
            </a:r>
            <a:endParaRPr b="0" lang="en-US" sz="5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7885080" cy="6829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7495560" y="981000"/>
            <a:ext cx="1399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今儿个是你先惹我！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771640" y="6021360"/>
            <a:ext cx="44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隶书"/>
              </a:rPr>
              <a:t>我家都是大花脸</a:t>
            </a:r>
            <a:endParaRPr b="0" lang="en-US" sz="40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动物31"/>
          <p:cNvPicPr/>
          <p:nvPr/>
        </p:nvPicPr>
        <p:blipFill>
          <a:blip r:embed="rId1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1692360" y="57340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我的戒指掉哪儿哪？</a:t>
            </a:r>
            <a:endParaRPr b="0" lang="en-US" sz="4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245" name="WordArt 3"/>
          <p:cNvSpPr txBox="1"/>
          <p:nvPr/>
        </p:nvSpPr>
        <p:spPr>
          <a:xfrm>
            <a:off x="2843280" y="5516640"/>
            <a:ext cx="2952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火烈鸟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46" name="文本框 8200"/>
          <p:cNvSpPr/>
          <p:nvPr/>
        </p:nvSpPr>
        <p:spPr>
          <a:xfrm>
            <a:off x="2103480" y="5025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558960" y="155664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蚯蚓喜欢黑暗还是光亮的环境？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425760" y="691560"/>
            <a:ext cx="7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主题一：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2843280" y="2852640"/>
            <a:ext cx="5616000" cy="863640"/>
            <a:chOff x="2843280" y="2852640"/>
            <a:chExt cx="5616000" cy="863640"/>
          </a:xfrm>
        </p:grpSpPr>
        <p:sp>
          <p:nvSpPr>
            <p:cNvPr id="144" name="Text Box 10"/>
            <p:cNvSpPr/>
            <p:nvPr/>
          </p:nvSpPr>
          <p:spPr>
            <a:xfrm>
              <a:off x="4108320" y="3019320"/>
              <a:ext cx="322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该怎样设计这个实验呢？</a:t>
              </a: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2843280" y="2852640"/>
              <a:ext cx="5616000" cy="863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pic>
        <p:nvPicPr>
          <p:cNvPr id="146" name="Picture 17" descr="s1508922"/>
          <p:cNvPicPr/>
          <p:nvPr/>
        </p:nvPicPr>
        <p:blipFill>
          <a:blip r:embed="rId1"/>
          <a:stretch/>
        </p:blipFill>
        <p:spPr>
          <a:xfrm>
            <a:off x="216000" y="4076640"/>
            <a:ext cx="26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鹅头球"/>
          <p:cNvPicPr/>
          <p:nvPr/>
        </p:nvPicPr>
        <p:blipFill>
          <a:blip r:embed="rId1"/>
          <a:stretch/>
        </p:blipFill>
        <p:spPr>
          <a:xfrm>
            <a:off x="1332000" y="0"/>
            <a:ext cx="6838920" cy="683892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"/>
          <p:cNvSpPr txBox="1"/>
          <p:nvPr/>
        </p:nvSpPr>
        <p:spPr>
          <a:xfrm>
            <a:off x="900000" y="1844640"/>
            <a:ext cx="770436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形形色色的金鱼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9" name="Picture 4" descr="红头龙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花高头龙睛"/>
          <p:cNvPicPr/>
          <p:nvPr/>
        </p:nvPicPr>
        <p:blipFill>
          <a:blip r:embed="rId3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红凤尾珍珠翻鳃"/>
          <p:cNvPicPr/>
          <p:nvPr/>
        </p:nvPicPr>
        <p:blipFill>
          <a:blip r:embed="rId4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3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dur="indefinite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dur="indefinite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宋体"/>
              </a:rPr>
              <a:t>小结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00000" y="2706840"/>
            <a:ext cx="74995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像蚯蚓一样，各种动物都喜欢生活在一定的环境里，不同的动物对环境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227664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像蚯蚓一样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各种动物都喜欢生活在一定的环境里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不同的动物对环境有不同的需求</a:t>
            </a:r>
            <a:r>
              <a:rPr b="1" lang="en-GB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501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当环境不适应动物生存的时候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们会重新选择合适的环境生活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课堂练习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选择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⑴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蚯蚓生活在土壤中，由此可推测它适应（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黑暗的环境 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干燥的环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⑵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不同的动物对环境有（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相同的需求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不同的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Picture 4" descr="MCj04272110000[1]"/>
          <p:cNvPicPr/>
          <p:nvPr/>
        </p:nvPicPr>
        <p:blipFill>
          <a:blip r:embed="rId1"/>
          <a:stretch/>
        </p:blipFill>
        <p:spPr>
          <a:xfrm>
            <a:off x="6443640" y="69228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68360" y="1483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⑶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生活在草地上的蚱蜢的体色往往是（） 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灰色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绿色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C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黄色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D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褐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⑷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鱼必须生活在水里，离开水它就会死亡。这说明生物（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A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能影响环境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B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能改变环 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C.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依赖环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1" name="Picture 3" descr="MCj04345830000[1]"/>
          <p:cNvPicPr/>
          <p:nvPr/>
        </p:nvPicPr>
        <p:blipFill>
          <a:blip r:embed="rId1"/>
          <a:stretch/>
        </p:blipFill>
        <p:spPr>
          <a:xfrm>
            <a:off x="7164360" y="5300640"/>
            <a:ext cx="182556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补充作业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、植物的生存都需要一定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，不同的动物对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蚯蚓喜欢生活在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  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环境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生活在青山中的青蛙体色是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而生活在沙漠中的青蛙的体色是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4" name="Picture 4" descr="MCj02507370000[1]"/>
          <p:cNvPicPr/>
          <p:nvPr/>
        </p:nvPicPr>
        <p:blipFill>
          <a:blip r:embed="rId1"/>
          <a:stretch/>
        </p:blipFill>
        <p:spPr>
          <a:xfrm>
            <a:off x="4427640" y="333360"/>
            <a:ext cx="307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、植物的生存都需要一定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环境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__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，不同的动物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环境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有不同的需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蚯蚓喜欢生活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潮湿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、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阴暗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环境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生活在青山中的青蛙体色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绿色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而生活在沙漠中的青蛙的体色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灰色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6" name="Picture 3" descr="MCj02507370000[1]"/>
          <p:cNvPicPr/>
          <p:nvPr/>
        </p:nvPicPr>
        <p:blipFill>
          <a:blip r:embed="rId1"/>
          <a:stretch/>
        </p:blipFill>
        <p:spPr>
          <a:xfrm>
            <a:off x="4427640" y="333360"/>
            <a:ext cx="307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扩充题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物和人类会对外界的变化和刺激作出反应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这是生物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(       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结果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扩充题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动物和人类会对外界的变化和刺激作出反应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这是生物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适应环境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的结果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9" name="Picture 3" descr="MPj04384660000[1]"/>
          <p:cNvPicPr/>
          <p:nvPr/>
        </p:nvPicPr>
        <p:blipFill>
          <a:blip r:embed="rId1"/>
          <a:stretch/>
        </p:blipFill>
        <p:spPr>
          <a:xfrm>
            <a:off x="5219640" y="4365720"/>
            <a:ext cx="2930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将蚯蚓放入木盆内，木盆上面盖一个瓷盆，用电灯从木盆的一端照射蚯蚓，我们会看到（      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558960" y="155664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蚯蚓喜欢黑暗还是光亮的环境？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820240" y="691560"/>
            <a:ext cx="15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实验主题：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843280" y="2565360"/>
            <a:ext cx="5616000" cy="863640"/>
            <a:chOff x="2843280" y="2565360"/>
            <a:chExt cx="5616000" cy="863640"/>
          </a:xfrm>
        </p:grpSpPr>
        <p:sp>
          <p:nvSpPr>
            <p:cNvPr id="150" name="Text Box 5"/>
            <p:cNvSpPr/>
            <p:nvPr/>
          </p:nvSpPr>
          <p:spPr>
            <a:xfrm>
              <a:off x="4108320" y="2732040"/>
              <a:ext cx="322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eaeaea"/>
                  </a:solidFill>
                  <a:latin typeface="Arial"/>
                  <a:ea typeface="黑体"/>
                </a:rPr>
                <a:t>该怎样设计这个实验呢？</a:t>
              </a:r>
              <a:r>
                <a:rPr b="0" lang="zh-CN" sz="1800" spc="-1" strike="noStrike">
                  <a:solidFill>
                    <a:srgbClr val="eaeaea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2843280" y="2565360"/>
              <a:ext cx="5616000" cy="863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  <p:sp>
        <p:nvSpPr>
          <p:cNvPr id="152" name="Rectangle 7"/>
          <p:cNvSpPr/>
          <p:nvPr/>
        </p:nvSpPr>
        <p:spPr>
          <a:xfrm>
            <a:off x="2914560" y="3789360"/>
            <a:ext cx="5545080" cy="79200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对比实验。改变条件：光亮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914560" y="5805360"/>
            <a:ext cx="5545080" cy="79236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蚯蚓体壁上有许多感觉细胞。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914560" y="4797360"/>
            <a:ext cx="5545080" cy="792360"/>
          </a:xfrm>
          <a:prstGeom prst="rect">
            <a:avLst/>
          </a:prstGeom>
          <a:solidFill>
            <a:srgbClr val="bf8f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放多少蚯蚓？多少时间查看？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55" name="Picture 10" descr="s1508922"/>
          <p:cNvPicPr/>
          <p:nvPr/>
        </p:nvPicPr>
        <p:blipFill>
          <a:blip r:embed="rId1"/>
          <a:stretch/>
        </p:blipFill>
        <p:spPr>
          <a:xfrm>
            <a:off x="216000" y="4076640"/>
            <a:ext cx="26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将蚯蚓放入木盆内，木盆上面盖一个瓷盆，用电灯从木盆的一端照射蚯蚓，我们会看到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蚯蚓会向黑暗中爬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在探究实验“光对蚯蚓的影响”中，作为实验的变量应是（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3" name="Picture 3" descr="MPj04384900000[1]"/>
          <p:cNvPicPr/>
          <p:nvPr/>
        </p:nvPicPr>
        <p:blipFill>
          <a:blip r:embed="rId1"/>
          <a:stretch/>
        </p:blipFill>
        <p:spPr>
          <a:xfrm>
            <a:off x="4643280" y="4149720"/>
            <a:ext cx="4175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、在探究实验“光对蚯蚓的影响”中，作为实验的变量应是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光照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Picture 3" descr="MCj04207260000[1]"/>
          <p:cNvPicPr/>
          <p:nvPr/>
        </p:nvPicPr>
        <p:blipFill>
          <a:blip r:embed="rId1"/>
          <a:stretch/>
        </p:blipFill>
        <p:spPr>
          <a:xfrm>
            <a:off x="6659640" y="4653000"/>
            <a:ext cx="1452600" cy="15876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8200"/>
          <p:cNvSpPr/>
          <p:nvPr/>
        </p:nvSpPr>
        <p:spPr>
          <a:xfrm>
            <a:off x="1035000" y="2903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9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5b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200b5b"/>
                </a:solidFill>
                <a:latin typeface="Times New Roman"/>
                <a:ea typeface="宋体"/>
              </a:rPr>
              <a:t>、某同学在校园里浇花时发现了几只小动物，他和同学们对这种小动物的生活环境产生了兴趣，，便一起去寻找探索，他们四处寻找发现这种小动物的数据如下表。根据他们的记录，可知道适宜这种小动物生存的环境条件是（     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42920" y="3068640"/>
          <a:ext cx="6337440" cy="2952720"/>
        </p:xfrm>
        <a:graphic>
          <a:graphicData uri="http://schemas.openxmlformats.org/drawingml/2006/table">
            <a:tbl>
              <a:tblPr/>
              <a:tblGrid>
                <a:gridCol w="3164040"/>
                <a:gridCol w="3173400"/>
              </a:tblGrid>
              <a:tr h="658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地点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这种小动物的数量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水泥路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水槽边的石头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种花的湿花盆底下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干旱地中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0b5b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说说这些动物各适应什么样的环境里</a:t>
            </a:r>
            <a:r>
              <a:rPr b="1" lang="en-US" sz="4000" spc="-1" strike="noStrike">
                <a:solidFill>
                  <a:srgbClr val="200b5b"/>
                </a:solidFill>
                <a:latin typeface="Times New Roman"/>
                <a:ea typeface="宋体"/>
              </a:rPr>
              <a:t>?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燕子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喜欢生活在温暖的环境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老虎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深山老林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鲸鱼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大海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鹅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雪狼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冰天雪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企鹅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温度很低的南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蚁穴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————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干燥松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9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49A-B755-4379-AA75-D78EA480A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结论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0b5b"/>
                </a:solidFill>
                <a:latin typeface="Times New Roman"/>
                <a:ea typeface="宋体"/>
              </a:rPr>
              <a:t>      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  <a:ea typeface="宋体"/>
              </a:rPr>
              <a:t>自然界之间的事物是相互联系的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（如候鸟迁徙</a:t>
            </a:r>
            <a:r>
              <a:rPr b="1" lang="en-US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200b5b"/>
                </a:solidFill>
                <a:latin typeface="Times New Roman"/>
                <a:ea typeface="宋体"/>
              </a:rPr>
              <a:t>青蛙、蛇等动物冬眠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6"/>
          <p:cNvSpPr/>
          <p:nvPr/>
        </p:nvSpPr>
        <p:spPr>
          <a:xfrm>
            <a:off x="2124000" y="3676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76720" y="2012760"/>
            <a:ext cx="5759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把长方形盒子里壁涂黑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盒盖一端剪去一部分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在盒底两边放入</a:t>
            </a:r>
            <a:r>
              <a:rPr b="0" lang="zh-CN" sz="2400" spc="-1" strike="noStrike">
                <a:solidFill>
                  <a:srgbClr val="200b5b"/>
                </a:solidFill>
                <a:latin typeface="黑体"/>
                <a:ea typeface="黑体"/>
              </a:rPr>
              <a:t>？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，以保护蚯蚓，方便它爬行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把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条蚯蚓放在盒子的中间，盖好盖子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4.5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分钟以后打开盒盖，做好观察和记录。</a:t>
            </a: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再重复做</a:t>
            </a:r>
            <a:r>
              <a:rPr b="0" lang="en-US" sz="2400" spc="-1" strike="noStrike">
                <a:solidFill>
                  <a:srgbClr val="07002a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7002a"/>
                </a:solidFill>
                <a:latin typeface="黑体"/>
                <a:ea typeface="黑体"/>
              </a:rPr>
              <a:t>次实验。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500720" y="333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议实验步骤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59" name="Picture 9" descr="蚯蚓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小美人鱼 轻音乐.mp3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42835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826920" y="2492280"/>
          <a:ext cx="7875720" cy="3537000"/>
        </p:xfrm>
        <a:graphic>
          <a:graphicData uri="http://schemas.openxmlformats.org/drawingml/2006/table">
            <a:tbl>
              <a:tblPr/>
              <a:tblGrid>
                <a:gridCol w="960480"/>
                <a:gridCol w="1631880"/>
                <a:gridCol w="1655640"/>
                <a:gridCol w="1657440"/>
                <a:gridCol w="1970280"/>
              </a:tblGrid>
              <a:tr h="146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明亮一端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盒子中间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Times New Roman"/>
                          <a:ea typeface="华文楷体"/>
                        </a:rPr>
                        <a:t>呆在</a:t>
                      </a: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黑暗一端的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蚯蚓数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我们的发现和解释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7002a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1440" marR="91440">
                    <a:lnL w="1872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93"/>
                        </a:solidFill>
                        <a:latin typeface="华文彩云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100"/>
          <p:cNvSpPr/>
          <p:nvPr/>
        </p:nvSpPr>
        <p:spPr>
          <a:xfrm>
            <a:off x="3341160" y="155736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验一 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蚯蚓喜欢干燥还是湿润的环境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2851920" y="2276640"/>
            <a:ext cx="383832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主题二：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黑体"/>
              </a:rPr>
              <a:t>蚯蚓喜欢干燥还是湿润的环境呢？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  <p:pic>
        <p:nvPicPr>
          <p:cNvPr id="164" name="Picture 10" descr="143740"/>
          <p:cNvPicPr/>
          <p:nvPr/>
        </p:nvPicPr>
        <p:blipFill>
          <a:blip r:embed="rId1"/>
          <a:stretch/>
        </p:blipFill>
        <p:spPr>
          <a:xfrm>
            <a:off x="4788000" y="4365720"/>
            <a:ext cx="4032000" cy="1903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6"/>
          <p:cNvGrpSpPr/>
          <p:nvPr/>
        </p:nvGrpSpPr>
        <p:grpSpPr>
          <a:xfrm>
            <a:off x="1619280" y="907920"/>
            <a:ext cx="6726240" cy="1008000"/>
            <a:chOff x="1619280" y="907920"/>
            <a:chExt cx="6726240" cy="1008000"/>
          </a:xfrm>
        </p:grpSpPr>
        <p:sp>
          <p:nvSpPr>
            <p:cNvPr id="166" name="Text Box 17"/>
            <p:cNvSpPr/>
            <p:nvPr/>
          </p:nvSpPr>
          <p:spPr>
            <a:xfrm>
              <a:off x="3282120" y="1111680"/>
              <a:ext cx="42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实验结论：</a:t>
              </a:r>
              <a:r>
                <a:rPr b="1" lang="zh-CN" sz="3200" spc="-1" strike="noStrike">
                  <a:solidFill>
                    <a:srgbClr val="6600ff"/>
                  </a:solidFill>
                  <a:latin typeface="Arial"/>
                  <a:ea typeface="黑体"/>
                </a:rPr>
                <a:t>蚯蚓喜欢黑暗的环境。 </a:t>
              </a:r>
              <a:endParaRPr b="0" lang="en-US" sz="32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1619280" y="907920"/>
              <a:ext cx="6726240" cy="1008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93"/>
                </a:solidFill>
                <a:latin typeface="华文彩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16000" y="2611800"/>
            <a:ext cx="7488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在另外的盒子两端分别铺上同样土质的泥土，不同的是一边干燥，一边湿润（注意中间两种泥土不要分得太开，方便蚯蚓选择）。　 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条蚯蚓放在盒子的中间，盖好盖子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3.5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分钟以后打开盒盖观察，记录。</a:t>
            </a:r>
            <a:endParaRPr b="0" lang="en-US" sz="2800" spc="-1" strike="noStrike">
              <a:solidFill>
                <a:srgbClr val="ffff93"/>
              </a:solidFill>
              <a:latin typeface="华文彩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再重复做</a:t>
            </a:r>
            <a:r>
              <a:rPr b="0" lang="en-US" sz="2800" spc="-1" strike="noStrike">
                <a:solidFill>
                  <a:srgbClr val="07002a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7002a"/>
                </a:solidFill>
                <a:latin typeface="黑体"/>
                <a:ea typeface="黑体"/>
              </a:rPr>
              <a:t>次实验。</a:t>
            </a:r>
            <a:r>
              <a:rPr b="1" lang="zh-CN" sz="3600" spc="-1" strike="noStrike">
                <a:solidFill>
                  <a:srgbClr val="ffff93"/>
                </a:solidFill>
                <a:latin typeface="华文彩云"/>
              </a:rPr>
              <a:t> </a:t>
            </a:r>
            <a:endParaRPr b="0" lang="en-US" sz="3600" spc="-1" strike="noStrike">
              <a:solidFill>
                <a:srgbClr val="ffff93"/>
              </a:solidFill>
              <a:latin typeface="华文彩云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571920" y="1249200"/>
            <a:ext cx="30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议实验步骤</a:t>
            </a:r>
            <a:endParaRPr b="0" lang="en-US" sz="3200" spc="-1" strike="noStrike">
              <a:solidFill>
                <a:srgbClr val="ffff93"/>
              </a:solidFill>
              <a:latin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03:00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57Z</dcterms:modified>
  <cp:revision>2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