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58D1-EEE9-4AB8-A5D6-D7B33C13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CA56-6103-41F5-97AE-0A195D93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372B-5864-4A99-A10F-67BBC184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2BDF-1EA8-4584-9D09-249C74EB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15C6-A6D4-49DE-AB0B-072B71C1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A776-B54E-4440-A8E8-4097332B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E03D-03E1-427F-9441-98B0B9B1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8FF4-C96E-461E-988F-B83BE458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6444-4615-4C60-BEE3-B787FD1A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8987-32E3-4A3C-BE77-819C382B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2300-8BA9-46D7-B251-4FCD8B02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84F-0839-4FF6-A996-FACC2734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2949-5BA5-4B6D-B96E-F87F496C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4F3D-96DF-4512-89ED-CFBD0BD2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501E-72CB-451D-916E-F921856B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FC74-1416-4D0E-B6A0-B74D3078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2D67-B1D4-4F13-A6B3-91EE47B1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FB6F-24B6-4490-B0C7-FADD02B4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2A68-9443-4C19-A85D-DBEF1420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7B1-9503-41D8-92AF-80EC9089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3E18-7217-4925-A3E8-52FD528A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DCDA-1698-4A66-8B07-D8336294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3F4A-A276-4E73-B7A5-B33C8537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87F4-E382-494F-9B13-94977AA2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767E-12AF-47E3-BBC4-497070B07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FB58-830C-4F41-B766-114DF767F8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jj_yuxiang.r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b_AC505BF6BD784970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jj_jj.MP3" descr=""/>
          <p:cNvPicPr/>
          <p:nvPr/>
        </p:nvPicPr>
        <p:blipFill>
          <a:blip r:embed="rId2"/>
          <a:stretch/>
        </p:blipFill>
        <p:spPr>
          <a:xfrm>
            <a:off x="0" y="6248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468360" y="6381720"/>
            <a:ext cx="53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文本框 1" descr=""/>
          <p:cNvPicPr/>
          <p:nvPr/>
        </p:nvPicPr>
        <p:blipFill>
          <a:blip r:embed="rId3"/>
          <a:stretch/>
        </p:blipFill>
        <p:spPr>
          <a:xfrm>
            <a:off x="1081080" y="1174680"/>
            <a:ext cx="744552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6"/>
          <p:cNvSpPr txBox="1"/>
          <p:nvPr/>
        </p:nvSpPr>
        <p:spPr>
          <a:xfrm>
            <a:off x="1979640" y="2421000"/>
            <a:ext cx="590544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彩云"/>
              </a:rPr>
              <a:t>在水一方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50920" y="620640"/>
            <a:ext cx="88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绿草苍苍　白雾茫茫　有位佳人　在水一方 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绿草萋萋　白雾迷离　有位佳人　靠水而居 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我愿逆流而上　依偎在她身旁　无奈前有险滩　道路又远又长 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我愿顺流而下　找寻她的方向　却见依稀彷佛　她在水的中央 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绿草苍苍　白雾茫茫　有位佳人　在水一方 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我愿逆流而上　与她轻言细语　无奈前有险滩　道路曲折无已 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我愿顺流而下　找寻她的踪迹　却见彷佛依稀　她在水中伫立 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绿草苍苍　白雾茫茫　有位佳人　在水一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8198"/>
          <p:cNvSpPr/>
          <p:nvPr/>
        </p:nvSpPr>
        <p:spPr>
          <a:xfrm>
            <a:off x="2340000" y="191772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030"/>
          <p:cNvSpPr/>
          <p:nvPr/>
        </p:nvSpPr>
        <p:spPr>
          <a:xfrm>
            <a:off x="-252360" y="189000"/>
            <a:ext cx="3635280" cy="3600360"/>
          </a:xfrm>
          <a:prstGeom prst="verticalScroll">
            <a:avLst>
              <a:gd name="adj" fmla="val 11166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31"/>
          <p:cNvSpPr/>
          <p:nvPr/>
        </p:nvSpPr>
        <p:spPr>
          <a:xfrm>
            <a:off x="3166920" y="260280"/>
            <a:ext cx="5977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诗经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我国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第一部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诗歌总集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共收入自西周初年至春秋中叶大约五百多年的诗歌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5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篇。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诗经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共有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风、雅、颂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三个部分。其中风包括十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国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有诗</a:t>
            </a:r>
            <a:r>
              <a:rPr b="1" lang="en-US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160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篇；雅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大雅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小雅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有诗</a:t>
            </a:r>
            <a:r>
              <a:rPr b="1" lang="en-US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105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篇；颂分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周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鲁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商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有诗</a:t>
            </a:r>
            <a:r>
              <a:rPr b="1" lang="en-US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篇。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诗经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我国文学光辉的起点，是我国文学发达很早的标志，它所表现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饥者歌其食，劳者歌其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现实主义精神对后世文学影响最大。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诗经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我国乃至世界文化史上都占有极高的地位。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32"/>
          <p:cNvSpPr/>
          <p:nvPr/>
        </p:nvSpPr>
        <p:spPr>
          <a:xfrm>
            <a:off x="0" y="465300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诗经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表现手法，前人概括为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赋、比、兴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朱熹在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诗集传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中解释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赋者，敷陈其事而直言之者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比者，以此物比彼物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兴者，先言他物以引起所咏之词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这种解释比较通行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033">
            <a:hlinkClick r:id="" action="ppaction://hlinkshowjump?jump=first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3794" y="11916"/>
                </a:moveTo>
                <a:lnTo>
                  <a:pt x="17806" y="4910"/>
                </a:lnTo>
                <a:lnTo>
                  <a:pt x="17806" y="1892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无标题"/>
          <p:cNvPicPr/>
          <p:nvPr/>
        </p:nvPicPr>
        <p:blipFill>
          <a:blip r:embed="rId1"/>
          <a:stretch/>
        </p:blipFill>
        <p:spPr>
          <a:xfrm>
            <a:off x="4280040" y="0"/>
            <a:ext cx="486396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0" y="0"/>
            <a:ext cx="64087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蒹葭苍苍，白露为霜。所谓伊人，在水一方。溯洄从之，道阻且长。溯游从之，宛在水中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蒹葭萋萋，白露未晞。所谓伊人，在水之湄。溯洄从之，道阻且跻。溯游从之，宛在水中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蒹葭采采，白露未已。所谓伊人，在水之泗。 溯洄从之，道阻且右。溯游从之，宛在水中址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8198"/>
          <p:cNvSpPr/>
          <p:nvPr/>
        </p:nvSpPr>
        <p:spPr>
          <a:xfrm>
            <a:off x="828720" y="16286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026" descr="无标题"/>
          <p:cNvPicPr/>
          <p:nvPr/>
        </p:nvPicPr>
        <p:blipFill>
          <a:blip r:embed="rId1"/>
          <a:stretch/>
        </p:blipFill>
        <p:spPr>
          <a:xfrm>
            <a:off x="4280040" y="0"/>
            <a:ext cx="486396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27"/>
          <p:cNvSpPr/>
          <p:nvPr/>
        </p:nvSpPr>
        <p:spPr>
          <a:xfrm>
            <a:off x="0" y="0"/>
            <a:ext cx="6408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蒹葭</a:t>
            </a:r>
            <a:r>
              <a:rPr b="0" lang="zh-CN" sz="3200" spc="-1" strike="noStrike">
                <a:solidFill>
                  <a:srgbClr val="ff66cc"/>
                </a:solidFill>
                <a:latin typeface="Arial"/>
                <a:ea typeface="隶书"/>
              </a:rPr>
              <a:t>苍苍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，白露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  <a:ea typeface="隶书"/>
              </a:rPr>
              <a:t>为霜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所谓伊人，在水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一方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溯洄从之，道阻且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隶书"/>
              </a:rPr>
              <a:t>长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溯游从之，宛在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隶书"/>
              </a:rPr>
              <a:t>水中央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蒹葭</a:t>
            </a:r>
            <a:r>
              <a:rPr b="0" lang="zh-CN" sz="3200" spc="-1" strike="noStrike">
                <a:solidFill>
                  <a:srgbClr val="ff66cc"/>
                </a:solidFill>
                <a:latin typeface="Arial"/>
                <a:ea typeface="隶书"/>
              </a:rPr>
              <a:t>萋萋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，白露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  <a:ea typeface="隶书"/>
              </a:rPr>
              <a:t>未晞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所谓伊人，在水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之湄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溯洄从之，道阻且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隶书"/>
              </a:rPr>
              <a:t>跻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溯游从之，宛在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隶书"/>
              </a:rPr>
              <a:t>水中坻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蒹葭</a:t>
            </a:r>
            <a:r>
              <a:rPr b="0" lang="zh-CN" sz="3200" spc="-1" strike="noStrike">
                <a:solidFill>
                  <a:srgbClr val="ff66cc"/>
                </a:solidFill>
                <a:latin typeface="Arial"/>
                <a:ea typeface="隶书"/>
              </a:rPr>
              <a:t>采采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，白露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  <a:ea typeface="隶书"/>
              </a:rPr>
              <a:t>未已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所谓伊人，在水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之涘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 溯洄从之，道阻且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隶书"/>
              </a:rPr>
              <a:t>右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溯游从之，宛在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隶书"/>
              </a:rPr>
              <a:t>水中沚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250920" y="333360"/>
            <a:ext cx="889308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/>
              </a:rPr>
              <a:t>雨 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撑着油纸伞，独自彷徨在悠长，悠长 又寂寥的雨巷，我希望逢着一个丁香一样地 结着愁怨的姑娘。 她是有丁香一样的颜色，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丁香一样的芬芳，丁香一样的忧愁， 在雨中哀怨， 哀怨又彷徨；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彷徨在这寂寥的雨巷 撑着油纸伞像我一样， 像我一样地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默默行着 冷漠，凄清，又惆怅。 她静默地走近 走近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投出太息一般的眼光， 她飘过 像梦一般地，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梦一般地凄婉迷茫。 像梦中飘过 一枝丁香地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身旁飘过这女郎； 她静默地远了，远了， 到了颓圮的篱墙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尽这雨巷。 在雨的哀曲里，消了她的颜色， 散了她的芬芳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消散了，甚至她的 太息般的眼光， 丁香般的惆怅。撑着油纸伞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独自 彷徨在悠长，悠长 又寂寥的雨巷， 我希望飘过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丁香一样地结着愁怨的姑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9CF8-27DB-4344-A6AB-EC84B06E8B8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79280" y="692280"/>
            <a:ext cx="87138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                       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关     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关关雎鸠，在河之洲。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参差荇菜，左右流之。窈窕淑女，寤寐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求之不得，寤寐思服。悠哉悠哉。辗转反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参差荇菜，左右采之。窈窕淑女，琴瑟友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参差荇菜，左右毛之。窈窕淑女。钟鼓乐之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2:29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46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