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F08-7C56-4C1A-865E-261E80E2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3B9-5533-46AA-B8A3-7658BEC1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81A-9AE2-4770-B8A3-EBECB104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51B-B4CE-4863-876A-39B6337B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0F88-AD2E-428B-8B05-39635ADF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FA12-7102-4FA8-8720-E7759E55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8AB1-A55C-4C02-8284-840436E9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5D4F-35B0-4030-AACB-70EA7B7D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86B6-7410-4A4E-9C9E-AD2AF1A0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38F2-D706-405D-9633-971B7FBF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C8CF-0DE8-4773-B9AE-48B6BDB9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17E-9354-4B7E-B69C-D4A838E0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F5C8-A39E-4E3B-8C7B-7055EF66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C995-F60C-4E72-B210-795A058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F672-AC17-4201-BB2E-F95CDD61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B4FF-73A7-440C-82D7-0C3E703D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806B-994D-465A-9F85-47C2B4C7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75B01-F8C9-4213-9327-96A59E26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9C19-4F07-46CC-B5B6-57EE4DAA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CE70-51CE-42FD-A505-005CD68A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E0DF-9B6F-4A84-B11A-C3923BB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0137-60A7-4B87-802F-1557F859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954-2FEC-4D7F-8CD7-580C89C8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3CA5-5AEA-466A-B3E8-522802AB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0610-5025-4392-8222-D5E45323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A26C9-4360-40BD-A21C-CA48A35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4E27-83A1-41A3-B360-84BAFA3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EC46-A671-4DBE-8439-EA2D1C4F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C766-5B7F-4131-A123-6D3E2982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5698-3013-4AAD-B957-D6D673B0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9F5-B6A2-405B-AA88-CBD9019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383-DB09-48FC-9FF6-37AAEFEA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E42-67B7-4264-9086-8659AFEC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02B-D4B5-4F77-9735-D54127C3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6E6-8546-461D-9A1F-F361C58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5A5-FF15-445F-A788-27DB7AE0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4FAD-9262-451D-950F-C9DB152604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制作工作\2014\1\PPT模板\样例\13 初中化学\模板1-4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AB54-92B2-4924-BB19-20D21DF607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E:\制作工作\2014\1\PPT模板\样例\13 初中化学\模板1-4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E:\制作工作\2014\1\PPT模板\样例\13 初中化学\模板1-3.png"/>
          <p:cNvPicPr/>
          <p:nvPr/>
        </p:nvPicPr>
        <p:blipFill>
          <a:blip r:embed="rId3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EB88-323A-4FC3-BAB1-16C4170287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.baidu.com/i?ct=503316480&amp;z=0&amp;tn=baiduimagedetail&amp;word=%D1%C0%B8%E0&amp;in=24900&amp;cl=2&amp;cm=1&amp;sc=0&amp;lm=-1&amp;pn=0&amp;rn=1&amp;di=10418314860&amp;ln=2000&amp;fr=&amp;ic=0&amp;s=0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.baidu.com/i?ct=503316480&amp;z=0&amp;tn=baiduimagedetail&amp;word=%B7%CA%D4%ED&#750;&amp;in=1786&amp;cl=2&amp;cm=1&amp;sc=0&amp;lm=-1&amp;pn=34&amp;rn=1&amp;di=2396501685&amp;ln=2000&amp;fr=&amp;ic=0&amp;s=0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39640" y="1483920"/>
            <a:ext cx="62276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题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酸和碱的中和反应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104760" y="62308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0" descr="U_2701~1"/>
          <p:cNvPicPr/>
          <p:nvPr/>
        </p:nvPicPr>
        <p:blipFill>
          <a:blip r:embed="rId1"/>
          <a:stretch/>
        </p:blipFill>
        <p:spPr>
          <a:xfrm>
            <a:off x="587520" y="1557360"/>
            <a:ext cx="5352840" cy="3311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716760" y="5084640"/>
            <a:ext cx="665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用熟石灰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理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Ca(OH)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=   CaSO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+  2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6156360" y="1700280"/>
            <a:ext cx="223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路上载有浓硫酸的罐车侧翻，硫酸泄漏，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084720" y="19162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壤呈酸性，不利于农作物生长，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酸性土壤"/>
          <p:cNvPicPr/>
          <p:nvPr/>
        </p:nvPicPr>
        <p:blipFill>
          <a:blip r:embed="rId1"/>
          <a:stretch/>
        </p:blipFill>
        <p:spPr>
          <a:xfrm>
            <a:off x="611280" y="1757520"/>
            <a:ext cx="5514840" cy="3484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403280" y="54309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用熟石灰改良酸性土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6659640" y="1844640"/>
            <a:ext cx="24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胃酸中含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盐酸，胃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泌过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324000" y="1628640"/>
            <a:ext cx="6133680" cy="2963160"/>
            <a:chOff x="324000" y="1628640"/>
            <a:chExt cx="6133680" cy="2963160"/>
          </a:xfrm>
        </p:grpSpPr>
        <p:pic>
          <p:nvPicPr>
            <p:cNvPr id="208" name="Picture 35" descr="胃舒平"/>
            <p:cNvPicPr/>
            <p:nvPr/>
          </p:nvPicPr>
          <p:blipFill>
            <a:blip r:embed="rId1"/>
            <a:stretch/>
          </p:blipFill>
          <p:spPr>
            <a:xfrm>
              <a:off x="536760" y="1628640"/>
              <a:ext cx="2381040" cy="22629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09" name="Text Box 36"/>
            <p:cNvSpPr/>
            <p:nvPr/>
          </p:nvSpPr>
          <p:spPr>
            <a:xfrm>
              <a:off x="324000" y="4071240"/>
              <a:ext cx="29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含氢氧化铝药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9" descr="20520051025165831"/>
            <p:cNvPicPr/>
            <p:nvPr/>
          </p:nvPicPr>
          <p:blipFill>
            <a:blip r:embed="rId2"/>
            <a:stretch/>
          </p:blipFill>
          <p:spPr>
            <a:xfrm>
              <a:off x="3803400" y="1718640"/>
              <a:ext cx="2654280" cy="201312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11" name="Text Box 14"/>
            <p:cNvSpPr/>
            <p:nvPr/>
          </p:nvSpPr>
          <p:spPr>
            <a:xfrm>
              <a:off x="3886560" y="4071240"/>
              <a:ext cx="23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含氢氧化镁药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541440" y="4869000"/>
            <a:ext cx="8602200" cy="1299960"/>
            <a:chOff x="541440" y="4869000"/>
            <a:chExt cx="8602200" cy="1299960"/>
          </a:xfrm>
        </p:grpSpPr>
        <p:sp>
          <p:nvSpPr>
            <p:cNvPr id="213" name="Rectangle 21"/>
            <p:cNvSpPr/>
            <p:nvPr/>
          </p:nvSpPr>
          <p:spPr>
            <a:xfrm>
              <a:off x="1260360" y="5592600"/>
              <a:ext cx="65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Mg(OH)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+2HCl =MgCl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2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+2H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"/>
            <p:cNvSpPr/>
            <p:nvPr/>
          </p:nvSpPr>
          <p:spPr>
            <a:xfrm>
              <a:off x="1371600" y="4869000"/>
              <a:ext cx="777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Al(OH)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华文新魏"/>
                </a:rPr>
                <a:t>3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+ 3HCl=AlCl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华文新魏"/>
                </a:rPr>
                <a:t>3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 +3H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华文新魏"/>
                </a:rPr>
                <a:t>2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541440" y="4871880"/>
              <a:ext cx="64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原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6372360" y="148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蚊虫叮咬后，皮肤红肿、发痒，怎么办？（蚊虫向人体内注入蚁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"/>
          <p:cNvGrpSpPr/>
          <p:nvPr/>
        </p:nvGrpSpPr>
        <p:grpSpPr>
          <a:xfrm>
            <a:off x="662040" y="1542960"/>
            <a:ext cx="4566960" cy="2217600"/>
            <a:chOff x="662040" y="1542960"/>
            <a:chExt cx="4566960" cy="2217600"/>
          </a:xfrm>
        </p:grpSpPr>
        <p:pic>
          <p:nvPicPr>
            <p:cNvPr id="218" name="Picture 8" descr="20080317091310894"/>
            <p:cNvPicPr/>
            <p:nvPr/>
          </p:nvPicPr>
          <p:blipFill>
            <a:blip r:embed="rId1"/>
            <a:stretch/>
          </p:blipFill>
          <p:spPr>
            <a:xfrm>
              <a:off x="4461480" y="1542960"/>
              <a:ext cx="767520" cy="22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" descr="http://t3.baidu.com/it/u=716957745,2934547853&amp;fm=0&amp;gp=0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439000" y="1936080"/>
              <a:ext cx="1134720" cy="14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" descr="http://t2.baidu.com/it/u=3115616785,2548632250&amp;fm=0&amp;gp=0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62040" y="2014200"/>
              <a:ext cx="1353960" cy="109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Text Box 11"/>
          <p:cNvSpPr/>
          <p:nvPr/>
        </p:nvSpPr>
        <p:spPr>
          <a:xfrm>
            <a:off x="900000" y="4653000"/>
            <a:ext cx="727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皮肤表面涂抹肥皂水、牙膏或者稀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中和反应在实际中的应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95280" y="1557360"/>
            <a:ext cx="4191120" cy="3827520"/>
            <a:chOff x="395280" y="1557360"/>
            <a:chExt cx="4191120" cy="3827520"/>
          </a:xfrm>
        </p:grpSpPr>
        <p:pic>
          <p:nvPicPr>
            <p:cNvPr id="225" name="Picture 5" descr="皮蛋（原装）"/>
            <p:cNvPicPr/>
            <p:nvPr/>
          </p:nvPicPr>
          <p:blipFill>
            <a:blip r:embed="rId1"/>
            <a:stretch/>
          </p:blipFill>
          <p:spPr>
            <a:xfrm>
              <a:off x="776160" y="1557360"/>
              <a:ext cx="28353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6"/>
            <p:cNvSpPr/>
            <p:nvPr/>
          </p:nvSpPr>
          <p:spPr>
            <a:xfrm>
              <a:off x="395280" y="4681440"/>
              <a:ext cx="419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利用熟石灰加工的皮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Picture 7" descr="皮蛋（菜）"/>
          <p:cNvPicPr/>
          <p:nvPr/>
        </p:nvPicPr>
        <p:blipFill>
          <a:blip r:embed="rId2"/>
          <a:stretch/>
        </p:blipFill>
        <p:spPr>
          <a:xfrm>
            <a:off x="4572000" y="1557360"/>
            <a:ext cx="4321080" cy="3456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4500720" y="558972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吃皮蛋时蘸少量的食醋就能去除皮蛋的涩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48D7-B423-4857-B48D-0057DBD824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116000" y="1341360"/>
            <a:ext cx="676908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和反应（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探究中和反应是否发生，利用反应物消失或者验证有新物质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和反应在实际生活中的应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农业：可以改良酸性土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业：处理工厂的废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医药：治疗胃酸过多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211400" y="33336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我的收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179280" y="1268280"/>
            <a:ext cx="3203640" cy="66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-252360" y="191628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掌握酸和碱之间发生的中和反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会设计实验证明常见的酸与碱之间能发生发生反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中和反应的应用与盐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416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探究氢氧化钠和盐酸发生反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8000" y="12682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提出问题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979640" y="1341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酸和碱之间会发生什么反应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08000" y="19162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实验验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908000" y="18446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稀盐酸与氢氧化钠溶液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直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混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263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设计出可行的方案证明酸和碱之间发生了反应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0" y="371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-8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烧杯中加入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氢氧化钠溶液，滴入几滴酚酞溶液。再用滴管慢慢滴入稀盐酸，并不断搅拌溶液，至溶液颜色恰好变成无色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6"/>
          <p:cNvSpPr/>
          <p:nvPr/>
        </p:nvSpPr>
        <p:spPr>
          <a:xfrm>
            <a:off x="971640" y="5229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41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探究氢氧化钠和盐酸发生反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13"/>
          <p:cNvGrpSpPr/>
          <p:nvPr/>
        </p:nvGrpSpPr>
        <p:grpSpPr>
          <a:xfrm>
            <a:off x="610920" y="1989000"/>
            <a:ext cx="2952720" cy="3445560"/>
            <a:chOff x="610920" y="1989000"/>
            <a:chExt cx="2952720" cy="3445560"/>
          </a:xfrm>
        </p:grpSpPr>
        <p:pic>
          <p:nvPicPr>
            <p:cNvPr id="140" name="Picture 14" descr="10"/>
            <p:cNvPicPr/>
            <p:nvPr/>
          </p:nvPicPr>
          <p:blipFill>
            <a:blip r:embed="rId1"/>
            <a:stretch/>
          </p:blipFill>
          <p:spPr>
            <a:xfrm>
              <a:off x="610920" y="1989000"/>
              <a:ext cx="2952720" cy="272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1330200" y="4352760"/>
              <a:ext cx="217440" cy="647640"/>
              <a:chOff x="1330200" y="4352760"/>
              <a:chExt cx="217440" cy="647640"/>
            </a:xfrm>
          </p:grpSpPr>
          <p:sp>
            <p:nvSpPr>
              <p:cNvPr id="142" name="Line 15"/>
              <p:cNvSpPr/>
              <p:nvPr/>
            </p:nvSpPr>
            <p:spPr>
              <a:xfrm>
                <a:off x="1330200" y="4352760"/>
                <a:ext cx="21744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1330200" y="4352760"/>
                <a:ext cx="2174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9640" y="3055680"/>
              <a:ext cx="432000" cy="1297080"/>
              <a:chOff x="2339640" y="3055680"/>
              <a:chExt cx="432000" cy="1297080"/>
            </a:xfrm>
          </p:grpSpPr>
          <p:sp>
            <p:nvSpPr>
              <p:cNvPr id="145" name="Line 16"/>
              <p:cNvSpPr/>
              <p:nvPr/>
            </p:nvSpPr>
            <p:spPr>
              <a:xfrm>
                <a:off x="2339640" y="3055680"/>
                <a:ext cx="4320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2339640" y="3055680"/>
                <a:ext cx="432000" cy="129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74200" y="3055680"/>
              <a:ext cx="360720" cy="216000"/>
              <a:chOff x="1474200" y="3055680"/>
              <a:chExt cx="360720" cy="216000"/>
            </a:xfrm>
          </p:grpSpPr>
          <p:sp>
            <p:nvSpPr>
              <p:cNvPr id="148" name="Line 17"/>
              <p:cNvSpPr/>
              <p:nvPr/>
            </p:nvSpPr>
            <p:spPr>
              <a:xfrm flipV="1">
                <a:off x="1474560" y="3055680"/>
                <a:ext cx="3603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 rot="10800000">
                <a:off x="1474200" y="3055680"/>
                <a:ext cx="360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Rectangle 18"/>
            <p:cNvSpPr/>
            <p:nvPr/>
          </p:nvSpPr>
          <p:spPr>
            <a:xfrm>
              <a:off x="870480" y="4974840"/>
              <a:ext cx="19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m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氢氧化钠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1939320" y="2638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酚酞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20"/>
          <p:cNvSpPr/>
          <p:nvPr/>
        </p:nvSpPr>
        <p:spPr>
          <a:xfrm>
            <a:off x="3348000" y="3213000"/>
            <a:ext cx="1224000" cy="863640"/>
          </a:xfrm>
          <a:prstGeom prst="rightArrow">
            <a:avLst>
              <a:gd name="adj1" fmla="val 50000"/>
              <a:gd name="adj2" fmla="val 35412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4427640" y="1844640"/>
            <a:ext cx="1657080" cy="2808360"/>
            <a:chOff x="4427640" y="1844640"/>
            <a:chExt cx="1657080" cy="2808360"/>
          </a:xfrm>
        </p:grpSpPr>
        <p:sp>
          <p:nvSpPr>
            <p:cNvPr id="154" name="Text Box 22"/>
            <p:cNvSpPr/>
            <p:nvPr/>
          </p:nvSpPr>
          <p:spPr>
            <a:xfrm>
              <a:off x="4716360" y="2060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稀盐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3" descr="10"/>
            <p:cNvPicPr/>
            <p:nvPr/>
          </p:nvPicPr>
          <p:blipFill>
            <a:blip r:embed="rId2"/>
            <a:stretch/>
          </p:blipFill>
          <p:spPr>
            <a:xfrm>
              <a:off x="4427640" y="1844640"/>
              <a:ext cx="1425600" cy="28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5292720" y="2491920"/>
              <a:ext cx="287280" cy="505080"/>
              <a:chOff x="5292720" y="2491920"/>
              <a:chExt cx="287280" cy="505080"/>
            </a:xfrm>
          </p:grpSpPr>
          <p:sp>
            <p:nvSpPr>
              <p:cNvPr id="157" name="Line 24"/>
              <p:cNvSpPr/>
              <p:nvPr/>
            </p:nvSpPr>
            <p:spPr>
              <a:xfrm flipH="1" flipV="1">
                <a:off x="5292720" y="2491920"/>
                <a:ext cx="287280" cy="50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00000">
                <a:off x="5292720" y="2491920"/>
                <a:ext cx="287280" cy="50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AutoShape 25"/>
          <p:cNvSpPr/>
          <p:nvPr/>
        </p:nvSpPr>
        <p:spPr>
          <a:xfrm>
            <a:off x="5869080" y="3286080"/>
            <a:ext cx="1224000" cy="863640"/>
          </a:xfrm>
          <a:prstGeom prst="rightArrow">
            <a:avLst>
              <a:gd name="adj1" fmla="val 50000"/>
              <a:gd name="adj2" fmla="val 35412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6" descr="10"/>
          <p:cNvPicPr/>
          <p:nvPr/>
        </p:nvPicPr>
        <p:blipFill>
          <a:blip r:embed="rId3"/>
          <a:stretch/>
        </p:blipFill>
        <p:spPr>
          <a:xfrm>
            <a:off x="7020000" y="3143160"/>
            <a:ext cx="1447560" cy="1438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7"/>
          <p:cNvSpPr/>
          <p:nvPr/>
        </p:nvSpPr>
        <p:spPr>
          <a:xfrm>
            <a:off x="2195640" y="55738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氢氧化钠溶液中加入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032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258920" y="4221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    =        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042920" y="242100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C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aOH    =  NaCl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NaO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  Na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C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  CaCl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  CaSO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1"/>
          <p:cNvGrpSpPr/>
          <p:nvPr/>
        </p:nvGrpSpPr>
        <p:grpSpPr>
          <a:xfrm>
            <a:off x="971640" y="2349360"/>
            <a:ext cx="1295280" cy="2392200"/>
            <a:chOff x="971640" y="2349360"/>
            <a:chExt cx="1295280" cy="2392200"/>
          </a:xfrm>
        </p:grpSpPr>
        <p:sp>
          <p:nvSpPr>
            <p:cNvPr id="166" name="Rectangle 13"/>
            <p:cNvSpPr/>
            <p:nvPr/>
          </p:nvSpPr>
          <p:spPr>
            <a:xfrm>
              <a:off x="971640" y="2349360"/>
              <a:ext cx="129528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1260360" y="422100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2"/>
          <p:cNvGrpSpPr/>
          <p:nvPr/>
        </p:nvGrpSpPr>
        <p:grpSpPr>
          <a:xfrm>
            <a:off x="2843280" y="2349360"/>
            <a:ext cx="1366560" cy="2392200"/>
            <a:chOff x="2843280" y="2349360"/>
            <a:chExt cx="1366560" cy="2392200"/>
          </a:xfrm>
        </p:grpSpPr>
        <p:sp>
          <p:nvSpPr>
            <p:cNvPr id="169" name="Rectangle 14"/>
            <p:cNvSpPr/>
            <p:nvPr/>
          </p:nvSpPr>
          <p:spPr>
            <a:xfrm>
              <a:off x="2843280" y="2349360"/>
              <a:ext cx="136656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>
              <a:off x="3132000" y="4221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6659640" y="2349360"/>
            <a:ext cx="1295280" cy="2392200"/>
            <a:chOff x="6659640" y="2349360"/>
            <a:chExt cx="1295280" cy="2392200"/>
          </a:xfrm>
        </p:grpSpPr>
        <p:sp>
          <p:nvSpPr>
            <p:cNvPr id="172" name="Rectangle 16"/>
            <p:cNvSpPr/>
            <p:nvPr/>
          </p:nvSpPr>
          <p:spPr>
            <a:xfrm>
              <a:off x="6659640" y="2349360"/>
              <a:ext cx="129528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6948360" y="4221000"/>
              <a:ext cx="64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4716360" y="1125360"/>
            <a:ext cx="3456000" cy="3616200"/>
            <a:chOff x="4716360" y="1125360"/>
            <a:chExt cx="3456000" cy="3616200"/>
          </a:xfrm>
        </p:grpSpPr>
        <p:grpSp>
          <p:nvGrpSpPr>
            <p:cNvPr id="175" name="Group 23"/>
            <p:cNvGrpSpPr/>
            <p:nvPr/>
          </p:nvGrpSpPr>
          <p:grpSpPr>
            <a:xfrm>
              <a:off x="4716360" y="2349360"/>
              <a:ext cx="1295280" cy="2392200"/>
              <a:chOff x="4716360" y="2349360"/>
              <a:chExt cx="1295280" cy="2392200"/>
            </a:xfrm>
          </p:grpSpPr>
          <p:sp>
            <p:nvSpPr>
              <p:cNvPr id="176" name="Rectangle 15"/>
              <p:cNvSpPr/>
              <p:nvPr/>
            </p:nvSpPr>
            <p:spPr>
              <a:xfrm>
                <a:off x="4716360" y="2349360"/>
                <a:ext cx="1295280" cy="187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9"/>
              <p:cNvSpPr/>
              <p:nvPr/>
            </p:nvSpPr>
            <p:spPr>
              <a:xfrm>
                <a:off x="5149800" y="4221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25"/>
            <p:cNvSpPr/>
            <p:nvPr/>
          </p:nvSpPr>
          <p:spPr>
            <a:xfrm>
              <a:off x="5219640" y="1125360"/>
              <a:ext cx="2952720" cy="1008360"/>
            </a:xfrm>
            <a:prstGeom prst="wedgeRoundRectCallout">
              <a:avLst>
                <a:gd name="adj1" fmla="val -42472"/>
                <a:gd name="adj2" fmla="val 8118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金属和酸根离子构成的化合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27"/>
          <p:cNvSpPr/>
          <p:nvPr/>
        </p:nvSpPr>
        <p:spPr>
          <a:xfrm>
            <a:off x="826920" y="501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酸和碱作用，生成盐和水的反应，叫中和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10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64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395280" y="558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氢氧化钠与盐酸反应示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8199"/>
          <p:cNvSpPr/>
          <p:nvPr/>
        </p:nvSpPr>
        <p:spPr>
          <a:xfrm>
            <a:off x="3706920" y="2041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1413000"/>
            <a:ext cx="5761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中和反应的实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835280" y="5229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量自由移动的氢离子和氢氧根离子生成稳定的水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中和反应微观解释.wmv" descr=""/>
          <p:cNvPicPr/>
          <p:nvPr/>
        </p:nvPicPr>
        <p:blipFill>
          <a:blip r:embed="rId1"/>
          <a:stretch/>
        </p:blipFill>
        <p:spPr>
          <a:xfrm>
            <a:off x="3124080" y="2092320"/>
            <a:ext cx="2384640" cy="31370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1187280" y="260280"/>
            <a:ext cx="4032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下列反应中属于中和反应的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 + 2HCl  =   ZnCl2  +H2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O + 2HCl  =  CuCl2+  H2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(OH)2+ H2SO4  =   BaSO4 ↓+ 2H2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NO3+HCl  =  AgCl↓  +HNO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下列物质中，不属于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盐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类的是（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(OH)2         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C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2CO3        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2SO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300720" y="162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37452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87924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巩固拓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U_3314~1"/>
          <p:cNvPicPr/>
          <p:nvPr/>
        </p:nvPicPr>
        <p:blipFill>
          <a:blip r:embed="rId1"/>
          <a:stretch/>
        </p:blipFill>
        <p:spPr>
          <a:xfrm>
            <a:off x="611280" y="1600200"/>
            <a:ext cx="55148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1617840"/>
            <a:ext cx="26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硫酸厂的废水直接排放，会对环境造成污染，怎么处理废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861480" y="5157720"/>
            <a:ext cx="665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用熟石灰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理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Ca(OH)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=   CaSO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+  2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21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