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787-3290-4104-9335-0CB7CBA3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6E1-AAD0-48FB-A99E-E665D88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46E-091C-4E58-A0CA-BAD63C2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D26-7487-4D82-B056-A22B5265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46A-C1D7-4D3B-99F3-67F01CB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E3E-1B13-4E85-96EB-F48C7FF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CC7-EE0C-4C42-A333-A985812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39D-362F-44C7-812B-64D008EE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490-2A93-4397-989C-467B8B0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3E4-46A6-43A3-A123-0DAB564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AD5-9585-44E8-B9F4-DE48C3DD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FFA-E566-4BCF-99D8-96C1868D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F3ADD-768D-4DC7-951C-913BA953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40061-C95F-4FCB-BF09-2E293D1F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4DAC-CDFE-44F7-8E4A-953F883C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70BB9-A149-4C84-8EB7-6945D6F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62B4-C5E3-41B7-85DF-34EC649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1B906-6327-4D53-8B71-88C9A00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DA1C-5B61-4763-82B0-AB2300F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3A46-11C6-47AA-A7EB-56E1100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B6B7A-D8D6-466F-9ACF-D79D2C7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0AEF4-55F4-4149-8FAC-725626D4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C8806-67B6-4BC2-870D-B879B46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9C44B-4F18-4D39-9716-400EBEA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EACCC-AD95-40CB-BDB7-61060631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28D95-C28F-45FB-9479-5629AF5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D58B2-D448-48F2-86DA-E846B7E3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2503F-6973-4B3E-B72C-13C87EF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6D61C-471C-4F3A-AC84-A68084F3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F0C1B-C2C5-4521-9D0E-9FAFF61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4258F-C39F-432B-BACF-2AA42E8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BF2E9-069D-4554-B3E0-7D36378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CD1BB-F055-45AA-9EA6-514EC87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A6529-F730-43AA-A0CC-C82DEBC2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6237B-F303-41D6-9F60-9CD7232E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385F9-B334-48C6-B63D-A31665D6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38E5-FBC4-4A93-B063-13CDF01458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D5E-AEE8-44C1-B9E2-C3F4F03B5D34}" type="slidenum">
              <a:rPr b="1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580-0C9C-4ABA-8041-04F40259FC30}" type="slidenum">
              <a:rPr b="1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30040" y="1988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酸碱的化学性质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45080" y="1197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实验活动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314280" y="907920"/>
            <a:ext cx="2722320" cy="642600"/>
            <a:chOff x="314280" y="907920"/>
            <a:chExt cx="2722320" cy="642600"/>
          </a:xfrm>
        </p:grpSpPr>
        <p:sp>
          <p:nvSpPr>
            <p:cNvPr id="210" name="AutoShape 3"/>
            <p:cNvSpPr/>
            <p:nvPr/>
          </p:nvSpPr>
          <p:spPr>
            <a:xfrm>
              <a:off x="314280" y="907920"/>
              <a:ext cx="2722320" cy="551160"/>
            </a:xfrm>
            <a:prstGeom prst="flowChartOnlineStorage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fd943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7a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"/>
            <p:cNvSpPr/>
            <p:nvPr/>
          </p:nvSpPr>
          <p:spPr>
            <a:xfrm>
              <a:off x="741960" y="907920"/>
              <a:ext cx="162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3302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思考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5"/>
          <p:cNvSpPr/>
          <p:nvPr/>
        </p:nvSpPr>
        <p:spPr>
          <a:xfrm>
            <a:off x="1413000" y="1755720"/>
            <a:ext cx="63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实验五：可以验证氢氧化钙的那些性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46069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练习与实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000" y="2276280"/>
            <a:ext cx="73436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某硫酸厂排出的废水中含有硫酸等杂质，严重危害当地的生态环境，你会怎么处理这些废水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26960" y="46213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写出化学方程式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8199"/>
          <p:cNvSpPr/>
          <p:nvPr/>
        </p:nvSpPr>
        <p:spPr>
          <a:xfrm>
            <a:off x="2303640" y="587844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85760" y="1243080"/>
            <a:ext cx="885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亮在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盐酸中和氢氧化钠溶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实验时，滴加盐酸前忘了加入指示剂，导致无法判断该中和反应进行的程度。于是他对所得溶液的酸碱性进行探究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探究目的〗探究所得溶液的酸碱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提出猜想〗所得溶液可能呈碱性、也可能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，还可能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〖实验验证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3860640"/>
          <a:ext cx="8351640" cy="2581200"/>
        </p:xfrm>
        <a:graphic>
          <a:graphicData uri="http://schemas.openxmlformats.org/drawingml/2006/table">
            <a:tbl>
              <a:tblPr/>
              <a:tblGrid>
                <a:gridCol w="2601720"/>
                <a:gridCol w="3228840"/>
                <a:gridCol w="252108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操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试管取该溶液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~2mL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滴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~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滴无色酚酞溶液，振荡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色酚酞溶液变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2000" spc="-1" strike="noStrike" u="sng">
                          <a:solidFill>
                            <a:srgbClr val="ffffff"/>
                          </a:solidFill>
                          <a:uFillTx/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微软雅黑"/>
                          <a:ea typeface="微软雅黑"/>
                        </a:rPr>
                        <a:t>                        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溶液呈碱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色酚酞不变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溶液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______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9" name="Group 33"/>
          <p:cNvGrpSpPr/>
          <p:nvPr/>
        </p:nvGrpSpPr>
        <p:grpSpPr>
          <a:xfrm>
            <a:off x="4145040" y="-85320"/>
            <a:ext cx="4927680" cy="1177920"/>
            <a:chOff x="4145040" y="-85320"/>
            <a:chExt cx="4927680" cy="1177920"/>
          </a:xfrm>
        </p:grpSpPr>
        <p:grpSp>
          <p:nvGrpSpPr>
            <p:cNvPr id="220" name="Group 34"/>
            <p:cNvGrpSpPr/>
            <p:nvPr/>
          </p:nvGrpSpPr>
          <p:grpSpPr>
            <a:xfrm>
              <a:off x="5365080" y="-84960"/>
              <a:ext cx="1153080" cy="1169280"/>
              <a:chOff x="5365080" y="-84960"/>
              <a:chExt cx="1153080" cy="1169280"/>
            </a:xfrm>
          </p:grpSpPr>
          <p:grpSp>
            <p:nvGrpSpPr>
              <p:cNvPr id="221" name="Group 35"/>
              <p:cNvGrpSpPr/>
              <p:nvPr/>
            </p:nvGrpSpPr>
            <p:grpSpPr>
              <a:xfrm>
                <a:off x="5365080" y="-84960"/>
                <a:ext cx="1153080" cy="1169280"/>
                <a:chOff x="5365080" y="-84960"/>
                <a:chExt cx="1153080" cy="1169280"/>
              </a:xfrm>
            </p:grpSpPr>
            <p:pic>
              <p:nvPicPr>
                <p:cNvPr id="222" name="椭圆 4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65080" y="-23760"/>
                  <a:ext cx="115308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椭圆 48"/>
                <p:cNvSpPr/>
                <p:nvPr/>
              </p:nvSpPr>
              <p:spPr>
                <a:xfrm rot="2140200">
                  <a:off x="5596560" y="86400"/>
                  <a:ext cx="708480" cy="37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椭圆 46"/>
              <p:cNvSpPr/>
              <p:nvPr/>
            </p:nvSpPr>
            <p:spPr>
              <a:xfrm>
                <a:off x="5511600" y="118440"/>
                <a:ext cx="865080" cy="83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以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39"/>
            <p:cNvGrpSpPr/>
            <p:nvPr/>
          </p:nvGrpSpPr>
          <p:grpSpPr>
            <a:xfrm>
              <a:off x="4145040" y="-78840"/>
              <a:ext cx="1153080" cy="1171440"/>
              <a:chOff x="4145040" y="-78840"/>
              <a:chExt cx="1153080" cy="1171440"/>
            </a:xfrm>
          </p:grpSpPr>
          <p:pic>
            <p:nvPicPr>
              <p:cNvPr id="226" name="椭圆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45040" y="-1548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椭圆 43"/>
              <p:cNvSpPr/>
              <p:nvPr/>
            </p:nvSpPr>
            <p:spPr>
              <a:xfrm rot="2140200">
                <a:off x="4386600" y="92880"/>
                <a:ext cx="710640" cy="375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44"/>
              <p:cNvSpPr/>
              <p:nvPr/>
            </p:nvSpPr>
            <p:spPr>
              <a:xfrm>
                <a:off x="4401720" y="135720"/>
                <a:ext cx="645480" cy="37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学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7919640" y="-85320"/>
              <a:ext cx="1153080" cy="1169640"/>
              <a:chOff x="7919640" y="-85320"/>
              <a:chExt cx="1153080" cy="1169640"/>
            </a:xfrm>
          </p:grpSpPr>
          <p:pic>
            <p:nvPicPr>
              <p:cNvPr id="230" name="椭圆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9640" y="-2376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椭圆 40"/>
              <p:cNvSpPr/>
              <p:nvPr/>
            </p:nvSpPr>
            <p:spPr>
              <a:xfrm rot="2140200">
                <a:off x="8173440" y="86400"/>
                <a:ext cx="709560" cy="374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用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41"/>
              <p:cNvSpPr/>
              <p:nvPr/>
            </p:nvSpPr>
            <p:spPr>
              <a:xfrm>
                <a:off x="8174520" y="128880"/>
                <a:ext cx="64548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47"/>
            <p:cNvGrpSpPr/>
            <p:nvPr/>
          </p:nvGrpSpPr>
          <p:grpSpPr>
            <a:xfrm>
              <a:off x="6650280" y="-81720"/>
              <a:ext cx="1153080" cy="1170360"/>
              <a:chOff x="6650280" y="-81720"/>
              <a:chExt cx="1153080" cy="1170360"/>
            </a:xfrm>
          </p:grpSpPr>
          <p:pic>
            <p:nvPicPr>
              <p:cNvPr id="234" name="椭圆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0280" y="-19440"/>
                <a:ext cx="115308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椭圆 37"/>
              <p:cNvSpPr/>
              <p:nvPr/>
            </p:nvSpPr>
            <p:spPr>
              <a:xfrm rot="2140200">
                <a:off x="6901560" y="90360"/>
                <a:ext cx="710640" cy="3740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椭圆 38"/>
              <p:cNvSpPr/>
              <p:nvPr/>
            </p:nvSpPr>
            <p:spPr>
              <a:xfrm>
                <a:off x="6903720" y="132480"/>
                <a:ext cx="645480" cy="37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</a:rPr>
                  <a:t>致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Box 32"/>
            <p:cNvSpPr/>
            <p:nvPr/>
          </p:nvSpPr>
          <p:spPr>
            <a:xfrm>
              <a:off x="4215960" y="411120"/>
              <a:ext cx="1022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3"/>
            <p:cNvSpPr/>
            <p:nvPr/>
          </p:nvSpPr>
          <p:spPr>
            <a:xfrm>
              <a:off x="5430600" y="145080"/>
              <a:ext cx="102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以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4"/>
            <p:cNvSpPr/>
            <p:nvPr/>
          </p:nvSpPr>
          <p:spPr>
            <a:xfrm>
              <a:off x="6720480" y="145080"/>
              <a:ext cx="102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7990560" y="407520"/>
              <a:ext cx="102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55"/>
          <p:cNvSpPr/>
          <p:nvPr/>
        </p:nvSpPr>
        <p:spPr>
          <a:xfrm>
            <a:off x="8124840" y="127080"/>
            <a:ext cx="8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052640"/>
            <a:ext cx="846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〖 分析与思考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无色酚酞溶液不变色，为了进一步确定溶液的酸碱性，小芳提出了以下方案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案一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案二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7AF-EF64-4FC8-8ED3-262559501E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tb"/>
          <p:cNvPicPr/>
          <p:nvPr/>
        </p:nvPicPr>
        <p:blipFill>
          <a:blip r:embed="rId1"/>
          <a:stretch/>
        </p:blipFill>
        <p:spPr>
          <a:xfrm>
            <a:off x="1440" y="-298440"/>
            <a:ext cx="9142560" cy="1368360"/>
          </a:xfrm>
          <a:prstGeom prst="rect">
            <a:avLst/>
          </a:prstGeom>
          <a:ln w="0">
            <a:noFill/>
          </a:ln>
        </p:spPr>
      </p:pic>
      <p:sp>
        <p:nvSpPr>
          <p:cNvPr id="248" name="Oval 4"/>
          <p:cNvSpPr/>
          <p:nvPr/>
        </p:nvSpPr>
        <p:spPr>
          <a:xfrm>
            <a:off x="1440" y="246240"/>
            <a:ext cx="5872320" cy="93492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489040" y="1216080"/>
            <a:ext cx="383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568440" y="1916280"/>
            <a:ext cx="7199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、 </a:t>
            </a:r>
            <a:r>
              <a:rPr b="1" lang="zh-CN" sz="3200" spc="-1" strike="noStrike">
                <a:solidFill>
                  <a:srgbClr val="00cc00"/>
                </a:solidFill>
                <a:latin typeface="Calibri"/>
              </a:rPr>
              <a:t>酸的化学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595440" y="3782880"/>
            <a:ext cx="768492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碱的化学性质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403280" y="246240"/>
            <a:ext cx="303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课堂感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23640" y="5851440"/>
            <a:ext cx="60469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一瓶是酸、一瓶是碱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409760" y="1600200"/>
            <a:ext cx="337824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978440" y="1600200"/>
            <a:ext cx="33782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5"/>
          <p:cNvGrpSpPr/>
          <p:nvPr/>
        </p:nvGrpSpPr>
        <p:grpSpPr>
          <a:xfrm>
            <a:off x="0" y="93600"/>
            <a:ext cx="4787280" cy="1105920"/>
            <a:chOff x="0" y="93600"/>
            <a:chExt cx="4787280" cy="1105920"/>
          </a:xfrm>
        </p:grpSpPr>
        <p:grpSp>
          <p:nvGrpSpPr>
            <p:cNvPr id="168" name="Group 6"/>
            <p:cNvGrpSpPr/>
            <p:nvPr/>
          </p:nvGrpSpPr>
          <p:grpSpPr>
            <a:xfrm>
              <a:off x="0" y="118080"/>
              <a:ext cx="4787280" cy="1081440"/>
              <a:chOff x="0" y="118080"/>
              <a:chExt cx="4787280" cy="1081440"/>
            </a:xfrm>
          </p:grpSpPr>
          <p:sp>
            <p:nvSpPr>
              <p:cNvPr id="169" name="AutoShape 14"/>
              <p:cNvSpPr/>
              <p:nvPr/>
            </p:nvSpPr>
            <p:spPr>
              <a:xfrm>
                <a:off x="0" y="118080"/>
                <a:ext cx="4787280" cy="1081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6411"/>
                  </a:gs>
                  <a:gs pos="50000">
                    <a:srgbClr val="0000ff"/>
                  </a:gs>
                  <a:gs pos="100000">
                    <a:srgbClr val="5164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8"/>
              <p:cNvSpPr/>
              <p:nvPr/>
            </p:nvSpPr>
            <p:spPr>
              <a:xfrm>
                <a:off x="345240" y="209160"/>
                <a:ext cx="397080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WordArt 9"/>
            <p:cNvSpPr txBox="1"/>
            <p:nvPr/>
          </p:nvSpPr>
          <p:spPr>
            <a:xfrm>
              <a:off x="487440" y="93600"/>
              <a:ext cx="3812400" cy="102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提出问题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10440" y="2066760"/>
            <a:ext cx="1399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瓶无色溶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844720" y="655560"/>
            <a:ext cx="53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酸碱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指示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反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293760" y="668160"/>
            <a:ext cx="2057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合作探究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84200" y="134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31800" y="1989000"/>
            <a:ext cx="68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取点滴板，向其中四个穴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上边四种溶液，然后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紫色石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取点滴板，向其中四个穴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上边四种溶液，然后分别滴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无色酚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86320" y="4221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验现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39840" y="53532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结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901960" y="515772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酸性溶液使紫色石蕊溶液变红色，不能使无色酚酞溶液变色，碱溶液能使紫色石蕊变蓝，使无色酚酞变红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743200" y="422280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5640" y="7840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实验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取两只生锈的铁钉分别放入两只试管中、然后加入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2m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稀盐酸，观察现象。当观察到铁钉表面的锈去掉，铁钉变得光亮时，将其中一支试管中的铁钉取出，洗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继续观察另一支试管中的现象，过一段时间将铁钉取出，洗净。比较两只铁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146160" y="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合作探究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8680" y="2916720"/>
            <a:ext cx="6069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铁锈、铁钉和稀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12760" y="4748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验现象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676520" y="579132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结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637080" y="526716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稀盐酸能和铁以及铁锈发生化学反应。用稀盐酸除去金属表面的锈时，要注意控制酸的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854000" y="1890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、二、三、四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硫酸铜和氢氧化钠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16000" y="134136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五、六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氢氧化钠和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99360" y="387504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七、八组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氢氧化钙和稀盐酸的反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936160" y="116064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在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硫酸铜溶液，然后滴入几滴氢氧化钠溶液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溶液试管中加入稀盐酸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116000" y="2685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在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氢氧化钠溶液，然后滴几滴酚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试管中边用滴管慢慢滴入稀盐酸，不断振荡试管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至溶液颜色变为无色为止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取上述无色溶液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置于蒸发皿中加热，使液体蒸干，观察现象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174480" y="5013360"/>
            <a:ext cx="34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两支试管中和各加入相同量的氢氧化钙粉末，然后加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，振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上述两支试管各滴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滴酚酞，观察现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继续向其中一只试管中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，振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向另一支试管加入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m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稀盐酸，振荡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199"/>
          <p:cNvSpPr/>
          <p:nvPr/>
        </p:nvSpPr>
        <p:spPr>
          <a:xfrm>
            <a:off x="3355920" y="1878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971640" y="495360"/>
          <a:ext cx="7843680" cy="5670360"/>
        </p:xfrm>
        <a:graphic>
          <a:graphicData uri="http://schemas.openxmlformats.org/drawingml/2006/table">
            <a:tbl>
              <a:tblPr/>
              <a:tblGrid>
                <a:gridCol w="1560600"/>
                <a:gridCol w="628308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用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氢氧化钠溶液、硫酸铜溶液、稀盐酸、试管、胶头滴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步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、在试管中加入约</a:t>
                      </a: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2m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硫酸铜溶液，然后滴入几滴氢氧化钠溶液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f497d"/>
                          </a:solidFill>
                          <a:latin typeface="微软雅黑"/>
                          <a:ea typeface="微软雅黑"/>
                        </a:rPr>
                        <a:t>、向上述溶液试管中加入稀盐酸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40"/>
          <p:cNvSpPr/>
          <p:nvPr/>
        </p:nvSpPr>
        <p:spPr>
          <a:xfrm>
            <a:off x="-258480" y="663480"/>
            <a:ext cx="11552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硫酸铜和氢氧化钠反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1"/>
          <p:cNvSpPr/>
          <p:nvPr/>
        </p:nvSpPr>
        <p:spPr>
          <a:xfrm>
            <a:off x="2556000" y="4976640"/>
            <a:ext cx="648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氢氧化钠和硫酸铜反应产生不溶于水的蓝色沉淀，氢氧化铜不溶于水，但可以溶于盐酸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2273400" y="378792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出现蓝色沉淀，溶液由蓝色变为无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蓝色沉淀消失，溶液由无色变为蓝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2917800" y="1413000"/>
            <a:ext cx="5470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2NaOH+CuSO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==Na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SO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Cu(OH)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Cu(OH)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2HCl==CuCl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+2H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upload__7c4b2ff9_11ff8f0e0e1__7ffc_00000795"/>
          <p:cNvPicPr/>
          <p:nvPr/>
        </p:nvPicPr>
        <p:blipFill>
          <a:blip r:embed="rId1"/>
          <a:stretch/>
        </p:blipFill>
        <p:spPr>
          <a:xfrm>
            <a:off x="1332000" y="1125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3280" y="404280"/>
            <a:ext cx="86868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交流共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778824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你认为溶液蒸发后留在玻璃片上的可能是什么物质？并与同学交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975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17520" y="225360"/>
          <a:ext cx="7450200" cy="6267600"/>
        </p:xfrm>
        <a:graphic>
          <a:graphicData uri="http://schemas.openxmlformats.org/drawingml/2006/table">
            <a:tbl>
              <a:tblPr/>
              <a:tblGrid>
                <a:gridCol w="1276200"/>
                <a:gridCol w="6174000"/>
              </a:tblGrid>
              <a:tr h="932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用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氢氧化钙粉末、蒸馏水、酚酞溶液、稀盐酸、试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支、药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步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两支试管中和各加入相同量的氢氧化钙粉末，然后加入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水，振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上述两支试管各滴入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~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滴酚酞，观察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继续向其中一只试管中加入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水，振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、向另一支试管加入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m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微软雅黑"/>
                        </a:rPr>
                        <a:t>稀盐酸，振荡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40"/>
          <p:cNvSpPr/>
          <p:nvPr/>
        </p:nvSpPr>
        <p:spPr>
          <a:xfrm>
            <a:off x="62280" y="765000"/>
            <a:ext cx="115524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氢氧化钙和稀盐酸的反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3906720" y="6342120"/>
            <a:ext cx="154080" cy="36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3000600" y="1514520"/>
            <a:ext cx="40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+ 2HCl == Ca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+ 2H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2484360" y="4221000"/>
            <a:ext cx="535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试管中出现白色浑浊液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白色浑浊液体变为红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试管中仍然是红色浑浊液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步骤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中红色浑浊液体变为无色澄清的溶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3710880" y="573264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氢氧化钙能和稀盐酸发生中和反应，不需要加指示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也可以判断反应是否发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2:05:27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2:23Z</dcterms:modified>
  <cp:revision>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