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8D16-7353-40E0-94F1-7BC66871E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1D00-2D09-4E7A-BBA7-20A11100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EE87-882A-46D1-BBF2-F3EA650C5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89E1-EC2B-4E8F-9E46-FA8B9E61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2F1E-8833-4C39-9DE4-E93D5AFE1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3B23-AB04-4DF5-9653-22B23401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060A-9052-4393-BB68-49B56EC9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1074-4511-49DB-ADAA-6C1AF19B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302F-871D-4BC5-8BA9-786A0CEE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5067-1BD2-48D2-B185-257A21A2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02D9-1081-4FC5-9CA8-2837A063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BDAD-F11E-44CD-BBAA-E836E04E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9C7B-EF5A-4DBF-88E8-604AD825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FC9F-D3C0-43C7-AC42-52472168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3B35-5F7D-4626-8354-0EB32191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9A04-76BD-4086-9D21-B2034B226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5AC9-FD16-4DFE-AB6E-00B2592C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BA344-7872-4E70-A252-BA0F9BA38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86A84-BA70-459D-948B-65FFEBC6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4632F-E1A3-450B-863A-D3AD7F20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DD4B9-DDFA-44D5-AD1B-8585B086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04A85-7817-4C0F-AFC6-13225717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4D93-6C74-40A7-BE79-D9EE181C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59C76-7273-493E-B501-387E70C8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E92F8-D4A0-452D-80EB-F90FACED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20C9C-80CB-4845-9F8E-9E28AE8B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89C5D-6ED0-4794-A8AA-00DE48F1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9F21D-FC0D-48AC-BB3E-5FC7E8E6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A08AC-39EE-4EB7-9F1F-CCDFBEB68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9345E-4077-461E-A48A-A5057949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80A48-F879-450B-A73A-5924BFE8B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37437-A5BB-4EF7-ABE6-448AD9C5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55CAE-82D2-45E4-B68A-324A8605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2447-04A9-44C2-842B-C3CD8C50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D0876-6AA4-453C-BCE5-6F6B73A7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390E3-08DF-437F-A1AB-DD9636A1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1BEC4-B02F-4D24-8C68-2B4EBA0E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50435-C731-4ED1-BBAF-4BC8B54E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9A0E9-929D-4FA4-919C-3D6BB5DE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05D88-D4B0-4E89-B861-98348F3B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56160-EA9B-4766-8A0D-4AD3CFCC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D14FD-49DD-420B-9BF2-CF7F1EA1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76A3C-C570-4DE2-AE5D-62D5B188B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35127-E6C5-469E-8676-48C93923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D287-BDDD-4B51-898A-E16202B3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60F0D-B8AE-4F87-B1B5-B7168D05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11E7F-D8B6-4AF9-B77B-085A84A9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6C6D0-C0B1-44B6-83B1-29B8F114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14492-ADB6-4E21-A029-9835A2BD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70BC2-8D48-4BF1-8245-1D532A42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93F46-E499-416A-A28E-95639DD6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FD795-9328-4355-86A5-83E5864A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9406A-32F6-4119-A655-9B7EE42A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46B6C-56AC-481B-A205-E226007E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A7CC7-1B6B-4FC2-8323-239584502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7CC0-2F8B-464F-9F09-295E02EE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1C164-3CE6-4D9A-ACA2-53A86E7CF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ACF5-A5F1-4CE4-AF56-C45E26AB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5712-5649-4867-A4E6-A1DAD25A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EEB9-1414-4365-8D1C-A8BD6869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E21A-9AC7-45F3-8F6B-7B9FB33AC48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57200" y="6172200"/>
            <a:ext cx="8229600" cy="360"/>
            <a:chOff x="457200" y="6172200"/>
            <a:chExt cx="8229600" cy="360"/>
          </a:xfrm>
        </p:grpSpPr>
        <p:sp>
          <p:nvSpPr>
            <p:cNvPr id="7" name="Line 8"/>
            <p:cNvSpPr/>
            <p:nvPr/>
          </p:nvSpPr>
          <p:spPr>
            <a:xfrm>
              <a:off x="457200" y="6172200"/>
              <a:ext cx="822960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57200" y="617220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6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DA08-BC57-49AF-8C78-FF99A6A7D4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867D-FA1E-4CCA-B79E-B6997CD24DF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3962520"/>
            <a:ext cx="6512040" cy="360"/>
            <a:chOff x="1981080" y="3962520"/>
            <a:chExt cx="6512040" cy="360"/>
          </a:xfrm>
        </p:grpSpPr>
        <p:sp>
          <p:nvSpPr>
            <p:cNvPr id="132" name="Line 8"/>
            <p:cNvSpPr/>
            <p:nvPr/>
          </p:nvSpPr>
          <p:spPr>
            <a:xfrm>
              <a:off x="1981080" y="3962520"/>
              <a:ext cx="651204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1981080" y="3962520"/>
              <a:ext cx="6512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C6BF-7A85-4137-8BE8-D629B24D4AE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DCA9-7486-4434-BF4A-D5037409E2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72,3,&#24187;&#28783;&#29255; 3" TargetMode="External"/><Relationship Id="rId2" Type="http://schemas.openxmlformats.org/officeDocument/2006/relationships/hyperlink" Target="275,4,&#24187;&#28783;&#29255; 4" TargetMode="External"/><Relationship Id="rId3" Type="http://schemas.openxmlformats.org/officeDocument/2006/relationships/hyperlink" Target="257,5,&#24187;&#28783;&#29255; 5" TargetMode="External"/><Relationship Id="rId4" Type="http://schemas.openxmlformats.org/officeDocument/2006/relationships/hyperlink" Target="257,5,&#24187;&#28783;&#29255; 5" TargetMode="External"/><Relationship Id="rId5" Type="http://schemas.openxmlformats.org/officeDocument/2006/relationships/hyperlink" Target="257,5,&#24187;&#28783;&#29255; 5" TargetMode="External"/><Relationship Id="rId6" Type="http://schemas.openxmlformats.org/officeDocument/2006/relationships/hyperlink" Target="257,5,&#24187;&#28783;&#29255; 5" TargetMode="External"/><Relationship Id="rId7" Type="http://schemas.openxmlformats.org/officeDocument/2006/relationships/hyperlink" Target="266,6,&#24187;&#28783;&#29255; 6" TargetMode="External"/><Relationship Id="rId8" Type="http://schemas.openxmlformats.org/officeDocument/2006/relationships/hyperlink" Target="266,6,&#24187;&#28783;&#29255; 6" TargetMode="External"/><Relationship Id="rId9" Type="http://schemas.openxmlformats.org/officeDocument/2006/relationships/hyperlink" Target="266,6,&#24187;&#28783;&#29255; 6" TargetMode="External"/><Relationship Id="rId10" Type="http://schemas.openxmlformats.org/officeDocument/2006/relationships/hyperlink" Target="259,7,&#24187;&#28783;&#29255; 7" TargetMode="External"/><Relationship Id="rId11" Type="http://schemas.openxmlformats.org/officeDocument/2006/relationships/hyperlink" Target="259,7,&#24187;&#28783;&#29255; 7" TargetMode="External"/><Relationship Id="rId12" Type="http://schemas.openxmlformats.org/officeDocument/2006/relationships/hyperlink" Target="259,7,&#24187;&#28783;&#29255; 7" TargetMode="External"/><Relationship Id="rId13" Type="http://schemas.openxmlformats.org/officeDocument/2006/relationships/hyperlink" Target="261,8,&#24187;&#28783;&#29255; 8" TargetMode="External"/><Relationship Id="rId14" Type="http://schemas.openxmlformats.org/officeDocument/2006/relationships/hyperlink" Target="261,8,&#24187;&#28783;&#29255; 8" TargetMode="External"/><Relationship Id="rId15" Type="http://schemas.openxmlformats.org/officeDocument/2006/relationships/hyperlink" Target="271,9,&#24187;&#28783;&#29255; 9" TargetMode="External"/><Relationship Id="rId16" Type="http://schemas.openxmlformats.org/officeDocument/2006/relationships/hyperlink" Target="271,9,&#24187;&#28783;&#29255; 9" TargetMode="External"/><Relationship Id="rId17" Type="http://schemas.openxmlformats.org/officeDocument/2006/relationships/hyperlink" Target="268,10,&#24187;&#28783;&#29255; 10" TargetMode="External"/><Relationship Id="rId18" Type="http://schemas.openxmlformats.org/officeDocument/2006/relationships/hyperlink" Target="268,10,&#24187;&#28783;&#29255; 10" TargetMode="External"/><Relationship Id="rId19" Type="http://schemas.openxmlformats.org/officeDocument/2006/relationships/hyperlink" Target="268,10,&#24187;&#28783;&#29255; 10" TargetMode="External"/><Relationship Id="rId20" Type="http://schemas.openxmlformats.org/officeDocument/2006/relationships/hyperlink" Target="268,10,&#24187;&#28783;&#29255; 10" TargetMode="External"/><Relationship Id="rId21" Type="http://schemas.openxmlformats.org/officeDocument/2006/relationships/hyperlink" Target="262,11,&#24187;&#28783;&#29255; 11" TargetMode="External"/><Relationship Id="rId2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6"/>
          <p:cNvSpPr/>
          <p:nvPr/>
        </p:nvSpPr>
        <p:spPr>
          <a:xfrm>
            <a:off x="468360" y="1197000"/>
            <a:ext cx="821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实际问题与反比例函数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AutoShape 23"/>
          <p:cNvSpPr/>
          <p:nvPr/>
        </p:nvSpPr>
        <p:spPr>
          <a:xfrm>
            <a:off x="7885080" y="6308640"/>
            <a:ext cx="574560" cy="360360"/>
          </a:xfrm>
          <a:custGeom>
            <a:avLst/>
            <a:gdLst>
              <a:gd name="textAreaLeft" fmla="*/ 23040 w 574560"/>
              <a:gd name="textAreaRight" fmla="*/ 551520 w 574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426" h="21600">
                <a:moveTo>
                  <a:pt x="0" y="0"/>
                </a:moveTo>
                <a:lnTo>
                  <a:pt x="34426" y="0"/>
                </a:lnTo>
                <a:lnTo>
                  <a:pt x="34426" y="21600"/>
                </a:lnTo>
                <a:lnTo>
                  <a:pt x="0" y="21600"/>
                </a:lnTo>
                <a:close/>
              </a:path>
              <a:path fill="lightenLess" w="34426" h="21600">
                <a:moveTo>
                  <a:pt x="0" y="0"/>
                </a:moveTo>
                <a:lnTo>
                  <a:pt x="34426" y="0"/>
                </a:lnTo>
                <a:lnTo>
                  <a:pt x="33026" y="1400"/>
                </a:lnTo>
                <a:lnTo>
                  <a:pt x="1400" y="1400"/>
                </a:lnTo>
                <a:close/>
              </a:path>
              <a:path fill="darken" w="34426" h="21600">
                <a:moveTo>
                  <a:pt x="34426" y="0"/>
                </a:moveTo>
                <a:lnTo>
                  <a:pt x="34426" y="21600"/>
                </a:lnTo>
                <a:lnTo>
                  <a:pt x="33026" y="20200"/>
                </a:lnTo>
                <a:lnTo>
                  <a:pt x="33026" y="1400"/>
                </a:lnTo>
                <a:close/>
              </a:path>
              <a:path fill="darkenLess" w="34426" h="21600">
                <a:moveTo>
                  <a:pt x="344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26" y="20200"/>
                </a:lnTo>
                <a:close/>
              </a:path>
              <a:path fill="lighten" w="344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26" h="21600">
                <a:moveTo>
                  <a:pt x="10207" y="10800"/>
                </a:moveTo>
                <a:lnTo>
                  <a:pt x="24220" y="3794"/>
                </a:lnTo>
                <a:lnTo>
                  <a:pt x="24220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WordArt 24"/>
          <p:cNvSpPr txBox="1"/>
          <p:nvPr/>
        </p:nvSpPr>
        <p:spPr>
          <a:xfrm>
            <a:off x="0" y="0"/>
            <a:ext cx="18288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超越自我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267" name="Text Box 25"/>
          <p:cNvSpPr/>
          <p:nvPr/>
        </p:nvSpPr>
        <p:spPr>
          <a:xfrm>
            <a:off x="0" y="333360"/>
            <a:ext cx="914400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某地上年度电价为每度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0.8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元，年用电量为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1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亿度，本年度计划将电价调整至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0.55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  <a:ea typeface="华文新魏"/>
              </a:rPr>
              <a:t>——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0.75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元之间，经测算电价调至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x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元，则本年度新增用电量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y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亿度与（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x-0.4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）成反比例，且当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x=0.65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时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y=0.8.          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求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y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与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x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之间的函数关系式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    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若每度电成本价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0.3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元，则电价调至多少元时，本年度电力部门的收益将比上年度增加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20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％？   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〔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收益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=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用电量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×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（实际电量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-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成本价）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4017-2BE0-4EA0-A72A-12E129E8AE6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4"/>
          <p:cNvSpPr/>
          <p:nvPr/>
        </p:nvSpPr>
        <p:spPr>
          <a:xfrm>
            <a:off x="181080" y="135000"/>
            <a:ext cx="871200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彩云"/>
              </a:rPr>
              <a:t>反思提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通过本节课的学习</a:t>
            </a: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有哪些收获</a:t>
            </a: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216000" y="2421000"/>
            <a:ext cx="89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利用反比例函数解决实际问题的关键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建立反比例函数模型</a:t>
            </a:r>
            <a:r>
              <a:rPr b="1" lang="en-US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250920" y="4292640"/>
            <a:ext cx="82072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布置作业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课本 </a:t>
            </a:r>
            <a:r>
              <a:rPr b="1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P</a:t>
            </a:r>
            <a:r>
              <a:rPr b="1" lang="en-US" sz="4000" spc="-1" strike="noStrike" baseline="-25000">
                <a:solidFill>
                  <a:srgbClr val="0033cc"/>
                </a:solidFill>
                <a:latin typeface="华文新魏"/>
                <a:ea typeface="华文新魏"/>
              </a:rPr>
              <a:t>63</a:t>
            </a:r>
            <a:r>
              <a:rPr b="1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T </a:t>
            </a:r>
            <a:r>
              <a:rPr b="1" lang="en-US" sz="4000" spc="-1" strike="noStrike" baseline="-25000">
                <a:solidFill>
                  <a:srgbClr val="0033cc"/>
                </a:solidFill>
                <a:latin typeface="华文新魏"/>
                <a:ea typeface="华文新魏"/>
              </a:rPr>
              <a:t>6 </a:t>
            </a:r>
            <a:r>
              <a:rPr b="1" lang="zh-CN" sz="4000" spc="-1" strike="noStrike" baseline="-25000">
                <a:solidFill>
                  <a:srgbClr val="0033cc"/>
                </a:solidFill>
                <a:latin typeface="华文新魏"/>
                <a:ea typeface="华文新魏"/>
              </a:rPr>
              <a:t>、 </a:t>
            </a:r>
            <a:r>
              <a:rPr b="1" lang="en-US" sz="4000" spc="-1" strike="noStrike" baseline="-25000">
                <a:solidFill>
                  <a:srgbClr val="0033cc"/>
                </a:solidFill>
                <a:latin typeface="华文新魏"/>
                <a:ea typeface="华文新魏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7"/>
          <p:cNvSpPr/>
          <p:nvPr/>
        </p:nvSpPr>
        <p:spPr>
          <a:xfrm>
            <a:off x="8172360" y="573408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10800"/>
                </a:moveTo>
                <a:lnTo>
                  <a:pt x="19597" y="3794"/>
                </a:lnTo>
                <a:lnTo>
                  <a:pt x="19597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2195280" y="1628280"/>
            <a:ext cx="69483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1"/>
              </a:rPr>
              <a:t>挑战记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2"/>
              </a:rPr>
              <a:t>创设情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3"/>
              </a:rPr>
              <a:t>合作探究</a:t>
            </a:r>
            <a:r>
              <a:rPr b="0" lang="zh-CN" sz="36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4"/>
              </a:rPr>
              <a:t>（</a:t>
            </a:r>
            <a:r>
              <a:rPr b="0" lang="en-US" sz="36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5"/>
              </a:rPr>
              <a:t>1</a:t>
            </a:r>
            <a:r>
              <a:rPr b="0" lang="zh-CN" sz="36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6"/>
              </a:rPr>
              <a:t>） </a:t>
            </a:r>
            <a:r>
              <a:rPr b="0" lang="zh-CN" sz="36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7"/>
              </a:rPr>
              <a:t>（</a:t>
            </a:r>
            <a:r>
              <a:rPr b="0" lang="en-US" sz="36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8"/>
              </a:rPr>
              <a:t>2</a:t>
            </a:r>
            <a:r>
              <a:rPr b="0" lang="zh-CN" sz="36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9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10"/>
              </a:rPr>
              <a:t>自主尝试（</a:t>
            </a: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11"/>
              </a:rPr>
              <a:t>1</a:t>
            </a:r>
            <a:r>
              <a:rPr b="0" lang="zh-CN" sz="32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12"/>
              </a:rPr>
              <a:t>）（</a:t>
            </a: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13"/>
              </a:rPr>
              <a:t>2</a:t>
            </a:r>
            <a:r>
              <a:rPr b="0" lang="zh-CN" sz="32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14"/>
              </a:rPr>
              <a:t>）（</a:t>
            </a: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15"/>
              </a:rPr>
              <a:t>3</a:t>
            </a:r>
            <a:r>
              <a:rPr b="0" lang="zh-CN" sz="32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16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17"/>
              </a:rPr>
              <a:t>超越自我</a:t>
            </a:r>
            <a:r>
              <a:rPr b="0" lang="zh-CN" sz="36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18"/>
              </a:rPr>
              <a:t>（</a:t>
            </a:r>
            <a:r>
              <a:rPr b="0" lang="en-US" sz="36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19"/>
              </a:rPr>
              <a:t>1</a:t>
            </a:r>
            <a:r>
              <a:rPr b="0" lang="zh-CN" sz="36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20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e4005c"/>
                </a:solidFill>
                <a:uFillTx/>
                <a:latin typeface="Arial"/>
                <a:ea typeface="华文新魏"/>
                <a:hlinkClick r:id="rId21"/>
              </a:rPr>
              <a:t>反思提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WordArt 4"/>
          <p:cNvSpPr txBox="1"/>
          <p:nvPr/>
        </p:nvSpPr>
        <p:spPr>
          <a:xfrm>
            <a:off x="1763640" y="549360"/>
            <a:ext cx="7029360" cy="8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实际问题与反比例函数（</a:t>
            </a:r>
            <a:r>
              <a:rPr b="0" lang="en-US" sz="4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2</a:t>
            </a:r>
            <a:r>
              <a:rPr b="0" lang="zh-CN" sz="4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）</a:t>
            </a:r>
            <a:endParaRPr b="0" lang="en-US" sz="4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684360" y="692280"/>
            <a:ext cx="69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华文彩云"/>
                <a:ea typeface="华文彩云"/>
              </a:rPr>
              <a:t>挑战记忆</a:t>
            </a:r>
            <a:r>
              <a:rPr b="1" lang="en-US" sz="4000" spc="-1" strike="noStrike">
                <a:solidFill>
                  <a:srgbClr val="cc3300"/>
                </a:solidFill>
                <a:latin typeface="华文彩云"/>
                <a:ea typeface="华文彩云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684360" y="148428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华文新魏"/>
                <a:ea typeface="华文新魏"/>
              </a:rPr>
              <a:t>反比例函数图象有哪些性质</a:t>
            </a:r>
            <a:r>
              <a:rPr b="1" lang="en-US" sz="3600" spc="-1" strike="noStrike">
                <a:solidFill>
                  <a:srgbClr val="0033cc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395280" y="2133720"/>
            <a:ext cx="831708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反比例函数             是由两支曲线组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&gt;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支曲线分别位于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第一、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象限内，在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每一象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增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减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&lt;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支曲线分别位于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第二、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象限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每一象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增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增大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Object 7" descr=""/>
          <p:cNvPicPr/>
          <p:nvPr/>
        </p:nvPicPr>
        <p:blipFill>
          <a:blip r:embed="rId1"/>
          <a:stretch/>
        </p:blipFill>
        <p:spPr>
          <a:xfrm>
            <a:off x="3348000" y="198900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225" name="AutoShape 8"/>
          <p:cNvSpPr/>
          <p:nvPr/>
        </p:nvSpPr>
        <p:spPr>
          <a:xfrm>
            <a:off x="8101080" y="5805360"/>
            <a:ext cx="574560" cy="358920"/>
          </a:xfrm>
          <a:custGeom>
            <a:avLst/>
            <a:gdLst>
              <a:gd name="textAreaLeft" fmla="*/ 23040 w 574560"/>
              <a:gd name="textAreaRight" fmla="*/ 551520 w 574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4564" h="21600">
                <a:moveTo>
                  <a:pt x="0" y="0"/>
                </a:moveTo>
                <a:lnTo>
                  <a:pt x="34564" y="0"/>
                </a:lnTo>
                <a:lnTo>
                  <a:pt x="34564" y="21600"/>
                </a:lnTo>
                <a:lnTo>
                  <a:pt x="0" y="21600"/>
                </a:lnTo>
                <a:close/>
              </a:path>
              <a:path fill="lightenLess" w="34564" h="21600">
                <a:moveTo>
                  <a:pt x="0" y="0"/>
                </a:moveTo>
                <a:lnTo>
                  <a:pt x="34564" y="0"/>
                </a:lnTo>
                <a:lnTo>
                  <a:pt x="33164" y="1400"/>
                </a:lnTo>
                <a:lnTo>
                  <a:pt x="1400" y="1400"/>
                </a:lnTo>
                <a:close/>
              </a:path>
              <a:path fill="darken" w="34564" h="21600">
                <a:moveTo>
                  <a:pt x="34564" y="0"/>
                </a:moveTo>
                <a:lnTo>
                  <a:pt x="34564" y="21600"/>
                </a:lnTo>
                <a:lnTo>
                  <a:pt x="33164" y="20200"/>
                </a:lnTo>
                <a:lnTo>
                  <a:pt x="33164" y="1400"/>
                </a:lnTo>
                <a:close/>
              </a:path>
              <a:path fill="darkenLess" w="34564" h="21600">
                <a:moveTo>
                  <a:pt x="34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4" y="20200"/>
                </a:lnTo>
                <a:close/>
              </a:path>
              <a:path fill="lighten" w="34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4" h="21600">
                <a:moveTo>
                  <a:pt x="10276" y="10800"/>
                </a:moveTo>
                <a:lnTo>
                  <a:pt x="24289" y="3794"/>
                </a:lnTo>
                <a:lnTo>
                  <a:pt x="24289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AutoShape 5"/>
          <p:cNvSpPr/>
          <p:nvPr/>
        </p:nvSpPr>
        <p:spPr>
          <a:xfrm>
            <a:off x="8101080" y="6453360"/>
            <a:ext cx="431640" cy="404640"/>
          </a:xfrm>
          <a:custGeom>
            <a:avLst/>
            <a:gdLst>
              <a:gd name="textAreaLeft" fmla="*/ 25920 w 431640"/>
              <a:gd name="textAreaRight" fmla="*/ 405720 w 43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40" h="21600">
                <a:moveTo>
                  <a:pt x="0" y="0"/>
                </a:moveTo>
                <a:lnTo>
                  <a:pt x="23040" y="0"/>
                </a:lnTo>
                <a:lnTo>
                  <a:pt x="23040" y="21600"/>
                </a:lnTo>
                <a:lnTo>
                  <a:pt x="0" y="21600"/>
                </a:lnTo>
                <a:close/>
              </a:path>
              <a:path fill="lightenLess" w="23040" h="21600">
                <a:moveTo>
                  <a:pt x="0" y="0"/>
                </a:moveTo>
                <a:lnTo>
                  <a:pt x="23040" y="0"/>
                </a:lnTo>
                <a:lnTo>
                  <a:pt x="21640" y="1400"/>
                </a:lnTo>
                <a:lnTo>
                  <a:pt x="1400" y="1400"/>
                </a:lnTo>
                <a:close/>
              </a:path>
              <a:path fill="darken" w="23040" h="21600">
                <a:moveTo>
                  <a:pt x="23040" y="0"/>
                </a:moveTo>
                <a:lnTo>
                  <a:pt x="23040" y="21600"/>
                </a:lnTo>
                <a:lnTo>
                  <a:pt x="21640" y="20200"/>
                </a:lnTo>
                <a:lnTo>
                  <a:pt x="21640" y="1400"/>
                </a:lnTo>
                <a:close/>
              </a:path>
              <a:path fill="darkenLess" w="23040" h="21600">
                <a:moveTo>
                  <a:pt x="23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0" y="20200"/>
                </a:lnTo>
                <a:close/>
              </a:path>
              <a:path fill="lighten" w="23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0" h="21600">
                <a:moveTo>
                  <a:pt x="4514" y="10800"/>
                </a:moveTo>
                <a:lnTo>
                  <a:pt x="18526" y="3794"/>
                </a:lnTo>
                <a:lnTo>
                  <a:pt x="18526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7" descr="u=3219906705,3401488516&amp;gp=0"/>
          <p:cNvPicPr/>
          <p:nvPr/>
        </p:nvPicPr>
        <p:blipFill>
          <a:blip r:embed="rId1"/>
          <a:stretch/>
        </p:blipFill>
        <p:spPr>
          <a:xfrm>
            <a:off x="395280" y="189000"/>
            <a:ext cx="4105440" cy="309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u=806384528,3614370180&amp;gp=2"/>
          <p:cNvPicPr/>
          <p:nvPr/>
        </p:nvPicPr>
        <p:blipFill>
          <a:blip r:embed="rId2"/>
          <a:stretch/>
        </p:blipFill>
        <p:spPr>
          <a:xfrm>
            <a:off x="4500720" y="189000"/>
            <a:ext cx="4643280" cy="5976720"/>
          </a:xfrm>
          <a:prstGeom prst="rect">
            <a:avLst/>
          </a:prstGeom>
          <a:ln w="0">
            <a:noFill/>
          </a:ln>
        </p:spPr>
      </p:pic>
      <p:sp>
        <p:nvSpPr>
          <p:cNvPr id="229" name="WordArt 10"/>
          <p:cNvSpPr txBox="1"/>
          <p:nvPr/>
        </p:nvSpPr>
        <p:spPr>
          <a:xfrm>
            <a:off x="2771640" y="260280"/>
            <a:ext cx="3429000" cy="156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繁忙的码头</a:t>
            </a:r>
            <a:endParaRPr b="0" lang="en-US" sz="5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3780000" y="2781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cc"/>
                </a:solidFill>
                <a:latin typeface="Arial Black"/>
                <a:ea typeface="华文彩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8604360" y="5661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cc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3" descr="http://www.pep.com.cn/images/200503/pic_219043.jpg"/>
          <p:cNvPicPr/>
          <p:nvPr/>
        </p:nvPicPr>
        <p:blipFill>
          <a:blip r:embed="rId3"/>
          <a:srcRect l="12385" t="31776" r="65422" b="55939"/>
          <a:stretch/>
        </p:blipFill>
        <p:spPr>
          <a:xfrm>
            <a:off x="395280" y="3284640"/>
            <a:ext cx="4176720" cy="316872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14"/>
          <p:cNvSpPr/>
          <p:nvPr/>
        </p:nvSpPr>
        <p:spPr>
          <a:xfrm>
            <a:off x="3851280" y="5661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cc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5"/>
          <p:cNvSpPr/>
          <p:nvPr/>
        </p:nvSpPr>
        <p:spPr>
          <a:xfrm>
            <a:off x="803160" y="108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彩云"/>
                <a:ea typeface="华文彩云"/>
              </a:rPr>
              <a:t>合作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2"/>
          <p:cNvSpPr/>
          <p:nvPr/>
        </p:nvSpPr>
        <p:spPr>
          <a:xfrm>
            <a:off x="8172360" y="623736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10800"/>
                </a:moveTo>
                <a:lnTo>
                  <a:pt x="22086" y="3794"/>
                </a:lnTo>
                <a:lnTo>
                  <a:pt x="22086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468360" y="620640"/>
            <a:ext cx="867564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   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码头工人以每天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30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吨的速度往一艘轮船上装载货物，把轮船装载完毕恰好用了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8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天时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轮船到达目的地后开始卸货，卸货速度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υ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单位：吨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）与卸货时间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t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单位：天）之间的函数关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在实际运送过程中，卸货速度、卸货时间可能有哪些变化情况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8199"/>
          <p:cNvSpPr/>
          <p:nvPr/>
        </p:nvSpPr>
        <p:spPr>
          <a:xfrm>
            <a:off x="650880" y="2403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996600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803160" y="1062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彩云"/>
                <a:ea typeface="华文彩云"/>
              </a:rPr>
              <a:t>合作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611280" y="342900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8459640" y="649908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5990" y="10800"/>
                </a:moveTo>
                <a:lnTo>
                  <a:pt x="20003" y="3794"/>
                </a:lnTo>
                <a:lnTo>
                  <a:pt x="20003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2"/>
          <p:cNvSpPr/>
          <p:nvPr/>
        </p:nvSpPr>
        <p:spPr>
          <a:xfrm>
            <a:off x="0" y="260280"/>
            <a:ext cx="8675640" cy="40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码头工人以每天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30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吨的速度往一艘轮船上装载货物，把轮船装载完毕恰好用了</a:t>
            </a:r>
            <a:r>
              <a:rPr b="0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8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天时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由于遇到紧急情况船上的货物必须在不超过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内卸载完毕，那么平均每天至少要卸多少吨货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如果码头工人先以每天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吨的速度卸载两天，由于遇到紧急情况船上的货物必须在不超过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内卸载完毕，那么平均每天至少要卸多少吨货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WordArt 4"/>
          <p:cNvSpPr txBox="1"/>
          <p:nvPr/>
        </p:nvSpPr>
        <p:spPr>
          <a:xfrm>
            <a:off x="395280" y="0"/>
            <a:ext cx="162252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7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做一做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2268360" y="333360"/>
            <a:ext cx="6553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1</a:t>
            </a:r>
            <a:r>
              <a:rPr b="1" lang="zh-CN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、课本  </a:t>
            </a:r>
            <a:r>
              <a:rPr b="1" lang="en-US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P</a:t>
            </a:r>
            <a:r>
              <a:rPr b="1" lang="en-US" sz="4800" spc="-1" strike="noStrike" baseline="-25000">
                <a:solidFill>
                  <a:srgbClr val="0033cc"/>
                </a:solidFill>
                <a:latin typeface="华文新魏"/>
                <a:ea typeface="华文新魏"/>
              </a:rPr>
              <a:t>61</a:t>
            </a:r>
            <a:r>
              <a:rPr b="1" lang="en-US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L </a:t>
            </a:r>
            <a:r>
              <a:rPr b="1" lang="en-US" sz="4800" spc="-1" strike="noStrike" baseline="-25000">
                <a:solidFill>
                  <a:srgbClr val="0033cc"/>
                </a:solidFill>
                <a:latin typeface="华文新魏"/>
                <a:ea typeface="华文新魏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3"/>
          <p:cNvSpPr/>
          <p:nvPr/>
        </p:nvSpPr>
        <p:spPr>
          <a:xfrm>
            <a:off x="8101080" y="6453360"/>
            <a:ext cx="431640" cy="404640"/>
          </a:xfrm>
          <a:custGeom>
            <a:avLst/>
            <a:gdLst>
              <a:gd name="textAreaLeft" fmla="*/ 25920 w 431640"/>
              <a:gd name="textAreaRight" fmla="*/ 405720 w 431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40" h="21600">
                <a:moveTo>
                  <a:pt x="0" y="0"/>
                </a:moveTo>
                <a:lnTo>
                  <a:pt x="23040" y="0"/>
                </a:lnTo>
                <a:lnTo>
                  <a:pt x="23040" y="21600"/>
                </a:lnTo>
                <a:lnTo>
                  <a:pt x="0" y="21600"/>
                </a:lnTo>
                <a:close/>
              </a:path>
              <a:path fill="lightenLess" w="23040" h="21600">
                <a:moveTo>
                  <a:pt x="0" y="0"/>
                </a:moveTo>
                <a:lnTo>
                  <a:pt x="23040" y="0"/>
                </a:lnTo>
                <a:lnTo>
                  <a:pt x="21640" y="1400"/>
                </a:lnTo>
                <a:lnTo>
                  <a:pt x="1400" y="1400"/>
                </a:lnTo>
                <a:close/>
              </a:path>
              <a:path fill="darken" w="23040" h="21600">
                <a:moveTo>
                  <a:pt x="23040" y="0"/>
                </a:moveTo>
                <a:lnTo>
                  <a:pt x="23040" y="21600"/>
                </a:lnTo>
                <a:lnTo>
                  <a:pt x="21640" y="20200"/>
                </a:lnTo>
                <a:lnTo>
                  <a:pt x="21640" y="1400"/>
                </a:lnTo>
                <a:close/>
              </a:path>
              <a:path fill="darkenLess" w="23040" h="21600">
                <a:moveTo>
                  <a:pt x="23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0" y="20200"/>
                </a:lnTo>
                <a:close/>
              </a:path>
              <a:path fill="lighten" w="23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0" h="21600">
                <a:moveTo>
                  <a:pt x="4514" y="10800"/>
                </a:moveTo>
                <a:lnTo>
                  <a:pt x="18526" y="3794"/>
                </a:lnTo>
                <a:lnTo>
                  <a:pt x="18526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4"/>
          <p:cNvSpPr/>
          <p:nvPr/>
        </p:nvSpPr>
        <p:spPr>
          <a:xfrm>
            <a:off x="250920" y="1700280"/>
            <a:ext cx="25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5"/>
          <p:cNvSpPr/>
          <p:nvPr/>
        </p:nvSpPr>
        <p:spPr>
          <a:xfrm>
            <a:off x="0" y="14842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2</a:t>
            </a:r>
            <a:r>
              <a:rPr b="0" lang="zh-CN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、某打印店要完成一批电脑打字任务，每天完成</a:t>
            </a:r>
            <a:r>
              <a:rPr b="0" lang="en-US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75</a:t>
            </a:r>
            <a:r>
              <a:rPr b="0" lang="zh-CN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页，需</a:t>
            </a:r>
            <a:r>
              <a:rPr b="0" lang="en-US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8</a:t>
            </a:r>
            <a:r>
              <a:rPr b="0" lang="zh-CN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天，设每天完成的页数为</a:t>
            </a:r>
            <a:r>
              <a:rPr b="0" lang="en-US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y</a:t>
            </a:r>
            <a:r>
              <a:rPr b="0" lang="zh-CN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，所需的天数为</a:t>
            </a:r>
            <a:r>
              <a:rPr b="0" lang="en-US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x.</a:t>
            </a:r>
            <a:r>
              <a:rPr b="0" lang="zh-CN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问</a:t>
            </a:r>
            <a:r>
              <a:rPr b="0" lang="en-US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:y</a:t>
            </a:r>
            <a:r>
              <a:rPr b="0" lang="zh-CN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与</a:t>
            </a:r>
            <a:r>
              <a:rPr b="0" lang="en-US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x</a:t>
            </a:r>
            <a:r>
              <a:rPr b="0" lang="zh-CN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是何种函数关系？若要求在</a:t>
            </a:r>
            <a:r>
              <a:rPr b="0" lang="en-US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5</a:t>
            </a:r>
            <a:r>
              <a:rPr b="0" lang="zh-CN" sz="4800" spc="-1" strike="noStrike">
                <a:solidFill>
                  <a:srgbClr val="0033cc"/>
                </a:solidFill>
                <a:latin typeface="华文新魏"/>
                <a:ea typeface="华文新魏"/>
              </a:rPr>
              <a:t>天内完成任务，每天至少要完成几页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5"/>
          <p:cNvSpPr/>
          <p:nvPr/>
        </p:nvSpPr>
        <p:spPr>
          <a:xfrm>
            <a:off x="0" y="620640"/>
            <a:ext cx="8893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3.</a:t>
            </a:r>
            <a:r>
              <a:rPr b="1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某蓄水池的排水管每时排水</a:t>
            </a:r>
            <a:r>
              <a:rPr b="1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8m</a:t>
            </a:r>
            <a:r>
              <a:rPr b="1" lang="en-US" sz="4000" spc="-1" strike="noStrike" baseline="30000">
                <a:solidFill>
                  <a:srgbClr val="0033cc"/>
                </a:solidFill>
                <a:latin typeface="华文新魏"/>
                <a:ea typeface="华文新魏"/>
              </a:rPr>
              <a:t>3</a:t>
            </a:r>
            <a:r>
              <a:rPr b="1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,6h</a:t>
            </a:r>
            <a:r>
              <a:rPr b="1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可将满池水全部排空</a:t>
            </a:r>
            <a:r>
              <a:rPr b="1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蓄水池的容积是多少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468360" y="26370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b812f"/>
                </a:solidFill>
                <a:latin typeface="华文新魏"/>
                <a:ea typeface="华文新魏"/>
              </a:rPr>
              <a:t>解</a:t>
            </a:r>
            <a:r>
              <a:rPr b="1" lang="en-US" sz="3200" spc="-1" strike="noStrike">
                <a:solidFill>
                  <a:srgbClr val="3b812f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3b812f"/>
                </a:solidFill>
                <a:latin typeface="华文新魏"/>
                <a:ea typeface="华文新魏"/>
              </a:rPr>
              <a:t>蓄水池的容积为</a:t>
            </a:r>
            <a:r>
              <a:rPr b="1" lang="en-US" sz="3200" spc="-1" strike="noStrike">
                <a:solidFill>
                  <a:srgbClr val="3b812f"/>
                </a:solidFill>
                <a:latin typeface="华文新魏"/>
                <a:ea typeface="华文新魏"/>
              </a:rPr>
              <a:t>:8×6=48(m</a:t>
            </a:r>
            <a:r>
              <a:rPr b="1" lang="en-US" sz="3200" spc="-1" strike="noStrike" baseline="30000">
                <a:solidFill>
                  <a:srgbClr val="3b812f"/>
                </a:solidFill>
                <a:latin typeface="华文新魏"/>
                <a:ea typeface="华文新魏"/>
              </a:rPr>
              <a:t>3</a:t>
            </a:r>
            <a:r>
              <a:rPr b="1" lang="en-US" sz="3200" spc="-1" strike="noStrike">
                <a:solidFill>
                  <a:srgbClr val="3b812f"/>
                </a:solidFill>
                <a:latin typeface="华文新魏"/>
                <a:ea typeface="华文新魏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0" y="321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增加排水管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使每时的排水量达到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Q(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那么将满池水排空所需的时间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t(h)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将如何变化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539640" y="434988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b812f"/>
                </a:solidFill>
                <a:latin typeface="华文新魏"/>
                <a:ea typeface="华文新魏"/>
              </a:rPr>
              <a:t>答</a:t>
            </a:r>
            <a:r>
              <a:rPr b="1" lang="en-US" sz="3200" spc="-1" strike="noStrike">
                <a:solidFill>
                  <a:srgbClr val="3b812f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3b812f"/>
                </a:solidFill>
                <a:latin typeface="华文新魏"/>
                <a:ea typeface="华文新魏"/>
              </a:rPr>
              <a:t>此时所需时间</a:t>
            </a:r>
            <a:r>
              <a:rPr b="1" lang="en-US" sz="3200" spc="-1" strike="noStrike">
                <a:solidFill>
                  <a:srgbClr val="3b812f"/>
                </a:solidFill>
                <a:latin typeface="华文新魏"/>
                <a:ea typeface="华文新魏"/>
              </a:rPr>
              <a:t>t(h)</a:t>
            </a:r>
            <a:r>
              <a:rPr b="1" lang="zh-CN" sz="3200" spc="-1" strike="noStrike">
                <a:solidFill>
                  <a:srgbClr val="3b812f"/>
                </a:solidFill>
                <a:latin typeface="华文新魏"/>
                <a:ea typeface="华文新魏"/>
              </a:rPr>
              <a:t>将减少</a:t>
            </a:r>
            <a:r>
              <a:rPr b="1" lang="en-US" sz="3200" spc="-1" strike="noStrike">
                <a:solidFill>
                  <a:srgbClr val="3b812f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179280" y="5084640"/>
            <a:ext cx="799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出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Q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之间的函数关系式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6"/>
          <p:cNvGrpSpPr/>
          <p:nvPr/>
        </p:nvGrpSpPr>
        <p:grpSpPr>
          <a:xfrm>
            <a:off x="250920" y="5589720"/>
            <a:ext cx="6624720" cy="1370880"/>
            <a:chOff x="250920" y="5589720"/>
            <a:chExt cx="6624720" cy="1370880"/>
          </a:xfrm>
        </p:grpSpPr>
        <p:sp>
          <p:nvSpPr>
            <p:cNvPr id="253" name="Text Box 10"/>
            <p:cNvSpPr/>
            <p:nvPr/>
          </p:nvSpPr>
          <p:spPr>
            <a:xfrm>
              <a:off x="250920" y="5791320"/>
              <a:ext cx="66247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b812f"/>
                  </a:solidFill>
                  <a:latin typeface="华文新魏"/>
                  <a:ea typeface="华文新魏"/>
                </a:rPr>
                <a:t>解</a:t>
              </a:r>
              <a:r>
                <a:rPr b="1" lang="en-US" sz="2800" spc="-1" strike="noStrike">
                  <a:solidFill>
                    <a:srgbClr val="3b812f"/>
                  </a:solidFill>
                  <a:latin typeface="华文新魏"/>
                  <a:ea typeface="华文新魏"/>
                </a:rPr>
                <a:t>:t</a:t>
              </a:r>
              <a:r>
                <a:rPr b="1" lang="zh-CN" sz="2800" spc="-1" strike="noStrike">
                  <a:solidFill>
                    <a:srgbClr val="3b812f"/>
                  </a:solidFill>
                  <a:latin typeface="华文新魏"/>
                  <a:ea typeface="华文新魏"/>
                </a:rPr>
                <a:t>与</a:t>
              </a:r>
              <a:r>
                <a:rPr b="1" lang="en-US" sz="2800" spc="-1" strike="noStrike">
                  <a:solidFill>
                    <a:srgbClr val="3b812f"/>
                  </a:solidFill>
                  <a:latin typeface="华文新魏"/>
                  <a:ea typeface="华文新魏"/>
                </a:rPr>
                <a:t>Q</a:t>
              </a:r>
              <a:r>
                <a:rPr b="1" lang="zh-CN" sz="2800" spc="-1" strike="noStrike">
                  <a:solidFill>
                    <a:srgbClr val="3b812f"/>
                  </a:solidFill>
                  <a:latin typeface="华文新魏"/>
                  <a:ea typeface="华文新魏"/>
                </a:rPr>
                <a:t>之间的函数关系式为</a:t>
              </a:r>
              <a:r>
                <a:rPr b="1" lang="en-US" sz="2800" spc="-1" strike="noStrike">
                  <a:solidFill>
                    <a:srgbClr val="3b812f"/>
                  </a:solidFill>
                  <a:latin typeface="华文新魏"/>
                  <a:ea typeface="华文新魏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Object 11" descr=""/>
            <p:cNvPicPr/>
            <p:nvPr/>
          </p:nvPicPr>
          <p:blipFill>
            <a:blip r:embed="rId1"/>
            <a:stretch/>
          </p:blipFill>
          <p:spPr>
            <a:xfrm>
              <a:off x="4930920" y="5589720"/>
              <a:ext cx="930240" cy="9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AutoShape 13"/>
          <p:cNvSpPr/>
          <p:nvPr/>
        </p:nvSpPr>
        <p:spPr>
          <a:xfrm>
            <a:off x="8028000" y="623736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WordArt 14"/>
          <p:cNvSpPr txBox="1"/>
          <p:nvPr/>
        </p:nvSpPr>
        <p:spPr>
          <a:xfrm>
            <a:off x="0" y="-171360"/>
            <a:ext cx="13716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练一练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57" name="文本框 8199"/>
          <p:cNvSpPr/>
          <p:nvPr/>
        </p:nvSpPr>
        <p:spPr>
          <a:xfrm>
            <a:off x="942840" y="1773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996600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3"/>
          <p:cNvSpPr/>
          <p:nvPr/>
        </p:nvSpPr>
        <p:spPr>
          <a:xfrm>
            <a:off x="0" y="549360"/>
            <a:ext cx="9144000" cy="19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2.</a:t>
            </a:r>
            <a:r>
              <a:rPr b="1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某蓄水池的排水管每时排水</a:t>
            </a:r>
            <a:r>
              <a:rPr b="1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8m</a:t>
            </a:r>
            <a:r>
              <a:rPr b="1" lang="en-US" sz="4000" spc="-1" strike="noStrike" baseline="30000">
                <a:solidFill>
                  <a:srgbClr val="0033cc"/>
                </a:solidFill>
                <a:latin typeface="华文新魏"/>
                <a:ea typeface="华文新魏"/>
              </a:rPr>
              <a:t>3</a:t>
            </a:r>
            <a:r>
              <a:rPr b="1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,6h</a:t>
            </a:r>
            <a:r>
              <a:rPr b="1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可将满池水全部排空</a:t>
            </a:r>
            <a:r>
              <a:rPr b="1" lang="en-US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准备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将满池水排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么每时的排水量至少为多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755640" y="292428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当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t=5h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时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,Q=48/5=9.6m</a:t>
            </a:r>
            <a:r>
              <a:rPr b="1" lang="en-US" sz="2800" spc="-1" strike="noStrike" baseline="30000">
                <a:solidFill>
                  <a:srgbClr val="3366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所以每时的排水量至少为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9.6m</a:t>
            </a:r>
            <a:r>
              <a:rPr b="1" lang="en-US" sz="2800" spc="-1" strike="noStrike" baseline="30000">
                <a:solidFill>
                  <a:srgbClr val="3366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684360" y="378936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已知排水管的最大排水量为每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么最少多长时间可将满池水全部排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755640" y="4724280"/>
            <a:ext cx="79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当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Q=12(m</a:t>
            </a:r>
            <a:r>
              <a:rPr b="1" lang="en-US" sz="2800" spc="-1" strike="noStrike" baseline="30000">
                <a:solidFill>
                  <a:srgbClr val="3366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时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,t=48/12=4(h).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所以最少需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5h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可将满池水全部排空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4"/>
          <p:cNvSpPr/>
          <p:nvPr/>
        </p:nvSpPr>
        <p:spPr>
          <a:xfrm>
            <a:off x="684360" y="558972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6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出函数图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图象请对问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出直观解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和同伴交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5"/>
          <p:cNvSpPr/>
          <p:nvPr/>
        </p:nvSpPr>
        <p:spPr>
          <a:xfrm>
            <a:off x="7596360" y="6237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10800"/>
                </a:moveTo>
                <a:lnTo>
                  <a:pt x="22129" y="3794"/>
                </a:lnTo>
                <a:lnTo>
                  <a:pt x="22129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WordArt 16"/>
          <p:cNvSpPr txBox="1"/>
          <p:nvPr/>
        </p:nvSpPr>
        <p:spPr>
          <a:xfrm>
            <a:off x="0" y="0"/>
            <a:ext cx="1371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练一练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2T05:3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8:33Z</dcterms:modified>
  <cp:revision>3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