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4.jpeg" ContentType="image/jpeg"/>
  <Override PartName="/ppt/media/image19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B5C6-0427-4123-A5FF-5AA2F8AB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4D0-780D-4C6D-9111-5EF24FCD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4FD-2CFD-4912-ABF2-2988E82C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08F-E8F9-4244-ACA8-0DA740E7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B1A0-DD5F-4719-A964-B3B411FB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946D-8141-4BA4-96F4-F42EE241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28A8-3A28-4AA1-89EC-4306259C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9F17-DEBE-4DA9-B992-CDB0A48A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582A-AF1B-4141-B706-4E4A32BC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455B-48FA-46C0-984E-7826D9ED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4FEE-B0D4-4DB1-B7E9-269C9044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CEC-FAC2-4741-B215-A55E5180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678F-FCB3-4439-BE20-FB9FCC5D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A552-2C9B-4A4C-A9F2-52CD0AAC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5E27-140E-4EDB-BC35-63CDDCF8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4A3C-514F-4D72-8273-87B7B4A0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F301-7E20-44A0-950C-E8CDEF54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656A-1859-4CF4-A9BF-EBBB8B02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4712-CB2D-4D2D-8E63-AB2BDD90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856-B683-41D6-AB9E-53F38EF8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AF0-B0D4-44E0-B120-6224AF31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F029-A5F1-4227-923B-E80C5D91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D7BE-1F87-4155-88D6-5C9FE0AC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99A-B31D-432B-94E0-736D26F6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7F1C-9BC6-4F45-B0EE-2E6869020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7DE1-8EC4-484A-B7CE-77B07F0B9F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oodmate.net/4images/7/7841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202.121.7.7/person/zhaigj/bigclass.asp?typeid=12&amp;bigclassid=26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oodmate.net/4images/7/7781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edriver.gxtc.edu.cn/tongxun/yangguang/wuweihualang/200512/6676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csxsyzx.com/jiaoxuetupian/shengwu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bigchina.com/ebcps/2/pd/206988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 Box 6" descr=""/>
          <p:cNvPicPr/>
          <p:nvPr/>
        </p:nvPicPr>
        <p:blipFill>
          <a:blip r:embed="rId1"/>
          <a:stretch/>
        </p:blipFill>
        <p:spPr>
          <a:xfrm>
            <a:off x="0" y="1220760"/>
            <a:ext cx="9144000" cy="7002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" descr=""/>
          <p:cNvPicPr/>
          <p:nvPr/>
        </p:nvPicPr>
        <p:blipFill>
          <a:blip r:embed="rId2"/>
          <a:stretch/>
        </p:blipFill>
        <p:spPr>
          <a:xfrm>
            <a:off x="1878120" y="2438280"/>
            <a:ext cx="5394240" cy="3676680"/>
          </a:xfrm>
          <a:prstGeom prst="rect">
            <a:avLst/>
          </a:prstGeom>
          <a:ln w="0">
            <a:noFill/>
          </a:ln>
        </p:spPr>
      </p:pic>
      <p:sp>
        <p:nvSpPr>
          <p:cNvPr id="84" name="矩形 4"/>
          <p:cNvSpPr/>
          <p:nvPr/>
        </p:nvSpPr>
        <p:spPr>
          <a:xfrm>
            <a:off x="3248640" y="601560"/>
            <a:ext cx="23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章  生物的进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8088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通过对不同地层化石的比较</a:t>
            </a:r>
            <a:r>
              <a:rPr b="1" i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1" i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你得出了对生物进化历程的怎样的推测</a:t>
            </a:r>
            <a:r>
              <a:rPr b="1" i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52280" y="1676520"/>
            <a:ext cx="8991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越早形成的地层中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越晚形成的地层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191120" y="1676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化石越简单、越低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191120" y="243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化石越复杂、越高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57200" y="32767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28600" y="3276720"/>
            <a:ext cx="754380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生物进化的顺序</a:t>
            </a:r>
            <a:r>
              <a:rPr b="1" i="1" lang="en-US" sz="40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物由简单到复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物由水生到陆生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物由低等到高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304920" y="38088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始祖鸟、鸟及爬行动物的比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10-1"/>
          <p:cNvPicPr/>
          <p:nvPr/>
        </p:nvPicPr>
        <p:blipFill>
          <a:blip r:embed="rId1"/>
          <a:stretch/>
        </p:blipFill>
        <p:spPr>
          <a:xfrm>
            <a:off x="228600" y="1295280"/>
            <a:ext cx="4021200" cy="5334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4194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835280" y="0"/>
            <a:ext cx="54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ic_71304"/>
          <p:cNvPicPr/>
          <p:nvPr/>
        </p:nvPicPr>
        <p:blipFill>
          <a:blip r:embed="rId1"/>
          <a:stretch/>
        </p:blipFill>
        <p:spPr>
          <a:xfrm>
            <a:off x="0" y="973080"/>
            <a:ext cx="9144000" cy="497700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8199"/>
          <p:cNvSpPr/>
          <p:nvPr/>
        </p:nvSpPr>
        <p:spPr>
          <a:xfrm>
            <a:off x="1512720" y="525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hlb105_01pic"/>
          <p:cNvPicPr/>
          <p:nvPr/>
        </p:nvPicPr>
        <p:blipFill>
          <a:blip r:embed="rId1"/>
          <a:stretch/>
        </p:blipFill>
        <p:spPr>
          <a:xfrm>
            <a:off x="1295280" y="0"/>
            <a:ext cx="653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228600" y="914400"/>
            <a:ext cx="6310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牙齿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由尾椎骨组成的长尾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掌骨未完全愈合，指端有爪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骨骼内无气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6324480" y="1143000"/>
            <a:ext cx="358920" cy="2286000"/>
          </a:xfrm>
          <a:custGeom>
            <a:avLst/>
            <a:gdLst>
              <a:gd name="textAreaLeft" fmla="*/ 0 w 358920"/>
              <a:gd name="textAreaRight" fmla="*/ 129600 w 358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696000" y="167652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华文行楷"/>
              </a:rPr>
              <a:t>爬行动物的特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57200" y="4191120"/>
            <a:ext cx="40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具有羽毛且分化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部分骨骼愈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4724280" y="43434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181480" y="44956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华文行楷"/>
              </a:rPr>
              <a:t>鸟类的特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57200" y="1522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ff"/>
                </a:solidFill>
                <a:latin typeface="Arial"/>
                <a:ea typeface="黑体"/>
              </a:rPr>
              <a:t>通过比较可知</a:t>
            </a:r>
            <a:r>
              <a:rPr b="1" i="1" lang="en-US" sz="4400" spc="-1" strike="noStrike">
                <a:solidFill>
                  <a:srgbClr val="3333ff"/>
                </a:solidFill>
                <a:latin typeface="Arial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28600" y="8380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i="1" lang="zh-CN" sz="4800" spc="-1" strike="noStrike">
                <a:solidFill>
                  <a:srgbClr val="3333ff"/>
                </a:solidFill>
                <a:latin typeface="Arial"/>
                <a:ea typeface="黑体"/>
              </a:rPr>
              <a:t>通过以上的比较，我们发现，始祖鸟是爬行动物与鸟类之间的过度类型，所以，鸟类起源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438280" y="320040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438280" y="304812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原始的爬行动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28600" y="990720"/>
          <a:ext cx="8686800" cy="56386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966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生物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与人细胞色素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C</a:t>
                      </a: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的氨基酸序列的差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黑猩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猕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金枪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果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向日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链孢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螺旋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08"/>
          <p:cNvSpPr/>
          <p:nvPr/>
        </p:nvSpPr>
        <p:spPr>
          <a:xfrm>
            <a:off x="838080" y="22860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不同生物细胞色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的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457200" y="8380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33ff"/>
                </a:solidFill>
                <a:latin typeface="Arial"/>
                <a:ea typeface="黑体"/>
              </a:rPr>
              <a:t>通过比较可知，与人亲缘关系由近至远的顺序依次是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90720" y="25909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457200" y="2666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黑猩猩、猕猴、狗、鸡、金枪鱼、果蝇、向日葵、链孢菌、螺旋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2040316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003128113225988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066680" y="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比较不同生物的胚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380880" y="45720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对不同生物的胚胎进行比较可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85800" y="1600200"/>
            <a:ext cx="74674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陆生动物起源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人是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800600" y="152388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水生动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2666880" y="25909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有尾动物进化发展而来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80880" y="1600200"/>
          <a:ext cx="8381880" cy="4497480"/>
        </p:xfrm>
        <a:graphic>
          <a:graphicData uri="http://schemas.openxmlformats.org/drawingml/2006/table">
            <a:tbl>
              <a:tblPr/>
              <a:tblGrid>
                <a:gridCol w="1044720"/>
                <a:gridCol w="1698480"/>
                <a:gridCol w="1450800"/>
                <a:gridCol w="1162080"/>
                <a:gridCol w="1578240"/>
                <a:gridCol w="1447560"/>
              </a:tblGrid>
              <a:tr h="1033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植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类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形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880">
                <a:tc row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环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37"/>
          <p:cNvSpPr/>
          <p:nvPr/>
        </p:nvSpPr>
        <p:spPr>
          <a:xfrm>
            <a:off x="1371600" y="28954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没有根、茎、叶的分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3048120" y="28954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有茎、叶分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4643280" y="299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有根、茎、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586728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有根、茎、叶、种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7315200" y="26668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根、茎、叶、花、果实、种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2"/>
          <p:cNvSpPr/>
          <p:nvPr/>
        </p:nvSpPr>
        <p:spPr>
          <a:xfrm>
            <a:off x="1547640" y="47401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大部分生活在水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3276720" y="48769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潮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4"/>
          <p:cNvSpPr/>
          <p:nvPr/>
        </p:nvSpPr>
        <p:spPr>
          <a:xfrm>
            <a:off x="4643280" y="4876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潮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5"/>
          <p:cNvSpPr/>
          <p:nvPr/>
        </p:nvSpPr>
        <p:spPr>
          <a:xfrm>
            <a:off x="6012000" y="48769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陆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6"/>
          <p:cNvSpPr/>
          <p:nvPr/>
        </p:nvSpPr>
        <p:spPr>
          <a:xfrm>
            <a:off x="7380360" y="48769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陆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1909080" y="184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藻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8"/>
          <p:cNvSpPr/>
          <p:nvPr/>
        </p:nvSpPr>
        <p:spPr>
          <a:xfrm>
            <a:off x="3349440" y="1844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苔藓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9"/>
          <p:cNvSpPr/>
          <p:nvPr/>
        </p:nvSpPr>
        <p:spPr>
          <a:xfrm>
            <a:off x="4861800" y="186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蕨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0"/>
          <p:cNvSpPr/>
          <p:nvPr/>
        </p:nvSpPr>
        <p:spPr>
          <a:xfrm>
            <a:off x="5940360" y="170028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裸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植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1"/>
          <p:cNvSpPr/>
          <p:nvPr/>
        </p:nvSpPr>
        <p:spPr>
          <a:xfrm>
            <a:off x="7308720" y="1700280"/>
            <a:ext cx="10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被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植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2"/>
          <p:cNvSpPr/>
          <p:nvPr/>
        </p:nvSpPr>
        <p:spPr>
          <a:xfrm>
            <a:off x="1719360" y="547560"/>
            <a:ext cx="31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物进化的趋势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85800" y="1905120"/>
          <a:ext cx="8210520" cy="3789360"/>
        </p:xfrm>
        <a:graphic>
          <a:graphicData uri="http://schemas.openxmlformats.org/drawingml/2006/table">
            <a:tbl>
              <a:tblPr/>
              <a:tblGrid>
                <a:gridCol w="1752480"/>
                <a:gridCol w="1357560"/>
                <a:gridCol w="1195200"/>
                <a:gridCol w="1581120"/>
                <a:gridCol w="2324160"/>
              </a:tblGrid>
              <a:tr h="1033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动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单细胞动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腔肠动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哺乳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4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形态结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3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环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6" name="AutoShape 24"/>
          <p:cNvSpPr/>
          <p:nvPr/>
        </p:nvSpPr>
        <p:spPr>
          <a:xfrm>
            <a:off x="3668760" y="3444840"/>
            <a:ext cx="3570120" cy="289080"/>
          </a:xfrm>
          <a:prstGeom prst="rightArrow">
            <a:avLst>
              <a:gd name="adj1" fmla="val 50000"/>
              <a:gd name="adj2" fmla="val 308634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5"/>
          <p:cNvSpPr/>
          <p:nvPr/>
        </p:nvSpPr>
        <p:spPr>
          <a:xfrm>
            <a:off x="3657600" y="4745160"/>
            <a:ext cx="3581280" cy="360360"/>
          </a:xfrm>
          <a:prstGeom prst="rightArrow">
            <a:avLst>
              <a:gd name="adj1" fmla="val 36565"/>
              <a:gd name="adj2" fmla="val 251902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2514600" y="3306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简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7543800" y="3306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复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8"/>
          <p:cNvSpPr/>
          <p:nvPr/>
        </p:nvSpPr>
        <p:spPr>
          <a:xfrm>
            <a:off x="2514600" y="45403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水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9"/>
          <p:cNvSpPr/>
          <p:nvPr/>
        </p:nvSpPr>
        <p:spPr>
          <a:xfrm>
            <a:off x="7620120" y="45403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陆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0"/>
          <p:cNvSpPr/>
          <p:nvPr/>
        </p:nvSpPr>
        <p:spPr>
          <a:xfrm>
            <a:off x="1719360" y="547560"/>
            <a:ext cx="31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物进化的趋势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pic_71330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MCj02307370000[1]"/>
          <p:cNvPicPr/>
          <p:nvPr/>
        </p:nvPicPr>
        <p:blipFill>
          <a:blip r:embed="rId1"/>
          <a:stretch/>
        </p:blipFill>
        <p:spPr>
          <a:xfrm>
            <a:off x="-152280" y="4898880"/>
            <a:ext cx="2057400" cy="1959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1905120" y="2971800"/>
            <a:ext cx="61340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结构：由简单到复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地位：由低等到高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环境：由水生到陆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295280" y="1828800"/>
            <a:ext cx="645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生物进化的总体趋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990720" y="22860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结论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52600" y="1828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物进化的直接证据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物进化的历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简单到复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低等到高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水生到陆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809640" y="212760"/>
            <a:ext cx="183816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总结：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80880" y="869400"/>
            <a:ext cx="8458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华文新魏"/>
                <a:ea typeface="华文新魏"/>
              </a:rPr>
              <a:t>技能训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请阅读</a:t>
            </a:r>
            <a:r>
              <a:rPr b="1" i="1" lang="en-US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56</a:t>
            </a:r>
            <a:r>
              <a:rPr b="1" i="1" lang="en-US" sz="4400" spc="-1" strike="noStrike">
                <a:solidFill>
                  <a:srgbClr val="3333ff"/>
                </a:solidFill>
                <a:latin typeface="Arial"/>
                <a:ea typeface="华文新魏"/>
              </a:rPr>
              <a:t>—</a:t>
            </a:r>
            <a:r>
              <a:rPr b="1" i="1" lang="en-US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57</a:t>
            </a:r>
            <a:r>
              <a:rPr b="1" i="1" lang="zh-CN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页</a:t>
            </a:r>
            <a:r>
              <a:rPr b="1" i="1" lang="en-US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,</a:t>
            </a:r>
            <a:r>
              <a:rPr b="1" i="1" lang="zh-CN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回答课后问题</a:t>
            </a:r>
            <a:r>
              <a:rPr b="1" i="1" lang="en-US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支持假说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证据有：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其中证据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支持力度最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支持假说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证据有：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其中证据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支持力度最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0" y="0"/>
            <a:ext cx="91440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一、选择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生物进化问题的研究方法中，最重要的是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比较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想像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猜测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幻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列关于比较方法的说法中，不正确的是（　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比较是指根据一定的标准，把彼此有某种联系的事物加以对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对各个事物特征的比较，可以把握事物之间的内在联系，认识事物的本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对不同生物种类的形态结构进行比较，可以推断它们之间的亲缘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比较可以确定任何事物的相同点和不同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990720" y="1219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533520" y="259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228600" y="380880"/>
            <a:ext cx="8915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科学家发现一些生物的细胞色素Ｃ有差异：人与黑猩猩的差异最小，与马的差异大一些，与果蝇、向日葵的差异则更大。这说明与人亲缘关系最近的是（    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马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果蝇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向日葵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黑猩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始祖鸟身体结构跟爬行类、鸟类动物都有相同之处，经逻辑推理可得出如下结论（　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爬行类进化成鸟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鸟类进化成爬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爬行类与鸟类有亲缘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生命起源于无机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048120" y="19051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14400" y="38862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-366840" y="-503280"/>
          <a:ext cx="9144000" cy="5032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Picture 8" descr="2032325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-366840" y="-503280"/>
          <a:ext cx="9144000" cy="5032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80880" y="152280"/>
            <a:ext cx="853452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青岛巿某座小山上有许多含有贝类化石的珊瑚礁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此现象最合理的解释为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）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这些珊瑚是现在已灭绝的陆生种珊瑚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这些珊瑚是被海浪冲上来的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这些珊瑚离水登陆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小山是由海底上升所形成的 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研究地球上生物进化的最主要的证据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现在生存的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动物的胚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细胞色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 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化石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6629400" y="6858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143000" y="36576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228600" y="533520"/>
            <a:ext cx="8686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下列植物中，最简单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藻类植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  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裸子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苔藓植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  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被子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6781680" y="4572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8199"/>
          <p:cNvSpPr/>
          <p:nvPr/>
        </p:nvSpPr>
        <p:spPr>
          <a:xfrm>
            <a:off x="871560" y="3008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838080" y="1783080"/>
            <a:ext cx="7772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华文行楷"/>
                <a:ea typeface="华文行楷"/>
              </a:rPr>
              <a:t>课后练习</a:t>
            </a:r>
            <a:r>
              <a:rPr b="1" lang="en-US" sz="6000" spc="-1" strike="noStrike">
                <a:solidFill>
                  <a:srgbClr val="cc0000"/>
                </a:solidFill>
                <a:latin typeface="华文行楷"/>
                <a:ea typeface="华文行楷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的化石人类还未发现；有的生物没有留下化石；地壳或环境的变化导致一些化石的毁灭等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250920" y="29790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先有鸡还是先有蛋，我们不能简单地回答，因为任何生物都是不断进化发展的，进化的历程是漫长的，而且遗传和变异是进化的基础。在由爬行动物进化到鸟类的过程中，不断地发生变异，并经自然选择将这种变异保存和遗传下来。从进化的角度看，鸡这一物种形成时，鸡和鸡蛋同时形成。从基因水平看，鸡和鸡蛋具有同样的遗传物质基础，二者在地球上的出现也是无所谓先后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9A43-4E18-407F-828F-0BBCCF47F3C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228600" y="12344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些非常简单、低等的生物由于能够适应环境的不断变化，所以没有灭绝，而且分布还非常广泛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200512170026472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6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SW013000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0"/>
            <a:ext cx="762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523880" y="76212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地球上的生物千姿百态，地球上的生命是如何来的呢</a:t>
            </a:r>
            <a:r>
              <a:rPr b="1" i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447920" y="2057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化学起源说指出，地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上的生命可以通过漫长的化学途径，逐步从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行楷"/>
              </a:rPr>
              <a:t>非生命物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演化成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行楷"/>
              </a:rPr>
              <a:t>原始生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371600" y="45720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那么，原始生命又是如何演化成形形色色的生物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04920" y="228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ff"/>
                </a:solidFill>
                <a:latin typeface="Arial"/>
                <a:ea typeface="华文新魏"/>
              </a:rPr>
              <a:t>没有人能够亲自经历这样的演化过程，但是，科学家却能通过不同的有效的方法来揭示生物进化的奥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62120" y="1981080"/>
            <a:ext cx="7619760" cy="19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研究生物进化的方法    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华文新魏"/>
              </a:rPr>
              <a:t>-----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华文新魏"/>
              </a:rPr>
              <a:t>比较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28600" y="426708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华文行楷"/>
              </a:rPr>
              <a:t>比较法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华文行楷"/>
              </a:rPr>
              <a:t>——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根据一定的标准，把彼此有联系的事物的特征进行比较，以把握事物之间的内在联系，认识事物的本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914400" y="53352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比较不同地层中的化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10360579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905120"/>
            <a:ext cx="3636720" cy="44956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4191120" y="2362320"/>
            <a:ext cx="4724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化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埋藏在地层中的古代生物的遗体、遗迹和遗物，石化后形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是研究生物进化最直接的证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pic_71328"/>
          <p:cNvPicPr/>
          <p:nvPr/>
        </p:nvPicPr>
        <p:blipFill>
          <a:blip r:embed="rId1"/>
          <a:stretch/>
        </p:blipFill>
        <p:spPr>
          <a:xfrm>
            <a:off x="304920" y="0"/>
            <a:ext cx="7486560" cy="6981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8153280" y="0"/>
            <a:ext cx="99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不同地层化石模式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3:52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7:07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