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9FC-F28C-4655-A617-4821F527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73C-CF5C-4A92-942A-E2AC9A9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2DF-4C04-4D71-ABA1-486A8819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D14-4B5E-4A70-913A-4269A91E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E80-0F48-4DF2-BB8D-8A906E72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A776-79C1-4D84-A472-B1744A8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56DC-CEC6-49F3-A868-BCD2AE8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630-6E11-488A-B240-8A07606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8FA-AC8D-4EFC-9EF6-A2C9565B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B9BB-2313-4B34-8218-2786C48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F70-DE33-4FF4-ABB3-470CD92D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56F-BF32-4F35-9E3A-C55B792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947-4AA2-46F3-A316-9B79975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02AF-DDBE-4AF1-8113-76E992A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92A-B2FE-429D-A687-81A8EFE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69F-DB30-4C70-9B82-A9D6C7FF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24D-FD05-47C4-AD4A-D732406E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7E30-4B1C-405D-96B9-FA2A427C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3042-A6D4-4A05-BC10-4E12AA7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2216-79E7-4502-974D-B839053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A39E-FA61-4023-8CD2-0F06B843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5E17-1372-48DE-B3A4-B60FD3E9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2E8-44CE-42CA-A005-33F0DDB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4C1F-4F77-4E0E-B3B9-6E29364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1CC9-4B91-4A53-BB63-F1C9B1C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DD50-7C29-4711-9E12-12E543D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0166-05AA-459F-8C9E-1983028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D07B-DCC9-4A3A-86F9-9A3C7DBB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FA27-E494-469E-99CA-B673AC2B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75C8-EBE7-4E6D-803D-3334D26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38FF-C621-4B9D-937B-9E8EC44B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B754-3B12-4FC8-9225-4C286F30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D904-FFE0-4F91-A6EC-FB3C752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32E-BE3D-43D5-BDC0-CCABBB0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F8C9-4320-46BC-81E5-C4DFC14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6776-E015-4AC9-BE56-2D6E6A51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E473-2773-46C5-A671-18A1EA9A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1C87-2DC6-4204-A864-B339009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C01AC-D42F-4F3B-8792-5A63AA5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E31F-8D54-412F-ACEB-75A42B7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3A64-1B68-4DE0-A351-532CC7D4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CD75-7BC6-4A99-8B82-AA2DBDFD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4C0A-CEDF-4A60-9D2A-E048DC0C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704-CD46-4A2E-B94D-3155180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BE2-1A76-49FD-A864-EB8DEE7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056-D2E6-4174-B6FF-F60E330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1D2-19A1-4E2B-BA2A-4FEEB56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CF8-28D7-4A12-B7B9-5671840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01E-3DFE-4732-97AD-B7D4DE1A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E92A-B8B6-4F30-B97B-E2F1995043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BF0-F9C1-446D-B38F-A3C42AFD4C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4D70-C94B-42AA-92CB-C49B1FA629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主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652320" y="601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文本框 1" descr=""/>
          <p:cNvPicPr/>
          <p:nvPr/>
        </p:nvPicPr>
        <p:blipFill>
          <a:blip r:embed="rId2"/>
          <a:stretch/>
        </p:blipFill>
        <p:spPr>
          <a:xfrm>
            <a:off x="965160" y="127080"/>
            <a:ext cx="7373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5280" y="1557360"/>
            <a:ext cx="8137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维生素也称维他命，是人体不可缺少的一种营养素，是人体维持正常代谢和机能所必须的一类低分子化合物。它是人体六大营养要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糖、脂肪、蛋白质、盐类、维生素和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一，大多数必须从食物中获得，仅少数可在人体内合成或由肠道细菌产生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人体每日对维生素的需要量甚微，但如果缺乏，则可引起一类特殊的疾病，称为“维生素缺乏症”。因为维生素跟酶类一起参与肌体的新陈代谢，能使肌体的机能得到有效的调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各种蔬菜、水果中含有丰富的维生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矿物质又称无机盐，有调节身体机能的作用。人体其实是由各种元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量元素和微量元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成的。其中很多矿物质元素为酶的必需组分，可调节多种生理功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维持渗透压、氧气转运、肌肉收缩、神经系统完整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也是身体组织和骨骼生长及维持所必需的。有些矿物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钙、磷、钠、镁、硫、氯化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含量较大，有些则仅含微量。人类必需的微量元素有铜、氟、碘、铁、锌、铬、硒、锰、钥。大多数矿物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锌除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广泛分布于各种食品中，可以在平衡和多样化的膳食中得到充分补充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食盐、各种蔬菜、水果中含有丰富的矿物质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33200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e4a8"/>
                </a:solidFill>
                <a:latin typeface="Arial"/>
                <a:ea typeface="宋体"/>
              </a:rPr>
              <a:t>小资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33240" y="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几种维生素缺乏时的症状和食物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1484280"/>
          <a:ext cx="8712360" cy="5118120"/>
        </p:xfrm>
        <a:graphic>
          <a:graphicData uri="http://schemas.openxmlformats.org/drawingml/2006/table">
            <a:tbl>
              <a:tblPr/>
              <a:tblGrid>
                <a:gridCol w="2846520"/>
                <a:gridCol w="2589120"/>
                <a:gridCol w="327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食物来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皮肤干燥、夜盲症、干眼症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神经炎、脚气病、消化不良、食欲不振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坏血病、抵抗力下降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佝偻病、骨质疏松症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29"/>
          <p:cNvSpPr/>
          <p:nvPr/>
        </p:nvSpPr>
        <p:spPr>
          <a:xfrm>
            <a:off x="5651640" y="4867200"/>
            <a:ext cx="324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柑橘类和番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清椒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菠菜、马铃薯中亦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5651640" y="3716280"/>
            <a:ext cx="31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豆类、糙米、牛奶、家禽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5580000" y="5805360"/>
            <a:ext cx="33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牛奶、蛋黄、沙丁鱼、肝脏、鱼子酱、鱼肝油、乳油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6227640" y="1987560"/>
            <a:ext cx="313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5653080" y="2060640"/>
            <a:ext cx="309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牛肝、鸡肝、黄油及奶制品、鱼卵和蛋；胡萝卜、菠菜、小白菜、香菜、西红柿、芦笋、花菜、柿子、桃、杏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6634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几种无机盐的缺乏症状和食物来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692280"/>
          <a:ext cx="8821800" cy="5956200"/>
        </p:xfrm>
        <a:graphic>
          <a:graphicData uri="http://schemas.openxmlformats.org/drawingml/2006/table">
            <a:tbl>
              <a:tblPr/>
              <a:tblGrid>
                <a:gridCol w="2087640"/>
                <a:gridCol w="2160360"/>
                <a:gridCol w="4573800"/>
              </a:tblGrid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无机盐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食物来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钙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佝偻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鸡胸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形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形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；特别是中老年妇女缺钙易骨质疏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磷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厌食、贫血、肌无力、骨痛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铁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铁性贫血（乏力、头晕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碘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地方性甲状腺肿，儿童智力和体格发育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锌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生长发育不良、味觉发生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33"/>
          <p:cNvSpPr/>
          <p:nvPr/>
        </p:nvSpPr>
        <p:spPr>
          <a:xfrm>
            <a:off x="6372360" y="1773360"/>
            <a:ext cx="2008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6372360" y="3141720"/>
            <a:ext cx="2008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4932360" y="1484280"/>
            <a:ext cx="3313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奶和奶制品、牡蛎、胰腺、肝、谷、粗粮、干豆、坚果、蛋、肉、鱼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4427640" y="3645000"/>
            <a:ext cx="457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海带、黑木耳、紫菜、香菇和芝麻酱；其次是动物的内脏、血、瘦肉；黄豆、蚕豆、豇豆等；干鲜果品中桃、红枣、杨梅、葡萄干、桂圆、松子仁、南瓜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7"/>
          <p:cNvSpPr/>
          <p:nvPr/>
        </p:nvSpPr>
        <p:spPr>
          <a:xfrm>
            <a:off x="4572000" y="2637000"/>
            <a:ext cx="457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含蛋白质多的食物如鱼、虾、蛋、瘦肉、内脏、干豆类、杏仁、核桃、南瓜子等，磷的含量都很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4572000" y="4941720"/>
            <a:ext cx="457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动物食品、海产品；蛋、奶次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4572000" y="5950080"/>
            <a:ext cx="457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海盐和海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826920" y="4869000"/>
            <a:ext cx="3399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宋体"/>
              </a:rPr>
              <a:t>佝偻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10178192411"/>
          <p:cNvPicPr/>
          <p:nvPr/>
        </p:nvPicPr>
        <p:blipFill>
          <a:blip r:embed="rId1"/>
          <a:stretch/>
        </p:blipFill>
        <p:spPr>
          <a:xfrm>
            <a:off x="2916360" y="1916280"/>
            <a:ext cx="1655640" cy="2330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jzxjj"/>
          <p:cNvPicPr/>
          <p:nvPr/>
        </p:nvPicPr>
        <p:blipFill>
          <a:blip r:embed="rId2"/>
          <a:stretch/>
        </p:blipFill>
        <p:spPr>
          <a:xfrm>
            <a:off x="5724360" y="1933560"/>
            <a:ext cx="2448000" cy="192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9[1]"/>
          <p:cNvPicPr/>
          <p:nvPr/>
        </p:nvPicPr>
        <p:blipFill>
          <a:blip r:embed="rId3"/>
          <a:stretch/>
        </p:blipFill>
        <p:spPr>
          <a:xfrm>
            <a:off x="250920" y="1444680"/>
            <a:ext cx="2278080" cy="32083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5292720" y="4869000"/>
            <a:ext cx="3398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ahoma"/>
                <a:ea typeface="宋体"/>
              </a:rPr>
              <a:t>甲状腺肿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  <a:ea typeface="宋体"/>
              </a:rPr>
              <a:t>大脖子病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042920" y="3230640"/>
            <a:ext cx="7056360" cy="11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水，也是构成人体的主要成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的血液里、肌肉里都有水，占体重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0%-70%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水是人体不可缺少的重要物质，是细胞的主要组成部分。人体的各种生理活动都不能离开水。例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养成分经过消化后分解成的各种物质，都需要溶解在水里才能够被吸收；大部分废物都要溶解在水里，才能够被排出体外。水一方面不断地随着食物和饮料进人人体，一方面又不断地随着废物排出体外，身体里的水常常要保持一定的平衡，如果失去平衡，各种生理活动就会发生障碍，甚至危及生命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早餐：鸡蛋 面包 牛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午餐：青椒炒肉丝 鱼 青菜汤 米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晚餐：玉米粥 包子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844640"/>
          <a:ext cx="8964720" cy="5013360"/>
        </p:xfrm>
        <a:graphic>
          <a:graphicData uri="http://schemas.openxmlformats.org/drawingml/2006/table">
            <a:tbl>
              <a:tblPr/>
              <a:tblGrid>
                <a:gridCol w="1158840"/>
                <a:gridCol w="1322280"/>
                <a:gridCol w="1351080"/>
                <a:gridCol w="1338120"/>
                <a:gridCol w="1339920"/>
                <a:gridCol w="1335240"/>
                <a:gridCol w="1119240"/>
              </a:tblGrid>
              <a:tr h="129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蛋白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糖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脂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维生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矿物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早餐：鸡蛋 面包 牛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午餐：青椒炒肉丝 鱼 青菜汤 米饭                   晚餐：米粥 包子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700280"/>
          <a:ext cx="8964720" cy="4809960"/>
        </p:xfrm>
        <a:graphic>
          <a:graphicData uri="http://schemas.openxmlformats.org/drawingml/2006/table">
            <a:tbl>
              <a:tblPr/>
              <a:tblGrid>
                <a:gridCol w="1158840"/>
                <a:gridCol w="1322280"/>
                <a:gridCol w="1227240"/>
                <a:gridCol w="1440000"/>
                <a:gridCol w="1361880"/>
                <a:gridCol w="1335240"/>
                <a:gridCol w="1119240"/>
              </a:tblGrid>
              <a:tr h="133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蛋白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糖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脂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维生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矿物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鸡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牛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面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牛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肉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肉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汤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包子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3204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1908000" y="4292640"/>
            <a:ext cx="53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注意挤压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注意区分每种食物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实验完毕，材料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340000" y="306864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3206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3206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3206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3564000" y="189000"/>
            <a:ext cx="51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使用试管时注意轻拿轻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滴液时试管头部与食物不能相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9"/>
          <p:cNvSpPr/>
          <p:nvPr/>
        </p:nvSpPr>
        <p:spPr>
          <a:xfrm>
            <a:off x="2014560" y="5878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79280" y="0"/>
            <a:ext cx="6840360" cy="849240"/>
            <a:chOff x="179280" y="0"/>
            <a:chExt cx="6840360" cy="849240"/>
          </a:xfrm>
        </p:grpSpPr>
        <p:sp>
          <p:nvSpPr>
            <p:cNvPr id="239" name="AutoShape 3"/>
            <p:cNvSpPr/>
            <p:nvPr/>
          </p:nvSpPr>
          <p:spPr>
            <a:xfrm>
              <a:off x="179280" y="87480"/>
              <a:ext cx="584424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dd71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392760" y="0"/>
              <a:ext cx="662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辨别食物中的营养成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5" descr="15098_more3"/>
          <p:cNvPicPr/>
          <p:nvPr/>
        </p:nvPicPr>
        <p:blipFill>
          <a:blip r:embed="rId1"/>
          <a:stretch/>
        </p:blipFill>
        <p:spPr>
          <a:xfrm>
            <a:off x="1476360" y="907920"/>
            <a:ext cx="583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5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想一想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16000" y="177300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食物中含有哪些营养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含有这些营养成分的食物有哪些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这些营养成分对我们人体有哪些作用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Oval 2"/>
          <p:cNvSpPr/>
          <p:nvPr/>
        </p:nvSpPr>
        <p:spPr>
          <a:xfrm>
            <a:off x="685800" y="380880"/>
            <a:ext cx="36576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68360" y="2514600"/>
            <a:ext cx="8001000" cy="1434600"/>
            <a:chOff x="468360" y="2514600"/>
            <a:chExt cx="8001000" cy="1434600"/>
          </a:xfrm>
        </p:grpSpPr>
        <p:pic>
          <p:nvPicPr>
            <p:cNvPr id="244" name="Picture 4" descr="BD14565_"/>
            <p:cNvPicPr/>
            <p:nvPr/>
          </p:nvPicPr>
          <p:blipFill>
            <a:blip r:embed="rId1"/>
            <a:stretch/>
          </p:blipFill>
          <p:spPr>
            <a:xfrm>
              <a:off x="468360" y="2666880"/>
              <a:ext cx="457200" cy="456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245" name="Text Box 5"/>
            <p:cNvSpPr/>
            <p:nvPr/>
          </p:nvSpPr>
          <p:spPr>
            <a:xfrm>
              <a:off x="1230480" y="2514600"/>
              <a:ext cx="723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们小学生正处在生长发育时期，为使自己身体健康，我们吃饭时应注意什么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6" descr="BD14578_"/>
          <p:cNvPicPr/>
          <p:nvPr/>
        </p:nvPicPr>
        <p:blipFill>
          <a:blip r:embed="rId2"/>
          <a:stretch/>
        </p:blipFill>
        <p:spPr>
          <a:xfrm>
            <a:off x="6781680" y="4876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思考　"/>
          <p:cNvPicPr/>
          <p:nvPr/>
        </p:nvPicPr>
        <p:blipFill>
          <a:blip r:embed="rId3"/>
          <a:stretch/>
        </p:blipFill>
        <p:spPr>
          <a:xfrm>
            <a:off x="46483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草莓"/>
          <p:cNvPicPr/>
          <p:nvPr/>
        </p:nvPicPr>
        <p:blipFill>
          <a:blip r:embed="rId4"/>
          <a:stretch/>
        </p:blipFill>
        <p:spPr>
          <a:xfrm>
            <a:off x="60948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苹果"/>
          <p:cNvPicPr/>
          <p:nvPr/>
        </p:nvPicPr>
        <p:blipFill>
          <a:blip r:embed="rId5"/>
          <a:stretch/>
        </p:blipFill>
        <p:spPr>
          <a:xfrm>
            <a:off x="76201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红蘑菇"/>
          <p:cNvPicPr/>
          <p:nvPr/>
        </p:nvPicPr>
        <p:blipFill>
          <a:blip r:embed="rId6"/>
          <a:stretch/>
        </p:blipFill>
        <p:spPr>
          <a:xfrm>
            <a:off x="4343400" y="5329080"/>
            <a:ext cx="1219320" cy="109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草莓"/>
          <p:cNvPicPr/>
          <p:nvPr/>
        </p:nvPicPr>
        <p:blipFill>
          <a:blip r:embed="rId7"/>
          <a:stretch/>
        </p:blipFill>
        <p:spPr>
          <a:xfrm>
            <a:off x="14479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草莓"/>
          <p:cNvPicPr/>
          <p:nvPr/>
        </p:nvPicPr>
        <p:blipFill>
          <a:blip r:embed="rId8"/>
          <a:stretch/>
        </p:blipFill>
        <p:spPr>
          <a:xfrm>
            <a:off x="19810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796-6A66-443D-A60D-A10EB71C06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00000" y="333360"/>
            <a:ext cx="7239240" cy="60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意讲究营养卫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合理饮食很重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蔬菜水果少不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豆牛奶天天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鱼肉禽蛋要适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少吃肥肉和荤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合理饮食儿歌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鲜洁净要记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3205D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3205D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39640" y="907920"/>
            <a:ext cx="807732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是人体肌肉、皮肤、内脏、头发、指甲和血液的主要成分；它是构成身体细胞的基本材料，用于机体生长发育、衰老组织更新、损伤组织修补，以及各种生理功能的需要。生命的产生、存在与消亡，无一不与蛋白质有关。所以说，蛋白质是生命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丰富蛋白质的食物举例：瘦肉、奶、蛋、鱼、豆制品、坚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1187280" y="765000"/>
            <a:ext cx="2514600" cy="60984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32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1280" y="1628640"/>
            <a:ext cx="8076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糖类的主要功能是供给生命活动所需要的能量。一般来说，人体所需要的能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是由糖类氧化分解提供的。在我们每天吃的食物中，糖类常常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，其中主要是淀粉。糖类也是细胞的组成部分，例如细胞核中染色体的重要组成部分是核糖和脱氧核糖。淀粉也是糖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吃的粮食，如米、麦、玉米、高粱、甘薯等，其主要成分都是淀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1187280" y="765000"/>
            <a:ext cx="2514600" cy="60984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3203D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4360" y="944640"/>
            <a:ext cx="807696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脂肪俗称油脂。按来源可分动物油脂和植物油脂两大类。脂肪是人体的重要组成部分，又是含热量最高的营养物质。脂肪是由碳、氢、氧元素所组成的一种很重要的化合物。有的脂肪中还含有磷和氮元素，是机体细胞建成、转化和生长必不可少的物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脂肪的主要功能是供给热量，其提供的热量较相同质量的蛋白质和碳水化合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糖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一倍。此外，脂肪还提供人体所需的“必需脂肪酸”。脂肪酸的种类很多，可分为饱和、单不饱和与多不饱和脂肪酸三大类。脂肪在人体营养中具有重要地位，人体所需总能量是由脂肪所提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富含脂肪的食物有植物油、动物油、肥肉、巧克力、花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1042920" y="549360"/>
            <a:ext cx="2514600" cy="60948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8199"/>
          <p:cNvSpPr/>
          <p:nvPr/>
        </p:nvSpPr>
        <p:spPr>
          <a:xfrm>
            <a:off x="1817640" y="143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32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23:1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3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