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8.png" ContentType="image/png"/>
  <Override PartName="/ppt/media/type.wav" ContentType="audio/x-wav"/>
  <Override PartName="/ppt/media/image6.jpeg" ContentType="image/jpeg"/>
  <Override PartName="/ppt/media/image27.jpeg" ContentType="image/jpeg"/>
  <Override PartName="/ppt/media/image7.jpeg" ContentType="image/jpeg"/>
  <Override PartName="/ppt/media/applause.wav" ContentType="audio/x-wav"/>
  <Override PartName="/ppt/media/image5.png" ContentType="image/png"/>
  <Override PartName="/ppt/media/image10.jpeg" ContentType="image/jpeg"/>
  <Override PartName="/ppt/media/image21.jpeg" ContentType="image/jpeg"/>
  <Override PartName="/ppt/media/chimes.wav" ContentType="audio/x-wav"/>
  <Override PartName="/ppt/media/drumroll.wav" ContentType="audio/x-wav"/>
  <Override PartName="/ppt/media/image26.wmf" ContentType="image/x-wmf"/>
  <Override PartName="/ppt/media/image15.jpeg" ContentType="image/jpeg"/>
  <Override PartName="/ppt/media/image16.jpeg" ContentType="image/jpeg"/>
  <Override PartName="/ppt/media/laser.wav" ContentType="audio/x-wav"/>
  <Override PartName="/ppt/media/image3.png" ContentType="image/png"/>
  <Override PartName="/ppt/media/carbrake.wav" ContentType="audio/x-wav"/>
  <Override PartName="/ppt/media/image17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8.jpeg" ContentType="image/jpe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2C3-34DA-4C4D-BDC3-03A1148A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578-645E-4CC7-9307-E5B19E31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AE409-043F-4FAB-A5F2-A91A134F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E74C6-D09C-4ECD-A169-5C3F769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DAA3-28C6-4762-923C-6B7319CF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9F70B-8A76-4617-970B-C36A2F5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0722E-BBDE-4A12-82C4-D3680B9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26D25-1101-4BF1-BA23-B0EBEDCC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A8BD-C3BD-45D3-AF94-E15EB7A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B404-7743-45F7-9399-B744695E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7E961-6AA8-4C05-BBC2-1553CFB0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0C785-DA05-4BCB-A73F-DA0B383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71E-A78E-4E4E-9E15-7FAB5D2B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B1289-B220-489D-A07E-A76E5C0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06B7-242C-4E1A-A336-BF3D256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B5E76-D63B-49B5-9D91-61955201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69F85-4EE5-46A0-B75E-E8EE6FDC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25DF-DAFA-4CA0-9976-6F1163AA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B9EE-3B48-4BC2-BC22-FDAAC1D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BC4D-FC4B-45C0-A09B-13ACF32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EB270-01E2-475D-B07D-3983A2E6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9305-1628-4ECC-B935-24B0F2BE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13238-772B-4FBF-BA6E-FE0A4024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C52-19CA-463A-ADCE-6A42BD63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6F5B4-2847-4BFD-8A58-F00B61C8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F263C-3AF9-4C40-9743-FC6209B6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96D9D-C80E-497B-B8BB-AA0E2B0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2FA17-AEFA-4FF8-8EF0-B8BEA3F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42A5-8286-4775-A0D5-5A3E418B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C8B2E-BB78-45B5-8BA2-C4ECB3E6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75CD-55D5-4489-8DC5-B7BD78A7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2D9AC-FF53-4C51-8BAF-A4E84E3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26C0E-7DA3-4023-A877-A127B0C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29EED-9805-4B40-958A-C6D2C22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C15-F579-42BD-B5D8-5D05758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9BE1-193C-48ED-8006-5D2D5611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259F6-4407-48B6-BD4E-4B07B015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11783-FA0D-4DEE-8F3F-BDD827A2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390A4-280C-4342-802F-F0BECA0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99F1D-D9BE-4D0F-9C31-1DFAEE5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49731-B66E-4466-ADF9-D3E6FCAA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886F-2F3F-456D-9595-71C609E3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6E140-B34D-4E0B-8187-2B28ACF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26A5A-EF44-487C-A7A1-B6F7394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B5106-B736-4200-B436-2E1A8C8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E04B-D350-4BCC-A33E-2252EDD8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DD1A0-57C3-45C5-851B-CF7C2E6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762C6-C1EB-4A94-BD5F-A2ECD25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11793-548D-4AE1-8C10-24D1E7F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5B31E-BEBA-4503-B468-02FB98AC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31690-5FA7-4ED9-A600-2A372AD6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5F95C-B88E-4077-874F-E18DAABA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D09FB-0CB9-4403-942C-2C85AFE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E42E7-B7F9-42BC-8F6D-9B0C572C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2338F-2C60-476A-A74D-DA4468C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D7EC9-F127-4A1D-8F29-A067DC8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34F-3D42-4EDD-912D-BAB6DFD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57276-3A27-47ED-82F6-65DF04B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6E025-2D30-417D-9E04-363BA3E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ACB48-A010-43D1-B9C6-D01C0C2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F782A-779E-433F-911B-CEAF526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E2AAA-6429-40D2-A644-7192792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1E986-544C-43A4-A79B-B7F05679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8A2FB-48F2-469F-9654-09F6DCEF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6844B-0921-4AD4-B243-57335342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72FF5-3997-4EAA-A07D-C6631948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20131-2B3D-4AD4-A42C-E0930D48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7B3-D803-448D-90DA-CDA548D9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96E19-6BF2-4443-8EA1-15ABA21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0A6EB-5914-450E-8486-A041D31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164DB-F393-4F0D-A8E0-3D874A4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A129A-C76D-4923-A314-6C573AB4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C8AA6-79E2-4320-ABC0-24099E41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0B004-79BF-4D6E-839B-0119B82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603CC-48B7-421E-8621-9AAF574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FC16A-2363-493D-A85D-A9773575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A6EE8-2D12-4356-9121-E55FA595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810C4-2311-4934-B6E0-588EB844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29F-C379-44A3-A983-7A85E9B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8CEDF-BDD7-4ECD-BF8B-7184CA2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41AB7-B915-496E-AEFA-1534E78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2CE0D-11D6-437F-8C99-A6900E0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528D9-81DC-4FA1-A763-28DEECB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319ED-45E3-4D58-A73C-1917934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D0275-9D4A-4F80-BA4E-AB78DBC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D39EF-2831-4BDE-BD12-A7BABF1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FFC66-660D-4B88-971B-7EDC6AE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00516-0175-4829-8A1C-49D251C9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7EF6B-D172-4843-9ACB-689C00E3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8DAA-BE31-4F3D-BD5F-8BBB32C9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49FB8-FBC3-484B-A3E4-569BD13D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3EFC0-AF2F-41DC-AE0B-58536D9E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28456-9DF1-4945-B78D-CF511824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69ECF-B13A-4ED5-BD9A-5261C9B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2819C-2F41-40FC-8C8D-50E8BD8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1C3FA-ADAF-4574-BDBF-35D39BC5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E3368-7FC1-4AD5-ABCA-EF0CF21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368B8-B696-40B1-9555-BEF77E2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E2C19-7867-43BC-90D9-E751A6D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8BE30-664A-4C9E-8241-F7CC4EE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4C9-9FD9-4CB8-AA3A-25EBFB2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60EDE-EABE-4AEF-8E66-58C900C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FAC6C-58FF-4AD2-AC1C-F25F4A50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E3B17-829B-4FA3-A911-7F661BC2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DCB-5FF4-4542-9397-8B96502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86A-1FEC-40A6-8492-24C79B0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97E-A374-4C0C-BDE2-1E052F6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33B8-4CEA-470E-B9F9-36B15199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5DA-5B1E-4B92-A616-948F0E27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6AB-844B-47B5-9CFF-A9858C96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9633-8AC8-40FB-9997-C847D683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4828-809A-49DB-9885-DA254D76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F0A6-5ADB-4AB6-8D23-F746A2CA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5727-4A64-4434-9E87-099D61A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5358-9FFD-4718-B55D-70008A6B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89E-A045-433E-BA6C-0EAC0AC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63CF-672A-4D68-8C99-DDD1BF35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C212-27BF-4455-A684-04F7A33E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44E9-36F6-4882-A963-719F6B8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1BF7-A7E5-41E3-A8A1-6F5796B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4EC2-E636-408B-9A78-5EB1774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A62A-183B-48B6-A9DA-4FE232E6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6751-167A-4011-B02D-DB20849B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CA26-DDF0-46F3-9BE9-4673D3D9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6F13-BCEB-4CA5-A2D6-4C320DD7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8E95-D8BC-4A9B-86DC-85DDC72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733-09E3-4363-BBFF-67BE7AB4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A53E-1C78-4A1B-A43D-11AEF9C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3ED1-BB23-42F2-9DB9-2120C60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F4BA-0C1A-4551-9DC2-9F9D2218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F3EC-9183-4C72-B10F-188A84B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5FC5-43D4-4E04-B46C-76ECD07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F1ED-3D3A-4983-863B-8DA17D5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2DAF-5BBB-41DE-BA36-E814F6BA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CAD5-5E86-4FB3-A1F5-26AAD794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D93D-9F43-4F48-8CA4-42E2BC5B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E4DF-7AEA-44F1-AD2F-5D07C7A3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F36-BD9B-4B09-927D-23CFAC1F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C0E0-186E-42EE-81C1-96E7844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60E8-4EF9-4303-8569-92CCD5F6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47D92-D8AE-4459-9808-B1A213E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62B5-A9EC-4476-BF40-F39B5106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EA17-124B-4BDF-9FFE-373932E2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C2F9-3D0F-4FC7-AA10-17AEFD7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D502-0761-4CCA-B821-9E80F45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CA15-D23F-43C8-B251-959E2C1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C1C0-7256-464F-A6A4-28CB3BEC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2080-1F8D-47E1-A7E9-4B31A1DA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BE2-8006-44C5-853C-64D6E9B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725F-C9CE-4E46-BAB5-7E648474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0D0D-5E15-42CC-BD92-ACECD744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340E-C842-40F0-8E42-95EF7AC8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F489E-B856-420F-8936-355ECED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CE8A3-6C08-4387-83F9-8B6891F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73A8-3378-490F-BE94-B97929EB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99DF-E781-4E8C-B882-22F7C51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B351-3CDB-47DE-88EA-8EFD1F3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AB85-EE3E-4703-8DBB-6CB3976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DCAD1-A670-44E3-8BDC-5B08880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166-0A37-4B7C-A78F-4F514C4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D5A4-AC7C-4EF6-AE91-26D5E56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E0C5-D2D8-48FA-958E-DC4D5ABE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2CE59-90CE-41B8-9793-325CF739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577B-4E6D-4C92-BDA2-3E522B5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1BA7-1E52-4A01-B6D2-C8A8461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F40A-9CDA-4E68-823B-A6C5634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6107-12EA-49C0-A033-7D871C0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19E42-9DFB-4C75-AB89-0AE3AFF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0348-5E13-44B0-B881-1FAC57C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BF30-53F7-404E-9A7E-037456C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2D1-5D9B-4A01-9367-B7EC4A0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79D5-DEBE-4637-89F3-FA6F852E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12414-AC70-455C-AD2C-C0B5807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A2B7-C4F3-4321-92E7-764C5A7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20F2-07DC-40CC-943A-4AF51509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6AB0-B006-44A0-8189-2D4C418D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613F-DF1E-41F5-BC76-972B8B5E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40DED-6641-4F15-8512-6C89D84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61D12-BF2E-494B-85AB-75330F3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FD21-8991-44DE-943A-45E06BCF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EFFF-9903-4E6E-A733-1D1D980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670-E2E4-4529-B779-527F375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F7D2-676E-4E3B-BF69-078F87A2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A8DDD-E92A-48D4-883D-96DD71D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B7E6-16A2-4852-8B4D-5F33D37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8C4B-B7BC-48A2-B381-4D658D5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E51DE-E377-40C9-928C-BF464C46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BC5C-FFE4-4153-82CF-499DD6BE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45BE-BE0A-45CA-910B-0A8FB359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798E4-16BD-4AB1-A163-FCF72830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F9D3A-47D3-4073-B223-4F6BEBA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728A7-09D2-4DB0-B45A-35EAAA89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8FC-D557-48B4-97D7-71F70EA9F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30B-A65B-4184-AD69-9B12E5715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AEB-D933-4B7A-8C26-2BD1A7883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31C-8487-4FF6-AC9E-2A6EFC945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A9C-7090-4685-85B6-76BDDF1D9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82DF-B4C5-4785-9F68-1B164241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2C2-F616-45D4-98C6-36116682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55A-66F4-43BE-A047-94500EBD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CAA-0E20-434A-A3C3-79405911F7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700E-BF58-4CA1-918D-5E22CB2B3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683-372F-4127-B65A-3DA89111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4E0-003D-4492-843A-A871C331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DD9-A8E6-404C-9770-4E36EC24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49F-838E-4F59-91EB-113E3F04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236-3DD0-4B98-9BD9-AB8E0F01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DC8-0735-4E89-AB26-3C18255C6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300,25,&#24187;&#28783;&#29255; 25" TargetMode="External"/><Relationship Id="rId3" Type="http://schemas.openxmlformats.org/officeDocument/2006/relationships/hyperlink" Target="300,25,&#24187;&#28783;&#29255; 25" TargetMode="External"/><Relationship Id="rId4" Type="http://schemas.openxmlformats.org/officeDocument/2006/relationships/hyperlink" Target="299,26,&#24187;&#28783;&#29255; 26" TargetMode="External"/><Relationship Id="rId5" Type="http://schemas.openxmlformats.org/officeDocument/2006/relationships/hyperlink" Target="299,26,&#24187;&#28783;&#29255; 26" TargetMode="External"/><Relationship Id="rId6" Type="http://schemas.openxmlformats.org/officeDocument/2006/relationships/hyperlink" Target="275,27,&#24187;&#28783;&#29255; 27" TargetMode="External"/><Relationship Id="rId7" Type="http://schemas.openxmlformats.org/officeDocument/2006/relationships/hyperlink" Target="275,27,&#24187;&#28783;&#29255; 27" TargetMode="External"/><Relationship Id="rId8" Type="http://schemas.openxmlformats.org/officeDocument/2006/relationships/hyperlink" Target="301,32,&#24187;&#28783;&#29255; 32" TargetMode="External"/><Relationship Id="rId9" Type="http://schemas.openxmlformats.org/officeDocument/2006/relationships/hyperlink" Target="301,32,&#24187;&#28783;&#29255; 32" TargetMode="External"/><Relationship Id="rId10" Type="http://schemas.openxmlformats.org/officeDocument/2006/relationships/hyperlink" Target="274,28,&#24187;&#28783;&#29255; 28" TargetMode="External"/><Relationship Id="rId11" Type="http://schemas.openxmlformats.org/officeDocument/2006/relationships/hyperlink" Target="274,28,&#24187;&#28783;&#29255; 28" TargetMode="External"/><Relationship Id="rId12" Type="http://schemas.openxmlformats.org/officeDocument/2006/relationships/hyperlink" Target="288,29,&#24187;&#28783;&#29255; 29" TargetMode="External"/><Relationship Id="rId13" Type="http://schemas.openxmlformats.org/officeDocument/2006/relationships/hyperlink" Target="288,29,&#24187;&#28783;&#29255; 29" TargetMode="External"/><Relationship Id="rId14" Type="http://schemas.openxmlformats.org/officeDocument/2006/relationships/hyperlink" Target="289,30,&#24187;&#28783;&#29255; 30" TargetMode="External"/><Relationship Id="rId15" Type="http://schemas.openxmlformats.org/officeDocument/2006/relationships/hyperlink" Target="289,30,&#24187;&#28783;&#29255; 30" TargetMode="External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81,8,&#24187;&#28783;&#29255; 8" TargetMode="External"/><Relationship Id="rId2" Type="http://schemas.openxmlformats.org/officeDocument/2006/relationships/hyperlink" Target="278,9,&#24187;&#28783;&#29255; 9" TargetMode="External"/><Relationship Id="rId3" Type="http://schemas.openxmlformats.org/officeDocument/2006/relationships/hyperlink" Target="279,15,&#24187;&#28783;&#29255; 15" TargetMode="External"/><Relationship Id="rId4" Type="http://schemas.openxmlformats.org/officeDocument/2006/relationships/hyperlink" Target="282,11,&#24187;&#28783;&#29255; 11" TargetMode="External"/><Relationship Id="rId5" Type="http://schemas.openxmlformats.org/officeDocument/2006/relationships/hyperlink" Target="280,12,&#24187;&#28783;&#29255; 12" TargetMode="External"/><Relationship Id="rId6" Type="http://schemas.openxmlformats.org/officeDocument/2006/relationships/hyperlink" Target="285,13,&#24187;&#28783;&#29255; 13" TargetMode="External"/><Relationship Id="rId7" Type="http://schemas.openxmlformats.org/officeDocument/2006/relationships/hyperlink" Target="284,14,&#24187;&#28783;&#29255; 14" TargetMode="External"/><Relationship Id="rId8" Type="http://schemas.openxmlformats.org/officeDocument/2006/relationships/hyperlink" Target="286,10,&#24187;&#28783;&#29255; 10" TargetMode="External"/><Relationship Id="rId9" Type="http://schemas.openxmlformats.org/officeDocument/2006/relationships/hyperlink" Target="283,16,&#24187;&#28783;&#29255; 16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片 2" descr=""/>
          <p:cNvPicPr/>
          <p:nvPr/>
        </p:nvPicPr>
        <p:blipFill>
          <a:blip r:embed="rId2"/>
          <a:stretch/>
        </p:blipFill>
        <p:spPr>
          <a:xfrm>
            <a:off x="879480" y="355680"/>
            <a:ext cx="8175600" cy="8786880"/>
          </a:xfrm>
          <a:prstGeom prst="rect">
            <a:avLst/>
          </a:prstGeom>
          <a:ln w="0">
            <a:noFill/>
          </a:ln>
        </p:spPr>
      </p:pic>
      <p:pic>
        <p:nvPicPr>
          <p:cNvPr id="657" name="Text Box 2" descr=""/>
          <p:cNvPicPr/>
          <p:nvPr/>
        </p:nvPicPr>
        <p:blipFill>
          <a:blip r:embed="rId3"/>
          <a:stretch/>
        </p:blipFill>
        <p:spPr>
          <a:xfrm>
            <a:off x="888840" y="2874960"/>
            <a:ext cx="7921800" cy="701640"/>
          </a:xfrm>
          <a:prstGeom prst="rect">
            <a:avLst/>
          </a:prstGeom>
          <a:ln w="0">
            <a:noFill/>
          </a:ln>
        </p:spPr>
      </p:pic>
      <p:pic>
        <p:nvPicPr>
          <p:cNvPr id="658" name="矩形 1" descr=""/>
          <p:cNvPicPr/>
          <p:nvPr/>
        </p:nvPicPr>
        <p:blipFill>
          <a:blip r:embed="rId4"/>
          <a:stretch/>
        </p:blipFill>
        <p:spPr>
          <a:xfrm>
            <a:off x="2406600" y="1052640"/>
            <a:ext cx="4202280" cy="64584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6155"/>
          <p:cNvSpPr/>
          <p:nvPr/>
        </p:nvSpPr>
        <p:spPr>
          <a:xfrm>
            <a:off x="139680" y="624348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E95-1E1B-4BCC-AECE-25AB5AA5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  <a:ea typeface="黑体"/>
              </a:rPr>
              <a:t>无机盐的作用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占体重约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作用很大：其中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构成血红蛋白的一种成分，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构成牙齿和骨骼的重要成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4114800" y="1828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438280" y="2529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4114800" y="3276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钙、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8"/>
          <p:cNvSpPr/>
          <p:nvPr/>
        </p:nvSpPr>
        <p:spPr>
          <a:xfrm>
            <a:off x="85345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346-C955-4350-83EA-3C8BE413E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-------  ,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欲不振、消化不良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5"/>
          <p:cNvSpPr/>
          <p:nvPr/>
        </p:nvSpPr>
        <p:spPr>
          <a:xfrm flipV="1">
            <a:off x="8381880" y="632376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7" descr="P41VB1"/>
          <p:cNvPicPr/>
          <p:nvPr/>
        </p:nvPicPr>
        <p:blipFill>
          <a:blip r:embed="rId1"/>
          <a:stretch/>
        </p:blipFill>
        <p:spPr>
          <a:xfrm>
            <a:off x="0" y="1295280"/>
            <a:ext cx="3962520" cy="495324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3962520" y="19051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人体正常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正常生理功能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4724280" y="502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脚气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6477120" y="120600"/>
            <a:ext cx="205740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66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6600" spc="-1" strike="noStrike" baseline="-45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3962520" y="2330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6477120" y="2286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神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19920" y="3778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神经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B61-D455-4AE0-9F3C-14F865C2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2880" y="609120"/>
            <a:ext cx="19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脂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14800" y="19051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作用是：    提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重要物质，但常作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物质贮存在体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5791320" y="1447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5"/>
          <p:cNvSpPr/>
          <p:nvPr/>
        </p:nvSpPr>
        <p:spPr>
          <a:xfrm>
            <a:off x="5943600" y="26049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量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6"/>
          <p:cNvSpPr/>
          <p:nvPr/>
        </p:nvSpPr>
        <p:spPr>
          <a:xfrm>
            <a:off x="5181480" y="3976560"/>
            <a:ext cx="213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备用能源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37"/>
          <p:cNvSpPr/>
          <p:nvPr/>
        </p:nvSpPr>
        <p:spPr>
          <a:xfrm>
            <a:off x="8381880" y="57150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39" descr="P4133"/>
          <p:cNvPicPr/>
          <p:nvPr/>
        </p:nvPicPr>
        <p:blipFill>
          <a:blip r:embed="rId1"/>
          <a:stretch/>
        </p:blipFill>
        <p:spPr>
          <a:xfrm>
            <a:off x="152280" y="167652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0"/>
          <p:cNvSpPr/>
          <p:nvPr/>
        </p:nvSpPr>
        <p:spPr>
          <a:xfrm>
            <a:off x="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的主要物质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E0C0-D635-4612-981D-51BBED6E3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Times New Roman"/>
              </a:rPr>
              <a:t>水的作用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各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离不开水，是构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重要物质，占体重约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2133720" y="1828800"/>
            <a:ext cx="2438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生理活动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3200400" y="251460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4419720" y="33526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5%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8"/>
          <p:cNvSpPr/>
          <p:nvPr/>
        </p:nvSpPr>
        <p:spPr>
          <a:xfrm>
            <a:off x="81532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63E-38A6-40B3-B55B-37D74D85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911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缺乏症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5"/>
          <p:cNvSpPr/>
          <p:nvPr/>
        </p:nvSpPr>
        <p:spPr>
          <a:xfrm>
            <a:off x="861048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7" descr="P42"/>
          <p:cNvPicPr/>
          <p:nvPr/>
        </p:nvPicPr>
        <p:blipFill>
          <a:blip r:embed="rId1"/>
          <a:stretch/>
        </p:blipFill>
        <p:spPr>
          <a:xfrm>
            <a:off x="0" y="129528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8"/>
          <p:cNvSpPr/>
          <p:nvPr/>
        </p:nvSpPr>
        <p:spPr>
          <a:xfrm>
            <a:off x="4267080" y="1996920"/>
            <a:ext cx="487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吸收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                       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育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4267080" y="47847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（如鸡胸、 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或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腿等）、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6781680" y="228600"/>
            <a:ext cx="14479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1"/>
          <p:cNvSpPr/>
          <p:nvPr/>
        </p:nvSpPr>
        <p:spPr>
          <a:xfrm>
            <a:off x="6705720" y="1797120"/>
            <a:ext cx="1676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钙、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4648320" y="2438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骨骼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4343400" y="45561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佝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4419720" y="577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质疏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C96-FEDC-45AF-94F2-F789C45B1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4120" y="1142640"/>
            <a:ext cx="2590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糖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038480" y="182844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是：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人体最重要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；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也是构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成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7848720" y="21337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供能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6934320" y="321480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8"/>
          <p:cNvSpPr/>
          <p:nvPr/>
        </p:nvSpPr>
        <p:spPr>
          <a:xfrm>
            <a:off x="8381880" y="5715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0" descr="P4032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11"/>
          <p:cNvSpPr/>
          <p:nvPr/>
        </p:nvSpPr>
        <p:spPr>
          <a:xfrm>
            <a:off x="76320" y="30492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食物中含有的主要物质是什么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FCD-5ECA-49E0-8A11-39ACCB46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1148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症：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8534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7" descr="P41VC"/>
          <p:cNvPicPr/>
          <p:nvPr/>
        </p:nvPicPr>
        <p:blipFill>
          <a:blip r:embed="rId1"/>
          <a:stretch/>
        </p:blipFill>
        <p:spPr>
          <a:xfrm>
            <a:off x="228600" y="12193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8"/>
          <p:cNvSpPr/>
          <p:nvPr/>
        </p:nvSpPr>
        <p:spPr>
          <a:xfrm>
            <a:off x="4343400" y="1905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正常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骨骼、肌肉和血管的正常生理作用，增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4191120" y="50292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4191120" y="47847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坏血病、抵抗力下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6705720" y="60480"/>
            <a:ext cx="16002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7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6629400" y="1676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4343400" y="3352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2322-5D91-4A2F-B7F1-0C1938C80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2286000" y="1557360"/>
            <a:ext cx="2895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夜盲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脚气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坏血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佝偻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76320" y="76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简记歌谣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579-8895-4FAF-B2E8-0CF0BFBA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WordArt 19"/>
          <p:cNvSpPr txBox="1"/>
          <p:nvPr/>
        </p:nvSpPr>
        <p:spPr>
          <a:xfrm>
            <a:off x="2514600" y="-152280"/>
            <a:ext cx="2819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拓创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94" name="Picture 33" descr="3YI"/>
          <p:cNvPicPr/>
          <p:nvPr/>
        </p:nvPicPr>
        <p:blipFill>
          <a:blip r:embed="rId1"/>
          <a:stretch/>
        </p:blipFill>
        <p:spPr>
          <a:xfrm>
            <a:off x="2971800" y="2438280"/>
            <a:ext cx="2895480" cy="44197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4" descr="3JIA"/>
          <p:cNvPicPr/>
          <p:nvPr/>
        </p:nvPicPr>
        <p:blipFill>
          <a:blip r:embed="rId2"/>
          <a:stretch/>
        </p:blipFill>
        <p:spPr>
          <a:xfrm>
            <a:off x="0" y="2438280"/>
            <a:ext cx="2971800" cy="44197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5" descr="3BING"/>
          <p:cNvPicPr/>
          <p:nvPr/>
        </p:nvPicPr>
        <p:blipFill>
          <a:blip r:embed="rId3"/>
          <a:stretch/>
        </p:blipFill>
        <p:spPr>
          <a:xfrm>
            <a:off x="5867280" y="2438280"/>
            <a:ext cx="3276720" cy="441972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42"/>
          <p:cNvSpPr/>
          <p:nvPr/>
        </p:nvSpPr>
        <p:spPr>
          <a:xfrm>
            <a:off x="0" y="99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分析下面的一组插图，每幅插图中的做法是否正确？并说出道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0" y="2438280"/>
          <a:ext cx="2971800" cy="449568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4495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5943600" y="2514600"/>
          <a:ext cx="3352680" cy="44197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41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AutoShape 67">
            <a:hlinkClick r:id="" action="ppaction://hlinkshowjump?jump=nextslide"/>
          </p:cNvPr>
          <p:cNvSpPr/>
          <p:nvPr/>
        </p:nvSpPr>
        <p:spPr>
          <a:xfrm>
            <a:off x="243828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68"/>
          <p:cNvSpPr/>
          <p:nvPr/>
        </p:nvSpPr>
        <p:spPr>
          <a:xfrm>
            <a:off x="30481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69"/>
          <p:cNvSpPr/>
          <p:nvPr/>
        </p:nvSpPr>
        <p:spPr>
          <a:xfrm>
            <a:off x="5943600" y="59436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72"/>
          <p:cNvSpPr/>
          <p:nvPr/>
        </p:nvSpPr>
        <p:spPr>
          <a:xfrm>
            <a:off x="8458200" y="533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4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75">
                <a:moveTo>
                  <a:pt x="10800" y="68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75">
                <a:moveTo>
                  <a:pt x="8224" y="10911"/>
                </a:moveTo>
                <a:lnTo>
                  <a:pt x="12088" y="10911"/>
                </a:lnTo>
                <a:lnTo>
                  <a:pt x="12088" y="17909"/>
                </a:lnTo>
                <a:lnTo>
                  <a:pt x="13376" y="17909"/>
                </a:lnTo>
                <a:lnTo>
                  <a:pt x="13376" y="18831"/>
                </a:lnTo>
                <a:lnTo>
                  <a:pt x="8224" y="18831"/>
                </a:lnTo>
                <a:lnTo>
                  <a:pt x="8224" y="17909"/>
                </a:lnTo>
                <a:lnTo>
                  <a:pt x="9512" y="17909"/>
                </a:lnTo>
                <a:lnTo>
                  <a:pt x="9512" y="11816"/>
                </a:lnTo>
                <a:lnTo>
                  <a:pt x="8224" y="1181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2D75-616F-4B48-A8CA-91E677F67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33520" y="15235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图反应出这位同学挑食，时间长了会使人体缺乏某些营养物质，导致营养不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06AD-6942-4F03-B313-487C1D9EB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84320" y="14158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了解食物中含有的主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隶书"/>
              </a:rPr>
              <a:t>营养物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识记维生素的缺乏症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理解各种营养物质的来源及其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人体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08000" y="458136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：蛋白质、糖类和脂肪的作用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难点：维生素的作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39B6-F7D8-4852-AC5C-B5C431DE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图反应出这位同学不吃早餐就去上学，上午学习任务很重，往往两节课后就处于半饥饿状态，出现头晕、心慌、注意力不集中等现象，影响学习效果。如果长期不吃早餐，还会影响健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文本框 8199"/>
          <p:cNvSpPr/>
          <p:nvPr/>
        </p:nvSpPr>
        <p:spPr>
          <a:xfrm>
            <a:off x="1770120" y="5400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7F7-3307-4F59-BC91-495413C3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520" y="19810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丙图反应出这位同学偏食，而偏食会造成某些营养过剩和某些营养缺乏而导致营养不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4"/>
          <p:cNvSpPr/>
          <p:nvPr/>
        </p:nvSpPr>
        <p:spPr>
          <a:xfrm>
            <a:off x="83818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1C6-7D3B-4F03-A57B-34A771B5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看了之后我们应该怎样做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22093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偏食、不挑食、不暴饮暴食、一定要吃早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A7F-0F1F-4B8D-8B8F-A545A1E93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点建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好的饮料是白开水，因为许多饮料中含有防腐剂、香精或人造色素等，并且糖分含量多，常饮不利于身体健康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吃的瓜果蔬菜要洗净，避免农药中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量少吃时间过长的剩饭、剩菜。若吃，一定要彻底加热，防止细菌性食物中毒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街头贩卖的、没有卫生许可证的食物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量少吃油炸、烟熏和烧烤等食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养成良好的卫生习惯，常剪指甲、饭前便后洗手，能预防传染病的传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7AFA-0B4E-4B40-8347-53F8862D1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24080" y="1522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</a:rPr>
              <a:t>考一考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34" descr="P65"/>
          <p:cNvPicPr/>
          <p:nvPr/>
        </p:nvPicPr>
        <p:blipFill>
          <a:blip r:embed="rId1"/>
          <a:stretch/>
        </p:blipFill>
        <p:spPr>
          <a:xfrm>
            <a:off x="0" y="-19080"/>
            <a:ext cx="289548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6" name=""/>
          <p:cNvGraphicFramePr/>
          <p:nvPr/>
        </p:nvGraphicFramePr>
        <p:xfrm>
          <a:off x="228600" y="2260440"/>
          <a:ext cx="8839080" cy="4206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752480"/>
                <a:gridCol w="3429000"/>
              </a:tblGrid>
              <a:tr h="2235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1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2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3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1" lang="zh-CN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风险题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（答对得分，答错倒扣分）</a:t>
                      </a: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隶书"/>
                          <a:hlinkClick r:id="rId8"/>
                        </a:rPr>
                        <a:t>10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隶书"/>
                          <a:hlinkClick r:id="rId9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4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6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/>
                        </a:rPr>
                        <a:t>8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7" name="AutoShape 156"/>
          <p:cNvSpPr/>
          <p:nvPr/>
        </p:nvSpPr>
        <p:spPr>
          <a:xfrm rot="5202600">
            <a:off x="7637040" y="912600"/>
            <a:ext cx="1828800" cy="60948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DF8-B398-44FF-A971-E808D88D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隶书"/>
                <a:ea typeface="隶书"/>
              </a:rPr>
              <a:t>食物中含有哪些营养物质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蛋白质、脂肪、糖类、维生素、无机盐、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7467480" y="48769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59D-5BEB-4589-AE29-17E75818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为细胞组成、组织更新必须的基本原料是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为体内储备物质，氧化时供能最高的是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2952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蛋白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1219320" y="32004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脂肪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9"/>
          <p:cNvSpPr/>
          <p:nvPr/>
        </p:nvSpPr>
        <p:spPr>
          <a:xfrm>
            <a:off x="7467480" y="48769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3E0-FB49-4718-B296-0777D24D5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0" y="1142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人体内含量最多的物质是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人体内含量约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物质是（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既不是细胞组成成分，又不是机体的能源物质，但对生命活动和生长发育起调节作用的物质是（ 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6705720" y="228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7772400" y="11271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762120" y="2514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无机盐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5486400" y="43434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维生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1"/>
          <p:cNvSpPr/>
          <p:nvPr/>
        </p:nvSpPr>
        <p:spPr>
          <a:xfrm>
            <a:off x="7467480" y="5410080"/>
            <a:ext cx="1143000" cy="106704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、人体生命活动和维持体温恒定的能源物质是（      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蛋白质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糖类 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脂肪   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、人体缺乏∨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时，容易患（       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夜盲症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脚气病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佝偻病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坏血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构成血红蛋白必需的元素是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钙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磷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碘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能促进人体正常发育，增强抵抗力，维持人体正常视觉的是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C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D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D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CC41-3251-4875-9259-ACB6B0CC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6461640" y="1676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7772400" y="3048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5791320" y="4952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11"/>
          <p:cNvSpPr/>
          <p:nvPr/>
        </p:nvSpPr>
        <p:spPr>
          <a:xfrm>
            <a:off x="7696080" y="4952880"/>
            <a:ext cx="1143000" cy="106704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1752480" y="380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74C-ACD3-4585-8951-2C64677B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下列等量物质中 ，含糖类 最多的是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芝麻、花生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鲤鱼、黄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、面粉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铃薯、玉米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脚气病患者应该多吃的食物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羊肝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标准粉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蛋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西红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长期饥饿状态下，重量减轻明显的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脑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骨骼肌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下脂肪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肾脏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8458200" y="990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7467480" y="2971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1066680" y="4876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315200" y="763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F10-158F-4978-9FD4-26029F0D3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检查预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食物中含有哪些营养物质？哪些是有机物？哪些是无机物？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2286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蛋白质、脂肪、糖类、维生素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2438280" y="457200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机盐、水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"/>
          <p:cNvSpPr/>
          <p:nvPr/>
        </p:nvSpPr>
        <p:spPr>
          <a:xfrm rot="5339400">
            <a:off x="3773160" y="493560"/>
            <a:ext cx="380880" cy="6403680"/>
          </a:xfrm>
          <a:custGeom>
            <a:avLst/>
            <a:gdLst>
              <a:gd name="textAreaLeft" fmla="*/ 0 w 380880"/>
              <a:gd name="textAreaRight" fmla="*/ 137520 w 380880"/>
              <a:gd name="textAreaTop" fmla="*/ 166680 h 6403680"/>
              <a:gd name="textAreaBottom" fmla="*/ 6237000 h 640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3048120" y="38862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有机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0"/>
          <p:cNvSpPr/>
          <p:nvPr/>
        </p:nvSpPr>
        <p:spPr>
          <a:xfrm rot="5453400">
            <a:off x="3694680" y="4151880"/>
            <a:ext cx="228600" cy="228456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4560"/>
              <a:gd name="textAreaBottom" fmla="*/ 2225160 h 22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1"/>
          <p:cNvSpPr/>
          <p:nvPr/>
        </p:nvSpPr>
        <p:spPr>
          <a:xfrm>
            <a:off x="3048120" y="5334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机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98C-7061-4578-92C2-081E36ABC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综合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表列出了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五种食物（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克）中除水和无机盐以外的主要成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Object 5" descr=""/>
          <p:cNvPicPr/>
          <p:nvPr/>
        </p:nvPicPr>
        <p:blipFill>
          <a:blip r:embed="rId1"/>
          <a:stretch/>
        </p:blipFill>
        <p:spPr>
          <a:xfrm>
            <a:off x="0" y="1523880"/>
            <a:ext cx="8771040" cy="375624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13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食物（ ）有助于预防夜盲症；（ ）能提供较多的能量；（ ）适合坏血病患者食用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长期以食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主要食物有那些缺陷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2057400" y="4876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7315200" y="4921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 flipH="1">
            <a:off x="365688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7"/>
          <p:cNvSpPr/>
          <p:nvPr/>
        </p:nvSpPr>
        <p:spPr>
          <a:xfrm>
            <a:off x="8153280" y="114300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8613720" y="1523880"/>
          <a:ext cx="208080" cy="34290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429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文本框 8199"/>
          <p:cNvSpPr/>
          <p:nvPr/>
        </p:nvSpPr>
        <p:spPr>
          <a:xfrm>
            <a:off x="2692440" y="12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034-1414-4329-9121-DE9ECACBA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0" y="112536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将食物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食物，缺陷是除糖类以外，脂肪、蛋白质和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量太少，并且缺乏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不利于健康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0" y="-7632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1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，俄罗斯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圣虎克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船载着北极探险队的队员们在北冰洋的冰块间越冬。没过多久，队员们就得了一种可怕的病。他们的牙床一块块裂开，充血肿胀，牙齿都松了，脸也浮肿，皮下青一块紫一块。后来医生将这些病人分成六组，分别给吃果酒、矾类制剂（一种晶体盐类）、醋、海水、柠檬和肉豆，发现每天吃两个柠檬的人很快恢复了健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请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船上的队员到底得了什么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为什么柠檬能治疗这种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海员最容易得这种病的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A49-701B-4993-84ED-37655F42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6760080" y="441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坏血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6324480" y="5029200"/>
            <a:ext cx="2667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柠檬含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V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0" y="624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海员长期生活在远离大陆的船上，吃不到新鲜的蔬菜和水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5D0-B9F4-45EF-A796-EDCE8C52C6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8259-E788-47B8-BA70-F53791AC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自选一道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28600" y="26665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查找资料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叫绿色食品？有标志吗？有等级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根据教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附表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分食物一般营养成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自己制定一份一日三餐的食谱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A33-F870-4EF6-B326-64F053DA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自学方法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教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，完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蛋白质、糖类、脂肪的作用，并结合图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理解其来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合下表学习维生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280" y="3352680"/>
          <a:ext cx="8763120" cy="3197160"/>
        </p:xfrm>
        <a:graphic>
          <a:graphicData uri="http://schemas.openxmlformats.org/drawingml/2006/table">
            <a:tbl>
              <a:tblPr/>
              <a:tblGrid>
                <a:gridCol w="2514600"/>
                <a:gridCol w="1754280"/>
                <a:gridCol w="2247840"/>
                <a:gridCol w="2246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维生素种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来源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功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缺乏症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AA4F-E145-48D5-9DC5-803889A4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 选 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28600" y="1523880"/>
          <a:ext cx="8686800" cy="4952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711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1"/>
                        </a:rPr>
                        <a:t>三分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2"/>
                        </a:rPr>
                        <a:t>天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3"/>
                        </a:rPr>
                        <a:t>注定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4"/>
                        </a:rPr>
                        <a:t>七分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5"/>
                        </a:rPr>
                        <a:t>靠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6"/>
                        </a:rPr>
                        <a:t>打拼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7"/>
                        </a:rPr>
                        <a:t>爱拼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8"/>
                        </a:rPr>
                        <a:t>才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9"/>
                        </a:rPr>
                        <a:t>会赢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0" name="Picture 1126" descr="PE01832_1"/>
          <p:cNvPicPr/>
          <p:nvPr/>
        </p:nvPicPr>
        <p:blipFill>
          <a:blip r:embed="rId10"/>
          <a:stretch/>
        </p:blipFill>
        <p:spPr>
          <a:xfrm>
            <a:off x="7162920" y="0"/>
            <a:ext cx="1904760" cy="173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A1F-8BA1-4062-9EED-9FB381A2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含维生素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缺乏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4495680" y="18288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人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发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增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人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视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781680" y="1660680"/>
            <a:ext cx="2362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5486400" y="4784760"/>
            <a:ext cx="266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皮肤粗糙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夜盲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7" descr="胡萝卜3个"/>
          <p:cNvPicPr/>
          <p:nvPr/>
        </p:nvPicPr>
        <p:blipFill>
          <a:blip r:embed="rId1"/>
          <a:stretch/>
        </p:blipFill>
        <p:spPr>
          <a:xfrm>
            <a:off x="243828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830592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9" descr="玉米"/>
          <p:cNvPicPr/>
          <p:nvPr/>
        </p:nvPicPr>
        <p:blipFill>
          <a:blip r:embed="rId2"/>
          <a:stretch/>
        </p:blipFill>
        <p:spPr>
          <a:xfrm>
            <a:off x="457200" y="1170000"/>
            <a:ext cx="2971800" cy="286848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10" descr=""/>
          <p:cNvPicPr/>
          <p:nvPr/>
        </p:nvPicPr>
        <p:blipFill>
          <a:blip r:embed="rId3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E7D-9226-493E-BC57-B96E2D319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维生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114800" y="11430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4343400" y="229716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正常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骨骼、肌肉和血管的正常生理作用，增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5" descr="油菜"/>
          <p:cNvPicPr/>
          <p:nvPr/>
        </p:nvPicPr>
        <p:blipFill>
          <a:blip r:embed="rId1"/>
          <a:stretch/>
        </p:blipFill>
        <p:spPr>
          <a:xfrm>
            <a:off x="1981080" y="2895480"/>
            <a:ext cx="1657440" cy="16002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" descr="草霉"/>
          <p:cNvPicPr/>
          <p:nvPr/>
        </p:nvPicPr>
        <p:blipFill>
          <a:blip r:embed="rId2"/>
          <a:stretch/>
        </p:blipFill>
        <p:spPr>
          <a:xfrm>
            <a:off x="2209680" y="4572000"/>
            <a:ext cx="1733760" cy="1523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橙子"/>
          <p:cNvPicPr/>
          <p:nvPr/>
        </p:nvPicPr>
        <p:blipFill>
          <a:blip r:embed="rId3"/>
          <a:stretch/>
        </p:blipFill>
        <p:spPr>
          <a:xfrm>
            <a:off x="0" y="43434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番茄"/>
          <p:cNvPicPr/>
          <p:nvPr/>
        </p:nvPicPr>
        <p:blipFill>
          <a:blip r:embed="rId4"/>
          <a:stretch/>
        </p:blipFill>
        <p:spPr>
          <a:xfrm>
            <a:off x="0" y="28954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青椒(好)3个"/>
          <p:cNvPicPr/>
          <p:nvPr/>
        </p:nvPicPr>
        <p:blipFill>
          <a:blip r:embed="rId5"/>
          <a:stretch/>
        </p:blipFill>
        <p:spPr>
          <a:xfrm>
            <a:off x="2590920" y="160020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0" descr="萝卜"/>
          <p:cNvPicPr/>
          <p:nvPr/>
        </p:nvPicPr>
        <p:blipFill>
          <a:blip r:embed="rId6"/>
          <a:stretch/>
        </p:blipFill>
        <p:spPr>
          <a:xfrm>
            <a:off x="68580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11"/>
          <p:cNvSpPr/>
          <p:nvPr/>
        </p:nvSpPr>
        <p:spPr>
          <a:xfrm>
            <a:off x="845820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6400800" y="3049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11D2-9A6C-4AA8-9C89-C9CD79A1B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038480" y="106668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缺乏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6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8" descr="P41VA"/>
          <p:cNvPicPr/>
          <p:nvPr/>
        </p:nvPicPr>
        <p:blipFill>
          <a:blip r:embed="rId1"/>
          <a:stretch/>
        </p:blipFill>
        <p:spPr>
          <a:xfrm>
            <a:off x="108000" y="96840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9"/>
          <p:cNvSpPr/>
          <p:nvPr/>
        </p:nvSpPr>
        <p:spPr>
          <a:xfrm>
            <a:off x="4495680" y="18288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人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增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人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7010280" y="432756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夜盲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6781680" y="-76320"/>
            <a:ext cx="236232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6781680" y="1600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发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5562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5638680" y="28796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视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42670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皮肤粗糙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84D-DBFD-4897-BD63-B63F1976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934320" y="763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蛋白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用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是构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基本物质；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其次，能提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010280" y="161460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4876920" y="32907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能量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1"/>
          <p:cNvSpPr/>
          <p:nvPr/>
        </p:nvSpPr>
        <p:spPr>
          <a:xfrm>
            <a:off x="845820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13" descr="P4031"/>
          <p:cNvPicPr/>
          <p:nvPr/>
        </p:nvPicPr>
        <p:blipFill>
          <a:blip r:embed="rId1"/>
          <a:stretch/>
        </p:blipFill>
        <p:spPr>
          <a:xfrm>
            <a:off x="-152280" y="114300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4"/>
          <p:cNvSpPr/>
          <p:nvPr/>
        </p:nvSpPr>
        <p:spPr>
          <a:xfrm>
            <a:off x="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的主要物质是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文本框 8199"/>
          <p:cNvSpPr/>
          <p:nvPr/>
        </p:nvSpPr>
        <p:spPr>
          <a:xfrm>
            <a:off x="3041640" y="6370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3T16:31:09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3:21Z</dcterms:modified>
  <cp:revision>175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