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667-978D-475B-A4D4-3ADB1625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40C-CDA0-4B18-A3E7-9FA51248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A7A-CC3F-474E-A0F9-2D64B804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D91-DC76-465A-9EC7-DC408A22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7CD-A135-49AA-9154-7339DD90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14FA-5D4D-40FB-A222-F02EE13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8647-7AE3-4460-989C-1BC240EB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1AC9-C6A4-469D-B395-F7F59624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986-B37F-43E9-B1BC-9DFD5B0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FE69-DFD6-437D-840A-32D6F5B9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6810-AAB5-4B2A-866D-FD2B014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DD6-DAA5-4840-B9AD-BF01D661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AE45-72B3-41D6-A5C7-462901E0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A32-933D-427B-9FF6-1698428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98C-1267-497B-B2B8-8EF9629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611-A61A-42CD-B5C5-4FEAB919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9D9D-CF7C-4B98-A4F7-748BBC9E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B7F-CFA4-4745-B691-347ED212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277-466B-4F8A-BEF8-53B0EB5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90B-ACA8-4636-B59C-CA17C61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49DB-6F42-4285-B096-2A561F9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719-BC03-4E71-BFC1-E29ABD3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FDB-BF9E-46DA-99CA-F0A45BF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A5A-F6DA-443D-A8FE-6D800AD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6B9-F90B-4275-BDB4-46B91372FB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D10-386B-4A21-99E3-D850462D16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092240" y="1413000"/>
            <a:ext cx="72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水珠从哪里来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504800" y="620640"/>
            <a:ext cx="3289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科版三年级科学下册第三单元第五课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84" name="Picture 4" descr="465484_084155077_2"/>
          <p:cNvPicPr/>
          <p:nvPr/>
        </p:nvPicPr>
        <p:blipFill>
          <a:blip r:embed="rId5"/>
          <a:stretch/>
        </p:blipFill>
        <p:spPr>
          <a:xfrm>
            <a:off x="243000" y="2924280"/>
            <a:ext cx="2449440" cy="2622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5" name="Picture 3" descr="11"/>
          <p:cNvPicPr/>
          <p:nvPr/>
        </p:nvPicPr>
        <p:blipFill>
          <a:blip r:embed="rId6"/>
          <a:stretch/>
        </p:blipFill>
        <p:spPr>
          <a:xfrm>
            <a:off x="3052800" y="2924280"/>
            <a:ext cx="2663640" cy="259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6" name="Picture 7" descr="20070825012726_7"/>
          <p:cNvPicPr/>
          <p:nvPr/>
        </p:nvPicPr>
        <p:blipFill>
          <a:blip r:embed="rId7"/>
          <a:stretch/>
        </p:blipFill>
        <p:spPr>
          <a:xfrm>
            <a:off x="6005520" y="2924280"/>
            <a:ext cx="280836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4360" y="1197000"/>
            <a:ext cx="8064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加冰的时候，冰块碰到了杯沿化成水流下来了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因为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加冰的时候一般都是小心的加入杯内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29" name="Picture 3" descr="200711111437860"/>
          <p:cNvPicPr/>
          <p:nvPr/>
        </p:nvPicPr>
        <p:blipFill>
          <a:blip r:embed="rId1"/>
          <a:stretch/>
        </p:blipFill>
        <p:spPr>
          <a:xfrm>
            <a:off x="1042920" y="5013360"/>
            <a:ext cx="6769080" cy="141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611280" y="404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讨论：“有可能是加冰的时候，冰块碰到了杯沿化成水流下来了”解释合理吗？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882720"/>
            <a:ext cx="846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我们得出结论：玻璃杯外壁上的小水珠，不是杯内的冰融化形成的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26920" y="357336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9640" y="292428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玻璃杯外壁上的小水珠形成与冰有关系吗 ？为什么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35" name="Picture 5" descr="2007116121854749_1"/>
          <p:cNvPicPr/>
          <p:nvPr/>
        </p:nvPicPr>
        <p:blipFill>
          <a:blip r:embed="rId1"/>
          <a:stretch/>
        </p:blipFill>
        <p:spPr>
          <a:xfrm>
            <a:off x="971640" y="5229360"/>
            <a:ext cx="25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200711111437860"/>
          <p:cNvPicPr/>
          <p:nvPr/>
        </p:nvPicPr>
        <p:blipFill>
          <a:blip r:embed="rId2"/>
          <a:stretch/>
        </p:blipFill>
        <p:spPr>
          <a:xfrm>
            <a:off x="3564000" y="5229360"/>
            <a:ext cx="38876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55640" y="2492280"/>
            <a:ext cx="77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我们出得出的结论是：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珠的形成与冰是有关系的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小水珠到底是从哪里来的？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空气中的什么变来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空气中有水蒸气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水蒸气是从哪里来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水蒸气能变成小水珠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是什么使水蒸气的状态发生了变化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201600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流程图: 可选过程 4"/>
          <p:cNvSpPr/>
          <p:nvPr/>
        </p:nvSpPr>
        <p:spPr>
          <a:xfrm>
            <a:off x="714240" y="500040"/>
            <a:ext cx="7643880" cy="8571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143000" y="5716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二、水珠的形成与冰有关吗？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357336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357120" y="1571760"/>
            <a:ext cx="8501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实验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取三只同样的玻璃杯，其中一杯里加满自来水，一杯什么也不加，另一杯加冰，静静地放在桌上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隔几分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察玻璃杯外壁有没有出现水珠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45" name="图片 10" descr="u=3450008783,1033443401&amp;fm=52&amp;gp=0.jpg"/>
          <p:cNvPicPr/>
          <p:nvPr/>
        </p:nvPicPr>
        <p:blipFill>
          <a:blip r:embed="rId1"/>
          <a:stretch/>
        </p:blipFill>
        <p:spPr>
          <a:xfrm>
            <a:off x="3857760" y="3643200"/>
            <a:ext cx="1361880" cy="22147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" descr="u=3281267642,1883038920&amp;fm=52&amp;gp=0.jpg"/>
          <p:cNvPicPr/>
          <p:nvPr/>
        </p:nvPicPr>
        <p:blipFill>
          <a:blip r:embed="rId2"/>
          <a:stretch/>
        </p:blipFill>
        <p:spPr>
          <a:xfrm>
            <a:off x="6858000" y="3643200"/>
            <a:ext cx="1714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2"/>
          <p:cNvGrpSpPr/>
          <p:nvPr/>
        </p:nvGrpSpPr>
        <p:grpSpPr>
          <a:xfrm>
            <a:off x="3889440" y="5992920"/>
            <a:ext cx="1189080" cy="560160"/>
            <a:chOff x="3889440" y="5992920"/>
            <a:chExt cx="1189080" cy="560160"/>
          </a:xfrm>
        </p:grpSpPr>
        <p:pic>
          <p:nvPicPr>
            <p:cNvPr id="148" name="TextBox 12" descr=""/>
            <p:cNvPicPr/>
            <p:nvPr/>
          </p:nvPicPr>
          <p:blipFill>
            <a:blip r:embed="rId3"/>
            <a:stretch/>
          </p:blipFill>
          <p:spPr>
            <a:xfrm>
              <a:off x="3889440" y="5992920"/>
              <a:ext cx="11890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"/>
            <p:cNvSpPr/>
            <p:nvPr/>
          </p:nvSpPr>
          <p:spPr>
            <a:xfrm>
              <a:off x="4000680" y="60717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自来水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grpSp>
        <p:nvGrpSpPr>
          <p:cNvPr id="150" name="TextBox 13"/>
          <p:cNvGrpSpPr/>
          <p:nvPr/>
        </p:nvGrpSpPr>
        <p:grpSpPr>
          <a:xfrm>
            <a:off x="7248600" y="5992920"/>
            <a:ext cx="925560" cy="560160"/>
            <a:chOff x="7248600" y="5992920"/>
            <a:chExt cx="925560" cy="560160"/>
          </a:xfrm>
        </p:grpSpPr>
        <p:pic>
          <p:nvPicPr>
            <p:cNvPr id="151" name="TextBox 13" descr=""/>
            <p:cNvPicPr/>
            <p:nvPr/>
          </p:nvPicPr>
          <p:blipFill>
            <a:blip r:embed="rId4"/>
            <a:stretch/>
          </p:blipFill>
          <p:spPr>
            <a:xfrm>
              <a:off x="7248600" y="5992920"/>
              <a:ext cx="925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3"/>
            <p:cNvSpPr/>
            <p:nvPr/>
          </p:nvSpPr>
          <p:spPr>
            <a:xfrm>
              <a:off x="7358040" y="607176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空杯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153" name="TextBox 12"/>
          <p:cNvSpPr/>
          <p:nvPr/>
        </p:nvSpPr>
        <p:spPr>
          <a:xfrm>
            <a:off x="785880" y="6000840"/>
            <a:ext cx="85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grpSp>
        <p:nvGrpSpPr>
          <p:cNvPr id="154" name="TextBox 15"/>
          <p:cNvGrpSpPr/>
          <p:nvPr/>
        </p:nvGrpSpPr>
        <p:grpSpPr>
          <a:xfrm>
            <a:off x="890640" y="5919840"/>
            <a:ext cx="925560" cy="560160"/>
            <a:chOff x="890640" y="5919840"/>
            <a:chExt cx="925560" cy="560160"/>
          </a:xfrm>
        </p:grpSpPr>
        <p:pic>
          <p:nvPicPr>
            <p:cNvPr id="155" name="TextBox 15" descr=""/>
            <p:cNvPicPr/>
            <p:nvPr/>
          </p:nvPicPr>
          <p:blipFill>
            <a:blip r:embed="rId5"/>
            <a:stretch/>
          </p:blipFill>
          <p:spPr>
            <a:xfrm>
              <a:off x="890640" y="5919840"/>
              <a:ext cx="925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7"/>
            <p:cNvSpPr/>
            <p:nvPr/>
          </p:nvSpPr>
          <p:spPr>
            <a:xfrm>
              <a:off x="1000080" y="600048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冰块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pic>
        <p:nvPicPr>
          <p:cNvPr id="157" name="图片 17" descr="冰块1.jpg"/>
          <p:cNvPicPr/>
          <p:nvPr/>
        </p:nvPicPr>
        <p:blipFill>
          <a:blip r:embed="rId6"/>
          <a:stretch/>
        </p:blipFill>
        <p:spPr>
          <a:xfrm>
            <a:off x="642960" y="3571920"/>
            <a:ext cx="14288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400" y="47628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一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0" y="1511280"/>
            <a:ext cx="4896000" cy="5346720"/>
            <a:chOff x="0" y="1511280"/>
            <a:chExt cx="4896000" cy="534672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1511280"/>
              <a:ext cx="4385520" cy="467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6"/>
            <p:cNvSpPr/>
            <p:nvPr/>
          </p:nvSpPr>
          <p:spPr>
            <a:xfrm>
              <a:off x="0" y="6338880"/>
              <a:ext cx="489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163" name="Text Box 7"/>
          <p:cNvSpPr/>
          <p:nvPr/>
        </p:nvSpPr>
        <p:spPr>
          <a:xfrm>
            <a:off x="4500720" y="292428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楷体"/>
              </a:rPr>
              <a:t>杯子外壁特别的冰，湿漉漉的，有小水珠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猜一猜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从杯壁渗出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冰化成水后从杯口漫出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加冰的时候冰块碰到了杯沿化成水流下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026120" y="165096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920680" y="321300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665760" y="465300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9640" y="5445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57440" y="333000"/>
            <a:ext cx="94438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华文楷体"/>
              </a:rPr>
              <a:t>水珠是冰化成的水吗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得出结论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烧杯外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上的水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杯内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融化成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270080"/>
            <a:ext cx="8137440" cy="57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水珠的形成与杯内的冰有关系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与冰的</a:t>
            </a:r>
            <a:r>
              <a:rPr b="1" lang="en-US" sz="4000" spc="-1" strike="noStrike">
                <a:solidFill>
                  <a:srgbClr val="9900cc"/>
                </a:solidFill>
                <a:latin typeface="Verdana"/>
              </a:rPr>
              <a:t>___</a:t>
            </a: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这个特征有关系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烧杯外壁的水珠是在遇到冰冷的杯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壁而形成的        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50920" y="2192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水珠的形成与冰有什么关系？</a:t>
            </a:r>
            <a:endParaRPr b="0" lang="en-US" sz="48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08000" y="2133720"/>
            <a:ext cx="7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冷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702240" y="4797360"/>
            <a:ext cx="18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Verdana"/>
                <a:ea typeface="华文楷体"/>
              </a:rPr>
              <a:t>水蒸气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42920" y="35712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玻璃杯外壁上的小水珠与杯内的冰有什么关系呢？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77" name="图片 5" descr="u=2875646337,1599448899&amp;fm=23&amp;gp=0.jpg"/>
          <p:cNvPicPr/>
          <p:nvPr/>
        </p:nvPicPr>
        <p:blipFill>
          <a:blip r:embed="rId1"/>
          <a:stretch/>
        </p:blipFill>
        <p:spPr>
          <a:xfrm>
            <a:off x="428760" y="4572000"/>
            <a:ext cx="2000160" cy="2119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u=23247868,810560375&amp;fm=52&amp;gp=0.jpg"/>
          <p:cNvPicPr/>
          <p:nvPr/>
        </p:nvPicPr>
        <p:blipFill>
          <a:blip r:embed="rId2"/>
          <a:stretch/>
        </p:blipFill>
        <p:spPr>
          <a:xfrm>
            <a:off x="6215040" y="4429080"/>
            <a:ext cx="1928880" cy="22384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u=3699322604,2396727258&amp;fm=52&amp;gp=0.jpg"/>
          <p:cNvPicPr/>
          <p:nvPr/>
        </p:nvPicPr>
        <p:blipFill>
          <a:blip r:embed="rId3"/>
          <a:stretch/>
        </p:blipFill>
        <p:spPr>
          <a:xfrm rot="20431200">
            <a:off x="3317760" y="4614480"/>
            <a:ext cx="1928880" cy="2238480"/>
          </a:xfrm>
          <a:prstGeom prst="rect">
            <a:avLst/>
          </a:prstGeom>
          <a:ln w="0">
            <a:noFill/>
          </a:ln>
        </p:spPr>
      </p:pic>
      <p:sp>
        <p:nvSpPr>
          <p:cNvPr id="180" name="云形标注 9"/>
          <p:cNvSpPr/>
          <p:nvPr/>
        </p:nvSpPr>
        <p:spPr>
          <a:xfrm>
            <a:off x="714240" y="2143080"/>
            <a:ext cx="2500560" cy="2143080"/>
          </a:xfrm>
          <a:prstGeom prst="cloudCallout">
            <a:avLst>
              <a:gd name="adj1" fmla="val 28611"/>
              <a:gd name="adj2" fmla="val 92157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1" name="云形标注 10"/>
          <p:cNvSpPr/>
          <p:nvPr/>
        </p:nvSpPr>
        <p:spPr>
          <a:xfrm>
            <a:off x="3929040" y="3071880"/>
            <a:ext cx="1857240" cy="1785960"/>
          </a:xfrm>
          <a:prstGeom prst="cloudCallout">
            <a:avLst>
              <a:gd name="adj1" fmla="val 30703"/>
              <a:gd name="adj2" fmla="val 102499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2" name="云形标注 11"/>
          <p:cNvSpPr/>
          <p:nvPr/>
        </p:nvSpPr>
        <p:spPr>
          <a:xfrm>
            <a:off x="6715080" y="2428920"/>
            <a:ext cx="1857600" cy="1857240"/>
          </a:xfrm>
          <a:prstGeom prst="cloudCallout">
            <a:avLst>
              <a:gd name="adj1" fmla="val 35481"/>
              <a:gd name="adj2" fmla="val 105842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857160" y="257184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能是空气中的水汽被冰吸到杯壁上了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4143240" y="33577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空气遇到冰变成水了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6929280" y="275904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该是水蒸气变的吧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C1B-B161-4A23-9DBA-54EB80673A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FF7ADB5-6DFA-40CF-A4ED-2037E5E1A2B6}" type="datetime12">
              <a:rPr b="0" lang="zh-CN" sz="1200" spc="-1" strike="noStrike">
                <a:solidFill>
                  <a:srgbClr val="898989"/>
                </a:solidFill>
                <a:latin typeface="Arial"/>
              </a:rPr>
              <a:t>下午 10:25</a:t>
            </a:fld>
            <a:endParaRPr b="0" lang="en-US" sz="1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幼圆"/>
              </a:rPr>
              <a:t>露珠滴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6"/>
          <p:cNvPicPr/>
          <p:nvPr/>
        </p:nvPicPr>
        <p:blipFill>
          <a:blip r:embed="rId1"/>
          <a:stretch/>
        </p:blipFill>
        <p:spPr>
          <a:xfrm>
            <a:off x="3132000" y="1628640"/>
            <a:ext cx="266400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"/>
          <p:cNvPicPr/>
          <p:nvPr/>
        </p:nvPicPr>
        <p:blipFill>
          <a:blip r:embed="rId2"/>
          <a:stretch/>
        </p:blipFill>
        <p:spPr>
          <a:xfrm>
            <a:off x="468360" y="162864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9"/>
          <p:cNvPicPr/>
          <p:nvPr/>
        </p:nvPicPr>
        <p:blipFill>
          <a:blip r:embed="rId3"/>
          <a:stretch/>
        </p:blipFill>
        <p:spPr>
          <a:xfrm>
            <a:off x="5796000" y="1628640"/>
            <a:ext cx="287964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5"/>
          <p:cNvPicPr/>
          <p:nvPr/>
        </p:nvPicPr>
        <p:blipFill>
          <a:blip r:embed="rId4"/>
          <a:stretch/>
        </p:blipFill>
        <p:spPr>
          <a:xfrm>
            <a:off x="3132000" y="3500280"/>
            <a:ext cx="2664000" cy="25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4"/>
          <p:cNvPicPr/>
          <p:nvPr/>
        </p:nvPicPr>
        <p:blipFill>
          <a:blip r:embed="rId5"/>
          <a:stretch/>
        </p:blipFill>
        <p:spPr>
          <a:xfrm>
            <a:off x="5796000" y="3500280"/>
            <a:ext cx="2879640" cy="259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2"/>
          <p:cNvPicPr/>
          <p:nvPr/>
        </p:nvPicPr>
        <p:blipFill>
          <a:blip r:embed="rId6"/>
          <a:stretch/>
        </p:blipFill>
        <p:spPr>
          <a:xfrm>
            <a:off x="468360" y="3500280"/>
            <a:ext cx="2663640" cy="2592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-324000" y="260280"/>
            <a:ext cx="36957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5092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水蒸气是从哪里来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空气中有水蒸气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水蒸气能变成水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是什么使水蒸气发生了变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559400" y="197820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有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474520" y="87624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空气中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548240" y="31798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能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84720" y="4437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冰冷的东西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2" name="文本框 8199"/>
          <p:cNvSpPr/>
          <p:nvPr/>
        </p:nvSpPr>
        <p:spPr>
          <a:xfrm>
            <a:off x="825480" y="146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84360" y="76500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玻璃杯外壁上的水珠是：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空气中的水蒸气遇到了冷的玻璃杯壁，水蒸汽迅速冷却，凝结为液体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71640" y="4292640"/>
            <a:ext cx="68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凝结：由气体变为液体的过程             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叫凝结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23796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成小水珠的生活现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2637000"/>
            <a:chOff x="0" y="0"/>
            <a:chExt cx="9144000" cy="2637000"/>
          </a:xfrm>
        </p:grpSpPr>
        <p:pic>
          <p:nvPicPr>
            <p:cNvPr id="198" name="Picture 5" descr="tu11320_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0" y="0"/>
              <a:ext cx="23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Verdana"/>
                </a:rPr>
                <a:t>拓展延伸</a:t>
              </a:r>
              <a:endParaRPr b="0" lang="en-US" sz="4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0" y="3209760"/>
            <a:ext cx="914400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浴室屋顶上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早晨植物叶子上花瓣上的露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做饭的时候锅盖上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夏天棒冰包装纸上的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冷天窗户上出现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719-37C1-4469-BF37-2FC0A613998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907920"/>
            <a:ext cx="9072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蒸气遇冷会凝结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空气中的水蒸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来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简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满碎冰的玻璃杯外壁上有许多小水珠，这些小水珠从哪里来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60360" y="3718080"/>
            <a:ext cx="71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：空气中有大量的水蒸气，盛冰的玻璃杯使它周围的空气中的水蒸气冷却下来，因而在杯壁上凝结成了小水滴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719160" y="119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4360" y="1844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江 、河、湖、海中的水蒸发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49080" y="189000"/>
            <a:ext cx="1155960" cy="58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作业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3" descr="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3"/>
          <p:cNvPicPr/>
          <p:nvPr/>
        </p:nvPicPr>
        <p:blipFill>
          <a:blip r:embed="rId2"/>
          <a:stretch/>
        </p:blipFill>
        <p:spPr>
          <a:xfrm>
            <a:off x="4500720" y="1628640"/>
            <a:ext cx="4174920" cy="21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5"/>
          <p:cNvPicPr/>
          <p:nvPr/>
        </p:nvPicPr>
        <p:blipFill>
          <a:blip r:embed="rId3"/>
          <a:stretch/>
        </p:blipFill>
        <p:spPr>
          <a:xfrm>
            <a:off x="468360" y="378936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6"/>
          <p:cNvPicPr/>
          <p:nvPr/>
        </p:nvPicPr>
        <p:blipFill>
          <a:blip r:embed="rId4"/>
          <a:stretch/>
        </p:blipFill>
        <p:spPr>
          <a:xfrm>
            <a:off x="4500720" y="3755880"/>
            <a:ext cx="4211640" cy="2395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1187280" y="549360"/>
            <a:ext cx="30974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霜</a:t>
            </a:r>
            <a:endParaRPr b="0" lang="en-US" sz="32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5076720" y="333360"/>
            <a:ext cx="369756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琥珀"/>
              </a:rPr>
              <a:t>云山雾海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4" descr="10"/>
          <p:cNvPicPr/>
          <p:nvPr/>
        </p:nvPicPr>
        <p:blipFill>
          <a:blip r:embed="rId1"/>
          <a:stretch/>
        </p:blipFill>
        <p:spPr>
          <a:xfrm>
            <a:off x="468360" y="162864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2"/>
          <p:cNvPicPr/>
          <p:nvPr/>
        </p:nvPicPr>
        <p:blipFill>
          <a:blip r:embed="rId2"/>
          <a:stretch/>
        </p:blipFill>
        <p:spPr>
          <a:xfrm>
            <a:off x="4788000" y="1628640"/>
            <a:ext cx="389556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3"/>
          <p:cNvPicPr/>
          <p:nvPr/>
        </p:nvPicPr>
        <p:blipFill>
          <a:blip r:embed="rId3"/>
          <a:stretch/>
        </p:blipFill>
        <p:spPr>
          <a:xfrm>
            <a:off x="468360" y="4076640"/>
            <a:ext cx="431964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1"/>
          <p:cNvPicPr/>
          <p:nvPr/>
        </p:nvPicPr>
        <p:blipFill>
          <a:blip r:embed="rId4"/>
          <a:stretch/>
        </p:blipFill>
        <p:spPr>
          <a:xfrm>
            <a:off x="4788000" y="4076640"/>
            <a:ext cx="385452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8"/>
          <p:cNvSpPr txBox="1"/>
          <p:nvPr/>
        </p:nvSpPr>
        <p:spPr>
          <a:xfrm>
            <a:off x="-252360" y="189000"/>
            <a:ext cx="369720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700280"/>
            <a:ext cx="87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可能是从杯子里渗出来的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50920" y="314172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一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2205000"/>
            <a:ext cx="770400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从杯子里渗出来的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因为玻璃杯是不渗水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15" name="Picture 3" descr="6fe51fd4f511651bc9ede8f801dd2467"/>
          <p:cNvPicPr/>
          <p:nvPr/>
        </p:nvPicPr>
        <p:blipFill>
          <a:blip r:embed="rId1"/>
          <a:stretch/>
        </p:blipFill>
        <p:spPr>
          <a:xfrm>
            <a:off x="539640" y="4365720"/>
            <a:ext cx="7417080" cy="192096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4" descr=""/>
          <p:cNvPicPr/>
          <p:nvPr/>
        </p:nvPicPr>
        <p:blipFill>
          <a:blip r:embed="rId2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68360" y="333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讨论：“可能是从杯子里渗出来的 ”解释合理吗？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70028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可能是倒水后从水杯口溢出来的 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2708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二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加水，倒水注意不要溢出水杯，如果不小心倒在外面，要用纸巾把外面擦拭干净。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68360" y="1773360"/>
            <a:ext cx="77169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从杯子里溢出来的 ”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因为倒水时杯子中的水还没有满，不可能溢出来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22" name="Picture 3" descr="20070825012726_7"/>
          <p:cNvPicPr/>
          <p:nvPr/>
        </p:nvPicPr>
        <p:blipFill>
          <a:blip r:embed="rId1"/>
          <a:stretch/>
        </p:blipFill>
        <p:spPr>
          <a:xfrm>
            <a:off x="611280" y="5157720"/>
            <a:ext cx="2305080" cy="1397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2007116121854749_1"/>
          <p:cNvPicPr/>
          <p:nvPr/>
        </p:nvPicPr>
        <p:blipFill>
          <a:blip r:embed="rId2"/>
          <a:stretch/>
        </p:blipFill>
        <p:spPr>
          <a:xfrm>
            <a:off x="5003640" y="5084640"/>
            <a:ext cx="2232360" cy="1578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讨论：“可能是从杯子里溢出来的 ”解释合理吗？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70028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有可能是加冰的时候，冰块碰到了杯沿化成水流下来了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31082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三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加冰，冰的高度注意不要超出水杯，轻放不要打破杯子。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5:58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5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