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camera.wav" ContentType="audio/x-wav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35D-5E52-4318-BAA7-47D86F18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9C4-5197-4E4B-9870-FA93FD01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113-76CE-47DA-B307-B7266D2E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735-048B-40CA-B527-92749BFC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03B2-B201-4D06-858A-72D42B2A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0204-0F9F-4012-9896-46ED1445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907D-EF36-4862-A240-8E8F484C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C72E-4991-4E0B-B361-56994605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ADA9-75D4-40D2-B95E-3FB522A5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597-5E41-4601-9954-83BEEF8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042A-598F-47F3-B8CF-9543460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2A3-A9BC-4CB0-B5FA-735E8840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3146-CD6D-4D76-B196-C718DC01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8701-82E8-447D-87EB-F43F82DC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F801-3D23-430E-977D-1A702C21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BE24-CDDA-4706-99CC-CB4DA777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3AB2-ABBB-49A2-848E-5C5E02A7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30A-0F90-44DB-B770-12D62249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88F-468A-400B-87E0-49B9A674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A3F-595D-4858-9052-F731944C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A9A-56C6-452A-942A-8CF95B75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FA5-204D-445C-9863-E146074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E0D-2A4D-4975-9AD2-6FE918E2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A9E-8518-45A4-A348-EC50E99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4EDC-1CEA-4A10-A9EB-63D9F0041C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12B0-E433-4028-87C1-19ABD246BB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M_0457"/>
          <p:cNvPicPr/>
          <p:nvPr/>
        </p:nvPicPr>
        <p:blipFill>
          <a:blip r:embed="rId2"/>
          <a:stretch/>
        </p:blipFill>
        <p:spPr>
          <a:xfrm>
            <a:off x="1835280" y="1816200"/>
            <a:ext cx="5402160" cy="4389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1872000" y="476280"/>
            <a:ext cx="46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手指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042920" y="270828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思考：课文的主要写了什么内容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RX_004"/>
          <p:cNvPicPr/>
          <p:nvPr/>
        </p:nvPicPr>
        <p:blipFill>
          <a:blip r:embed="rId2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1166760" y="16286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头完成填空：课文先总写一只手上的五根手指＿＿＿，然后分别具体写＿＿＿，最后总结写＿＿＿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384200" y="2060640"/>
            <a:ext cx="59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只手上的五根手指，各有不同的姿态，各具不同的性格，各有所长，各有所短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8197"/>
          <p:cNvSpPr/>
          <p:nvPr/>
        </p:nvSpPr>
        <p:spPr>
          <a:xfrm>
            <a:off x="1260360" y="189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03280" y="1052640"/>
          <a:ext cx="6553080" cy="3475080"/>
        </p:xfrm>
        <a:graphic>
          <a:graphicData uri="http://schemas.openxmlformats.org/drawingml/2006/table">
            <a:tbl>
              <a:tblPr/>
              <a:tblGrid>
                <a:gridCol w="1305000"/>
                <a:gridCol w="2687400"/>
                <a:gridCol w="2560680"/>
              </a:tblGrid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手指名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缺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拇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食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名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1270-EB14-40B2-A2E0-5CA77C52B4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7"/>
          <p:cNvSpPr/>
          <p:nvPr/>
        </p:nvSpPr>
        <p:spPr>
          <a:xfrm>
            <a:off x="1031760" y="90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8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7"/>
          <p:cNvSpPr/>
          <p:nvPr/>
        </p:nvSpPr>
        <p:spPr>
          <a:xfrm>
            <a:off x="1692360" y="2637000"/>
            <a:ext cx="570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通过描写五根手指各自不同的特点，想告诉我们一个什么道理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02:54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41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