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shreg.wav" ContentType="audio/x-wav"/>
  <Override PartName="/ppt/media/image8.jpeg" ContentType="image/jpeg"/>
  <Override PartName="/ppt/media/image1.jpeg" ContentType="image/jpeg"/>
  <Override PartName="/ppt/media/image2.png" ContentType="image/png"/>
  <Override PartName="/ppt/media/image4.png" ContentType="image/png"/>
  <Override PartName="/ppt/media/laser.wav" ContentType="audio/x-wav"/>
  <Override PartName="/ppt/media/chimes.wav" ContentType="audio/x-wav"/>
  <Override PartName="/ppt/media/image6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3.jpeg" ContentType="image/jpeg"/>
  <Override PartName="/ppt/media/drumroll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B07-6350-48C4-B7D3-78B468F6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461-04A3-4E4B-9DAE-155EB5B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86D-34EB-41C7-A614-B2C8168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24F-7712-4747-B304-2ADC841F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E859-E410-49A1-B22D-69F7F7B0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3BD7-D49A-4AD1-B2DE-7C92D283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97B-771E-4F6E-A971-DAE7ED4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F803-E583-4AB3-AD44-78FACE04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6781-266C-4049-9344-081221A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9EE3-19EB-4668-9D61-67E84307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04F-ED1F-4447-A70D-A895268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2CD-44B2-48A0-B75A-AD72A926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3E8-1D0B-4728-83D1-FE98D02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A5E7-0A72-47AE-80E7-7D12E634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12A-13FC-4D7C-ACF7-8C91830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0611-7C12-4722-AAC8-4511C4FE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6D7F-A00D-4DEF-A26A-D9AA6B4E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C79-60F0-4761-8AE1-6B129A3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616-2F01-4D67-8D47-2DA37B4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487-BB78-4EFD-A36B-467BF41F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959-A99D-480A-9A8E-42703CD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74F-BA7A-4AC2-AAE3-8BABB9C0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BA9-8DC0-458B-AC9A-ADFC1C93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32C-6338-4400-8FC7-0078F09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B3E5-AF7D-49B8-833A-29D982AE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3F4-F4F5-4DFA-BB7C-0CC83781C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200511216146905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Text Box 3" descr=""/>
          <p:cNvPicPr/>
          <p:nvPr/>
        </p:nvPicPr>
        <p:blipFill>
          <a:blip r:embed="rId2"/>
          <a:stretch/>
        </p:blipFill>
        <p:spPr>
          <a:xfrm>
            <a:off x="379440" y="1413000"/>
            <a:ext cx="7648560" cy="819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6984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85800"/>
            <a:ext cx="8839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四：看现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“九一八”事变过去七十多年了，有人说它也成为历史，可它真正成为历史了吗？联系实际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保卫黄河.mp3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laser.wav"/>
      </p:stSnd>
    </p:sndAc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17175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松花江上.mp3" descr=""/>
          <p:cNvPicPr/>
          <p:nvPr/>
        </p:nvPicPr>
        <p:blipFill>
          <a:blip r:embed="rId2"/>
          <a:stretch/>
        </p:blipFill>
        <p:spPr>
          <a:xfrm>
            <a:off x="22096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600200" y="44956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你从歌中听到了什么？　　　　想到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52280" y="4572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九一八事变”，东北沦亡，日本帝国主义猖狂入侵，广袤肥沃的东北大地沦落于帝国主义的铁蹄之下，一时民生凋蔽，四野荒芜，沦亡是他们唯一的选择，内心撕裂般的疼痛成了那段时日的唯一记忆。这篇文章是作者在“九一八事变”过去整整十周年时写的，当时抗日战争正处在十分艰苦的阶段，流亡在关外的人依然无家可归，作者怀着深沉的爱国热情，写下了这篇文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04920" y="45720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作家简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   　端木蕻良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912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日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-1996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日），原名曹京平，笔名，荃叶、罗旋、辛人、叶之琳、曹坪等。辽宁省昌图县人，先后毕业于南开和清华，学生时代即开始创作，是东北流亡作家群中的代表人物。其成名作为他创作于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936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的短篇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此鹭湖的忧郁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，是反应东北沦陷区人民生活的代表。主要著作有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科尔沁旗摹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大地的海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曹雪芹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。（宇慧撰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1122"/>
          <p:cNvPicPr/>
          <p:nvPr/>
        </p:nvPicPr>
        <p:blipFill>
          <a:blip r:embed="rId1"/>
          <a:stretch/>
        </p:blipFill>
        <p:spPr>
          <a:xfrm>
            <a:off x="7010280" y="4267080"/>
            <a:ext cx="171792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1111"/>
          <p:cNvPicPr/>
          <p:nvPr/>
        </p:nvPicPr>
        <p:blipFill>
          <a:blip r:embed="rId2"/>
          <a:stretch/>
        </p:blipFill>
        <p:spPr>
          <a:xfrm>
            <a:off x="6858000" y="99072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200"/>
          <p:cNvSpPr/>
          <p:nvPr/>
        </p:nvSpPr>
        <p:spPr>
          <a:xfrm>
            <a:off x="395280" y="18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4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6094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一：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读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寻找最能感动你的语言，谈谈自己的体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2133720"/>
            <a:ext cx="86868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二：</a:t>
            </a:r>
            <a:r>
              <a:rPr b="0" lang="zh-CN" sz="4400" spc="-1" strike="noStrike">
                <a:solidFill>
                  <a:srgbClr val="ff5050"/>
                </a:solidFill>
                <a:latin typeface="Times New Roman"/>
              </a:rPr>
              <a:t>悟文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你怎样理解文章标题＜土地的誓言＞？面对土地，作者发出了哪些誓言？（用文中的话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到底是什么东西催促着作者一定要回到那个日思梦想的地方－－故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drumroll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28600" y="609480"/>
            <a:ext cx="8763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作者把关东原野以“她”而不用“它”相称，这是运用了什么手法？表达了作者什么感情？后来却又用“你”，又是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3352680"/>
            <a:ext cx="85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文中多次出现“当我、、、当我、、、当我、、、”“我想起、、、我看见、、、我听见、、、我想起、、、”这是运用了什么修辞手法？在文中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28600" y="1219320"/>
            <a:ext cx="83818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三：品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怎样理解文中“因为我常常感到它在泛滥着一种热情”中的“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泛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与 “在那田垄里埋葬过我的欢笑”中的“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埋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这两个词语的确切含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1044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2005112161588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06600" y="1295280"/>
            <a:ext cx="5152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Times New Roman"/>
              </a:rPr>
              <a:t>深情赞美故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Times New Roman"/>
              </a:rPr>
              <a:t>　　誓死保卫家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5335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四：揭主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190-468E-496D-BEA0-48F9E2DED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1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